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5.jpeg" ContentType="image/jpeg"/>
  <Override PartName="/ppt/media/image13.jpeg" ContentType="image/jpeg"/>
  <Override PartName="/ppt/media/image18.gif" ContentType="image/gif"/>
  <Override PartName="/ppt/media/image23.png" ContentType="image/png"/>
  <Override PartName="/ppt/media/image8.jpeg" ContentType="image/jpeg"/>
  <Override PartName="/ppt/media/image22.jpeg" ContentType="image/jpeg"/>
  <Override PartName="/ppt/media/image1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6.jpeg" ContentType="image/jpeg"/>
  <Override PartName="/ppt/media/image14.jpeg" ContentType="image/jpeg"/>
  <Override PartName="/ppt/media/image24.png" ContentType="image/png"/>
  <Override PartName="/ppt/media/image21.gif" ContentType="image/gif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E310-B6C3-4DAD-9068-3340F3882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4B41-99DC-42D9-B70D-41EBAC399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5D62-DB82-45EB-895A-7C1540036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FC60-441C-4535-B9F1-7A66015D9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8627E-6F98-405B-8A6D-013C661CA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75B2F-964E-4ADC-9A04-0DEBBFA2B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A6EBB-49CE-4E64-AD24-3B41621A7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97CED-F7B3-4BC0-9936-0BCE8A326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786C5-DB09-42B7-8EB3-443C5AD17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10B9C-85E1-46CC-B209-944D6D42C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0360E-33ED-4E8D-8CDE-98C8DA7E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7B7A-8FD4-4C58-B9DA-A99FD0412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1C79A-40DA-4EBD-8831-BB2E069E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F8917-05A7-4AEA-96DA-4C46A252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25C67-11E5-4C7B-8095-FB63187C0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2F604-E126-41F8-9011-9DF851380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B3302-55E0-478D-A47B-2FBA67765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6EAF-B17A-4073-A6E2-4F0C9BD5A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817A-B52D-473A-9F3B-60CF487AF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0077-5FE0-44F1-ADDD-796EE0D0D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4B7D-49AA-4750-9FD1-0FE0DEF2E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3CCA-2086-4199-B1B3-457F908A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5B61-E047-464F-9B8B-29981B7F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535E-ACD1-47BC-9262-3B1E5A21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A0994-10E4-4F4C-A06D-4BFD907DEE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284FF-4C7D-4F19-B83B-A46E9C933DA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457200" y="380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WordArt 4"/>
          <p:cNvSpPr txBox="1"/>
          <p:nvPr/>
        </p:nvSpPr>
        <p:spPr>
          <a:xfrm rot="5400000">
            <a:off x="-1225440" y="2292120"/>
            <a:ext cx="5334120" cy="1508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宋体"/>
              </a:rPr>
              <a:t>短文两篇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" name="WordArt 5"/>
          <p:cNvSpPr txBox="1"/>
          <p:nvPr/>
        </p:nvSpPr>
        <p:spPr>
          <a:xfrm rot="5400000">
            <a:off x="1528920" y="3660120"/>
            <a:ext cx="3048120" cy="709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solidFill>
                  <a:srgbClr val="cc0000"/>
                </a:solidFill>
                <a:latin typeface="宋体"/>
              </a:rPr>
              <a:t>作者：巴金</a:t>
            </a:r>
            <a:endParaRPr b="0" lang="en-US" sz="2400" spc="-1" strike="noStrike">
              <a:ln w="0">
                <a:noFill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pic>
        <p:nvPicPr>
          <p:cNvPr id="85" name="Picture 6" descr="u=11710156,982398022&amp;gp=1"/>
          <p:cNvPicPr/>
          <p:nvPr/>
        </p:nvPicPr>
        <p:blipFill>
          <a:blip r:embed="rId1"/>
          <a:stretch/>
        </p:blipFill>
        <p:spPr>
          <a:xfrm>
            <a:off x="4800600" y="304920"/>
            <a:ext cx="3733920" cy="2798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it"/>
          <p:cNvPicPr/>
          <p:nvPr/>
        </p:nvPicPr>
        <p:blipFill>
          <a:blip r:embed="rId2"/>
          <a:stretch/>
        </p:blipFill>
        <p:spPr>
          <a:xfrm>
            <a:off x="4800600" y="3238560"/>
            <a:ext cx="3809880" cy="2817720"/>
          </a:xfrm>
          <a:prstGeom prst="rect">
            <a:avLst/>
          </a:prstGeom>
          <a:ln w="0">
            <a:noFill/>
          </a:ln>
        </p:spPr>
      </p:pic>
      <p:sp>
        <p:nvSpPr>
          <p:cNvPr id="8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文本框 1" descr=""/>
          <p:cNvPicPr/>
          <p:nvPr/>
        </p:nvPicPr>
        <p:blipFill>
          <a:blip r:embed="rId3"/>
          <a:stretch/>
        </p:blipFill>
        <p:spPr>
          <a:xfrm>
            <a:off x="1063800" y="1052640"/>
            <a:ext cx="7395840" cy="699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6840" y="533520"/>
            <a:ext cx="83818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12880" indent="-81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教学设计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朗读感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日和月自古以来就有一定的象征的意义，写日大多是歌颂光明和希望，写月也就是赞美温柔和恬静。在巴金的文章中，写日和月的目的也是如此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二、默读分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、在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日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一文中，作者要突出的日的主要特征是什么？作者通过写哪两个例子，表达了对光和热地追求？找出具体的句子来朗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111480" y="5465880"/>
            <a:ext cx="3621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4" descr="040813070448812"/>
          <p:cNvPicPr/>
          <p:nvPr/>
        </p:nvPicPr>
        <p:blipFill>
          <a:blip r:embed="rId1"/>
          <a:stretch/>
        </p:blipFill>
        <p:spPr>
          <a:xfrm>
            <a:off x="5029200" y="304920"/>
            <a:ext cx="1908000" cy="1199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6840" y="533520"/>
            <a:ext cx="83818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12880" indent="-81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在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一文中，作者要突出的月的主要特征是什么？找出具体的句子来朗读。作者提恒娥奔月的故事是为了什么？赞美温柔和恬静。在巴金的文章中，写日和月的目的也是如此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、两文的主题有什么相似的地方？你有什么启示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、介绍写作的背景，你是如何理解作者的这种追求的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三、朗读探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说说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日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一文的最后一段和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一文的最后一段的内涵。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3111480" y="5465880"/>
            <a:ext cx="3621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83818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12880" indent="-81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四、想象拓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大声地朗读两篇文章，说说你从日、月中产生的联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五、课外作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将你从日和月产生的联想写成一段话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3111480" y="5465880"/>
            <a:ext cx="3621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4" descr="22074-306475150189"/>
          <p:cNvPicPr/>
          <p:nvPr/>
        </p:nvPicPr>
        <p:blipFill>
          <a:blip r:embed="rId1"/>
          <a:stretch/>
        </p:blipFill>
        <p:spPr>
          <a:xfrm>
            <a:off x="0" y="3733920"/>
            <a:ext cx="4648320" cy="3124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9369-258826143618"/>
          <p:cNvPicPr/>
          <p:nvPr/>
        </p:nvPicPr>
        <p:blipFill>
          <a:blip r:embed="rId2"/>
          <a:stretch/>
        </p:blipFill>
        <p:spPr>
          <a:xfrm>
            <a:off x="4645080" y="3740040"/>
            <a:ext cx="4495680" cy="31244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6"/>
          <p:cNvSpPr/>
          <p:nvPr/>
        </p:nvSpPr>
        <p:spPr>
          <a:xfrm>
            <a:off x="1147320" y="4114800"/>
            <a:ext cx="729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ff"/>
                </a:solidFill>
                <a:latin typeface="Times New Roman"/>
              </a:rPr>
              <a:t>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5799960" y="4149720"/>
            <a:ext cx="789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cc33"/>
                </a:solidFill>
                <a:latin typeface="Times New Roman"/>
              </a:rPr>
              <a:t>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补充说明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：难点突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描写的对象是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他们的行为、意愿分别是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他们的共同目标又是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1600200" y="5257800"/>
            <a:ext cx="1589040" cy="960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品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352680" y="5715000"/>
            <a:ext cx="1368720" cy="360"/>
            <a:chOff x="3352680" y="5715000"/>
            <a:chExt cx="1368720" cy="360"/>
          </a:xfrm>
        </p:grpSpPr>
        <p:sp>
          <p:nvSpPr>
            <p:cNvPr id="130" name="Line 5"/>
            <p:cNvSpPr/>
            <p:nvPr/>
          </p:nvSpPr>
          <p:spPr>
            <a:xfrm>
              <a:off x="3352680" y="5715000"/>
              <a:ext cx="136872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 txBox="1"/>
            <p:nvPr/>
          </p:nvSpPr>
          <p:spPr>
            <a:xfrm>
              <a:off x="3352680" y="5715000"/>
              <a:ext cx="1368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Rectangle 6"/>
          <p:cNvSpPr/>
          <p:nvPr/>
        </p:nvSpPr>
        <p:spPr>
          <a:xfrm>
            <a:off x="4932360" y="5257800"/>
            <a:ext cx="1584360" cy="979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悟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611280" y="4762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飞蛾；夸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457200" y="274320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3203640" y="54936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扑火；追日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908000" y="1197000"/>
            <a:ext cx="360" cy="1224000"/>
            <a:chOff x="1908000" y="1197000"/>
            <a:chExt cx="360" cy="1224000"/>
          </a:xfrm>
        </p:grpSpPr>
        <p:sp>
          <p:nvSpPr>
            <p:cNvPr id="137" name="Line 5"/>
            <p:cNvSpPr/>
            <p:nvPr/>
          </p:nvSpPr>
          <p:spPr>
            <a:xfrm>
              <a:off x="1908000" y="1197000"/>
              <a:ext cx="0" cy="122400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 txBox="1"/>
            <p:nvPr/>
          </p:nvSpPr>
          <p:spPr>
            <a:xfrm>
              <a:off x="1908000" y="1197000"/>
              <a:ext cx="360" cy="122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Text Box 6"/>
          <p:cNvSpPr/>
          <p:nvPr/>
        </p:nvSpPr>
        <p:spPr>
          <a:xfrm>
            <a:off x="1547640" y="2637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908000" y="3357720"/>
            <a:ext cx="360" cy="1223640"/>
            <a:chOff x="1908000" y="3357720"/>
            <a:chExt cx="360" cy="1223640"/>
          </a:xfrm>
        </p:grpSpPr>
        <p:sp>
          <p:nvSpPr>
            <p:cNvPr id="141" name="Line 7"/>
            <p:cNvSpPr/>
            <p:nvPr/>
          </p:nvSpPr>
          <p:spPr>
            <a:xfrm>
              <a:off x="1908000" y="3357720"/>
              <a:ext cx="0" cy="122364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 txBox="1"/>
            <p:nvPr/>
          </p:nvSpPr>
          <p:spPr>
            <a:xfrm>
              <a:off x="1908000" y="3357720"/>
              <a:ext cx="360" cy="1223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Text Box 8"/>
          <p:cNvSpPr/>
          <p:nvPr/>
        </p:nvSpPr>
        <p:spPr>
          <a:xfrm>
            <a:off x="1476360" y="4724280"/>
            <a:ext cx="8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我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3203640" y="270828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舍弃生命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3203640" y="494172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愿做飞蛾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012000" y="1052640"/>
            <a:ext cx="792000" cy="1871640"/>
            <a:chOff x="6012000" y="1052640"/>
            <a:chExt cx="792000" cy="1871640"/>
          </a:xfrm>
        </p:grpSpPr>
        <p:sp>
          <p:nvSpPr>
            <p:cNvPr id="147" name="Line 11"/>
            <p:cNvSpPr/>
            <p:nvPr/>
          </p:nvSpPr>
          <p:spPr>
            <a:xfrm>
              <a:off x="6012000" y="1052640"/>
              <a:ext cx="792000" cy="187164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 txBox="1"/>
            <p:nvPr/>
          </p:nvSpPr>
          <p:spPr>
            <a:xfrm>
              <a:off x="6012000" y="1052640"/>
              <a:ext cx="792000" cy="187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5651640" y="3068640"/>
            <a:ext cx="1152360" cy="360"/>
            <a:chOff x="5651640" y="3068640"/>
            <a:chExt cx="1152360" cy="360"/>
          </a:xfrm>
        </p:grpSpPr>
        <p:sp>
          <p:nvSpPr>
            <p:cNvPr id="150" name="Line 12"/>
            <p:cNvSpPr/>
            <p:nvPr/>
          </p:nvSpPr>
          <p:spPr>
            <a:xfrm>
              <a:off x="5651640" y="3068640"/>
              <a:ext cx="1152360" cy="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 txBox="1"/>
            <p:nvPr/>
          </p:nvSpPr>
          <p:spPr>
            <a:xfrm>
              <a:off x="5651640" y="3068640"/>
              <a:ext cx="1152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724000" y="3284640"/>
            <a:ext cx="1008720" cy="1944720"/>
            <a:chOff x="5724000" y="3284640"/>
            <a:chExt cx="1008720" cy="1944720"/>
          </a:xfrm>
        </p:grpSpPr>
        <p:sp>
          <p:nvSpPr>
            <p:cNvPr id="153" name="Line 13"/>
            <p:cNvSpPr/>
            <p:nvPr/>
          </p:nvSpPr>
          <p:spPr>
            <a:xfrm flipV="1">
              <a:off x="5724360" y="3284640"/>
              <a:ext cx="1008360" cy="194472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 rot="10800000">
              <a:off x="5724000" y="3284640"/>
              <a:ext cx="1008360" cy="194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Oval 14"/>
          <p:cNvSpPr/>
          <p:nvPr/>
        </p:nvSpPr>
        <p:spPr>
          <a:xfrm>
            <a:off x="6877080" y="2708280"/>
            <a:ext cx="1152360" cy="792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5"/>
          <p:cNvSpPr/>
          <p:nvPr/>
        </p:nvSpPr>
        <p:spPr>
          <a:xfrm>
            <a:off x="6732720" y="3789360"/>
            <a:ext cx="241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追求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光明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而献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Oval 16"/>
          <p:cNvSpPr/>
          <p:nvPr/>
        </p:nvSpPr>
        <p:spPr>
          <a:xfrm>
            <a:off x="457200" y="2819520"/>
            <a:ext cx="1152360" cy="792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文本框 8197"/>
          <p:cNvSpPr/>
          <p:nvPr/>
        </p:nvSpPr>
        <p:spPr>
          <a:xfrm>
            <a:off x="1619280" y="645336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324000" y="6165720"/>
            <a:ext cx="1368360" cy="503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品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3" descr="看书"/>
          <p:cNvPicPr/>
          <p:nvPr/>
        </p:nvPicPr>
        <p:blipFill>
          <a:blip r:embed="rId1"/>
          <a:stretch/>
        </p:blipFill>
        <p:spPr>
          <a:xfrm>
            <a:off x="1763640" y="5842080"/>
            <a:ext cx="1225800" cy="10159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4"/>
          <p:cNvSpPr/>
          <p:nvPr/>
        </p:nvSpPr>
        <p:spPr>
          <a:xfrm>
            <a:off x="826920" y="33336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月亮在这里带给作者最突出的感受是什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6372360" y="105264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冰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1692360" y="400536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望明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1692360" y="515772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嫦娥奔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492360" y="4292640"/>
            <a:ext cx="1081080" cy="360"/>
            <a:chOff x="3492360" y="4292640"/>
            <a:chExt cx="1081080" cy="360"/>
          </a:xfrm>
        </p:grpSpPr>
        <p:sp>
          <p:nvSpPr>
            <p:cNvPr id="166" name="Line 8"/>
            <p:cNvSpPr/>
            <p:nvPr/>
          </p:nvSpPr>
          <p:spPr>
            <a:xfrm>
              <a:off x="3492360" y="4292640"/>
              <a:ext cx="1081080" cy="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 txBox="1"/>
            <p:nvPr/>
          </p:nvSpPr>
          <p:spPr>
            <a:xfrm>
              <a:off x="3492360" y="4292640"/>
              <a:ext cx="1081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564000" y="5445000"/>
            <a:ext cx="1079280" cy="360"/>
            <a:chOff x="3564000" y="5445000"/>
            <a:chExt cx="1079280" cy="360"/>
          </a:xfrm>
        </p:grpSpPr>
        <p:sp>
          <p:nvSpPr>
            <p:cNvPr id="169" name="Line 9"/>
            <p:cNvSpPr/>
            <p:nvPr/>
          </p:nvSpPr>
          <p:spPr>
            <a:xfrm>
              <a:off x="3564000" y="5445000"/>
              <a:ext cx="1079280" cy="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 txBox="1"/>
            <p:nvPr/>
          </p:nvSpPr>
          <p:spPr>
            <a:xfrm>
              <a:off x="3564000" y="5445000"/>
              <a:ext cx="1079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Text Box 10"/>
          <p:cNvSpPr/>
          <p:nvPr/>
        </p:nvSpPr>
        <p:spPr>
          <a:xfrm>
            <a:off x="4788000" y="400536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期待光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4788000" y="515772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追求光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826920" y="1989000"/>
            <a:ext cx="792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作者在寒夜里面对如镜的凉月，想起了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3"/>
          <p:cNvSpPr/>
          <p:nvPr/>
        </p:nvSpPr>
        <p:spPr>
          <a:xfrm>
            <a:off x="826920" y="299736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我、嫦娥追求的共同目标是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14"/>
          <p:cNvSpPr/>
          <p:nvPr/>
        </p:nvSpPr>
        <p:spPr>
          <a:xfrm>
            <a:off x="6443640" y="4149720"/>
            <a:ext cx="289080" cy="1440000"/>
          </a:xfrm>
          <a:custGeom>
            <a:avLst/>
            <a:gdLst>
              <a:gd name="textAreaLeft" fmla="*/ 0 w 289080"/>
              <a:gd name="textAreaRight" fmla="*/ 104400 w 28908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8"/>
                  <a:pt x="10800" y="1796"/>
                </a:cubicBezTo>
                <a:lnTo>
                  <a:pt x="10800" y="9004"/>
                </a:lnTo>
                <a:cubicBezTo>
                  <a:pt x="10800" y="9902"/>
                  <a:pt x="16200" y="10800"/>
                  <a:pt x="21600" y="10800"/>
                </a:cubicBezTo>
                <a:cubicBezTo>
                  <a:pt x="16200" y="10800"/>
                  <a:pt x="10800" y="11698"/>
                  <a:pt x="10800" y="12596"/>
                </a:cubicBezTo>
                <a:lnTo>
                  <a:pt x="10800" y="19804"/>
                </a:lnTo>
                <a:cubicBezTo>
                  <a:pt x="10800" y="2070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Oval 15"/>
          <p:cNvSpPr/>
          <p:nvPr/>
        </p:nvSpPr>
        <p:spPr>
          <a:xfrm>
            <a:off x="6732720" y="3789360"/>
            <a:ext cx="2411280" cy="2232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共同目标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光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16"/>
          <p:cNvSpPr/>
          <p:nvPr/>
        </p:nvSpPr>
        <p:spPr>
          <a:xfrm>
            <a:off x="2340000" y="4581360"/>
            <a:ext cx="360360" cy="648000"/>
          </a:xfrm>
          <a:prstGeom prst="downArrow">
            <a:avLst>
              <a:gd name="adj1" fmla="val 50000"/>
              <a:gd name="adj2" fmla="val 44922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7"/>
          <p:cNvSpPr/>
          <p:nvPr/>
        </p:nvSpPr>
        <p:spPr>
          <a:xfrm>
            <a:off x="6019920" y="6172200"/>
            <a:ext cx="1523880" cy="446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感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A2E05-98AB-4E46-AF0D-D42573C2E9A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4191120" y="2924280"/>
            <a:ext cx="246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再见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3" descr="花边2"/>
          <p:cNvPicPr/>
          <p:nvPr/>
        </p:nvPicPr>
        <p:blipFill>
          <a:blip r:embed="rId1"/>
          <a:stretch/>
        </p:blipFill>
        <p:spPr>
          <a:xfrm>
            <a:off x="3733920" y="533520"/>
            <a:ext cx="4825800" cy="38005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花边1"/>
          <p:cNvPicPr/>
          <p:nvPr/>
        </p:nvPicPr>
        <p:blipFill>
          <a:blip r:embed="rId2"/>
          <a:stretch/>
        </p:blipFill>
        <p:spPr>
          <a:xfrm rot="454800">
            <a:off x="1066680" y="1980720"/>
            <a:ext cx="5042160" cy="4041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3"/>
          <p:cNvSpPr/>
          <p:nvPr/>
        </p:nvSpPr>
        <p:spPr>
          <a:xfrm>
            <a:off x="0" y="60948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作者简介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Group 9"/>
          <p:cNvGrpSpPr/>
          <p:nvPr/>
        </p:nvGrpSpPr>
        <p:grpSpPr>
          <a:xfrm>
            <a:off x="365040" y="1752480"/>
            <a:ext cx="8778960" cy="3581280"/>
            <a:chOff x="365040" y="1752480"/>
            <a:chExt cx="8778960" cy="3581280"/>
          </a:xfrm>
        </p:grpSpPr>
        <p:sp>
          <p:nvSpPr>
            <p:cNvPr id="91" name="Rectangle 4"/>
            <p:cNvSpPr/>
            <p:nvPr/>
          </p:nvSpPr>
          <p:spPr>
            <a:xfrm>
              <a:off x="365040" y="1752480"/>
              <a:ext cx="8778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Group 8"/>
            <p:cNvGrpSpPr/>
            <p:nvPr/>
          </p:nvGrpSpPr>
          <p:grpSpPr>
            <a:xfrm>
              <a:off x="365040" y="1752480"/>
              <a:ext cx="8709120" cy="3581280"/>
              <a:chOff x="365040" y="1752480"/>
              <a:chExt cx="8709120" cy="358128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365040" y="1752480"/>
                <a:ext cx="87091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365040" y="1752480"/>
                <a:ext cx="8709120" cy="358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                                                       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全国政协副主席，中国作家协会主席。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    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男，汉族，１９０４年１１月生，四川成都人，无党派，１９２１年于成都外语专门学校肄业。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    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１９２７年至１９２９年赴法国留学。１９２９年回国后，从事文学创作。１９３５年至１９５０年上海文化生活出版社、平明出版社总编辑。１９５０年后任平明出版社总编辑，上海市文学艺术界联合会副主席，中国作家协会上海分会主席。１９５３年９月后先后任中国作家协会副主席，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《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文艺月报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》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、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《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收获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》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、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《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上海文学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》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主编。１９６２年后任上海市文学艺术界联合会主席，“文化大革命”中受冲击。１９７７年至１９８３年中国作家协会主席、中国文学艺术界联合会副主席，上海市政协副主席。１９８３年任全国政协副主席，中国作家协会主席。２００３年３月在全国政协十届一次会议上当选为第十届全国政协副主席。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    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２００３年１１月，国务院授予巴金先生“人民作家”荣誉称号。 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    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第一届政协全体会议代表，第六届、七届、八届、九届全国政协副主席。第一届、二届、三届、四届、五届全国人大代表，第五届全国人大常委会委员</a:t>
                </a:r>
                <a:r>
                  <a:rPr b="0" lang="zh-CN" sz="1000" spc="-1" strike="noStrike">
                    <a:solidFill>
                      <a:srgbClr val="000000"/>
                    </a:solidFill>
                    <a:latin typeface="Times New Roman"/>
                  </a:rPr>
                  <a:t>。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95" name="Picture 7" descr="xinsrc_d0deb4af556611d797d200b0d03f0aaf"/>
          <p:cNvPicPr/>
          <p:nvPr/>
        </p:nvPicPr>
        <p:blipFill>
          <a:blip r:embed="rId1"/>
          <a:stretch/>
        </p:blipFill>
        <p:spPr>
          <a:xfrm>
            <a:off x="2057400" y="0"/>
            <a:ext cx="1600200" cy="20574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0"/>
          <p:cNvSpPr/>
          <p:nvPr/>
        </p:nvSpPr>
        <p:spPr>
          <a:xfrm>
            <a:off x="4191120" y="380880"/>
            <a:ext cx="3733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巴金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矩形 5"/>
          <p:cNvSpPr/>
          <p:nvPr/>
        </p:nvSpPr>
        <p:spPr>
          <a:xfrm>
            <a:off x="3132000" y="22766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" descr="xin_f4f22f9b25184fe287b31e3593b8099f_0"/>
          <p:cNvPicPr/>
          <p:nvPr/>
        </p:nvPicPr>
        <p:blipFill>
          <a:blip r:embed="rId1"/>
          <a:stretch/>
        </p:blipFill>
        <p:spPr>
          <a:xfrm>
            <a:off x="304920" y="814320"/>
            <a:ext cx="8153280" cy="4994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xin_b2828068ee8d4a32949e0ee124e2d0a6_3"/>
          <p:cNvPicPr/>
          <p:nvPr/>
        </p:nvPicPr>
        <p:blipFill>
          <a:blip r:embed="rId1"/>
          <a:stretch/>
        </p:blipFill>
        <p:spPr>
          <a:xfrm>
            <a:off x="838080" y="609480"/>
            <a:ext cx="7086600" cy="4899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xinsrc_ca5bf35126c3480a875d2f1ab474546c_1"/>
          <p:cNvPicPr/>
          <p:nvPr/>
        </p:nvPicPr>
        <p:blipFill>
          <a:blip r:embed="rId1"/>
          <a:stretch/>
        </p:blipFill>
        <p:spPr>
          <a:xfrm>
            <a:off x="990720" y="762120"/>
            <a:ext cx="7391160" cy="4989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xinsrc_03d61c1b071a47da846979c7a0ae4711_3"/>
          <p:cNvPicPr/>
          <p:nvPr/>
        </p:nvPicPr>
        <p:blipFill>
          <a:blip r:embed="rId1"/>
          <a:stretch/>
        </p:blipFill>
        <p:spPr>
          <a:xfrm>
            <a:off x="1219320" y="704880"/>
            <a:ext cx="6705360" cy="54482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文本框 8197"/>
          <p:cNvSpPr/>
          <p:nvPr/>
        </p:nvSpPr>
        <p:spPr>
          <a:xfrm>
            <a:off x="179280" y="566100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4360" y="549360"/>
            <a:ext cx="807696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12880" indent="-8128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</a:rPr>
              <a:t>短文两篇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教学设想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幼圆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幼圆"/>
              </a:rPr>
              <a:t>通过比较阅读的方式，来阅读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幼圆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幼圆"/>
              </a:rPr>
              <a:t>日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幼圆"/>
              </a:rPr>
              <a:t>》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幼圆"/>
              </a:rPr>
              <a:t>和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幼圆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幼圆"/>
              </a:rPr>
              <a:t>月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幼圆"/>
              </a:rPr>
              <a:t>》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幼圆"/>
              </a:rPr>
              <a:t>，虽然两文写法不同，但表现的是共同的主题。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3111480" y="5465880"/>
            <a:ext cx="3621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2004314762526141"/>
          <p:cNvPicPr/>
          <p:nvPr/>
        </p:nvPicPr>
        <p:blipFill>
          <a:blip r:embed="rId1"/>
          <a:stretch/>
        </p:blipFill>
        <p:spPr>
          <a:xfrm>
            <a:off x="609480" y="5410080"/>
            <a:ext cx="8077320" cy="582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" descr="u=2694078448,4154526565&amp;gp=2"/>
          <p:cNvPicPr/>
          <p:nvPr/>
        </p:nvPicPr>
        <p:blipFill>
          <a:blip r:embed="rId1"/>
          <a:stretch/>
        </p:blipFill>
        <p:spPr>
          <a:xfrm>
            <a:off x="762120" y="685800"/>
            <a:ext cx="6781680" cy="5086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u=310664901,4113514798&amp;gp=0"/>
          <p:cNvPicPr/>
          <p:nvPr/>
        </p:nvPicPr>
        <p:blipFill>
          <a:blip r:embed="rId2"/>
          <a:stretch/>
        </p:blipFill>
        <p:spPr>
          <a:xfrm>
            <a:off x="685800" y="609480"/>
            <a:ext cx="7010280" cy="5257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u=3386011957,1209557568&amp;gp=0"/>
          <p:cNvPicPr/>
          <p:nvPr/>
        </p:nvPicPr>
        <p:blipFill>
          <a:blip r:embed="rId3"/>
          <a:stretch/>
        </p:blipFill>
        <p:spPr>
          <a:xfrm>
            <a:off x="609480" y="533520"/>
            <a:ext cx="7162920" cy="5371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it"/>
          <p:cNvPicPr/>
          <p:nvPr/>
        </p:nvPicPr>
        <p:blipFill>
          <a:blip r:embed="rId1"/>
          <a:stretch/>
        </p:blipFill>
        <p:spPr>
          <a:xfrm>
            <a:off x="2057400" y="1523880"/>
            <a:ext cx="5257800" cy="3888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u=1511407228,2066329400&amp;gp=1"/>
          <p:cNvPicPr/>
          <p:nvPr/>
        </p:nvPicPr>
        <p:blipFill>
          <a:blip r:embed="rId2"/>
          <a:stretch/>
        </p:blipFill>
        <p:spPr>
          <a:xfrm>
            <a:off x="1905120" y="1371600"/>
            <a:ext cx="5790960" cy="4343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u=2059807554,2936536338&amp;gp=2"/>
          <p:cNvPicPr/>
          <p:nvPr/>
        </p:nvPicPr>
        <p:blipFill>
          <a:blip r:embed="rId3"/>
          <a:stretch/>
        </p:blipFill>
        <p:spPr>
          <a:xfrm>
            <a:off x="1523880" y="1219320"/>
            <a:ext cx="6705720" cy="4581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u=2848299888,2923350772&amp;gp=2"/>
          <p:cNvPicPr/>
          <p:nvPr/>
        </p:nvPicPr>
        <p:blipFill>
          <a:blip r:embed="rId4"/>
          <a:stretch/>
        </p:blipFill>
        <p:spPr>
          <a:xfrm>
            <a:off x="1219320" y="990720"/>
            <a:ext cx="7086600" cy="53146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u=918854794,3229769923&amp;gp=0"/>
          <p:cNvPicPr/>
          <p:nvPr/>
        </p:nvPicPr>
        <p:blipFill>
          <a:blip r:embed="rId5"/>
          <a:stretch/>
        </p:blipFill>
        <p:spPr>
          <a:xfrm>
            <a:off x="990720" y="685800"/>
            <a:ext cx="7467480" cy="5600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9T09:32:4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8:10Z</dcterms:modified>
  <cp:revision>1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