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845-FD82-4DC5-939E-3C009966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809-FB8D-4DB6-B155-A8D76B60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FE6-AD19-4C50-B9F5-EF8B5064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77C-8D49-4987-8899-E422C6A5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302B-A4A3-483C-80E4-9AE276D3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0EB9-AADC-4B90-B303-EFC20652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6C88-2ADE-45D2-95EB-07B476BF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D8C5-050A-433F-8975-371003BD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4878-3FEB-4E54-89CA-969037D2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F145-4390-49CF-9FA4-CE62CB87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1DC0-8C46-4573-B584-89954F90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B90-41E7-4D56-92B0-C5CB2938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538B-DF5E-45E9-8F41-A73793FF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69A9-6E65-44A0-B081-B4A21CCC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BEBD-CE62-4BE9-8137-333A5E4A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B55F-646E-4787-A144-B73B33A1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D3AD-CC9B-4A8D-8315-C99A3D40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1EC-E76A-4810-BFA5-94D21986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9C6-6DBC-41E1-B3A2-5893CE0A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5D1-60DA-4583-A44D-84F68F90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FD7-0AD5-4C44-8F5A-040339E1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D8C-8897-42D5-B153-C69E5F15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CD1-2E4E-4F1D-A551-84A19486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F59-155B-4131-9D17-85E7C20A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844E-318A-4020-BEDD-03B8E09DD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E1BC-058D-4AD2-9988-BEB15043E7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8,5,&#24187;&#28783;&#29255; 5" TargetMode="External"/><Relationship Id="rId3" Type="http://schemas.openxmlformats.org/officeDocument/2006/relationships/hyperlink" Target="257,6,&#24187;&#28783;&#29255; 6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0,3,&#24187;&#28783;&#29255; 3" TargetMode="External"/><Relationship Id="rId2" Type="http://schemas.openxmlformats.org/officeDocument/2006/relationships/hyperlink" Target="260,3,&#24187;&#28783;&#29255; 3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0,3,&#24187;&#28783;&#29255; 3" TargetMode="External"/><Relationship Id="rId2" Type="http://schemas.openxmlformats.org/officeDocument/2006/relationships/hyperlink" Target="260,3,&#24187;&#28783;&#29255; 3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顶碗少年语文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755640" y="501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中宋"/>
              </a:rPr>
              <a:t>认真读文，边读边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中宋"/>
              </a:rPr>
              <a:t>顶碗少年的表演精彩吗？他表演成功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中宋"/>
              </a:rPr>
              <a:t>（请从课文中寻找相关句子证实自己的观点 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404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650"/>
              </a:spcBef>
              <a:buClr>
                <a:srgbClr val="9732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9999"/>
                </a:solidFill>
                <a:uFillTx/>
                <a:latin typeface="Arial"/>
                <a:ea typeface="华文中宋"/>
                <a:hlinkClick r:id="rId2"/>
              </a:rPr>
              <a:t>精彩 成功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650"/>
              </a:spcBef>
              <a:buClr>
                <a:srgbClr val="9732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9999"/>
                </a:solidFill>
                <a:uFillTx/>
                <a:latin typeface="Arial"/>
                <a:ea typeface="华文中宋"/>
                <a:hlinkClick r:id="rId3"/>
              </a:rPr>
              <a:t>不精彩，不成功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11280" y="2708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四人小组学习，观点相同的交流，观点不同的先进行辩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197"/>
          <p:cNvSpPr/>
          <p:nvPr/>
        </p:nvSpPr>
        <p:spPr>
          <a:xfrm>
            <a:off x="1763640" y="4581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假如你到现场看了这场演出，你会在观众留言簿上写些什么呢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你的生活、学习中有没有遇到过困难和失败，你是怎么做的？学了本文，你得到了什么启示？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6"/>
          <p:cNvSpPr/>
          <p:nvPr/>
        </p:nvSpPr>
        <p:spPr>
          <a:xfrm>
            <a:off x="1979640" y="4365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 rot="20925600">
            <a:off x="249120" y="1348920"/>
            <a:ext cx="8601120" cy="385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3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不经历风雨，怎能见彩虹</a:t>
            </a:r>
            <a:endParaRPr b="1" i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3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95" name="成龙-真心英雄.mp3" descr=""/>
          <p:cNvPicPr/>
          <p:nvPr/>
        </p:nvPicPr>
        <p:blipFill>
          <a:blip r:embed="rId1"/>
          <a:stretch/>
        </p:blipFill>
        <p:spPr>
          <a:xfrm>
            <a:off x="7956720" y="544500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737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1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顶碗少年的表演是很精彩，很成功的：</a:t>
            </a:r>
            <a:br>
              <a:rPr sz="2400"/>
            </a:b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　　①第一次顶碗时：“在轻松优雅的乐曲声里，只见他头上顶着高高的一叠金边红花白瓷碗，柔软而又自然地舒展着肢体，做出各种各样令人惊羡的动作，忽而卧倒，忽而跃起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碗，在他的头顶摇摇晃晃，却总是不掉下来。”“他骑在另一位演员身上，两个人一会儿站起，一会儿躺下，一会儿用各种姿态转动着身躯。”</a:t>
            </a:r>
            <a:br>
              <a:rPr sz="2400"/>
            </a:b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     ②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第二次顶碗时：“少年很沉着，不慌不忙地重复着刚才的动作，依然是那么轻松优美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到最后关头了，又是两个人叠在一起，又是一个接一个艰难的转身”。</a:t>
            </a:r>
            <a:br>
              <a:rPr sz="2400"/>
            </a:b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     ③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第三次顶碗时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:”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这真是一场惊心动魄的拼搏！当那叠碗又剧烈地晃动起来时，少年轻轻抖了一下脑袋，终于把碗稳住了。”</a:t>
            </a:r>
            <a:br>
              <a:rPr sz="2400"/>
            </a:b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     ④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尽管顶碗少年前两次的表演失败了，可是他没有被失败吓倒，第三次表演获得了成功。从“全场响起了暴风雨般的掌声”，可以感受到，观众也认为少年的表演是精彩的，成功的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幻灯片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8197"/>
          <p:cNvSpPr/>
          <p:nvPr/>
        </p:nvSpPr>
        <p:spPr>
          <a:xfrm>
            <a:off x="1547640" y="227664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顶碗少年的表演不够精彩，不很成功的：</a:t>
            </a:r>
            <a:br>
              <a:rPr sz="2400"/>
            </a:b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　　①少年前两次的顶碗表演时，由于没有把握好平衡，头顶上的碗两次掉下来摔碎了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――“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在一个大幅度转身的刹那间，那一大叠碗突然从头上掉了下来！”；“那一叠碗却仿佛故意捣乱，突然跳起摇摆舞来。少年急忙摆动脑袋保持平衡，可是来不及了。碗，又掉了下来。”</a:t>
            </a:r>
            <a:br>
              <a:rPr sz="2400"/>
            </a:b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    ②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从观众的反应看出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――“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观众中有人在大声地喊：‘行了，不要再来了，演下一个节目吧！’好多人附和着喊起来。”观众对少年表演中出现的两次失误不满意。真正精彩、成功的表演，应该是一次就成功，而不应该是第三次。</a:t>
            </a:r>
            <a:br>
              <a:rPr sz="2400"/>
            </a:b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    ③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从少年表演失误后的表现看出来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――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第一次：“顶碗的少年歉疚地微笑着，不失风度地向观众鞠了一躬。”第二次：“台上，顶碗少年呆呆地站着，脸上全是汗珠，他有些不知所措了。”“少年镇静下来，手捧着新碗，又深深地向观众们鞠了一躬。”</a:t>
            </a:r>
            <a:br>
              <a:rPr sz="2400"/>
            </a:br>
            <a:br>
              <a:rPr sz="2400"/>
            </a:b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幻灯片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6516-1F6A-4DB0-81F2-D153AA5C04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88640"/>
            <a:ext cx="83739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总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　      ①从表演的过程来看，顶碗少年的表演出现了两次失误，没有一次成功，的确并不精彩；</a:t>
            </a:r>
            <a:br>
              <a:rPr sz="2400"/>
            </a:b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　  ②从顶碗少年在表演中所体现出来的不怕失败，面对两次失败，勇于拼搏的精神来看，他的表演是十分精彩、成功的。正是有这样的拼搏精神，他的第三次表演才取得了成功。</a:t>
            </a:r>
            <a:br>
              <a:rPr sz="2400"/>
            </a:b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　  ③如果，顶碗少年第一次表演就获得了成功，观众欣赏到的就只是一次“精彩、成功”的杂技表演而已。正因为顶碗少年的表演是在出现了两次失误后的第三次成功的，观众才不仅看到了精彩、成功的杂技表演，而且从这位顶碗少年的身上感受到了那种不怕失败、勇于拼搏的精神。这种精神远比看到一场没有失误的杂技表演更有意义。每一位观看过表演的观众，都可能“常常会想起这位顶碗少年，想起他那一夜的演出”，因为，他们从中“得到了启示，悟出了一些人生的哲理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――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面对困难和失败，只有坚持下去，才有可能获得成功。”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3:12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20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