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E65-1816-4724-9857-8E5DF6F1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6EE-6088-42D4-BAAB-308DB68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17E1A-0125-4914-8653-0F9BB504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0B7CD-7705-47C3-8E87-8414E7EB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841A5-58A9-47A1-B6DF-C59F825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3E3C3-0AB0-4B32-8687-C8BD4141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A47F9-8966-489F-B902-24237A3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38E00-FE24-4688-9800-3AC3D76F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57768-084F-426F-8AF5-D915E71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9E0C4-FE8B-4CDB-AEE1-8DABAEEC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9B565-4A81-48E7-8A2E-497FBB0D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4520-3B33-4381-B99F-B6110027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DE5-77FF-4237-BFDE-6C28E223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B5B4A-89F5-4B78-9E80-69BA0D5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694C1-3DF1-4586-B019-8130278A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76289-E05A-4FB9-A1FA-9284CA0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9728A-FD2E-4DA4-80F0-1D92996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BFD89-A18A-45B1-9FC6-432EC27D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36F2D-D056-4C08-BD60-8DADB70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C3DB2-4FE4-4F5C-B071-4887B695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423FF-D5F2-43C1-8133-049447F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3C1A5-CDE6-4C8D-BDEA-2C67B2AE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3F167-5F3E-42FC-8B2A-ADDC848A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B40-CE54-43E2-A8CD-30DB229B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0B9D3-5D18-4A47-871A-ACD8D8C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108BA-60AF-45F5-AF85-4834218F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E8638-3FAB-44AB-9B4E-1FDAA9E0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9D90-7819-4360-8FB1-2C90AC46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AC87E-4F79-47D3-A9A7-D1A9CCA0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A98DC-A2E5-4D55-9B16-A14A685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A371-5CFC-4D8F-B2B8-A1613162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AD19D-B902-4302-BB2B-589CD0D1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5509D-7221-4446-A687-7DE4C23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BFB35-F1F3-44BF-A124-30194CA9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AD5C-7DA8-4837-AE76-A7837A25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ABD96-6A65-48CD-BC1B-004CE5E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6D809-ECC6-429B-9DA2-3E16B3C1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A8AA6-7BD3-42F2-9080-3C00F528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42501-EBB8-4B50-9431-A86C0987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EFA82-04E9-419B-B186-97F47D1A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49EFF-9F56-472B-A204-038AFB38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AE5071-E66D-4A68-8552-86C45437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8442E-D5E2-4508-A476-F703D43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20C5F-67F0-4271-A10D-4CE906B6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B7E48-AD48-474A-85E9-6093655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223C-2C0D-43D3-9AA1-E915AB06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15F06-04EB-42E0-9232-1B070A5C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C2F38-7465-4BAE-A968-8A2200C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17D46-545A-4D5C-BD33-907A13B3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6A5DC-957C-447C-A071-4207FEA0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CE22D-2582-41FA-9E1C-264EA561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88E3D-599C-4AC2-B399-3C485781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4D9D5-723E-457D-8C79-1D066CD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8459A-625E-4638-961A-D55E8CAE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C80D1-A590-4C13-8DED-67291A09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2CE61-16C7-4040-8FB0-E7F91AF5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C294-03C6-496B-A520-33B5A0D9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608C4-782F-4222-B02E-FA5A9C26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8EB76-2CF4-49C7-AEBE-3A054C2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BB9AD-BC61-4C6E-B419-B2E3E38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6BDA34-3874-4C9C-B5D9-CF652C60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A13EA-BA77-4892-A68B-53C5EA8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59B7EC-92FE-4A92-9259-A649BAE5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B1224-A9FB-44FF-8945-8AAB27F8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93303-BB75-4B18-A8AD-9D68C7F3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0569E0-69E1-4191-BA43-A9E2BFD6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8695AB-01BA-4D1D-AD29-28540265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5CD-2720-40FF-96F8-A5143EB5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17218-9133-4467-BD7F-E8BBD956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EA89F-2F3E-45E6-B374-DFB4F82C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F6D0C-2B17-478E-80D2-554B1084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87D5F-273A-4396-86F8-6D222769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C4E330-8258-4765-A963-F1B4358A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E2294-844E-4515-883F-A652381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CAD30-EB57-43C9-99B4-EF8B7C6B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6BE9F-5977-4886-A225-F3DF5C8C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D7650-32F8-4B2F-BA16-8B09BD5A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AD99F-AB45-4A9B-B8FD-479A110D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A9BC-DC7F-4484-AE92-67013B6D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52AEF1-A83E-409B-A211-2779039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C1D86-7941-4F64-8850-C3C0B760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46C6BD-415F-4851-B6ED-2FE2B819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15505-74CB-49CD-B285-30147F8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BB7E8-D460-4DB1-91DE-3C02F78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BE827-25F8-4ABD-AFE6-D18AEF0A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782190-0371-4845-B185-0ABD370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40368-8EB9-4C85-9DEB-6FC64CB1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9245D-D556-40D4-9D0A-273EA58D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419E5-576C-4C08-AF54-3DB04D6F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AC34-B069-40F1-8CB2-96DDCBB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1CCE08-0EBE-43F7-BA18-4408FEDD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978-2D8A-487B-97E5-9785ED23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C89-59D8-4A00-882B-87BD7B36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71D-2DE6-47B4-8F7C-0AD79E6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385E-EEDB-4198-B2BE-A93818E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3635-DBE1-4CC9-8CF0-F3320B57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3DC6-7468-4ABB-B032-84B0E53A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A2DB-F3CD-4C0C-9188-4CB60C94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AA6D-0B1F-42BF-B005-39F25F7D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CDCF-BD92-4768-925F-AEDC051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116D-6277-446A-8C11-D367F7D0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1F18-D7BD-4C40-AC3A-570B4BE8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9978-2091-41BD-9501-E400D075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BDB-98D4-4C5A-B5B3-9BAD95C4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C0BA1-8DB0-4FB3-BCCB-D26A73D5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F804-2366-4E08-81A9-4FD3343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2198-3FAD-4813-99BE-B66152AC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2318-5355-4AD8-A345-33050AE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CEEE-4CD0-453C-8EAD-B5898B6D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C3CB4-0F16-4547-BD19-3572B0CF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309F9-5EF4-412A-BAE4-98FE37A8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BD61-3BCD-44F1-88C8-29B6B0E1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D91D-D9A8-43AD-B78C-5EA0B74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AE8B3-1EC2-4C83-AE2A-89942AA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8082-6FD6-4F90-803D-C5B76BE8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8A8E1-6076-489B-A3FC-CC3EE646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C67AA-A91C-47A3-90E0-070AA0B2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C67FB-640E-4092-8707-1A74A0E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C7EB8-E596-44C0-85BE-5FDCCF0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A0B5-9794-4044-A5C2-0E2FDE6E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138F-4504-406A-A575-41AD4AC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6FE3-38FD-43F3-A794-F64A0A4D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9144A-B244-4CEF-8B81-D5512896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A5B2-00DF-43F0-8A0D-E8DA63E6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96DD4-12DB-4285-B0B6-72011F0D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820-775D-44C8-9BD1-EBD9D07C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3C4A6-B066-4443-A3D8-CBD33B9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F7B1-F0AD-4F53-B448-11006070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967AE-8BB8-4140-9846-74FEBD9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9A7CB-49B4-4A5F-B00D-85E0F09C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788E6-C46F-4BED-8505-D30B8A35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23CCA-6663-4679-AAA2-005321B5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BC2C-7C48-4B9D-BC19-D0E6289D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F8EB-5B9F-4E9D-A6A6-9252F9C1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8DF35-8825-48F2-B03C-B4207A90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613BD-805B-439D-929D-660F4906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4A1D-654A-431B-9DDC-F8E9420D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58500-8E25-44EA-AACA-C490D6C2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A7199-5107-4F68-AC1F-5065F184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71861-87A3-451D-8319-1E758FFA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781D3-80F9-45B4-B37C-9F4E2DC9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95167-2EE9-47A3-A8D9-000CC229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5CED-7AC1-4F06-BAB0-8E858584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995BA-4D7A-481B-8051-7D481F5F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90E3A-E595-444F-9278-C1CC5CC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1B75B-C978-4CF1-AC21-F2E908F0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6663E-54AA-44D8-BEA3-57F98C2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2CF-955B-4CFC-8277-0AE67B02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E548E-56F6-487D-B97E-76E8C09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B8A9-862D-429C-9FCC-88D86839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209B3-1E5F-40D4-A8B4-91A4F040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A84D-9CF3-4646-8FF4-4B24F953D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4E93D-B747-4C8A-B9E7-4E2DFC86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AAE23-5CBD-4455-A24D-A27FBA43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72AC-E86D-4F81-8ED2-F970EA06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B540F-EB18-48E4-8FAE-54FD3E5E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855D-BBB9-4067-B091-59B31900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CA8A7-FAE5-4202-98DC-92A906D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CF4-0B6F-4D44-BC09-F219F6F3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905EB-B344-46BF-87A9-CE1D3336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E73A-1617-40AB-8C07-72ADA867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54259-762B-449D-A6E7-146C5BA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D5F00-253A-49E8-B6A6-4BBCC50F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6931-8AD8-403D-8770-427C52B1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5383-E7A6-4E80-8080-FFA9127C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EAC36-CD08-4FAA-8BEF-F34E537C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715D-1600-4F61-90CB-DF911A52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3B779-EEEC-4ED5-A415-528469A8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937A8-8976-40B7-8C28-881167C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C01-4300-4494-B8EC-6007D6A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0B3E1-BF91-4295-BD72-80690FE5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8F806-75F8-4543-B426-002DA79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4BA40-5B1F-4D0F-8ECA-4ACDB7B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F88CD-D65D-4A26-8316-7728A8C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36F5E-FE5D-43B0-AF2F-7F130F99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7A47-1DDD-447A-AEB1-95AB1F7B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E595A-CB45-48DC-8EB0-CCCD2854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128A8-4242-4282-8645-A564BDD5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E70D3-D4C3-4515-AF91-F658E62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2537E-F0FA-40F8-A384-53E5702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52DF-6762-48D5-98C3-86F9BB8D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01EF-5CBA-4DF6-B6F0-C833D1C37B4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72BA-9A8C-4337-88B5-56E923A27B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2D55-12E2-4EA5-B7F7-7246A7A1D27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808-0160-4349-B27D-B6B39273DE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7C2-25E9-414F-9897-CE82192D52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04D9-736C-4185-AF7C-2CB91E7D95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93E-72D9-42B8-8E25-9ADCCD683B9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409-0FB7-4973-B0A3-51C995D1CC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049D-AAE0-4F08-A342-9113BBA92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845-A5A5-415E-B00C-322BE9955A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1362-C58E-4F4A-B29B-AB4647FCE8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46E7-063D-4987-9507-981E841AAE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B8ED-989B-4004-8534-354742E2E8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4F94-34D5-4551-9DD9-3C8005C00C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9,2,&#30693;&#35782;&#32467;&#26500;" TargetMode="External"/><Relationship Id="rId2" Type="http://schemas.openxmlformats.org/officeDocument/2006/relationships/hyperlink" Target="259,2,&#30693;&#35782;&#32467;&#26500;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64920" y="691920"/>
            <a:ext cx="784692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 Rounded MT Bold"/>
                <a:ea typeface="方正舒体"/>
              </a:rPr>
              <a:t>第</a:t>
            </a:r>
            <a:r>
              <a:rPr b="1" lang="en-US" sz="6600" spc="-1" strike="noStrike">
                <a:solidFill>
                  <a:srgbClr val="ffffff"/>
                </a:solidFill>
                <a:latin typeface="Arial Rounded MT Bold"/>
                <a:ea typeface="方正舒体"/>
              </a:rPr>
              <a:t>6</a:t>
            </a:r>
            <a:r>
              <a:rPr b="1" lang="zh-CN" sz="6600" spc="-1" strike="noStrike">
                <a:solidFill>
                  <a:srgbClr val="ffffff"/>
                </a:solidFill>
                <a:latin typeface="Arial Rounded MT Bold"/>
                <a:ea typeface="方正舒体"/>
              </a:rPr>
              <a:t>课    </a:t>
            </a:r>
            <a:br>
              <a:rPr sz="66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对外友好往来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4064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  <a:ea typeface="方正舒体"/>
              </a:rPr>
              <a:t>三、唐与新罗的关系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50920" y="144936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朝鲜半岛上的国家，与隋唐来往密切。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强盛以后，派遣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到唐朝来学习中国文化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许多新罗商人来到中国经商，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居唐朝进口首位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新罗仿唐制建立了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，采用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选拔官吏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新罗还引进了中国的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等科技成就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朝鲜的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传入中国，在唐朝宫廷演出，而且广泛流行于民间。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40" name="Picture 4" descr="u=359082794,2171721848&amp;gp=2"/>
          <p:cNvPicPr/>
          <p:nvPr/>
        </p:nvPicPr>
        <p:blipFill>
          <a:blip r:embed="rId1"/>
          <a:stretch/>
        </p:blipFill>
        <p:spPr>
          <a:xfrm>
            <a:off x="7873920" y="0"/>
            <a:ext cx="1270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4" descr="pic_27493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6"/>
          <p:cNvSpPr/>
          <p:nvPr/>
        </p:nvSpPr>
        <p:spPr>
          <a:xfrm>
            <a:off x="7464960" y="1006560"/>
            <a:ext cx="485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新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8175960" y="620640"/>
            <a:ext cx="4852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3184560" y="297648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rad78DC3"/>
          <p:cNvPicPr/>
          <p:nvPr/>
        </p:nvPicPr>
        <p:blipFill>
          <a:blip r:embed="rId1"/>
          <a:stretch/>
        </p:blipFill>
        <p:spPr>
          <a:xfrm>
            <a:off x="2195640" y="0"/>
            <a:ext cx="50353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755640" y="692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华文新魏"/>
              </a:rPr>
              <a:t>四、玄奘西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5" descr="ls00100030"/>
          <p:cNvPicPr/>
          <p:nvPr/>
        </p:nvPicPr>
        <p:blipFill>
          <a:blip r:embed="rId1"/>
          <a:stretch/>
        </p:blipFill>
        <p:spPr>
          <a:xfrm>
            <a:off x="6588000" y="1844640"/>
            <a:ext cx="2009880" cy="45720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6"/>
          <p:cNvSpPr/>
          <p:nvPr/>
        </p:nvSpPr>
        <p:spPr>
          <a:xfrm>
            <a:off x="639720" y="1413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玄奘为什么要西游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495360" y="220500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贞观初年，玄奘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出发，历经艰险在天竺求学，成为著名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9"/>
          <p:cNvSpPr/>
          <p:nvPr/>
        </p:nvSpPr>
        <p:spPr>
          <a:xfrm>
            <a:off x="495360" y="4005360"/>
            <a:ext cx="561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玄奘以亲身经历写成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成为研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以及我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历史和佛学的重要典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4" descr="12299420_241616"/>
          <p:cNvPicPr/>
          <p:nvPr/>
        </p:nvPicPr>
        <p:blipFill>
          <a:blip r:embed="rId1"/>
          <a:stretch/>
        </p:blipFill>
        <p:spPr>
          <a:xfrm>
            <a:off x="141120" y="382680"/>
            <a:ext cx="8890200" cy="638784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5">
            <a:hlinkClick r:id="" action="ppaction://hlinkshowjump?jump=nextslide"/>
          </p:cNvPr>
          <p:cNvSpPr/>
          <p:nvPr/>
        </p:nvSpPr>
        <p:spPr>
          <a:xfrm>
            <a:off x="8028000" y="6669000"/>
            <a:ext cx="504720" cy="189000"/>
          </a:xfrm>
          <a:custGeom>
            <a:avLst/>
            <a:gdLst>
              <a:gd name="textAreaLeft" fmla="*/ 12240 w 504720"/>
              <a:gd name="textAreaRight" fmla="*/ 492480 w 5047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57614" h="21600">
                <a:moveTo>
                  <a:pt x="0" y="0"/>
                </a:moveTo>
                <a:lnTo>
                  <a:pt x="57614" y="0"/>
                </a:lnTo>
                <a:lnTo>
                  <a:pt x="57614" y="21600"/>
                </a:lnTo>
                <a:lnTo>
                  <a:pt x="0" y="21600"/>
                </a:lnTo>
                <a:close/>
              </a:path>
              <a:path fill="lightenLess" w="57614" h="21600">
                <a:moveTo>
                  <a:pt x="0" y="0"/>
                </a:moveTo>
                <a:lnTo>
                  <a:pt x="57614" y="0"/>
                </a:lnTo>
                <a:lnTo>
                  <a:pt x="56214" y="1400"/>
                </a:lnTo>
                <a:lnTo>
                  <a:pt x="1400" y="1400"/>
                </a:lnTo>
                <a:close/>
              </a:path>
              <a:path fill="darken" w="57614" h="21600">
                <a:moveTo>
                  <a:pt x="57614" y="0"/>
                </a:moveTo>
                <a:lnTo>
                  <a:pt x="57614" y="21600"/>
                </a:lnTo>
                <a:lnTo>
                  <a:pt x="56214" y="20200"/>
                </a:lnTo>
                <a:lnTo>
                  <a:pt x="56214" y="1400"/>
                </a:lnTo>
                <a:close/>
              </a:path>
              <a:path fill="darkenLess" w="57614" h="21600">
                <a:moveTo>
                  <a:pt x="57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14" y="20200"/>
                </a:lnTo>
                <a:close/>
              </a:path>
              <a:path fill="lighten" w="57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14" h="21600">
                <a:moveTo>
                  <a:pt x="2880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57614" h="21600">
                <a:moveTo>
                  <a:pt x="2880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57614" h="21600">
                <a:moveTo>
                  <a:pt x="26231" y="8224"/>
                </a:moveTo>
                <a:lnTo>
                  <a:pt x="30095" y="8224"/>
                </a:lnTo>
                <a:lnTo>
                  <a:pt x="30095" y="15221"/>
                </a:lnTo>
                <a:lnTo>
                  <a:pt x="31383" y="15221"/>
                </a:lnTo>
                <a:lnTo>
                  <a:pt x="31383" y="16144"/>
                </a:lnTo>
                <a:lnTo>
                  <a:pt x="26231" y="16144"/>
                </a:lnTo>
                <a:lnTo>
                  <a:pt x="26231" y="15221"/>
                </a:lnTo>
                <a:lnTo>
                  <a:pt x="27519" y="15221"/>
                </a:lnTo>
                <a:lnTo>
                  <a:pt x="27519" y="9129"/>
                </a:lnTo>
                <a:lnTo>
                  <a:pt x="26231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5248-DBC3-4520-B308-8F52A4BD73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2105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Rounded MT Bold"/>
              </a:rPr>
              <a:t>唐朝与各国友好往来频繁的原因</a:t>
            </a: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24000" y="2276640"/>
            <a:ext cx="85406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唐朝时国力强盛，经济文化都处于当时世界领先地位，对各国产生了巨大的吸引力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唐政府采取开明政策，鼓励各国的经济文化交流；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Rounded MT Bold"/>
              </a:rPr>
              <a:t>唐朝对外交通发达，给各国友好往来提供了条件。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Rounded MT Bold"/>
              </a:rPr>
              <a:t>知识结构</a:t>
            </a:r>
            <a:endParaRPr b="0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Rounded MT Bold"/>
                <a:ea typeface="华文新魏"/>
              </a:rPr>
              <a:t>隋唐时期对外交往的特点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buClr>
                <a:srgbClr val="3333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Rounded MT Bold"/>
                <a:ea typeface="华文新魏"/>
              </a:rPr>
              <a:t>遣唐使和鉴真东渡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buClr>
                <a:srgbClr val="3333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Rounded MT Bold"/>
                <a:ea typeface="华文新魏"/>
              </a:rPr>
              <a:t>唐与新罗的关系 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1349"/>
              </a:spcBef>
              <a:buClr>
                <a:srgbClr val="3333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 Rounded MT Bold"/>
                <a:ea typeface="华文新魏"/>
              </a:rPr>
              <a:t>玄奘西游</a:t>
            </a:r>
            <a:endParaRPr b="0" lang="en-US" sz="5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611280" y="7002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方正舒体"/>
              </a:rPr>
              <a:t>一、隋唐时期对外交往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24000" y="1341360"/>
            <a:ext cx="8388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1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	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隋唐对外交往比较活跃，与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以至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的一些国家都有往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2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	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唐政府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各国商人到中国贸易，允许他们长期居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3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、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_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等城市，都有频繁的贸易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4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	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唐朝在世界上享有很高的声望，各国称中国人为“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华文细黑"/>
              </a:rPr>
              <a:t>__________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细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04211583"/>
          <p:cNvPicPr/>
          <p:nvPr/>
        </p:nvPicPr>
        <p:blipFill>
          <a:blip r:embed="rId1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5"/>
          <p:cNvSpPr/>
          <p:nvPr/>
        </p:nvSpPr>
        <p:spPr>
          <a:xfrm>
            <a:off x="684360" y="26028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华文新魏"/>
              </a:rPr>
              <a:t>二、遣唐使和鉴真东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611280" y="105264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隋朝时已有日本遣隋使到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468360" y="2060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8a"/>
                </a:solidFill>
                <a:latin typeface="Arial"/>
                <a:ea typeface="方正舒体"/>
              </a:rPr>
              <a:t>2.</a:t>
            </a:r>
            <a:r>
              <a:rPr b="1" lang="zh-CN" sz="3600" spc="-1" strike="noStrike">
                <a:solidFill>
                  <a:srgbClr val="2d2d8a"/>
                </a:solidFill>
                <a:latin typeface="Arial"/>
                <a:ea typeface="方正舒体"/>
              </a:rPr>
              <a:t>唐与日本交往的主要表现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39640" y="2924280"/>
            <a:ext cx="79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从贞观年间开始，日本来中国的遣唐使有十多批。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到唐朝的还有留学生和留学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使团向唐朝赠送礼品，唐朝回礼，这实际上是两国之间的贸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4"/>
          <p:cNvSpPr/>
          <p:nvPr/>
        </p:nvSpPr>
        <p:spPr>
          <a:xfrm>
            <a:off x="324000" y="1197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唐朝与日本之间的交往对日本产生了哪些影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539640" y="2781360"/>
            <a:ext cx="770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方正舒体"/>
              </a:rPr>
              <a:t>⑴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遣唐使回国后，以唐朝的制度为模式，进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方正舒体"/>
              </a:rPr>
              <a:t>____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⑵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日本人受唐朝文化影响很大，他们参照汉字创制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方正舒体"/>
              </a:rPr>
              <a:t>_______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⑶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方正舒体"/>
              </a:rPr>
              <a:t>_____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方正舒体"/>
              </a:rPr>
              <a:t>上至今还保留着唐朝人的某些风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u=1771240729,3196123948&amp;gp=2"/>
          <p:cNvPicPr/>
          <p:nvPr/>
        </p:nvPicPr>
        <p:blipFill>
          <a:blip r:embed="rId1"/>
          <a:stretch/>
        </p:blipFill>
        <p:spPr>
          <a:xfrm>
            <a:off x="0" y="5319720"/>
            <a:ext cx="2050920" cy="15382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46836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大唐国者，法式备定，珍国也，须常达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1116000" y="2060640"/>
            <a:ext cx="691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日本人眼中的唐朝是什么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为此，日本人是怎么做的？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4"/>
          <p:cNvSpPr/>
          <p:nvPr/>
        </p:nvSpPr>
        <p:spPr>
          <a:xfrm>
            <a:off x="0" y="0"/>
            <a:ext cx="4897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1"/>
              </a:rPr>
              <a:t>4.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2"/>
              </a:rPr>
              <a:t>鉴真东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5" descr="j55-3"/>
          <p:cNvPicPr/>
          <p:nvPr/>
        </p:nvPicPr>
        <p:blipFill>
          <a:blip r:embed="rId3"/>
          <a:stretch/>
        </p:blipFill>
        <p:spPr>
          <a:xfrm>
            <a:off x="4500720" y="3359160"/>
            <a:ext cx="4643280" cy="349884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6"/>
          <p:cNvSpPr/>
          <p:nvPr/>
        </p:nvSpPr>
        <p:spPr>
          <a:xfrm>
            <a:off x="324000" y="723960"/>
            <a:ext cx="76327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唐朝赴日本的使者和僧人中，最有影响的是高僧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__________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他历经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_______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次东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才成功，他精心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的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新魏"/>
              </a:rPr>
              <a:t>_________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，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殿式样优美，至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犹存，被日本视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新魏"/>
              </a:rPr>
              <a:t>艺术明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1980年日本唐招提寺的僧众护送鉴真大师的塑像来华巡展"/>
          <p:cNvPicPr/>
          <p:nvPr/>
        </p:nvPicPr>
        <p:blipFill>
          <a:blip r:embed="rId1"/>
          <a:stretch/>
        </p:blipFill>
        <p:spPr>
          <a:xfrm>
            <a:off x="1116000" y="260280"/>
            <a:ext cx="7128000" cy="537696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3"/>
          <p:cNvSpPr/>
          <p:nvPr/>
        </p:nvSpPr>
        <p:spPr>
          <a:xfrm>
            <a:off x="2050920" y="5589720"/>
            <a:ext cx="60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1980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年日本唐招提寺的僧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  <a:ea typeface="隶书"/>
              </a:rPr>
              <a:t>护送鉴真大师的塑像来华巡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6:4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4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