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jpeg" ContentType="image/jpeg"/>
  <Override PartName="/ppt/media/image53.png" ContentType="image/png"/>
  <Override PartName="/ppt/media/image54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60.png" ContentType="image/png"/>
  <Override PartName="/ppt/media/image33.jpeg" ContentType="image/jpeg"/>
  <Override PartName="/ppt/media/image27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2.png" ContentType="image/png"/>
  <Override PartName="/ppt/media/image37.jpeg" ContentType="image/jpeg"/>
  <Override PartName="/ppt/media/image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63.jpeg" ContentType="image/jpeg"/>
  <Override PartName="/ppt/media/image29.png" ContentType="image/png"/>
  <Override PartName="/ppt/media/image21.jpeg" ContentType="image/jpeg"/>
  <Override PartName="/ppt/media/image65.png" ContentType="image/png"/>
  <Override PartName="/ppt/media/image23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4.jpeg" ContentType="image/jpeg"/>
  <Override PartName="/ppt/media/image19.png" ContentType="image/png"/>
  <Override PartName="/ppt/media/image62.jpeg" ContentType="image/jpeg"/>
  <Override PartName="/ppt/media/image4.png" ContentType="image/png"/>
  <Override PartName="/ppt/media/image7.jpeg" ContentType="image/jpeg"/>
  <Override PartName="/ppt/media/image28.png" ContentType="image/png"/>
  <Override PartName="/ppt/media/image26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38.gif" ContentType="image/gif"/>
  <Override PartName="/ppt/media/image64.jpeg" ContentType="image/jpeg"/>
  <Override PartName="/ppt/media/image39.png" ContentType="image/png"/>
  <Override PartName="/ppt/media/image40.png" ContentType="image/png"/>
  <Override PartName="/ppt/media/image43.png" ContentType="image/png"/>
  <Override PartName="/ppt/media/image57.jpeg" ContentType="image/jpeg"/>
  <Override PartName="/ppt/media/image41.gif" ContentType="image/gif"/>
  <Override PartName="/ppt/media/image44.png" ContentType="image/png"/>
  <Override PartName="/ppt/media/image48.png" ContentType="image/png"/>
  <Override PartName="/ppt/media/image45.jpeg" ContentType="image/jpeg"/>
  <Override PartName="/ppt/media/image20.jpeg" ContentType="image/jpeg"/>
  <Override PartName="/ppt/media/image55.png" ContentType="image/png"/>
  <Override PartName="/ppt/media/image46.png" ContentType="image/png"/>
  <Override PartName="/ppt/media/image49.jpeg" ContentType="image/jpeg"/>
  <Override PartName="/ppt/media/image50.jpeg" ContentType="image/jpeg"/>
  <Override PartName="/ppt/media/image51.jpeg" ContentType="image/jpeg"/>
  <Override PartName="/ppt/media/image52.jpeg" ContentType="image/jpeg"/>
  <Override PartName="/ppt/media/image13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405-009F-4169-B160-DADB1689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845-E279-444C-9DB0-4CF58A0E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238-0519-4E4A-8458-EC1DCCBC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0CA-A0B6-4975-ACCB-B9E5ACCB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CF85-6C4F-4C98-87FB-D67E8ED5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EEF7-1052-4D24-A1B1-54EA6894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E771-66BE-49F5-AF20-80F4C9C5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3B4B-654C-4D9B-964B-182E70A5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5F23-8B03-40FB-B7D5-9A9B0960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700E-F3B1-4246-8020-C2C72CB7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17B9-AE13-4C1C-A487-4363580F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333-92EB-4775-8ECF-FF4E22EA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A4B8-827E-47B2-8A52-60FE575B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74FC-4CA0-41C2-B667-911D6168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EA8E-A97E-48E0-ADF1-9095DA3E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591F-CAA8-4B2D-9B5F-A72AECE1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992D-2D77-46A7-B25B-C108A97F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807-8B22-40D8-9395-D83F859D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2CE-44AE-47BB-9CDF-09AAA28C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A49-FF14-465A-BC14-A1D2EA61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0D4-D97D-4985-9258-AAEFE799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4A6-B445-44AA-AF8E-A338680C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AD7-C523-4BAE-8ACE-BCEEB2B7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ED3-C204-4BB0-B4B3-CAC27EF8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951F-D39F-446E-9BD0-425D01B4C3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EBB6-B98E-4629-86C4-4E3ADC7E8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8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3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zhishie.com/baike/renwu/33/958.htm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1006560" y="549360"/>
            <a:ext cx="71276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十六章 电压 电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节  电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2259000" y="3573360"/>
            <a:ext cx="4624560" cy="24577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35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电压的测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11280" y="11970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用来测量电压大小的仪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724360" y="1125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23623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实验室的电压表有三个接线柱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248520" y="2286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762120" y="2895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两个量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429000" y="28195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伏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219320" y="34290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度值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48320" y="3352680"/>
            <a:ext cx="327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伏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1"/>
          <p:cNvGrpSpPr/>
          <p:nvPr/>
        </p:nvGrpSpPr>
        <p:grpSpPr>
          <a:xfrm>
            <a:off x="1809360" y="4038480"/>
            <a:ext cx="6039000" cy="2594160"/>
            <a:chOff x="1809360" y="4038480"/>
            <a:chExt cx="6039000" cy="2594160"/>
          </a:xfrm>
        </p:grpSpPr>
        <p:sp>
          <p:nvSpPr>
            <p:cNvPr id="146" name="Text Box 12"/>
            <p:cNvSpPr/>
            <p:nvPr/>
          </p:nvSpPr>
          <p:spPr>
            <a:xfrm>
              <a:off x="1809360" y="4461120"/>
              <a:ext cx="23187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观察此表的外部结构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你可以获得哪些信息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3" descr="图4-37 双量程电压表1"/>
            <p:cNvPicPr/>
            <p:nvPr/>
          </p:nvPicPr>
          <p:blipFill>
            <a:blip r:embed="rId1"/>
            <a:stretch/>
          </p:blipFill>
          <p:spPr>
            <a:xfrm>
              <a:off x="5629680" y="4038480"/>
              <a:ext cx="2218680" cy="259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14"/>
          <p:cNvGrpSpPr/>
          <p:nvPr/>
        </p:nvGrpSpPr>
        <p:grpSpPr>
          <a:xfrm>
            <a:off x="1976040" y="1772280"/>
            <a:ext cx="3904560" cy="581400"/>
            <a:chOff x="1976040" y="1772280"/>
            <a:chExt cx="3904560" cy="581400"/>
          </a:xfrm>
        </p:grpSpPr>
        <p:sp>
          <p:nvSpPr>
            <p:cNvPr id="149" name="Rectangle 15"/>
            <p:cNvSpPr/>
            <p:nvPr/>
          </p:nvSpPr>
          <p:spPr>
            <a:xfrm>
              <a:off x="1976040" y="1772280"/>
              <a:ext cx="39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电压表的符号：－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V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－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6"/>
            <p:cNvSpPr/>
            <p:nvPr/>
          </p:nvSpPr>
          <p:spPr>
            <a:xfrm>
              <a:off x="5364000" y="1773360"/>
              <a:ext cx="505080" cy="503280"/>
            </a:xfrm>
            <a:prstGeom prst="ellipse">
              <a:avLst/>
            </a:pr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2556000" y="460440"/>
            <a:ext cx="6414840" cy="5705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533520" y="557280"/>
            <a:ext cx="274320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观察电压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62120" y="2057400"/>
            <a:ext cx="28954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09480" y="1707120"/>
            <a:ext cx="289584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电压表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外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接线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量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分度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55640" y="944640"/>
            <a:ext cx="62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总结：电压表的使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42920" y="1989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必须把电压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并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被测电路的两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42920" y="2816280"/>
            <a:ext cx="86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时必须让电流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接线柱流进去，         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接线柱流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-612720" y="3968640"/>
            <a:ext cx="97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被测电压不能超过电压表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量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试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-76320" y="4616280"/>
            <a:ext cx="9220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允许电压表直接连入电源两极上测电源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实验一：测量两节干电池的电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双量程电压表1"/>
          <p:cNvPicPr/>
          <p:nvPr/>
        </p:nvPicPr>
        <p:blipFill>
          <a:blip r:embed="rId1"/>
          <a:stretch/>
        </p:blipFill>
        <p:spPr>
          <a:xfrm>
            <a:off x="4800600" y="2438280"/>
            <a:ext cx="4343400" cy="441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双量程电压表111"/>
          <p:cNvPicPr/>
          <p:nvPr/>
        </p:nvPicPr>
        <p:blipFill>
          <a:blip r:embed="rId2"/>
          <a:stretch/>
        </p:blipFill>
        <p:spPr>
          <a:xfrm>
            <a:off x="0" y="24382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228600" y="17524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电池串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029200" y="18288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电池并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未命名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04920" y="30492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实验二：测量小灯泡的电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0WK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3"/>
          <p:cNvGrpSpPr/>
          <p:nvPr/>
        </p:nvGrpSpPr>
        <p:grpSpPr>
          <a:xfrm>
            <a:off x="1116000" y="765000"/>
            <a:ext cx="2592000" cy="642600"/>
            <a:chOff x="1116000" y="765000"/>
            <a:chExt cx="2592000" cy="642600"/>
          </a:xfrm>
        </p:grpSpPr>
        <p:sp>
          <p:nvSpPr>
            <p:cNvPr id="169" name="Oval 4"/>
            <p:cNvSpPr/>
            <p:nvPr/>
          </p:nvSpPr>
          <p:spPr>
            <a:xfrm>
              <a:off x="1116000" y="765000"/>
              <a:ext cx="2592000" cy="61344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"/>
            <p:cNvSpPr/>
            <p:nvPr/>
          </p:nvSpPr>
          <p:spPr>
            <a:xfrm>
              <a:off x="1224000" y="765000"/>
              <a:ext cx="237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想一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6"/>
          <p:cNvSpPr/>
          <p:nvPr/>
        </p:nvSpPr>
        <p:spPr>
          <a:xfrm>
            <a:off x="1044720" y="15573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Verdana"/>
                <a:ea typeface="隶书"/>
              </a:rPr>
              <a:t>电压表、电流表在使用上有哪些相同点和不同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187280" y="6922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隶书"/>
              </a:rPr>
              <a:t>电压表与电流表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隶书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相同点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隶书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8000" y="180828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使用前都要校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08000" y="2679840"/>
            <a:ext cx="878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使用时必须让电流从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+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接线         柱流进去，从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－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接线柱流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08000" y="4221000"/>
            <a:ext cx="87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被测电流或电压的大小都不能超出电表的量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08000" y="1839960"/>
          <a:ext cx="8929800" cy="4410000"/>
        </p:xfrm>
        <a:graphic>
          <a:graphicData uri="http://schemas.openxmlformats.org/drawingml/2006/table">
            <a:tbl>
              <a:tblPr/>
              <a:tblGrid>
                <a:gridCol w="1339920"/>
                <a:gridCol w="3771720"/>
                <a:gridCol w="3818160"/>
              </a:tblGrid>
              <a:tr h="80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ff"/>
                          </a:solidFill>
                          <a:latin typeface="Calibri"/>
                          <a:ea typeface="隶书"/>
                        </a:rPr>
                        <a:t>序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ff"/>
                          </a:solidFill>
                          <a:latin typeface="Calibri"/>
                          <a:ea typeface="隶书"/>
                        </a:rPr>
                        <a:t>电流表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100" spc="-1" strike="noStrike">
                          <a:solidFill>
                            <a:srgbClr val="0000ff"/>
                          </a:solidFill>
                          <a:latin typeface="Calibri"/>
                          <a:ea typeface="隶书"/>
                        </a:rPr>
                        <a:t>电压表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100" spc="-1" strike="noStrike">
                          <a:solidFill>
                            <a:srgbClr val="0000ff"/>
                          </a:solidFill>
                          <a:latin typeface="Calibri"/>
                          <a:ea typeface="隶书"/>
                        </a:rPr>
                        <a:t>1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1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    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1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24"/>
          <p:cNvSpPr/>
          <p:nvPr/>
        </p:nvSpPr>
        <p:spPr>
          <a:xfrm>
            <a:off x="5135400" y="2666880"/>
            <a:ext cx="40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并联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隶书"/>
              </a:rPr>
              <a:t>在电路两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221440" y="49258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可以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隶书"/>
              </a:rPr>
              <a:t>与电源直接相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1619280" y="49258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不能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隶书"/>
              </a:rPr>
              <a:t>与电源直接相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7"/>
          <p:cNvGrpSpPr/>
          <p:nvPr/>
        </p:nvGrpSpPr>
        <p:grpSpPr>
          <a:xfrm>
            <a:off x="5340240" y="3471840"/>
            <a:ext cx="3624480" cy="1440000"/>
            <a:chOff x="5340240" y="3471840"/>
            <a:chExt cx="3624480" cy="1440000"/>
          </a:xfrm>
        </p:grpSpPr>
        <p:sp>
          <p:nvSpPr>
            <p:cNvPr id="181" name="Text Box 28"/>
            <p:cNvSpPr/>
            <p:nvPr/>
          </p:nvSpPr>
          <p:spPr>
            <a:xfrm>
              <a:off x="5340240" y="3471840"/>
              <a:ext cx="36244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0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～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V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0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～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5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9"/>
            <p:cNvSpPr/>
            <p:nvPr/>
          </p:nvSpPr>
          <p:spPr>
            <a:xfrm>
              <a:off x="5362560" y="348624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Verdana"/>
                  <a:ea typeface="隶书"/>
                </a:rPr>
                <a:t>两个</a:t>
              </a:r>
              <a:r>
                <a:rPr b="1" lang="zh-CN" sz="4000" spc="-1" strike="noStrike">
                  <a:solidFill>
                    <a:srgbClr val="0000ff"/>
                  </a:solidFill>
                  <a:latin typeface="Verdana"/>
                  <a:ea typeface="隶书"/>
                </a:rPr>
                <a:t>量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30"/>
          <p:cNvSpPr/>
          <p:nvPr/>
        </p:nvSpPr>
        <p:spPr>
          <a:xfrm>
            <a:off x="525600" y="3879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  <a:ea typeface="隶书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541440" y="522936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  <a:ea typeface="隶书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1692360" y="26956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串联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隶书"/>
              </a:rPr>
              <a:t>在电路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3"/>
          <p:cNvGrpSpPr/>
          <p:nvPr/>
        </p:nvGrpSpPr>
        <p:grpSpPr>
          <a:xfrm>
            <a:off x="1617840" y="3487680"/>
            <a:ext cx="3890880" cy="1440000"/>
            <a:chOff x="1617840" y="3487680"/>
            <a:chExt cx="3890880" cy="1440000"/>
          </a:xfrm>
        </p:grpSpPr>
        <p:sp>
          <p:nvSpPr>
            <p:cNvPr id="187" name="Text Box 34"/>
            <p:cNvSpPr/>
            <p:nvPr/>
          </p:nvSpPr>
          <p:spPr>
            <a:xfrm>
              <a:off x="1617840" y="3543120"/>
              <a:ext cx="144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Verdana"/>
                  <a:ea typeface="隶书"/>
                </a:rPr>
                <a:t>两个</a:t>
              </a:r>
              <a:r>
                <a:rPr b="1" lang="zh-CN" sz="4000" spc="-1" strike="noStrike">
                  <a:solidFill>
                    <a:srgbClr val="0000ff"/>
                  </a:solidFill>
                  <a:latin typeface="Verdana"/>
                  <a:ea typeface="隶书"/>
                </a:rPr>
                <a:t>量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2340000" y="3487680"/>
              <a:ext cx="31687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0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～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0.6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0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～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36"/>
          <p:cNvSpPr/>
          <p:nvPr/>
        </p:nvSpPr>
        <p:spPr>
          <a:xfrm>
            <a:off x="1187280" y="6922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隶书"/>
              </a:rPr>
              <a:t>电压表与电流表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隶书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不同点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隶书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406"/>
          <p:cNvPicPr/>
          <p:nvPr/>
        </p:nvPicPr>
        <p:blipFill>
          <a:blip r:embed="rId1"/>
          <a:stretch/>
        </p:blipFill>
        <p:spPr>
          <a:xfrm>
            <a:off x="250920" y="1125360"/>
            <a:ext cx="8604000" cy="5354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3964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47640" y="1897200"/>
            <a:ext cx="3754440" cy="414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4824360" y="1881360"/>
            <a:ext cx="3665520" cy="4149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539640" y="97632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两个表的读数各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539640" y="60580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量程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0~3 V   1.6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5081760" y="607860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量程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0~15 V   8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"/>
          <p:cNvSpPr/>
          <p:nvPr/>
        </p:nvSpPr>
        <p:spPr>
          <a:xfrm>
            <a:off x="886680" y="291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284720" y="1303200"/>
            <a:ext cx="4390920" cy="1981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250920" y="4752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按所画电路元件，用导线将电路连接起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3995640" y="1620720"/>
            <a:ext cx="4521240" cy="1447920"/>
            <a:chOff x="3995640" y="1620720"/>
            <a:chExt cx="4521240" cy="1447920"/>
          </a:xfrm>
        </p:grpSpPr>
        <p:sp>
          <p:nvSpPr>
            <p:cNvPr id="88" name="Freeform 6"/>
            <p:cNvSpPr/>
            <p:nvPr/>
          </p:nvSpPr>
          <p:spPr>
            <a:xfrm>
              <a:off x="7089480" y="1620720"/>
              <a:ext cx="1427400" cy="1447920"/>
            </a:xfrm>
            <a:custGeom>
              <a:avLst/>
              <a:gdLst/>
              <a:ahLst/>
              <a:rect l="l" t="t" r="r" b="b"/>
              <a:pathLst>
                <a:path w="899" h="912">
                  <a:moveTo>
                    <a:pt x="0" y="0"/>
                  </a:moveTo>
                  <a:cubicBezTo>
                    <a:pt x="160" y="33"/>
                    <a:pt x="321" y="65"/>
                    <a:pt x="480" y="106"/>
                  </a:cubicBezTo>
                  <a:cubicBezTo>
                    <a:pt x="511" y="126"/>
                    <a:pt x="543" y="138"/>
                    <a:pt x="576" y="154"/>
                  </a:cubicBezTo>
                  <a:cubicBezTo>
                    <a:pt x="614" y="173"/>
                    <a:pt x="641" y="198"/>
                    <a:pt x="681" y="211"/>
                  </a:cubicBezTo>
                  <a:cubicBezTo>
                    <a:pt x="734" y="251"/>
                    <a:pt x="890" y="348"/>
                    <a:pt x="893" y="432"/>
                  </a:cubicBezTo>
                  <a:cubicBezTo>
                    <a:pt x="899" y="592"/>
                    <a:pt x="893" y="752"/>
                    <a:pt x="893" y="9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7"/>
            <p:cNvSpPr/>
            <p:nvPr/>
          </p:nvSpPr>
          <p:spPr>
            <a:xfrm>
              <a:off x="5351400" y="2809800"/>
              <a:ext cx="2361960" cy="212760"/>
            </a:xfrm>
            <a:custGeom>
              <a:avLst/>
              <a:gdLst/>
              <a:ahLst/>
              <a:rect l="l" t="t" r="r" b="b"/>
              <a:pathLst>
                <a:path w="1488" h="134">
                  <a:moveTo>
                    <a:pt x="1488" y="67"/>
                  </a:moveTo>
                  <a:cubicBezTo>
                    <a:pt x="1443" y="64"/>
                    <a:pt x="1399" y="62"/>
                    <a:pt x="1354" y="57"/>
                  </a:cubicBezTo>
                  <a:cubicBezTo>
                    <a:pt x="1318" y="53"/>
                    <a:pt x="1304" y="41"/>
                    <a:pt x="1268" y="29"/>
                  </a:cubicBezTo>
                  <a:cubicBezTo>
                    <a:pt x="1219" y="13"/>
                    <a:pt x="1165" y="8"/>
                    <a:pt x="1114" y="0"/>
                  </a:cubicBezTo>
                  <a:cubicBezTo>
                    <a:pt x="784" y="3"/>
                    <a:pt x="455" y="0"/>
                    <a:pt x="125" y="9"/>
                  </a:cubicBezTo>
                  <a:cubicBezTo>
                    <a:pt x="116" y="9"/>
                    <a:pt x="114" y="24"/>
                    <a:pt x="106" y="29"/>
                  </a:cubicBezTo>
                  <a:cubicBezTo>
                    <a:pt x="88" y="40"/>
                    <a:pt x="67" y="48"/>
                    <a:pt x="48" y="57"/>
                  </a:cubicBezTo>
                  <a:cubicBezTo>
                    <a:pt x="8" y="99"/>
                    <a:pt x="47" y="53"/>
                    <a:pt x="20" y="105"/>
                  </a:cubicBezTo>
                  <a:cubicBezTo>
                    <a:pt x="15" y="115"/>
                    <a:pt x="0" y="134"/>
                    <a:pt x="0" y="1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8"/>
            <p:cNvSpPr/>
            <p:nvPr/>
          </p:nvSpPr>
          <p:spPr>
            <a:xfrm>
              <a:off x="3995640" y="1650960"/>
              <a:ext cx="2001600" cy="1387440"/>
            </a:xfrm>
            <a:custGeom>
              <a:avLst/>
              <a:gdLst/>
              <a:ahLst/>
              <a:rect l="l" t="t" r="r" b="b"/>
              <a:pathLst>
                <a:path w="1261" h="874">
                  <a:moveTo>
                    <a:pt x="307" y="874"/>
                  </a:moveTo>
                  <a:cubicBezTo>
                    <a:pt x="259" y="871"/>
                    <a:pt x="210" y="872"/>
                    <a:pt x="163" y="864"/>
                  </a:cubicBezTo>
                  <a:cubicBezTo>
                    <a:pt x="144" y="861"/>
                    <a:pt x="103" y="813"/>
                    <a:pt x="96" y="807"/>
                  </a:cubicBezTo>
                  <a:cubicBezTo>
                    <a:pt x="49" y="765"/>
                    <a:pt x="21" y="733"/>
                    <a:pt x="0" y="672"/>
                  </a:cubicBezTo>
                  <a:cubicBezTo>
                    <a:pt x="3" y="614"/>
                    <a:pt x="2" y="556"/>
                    <a:pt x="10" y="499"/>
                  </a:cubicBezTo>
                  <a:cubicBezTo>
                    <a:pt x="14" y="474"/>
                    <a:pt x="54" y="455"/>
                    <a:pt x="67" y="442"/>
                  </a:cubicBezTo>
                  <a:cubicBezTo>
                    <a:pt x="101" y="407"/>
                    <a:pt x="128" y="362"/>
                    <a:pt x="163" y="327"/>
                  </a:cubicBezTo>
                  <a:cubicBezTo>
                    <a:pt x="194" y="296"/>
                    <a:pt x="253" y="273"/>
                    <a:pt x="288" y="250"/>
                  </a:cubicBezTo>
                  <a:cubicBezTo>
                    <a:pt x="298" y="244"/>
                    <a:pt x="317" y="231"/>
                    <a:pt x="317" y="231"/>
                  </a:cubicBezTo>
                  <a:cubicBezTo>
                    <a:pt x="370" y="160"/>
                    <a:pt x="438" y="161"/>
                    <a:pt x="518" y="135"/>
                  </a:cubicBezTo>
                  <a:cubicBezTo>
                    <a:pt x="670" y="11"/>
                    <a:pt x="956" y="52"/>
                    <a:pt x="1114" y="48"/>
                  </a:cubicBezTo>
                  <a:cubicBezTo>
                    <a:pt x="1143" y="41"/>
                    <a:pt x="1172" y="37"/>
                    <a:pt x="1200" y="29"/>
                  </a:cubicBezTo>
                  <a:cubicBezTo>
                    <a:pt x="1261" y="12"/>
                    <a:pt x="1258" y="30"/>
                    <a:pt x="12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9"/>
          <p:cNvSpPr/>
          <p:nvPr/>
        </p:nvSpPr>
        <p:spPr>
          <a:xfrm>
            <a:off x="216000" y="3231000"/>
            <a:ext cx="9432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干电池，闭合开关，灯泡还会发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吗？为什么这种情况下电路中不能形成电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源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60640" y="6058080"/>
            <a:ext cx="9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0" y="1714680"/>
            <a:ext cx="3124080" cy="4219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2987640" y="1825560"/>
            <a:ext cx="3057480" cy="4124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6039000" y="1857240"/>
            <a:ext cx="3066840" cy="4086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"/>
          <p:cNvSpPr/>
          <p:nvPr/>
        </p:nvSpPr>
        <p:spPr>
          <a:xfrm>
            <a:off x="431640" y="54936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三个表的读数各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4035600" y="6058080"/>
            <a:ext cx="12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2.5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7343640" y="60580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2\人教教参资源\九\图\铡刀开关.JPG"/>
          <p:cNvPicPr/>
          <p:nvPr/>
        </p:nvPicPr>
        <p:blipFill>
          <a:blip r:embed="rId1"/>
          <a:stretch/>
        </p:blipFill>
        <p:spPr>
          <a:xfrm>
            <a:off x="1919160" y="2813040"/>
            <a:ext cx="1527480" cy="974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:\2\人教教参资源\九\图\小灯泡.JPG"/>
          <p:cNvPicPr/>
          <p:nvPr/>
        </p:nvPicPr>
        <p:blipFill>
          <a:blip r:embed="rId2"/>
          <a:stretch/>
        </p:blipFill>
        <p:spPr>
          <a:xfrm>
            <a:off x="5392800" y="4473720"/>
            <a:ext cx="1627200" cy="1135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H:\2\人教教参资源\九\图\电压表.JPG"/>
          <p:cNvPicPr/>
          <p:nvPr/>
        </p:nvPicPr>
        <p:blipFill>
          <a:blip r:embed="rId3"/>
          <a:stretch/>
        </p:blipFill>
        <p:spPr>
          <a:xfrm>
            <a:off x="5235480" y="2417760"/>
            <a:ext cx="1712880" cy="1743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H:\2\人教教参资源\九\图\电池组.JPG"/>
          <p:cNvPicPr/>
          <p:nvPr/>
        </p:nvPicPr>
        <p:blipFill>
          <a:blip r:embed="rId4"/>
          <a:stretch/>
        </p:blipFill>
        <p:spPr>
          <a:xfrm>
            <a:off x="1908000" y="4761000"/>
            <a:ext cx="2109960" cy="831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"/>
          <p:cNvSpPr/>
          <p:nvPr/>
        </p:nvSpPr>
        <p:spPr>
          <a:xfrm>
            <a:off x="426960" y="709560"/>
            <a:ext cx="802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连接电路，使小灯泡发光并且用电压表测量小灯泡两端的电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33"/>
          <p:cNvSpPr/>
          <p:nvPr/>
        </p:nvSpPr>
        <p:spPr>
          <a:xfrm>
            <a:off x="3132000" y="3471840"/>
            <a:ext cx="2617920" cy="1846440"/>
          </a:xfrm>
          <a:custGeom>
            <a:avLst/>
            <a:gdLst/>
            <a:ahLst/>
            <a:rect l="l" t="t" r="r" b="b"/>
            <a:pathLst>
              <a:path w="2476988" h="1847408">
                <a:moveTo>
                  <a:pt x="0" y="0"/>
                </a:moveTo>
                <a:cubicBezTo>
                  <a:pt x="56388" y="4572"/>
                  <a:pt x="112776" y="9144"/>
                  <a:pt x="256032" y="91440"/>
                </a:cubicBezTo>
                <a:cubicBezTo>
                  <a:pt x="399288" y="173736"/>
                  <a:pt x="637032" y="320040"/>
                  <a:pt x="859536" y="493776"/>
                </a:cubicBezTo>
                <a:cubicBezTo>
                  <a:pt x="1082040" y="667512"/>
                  <a:pt x="1371600" y="914400"/>
                  <a:pt x="1591056" y="1133856"/>
                </a:cubicBezTo>
                <a:cubicBezTo>
                  <a:pt x="1810512" y="1353312"/>
                  <a:pt x="2033016" y="1706880"/>
                  <a:pt x="2176272" y="1810512"/>
                </a:cubicBezTo>
                <a:cubicBezTo>
                  <a:pt x="2319528" y="1914144"/>
                  <a:pt x="2404872" y="1767840"/>
                  <a:pt x="2450592" y="1755648"/>
                </a:cubicBezTo>
                <a:cubicBezTo>
                  <a:pt x="2496312" y="1743456"/>
                  <a:pt x="2473452" y="1740408"/>
                  <a:pt x="2450592" y="1737360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34"/>
          <p:cNvSpPr/>
          <p:nvPr/>
        </p:nvSpPr>
        <p:spPr>
          <a:xfrm>
            <a:off x="2082960" y="3435480"/>
            <a:ext cx="2172960" cy="1882800"/>
          </a:xfrm>
          <a:custGeom>
            <a:avLst/>
            <a:gdLst/>
            <a:ahLst/>
            <a:rect l="l" t="t" r="r" b="b"/>
            <a:pathLst>
              <a:path w="2173730" h="1883299">
                <a:moveTo>
                  <a:pt x="240179" y="0"/>
                </a:moveTo>
                <a:cubicBezTo>
                  <a:pt x="119783" y="280416"/>
                  <a:pt x="-61573" y="682752"/>
                  <a:pt x="20723" y="841248"/>
                </a:cubicBezTo>
                <a:cubicBezTo>
                  <a:pt x="103019" y="999744"/>
                  <a:pt x="413915" y="886968"/>
                  <a:pt x="733955" y="950976"/>
                </a:cubicBezTo>
                <a:cubicBezTo>
                  <a:pt x="1053995" y="1014984"/>
                  <a:pt x="1703219" y="1085088"/>
                  <a:pt x="1940963" y="1225296"/>
                </a:cubicBezTo>
                <a:cubicBezTo>
                  <a:pt x="2178707" y="1365504"/>
                  <a:pt x="2193947" y="1688592"/>
                  <a:pt x="2160419" y="1792224"/>
                </a:cubicBezTo>
                <a:cubicBezTo>
                  <a:pt x="2126891" y="1895856"/>
                  <a:pt x="1809899" y="1906524"/>
                  <a:pt x="1739795" y="1847088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35"/>
          <p:cNvSpPr/>
          <p:nvPr/>
        </p:nvSpPr>
        <p:spPr>
          <a:xfrm>
            <a:off x="2011320" y="5245200"/>
            <a:ext cx="5183280" cy="1206360"/>
          </a:xfrm>
          <a:custGeom>
            <a:avLst/>
            <a:gdLst/>
            <a:ahLst/>
            <a:rect l="l" t="t" r="r" b="b"/>
            <a:pathLst>
              <a:path w="5182954" h="1206101">
                <a:moveTo>
                  <a:pt x="0" y="0"/>
                </a:moveTo>
                <a:cubicBezTo>
                  <a:pt x="96012" y="335280"/>
                  <a:pt x="192024" y="670560"/>
                  <a:pt x="438912" y="859536"/>
                </a:cubicBezTo>
                <a:cubicBezTo>
                  <a:pt x="685800" y="1048512"/>
                  <a:pt x="1008888" y="1078992"/>
                  <a:pt x="1481328" y="1133856"/>
                </a:cubicBezTo>
                <a:cubicBezTo>
                  <a:pt x="1953768" y="1188720"/>
                  <a:pt x="2697480" y="1231392"/>
                  <a:pt x="3273552" y="1188720"/>
                </a:cubicBezTo>
                <a:cubicBezTo>
                  <a:pt x="3849624" y="1146048"/>
                  <a:pt x="4620768" y="1005840"/>
                  <a:pt x="4937760" y="877824"/>
                </a:cubicBezTo>
                <a:cubicBezTo>
                  <a:pt x="5254752" y="749808"/>
                  <a:pt x="5172456" y="554736"/>
                  <a:pt x="5175504" y="420624"/>
                </a:cubicBezTo>
                <a:cubicBezTo>
                  <a:pt x="5178552" y="286512"/>
                  <a:pt x="5047488" y="140208"/>
                  <a:pt x="4956048" y="73152"/>
                </a:cubicBezTo>
                <a:cubicBezTo>
                  <a:pt x="4864608" y="6096"/>
                  <a:pt x="4745736" y="12192"/>
                  <a:pt x="4626864" y="18288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7"/>
          <p:cNvSpPr/>
          <p:nvPr/>
        </p:nvSpPr>
        <p:spPr>
          <a:xfrm>
            <a:off x="6378480" y="3672000"/>
            <a:ext cx="828720" cy="1601640"/>
          </a:xfrm>
          <a:custGeom>
            <a:avLst/>
            <a:gdLst/>
            <a:ahLst/>
            <a:rect l="l" t="t" r="r" b="b"/>
            <a:pathLst>
              <a:path w="829309" h="1601828">
                <a:moveTo>
                  <a:pt x="22904" y="36955"/>
                </a:moveTo>
                <a:cubicBezTo>
                  <a:pt x="-3004" y="4951"/>
                  <a:pt x="-28912" y="-27053"/>
                  <a:pt x="77768" y="36955"/>
                </a:cubicBezTo>
                <a:cubicBezTo>
                  <a:pt x="184448" y="100963"/>
                  <a:pt x="538016" y="250315"/>
                  <a:pt x="662984" y="421003"/>
                </a:cubicBezTo>
                <a:cubicBezTo>
                  <a:pt x="787952" y="591691"/>
                  <a:pt x="839768" y="899539"/>
                  <a:pt x="827576" y="1061083"/>
                </a:cubicBezTo>
                <a:cubicBezTo>
                  <a:pt x="815384" y="1222627"/>
                  <a:pt x="659936" y="1301875"/>
                  <a:pt x="589832" y="1390267"/>
                </a:cubicBezTo>
                <a:cubicBezTo>
                  <a:pt x="519728" y="1478659"/>
                  <a:pt x="461816" y="1564003"/>
                  <a:pt x="406952" y="1591435"/>
                </a:cubicBezTo>
                <a:cubicBezTo>
                  <a:pt x="352088" y="1618867"/>
                  <a:pt x="306368" y="1586863"/>
                  <a:pt x="260648" y="1554859"/>
                </a:cubicBezTo>
              </a:path>
            </a:pathLst>
          </a:custGeom>
          <a:noFill/>
          <a:ln w="57240">
            <a:solidFill>
              <a:srgbClr val="3333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36"/>
          <p:cNvSpPr/>
          <p:nvPr/>
        </p:nvSpPr>
        <p:spPr>
          <a:xfrm>
            <a:off x="5419800" y="3608280"/>
            <a:ext cx="304560" cy="1609920"/>
          </a:xfrm>
          <a:custGeom>
            <a:avLst/>
            <a:gdLst/>
            <a:ahLst/>
            <a:rect l="l" t="t" r="r" b="b"/>
            <a:pathLst>
              <a:path w="304392" h="1609344">
                <a:moveTo>
                  <a:pt x="284623" y="0"/>
                </a:moveTo>
                <a:cubicBezTo>
                  <a:pt x="179467" y="150876"/>
                  <a:pt x="74311" y="301752"/>
                  <a:pt x="28591" y="420624"/>
                </a:cubicBezTo>
                <a:cubicBezTo>
                  <a:pt x="-17129" y="539496"/>
                  <a:pt x="4207" y="621792"/>
                  <a:pt x="10303" y="713232"/>
                </a:cubicBezTo>
                <a:cubicBezTo>
                  <a:pt x="16399" y="804672"/>
                  <a:pt x="37735" y="880872"/>
                  <a:pt x="65167" y="969264"/>
                </a:cubicBezTo>
                <a:cubicBezTo>
                  <a:pt x="92599" y="1057656"/>
                  <a:pt x="135271" y="1167384"/>
                  <a:pt x="174895" y="1243584"/>
                </a:cubicBezTo>
                <a:cubicBezTo>
                  <a:pt x="214519" y="1319784"/>
                  <a:pt x="290719" y="1365504"/>
                  <a:pt x="302911" y="1426464"/>
                </a:cubicBezTo>
                <a:cubicBezTo>
                  <a:pt x="315103" y="1487424"/>
                  <a:pt x="248047" y="1609344"/>
                  <a:pt x="248047" y="1609344"/>
                </a:cubicBezTo>
              </a:path>
            </a:pathLst>
          </a:custGeom>
          <a:noFill/>
          <a:ln w="57240">
            <a:solidFill>
              <a:srgbClr val="3333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458640" y="5954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画出对应的电路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"/>
          <p:cNvGrpSpPr/>
          <p:nvPr/>
        </p:nvGrpSpPr>
        <p:grpSpPr>
          <a:xfrm>
            <a:off x="5548320" y="2362320"/>
            <a:ext cx="2844720" cy="2850840"/>
            <a:chOff x="5548320" y="2362320"/>
            <a:chExt cx="2844720" cy="2850840"/>
          </a:xfrm>
        </p:grpSpPr>
        <p:grpSp>
          <p:nvGrpSpPr>
            <p:cNvPr id="217" name="Group 15"/>
            <p:cNvGrpSpPr/>
            <p:nvPr/>
          </p:nvGrpSpPr>
          <p:grpSpPr>
            <a:xfrm>
              <a:off x="6084720" y="2638440"/>
              <a:ext cx="1665720" cy="853920"/>
              <a:chOff x="6084720" y="2638440"/>
              <a:chExt cx="1665720" cy="853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084720" y="2638440"/>
                <a:ext cx="1665360" cy="360"/>
                <a:chOff x="6084720" y="2638440"/>
                <a:chExt cx="1665360" cy="360"/>
              </a:xfrm>
            </p:grpSpPr>
            <p:sp>
              <p:nvSpPr>
                <p:cNvPr id="219" name="Line 7"/>
                <p:cNvSpPr/>
                <p:nvPr/>
              </p:nvSpPr>
              <p:spPr>
                <a:xfrm>
                  <a:off x="6084720" y="2638440"/>
                  <a:ext cx="166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 txBox="1"/>
                <p:nvPr/>
              </p:nvSpPr>
              <p:spPr>
                <a:xfrm>
                  <a:off x="6084720" y="2638440"/>
                  <a:ext cx="166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084720" y="2638440"/>
                <a:ext cx="360" cy="853920"/>
                <a:chOff x="6084720" y="2638440"/>
                <a:chExt cx="360" cy="853920"/>
              </a:xfrm>
            </p:grpSpPr>
            <p:sp>
              <p:nvSpPr>
                <p:cNvPr id="222" name="Line 8"/>
                <p:cNvSpPr/>
                <p:nvPr/>
              </p:nvSpPr>
              <p:spPr>
                <a:xfrm>
                  <a:off x="6084720" y="2638440"/>
                  <a:ext cx="0" cy="85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 txBox="1"/>
                <p:nvPr/>
              </p:nvSpPr>
              <p:spPr>
                <a:xfrm>
                  <a:off x="6084720" y="2638440"/>
                  <a:ext cx="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750080" y="2638440"/>
                <a:ext cx="360" cy="853920"/>
                <a:chOff x="7750080" y="2638440"/>
                <a:chExt cx="360" cy="853920"/>
              </a:xfrm>
            </p:grpSpPr>
            <p:sp>
              <p:nvSpPr>
                <p:cNvPr id="225" name="Line 9"/>
                <p:cNvSpPr/>
                <p:nvPr/>
              </p:nvSpPr>
              <p:spPr>
                <a:xfrm>
                  <a:off x="7750080" y="2638440"/>
                  <a:ext cx="0" cy="85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7750080" y="2638440"/>
                  <a:ext cx="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Group 19"/>
            <p:cNvGrpSpPr/>
            <p:nvPr/>
          </p:nvGrpSpPr>
          <p:grpSpPr>
            <a:xfrm>
              <a:off x="6675480" y="2362320"/>
              <a:ext cx="541440" cy="539640"/>
              <a:chOff x="6675480" y="2362320"/>
              <a:chExt cx="541440" cy="539640"/>
            </a:xfrm>
          </p:grpSpPr>
          <p:sp>
            <p:nvSpPr>
              <p:cNvPr id="228" name="Oval 190"/>
              <p:cNvSpPr/>
              <p:nvPr/>
            </p:nvSpPr>
            <p:spPr>
              <a:xfrm>
                <a:off x="6675480" y="2362320"/>
                <a:ext cx="541440" cy="539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91"/>
              <p:cNvSpPr/>
              <p:nvPr/>
            </p:nvSpPr>
            <p:spPr>
              <a:xfrm>
                <a:off x="6719760" y="2362320"/>
                <a:ext cx="49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2"/>
            <p:cNvGrpSpPr/>
            <p:nvPr/>
          </p:nvGrpSpPr>
          <p:grpSpPr>
            <a:xfrm>
              <a:off x="5548320" y="3246480"/>
              <a:ext cx="2844720" cy="1966680"/>
              <a:chOff x="5548320" y="3246480"/>
              <a:chExt cx="2844720" cy="1966680"/>
            </a:xfrm>
          </p:grpSpPr>
          <p:sp>
            <p:nvSpPr>
              <p:cNvPr id="231" name="Rectangle 23"/>
              <p:cNvSpPr/>
              <p:nvPr/>
            </p:nvSpPr>
            <p:spPr>
              <a:xfrm>
                <a:off x="5548320" y="3487680"/>
                <a:ext cx="2844720" cy="1476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Group 24"/>
              <p:cNvGrpSpPr/>
              <p:nvPr/>
            </p:nvGrpSpPr>
            <p:grpSpPr>
              <a:xfrm>
                <a:off x="6335640" y="4673520"/>
                <a:ext cx="135360" cy="539640"/>
                <a:chOff x="6335640" y="4673520"/>
                <a:chExt cx="135360" cy="539640"/>
              </a:xfrm>
            </p:grpSpPr>
            <p:sp>
              <p:nvSpPr>
                <p:cNvPr id="233" name="Rectangle 19"/>
                <p:cNvSpPr/>
                <p:nvPr/>
              </p:nvSpPr>
              <p:spPr>
                <a:xfrm>
                  <a:off x="6335640" y="4852800"/>
                  <a:ext cx="135000" cy="13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6335640" y="4673520"/>
                  <a:ext cx="360" cy="539640"/>
                  <a:chOff x="6335640" y="4673520"/>
                  <a:chExt cx="360" cy="539640"/>
                </a:xfrm>
              </p:grpSpPr>
              <p:sp>
                <p:nvSpPr>
                  <p:cNvPr id="235" name="Line 20"/>
                  <p:cNvSpPr/>
                  <p:nvPr/>
                </p:nvSpPr>
                <p:spPr>
                  <a:xfrm>
                    <a:off x="6335640" y="4673520"/>
                    <a:ext cx="0" cy="53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 txBox="1"/>
                  <p:nvPr/>
                </p:nvSpPr>
                <p:spPr>
                  <a:xfrm>
                    <a:off x="6335640" y="4673520"/>
                    <a:ext cx="360" cy="539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6470640" y="4808520"/>
                  <a:ext cx="360" cy="269640"/>
                  <a:chOff x="6470640" y="4808520"/>
                  <a:chExt cx="360" cy="269640"/>
                </a:xfrm>
              </p:grpSpPr>
              <p:sp>
                <p:nvSpPr>
                  <p:cNvPr id="238" name="Line 21"/>
                  <p:cNvSpPr/>
                  <p:nvPr/>
                </p:nvSpPr>
                <p:spPr>
                  <a:xfrm>
                    <a:off x="6470640" y="4808520"/>
                    <a:ext cx="0" cy="269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>
                    <a:off x="6470640" y="4808520"/>
                    <a:ext cx="360" cy="269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Group 28"/>
              <p:cNvGrpSpPr/>
              <p:nvPr/>
            </p:nvGrpSpPr>
            <p:grpSpPr>
              <a:xfrm>
                <a:off x="7472520" y="4785840"/>
                <a:ext cx="448920" cy="270000"/>
                <a:chOff x="7472520" y="4785840"/>
                <a:chExt cx="448920" cy="270000"/>
              </a:xfrm>
            </p:grpSpPr>
            <p:sp>
              <p:nvSpPr>
                <p:cNvPr id="241" name="Rectangle 15"/>
                <p:cNvSpPr/>
                <p:nvPr/>
              </p:nvSpPr>
              <p:spPr>
                <a:xfrm>
                  <a:off x="7523280" y="4786200"/>
                  <a:ext cx="396000" cy="269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7523280" y="4785840"/>
                  <a:ext cx="398160" cy="163080"/>
                  <a:chOff x="7523280" y="4785840"/>
                  <a:chExt cx="398160" cy="163080"/>
                </a:xfrm>
              </p:grpSpPr>
              <p:sp>
                <p:nvSpPr>
                  <p:cNvPr id="243" name="Line 16"/>
                  <p:cNvSpPr/>
                  <p:nvPr/>
                </p:nvSpPr>
                <p:spPr>
                  <a:xfrm flipV="1">
                    <a:off x="7523280" y="4785840"/>
                    <a:ext cx="398160" cy="163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 txBox="1"/>
                  <p:nvPr/>
                </p:nvSpPr>
                <p:spPr>
                  <a:xfrm rot="10800000">
                    <a:off x="7523280" y="4785840"/>
                    <a:ext cx="398160" cy="16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Oval 17"/>
                <p:cNvSpPr/>
                <p:nvPr/>
              </p:nvSpPr>
              <p:spPr>
                <a:xfrm>
                  <a:off x="7472520" y="4894200"/>
                  <a:ext cx="99720" cy="106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AutoShape 187"/>
              <p:cNvSpPr/>
              <p:nvPr/>
            </p:nvSpPr>
            <p:spPr>
              <a:xfrm>
                <a:off x="6675480" y="3246480"/>
                <a:ext cx="493560" cy="493560"/>
              </a:xfrm>
              <a:prstGeom prst="flowChartSummingJunction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40"/>
          <p:cNvGrpSpPr/>
          <p:nvPr/>
        </p:nvGrpSpPr>
        <p:grpSpPr>
          <a:xfrm>
            <a:off x="776160" y="1911240"/>
            <a:ext cx="4156200" cy="3533760"/>
            <a:chOff x="776160" y="1911240"/>
            <a:chExt cx="4156200" cy="3533760"/>
          </a:xfrm>
        </p:grpSpPr>
        <p:pic>
          <p:nvPicPr>
            <p:cNvPr id="248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>
              <a:off x="776160" y="2247840"/>
              <a:ext cx="1197720" cy="8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5" descr="H:\2\人教教参资源\九\图\小灯泡.JPG"/>
            <p:cNvPicPr/>
            <p:nvPr/>
          </p:nvPicPr>
          <p:blipFill>
            <a:blip r:embed="rId2"/>
            <a:stretch/>
          </p:blipFill>
          <p:spPr>
            <a:xfrm>
              <a:off x="3474000" y="3699720"/>
              <a:ext cx="127620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" descr="H:\2\人教教参资源\九\图\电压表.JPG"/>
            <p:cNvPicPr/>
            <p:nvPr/>
          </p:nvPicPr>
          <p:blipFill>
            <a:blip r:embed="rId3"/>
            <a:stretch/>
          </p:blipFill>
          <p:spPr>
            <a:xfrm>
              <a:off x="3376800" y="1911240"/>
              <a:ext cx="1343160" cy="15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0" descr="H:\2\人教教参资源\九\图\电池组.JPG"/>
            <p:cNvPicPr/>
            <p:nvPr/>
          </p:nvPicPr>
          <p:blipFill>
            <a:blip r:embed="rId4"/>
            <a:stretch/>
          </p:blipFill>
          <p:spPr>
            <a:xfrm>
              <a:off x="776160" y="3965760"/>
              <a:ext cx="165456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任意多边形 6"/>
            <p:cNvSpPr/>
            <p:nvPr/>
          </p:nvSpPr>
          <p:spPr>
            <a:xfrm>
              <a:off x="1736280" y="2832480"/>
              <a:ext cx="2053800" cy="1619280"/>
            </a:xfrm>
            <a:custGeom>
              <a:avLst/>
              <a:gdLst/>
              <a:ahLst/>
              <a:rect l="l" t="t" r="r" b="b"/>
              <a:pathLst>
                <a:path w="2476988" h="1847408">
                  <a:moveTo>
                    <a:pt x="0" y="0"/>
                  </a:moveTo>
                  <a:cubicBezTo>
                    <a:pt x="56388" y="4572"/>
                    <a:pt x="112776" y="9144"/>
                    <a:pt x="256032" y="91440"/>
                  </a:cubicBezTo>
                  <a:cubicBezTo>
                    <a:pt x="399288" y="173736"/>
                    <a:pt x="637032" y="320040"/>
                    <a:pt x="859536" y="493776"/>
                  </a:cubicBezTo>
                  <a:cubicBezTo>
                    <a:pt x="1082040" y="667512"/>
                    <a:pt x="1371600" y="914400"/>
                    <a:pt x="1591056" y="1133856"/>
                  </a:cubicBezTo>
                  <a:cubicBezTo>
                    <a:pt x="1810512" y="1353312"/>
                    <a:pt x="2033016" y="1706880"/>
                    <a:pt x="2176272" y="1810512"/>
                  </a:cubicBezTo>
                  <a:cubicBezTo>
                    <a:pt x="2319528" y="1914144"/>
                    <a:pt x="2404872" y="1767840"/>
                    <a:pt x="2450592" y="1755648"/>
                  </a:cubicBezTo>
                  <a:cubicBezTo>
                    <a:pt x="2496312" y="1743456"/>
                    <a:pt x="2473452" y="1740408"/>
                    <a:pt x="2450592" y="1737360"/>
                  </a:cubicBezTo>
                </a:path>
              </a:pathLst>
            </a:custGeom>
            <a:noFill/>
            <a:ln w="572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7"/>
            <p:cNvSpPr/>
            <p:nvPr/>
          </p:nvSpPr>
          <p:spPr>
            <a:xfrm>
              <a:off x="912960" y="2800440"/>
              <a:ext cx="1704600" cy="1650960"/>
            </a:xfrm>
            <a:custGeom>
              <a:avLst/>
              <a:gdLst/>
              <a:ahLst/>
              <a:rect l="l" t="t" r="r" b="b"/>
              <a:pathLst>
                <a:path w="2173730" h="1883299">
                  <a:moveTo>
                    <a:pt x="240179" y="0"/>
                  </a:moveTo>
                  <a:cubicBezTo>
                    <a:pt x="119783" y="280416"/>
                    <a:pt x="-61573" y="682752"/>
                    <a:pt x="20723" y="841248"/>
                  </a:cubicBezTo>
                  <a:cubicBezTo>
                    <a:pt x="103019" y="999744"/>
                    <a:pt x="413915" y="886968"/>
                    <a:pt x="733955" y="950976"/>
                  </a:cubicBezTo>
                  <a:cubicBezTo>
                    <a:pt x="1053995" y="1014984"/>
                    <a:pt x="1703219" y="1085088"/>
                    <a:pt x="1940963" y="1225296"/>
                  </a:cubicBezTo>
                  <a:cubicBezTo>
                    <a:pt x="2178707" y="1365504"/>
                    <a:pt x="2193947" y="1688592"/>
                    <a:pt x="2160419" y="1792224"/>
                  </a:cubicBezTo>
                  <a:cubicBezTo>
                    <a:pt x="2126891" y="1895856"/>
                    <a:pt x="1809899" y="1906524"/>
                    <a:pt x="1739795" y="1847088"/>
                  </a:cubicBezTo>
                </a:path>
              </a:pathLst>
            </a:custGeom>
            <a:noFill/>
            <a:ln w="572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8"/>
            <p:cNvSpPr/>
            <p:nvPr/>
          </p:nvSpPr>
          <p:spPr>
            <a:xfrm>
              <a:off x="857520" y="4387680"/>
              <a:ext cx="4065120" cy="1057320"/>
            </a:xfrm>
            <a:custGeom>
              <a:avLst/>
              <a:gdLst/>
              <a:ahLst/>
              <a:rect l="l" t="t" r="r" b="b"/>
              <a:pathLst>
                <a:path w="5182954" h="1206101">
                  <a:moveTo>
                    <a:pt x="0" y="0"/>
                  </a:moveTo>
                  <a:cubicBezTo>
                    <a:pt x="96012" y="335280"/>
                    <a:pt x="192024" y="670560"/>
                    <a:pt x="438912" y="859536"/>
                  </a:cubicBezTo>
                  <a:cubicBezTo>
                    <a:pt x="685800" y="1048512"/>
                    <a:pt x="1008888" y="1078992"/>
                    <a:pt x="1481328" y="1133856"/>
                  </a:cubicBezTo>
                  <a:cubicBezTo>
                    <a:pt x="1953768" y="1188720"/>
                    <a:pt x="2697480" y="1231392"/>
                    <a:pt x="3273552" y="1188720"/>
                  </a:cubicBezTo>
                  <a:cubicBezTo>
                    <a:pt x="3849624" y="1146048"/>
                    <a:pt x="4620768" y="1005840"/>
                    <a:pt x="4937760" y="877824"/>
                  </a:cubicBezTo>
                  <a:cubicBezTo>
                    <a:pt x="5254752" y="749808"/>
                    <a:pt x="5172456" y="554736"/>
                    <a:pt x="5175504" y="420624"/>
                  </a:cubicBezTo>
                  <a:cubicBezTo>
                    <a:pt x="5178552" y="286512"/>
                    <a:pt x="5047488" y="140208"/>
                    <a:pt x="4956048" y="73152"/>
                  </a:cubicBezTo>
                  <a:cubicBezTo>
                    <a:pt x="4864608" y="6096"/>
                    <a:pt x="4745736" y="12192"/>
                    <a:pt x="4626864" y="18288"/>
                  </a:cubicBezTo>
                </a:path>
              </a:pathLst>
            </a:custGeom>
            <a:noFill/>
            <a:ln w="572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9"/>
            <p:cNvSpPr/>
            <p:nvPr/>
          </p:nvSpPr>
          <p:spPr>
            <a:xfrm>
              <a:off x="3517560" y="3025080"/>
              <a:ext cx="238680" cy="1410840"/>
            </a:xfrm>
            <a:custGeom>
              <a:avLst/>
              <a:gdLst/>
              <a:ahLst/>
              <a:rect l="l" t="t" r="r" b="b"/>
              <a:pathLst>
                <a:path w="304392" h="1609344">
                  <a:moveTo>
                    <a:pt x="284623" y="0"/>
                  </a:moveTo>
                  <a:cubicBezTo>
                    <a:pt x="179467" y="150876"/>
                    <a:pt x="74311" y="301752"/>
                    <a:pt x="28591" y="420624"/>
                  </a:cubicBezTo>
                  <a:cubicBezTo>
                    <a:pt x="-17129" y="539496"/>
                    <a:pt x="4207" y="621792"/>
                    <a:pt x="10303" y="713232"/>
                  </a:cubicBezTo>
                  <a:cubicBezTo>
                    <a:pt x="16399" y="804672"/>
                    <a:pt x="37735" y="880872"/>
                    <a:pt x="65167" y="969264"/>
                  </a:cubicBezTo>
                  <a:cubicBezTo>
                    <a:pt x="92599" y="1057656"/>
                    <a:pt x="135271" y="1167384"/>
                    <a:pt x="174895" y="1243584"/>
                  </a:cubicBezTo>
                  <a:cubicBezTo>
                    <a:pt x="214519" y="1319784"/>
                    <a:pt x="290719" y="1365504"/>
                    <a:pt x="302911" y="1426464"/>
                  </a:cubicBezTo>
                  <a:cubicBezTo>
                    <a:pt x="315103" y="1487424"/>
                    <a:pt x="248047" y="1609344"/>
                    <a:pt x="248047" y="1609344"/>
                  </a:cubicBezTo>
                </a:path>
              </a:pathLst>
            </a:custGeom>
            <a:noFill/>
            <a:ln w="57240">
              <a:solidFill>
                <a:srgbClr val="3333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10"/>
            <p:cNvSpPr/>
            <p:nvPr/>
          </p:nvSpPr>
          <p:spPr>
            <a:xfrm>
              <a:off x="4282200" y="3008520"/>
              <a:ext cx="650160" cy="1404000"/>
            </a:xfrm>
            <a:custGeom>
              <a:avLst/>
              <a:gdLst/>
              <a:ahLst/>
              <a:rect l="l" t="t" r="r" b="b"/>
              <a:pathLst>
                <a:path w="829309" h="1601828">
                  <a:moveTo>
                    <a:pt x="22904" y="36955"/>
                  </a:moveTo>
                  <a:cubicBezTo>
                    <a:pt x="-3004" y="4951"/>
                    <a:pt x="-28912" y="-27053"/>
                    <a:pt x="77768" y="36955"/>
                  </a:cubicBezTo>
                  <a:cubicBezTo>
                    <a:pt x="184448" y="100963"/>
                    <a:pt x="538016" y="250315"/>
                    <a:pt x="662984" y="421003"/>
                  </a:cubicBezTo>
                  <a:cubicBezTo>
                    <a:pt x="787952" y="591691"/>
                    <a:pt x="839768" y="899539"/>
                    <a:pt x="827576" y="1061083"/>
                  </a:cubicBezTo>
                  <a:cubicBezTo>
                    <a:pt x="815384" y="1222627"/>
                    <a:pt x="659936" y="1301875"/>
                    <a:pt x="589832" y="1390267"/>
                  </a:cubicBezTo>
                  <a:cubicBezTo>
                    <a:pt x="519728" y="1478659"/>
                    <a:pt x="461816" y="1564003"/>
                    <a:pt x="406952" y="1591435"/>
                  </a:cubicBezTo>
                  <a:cubicBezTo>
                    <a:pt x="352088" y="1618867"/>
                    <a:pt x="306368" y="1586863"/>
                    <a:pt x="260648" y="1554859"/>
                  </a:cubicBezTo>
                </a:path>
              </a:pathLst>
            </a:custGeom>
            <a:noFill/>
            <a:ln w="57240">
              <a:solidFill>
                <a:srgbClr val="3333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28600" y="20574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所示为用电压表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灯泡两端电压的电路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中正确的是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     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7096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771640" y="2781360"/>
            <a:ext cx="352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Q_013"/>
          <p:cNvPicPr/>
          <p:nvPr/>
        </p:nvPicPr>
        <p:blipFill>
          <a:blip r:embed="rId1"/>
          <a:stretch/>
        </p:blipFill>
        <p:spPr>
          <a:xfrm>
            <a:off x="838080" y="380880"/>
            <a:ext cx="1403640" cy="8096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33336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3434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640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6.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下列各图中电压表分别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 测量的是哪两端电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380880" y="3581280"/>
            <a:ext cx="8534520" cy="3276360"/>
            <a:chOff x="380880" y="3581280"/>
            <a:chExt cx="8534520" cy="3276360"/>
          </a:xfrm>
        </p:grpSpPr>
        <p:sp>
          <p:nvSpPr>
            <p:cNvPr id="265" name="Text Box 4"/>
            <p:cNvSpPr/>
            <p:nvPr/>
          </p:nvSpPr>
          <p:spPr>
            <a:xfrm>
              <a:off x="4227120" y="6439680"/>
              <a:ext cx="6699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5"/>
            <p:cNvGrpSpPr/>
            <p:nvPr/>
          </p:nvGrpSpPr>
          <p:grpSpPr>
            <a:xfrm>
              <a:off x="380880" y="3581280"/>
              <a:ext cx="8534520" cy="2892600"/>
              <a:chOff x="380880" y="3581280"/>
              <a:chExt cx="8534520" cy="2892600"/>
            </a:xfrm>
          </p:grpSpPr>
          <p:grpSp>
            <p:nvGrpSpPr>
              <p:cNvPr id="267" name="Group 6"/>
              <p:cNvGrpSpPr/>
              <p:nvPr/>
            </p:nvGrpSpPr>
            <p:grpSpPr>
              <a:xfrm>
                <a:off x="380880" y="3891960"/>
                <a:ext cx="2045520" cy="2044800"/>
                <a:chOff x="380880" y="3891960"/>
                <a:chExt cx="2045520" cy="2044800"/>
              </a:xfrm>
            </p:grpSpPr>
            <p:sp>
              <p:nvSpPr>
                <p:cNvPr id="268" name="Rectangle 7"/>
                <p:cNvSpPr/>
                <p:nvPr/>
              </p:nvSpPr>
              <p:spPr>
                <a:xfrm>
                  <a:off x="1350720" y="4996800"/>
                  <a:ext cx="846360" cy="517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8"/>
                <p:cNvSpPr/>
                <p:nvPr/>
              </p:nvSpPr>
              <p:spPr>
                <a:xfrm>
                  <a:off x="380880" y="4114080"/>
                  <a:ext cx="2045520" cy="88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Group 9"/>
                <p:cNvGrpSpPr/>
                <p:nvPr/>
              </p:nvGrpSpPr>
              <p:grpSpPr>
                <a:xfrm>
                  <a:off x="902880" y="3891960"/>
                  <a:ext cx="160200" cy="556200"/>
                  <a:chOff x="902880" y="3891960"/>
                  <a:chExt cx="160200" cy="556200"/>
                </a:xfrm>
              </p:grpSpPr>
              <p:sp>
                <p:nvSpPr>
                  <p:cNvPr id="271" name="Rectangle 10"/>
                  <p:cNvSpPr/>
                  <p:nvPr/>
                </p:nvSpPr>
                <p:spPr>
                  <a:xfrm>
                    <a:off x="902880" y="4045320"/>
                    <a:ext cx="140760" cy="249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2" name="Group 11"/>
                  <p:cNvGrpSpPr/>
                  <p:nvPr/>
                </p:nvGrpSpPr>
                <p:grpSpPr>
                  <a:xfrm>
                    <a:off x="902880" y="3891960"/>
                    <a:ext cx="160200" cy="556200"/>
                    <a:chOff x="902880" y="3891960"/>
                    <a:chExt cx="160200" cy="556200"/>
                  </a:xfrm>
                </p:grpSpPr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902880" y="3891960"/>
                      <a:ext cx="360" cy="556200"/>
                      <a:chOff x="902880" y="3891960"/>
                      <a:chExt cx="360" cy="556200"/>
                    </a:xfrm>
                  </p:grpSpPr>
                  <p:sp>
                    <p:nvSpPr>
                      <p:cNvPr id="274" name="Line 12"/>
                      <p:cNvSpPr/>
                      <p:nvPr/>
                    </p:nvSpPr>
                    <p:spPr>
                      <a:xfrm>
                        <a:off x="902880" y="3891960"/>
                        <a:ext cx="0" cy="556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 txBox="1"/>
                      <p:nvPr/>
                    </p:nvSpPr>
                    <p:spPr>
                      <a:xfrm>
                        <a:off x="902880" y="3891960"/>
                        <a:ext cx="360" cy="556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6" name=""/>
                    <p:cNvGrpSpPr/>
                    <p:nvPr/>
                  </p:nvGrpSpPr>
                  <p:grpSpPr>
                    <a:xfrm>
                      <a:off x="1062720" y="4045320"/>
                      <a:ext cx="360" cy="249120"/>
                      <a:chOff x="1062720" y="4045320"/>
                      <a:chExt cx="360" cy="249120"/>
                    </a:xfrm>
                  </p:grpSpPr>
                  <p:sp>
                    <p:nvSpPr>
                      <p:cNvPr id="277" name="Line 13"/>
                      <p:cNvSpPr/>
                      <p:nvPr/>
                    </p:nvSpPr>
                    <p:spPr>
                      <a:xfrm>
                        <a:off x="1062720" y="4045320"/>
                        <a:ext cx="0" cy="24912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"/>
                      <p:cNvSpPr txBox="1"/>
                      <p:nvPr/>
                    </p:nvSpPr>
                    <p:spPr>
                      <a:xfrm>
                        <a:off x="1062720" y="4045320"/>
                        <a:ext cx="360" cy="249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79" name="Group 14"/>
                <p:cNvGrpSpPr/>
                <p:nvPr/>
              </p:nvGrpSpPr>
              <p:grpSpPr>
                <a:xfrm>
                  <a:off x="1635120" y="3891960"/>
                  <a:ext cx="439200" cy="344880"/>
                  <a:chOff x="1635120" y="3891960"/>
                  <a:chExt cx="439200" cy="344880"/>
                </a:xfrm>
              </p:grpSpPr>
              <p:sp>
                <p:nvSpPr>
                  <p:cNvPr id="280" name="Rectangle 15"/>
                  <p:cNvSpPr/>
                  <p:nvPr/>
                </p:nvSpPr>
                <p:spPr>
                  <a:xfrm>
                    <a:off x="1651320" y="3891960"/>
                    <a:ext cx="335880" cy="34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16"/>
                  <p:cNvSpPr/>
                  <p:nvPr/>
                </p:nvSpPr>
                <p:spPr>
                  <a:xfrm>
                    <a:off x="1635120" y="4064040"/>
                    <a:ext cx="70560" cy="95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705680" y="3891960"/>
                    <a:ext cx="368640" cy="229680"/>
                    <a:chOff x="1705680" y="3891960"/>
                    <a:chExt cx="368640" cy="229680"/>
                  </a:xfrm>
                </p:grpSpPr>
                <p:sp>
                  <p:nvSpPr>
                    <p:cNvPr id="283" name="Line 17"/>
                    <p:cNvSpPr/>
                    <p:nvPr/>
                  </p:nvSpPr>
                  <p:spPr>
                    <a:xfrm flipV="1">
                      <a:off x="1705680" y="3891960"/>
                      <a:ext cx="368640" cy="229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 txBox="1"/>
                    <p:nvPr/>
                  </p:nvSpPr>
                  <p:spPr>
                    <a:xfrm rot="10800000">
                      <a:off x="1705680" y="3891960"/>
                      <a:ext cx="36864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85" name="AutoShape 18"/>
                <p:cNvSpPr/>
                <p:nvPr/>
              </p:nvSpPr>
              <p:spPr>
                <a:xfrm>
                  <a:off x="682920" y="4773960"/>
                  <a:ext cx="371520" cy="42192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19"/>
                <p:cNvSpPr/>
                <p:nvPr/>
              </p:nvSpPr>
              <p:spPr>
                <a:xfrm>
                  <a:off x="1564560" y="4812480"/>
                  <a:ext cx="371160" cy="42192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Text Box 20"/>
                <p:cNvSpPr/>
                <p:nvPr/>
              </p:nvSpPr>
              <p:spPr>
                <a:xfrm>
                  <a:off x="753480" y="4424760"/>
                  <a:ext cx="24660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Text Box 21"/>
                <p:cNvSpPr/>
                <p:nvPr/>
              </p:nvSpPr>
              <p:spPr>
                <a:xfrm>
                  <a:off x="1670400" y="4424760"/>
                  <a:ext cx="24696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" name="Group 22"/>
                <p:cNvGrpSpPr/>
                <p:nvPr/>
              </p:nvGrpSpPr>
              <p:grpSpPr>
                <a:xfrm>
                  <a:off x="1544760" y="5284440"/>
                  <a:ext cx="405360" cy="441000"/>
                  <a:chOff x="1544760" y="5284440"/>
                  <a:chExt cx="405360" cy="441000"/>
                </a:xfrm>
              </p:grpSpPr>
              <p:sp>
                <p:nvSpPr>
                  <p:cNvPr id="290" name="Oval 23"/>
                  <p:cNvSpPr/>
                  <p:nvPr/>
                </p:nvSpPr>
                <p:spPr>
                  <a:xfrm>
                    <a:off x="1544760" y="5284440"/>
                    <a:ext cx="405360" cy="441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Text Box 24"/>
                  <p:cNvSpPr/>
                  <p:nvPr/>
                </p:nvSpPr>
                <p:spPr>
                  <a:xfrm>
                    <a:off x="1670400" y="5345280"/>
                    <a:ext cx="246600" cy="36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25"/>
                <p:cNvSpPr/>
                <p:nvPr/>
              </p:nvSpPr>
              <p:spPr>
                <a:xfrm>
                  <a:off x="1335240" y="5556600"/>
                  <a:ext cx="24660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26"/>
                <p:cNvSpPr/>
                <p:nvPr/>
              </p:nvSpPr>
              <p:spPr>
                <a:xfrm>
                  <a:off x="1952640" y="5576040"/>
                  <a:ext cx="24660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Rectangle 27"/>
              <p:cNvSpPr/>
              <p:nvPr/>
            </p:nvSpPr>
            <p:spPr>
              <a:xfrm>
                <a:off x="3854520" y="4920120"/>
                <a:ext cx="846360" cy="51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28"/>
              <p:cNvSpPr/>
              <p:nvPr/>
            </p:nvSpPr>
            <p:spPr>
              <a:xfrm>
                <a:off x="3748680" y="4057200"/>
                <a:ext cx="2045520" cy="88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29"/>
              <p:cNvGrpSpPr/>
              <p:nvPr/>
            </p:nvGrpSpPr>
            <p:grpSpPr>
              <a:xfrm>
                <a:off x="4270680" y="3834720"/>
                <a:ext cx="159840" cy="556200"/>
                <a:chOff x="4270680" y="3834720"/>
                <a:chExt cx="159840" cy="556200"/>
              </a:xfrm>
            </p:grpSpPr>
            <p:sp>
              <p:nvSpPr>
                <p:cNvPr id="297" name="Rectangle 30"/>
                <p:cNvSpPr/>
                <p:nvPr/>
              </p:nvSpPr>
              <p:spPr>
                <a:xfrm>
                  <a:off x="4270680" y="3988080"/>
                  <a:ext cx="140400" cy="249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31"/>
                <p:cNvGrpSpPr/>
                <p:nvPr/>
              </p:nvGrpSpPr>
              <p:grpSpPr>
                <a:xfrm>
                  <a:off x="4270680" y="3834720"/>
                  <a:ext cx="159840" cy="556200"/>
                  <a:chOff x="4270680" y="3834720"/>
                  <a:chExt cx="159840" cy="556200"/>
                </a:xfrm>
              </p:grpSpPr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4270680" y="3834720"/>
                    <a:ext cx="360" cy="556200"/>
                    <a:chOff x="4270680" y="3834720"/>
                    <a:chExt cx="360" cy="556200"/>
                  </a:xfrm>
                </p:grpSpPr>
                <p:sp>
                  <p:nvSpPr>
                    <p:cNvPr id="300" name="Line 32"/>
                    <p:cNvSpPr/>
                    <p:nvPr/>
                  </p:nvSpPr>
                  <p:spPr>
                    <a:xfrm>
                      <a:off x="4270680" y="3834720"/>
                      <a:ext cx="0" cy="556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 txBox="1"/>
                    <p:nvPr/>
                  </p:nvSpPr>
                  <p:spPr>
                    <a:xfrm>
                      <a:off x="4270680" y="3834720"/>
                      <a:ext cx="360" cy="556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4430160" y="3988080"/>
                    <a:ext cx="360" cy="249120"/>
                    <a:chOff x="4430160" y="3988080"/>
                    <a:chExt cx="360" cy="249120"/>
                  </a:xfrm>
                </p:grpSpPr>
                <p:sp>
                  <p:nvSpPr>
                    <p:cNvPr id="303" name="Line 33"/>
                    <p:cNvSpPr/>
                    <p:nvPr/>
                  </p:nvSpPr>
                  <p:spPr>
                    <a:xfrm>
                      <a:off x="4430160" y="3988080"/>
                      <a:ext cx="0" cy="2491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 txBox="1"/>
                    <p:nvPr/>
                  </p:nvSpPr>
                  <p:spPr>
                    <a:xfrm>
                      <a:off x="4430160" y="3988080"/>
                      <a:ext cx="360" cy="24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5" name="Group 34"/>
              <p:cNvGrpSpPr/>
              <p:nvPr/>
            </p:nvGrpSpPr>
            <p:grpSpPr>
              <a:xfrm>
                <a:off x="5003280" y="3834720"/>
                <a:ext cx="439200" cy="344880"/>
                <a:chOff x="5003280" y="3834720"/>
                <a:chExt cx="439200" cy="344880"/>
              </a:xfrm>
            </p:grpSpPr>
            <p:sp>
              <p:nvSpPr>
                <p:cNvPr id="306" name="Rectangle 35"/>
                <p:cNvSpPr/>
                <p:nvPr/>
              </p:nvSpPr>
              <p:spPr>
                <a:xfrm>
                  <a:off x="5019480" y="3834720"/>
                  <a:ext cx="335880" cy="344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6"/>
                <p:cNvSpPr/>
                <p:nvPr/>
              </p:nvSpPr>
              <p:spPr>
                <a:xfrm>
                  <a:off x="5003280" y="4006800"/>
                  <a:ext cx="70560" cy="95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5073840" y="3834720"/>
                  <a:ext cx="368640" cy="229680"/>
                  <a:chOff x="5073840" y="3834720"/>
                  <a:chExt cx="368640" cy="229680"/>
                </a:xfrm>
              </p:grpSpPr>
              <p:sp>
                <p:nvSpPr>
                  <p:cNvPr id="309" name="Line 37"/>
                  <p:cNvSpPr/>
                  <p:nvPr/>
                </p:nvSpPr>
                <p:spPr>
                  <a:xfrm flipV="1">
                    <a:off x="5073840" y="3834720"/>
                    <a:ext cx="368640" cy="22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 txBox="1"/>
                  <p:nvPr/>
                </p:nvSpPr>
                <p:spPr>
                  <a:xfrm rot="10800000">
                    <a:off x="5073840" y="3834720"/>
                    <a:ext cx="36864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1" name="AutoShape 38"/>
              <p:cNvSpPr/>
              <p:nvPr/>
            </p:nvSpPr>
            <p:spPr>
              <a:xfrm>
                <a:off x="4050720" y="4716720"/>
                <a:ext cx="371160" cy="422280"/>
              </a:xfrm>
              <a:prstGeom prst="flowChartSummingJunction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39"/>
              <p:cNvSpPr/>
              <p:nvPr/>
            </p:nvSpPr>
            <p:spPr>
              <a:xfrm>
                <a:off x="4932360" y="4755600"/>
                <a:ext cx="371520" cy="421920"/>
              </a:xfrm>
              <a:prstGeom prst="flowChartSummingJunction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40"/>
              <p:cNvSpPr/>
              <p:nvPr/>
            </p:nvSpPr>
            <p:spPr>
              <a:xfrm>
                <a:off x="4121280" y="4367520"/>
                <a:ext cx="24696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41"/>
              <p:cNvSpPr/>
              <p:nvPr/>
            </p:nvSpPr>
            <p:spPr>
              <a:xfrm>
                <a:off x="5038200" y="4367520"/>
                <a:ext cx="24660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42"/>
              <p:cNvSpPr/>
              <p:nvPr/>
            </p:nvSpPr>
            <p:spPr>
              <a:xfrm>
                <a:off x="3821400" y="5461200"/>
                <a:ext cx="2466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43"/>
              <p:cNvSpPr/>
              <p:nvPr/>
            </p:nvSpPr>
            <p:spPr>
              <a:xfrm>
                <a:off x="4491720" y="5461200"/>
                <a:ext cx="2466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44"/>
              <p:cNvSpPr/>
              <p:nvPr/>
            </p:nvSpPr>
            <p:spPr>
              <a:xfrm>
                <a:off x="6993360" y="4901040"/>
                <a:ext cx="1692720" cy="49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45"/>
              <p:cNvSpPr/>
              <p:nvPr/>
            </p:nvSpPr>
            <p:spPr>
              <a:xfrm>
                <a:off x="6869880" y="4018680"/>
                <a:ext cx="2045520" cy="88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46"/>
              <p:cNvGrpSpPr/>
              <p:nvPr/>
            </p:nvGrpSpPr>
            <p:grpSpPr>
              <a:xfrm>
                <a:off x="7391880" y="3795840"/>
                <a:ext cx="160200" cy="556560"/>
                <a:chOff x="7391880" y="3795840"/>
                <a:chExt cx="160200" cy="556560"/>
              </a:xfrm>
            </p:grpSpPr>
            <p:sp>
              <p:nvSpPr>
                <p:cNvPr id="320" name="Rectangle 47"/>
                <p:cNvSpPr/>
                <p:nvPr/>
              </p:nvSpPr>
              <p:spPr>
                <a:xfrm>
                  <a:off x="7391880" y="3949200"/>
                  <a:ext cx="140760" cy="24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Group 48"/>
                <p:cNvGrpSpPr/>
                <p:nvPr/>
              </p:nvGrpSpPr>
              <p:grpSpPr>
                <a:xfrm>
                  <a:off x="7391880" y="3795840"/>
                  <a:ext cx="160200" cy="556560"/>
                  <a:chOff x="7391880" y="3795840"/>
                  <a:chExt cx="160200" cy="55656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7391880" y="3795840"/>
                    <a:ext cx="360" cy="556560"/>
                    <a:chOff x="7391880" y="3795840"/>
                    <a:chExt cx="360" cy="556560"/>
                  </a:xfrm>
                </p:grpSpPr>
                <p:sp>
                  <p:nvSpPr>
                    <p:cNvPr id="323" name="Line 49"/>
                    <p:cNvSpPr/>
                    <p:nvPr/>
                  </p:nvSpPr>
                  <p:spPr>
                    <a:xfrm>
                      <a:off x="7391880" y="3795840"/>
                      <a:ext cx="0" cy="556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 txBox="1"/>
                    <p:nvPr/>
                  </p:nvSpPr>
                  <p:spPr>
                    <a:xfrm>
                      <a:off x="7391880" y="3795840"/>
                      <a:ext cx="360" cy="556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7551720" y="3949200"/>
                    <a:ext cx="360" cy="249480"/>
                    <a:chOff x="7551720" y="3949200"/>
                    <a:chExt cx="360" cy="249480"/>
                  </a:xfrm>
                </p:grpSpPr>
                <p:sp>
                  <p:nvSpPr>
                    <p:cNvPr id="326" name="Line 50"/>
                    <p:cNvSpPr/>
                    <p:nvPr/>
                  </p:nvSpPr>
                  <p:spPr>
                    <a:xfrm>
                      <a:off x="7551720" y="3949200"/>
                      <a:ext cx="0" cy="24948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 txBox="1"/>
                    <p:nvPr/>
                  </p:nvSpPr>
                  <p:spPr>
                    <a:xfrm>
                      <a:off x="7551720" y="3949200"/>
                      <a:ext cx="360" cy="249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8" name="Group 51"/>
              <p:cNvGrpSpPr/>
              <p:nvPr/>
            </p:nvGrpSpPr>
            <p:grpSpPr>
              <a:xfrm>
                <a:off x="8124480" y="3795480"/>
                <a:ext cx="439200" cy="345600"/>
                <a:chOff x="8124480" y="3795480"/>
                <a:chExt cx="439200" cy="345600"/>
              </a:xfrm>
            </p:grpSpPr>
            <p:sp>
              <p:nvSpPr>
                <p:cNvPr id="329" name="Rectangle 52"/>
                <p:cNvSpPr/>
                <p:nvPr/>
              </p:nvSpPr>
              <p:spPr>
                <a:xfrm>
                  <a:off x="8140680" y="3795840"/>
                  <a:ext cx="335880" cy="345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53"/>
                <p:cNvSpPr/>
                <p:nvPr/>
              </p:nvSpPr>
              <p:spPr>
                <a:xfrm>
                  <a:off x="8124480" y="3968280"/>
                  <a:ext cx="70560" cy="95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8195040" y="3795480"/>
                  <a:ext cx="368640" cy="230040"/>
                  <a:chOff x="8195040" y="3795480"/>
                  <a:chExt cx="368640" cy="230040"/>
                </a:xfrm>
              </p:grpSpPr>
              <p:sp>
                <p:nvSpPr>
                  <p:cNvPr id="332" name="Line 54"/>
                  <p:cNvSpPr/>
                  <p:nvPr/>
                </p:nvSpPr>
                <p:spPr>
                  <a:xfrm flipV="1">
                    <a:off x="8195040" y="3795480"/>
                    <a:ext cx="368640" cy="23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 txBox="1"/>
                  <p:nvPr/>
                </p:nvSpPr>
                <p:spPr>
                  <a:xfrm rot="10800000">
                    <a:off x="8195040" y="3795480"/>
                    <a:ext cx="368640" cy="23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4" name="AutoShape 55"/>
              <p:cNvSpPr/>
              <p:nvPr/>
            </p:nvSpPr>
            <p:spPr>
              <a:xfrm>
                <a:off x="7171920" y="4678560"/>
                <a:ext cx="371160" cy="421920"/>
              </a:xfrm>
              <a:prstGeom prst="flowChartSummingJunction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utoShape 56"/>
              <p:cNvSpPr/>
              <p:nvPr/>
            </p:nvSpPr>
            <p:spPr>
              <a:xfrm>
                <a:off x="8053560" y="4716720"/>
                <a:ext cx="371160" cy="422280"/>
              </a:xfrm>
              <a:prstGeom prst="flowChartSummingJunction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57"/>
              <p:cNvSpPr/>
              <p:nvPr/>
            </p:nvSpPr>
            <p:spPr>
              <a:xfrm>
                <a:off x="7242480" y="4329360"/>
                <a:ext cx="24660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58"/>
              <p:cNvSpPr/>
              <p:nvPr/>
            </p:nvSpPr>
            <p:spPr>
              <a:xfrm>
                <a:off x="8159400" y="4329360"/>
                <a:ext cx="24660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59"/>
              <p:cNvGrpSpPr/>
              <p:nvPr/>
            </p:nvGrpSpPr>
            <p:grpSpPr>
              <a:xfrm>
                <a:off x="7507080" y="5131440"/>
                <a:ext cx="614520" cy="632520"/>
                <a:chOff x="7507080" y="5131440"/>
                <a:chExt cx="614520" cy="632520"/>
              </a:xfrm>
            </p:grpSpPr>
            <p:grpSp>
              <p:nvGrpSpPr>
                <p:cNvPr id="339" name="Group 60"/>
                <p:cNvGrpSpPr/>
                <p:nvPr/>
              </p:nvGrpSpPr>
              <p:grpSpPr>
                <a:xfrm>
                  <a:off x="7716240" y="5131440"/>
                  <a:ext cx="405360" cy="441000"/>
                  <a:chOff x="7716240" y="5131440"/>
                  <a:chExt cx="405360" cy="441000"/>
                </a:xfrm>
              </p:grpSpPr>
              <p:sp>
                <p:nvSpPr>
                  <p:cNvPr id="340" name="Oval 61"/>
                  <p:cNvSpPr/>
                  <p:nvPr/>
                </p:nvSpPr>
                <p:spPr>
                  <a:xfrm>
                    <a:off x="7716240" y="5131440"/>
                    <a:ext cx="405360" cy="441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Text Box 62"/>
                  <p:cNvSpPr/>
                  <p:nvPr/>
                </p:nvSpPr>
                <p:spPr>
                  <a:xfrm>
                    <a:off x="7841880" y="5192280"/>
                    <a:ext cx="246600" cy="36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Text Box 63"/>
                <p:cNvSpPr/>
                <p:nvPr/>
              </p:nvSpPr>
              <p:spPr>
                <a:xfrm>
                  <a:off x="7507080" y="5403600"/>
                  <a:ext cx="2466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64"/>
              <p:cNvSpPr/>
              <p:nvPr/>
            </p:nvSpPr>
            <p:spPr>
              <a:xfrm>
                <a:off x="8159400" y="5403600"/>
                <a:ext cx="24660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65"/>
              <p:cNvSpPr/>
              <p:nvPr/>
            </p:nvSpPr>
            <p:spPr>
              <a:xfrm>
                <a:off x="1352880" y="6075000"/>
                <a:ext cx="317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66"/>
              <p:cNvSpPr/>
              <p:nvPr/>
            </p:nvSpPr>
            <p:spPr>
              <a:xfrm>
                <a:off x="4791600" y="5960160"/>
                <a:ext cx="31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乙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==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67"/>
              <p:cNvSpPr/>
              <p:nvPr/>
            </p:nvSpPr>
            <p:spPr>
              <a:xfrm>
                <a:off x="8001000" y="5883480"/>
                <a:ext cx="317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68"/>
              <p:cNvGrpSpPr/>
              <p:nvPr/>
            </p:nvGrpSpPr>
            <p:grpSpPr>
              <a:xfrm>
                <a:off x="4030920" y="5208120"/>
                <a:ext cx="405360" cy="441000"/>
                <a:chOff x="4030920" y="5208120"/>
                <a:chExt cx="405360" cy="441000"/>
              </a:xfrm>
            </p:grpSpPr>
            <p:sp>
              <p:nvSpPr>
                <p:cNvPr id="348" name="Oval 69"/>
                <p:cNvSpPr/>
                <p:nvPr/>
              </p:nvSpPr>
              <p:spPr>
                <a:xfrm>
                  <a:off x="4030920" y="5208120"/>
                  <a:ext cx="405360" cy="441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70"/>
                <p:cNvSpPr/>
                <p:nvPr/>
              </p:nvSpPr>
              <p:spPr>
                <a:xfrm>
                  <a:off x="4156560" y="5268960"/>
                  <a:ext cx="24660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Oval 71"/>
              <p:cNvSpPr/>
              <p:nvPr/>
            </p:nvSpPr>
            <p:spPr>
              <a:xfrm>
                <a:off x="3836880" y="4908960"/>
                <a:ext cx="51480" cy="38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72"/>
              <p:cNvSpPr/>
              <p:nvPr/>
            </p:nvSpPr>
            <p:spPr>
              <a:xfrm>
                <a:off x="4683240" y="4908960"/>
                <a:ext cx="51480" cy="38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73"/>
              <p:cNvSpPr/>
              <p:nvPr/>
            </p:nvSpPr>
            <p:spPr>
              <a:xfrm>
                <a:off x="2161440" y="4966200"/>
                <a:ext cx="5184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74"/>
              <p:cNvSpPr/>
              <p:nvPr/>
            </p:nvSpPr>
            <p:spPr>
              <a:xfrm>
                <a:off x="1562400" y="4966200"/>
                <a:ext cx="5148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75"/>
              <p:cNvSpPr/>
              <p:nvPr/>
            </p:nvSpPr>
            <p:spPr>
              <a:xfrm>
                <a:off x="1315080" y="4966200"/>
                <a:ext cx="5184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76"/>
              <p:cNvSpPr/>
              <p:nvPr/>
            </p:nvSpPr>
            <p:spPr>
              <a:xfrm>
                <a:off x="2287440" y="5384520"/>
                <a:ext cx="3524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77"/>
              <p:cNvSpPr/>
              <p:nvPr/>
            </p:nvSpPr>
            <p:spPr>
              <a:xfrm>
                <a:off x="4862160" y="5346360"/>
                <a:ext cx="3524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78"/>
              <p:cNvSpPr/>
              <p:nvPr/>
            </p:nvSpPr>
            <p:spPr>
              <a:xfrm>
                <a:off x="6958080" y="4870440"/>
                <a:ext cx="5148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79"/>
              <p:cNvSpPr/>
              <p:nvPr/>
            </p:nvSpPr>
            <p:spPr>
              <a:xfrm>
                <a:off x="8650800" y="4870440"/>
                <a:ext cx="5148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80"/>
              <p:cNvSpPr/>
              <p:nvPr/>
            </p:nvSpPr>
            <p:spPr>
              <a:xfrm>
                <a:off x="1775880" y="3619800"/>
                <a:ext cx="2466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81"/>
              <p:cNvSpPr/>
              <p:nvPr/>
            </p:nvSpPr>
            <p:spPr>
              <a:xfrm>
                <a:off x="5144040" y="3619800"/>
                <a:ext cx="2466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82"/>
              <p:cNvSpPr/>
              <p:nvPr/>
            </p:nvSpPr>
            <p:spPr>
              <a:xfrm>
                <a:off x="8300520" y="3581280"/>
                <a:ext cx="24660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Rectangle 83"/>
          <p:cNvSpPr/>
          <p:nvPr/>
        </p:nvSpPr>
        <p:spPr>
          <a:xfrm>
            <a:off x="990720" y="2666880"/>
            <a:ext cx="1371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两端电    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4"/>
          <p:cNvSpPr/>
          <p:nvPr/>
        </p:nvSpPr>
        <p:spPr>
          <a:xfrm>
            <a:off x="3657600" y="2743200"/>
            <a:ext cx="1523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电    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5"/>
          <p:cNvSpPr/>
          <p:nvPr/>
        </p:nvSpPr>
        <p:spPr>
          <a:xfrm>
            <a:off x="6781680" y="2743200"/>
            <a:ext cx="196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  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总   电    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86"/>
          <p:cNvGrpSpPr/>
          <p:nvPr/>
        </p:nvGrpSpPr>
        <p:grpSpPr>
          <a:xfrm>
            <a:off x="6471000" y="21600"/>
            <a:ext cx="2066400" cy="2164320"/>
            <a:chOff x="6471000" y="21600"/>
            <a:chExt cx="2066400" cy="2164320"/>
          </a:xfrm>
        </p:grpSpPr>
        <p:pic>
          <p:nvPicPr>
            <p:cNvPr id="366" name="Picture 87" descr="jae"/>
            <p:cNvPicPr/>
            <p:nvPr/>
          </p:nvPicPr>
          <p:blipFill>
            <a:blip r:embed="rId1"/>
            <a:stretch/>
          </p:blipFill>
          <p:spPr>
            <a:xfrm rot="21451200">
              <a:off x="6923520" y="564480"/>
              <a:ext cx="108180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8" descr="q2"/>
            <p:cNvPicPr/>
            <p:nvPr/>
          </p:nvPicPr>
          <p:blipFill>
            <a:blip r:embed="rId2"/>
            <a:stretch/>
          </p:blipFill>
          <p:spPr>
            <a:xfrm rot="21451200">
              <a:off x="7989120" y="622440"/>
              <a:ext cx="53640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89" descr="q2"/>
            <p:cNvPicPr/>
            <p:nvPr/>
          </p:nvPicPr>
          <p:blipFill>
            <a:blip r:embed="rId3"/>
            <a:stretch/>
          </p:blipFill>
          <p:spPr>
            <a:xfrm rot="21451200">
              <a:off x="6482880" y="32760"/>
              <a:ext cx="53640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90" descr="q2"/>
            <p:cNvPicPr/>
            <p:nvPr/>
          </p:nvPicPr>
          <p:blipFill>
            <a:blip r:embed="rId4"/>
            <a:stretch/>
          </p:blipFill>
          <p:spPr>
            <a:xfrm rot="21451200">
              <a:off x="6513120" y="783360"/>
              <a:ext cx="447120" cy="46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16"/>
          <p:cNvPicPr/>
          <p:nvPr/>
        </p:nvPicPr>
        <p:blipFill>
          <a:blip r:embed="rId1"/>
          <a:stretch/>
        </p:blipFill>
        <p:spPr>
          <a:xfrm>
            <a:off x="304920" y="2655720"/>
            <a:ext cx="8458200" cy="42022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503280" y="11970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下图是用电压表测灯泡两端电压的电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其中电压表使用正确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5307480" y="211464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Q_013"/>
          <p:cNvPicPr/>
          <p:nvPr/>
        </p:nvPicPr>
        <p:blipFill>
          <a:blip r:embed="rId2"/>
          <a:stretch/>
        </p:blipFill>
        <p:spPr>
          <a:xfrm>
            <a:off x="5867280" y="380880"/>
            <a:ext cx="1403640" cy="809640"/>
          </a:xfrm>
          <a:prstGeom prst="rect">
            <a:avLst/>
          </a:prstGeom>
          <a:ln w="0">
            <a:noFill/>
          </a:ln>
        </p:spPr>
      </p:pic>
      <p:sp>
        <p:nvSpPr>
          <p:cNvPr id="374" name="文本框 8199"/>
          <p:cNvSpPr/>
          <p:nvPr/>
        </p:nvSpPr>
        <p:spPr>
          <a:xfrm>
            <a:off x="503280" y="617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xjhsy8" descr="w7"/>
          <p:cNvPicPr/>
          <p:nvPr/>
        </p:nvPicPr>
        <p:blipFill>
          <a:blip r:embed="rId1"/>
          <a:stretch/>
        </p:blipFill>
        <p:spPr>
          <a:xfrm>
            <a:off x="6156360" y="1628640"/>
            <a:ext cx="1430280" cy="1204920"/>
          </a:xfrm>
          <a:prstGeom prst="rect">
            <a:avLst/>
          </a:prstGeom>
          <a:ln w="0">
            <a:noFill/>
          </a:ln>
        </p:spPr>
      </p:pic>
      <p:pic>
        <p:nvPicPr>
          <p:cNvPr id="376" name="xjhsy4" descr="w3"/>
          <p:cNvPicPr/>
          <p:nvPr/>
        </p:nvPicPr>
        <p:blipFill>
          <a:blip r:embed="rId2"/>
          <a:stretch/>
        </p:blipFill>
        <p:spPr>
          <a:xfrm>
            <a:off x="1763640" y="1700280"/>
            <a:ext cx="2879640" cy="1334880"/>
          </a:xfrm>
          <a:prstGeom prst="rect">
            <a:avLst/>
          </a:prstGeom>
          <a:ln w="0">
            <a:noFill/>
          </a:ln>
        </p:spPr>
      </p:pic>
      <p:grpSp>
        <p:nvGrpSpPr>
          <p:cNvPr id="377" name="xjhsy3"/>
          <p:cNvGrpSpPr/>
          <p:nvPr/>
        </p:nvGrpSpPr>
        <p:grpSpPr>
          <a:xfrm>
            <a:off x="6012000" y="4797360"/>
            <a:ext cx="1790640" cy="791280"/>
            <a:chOff x="6012000" y="4797360"/>
            <a:chExt cx="1790640" cy="791280"/>
          </a:xfrm>
        </p:grpSpPr>
        <p:grpSp>
          <p:nvGrpSpPr>
            <p:cNvPr id="378" name="Group 5"/>
            <p:cNvGrpSpPr/>
            <p:nvPr/>
          </p:nvGrpSpPr>
          <p:grpSpPr>
            <a:xfrm>
              <a:off x="6012000" y="5189760"/>
              <a:ext cx="1790640" cy="398880"/>
              <a:chOff x="6012000" y="5189760"/>
              <a:chExt cx="1790640" cy="398880"/>
            </a:xfrm>
          </p:grpSpPr>
          <p:sp>
            <p:nvSpPr>
              <p:cNvPr id="379" name="Freeform 6"/>
              <p:cNvSpPr/>
              <p:nvPr/>
            </p:nvSpPr>
            <p:spPr>
              <a:xfrm flipV="1">
                <a:off x="6012000" y="5510160"/>
                <a:ext cx="179064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7"/>
              <p:cNvSpPr/>
              <p:nvPr/>
            </p:nvSpPr>
            <p:spPr>
              <a:xfrm>
                <a:off x="7592040" y="5192280"/>
                <a:ext cx="152640" cy="2552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8"/>
              <p:cNvSpPr/>
              <p:nvPr/>
            </p:nvSpPr>
            <p:spPr>
              <a:xfrm>
                <a:off x="6313320" y="5189760"/>
                <a:ext cx="152640" cy="2552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"/>
            <p:cNvGrpSpPr/>
            <p:nvPr/>
          </p:nvGrpSpPr>
          <p:grpSpPr>
            <a:xfrm>
              <a:off x="6817320" y="4797360"/>
              <a:ext cx="260280" cy="648000"/>
              <a:chOff x="6817320" y="4797360"/>
              <a:chExt cx="260280" cy="648000"/>
            </a:xfrm>
          </p:grpSpPr>
          <p:grpSp>
            <p:nvGrpSpPr>
              <p:cNvPr id="383" name="Group 10"/>
              <p:cNvGrpSpPr/>
              <p:nvPr/>
            </p:nvGrpSpPr>
            <p:grpSpPr>
              <a:xfrm>
                <a:off x="6854400" y="4797360"/>
                <a:ext cx="194040" cy="507600"/>
                <a:chOff x="6854400" y="4797360"/>
                <a:chExt cx="194040" cy="507600"/>
              </a:xfrm>
            </p:grpSpPr>
            <p:grpSp>
              <p:nvGrpSpPr>
                <p:cNvPr id="384" name="Group 11"/>
                <p:cNvGrpSpPr/>
                <p:nvPr/>
              </p:nvGrpSpPr>
              <p:grpSpPr>
                <a:xfrm>
                  <a:off x="6907320" y="5186160"/>
                  <a:ext cx="87840" cy="118800"/>
                  <a:chOff x="6907320" y="5186160"/>
                  <a:chExt cx="87840" cy="118800"/>
                </a:xfrm>
              </p:grpSpPr>
              <p:grpSp>
                <p:nvGrpSpPr>
                  <p:cNvPr id="385" name="Group 12"/>
                  <p:cNvGrpSpPr/>
                  <p:nvPr/>
                </p:nvGrpSpPr>
                <p:grpSpPr>
                  <a:xfrm>
                    <a:off x="6907320" y="5186160"/>
                    <a:ext cx="87840" cy="118800"/>
                    <a:chOff x="6907320" y="5186160"/>
                    <a:chExt cx="87840" cy="118800"/>
                  </a:xfrm>
                </p:grpSpPr>
                <p:grpSp>
                  <p:nvGrpSpPr>
                    <p:cNvPr id="386" name="Group 13"/>
                    <p:cNvGrpSpPr/>
                    <p:nvPr/>
                  </p:nvGrpSpPr>
                  <p:grpSpPr>
                    <a:xfrm>
                      <a:off x="6929280" y="5277600"/>
                      <a:ext cx="47880" cy="27360"/>
                      <a:chOff x="6929280" y="5277600"/>
                      <a:chExt cx="47880" cy="27360"/>
                    </a:xfrm>
                  </p:grpSpPr>
                  <p:sp>
                    <p:nvSpPr>
                      <p:cNvPr id="387" name="Freeform 14"/>
                      <p:cNvSpPr/>
                      <p:nvPr/>
                    </p:nvSpPr>
                    <p:spPr>
                      <a:xfrm>
                        <a:off x="6929280" y="5277600"/>
                        <a:ext cx="4788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8" name="Freeform 15"/>
                      <p:cNvSpPr/>
                      <p:nvPr/>
                    </p:nvSpPr>
                    <p:spPr>
                      <a:xfrm>
                        <a:off x="6936480" y="5277600"/>
                        <a:ext cx="2124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9" name="Group 16"/>
                    <p:cNvGrpSpPr/>
                    <p:nvPr/>
                  </p:nvGrpSpPr>
                  <p:grpSpPr>
                    <a:xfrm>
                      <a:off x="6907320" y="5186160"/>
                      <a:ext cx="87840" cy="99000"/>
                      <a:chOff x="6907320" y="5186160"/>
                      <a:chExt cx="87840" cy="99000"/>
                    </a:xfrm>
                  </p:grpSpPr>
                  <p:sp>
                    <p:nvSpPr>
                      <p:cNvPr id="390" name="Freeform 17"/>
                      <p:cNvSpPr/>
                      <p:nvPr/>
                    </p:nvSpPr>
                    <p:spPr>
                      <a:xfrm>
                        <a:off x="6907320" y="5186160"/>
                        <a:ext cx="878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Freeform 18"/>
                      <p:cNvSpPr/>
                      <p:nvPr/>
                    </p:nvSpPr>
                    <p:spPr>
                      <a:xfrm>
                        <a:off x="6907680" y="5199120"/>
                        <a:ext cx="108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Freeform 19"/>
                      <p:cNvSpPr/>
                      <p:nvPr/>
                    </p:nvSpPr>
                    <p:spPr>
                      <a:xfrm>
                        <a:off x="6908040" y="521640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Freeform 20"/>
                      <p:cNvSpPr/>
                      <p:nvPr/>
                    </p:nvSpPr>
                    <p:spPr>
                      <a:xfrm>
                        <a:off x="6907320" y="5230800"/>
                        <a:ext cx="165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Freeform 21"/>
                      <p:cNvSpPr/>
                      <p:nvPr/>
                    </p:nvSpPr>
                    <p:spPr>
                      <a:xfrm>
                        <a:off x="6909120" y="5246640"/>
                        <a:ext cx="198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Freeform 22"/>
                      <p:cNvSpPr/>
                      <p:nvPr/>
                    </p:nvSpPr>
                    <p:spPr>
                      <a:xfrm>
                        <a:off x="6909480" y="5189400"/>
                        <a:ext cx="82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6" name="Freeform 23"/>
                      <p:cNvSpPr/>
                      <p:nvPr/>
                    </p:nvSpPr>
                    <p:spPr>
                      <a:xfrm>
                        <a:off x="6924600" y="5187240"/>
                        <a:ext cx="705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97" name="Group 24"/>
                  <p:cNvGrpSpPr/>
                  <p:nvPr/>
                </p:nvGrpSpPr>
                <p:grpSpPr>
                  <a:xfrm>
                    <a:off x="6966000" y="5202000"/>
                    <a:ext cx="20880" cy="60120"/>
                    <a:chOff x="6966000" y="5202000"/>
                    <a:chExt cx="20880" cy="60120"/>
                  </a:xfrm>
                </p:grpSpPr>
                <p:sp>
                  <p:nvSpPr>
                    <p:cNvPr id="398" name="Freeform 25"/>
                    <p:cNvSpPr/>
                    <p:nvPr/>
                  </p:nvSpPr>
                  <p:spPr>
                    <a:xfrm>
                      <a:off x="6969960" y="5217840"/>
                      <a:ext cx="162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26"/>
                    <p:cNvSpPr/>
                    <p:nvPr/>
                  </p:nvSpPr>
                  <p:spPr>
                    <a:xfrm>
                      <a:off x="6972840" y="5233320"/>
                      <a:ext cx="140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27"/>
                    <p:cNvSpPr/>
                    <p:nvPr/>
                  </p:nvSpPr>
                  <p:spPr>
                    <a:xfrm>
                      <a:off x="6972120" y="5251680"/>
                      <a:ext cx="144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28"/>
                    <p:cNvSpPr/>
                    <p:nvPr/>
                  </p:nvSpPr>
                  <p:spPr>
                    <a:xfrm>
                      <a:off x="6966000" y="5202000"/>
                      <a:ext cx="165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02" name="Freeform 29"/>
                <p:cNvSpPr/>
                <p:nvPr/>
              </p:nvSpPr>
              <p:spPr>
                <a:xfrm>
                  <a:off x="6854400" y="4797360"/>
                  <a:ext cx="194040" cy="402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30"/>
                <p:cNvSpPr/>
                <p:nvPr/>
              </p:nvSpPr>
              <p:spPr>
                <a:xfrm>
                  <a:off x="6908760" y="5153760"/>
                  <a:ext cx="849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31"/>
                <p:cNvSpPr/>
                <p:nvPr/>
              </p:nvSpPr>
              <p:spPr>
                <a:xfrm>
                  <a:off x="6997680" y="4837680"/>
                  <a:ext cx="3240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Group 32"/>
                <p:cNvGrpSpPr/>
                <p:nvPr/>
              </p:nvGrpSpPr>
              <p:grpSpPr>
                <a:xfrm>
                  <a:off x="6924240" y="4918320"/>
                  <a:ext cx="54000" cy="249480"/>
                  <a:chOff x="6924240" y="4918320"/>
                  <a:chExt cx="54000" cy="249480"/>
                </a:xfrm>
              </p:grpSpPr>
              <p:sp>
                <p:nvSpPr>
                  <p:cNvPr id="406" name="Freeform 33"/>
                  <p:cNvSpPr/>
                  <p:nvPr/>
                </p:nvSpPr>
                <p:spPr>
                  <a:xfrm>
                    <a:off x="6934320" y="5022360"/>
                    <a:ext cx="3312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Oval 34"/>
                  <p:cNvSpPr/>
                  <p:nvPr/>
                </p:nvSpPr>
                <p:spPr>
                  <a:xfrm>
                    <a:off x="6951240" y="5027040"/>
                    <a:ext cx="432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8" name="Group 35"/>
                  <p:cNvGrpSpPr/>
                  <p:nvPr/>
                </p:nvGrpSpPr>
                <p:grpSpPr>
                  <a:xfrm>
                    <a:off x="6924240" y="4918320"/>
                    <a:ext cx="54000" cy="114480"/>
                    <a:chOff x="6924240" y="4918320"/>
                    <a:chExt cx="54000" cy="114480"/>
                  </a:xfrm>
                </p:grpSpPr>
                <p:sp>
                  <p:nvSpPr>
                    <p:cNvPr id="409" name="Oval 36"/>
                    <p:cNvSpPr/>
                    <p:nvPr/>
                  </p:nvSpPr>
                  <p:spPr>
                    <a:xfrm>
                      <a:off x="6927120" y="4918320"/>
                      <a:ext cx="4932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37"/>
                    <p:cNvSpPr/>
                    <p:nvPr/>
                  </p:nvSpPr>
                  <p:spPr>
                    <a:xfrm>
                      <a:off x="6924240" y="4935960"/>
                      <a:ext cx="5400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38"/>
                  <p:cNvGrpSpPr/>
                  <p:nvPr/>
                </p:nvGrpSpPr>
                <p:grpSpPr>
                  <a:xfrm>
                    <a:off x="6940800" y="5042880"/>
                    <a:ext cx="18720" cy="111240"/>
                    <a:chOff x="6940800" y="5042880"/>
                    <a:chExt cx="18720" cy="111240"/>
                  </a:xfrm>
                </p:grpSpPr>
                <p:grpSp>
                  <p:nvGrpSpPr>
                    <p:cNvPr id="412" name=""/>
                    <p:cNvGrpSpPr/>
                    <p:nvPr/>
                  </p:nvGrpSpPr>
                  <p:grpSpPr>
                    <a:xfrm>
                      <a:off x="6944040" y="5046120"/>
                      <a:ext cx="360" cy="108000"/>
                      <a:chOff x="6944040" y="5046120"/>
                      <a:chExt cx="360" cy="108000"/>
                    </a:xfrm>
                  </p:grpSpPr>
                  <p:sp>
                    <p:nvSpPr>
                      <p:cNvPr id="413" name="Line 39"/>
                      <p:cNvSpPr/>
                      <p:nvPr/>
                    </p:nvSpPr>
                    <p:spPr>
                      <a:xfrm>
                        <a:off x="6944040" y="504612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4" name=""/>
                      <p:cNvSpPr txBox="1"/>
                      <p:nvPr/>
                    </p:nvSpPr>
                    <p:spPr>
                      <a:xfrm>
                        <a:off x="6944040" y="504612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5" name=""/>
                    <p:cNvGrpSpPr/>
                    <p:nvPr/>
                  </p:nvGrpSpPr>
                  <p:grpSpPr>
                    <a:xfrm>
                      <a:off x="6956280" y="5045760"/>
                      <a:ext cx="720" cy="107640"/>
                      <a:chOff x="6956280" y="5045760"/>
                      <a:chExt cx="720" cy="107640"/>
                    </a:xfrm>
                  </p:grpSpPr>
                  <p:sp>
                    <p:nvSpPr>
                      <p:cNvPr id="416" name="Line 40"/>
                      <p:cNvSpPr/>
                      <p:nvPr/>
                    </p:nvSpPr>
                    <p:spPr>
                      <a:xfrm flipV="1">
                        <a:off x="6956640" y="504576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7" name=""/>
                      <p:cNvSpPr txBox="1"/>
                      <p:nvPr/>
                    </p:nvSpPr>
                    <p:spPr>
                      <a:xfrm rot="10800000">
                        <a:off x="6956280" y="504576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8" name=""/>
                    <p:cNvGrpSpPr/>
                    <p:nvPr/>
                  </p:nvGrpSpPr>
                  <p:grpSpPr>
                    <a:xfrm>
                      <a:off x="6959160" y="5042880"/>
                      <a:ext cx="360" cy="107640"/>
                      <a:chOff x="6959160" y="5042880"/>
                      <a:chExt cx="360" cy="107640"/>
                    </a:xfrm>
                  </p:grpSpPr>
                  <p:sp>
                    <p:nvSpPr>
                      <p:cNvPr id="419" name="Line 41"/>
                      <p:cNvSpPr/>
                      <p:nvPr/>
                    </p:nvSpPr>
                    <p:spPr>
                      <a:xfrm flipV="1">
                        <a:off x="6959520" y="504288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0" name=""/>
                      <p:cNvSpPr txBox="1"/>
                      <p:nvPr/>
                    </p:nvSpPr>
                    <p:spPr>
                      <a:xfrm rot="10800000">
                        <a:off x="6959160" y="50428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1" name=""/>
                    <p:cNvGrpSpPr/>
                    <p:nvPr/>
                  </p:nvGrpSpPr>
                  <p:grpSpPr>
                    <a:xfrm>
                      <a:off x="6940800" y="5042880"/>
                      <a:ext cx="360" cy="107640"/>
                      <a:chOff x="6940800" y="5042880"/>
                      <a:chExt cx="360" cy="107640"/>
                    </a:xfrm>
                  </p:grpSpPr>
                  <p:sp>
                    <p:nvSpPr>
                      <p:cNvPr id="422" name="Line 42"/>
                      <p:cNvSpPr/>
                      <p:nvPr/>
                    </p:nvSpPr>
                    <p:spPr>
                      <a:xfrm flipV="1">
                        <a:off x="6941160" y="504288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" name=""/>
                      <p:cNvSpPr txBox="1"/>
                      <p:nvPr/>
                    </p:nvSpPr>
                    <p:spPr>
                      <a:xfrm rot="10800000">
                        <a:off x="6940800" y="50428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24" name="Freeform 43"/>
                <p:cNvSpPr/>
                <p:nvPr/>
              </p:nvSpPr>
              <p:spPr>
                <a:xfrm>
                  <a:off x="6947640" y="5095800"/>
                  <a:ext cx="52200" cy="9396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Rectangle 44"/>
              <p:cNvSpPr/>
              <p:nvPr/>
            </p:nvSpPr>
            <p:spPr>
              <a:xfrm>
                <a:off x="6817320" y="5227200"/>
                <a:ext cx="260280" cy="218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xjhsy3"/>
          <p:cNvGrpSpPr/>
          <p:nvPr/>
        </p:nvGrpSpPr>
        <p:grpSpPr>
          <a:xfrm>
            <a:off x="5940360" y="3429000"/>
            <a:ext cx="1790640" cy="791280"/>
            <a:chOff x="5940360" y="3429000"/>
            <a:chExt cx="1790640" cy="791280"/>
          </a:xfrm>
        </p:grpSpPr>
        <p:grpSp>
          <p:nvGrpSpPr>
            <p:cNvPr id="427" name="Group 46"/>
            <p:cNvGrpSpPr/>
            <p:nvPr/>
          </p:nvGrpSpPr>
          <p:grpSpPr>
            <a:xfrm>
              <a:off x="5940360" y="3821400"/>
              <a:ext cx="1790640" cy="398880"/>
              <a:chOff x="5940360" y="3821400"/>
              <a:chExt cx="1790640" cy="398880"/>
            </a:xfrm>
          </p:grpSpPr>
          <p:sp>
            <p:nvSpPr>
              <p:cNvPr id="428" name="Freeform 47"/>
              <p:cNvSpPr/>
              <p:nvPr/>
            </p:nvSpPr>
            <p:spPr>
              <a:xfrm flipV="1">
                <a:off x="5940360" y="4141800"/>
                <a:ext cx="179064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48"/>
              <p:cNvSpPr/>
              <p:nvPr/>
            </p:nvSpPr>
            <p:spPr>
              <a:xfrm>
                <a:off x="7520400" y="3823920"/>
                <a:ext cx="152640" cy="2552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49"/>
              <p:cNvSpPr/>
              <p:nvPr/>
            </p:nvSpPr>
            <p:spPr>
              <a:xfrm>
                <a:off x="6241680" y="3821400"/>
                <a:ext cx="152640" cy="2552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50"/>
            <p:cNvGrpSpPr/>
            <p:nvPr/>
          </p:nvGrpSpPr>
          <p:grpSpPr>
            <a:xfrm>
              <a:off x="6745680" y="3429000"/>
              <a:ext cx="260280" cy="648000"/>
              <a:chOff x="6745680" y="3429000"/>
              <a:chExt cx="260280" cy="648000"/>
            </a:xfrm>
          </p:grpSpPr>
          <p:grpSp>
            <p:nvGrpSpPr>
              <p:cNvPr id="432" name="Group 51"/>
              <p:cNvGrpSpPr/>
              <p:nvPr/>
            </p:nvGrpSpPr>
            <p:grpSpPr>
              <a:xfrm>
                <a:off x="6782760" y="3429000"/>
                <a:ext cx="194040" cy="507600"/>
                <a:chOff x="6782760" y="3429000"/>
                <a:chExt cx="194040" cy="507600"/>
              </a:xfrm>
            </p:grpSpPr>
            <p:grpSp>
              <p:nvGrpSpPr>
                <p:cNvPr id="433" name="Group 52"/>
                <p:cNvGrpSpPr/>
                <p:nvPr/>
              </p:nvGrpSpPr>
              <p:grpSpPr>
                <a:xfrm>
                  <a:off x="6835680" y="3817800"/>
                  <a:ext cx="87840" cy="118800"/>
                  <a:chOff x="6835680" y="3817800"/>
                  <a:chExt cx="87840" cy="118800"/>
                </a:xfrm>
              </p:grpSpPr>
              <p:grpSp>
                <p:nvGrpSpPr>
                  <p:cNvPr id="434" name="Group 53"/>
                  <p:cNvGrpSpPr/>
                  <p:nvPr/>
                </p:nvGrpSpPr>
                <p:grpSpPr>
                  <a:xfrm>
                    <a:off x="6835680" y="3817800"/>
                    <a:ext cx="87840" cy="118800"/>
                    <a:chOff x="6835680" y="3817800"/>
                    <a:chExt cx="87840" cy="118800"/>
                  </a:xfrm>
                </p:grpSpPr>
                <p:grpSp>
                  <p:nvGrpSpPr>
                    <p:cNvPr id="435" name="Group 54"/>
                    <p:cNvGrpSpPr/>
                    <p:nvPr/>
                  </p:nvGrpSpPr>
                  <p:grpSpPr>
                    <a:xfrm>
                      <a:off x="6857640" y="3909240"/>
                      <a:ext cx="47880" cy="27360"/>
                      <a:chOff x="6857640" y="3909240"/>
                      <a:chExt cx="47880" cy="27360"/>
                    </a:xfrm>
                  </p:grpSpPr>
                  <p:sp>
                    <p:nvSpPr>
                      <p:cNvPr id="436" name="Freeform 55"/>
                      <p:cNvSpPr/>
                      <p:nvPr/>
                    </p:nvSpPr>
                    <p:spPr>
                      <a:xfrm>
                        <a:off x="6857640" y="3909240"/>
                        <a:ext cx="4788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Freeform 56"/>
                      <p:cNvSpPr/>
                      <p:nvPr/>
                    </p:nvSpPr>
                    <p:spPr>
                      <a:xfrm>
                        <a:off x="6864840" y="3909240"/>
                        <a:ext cx="2124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8" name="Group 57"/>
                    <p:cNvGrpSpPr/>
                    <p:nvPr/>
                  </p:nvGrpSpPr>
                  <p:grpSpPr>
                    <a:xfrm>
                      <a:off x="6835680" y="3817800"/>
                      <a:ext cx="87840" cy="99000"/>
                      <a:chOff x="6835680" y="3817800"/>
                      <a:chExt cx="87840" cy="99000"/>
                    </a:xfrm>
                  </p:grpSpPr>
                  <p:sp>
                    <p:nvSpPr>
                      <p:cNvPr id="439" name="Freeform 58"/>
                      <p:cNvSpPr/>
                      <p:nvPr/>
                    </p:nvSpPr>
                    <p:spPr>
                      <a:xfrm>
                        <a:off x="6835680" y="3817800"/>
                        <a:ext cx="878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Freeform 59"/>
                      <p:cNvSpPr/>
                      <p:nvPr/>
                    </p:nvSpPr>
                    <p:spPr>
                      <a:xfrm>
                        <a:off x="6836040" y="3830760"/>
                        <a:ext cx="108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Freeform 60"/>
                      <p:cNvSpPr/>
                      <p:nvPr/>
                    </p:nvSpPr>
                    <p:spPr>
                      <a:xfrm>
                        <a:off x="6836400" y="38480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Freeform 61"/>
                      <p:cNvSpPr/>
                      <p:nvPr/>
                    </p:nvSpPr>
                    <p:spPr>
                      <a:xfrm>
                        <a:off x="6835680" y="3862440"/>
                        <a:ext cx="165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3" name="Freeform 62"/>
                      <p:cNvSpPr/>
                      <p:nvPr/>
                    </p:nvSpPr>
                    <p:spPr>
                      <a:xfrm>
                        <a:off x="6837480" y="3878280"/>
                        <a:ext cx="198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4" name="Freeform 63"/>
                      <p:cNvSpPr/>
                      <p:nvPr/>
                    </p:nvSpPr>
                    <p:spPr>
                      <a:xfrm>
                        <a:off x="6837840" y="3821040"/>
                        <a:ext cx="82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Freeform 64"/>
                      <p:cNvSpPr/>
                      <p:nvPr/>
                    </p:nvSpPr>
                    <p:spPr>
                      <a:xfrm>
                        <a:off x="6852960" y="3818880"/>
                        <a:ext cx="705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6" name="Group 65"/>
                  <p:cNvGrpSpPr/>
                  <p:nvPr/>
                </p:nvGrpSpPr>
                <p:grpSpPr>
                  <a:xfrm>
                    <a:off x="6894360" y="3833640"/>
                    <a:ext cx="20880" cy="60120"/>
                    <a:chOff x="6894360" y="3833640"/>
                    <a:chExt cx="20880" cy="60120"/>
                  </a:xfrm>
                </p:grpSpPr>
                <p:sp>
                  <p:nvSpPr>
                    <p:cNvPr id="447" name="Freeform 66"/>
                    <p:cNvSpPr/>
                    <p:nvPr/>
                  </p:nvSpPr>
                  <p:spPr>
                    <a:xfrm>
                      <a:off x="6898320" y="3849480"/>
                      <a:ext cx="162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67"/>
                    <p:cNvSpPr/>
                    <p:nvPr/>
                  </p:nvSpPr>
                  <p:spPr>
                    <a:xfrm>
                      <a:off x="6901200" y="3864960"/>
                      <a:ext cx="140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Freeform 68"/>
                    <p:cNvSpPr/>
                    <p:nvPr/>
                  </p:nvSpPr>
                  <p:spPr>
                    <a:xfrm>
                      <a:off x="6900480" y="3883320"/>
                      <a:ext cx="144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69"/>
                    <p:cNvSpPr/>
                    <p:nvPr/>
                  </p:nvSpPr>
                  <p:spPr>
                    <a:xfrm>
                      <a:off x="6894360" y="3833640"/>
                      <a:ext cx="165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1" name="Freeform 70"/>
                <p:cNvSpPr/>
                <p:nvPr/>
              </p:nvSpPr>
              <p:spPr>
                <a:xfrm>
                  <a:off x="6782760" y="3429000"/>
                  <a:ext cx="194040" cy="402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71"/>
                <p:cNvSpPr/>
                <p:nvPr/>
              </p:nvSpPr>
              <p:spPr>
                <a:xfrm>
                  <a:off x="6837120" y="3785400"/>
                  <a:ext cx="849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72"/>
                <p:cNvSpPr/>
                <p:nvPr/>
              </p:nvSpPr>
              <p:spPr>
                <a:xfrm>
                  <a:off x="6926040" y="3469320"/>
                  <a:ext cx="3240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73"/>
                <p:cNvGrpSpPr/>
                <p:nvPr/>
              </p:nvGrpSpPr>
              <p:grpSpPr>
                <a:xfrm>
                  <a:off x="6852600" y="3549960"/>
                  <a:ext cx="54000" cy="249480"/>
                  <a:chOff x="6852600" y="3549960"/>
                  <a:chExt cx="54000" cy="249480"/>
                </a:xfrm>
              </p:grpSpPr>
              <p:sp>
                <p:nvSpPr>
                  <p:cNvPr id="455" name="Freeform 74"/>
                  <p:cNvSpPr/>
                  <p:nvPr/>
                </p:nvSpPr>
                <p:spPr>
                  <a:xfrm>
                    <a:off x="6862680" y="3654000"/>
                    <a:ext cx="3312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75"/>
                  <p:cNvSpPr/>
                  <p:nvPr/>
                </p:nvSpPr>
                <p:spPr>
                  <a:xfrm>
                    <a:off x="6879600" y="3658680"/>
                    <a:ext cx="432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7" name="Group 76"/>
                  <p:cNvGrpSpPr/>
                  <p:nvPr/>
                </p:nvGrpSpPr>
                <p:grpSpPr>
                  <a:xfrm>
                    <a:off x="6852600" y="3549960"/>
                    <a:ext cx="54000" cy="114480"/>
                    <a:chOff x="6852600" y="3549960"/>
                    <a:chExt cx="54000" cy="114480"/>
                  </a:xfrm>
                </p:grpSpPr>
                <p:sp>
                  <p:nvSpPr>
                    <p:cNvPr id="458" name="Oval 77"/>
                    <p:cNvSpPr/>
                    <p:nvPr/>
                  </p:nvSpPr>
                  <p:spPr>
                    <a:xfrm>
                      <a:off x="6855480" y="3549960"/>
                      <a:ext cx="4932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8"/>
                    <p:cNvSpPr/>
                    <p:nvPr/>
                  </p:nvSpPr>
                  <p:spPr>
                    <a:xfrm>
                      <a:off x="6852600" y="3567600"/>
                      <a:ext cx="5400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79"/>
                  <p:cNvGrpSpPr/>
                  <p:nvPr/>
                </p:nvGrpSpPr>
                <p:grpSpPr>
                  <a:xfrm>
                    <a:off x="6869160" y="3674520"/>
                    <a:ext cx="18720" cy="111240"/>
                    <a:chOff x="6869160" y="3674520"/>
                    <a:chExt cx="18720" cy="111240"/>
                  </a:xfrm>
                </p:grpSpPr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6872400" y="3677760"/>
                      <a:ext cx="360" cy="108000"/>
                      <a:chOff x="6872400" y="3677760"/>
                      <a:chExt cx="360" cy="108000"/>
                    </a:xfrm>
                  </p:grpSpPr>
                  <p:sp>
                    <p:nvSpPr>
                      <p:cNvPr id="462" name="Line 80"/>
                      <p:cNvSpPr/>
                      <p:nvPr/>
                    </p:nvSpPr>
                    <p:spPr>
                      <a:xfrm>
                        <a:off x="6872400" y="367776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"/>
                      <p:cNvSpPr txBox="1"/>
                      <p:nvPr/>
                    </p:nvSpPr>
                    <p:spPr>
                      <a:xfrm>
                        <a:off x="6872400" y="367776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4" name=""/>
                    <p:cNvGrpSpPr/>
                    <p:nvPr/>
                  </p:nvGrpSpPr>
                  <p:grpSpPr>
                    <a:xfrm>
                      <a:off x="6884640" y="3677400"/>
                      <a:ext cx="720" cy="107640"/>
                      <a:chOff x="6884640" y="3677400"/>
                      <a:chExt cx="720" cy="107640"/>
                    </a:xfrm>
                  </p:grpSpPr>
                  <p:sp>
                    <p:nvSpPr>
                      <p:cNvPr id="465" name="Line 81"/>
                      <p:cNvSpPr/>
                      <p:nvPr/>
                    </p:nvSpPr>
                    <p:spPr>
                      <a:xfrm flipV="1">
                        <a:off x="6885000" y="367740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"/>
                      <p:cNvSpPr txBox="1"/>
                      <p:nvPr/>
                    </p:nvSpPr>
                    <p:spPr>
                      <a:xfrm rot="10800000">
                        <a:off x="6884640" y="36774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7" name=""/>
                    <p:cNvGrpSpPr/>
                    <p:nvPr/>
                  </p:nvGrpSpPr>
                  <p:grpSpPr>
                    <a:xfrm>
                      <a:off x="6887520" y="3674520"/>
                      <a:ext cx="360" cy="107640"/>
                      <a:chOff x="6887520" y="3674520"/>
                      <a:chExt cx="360" cy="107640"/>
                    </a:xfrm>
                  </p:grpSpPr>
                  <p:sp>
                    <p:nvSpPr>
                      <p:cNvPr id="468" name="Line 82"/>
                      <p:cNvSpPr/>
                      <p:nvPr/>
                    </p:nvSpPr>
                    <p:spPr>
                      <a:xfrm flipV="1">
                        <a:off x="6887880" y="367452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"/>
                      <p:cNvSpPr txBox="1"/>
                      <p:nvPr/>
                    </p:nvSpPr>
                    <p:spPr>
                      <a:xfrm rot="10800000">
                        <a:off x="6887520" y="367452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0" name=""/>
                    <p:cNvGrpSpPr/>
                    <p:nvPr/>
                  </p:nvGrpSpPr>
                  <p:grpSpPr>
                    <a:xfrm>
                      <a:off x="6869160" y="3674520"/>
                      <a:ext cx="360" cy="107640"/>
                      <a:chOff x="6869160" y="3674520"/>
                      <a:chExt cx="360" cy="107640"/>
                    </a:xfrm>
                  </p:grpSpPr>
                  <p:sp>
                    <p:nvSpPr>
                      <p:cNvPr id="471" name="Line 83"/>
                      <p:cNvSpPr/>
                      <p:nvPr/>
                    </p:nvSpPr>
                    <p:spPr>
                      <a:xfrm flipV="1">
                        <a:off x="6869520" y="367452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2" name=""/>
                      <p:cNvSpPr txBox="1"/>
                      <p:nvPr/>
                    </p:nvSpPr>
                    <p:spPr>
                      <a:xfrm rot="10800000">
                        <a:off x="6869160" y="367452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73" name="Freeform 84"/>
                <p:cNvSpPr/>
                <p:nvPr/>
              </p:nvSpPr>
              <p:spPr>
                <a:xfrm>
                  <a:off x="6876000" y="3727440"/>
                  <a:ext cx="52200" cy="9396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Rectangle 85"/>
              <p:cNvSpPr/>
              <p:nvPr/>
            </p:nvSpPr>
            <p:spPr>
              <a:xfrm>
                <a:off x="6745680" y="3858840"/>
                <a:ext cx="260280" cy="218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5" name="xjhsy7" descr="w52"/>
          <p:cNvPicPr/>
          <p:nvPr/>
        </p:nvPicPr>
        <p:blipFill>
          <a:blip r:embed="rId5"/>
          <a:stretch/>
        </p:blipFill>
        <p:spPr>
          <a:xfrm>
            <a:off x="3132000" y="3933720"/>
            <a:ext cx="1800360" cy="188604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87"/>
          <p:cNvSpPr/>
          <p:nvPr/>
        </p:nvSpPr>
        <p:spPr>
          <a:xfrm>
            <a:off x="8244000" y="522936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8261640" y="3714840"/>
            <a:ext cx="4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xjhsy9" descr="w61"/>
          <p:cNvPicPr/>
          <p:nvPr/>
        </p:nvPicPr>
        <p:blipFill>
          <a:blip r:embed="rId6"/>
          <a:stretch/>
        </p:blipFill>
        <p:spPr>
          <a:xfrm>
            <a:off x="755640" y="3860640"/>
            <a:ext cx="1655640" cy="20257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90"/>
          <p:cNvSpPr/>
          <p:nvPr/>
        </p:nvSpPr>
        <p:spPr>
          <a:xfrm>
            <a:off x="36360" y="322200"/>
            <a:ext cx="91440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图中的电路元件连接成电路。要求两个灯泡是串联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表能测出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表能测出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91"/>
          <p:cNvSpPr/>
          <p:nvPr/>
        </p:nvSpPr>
        <p:spPr>
          <a:xfrm>
            <a:off x="3635280" y="2349360"/>
            <a:ext cx="2881440" cy="142920"/>
          </a:xfrm>
          <a:custGeom>
            <a:avLst/>
            <a:gdLst/>
            <a:ahLst/>
            <a:rect l="l" t="t" r="r" b="b"/>
            <a:pathLst>
              <a:path w="1815" h="90">
                <a:moveTo>
                  <a:pt x="0" y="90"/>
                </a:moveTo>
                <a:cubicBezTo>
                  <a:pt x="756" y="52"/>
                  <a:pt x="1513" y="15"/>
                  <a:pt x="1815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92"/>
          <p:cNvSpPr/>
          <p:nvPr/>
        </p:nvSpPr>
        <p:spPr>
          <a:xfrm>
            <a:off x="7308720" y="2421000"/>
            <a:ext cx="766800" cy="1512720"/>
          </a:xfrm>
          <a:custGeom>
            <a:avLst/>
            <a:gdLst/>
            <a:ahLst/>
            <a:rect l="l" t="t" r="r" b="b"/>
            <a:pathLst>
              <a:path w="483" h="953">
                <a:moveTo>
                  <a:pt x="0" y="0"/>
                </a:moveTo>
                <a:cubicBezTo>
                  <a:pt x="211" y="124"/>
                  <a:pt x="423" y="249"/>
                  <a:pt x="453" y="408"/>
                </a:cubicBezTo>
                <a:cubicBezTo>
                  <a:pt x="483" y="567"/>
                  <a:pt x="219" y="862"/>
                  <a:pt x="181" y="95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93"/>
          <p:cNvSpPr/>
          <p:nvPr/>
        </p:nvSpPr>
        <p:spPr>
          <a:xfrm>
            <a:off x="5987880" y="3933720"/>
            <a:ext cx="384480" cy="1366920"/>
          </a:xfrm>
          <a:custGeom>
            <a:avLst/>
            <a:gdLst/>
            <a:ahLst/>
            <a:rect l="l" t="t" r="r" b="b"/>
            <a:pathLst>
              <a:path w="287" h="907">
                <a:moveTo>
                  <a:pt x="197" y="0"/>
                </a:moveTo>
                <a:cubicBezTo>
                  <a:pt x="98" y="128"/>
                  <a:pt x="0" y="257"/>
                  <a:pt x="15" y="408"/>
                </a:cubicBezTo>
                <a:cubicBezTo>
                  <a:pt x="30" y="559"/>
                  <a:pt x="158" y="733"/>
                  <a:pt x="287" y="90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94"/>
          <p:cNvSpPr/>
          <p:nvPr/>
        </p:nvSpPr>
        <p:spPr>
          <a:xfrm>
            <a:off x="1619280" y="5157720"/>
            <a:ext cx="6288120" cy="1103400"/>
          </a:xfrm>
          <a:custGeom>
            <a:avLst/>
            <a:gdLst/>
            <a:ahLst/>
            <a:rect l="l" t="t" r="r" b="b"/>
            <a:pathLst>
              <a:path w="4097" h="695">
                <a:moveTo>
                  <a:pt x="3946" y="90"/>
                </a:moveTo>
                <a:cubicBezTo>
                  <a:pt x="4021" y="222"/>
                  <a:pt x="4097" y="355"/>
                  <a:pt x="3765" y="453"/>
                </a:cubicBezTo>
                <a:cubicBezTo>
                  <a:pt x="3433" y="551"/>
                  <a:pt x="2518" y="665"/>
                  <a:pt x="1951" y="680"/>
                </a:cubicBezTo>
                <a:cubicBezTo>
                  <a:pt x="1384" y="695"/>
                  <a:pt x="688" y="657"/>
                  <a:pt x="363" y="544"/>
                </a:cubicBezTo>
                <a:cubicBezTo>
                  <a:pt x="38" y="431"/>
                  <a:pt x="60" y="91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5"/>
          <p:cNvSpPr/>
          <p:nvPr/>
        </p:nvSpPr>
        <p:spPr>
          <a:xfrm>
            <a:off x="431640" y="2492280"/>
            <a:ext cx="1764000" cy="2665440"/>
          </a:xfrm>
          <a:custGeom>
            <a:avLst/>
            <a:gdLst/>
            <a:ahLst/>
            <a:rect l="l" t="t" r="r" b="b"/>
            <a:pathLst>
              <a:path w="1111" h="1679">
                <a:moveTo>
                  <a:pt x="431" y="1679"/>
                </a:moveTo>
                <a:cubicBezTo>
                  <a:pt x="215" y="1592"/>
                  <a:pt x="0" y="1505"/>
                  <a:pt x="113" y="1225"/>
                </a:cubicBezTo>
                <a:cubicBezTo>
                  <a:pt x="226" y="945"/>
                  <a:pt x="945" y="204"/>
                  <a:pt x="1111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96"/>
          <p:cNvSpPr/>
          <p:nvPr/>
        </p:nvSpPr>
        <p:spPr>
          <a:xfrm>
            <a:off x="3827520" y="2986200"/>
            <a:ext cx="3840120" cy="2698560"/>
          </a:xfrm>
          <a:custGeom>
            <a:avLst/>
            <a:gdLst/>
            <a:ahLst/>
            <a:rect l="l" t="t" r="r" b="b"/>
            <a:pathLst>
              <a:path w="2419" h="1700">
                <a:moveTo>
                  <a:pt x="15" y="1368"/>
                </a:moveTo>
                <a:cubicBezTo>
                  <a:pt x="7" y="1519"/>
                  <a:pt x="0" y="1670"/>
                  <a:pt x="106" y="1685"/>
                </a:cubicBezTo>
                <a:cubicBezTo>
                  <a:pt x="212" y="1700"/>
                  <a:pt x="522" y="1700"/>
                  <a:pt x="650" y="1458"/>
                </a:cubicBezTo>
                <a:cubicBezTo>
                  <a:pt x="778" y="1216"/>
                  <a:pt x="741" y="468"/>
                  <a:pt x="877" y="234"/>
                </a:cubicBezTo>
                <a:cubicBezTo>
                  <a:pt x="1013" y="0"/>
                  <a:pt x="1248" y="75"/>
                  <a:pt x="1467" y="52"/>
                </a:cubicBezTo>
                <a:cubicBezTo>
                  <a:pt x="1686" y="29"/>
                  <a:pt x="2034" y="7"/>
                  <a:pt x="2193" y="98"/>
                </a:cubicBezTo>
                <a:cubicBezTo>
                  <a:pt x="2352" y="189"/>
                  <a:pt x="2381" y="514"/>
                  <a:pt x="2419" y="59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97"/>
          <p:cNvSpPr/>
          <p:nvPr/>
        </p:nvSpPr>
        <p:spPr>
          <a:xfrm>
            <a:off x="3371760" y="5157720"/>
            <a:ext cx="3000600" cy="803520"/>
          </a:xfrm>
          <a:custGeom>
            <a:avLst/>
            <a:gdLst/>
            <a:ahLst/>
            <a:rect l="l" t="t" r="r" b="b"/>
            <a:pathLst>
              <a:path w="1890" h="506">
                <a:moveTo>
                  <a:pt x="121" y="0"/>
                </a:moveTo>
                <a:cubicBezTo>
                  <a:pt x="60" y="162"/>
                  <a:pt x="0" y="325"/>
                  <a:pt x="76" y="408"/>
                </a:cubicBezTo>
                <a:cubicBezTo>
                  <a:pt x="152" y="491"/>
                  <a:pt x="394" y="506"/>
                  <a:pt x="575" y="499"/>
                </a:cubicBezTo>
                <a:cubicBezTo>
                  <a:pt x="756" y="492"/>
                  <a:pt x="945" y="431"/>
                  <a:pt x="1164" y="363"/>
                </a:cubicBezTo>
                <a:cubicBezTo>
                  <a:pt x="1383" y="295"/>
                  <a:pt x="1769" y="135"/>
                  <a:pt x="1890" y="9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0" y="620640"/>
            <a:ext cx="92962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课本</a:t>
            </a: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9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动手动脑学物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练习册</a:t>
            </a: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9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</a:t>
            </a: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30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预习第二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179280" y="76500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、电压用字母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、电压的国际单位是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，简称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，用符号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千伏</a:t>
            </a: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=</a:t>
            </a:r>
            <a:r>
              <a:rPr b="0" lang="en-US" sz="3600" spc="-1" strike="noStrike" u="sng">
                <a:solidFill>
                  <a:srgbClr val="1f497d"/>
                </a:solidFill>
                <a:uFillTx/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伏，</a:t>
            </a: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伏</a:t>
            </a: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=</a:t>
            </a:r>
            <a:r>
              <a:rPr b="0" lang="en-US" sz="3600" spc="-1" strike="noStrike" u="sng">
                <a:solidFill>
                  <a:srgbClr val="1f497d"/>
                </a:solidFill>
                <a:uFillTx/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毫伏，</a:t>
            </a: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毫伏</a:t>
            </a: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=</a:t>
            </a:r>
            <a:r>
              <a:rPr b="0" lang="en-US" sz="3600" spc="-1" strike="noStrike" u="sng">
                <a:solidFill>
                  <a:srgbClr val="1f497d"/>
                </a:solidFill>
                <a:uFillTx/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微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、常见的电压值：一节普通干电池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伏，一只蓄电池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伏，对人体的安全电压</a:t>
            </a:r>
            <a:r>
              <a:rPr b="1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 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伏，家庭照明电路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3419640" y="69228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427640" y="112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伏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7308720" y="1125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692360" y="170028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124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5003640" y="242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684360" y="2924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524720" y="35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3492360" y="40053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250920" y="458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不大于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6516720" y="450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4"/>
          <p:cNvSpPr/>
          <p:nvPr/>
        </p:nvSpPr>
        <p:spPr>
          <a:xfrm>
            <a:off x="747360" y="0"/>
            <a:ext cx="18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习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46836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、电压表是用来测量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大小的仪器，符号是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、实验室用的电压表有三个接线柱，两个量程是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和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，最小刻度值分别为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伏和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4643280" y="40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124000" y="1413000"/>
            <a:ext cx="360360" cy="360"/>
            <a:chOff x="2124000" y="1413000"/>
            <a:chExt cx="360360" cy="360"/>
          </a:xfrm>
        </p:grpSpPr>
        <p:sp>
          <p:nvSpPr>
            <p:cNvPr id="504" name="Line 4"/>
            <p:cNvSpPr/>
            <p:nvPr/>
          </p:nvSpPr>
          <p:spPr>
            <a:xfrm>
              <a:off x="2124000" y="1413000"/>
              <a:ext cx="36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2124000" y="1413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124000" y="1413000"/>
            <a:ext cx="792360" cy="71280"/>
            <a:chOff x="2124000" y="1413000"/>
            <a:chExt cx="792360" cy="71280"/>
          </a:xfrm>
        </p:grpSpPr>
        <p:sp>
          <p:nvSpPr>
            <p:cNvPr id="507" name="Line 5"/>
            <p:cNvSpPr/>
            <p:nvPr/>
          </p:nvSpPr>
          <p:spPr>
            <a:xfrm>
              <a:off x="2124000" y="1413000"/>
              <a:ext cx="792360" cy="71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2124000" y="1413000"/>
              <a:ext cx="792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6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7"/>
          <p:cNvSpPr/>
          <p:nvPr/>
        </p:nvSpPr>
        <p:spPr>
          <a:xfrm>
            <a:off x="2195640" y="2060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0--3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780000" y="2060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0--15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1187280" y="256536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3132000" y="2565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0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11280" y="333000"/>
            <a:ext cx="5761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比较水流和电流的相似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22760" y="1341360"/>
            <a:ext cx="362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电路中形成持续电流的条件是什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796000" y="2852640"/>
            <a:ext cx="3168720" cy="1169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闭合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有电压的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698120" y="4800240"/>
            <a:ext cx="916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抽水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 flipH="1" flipV="1">
            <a:off x="3051000" y="495216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427640" y="4723920"/>
            <a:ext cx="14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flipH="1" flipV="1">
            <a:off x="5641920" y="495216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407360" y="4723920"/>
            <a:ext cx="672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645920" y="5571720"/>
            <a:ext cx="88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  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 flipH="1" flipV="1">
            <a:off x="3051000" y="579060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573440" y="5562000"/>
            <a:ext cx="107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flipH="1" flipV="1">
            <a:off x="5641920" y="579060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7347600" y="5585760"/>
            <a:ext cx="77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395280" y="4292640"/>
            <a:ext cx="794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类 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水流和电流的形成"/>
          <p:cNvPicPr/>
          <p:nvPr/>
        </p:nvPicPr>
        <p:blipFill>
          <a:blip r:embed="rId1"/>
          <a:stretch/>
        </p:blipFill>
        <p:spPr>
          <a:xfrm>
            <a:off x="179280" y="1125360"/>
            <a:ext cx="5400720" cy="34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539640" y="1360080"/>
            <a:ext cx="795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、电压表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）、必须把电压表</a:t>
            </a:r>
            <a:r>
              <a:rPr b="0" lang="zh-CN" sz="4400" spc="-1" strike="noStrike" u="sng">
                <a:solidFill>
                  <a:srgbClr val="1f497d"/>
                </a:solidFill>
                <a:uFillTx/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联在被测电路的两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）电压表的“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+”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接线柱应接在跟电源</a:t>
            </a:r>
            <a:r>
              <a:rPr b="0" lang="zh-CN" sz="4400" spc="-1" strike="noStrike" u="sng">
                <a:solidFill>
                  <a:srgbClr val="1f497d"/>
                </a:solidFill>
                <a:uFillTx/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相连的那一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）被测的电压不能超过电压表的</a:t>
            </a:r>
            <a:r>
              <a:rPr b="0" lang="zh-CN" sz="4400" spc="-1" strike="noStrike" u="sng">
                <a:solidFill>
                  <a:srgbClr val="1f497d"/>
                </a:solidFill>
                <a:uFillTx/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6012000" y="12682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2195640" y="328464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正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619280" y="458136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量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647640" y="1530720"/>
            <a:ext cx="80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、有关电路中电压和电流关系的说法中，不正确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电路中有电压，一定形成电流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电路中有电流，必须要有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电路中没有电压，一定没有电流形成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电路中没有电流，可能有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"/>
          <p:cNvGrpSpPr/>
          <p:nvPr/>
        </p:nvGrpSpPr>
        <p:grpSpPr>
          <a:xfrm>
            <a:off x="395280" y="2852640"/>
            <a:ext cx="8207280" cy="3713040"/>
            <a:chOff x="395280" y="2852640"/>
            <a:chExt cx="8207280" cy="3713040"/>
          </a:xfrm>
        </p:grpSpPr>
        <p:grpSp>
          <p:nvGrpSpPr>
            <p:cNvPr id="520" name="Group 3"/>
            <p:cNvGrpSpPr/>
            <p:nvPr/>
          </p:nvGrpSpPr>
          <p:grpSpPr>
            <a:xfrm>
              <a:off x="466560" y="4265280"/>
              <a:ext cx="8136000" cy="2300400"/>
              <a:chOff x="466560" y="4265280"/>
              <a:chExt cx="8136000" cy="2300400"/>
            </a:xfrm>
          </p:grpSpPr>
          <p:pic>
            <p:nvPicPr>
              <p:cNvPr id="521" name="Picture 4" descr="Image1"/>
              <p:cNvPicPr/>
              <p:nvPr/>
            </p:nvPicPr>
            <p:blipFill>
              <a:blip r:embed="rId1"/>
              <a:srcRect l="37799" t="0" r="35417" b="4169"/>
              <a:stretch/>
            </p:blipFill>
            <p:spPr>
              <a:xfrm>
                <a:off x="3273480" y="4265280"/>
                <a:ext cx="2449440" cy="23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Picture 5" descr="Image1"/>
              <p:cNvPicPr/>
              <p:nvPr/>
            </p:nvPicPr>
            <p:blipFill>
              <a:blip r:embed="rId2"/>
              <a:srcRect l="1181" t="0" r="71272" b="17127"/>
              <a:stretch/>
            </p:blipFill>
            <p:spPr>
              <a:xfrm>
                <a:off x="466560" y="4265280"/>
                <a:ext cx="2519640" cy="198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6" descr="Image1"/>
              <p:cNvPicPr/>
              <p:nvPr/>
            </p:nvPicPr>
            <p:blipFill>
              <a:blip r:embed="rId3"/>
              <a:srcRect l="73232" t="0" r="0" b="18056"/>
              <a:stretch/>
            </p:blipFill>
            <p:spPr>
              <a:xfrm>
                <a:off x="6154560" y="4265280"/>
                <a:ext cx="2448000" cy="196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4" name="Rectangle 7"/>
            <p:cNvSpPr/>
            <p:nvPr/>
          </p:nvSpPr>
          <p:spPr>
            <a:xfrm>
              <a:off x="395280" y="2852640"/>
              <a:ext cx="81374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10</a:t>
              </a:r>
              <a:r>
                <a:rPr b="1" lang="zh-CN" sz="3200" spc="-1" strike="noStrike">
                  <a:solidFill>
                    <a:srgbClr val="003366"/>
                  </a:solidFill>
                  <a:latin typeface="Times New Roman"/>
                </a:rPr>
                <a:t>．在下面各电路图的</a:t>
              </a: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3366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3366"/>
                  </a:solidFill>
                  <a:latin typeface="Times New Roman"/>
                </a:rPr>
                <a:t>圆圈中填上适当的字母，表示不同的电表，并在图中标明正负接线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8"/>
          <p:cNvSpPr/>
          <p:nvPr/>
        </p:nvSpPr>
        <p:spPr>
          <a:xfrm>
            <a:off x="395280" y="1125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压使电路中形成＿＿的原因，＿＿是提供电压的装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2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＿＿＿千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＿＿＿＿毫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4140360" y="1268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6588000" y="12682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2340000" y="2276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4572000" y="2276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2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1332000" y="5348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2411280" y="4869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5219640" y="486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8028000" y="4843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4140360" y="5708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7020000" y="530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901800" y="549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＋ 　 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3851280" y="59245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＋  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1"/>
          <p:cNvSpPr/>
          <p:nvPr/>
        </p:nvSpPr>
        <p:spPr>
          <a:xfrm>
            <a:off x="6732720" y="5419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＋   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2484360" y="4656240"/>
            <a:ext cx="5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3"/>
          <p:cNvSpPr/>
          <p:nvPr/>
        </p:nvSpPr>
        <p:spPr>
          <a:xfrm>
            <a:off x="5327640" y="4581360"/>
            <a:ext cx="53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4"/>
          <p:cNvSpPr/>
          <p:nvPr/>
        </p:nvSpPr>
        <p:spPr>
          <a:xfrm>
            <a:off x="8172360" y="4581360"/>
            <a:ext cx="5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900000" y="692280"/>
            <a:ext cx="73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说出下列电压表测的是什么电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Image1"/>
          <p:cNvPicPr/>
          <p:nvPr/>
        </p:nvPicPr>
        <p:blipFill>
          <a:blip r:embed="rId1"/>
          <a:stretch/>
        </p:blipFill>
        <p:spPr>
          <a:xfrm>
            <a:off x="1547640" y="1333440"/>
            <a:ext cx="61200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xjhsy8" descr="w7"/>
          <p:cNvPicPr/>
          <p:nvPr/>
        </p:nvPicPr>
        <p:blipFill>
          <a:blip r:embed="rId1"/>
          <a:stretch/>
        </p:blipFill>
        <p:spPr>
          <a:xfrm>
            <a:off x="6156360" y="1628640"/>
            <a:ext cx="1430280" cy="1204920"/>
          </a:xfrm>
          <a:prstGeom prst="rect">
            <a:avLst/>
          </a:prstGeom>
          <a:ln w="0">
            <a:noFill/>
          </a:ln>
        </p:spPr>
      </p:pic>
      <p:pic>
        <p:nvPicPr>
          <p:cNvPr id="545" name="xjhsy4" descr="w3"/>
          <p:cNvPicPr/>
          <p:nvPr/>
        </p:nvPicPr>
        <p:blipFill>
          <a:blip r:embed="rId2"/>
          <a:stretch/>
        </p:blipFill>
        <p:spPr>
          <a:xfrm>
            <a:off x="1763640" y="1700280"/>
            <a:ext cx="2879640" cy="1334880"/>
          </a:xfrm>
          <a:prstGeom prst="rect">
            <a:avLst/>
          </a:prstGeom>
          <a:ln w="0">
            <a:noFill/>
          </a:ln>
        </p:spPr>
      </p:pic>
      <p:grpSp>
        <p:nvGrpSpPr>
          <p:cNvPr id="546" name="xjhsy3"/>
          <p:cNvGrpSpPr/>
          <p:nvPr/>
        </p:nvGrpSpPr>
        <p:grpSpPr>
          <a:xfrm>
            <a:off x="6012000" y="4797360"/>
            <a:ext cx="1790640" cy="791280"/>
            <a:chOff x="6012000" y="4797360"/>
            <a:chExt cx="1790640" cy="791280"/>
          </a:xfrm>
        </p:grpSpPr>
        <p:grpSp>
          <p:nvGrpSpPr>
            <p:cNvPr id="547" name="Group 5"/>
            <p:cNvGrpSpPr/>
            <p:nvPr/>
          </p:nvGrpSpPr>
          <p:grpSpPr>
            <a:xfrm>
              <a:off x="6012000" y="5189760"/>
              <a:ext cx="1790640" cy="398880"/>
              <a:chOff x="6012000" y="5189760"/>
              <a:chExt cx="1790640" cy="398880"/>
            </a:xfrm>
          </p:grpSpPr>
          <p:sp>
            <p:nvSpPr>
              <p:cNvPr id="548" name="Freeform 6"/>
              <p:cNvSpPr/>
              <p:nvPr/>
            </p:nvSpPr>
            <p:spPr>
              <a:xfrm flipV="1">
                <a:off x="6012000" y="5510160"/>
                <a:ext cx="179064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utoShape 7"/>
              <p:cNvSpPr/>
              <p:nvPr/>
            </p:nvSpPr>
            <p:spPr>
              <a:xfrm>
                <a:off x="7592040" y="5192280"/>
                <a:ext cx="152640" cy="2552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utoShape 8"/>
              <p:cNvSpPr/>
              <p:nvPr/>
            </p:nvSpPr>
            <p:spPr>
              <a:xfrm>
                <a:off x="6313320" y="5189760"/>
                <a:ext cx="152640" cy="2552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9"/>
            <p:cNvGrpSpPr/>
            <p:nvPr/>
          </p:nvGrpSpPr>
          <p:grpSpPr>
            <a:xfrm>
              <a:off x="6817320" y="4797360"/>
              <a:ext cx="260280" cy="648000"/>
              <a:chOff x="6817320" y="4797360"/>
              <a:chExt cx="260280" cy="648000"/>
            </a:xfrm>
          </p:grpSpPr>
          <p:grpSp>
            <p:nvGrpSpPr>
              <p:cNvPr id="552" name="Group 10"/>
              <p:cNvGrpSpPr/>
              <p:nvPr/>
            </p:nvGrpSpPr>
            <p:grpSpPr>
              <a:xfrm>
                <a:off x="6854400" y="4797360"/>
                <a:ext cx="194040" cy="507600"/>
                <a:chOff x="6854400" y="4797360"/>
                <a:chExt cx="194040" cy="507600"/>
              </a:xfrm>
            </p:grpSpPr>
            <p:grpSp>
              <p:nvGrpSpPr>
                <p:cNvPr id="553" name="Group 11"/>
                <p:cNvGrpSpPr/>
                <p:nvPr/>
              </p:nvGrpSpPr>
              <p:grpSpPr>
                <a:xfrm>
                  <a:off x="6907320" y="5186160"/>
                  <a:ext cx="87840" cy="118800"/>
                  <a:chOff x="6907320" y="5186160"/>
                  <a:chExt cx="87840" cy="118800"/>
                </a:xfrm>
              </p:grpSpPr>
              <p:grpSp>
                <p:nvGrpSpPr>
                  <p:cNvPr id="554" name="Group 12"/>
                  <p:cNvGrpSpPr/>
                  <p:nvPr/>
                </p:nvGrpSpPr>
                <p:grpSpPr>
                  <a:xfrm>
                    <a:off x="6907320" y="5186160"/>
                    <a:ext cx="87840" cy="118800"/>
                    <a:chOff x="6907320" y="5186160"/>
                    <a:chExt cx="87840" cy="118800"/>
                  </a:xfrm>
                </p:grpSpPr>
                <p:grpSp>
                  <p:nvGrpSpPr>
                    <p:cNvPr id="555" name="Group 13"/>
                    <p:cNvGrpSpPr/>
                    <p:nvPr/>
                  </p:nvGrpSpPr>
                  <p:grpSpPr>
                    <a:xfrm>
                      <a:off x="6929280" y="5277600"/>
                      <a:ext cx="47880" cy="27360"/>
                      <a:chOff x="6929280" y="5277600"/>
                      <a:chExt cx="47880" cy="27360"/>
                    </a:xfrm>
                  </p:grpSpPr>
                  <p:sp>
                    <p:nvSpPr>
                      <p:cNvPr id="556" name="Freeform 14"/>
                      <p:cNvSpPr/>
                      <p:nvPr/>
                    </p:nvSpPr>
                    <p:spPr>
                      <a:xfrm>
                        <a:off x="6929280" y="5277600"/>
                        <a:ext cx="4788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7" name="Freeform 15"/>
                      <p:cNvSpPr/>
                      <p:nvPr/>
                    </p:nvSpPr>
                    <p:spPr>
                      <a:xfrm>
                        <a:off x="6936480" y="5277600"/>
                        <a:ext cx="2124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8" name="Group 16"/>
                    <p:cNvGrpSpPr/>
                    <p:nvPr/>
                  </p:nvGrpSpPr>
                  <p:grpSpPr>
                    <a:xfrm>
                      <a:off x="6907320" y="5186160"/>
                      <a:ext cx="87840" cy="99000"/>
                      <a:chOff x="6907320" y="5186160"/>
                      <a:chExt cx="87840" cy="99000"/>
                    </a:xfrm>
                  </p:grpSpPr>
                  <p:sp>
                    <p:nvSpPr>
                      <p:cNvPr id="559" name="Freeform 17"/>
                      <p:cNvSpPr/>
                      <p:nvPr/>
                    </p:nvSpPr>
                    <p:spPr>
                      <a:xfrm>
                        <a:off x="6907320" y="5186160"/>
                        <a:ext cx="878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Freeform 18"/>
                      <p:cNvSpPr/>
                      <p:nvPr/>
                    </p:nvSpPr>
                    <p:spPr>
                      <a:xfrm>
                        <a:off x="6907680" y="5199120"/>
                        <a:ext cx="108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1" name="Freeform 19"/>
                      <p:cNvSpPr/>
                      <p:nvPr/>
                    </p:nvSpPr>
                    <p:spPr>
                      <a:xfrm>
                        <a:off x="6908040" y="521640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2" name="Freeform 20"/>
                      <p:cNvSpPr/>
                      <p:nvPr/>
                    </p:nvSpPr>
                    <p:spPr>
                      <a:xfrm>
                        <a:off x="6907320" y="5230800"/>
                        <a:ext cx="165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3" name="Freeform 21"/>
                      <p:cNvSpPr/>
                      <p:nvPr/>
                    </p:nvSpPr>
                    <p:spPr>
                      <a:xfrm>
                        <a:off x="6909120" y="5246640"/>
                        <a:ext cx="198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4" name="Freeform 22"/>
                      <p:cNvSpPr/>
                      <p:nvPr/>
                    </p:nvSpPr>
                    <p:spPr>
                      <a:xfrm>
                        <a:off x="6909480" y="5189400"/>
                        <a:ext cx="82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5" name="Freeform 23"/>
                      <p:cNvSpPr/>
                      <p:nvPr/>
                    </p:nvSpPr>
                    <p:spPr>
                      <a:xfrm>
                        <a:off x="6924600" y="5187240"/>
                        <a:ext cx="705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66" name="Group 24"/>
                  <p:cNvGrpSpPr/>
                  <p:nvPr/>
                </p:nvGrpSpPr>
                <p:grpSpPr>
                  <a:xfrm>
                    <a:off x="6966000" y="5202000"/>
                    <a:ext cx="20880" cy="60120"/>
                    <a:chOff x="6966000" y="5202000"/>
                    <a:chExt cx="20880" cy="60120"/>
                  </a:xfrm>
                </p:grpSpPr>
                <p:sp>
                  <p:nvSpPr>
                    <p:cNvPr id="567" name="Freeform 25"/>
                    <p:cNvSpPr/>
                    <p:nvPr/>
                  </p:nvSpPr>
                  <p:spPr>
                    <a:xfrm>
                      <a:off x="6969960" y="5217840"/>
                      <a:ext cx="162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26"/>
                    <p:cNvSpPr/>
                    <p:nvPr/>
                  </p:nvSpPr>
                  <p:spPr>
                    <a:xfrm>
                      <a:off x="6972840" y="5233320"/>
                      <a:ext cx="140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Freeform 27"/>
                    <p:cNvSpPr/>
                    <p:nvPr/>
                  </p:nvSpPr>
                  <p:spPr>
                    <a:xfrm>
                      <a:off x="6972120" y="5251680"/>
                      <a:ext cx="144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Freeform 28"/>
                    <p:cNvSpPr/>
                    <p:nvPr/>
                  </p:nvSpPr>
                  <p:spPr>
                    <a:xfrm>
                      <a:off x="6966000" y="5202000"/>
                      <a:ext cx="165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71" name="Freeform 29"/>
                <p:cNvSpPr/>
                <p:nvPr/>
              </p:nvSpPr>
              <p:spPr>
                <a:xfrm>
                  <a:off x="6854400" y="4797360"/>
                  <a:ext cx="194040" cy="402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Oval 30"/>
                <p:cNvSpPr/>
                <p:nvPr/>
              </p:nvSpPr>
              <p:spPr>
                <a:xfrm>
                  <a:off x="6908760" y="5153760"/>
                  <a:ext cx="849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31"/>
                <p:cNvSpPr/>
                <p:nvPr/>
              </p:nvSpPr>
              <p:spPr>
                <a:xfrm>
                  <a:off x="6997680" y="4837680"/>
                  <a:ext cx="3240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Group 32"/>
                <p:cNvGrpSpPr/>
                <p:nvPr/>
              </p:nvGrpSpPr>
              <p:grpSpPr>
                <a:xfrm>
                  <a:off x="6924240" y="4918320"/>
                  <a:ext cx="54000" cy="249480"/>
                  <a:chOff x="6924240" y="4918320"/>
                  <a:chExt cx="54000" cy="249480"/>
                </a:xfrm>
              </p:grpSpPr>
              <p:sp>
                <p:nvSpPr>
                  <p:cNvPr id="575" name="Freeform 33"/>
                  <p:cNvSpPr/>
                  <p:nvPr/>
                </p:nvSpPr>
                <p:spPr>
                  <a:xfrm>
                    <a:off x="6934320" y="5022360"/>
                    <a:ext cx="3312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34"/>
                  <p:cNvSpPr/>
                  <p:nvPr/>
                </p:nvSpPr>
                <p:spPr>
                  <a:xfrm>
                    <a:off x="6951240" y="5027040"/>
                    <a:ext cx="432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7" name="Group 35"/>
                  <p:cNvGrpSpPr/>
                  <p:nvPr/>
                </p:nvGrpSpPr>
                <p:grpSpPr>
                  <a:xfrm>
                    <a:off x="6924240" y="4918320"/>
                    <a:ext cx="54000" cy="114480"/>
                    <a:chOff x="6924240" y="4918320"/>
                    <a:chExt cx="54000" cy="114480"/>
                  </a:xfrm>
                </p:grpSpPr>
                <p:sp>
                  <p:nvSpPr>
                    <p:cNvPr id="578" name="Oval 36"/>
                    <p:cNvSpPr/>
                    <p:nvPr/>
                  </p:nvSpPr>
                  <p:spPr>
                    <a:xfrm>
                      <a:off x="6927120" y="4918320"/>
                      <a:ext cx="4932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Freeform 37"/>
                    <p:cNvSpPr/>
                    <p:nvPr/>
                  </p:nvSpPr>
                  <p:spPr>
                    <a:xfrm>
                      <a:off x="6924240" y="4935960"/>
                      <a:ext cx="5400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Group 38"/>
                  <p:cNvGrpSpPr/>
                  <p:nvPr/>
                </p:nvGrpSpPr>
                <p:grpSpPr>
                  <a:xfrm>
                    <a:off x="6940800" y="5042880"/>
                    <a:ext cx="18720" cy="111240"/>
                    <a:chOff x="6940800" y="5042880"/>
                    <a:chExt cx="18720" cy="111240"/>
                  </a:xfrm>
                </p:grpSpPr>
                <p:grpSp>
                  <p:nvGrpSpPr>
                    <p:cNvPr id="581" name=""/>
                    <p:cNvGrpSpPr/>
                    <p:nvPr/>
                  </p:nvGrpSpPr>
                  <p:grpSpPr>
                    <a:xfrm>
                      <a:off x="6944040" y="5046120"/>
                      <a:ext cx="360" cy="108000"/>
                      <a:chOff x="6944040" y="5046120"/>
                      <a:chExt cx="360" cy="108000"/>
                    </a:xfrm>
                  </p:grpSpPr>
                  <p:sp>
                    <p:nvSpPr>
                      <p:cNvPr id="582" name="Line 39"/>
                      <p:cNvSpPr/>
                      <p:nvPr/>
                    </p:nvSpPr>
                    <p:spPr>
                      <a:xfrm>
                        <a:off x="6944040" y="504612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"/>
                      <p:cNvSpPr txBox="1"/>
                      <p:nvPr/>
                    </p:nvSpPr>
                    <p:spPr>
                      <a:xfrm>
                        <a:off x="6944040" y="504612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4" name=""/>
                    <p:cNvGrpSpPr/>
                    <p:nvPr/>
                  </p:nvGrpSpPr>
                  <p:grpSpPr>
                    <a:xfrm>
                      <a:off x="6956280" y="5045760"/>
                      <a:ext cx="720" cy="107640"/>
                      <a:chOff x="6956280" y="5045760"/>
                      <a:chExt cx="720" cy="107640"/>
                    </a:xfrm>
                  </p:grpSpPr>
                  <p:sp>
                    <p:nvSpPr>
                      <p:cNvPr id="585" name="Line 40"/>
                      <p:cNvSpPr/>
                      <p:nvPr/>
                    </p:nvSpPr>
                    <p:spPr>
                      <a:xfrm flipV="1">
                        <a:off x="6956640" y="504576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"/>
                      <p:cNvSpPr txBox="1"/>
                      <p:nvPr/>
                    </p:nvSpPr>
                    <p:spPr>
                      <a:xfrm rot="10800000">
                        <a:off x="6956280" y="504576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7" name=""/>
                    <p:cNvGrpSpPr/>
                    <p:nvPr/>
                  </p:nvGrpSpPr>
                  <p:grpSpPr>
                    <a:xfrm>
                      <a:off x="6959160" y="5042880"/>
                      <a:ext cx="360" cy="107640"/>
                      <a:chOff x="6959160" y="5042880"/>
                      <a:chExt cx="360" cy="107640"/>
                    </a:xfrm>
                  </p:grpSpPr>
                  <p:sp>
                    <p:nvSpPr>
                      <p:cNvPr id="588" name="Line 41"/>
                      <p:cNvSpPr/>
                      <p:nvPr/>
                    </p:nvSpPr>
                    <p:spPr>
                      <a:xfrm flipV="1">
                        <a:off x="6959520" y="504288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"/>
                      <p:cNvSpPr txBox="1"/>
                      <p:nvPr/>
                    </p:nvSpPr>
                    <p:spPr>
                      <a:xfrm rot="10800000">
                        <a:off x="6959160" y="50428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0" name=""/>
                    <p:cNvGrpSpPr/>
                    <p:nvPr/>
                  </p:nvGrpSpPr>
                  <p:grpSpPr>
                    <a:xfrm>
                      <a:off x="6940800" y="5042880"/>
                      <a:ext cx="360" cy="107640"/>
                      <a:chOff x="6940800" y="5042880"/>
                      <a:chExt cx="360" cy="107640"/>
                    </a:xfrm>
                  </p:grpSpPr>
                  <p:sp>
                    <p:nvSpPr>
                      <p:cNvPr id="591" name="Line 42"/>
                      <p:cNvSpPr/>
                      <p:nvPr/>
                    </p:nvSpPr>
                    <p:spPr>
                      <a:xfrm flipV="1">
                        <a:off x="6941160" y="504288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"/>
                      <p:cNvSpPr txBox="1"/>
                      <p:nvPr/>
                    </p:nvSpPr>
                    <p:spPr>
                      <a:xfrm rot="10800000">
                        <a:off x="6940800" y="50428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93" name="Freeform 43"/>
                <p:cNvSpPr/>
                <p:nvPr/>
              </p:nvSpPr>
              <p:spPr>
                <a:xfrm>
                  <a:off x="6947640" y="5095800"/>
                  <a:ext cx="52200" cy="9396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Rectangle 44"/>
              <p:cNvSpPr/>
              <p:nvPr/>
            </p:nvSpPr>
            <p:spPr>
              <a:xfrm>
                <a:off x="6817320" y="5227200"/>
                <a:ext cx="260280" cy="218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xjhsy3"/>
          <p:cNvGrpSpPr/>
          <p:nvPr/>
        </p:nvGrpSpPr>
        <p:grpSpPr>
          <a:xfrm>
            <a:off x="5940360" y="3429000"/>
            <a:ext cx="1790640" cy="791280"/>
            <a:chOff x="5940360" y="3429000"/>
            <a:chExt cx="1790640" cy="791280"/>
          </a:xfrm>
        </p:grpSpPr>
        <p:grpSp>
          <p:nvGrpSpPr>
            <p:cNvPr id="596" name="Group 46"/>
            <p:cNvGrpSpPr/>
            <p:nvPr/>
          </p:nvGrpSpPr>
          <p:grpSpPr>
            <a:xfrm>
              <a:off x="5940360" y="3821400"/>
              <a:ext cx="1790640" cy="398880"/>
              <a:chOff x="5940360" y="3821400"/>
              <a:chExt cx="1790640" cy="398880"/>
            </a:xfrm>
          </p:grpSpPr>
          <p:sp>
            <p:nvSpPr>
              <p:cNvPr id="597" name="Freeform 47"/>
              <p:cNvSpPr/>
              <p:nvPr/>
            </p:nvSpPr>
            <p:spPr>
              <a:xfrm flipV="1">
                <a:off x="5940360" y="4141800"/>
                <a:ext cx="179064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48"/>
              <p:cNvSpPr/>
              <p:nvPr/>
            </p:nvSpPr>
            <p:spPr>
              <a:xfrm>
                <a:off x="7520400" y="3823920"/>
                <a:ext cx="152640" cy="2552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49"/>
              <p:cNvSpPr/>
              <p:nvPr/>
            </p:nvSpPr>
            <p:spPr>
              <a:xfrm>
                <a:off x="6241680" y="3821400"/>
                <a:ext cx="152640" cy="2552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50"/>
            <p:cNvGrpSpPr/>
            <p:nvPr/>
          </p:nvGrpSpPr>
          <p:grpSpPr>
            <a:xfrm>
              <a:off x="6745680" y="3429000"/>
              <a:ext cx="260280" cy="648000"/>
              <a:chOff x="6745680" y="3429000"/>
              <a:chExt cx="260280" cy="648000"/>
            </a:xfrm>
          </p:grpSpPr>
          <p:grpSp>
            <p:nvGrpSpPr>
              <p:cNvPr id="601" name="Group 51"/>
              <p:cNvGrpSpPr/>
              <p:nvPr/>
            </p:nvGrpSpPr>
            <p:grpSpPr>
              <a:xfrm>
                <a:off x="6782760" y="3429000"/>
                <a:ext cx="194040" cy="507600"/>
                <a:chOff x="6782760" y="3429000"/>
                <a:chExt cx="194040" cy="507600"/>
              </a:xfrm>
            </p:grpSpPr>
            <p:grpSp>
              <p:nvGrpSpPr>
                <p:cNvPr id="602" name="Group 52"/>
                <p:cNvGrpSpPr/>
                <p:nvPr/>
              </p:nvGrpSpPr>
              <p:grpSpPr>
                <a:xfrm>
                  <a:off x="6835680" y="3817800"/>
                  <a:ext cx="87840" cy="118800"/>
                  <a:chOff x="6835680" y="3817800"/>
                  <a:chExt cx="87840" cy="118800"/>
                </a:xfrm>
              </p:grpSpPr>
              <p:grpSp>
                <p:nvGrpSpPr>
                  <p:cNvPr id="603" name="Group 53"/>
                  <p:cNvGrpSpPr/>
                  <p:nvPr/>
                </p:nvGrpSpPr>
                <p:grpSpPr>
                  <a:xfrm>
                    <a:off x="6835680" y="3817800"/>
                    <a:ext cx="87840" cy="118800"/>
                    <a:chOff x="6835680" y="3817800"/>
                    <a:chExt cx="87840" cy="118800"/>
                  </a:xfrm>
                </p:grpSpPr>
                <p:grpSp>
                  <p:nvGrpSpPr>
                    <p:cNvPr id="604" name="Group 54"/>
                    <p:cNvGrpSpPr/>
                    <p:nvPr/>
                  </p:nvGrpSpPr>
                  <p:grpSpPr>
                    <a:xfrm>
                      <a:off x="6857640" y="3909240"/>
                      <a:ext cx="47880" cy="27360"/>
                      <a:chOff x="6857640" y="3909240"/>
                      <a:chExt cx="47880" cy="27360"/>
                    </a:xfrm>
                  </p:grpSpPr>
                  <p:sp>
                    <p:nvSpPr>
                      <p:cNvPr id="605" name="Freeform 55"/>
                      <p:cNvSpPr/>
                      <p:nvPr/>
                    </p:nvSpPr>
                    <p:spPr>
                      <a:xfrm>
                        <a:off x="6857640" y="3909240"/>
                        <a:ext cx="4788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Freeform 56"/>
                      <p:cNvSpPr/>
                      <p:nvPr/>
                    </p:nvSpPr>
                    <p:spPr>
                      <a:xfrm>
                        <a:off x="6864840" y="3909240"/>
                        <a:ext cx="2124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7" name="Group 57"/>
                    <p:cNvGrpSpPr/>
                    <p:nvPr/>
                  </p:nvGrpSpPr>
                  <p:grpSpPr>
                    <a:xfrm>
                      <a:off x="6835680" y="3817800"/>
                      <a:ext cx="87840" cy="99000"/>
                      <a:chOff x="6835680" y="3817800"/>
                      <a:chExt cx="87840" cy="99000"/>
                    </a:xfrm>
                  </p:grpSpPr>
                  <p:sp>
                    <p:nvSpPr>
                      <p:cNvPr id="608" name="Freeform 58"/>
                      <p:cNvSpPr/>
                      <p:nvPr/>
                    </p:nvSpPr>
                    <p:spPr>
                      <a:xfrm>
                        <a:off x="6835680" y="3817800"/>
                        <a:ext cx="878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Freeform 59"/>
                      <p:cNvSpPr/>
                      <p:nvPr/>
                    </p:nvSpPr>
                    <p:spPr>
                      <a:xfrm>
                        <a:off x="6836040" y="3830760"/>
                        <a:ext cx="108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Freeform 60"/>
                      <p:cNvSpPr/>
                      <p:nvPr/>
                    </p:nvSpPr>
                    <p:spPr>
                      <a:xfrm>
                        <a:off x="6836400" y="38480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61"/>
                      <p:cNvSpPr/>
                      <p:nvPr/>
                    </p:nvSpPr>
                    <p:spPr>
                      <a:xfrm>
                        <a:off x="6835680" y="3862440"/>
                        <a:ext cx="165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Freeform 62"/>
                      <p:cNvSpPr/>
                      <p:nvPr/>
                    </p:nvSpPr>
                    <p:spPr>
                      <a:xfrm>
                        <a:off x="6837480" y="3878280"/>
                        <a:ext cx="198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Freeform 63"/>
                      <p:cNvSpPr/>
                      <p:nvPr/>
                    </p:nvSpPr>
                    <p:spPr>
                      <a:xfrm>
                        <a:off x="6837840" y="3821040"/>
                        <a:ext cx="82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4"/>
                      <p:cNvSpPr/>
                      <p:nvPr/>
                    </p:nvSpPr>
                    <p:spPr>
                      <a:xfrm>
                        <a:off x="6852960" y="3818880"/>
                        <a:ext cx="705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5"/>
                  <p:cNvGrpSpPr/>
                  <p:nvPr/>
                </p:nvGrpSpPr>
                <p:grpSpPr>
                  <a:xfrm>
                    <a:off x="6894360" y="3833640"/>
                    <a:ext cx="20880" cy="60120"/>
                    <a:chOff x="6894360" y="3833640"/>
                    <a:chExt cx="20880" cy="60120"/>
                  </a:xfrm>
                </p:grpSpPr>
                <p:sp>
                  <p:nvSpPr>
                    <p:cNvPr id="616" name="Freeform 66"/>
                    <p:cNvSpPr/>
                    <p:nvPr/>
                  </p:nvSpPr>
                  <p:spPr>
                    <a:xfrm>
                      <a:off x="6898320" y="3849480"/>
                      <a:ext cx="162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Freeform 67"/>
                    <p:cNvSpPr/>
                    <p:nvPr/>
                  </p:nvSpPr>
                  <p:spPr>
                    <a:xfrm>
                      <a:off x="6901200" y="3864960"/>
                      <a:ext cx="140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68"/>
                    <p:cNvSpPr/>
                    <p:nvPr/>
                  </p:nvSpPr>
                  <p:spPr>
                    <a:xfrm>
                      <a:off x="6900480" y="3883320"/>
                      <a:ext cx="144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Freeform 69"/>
                    <p:cNvSpPr/>
                    <p:nvPr/>
                  </p:nvSpPr>
                  <p:spPr>
                    <a:xfrm>
                      <a:off x="6894360" y="3833640"/>
                      <a:ext cx="165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0" name="Freeform 70"/>
                <p:cNvSpPr/>
                <p:nvPr/>
              </p:nvSpPr>
              <p:spPr>
                <a:xfrm>
                  <a:off x="6782760" y="3429000"/>
                  <a:ext cx="194040" cy="402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71"/>
                <p:cNvSpPr/>
                <p:nvPr/>
              </p:nvSpPr>
              <p:spPr>
                <a:xfrm>
                  <a:off x="6837120" y="3785400"/>
                  <a:ext cx="849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72"/>
                <p:cNvSpPr/>
                <p:nvPr/>
              </p:nvSpPr>
              <p:spPr>
                <a:xfrm>
                  <a:off x="6926040" y="3469320"/>
                  <a:ext cx="3240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Group 73"/>
                <p:cNvGrpSpPr/>
                <p:nvPr/>
              </p:nvGrpSpPr>
              <p:grpSpPr>
                <a:xfrm>
                  <a:off x="6852600" y="3549960"/>
                  <a:ext cx="54000" cy="249480"/>
                  <a:chOff x="6852600" y="3549960"/>
                  <a:chExt cx="54000" cy="249480"/>
                </a:xfrm>
              </p:grpSpPr>
              <p:sp>
                <p:nvSpPr>
                  <p:cNvPr id="624" name="Freeform 74"/>
                  <p:cNvSpPr/>
                  <p:nvPr/>
                </p:nvSpPr>
                <p:spPr>
                  <a:xfrm>
                    <a:off x="6862680" y="3654000"/>
                    <a:ext cx="3312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Oval 75"/>
                  <p:cNvSpPr/>
                  <p:nvPr/>
                </p:nvSpPr>
                <p:spPr>
                  <a:xfrm>
                    <a:off x="6879600" y="3658680"/>
                    <a:ext cx="432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6" name="Group 76"/>
                  <p:cNvGrpSpPr/>
                  <p:nvPr/>
                </p:nvGrpSpPr>
                <p:grpSpPr>
                  <a:xfrm>
                    <a:off x="6852600" y="3549960"/>
                    <a:ext cx="54000" cy="114480"/>
                    <a:chOff x="6852600" y="3549960"/>
                    <a:chExt cx="54000" cy="114480"/>
                  </a:xfrm>
                </p:grpSpPr>
                <p:sp>
                  <p:nvSpPr>
                    <p:cNvPr id="627" name="Oval 77"/>
                    <p:cNvSpPr/>
                    <p:nvPr/>
                  </p:nvSpPr>
                  <p:spPr>
                    <a:xfrm>
                      <a:off x="6855480" y="3549960"/>
                      <a:ext cx="4932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Freeform 78"/>
                    <p:cNvSpPr/>
                    <p:nvPr/>
                  </p:nvSpPr>
                  <p:spPr>
                    <a:xfrm>
                      <a:off x="6852600" y="3567600"/>
                      <a:ext cx="5400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Group 79"/>
                  <p:cNvGrpSpPr/>
                  <p:nvPr/>
                </p:nvGrpSpPr>
                <p:grpSpPr>
                  <a:xfrm>
                    <a:off x="6869160" y="3674520"/>
                    <a:ext cx="18720" cy="111240"/>
                    <a:chOff x="6869160" y="3674520"/>
                    <a:chExt cx="18720" cy="111240"/>
                  </a:xfrm>
                </p:grpSpPr>
                <p:grpSp>
                  <p:nvGrpSpPr>
                    <p:cNvPr id="630" name=""/>
                    <p:cNvGrpSpPr/>
                    <p:nvPr/>
                  </p:nvGrpSpPr>
                  <p:grpSpPr>
                    <a:xfrm>
                      <a:off x="6872400" y="3677760"/>
                      <a:ext cx="360" cy="108000"/>
                      <a:chOff x="6872400" y="3677760"/>
                      <a:chExt cx="360" cy="108000"/>
                    </a:xfrm>
                  </p:grpSpPr>
                  <p:sp>
                    <p:nvSpPr>
                      <p:cNvPr id="631" name="Line 80"/>
                      <p:cNvSpPr/>
                      <p:nvPr/>
                    </p:nvSpPr>
                    <p:spPr>
                      <a:xfrm>
                        <a:off x="6872400" y="367776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"/>
                      <p:cNvSpPr txBox="1"/>
                      <p:nvPr/>
                    </p:nvSpPr>
                    <p:spPr>
                      <a:xfrm>
                        <a:off x="6872400" y="367776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3" name=""/>
                    <p:cNvGrpSpPr/>
                    <p:nvPr/>
                  </p:nvGrpSpPr>
                  <p:grpSpPr>
                    <a:xfrm>
                      <a:off x="6884640" y="3677400"/>
                      <a:ext cx="720" cy="107640"/>
                      <a:chOff x="6884640" y="3677400"/>
                      <a:chExt cx="720" cy="107640"/>
                    </a:xfrm>
                  </p:grpSpPr>
                  <p:sp>
                    <p:nvSpPr>
                      <p:cNvPr id="634" name="Line 81"/>
                      <p:cNvSpPr/>
                      <p:nvPr/>
                    </p:nvSpPr>
                    <p:spPr>
                      <a:xfrm flipV="1">
                        <a:off x="6885000" y="367740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"/>
                      <p:cNvSpPr txBox="1"/>
                      <p:nvPr/>
                    </p:nvSpPr>
                    <p:spPr>
                      <a:xfrm rot="10800000">
                        <a:off x="6884640" y="36774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6" name=""/>
                    <p:cNvGrpSpPr/>
                    <p:nvPr/>
                  </p:nvGrpSpPr>
                  <p:grpSpPr>
                    <a:xfrm>
                      <a:off x="6887520" y="3674520"/>
                      <a:ext cx="360" cy="107640"/>
                      <a:chOff x="6887520" y="3674520"/>
                      <a:chExt cx="360" cy="107640"/>
                    </a:xfrm>
                  </p:grpSpPr>
                  <p:sp>
                    <p:nvSpPr>
                      <p:cNvPr id="637" name="Line 82"/>
                      <p:cNvSpPr/>
                      <p:nvPr/>
                    </p:nvSpPr>
                    <p:spPr>
                      <a:xfrm flipV="1">
                        <a:off x="6887880" y="367452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"/>
                      <p:cNvSpPr txBox="1"/>
                      <p:nvPr/>
                    </p:nvSpPr>
                    <p:spPr>
                      <a:xfrm rot="10800000">
                        <a:off x="6887520" y="367452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6869160" y="3674520"/>
                      <a:ext cx="360" cy="107640"/>
                      <a:chOff x="6869160" y="3674520"/>
                      <a:chExt cx="360" cy="107640"/>
                    </a:xfrm>
                  </p:grpSpPr>
                  <p:sp>
                    <p:nvSpPr>
                      <p:cNvPr id="640" name="Line 83"/>
                      <p:cNvSpPr/>
                      <p:nvPr/>
                    </p:nvSpPr>
                    <p:spPr>
                      <a:xfrm flipV="1">
                        <a:off x="6869520" y="367452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"/>
                      <p:cNvSpPr txBox="1"/>
                      <p:nvPr/>
                    </p:nvSpPr>
                    <p:spPr>
                      <a:xfrm rot="10800000">
                        <a:off x="6869160" y="367452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42" name="Freeform 84"/>
                <p:cNvSpPr/>
                <p:nvPr/>
              </p:nvSpPr>
              <p:spPr>
                <a:xfrm>
                  <a:off x="6876000" y="3727440"/>
                  <a:ext cx="52200" cy="9396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Rectangle 85"/>
              <p:cNvSpPr/>
              <p:nvPr/>
            </p:nvSpPr>
            <p:spPr>
              <a:xfrm>
                <a:off x="6745680" y="3858840"/>
                <a:ext cx="260280" cy="218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4" name="xjhsy7" descr="w52"/>
          <p:cNvPicPr/>
          <p:nvPr/>
        </p:nvPicPr>
        <p:blipFill>
          <a:blip r:embed="rId5"/>
          <a:stretch/>
        </p:blipFill>
        <p:spPr>
          <a:xfrm>
            <a:off x="3132000" y="3933720"/>
            <a:ext cx="1800360" cy="188604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87"/>
          <p:cNvSpPr/>
          <p:nvPr/>
        </p:nvSpPr>
        <p:spPr>
          <a:xfrm>
            <a:off x="8244000" y="522936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88"/>
          <p:cNvSpPr/>
          <p:nvPr/>
        </p:nvSpPr>
        <p:spPr>
          <a:xfrm>
            <a:off x="8261640" y="3714840"/>
            <a:ext cx="4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xjhsy9" descr="w61"/>
          <p:cNvPicPr/>
          <p:nvPr/>
        </p:nvPicPr>
        <p:blipFill>
          <a:blip r:embed="rId6"/>
          <a:stretch/>
        </p:blipFill>
        <p:spPr>
          <a:xfrm>
            <a:off x="755640" y="3860640"/>
            <a:ext cx="1655640" cy="20257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90"/>
          <p:cNvSpPr/>
          <p:nvPr/>
        </p:nvSpPr>
        <p:spPr>
          <a:xfrm>
            <a:off x="36360" y="322200"/>
            <a:ext cx="91440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图中的电路元件连接成电路。要求两个灯泡是串联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表能测出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表能测出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91"/>
          <p:cNvSpPr/>
          <p:nvPr/>
        </p:nvSpPr>
        <p:spPr>
          <a:xfrm>
            <a:off x="3635280" y="2349360"/>
            <a:ext cx="2881440" cy="142920"/>
          </a:xfrm>
          <a:custGeom>
            <a:avLst/>
            <a:gdLst/>
            <a:ahLst/>
            <a:rect l="l" t="t" r="r" b="b"/>
            <a:pathLst>
              <a:path w="1815" h="90">
                <a:moveTo>
                  <a:pt x="0" y="90"/>
                </a:moveTo>
                <a:cubicBezTo>
                  <a:pt x="756" y="52"/>
                  <a:pt x="1513" y="15"/>
                  <a:pt x="1815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92"/>
          <p:cNvSpPr/>
          <p:nvPr/>
        </p:nvSpPr>
        <p:spPr>
          <a:xfrm>
            <a:off x="7308720" y="2421000"/>
            <a:ext cx="766800" cy="1512720"/>
          </a:xfrm>
          <a:custGeom>
            <a:avLst/>
            <a:gdLst/>
            <a:ahLst/>
            <a:rect l="l" t="t" r="r" b="b"/>
            <a:pathLst>
              <a:path w="483" h="953">
                <a:moveTo>
                  <a:pt x="0" y="0"/>
                </a:moveTo>
                <a:cubicBezTo>
                  <a:pt x="211" y="124"/>
                  <a:pt x="423" y="249"/>
                  <a:pt x="453" y="408"/>
                </a:cubicBezTo>
                <a:cubicBezTo>
                  <a:pt x="483" y="567"/>
                  <a:pt x="219" y="862"/>
                  <a:pt x="181" y="95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3"/>
          <p:cNvSpPr/>
          <p:nvPr/>
        </p:nvSpPr>
        <p:spPr>
          <a:xfrm>
            <a:off x="5987880" y="3933720"/>
            <a:ext cx="384480" cy="1366920"/>
          </a:xfrm>
          <a:custGeom>
            <a:avLst/>
            <a:gdLst/>
            <a:ahLst/>
            <a:rect l="l" t="t" r="r" b="b"/>
            <a:pathLst>
              <a:path w="287" h="907">
                <a:moveTo>
                  <a:pt x="197" y="0"/>
                </a:moveTo>
                <a:cubicBezTo>
                  <a:pt x="98" y="128"/>
                  <a:pt x="0" y="257"/>
                  <a:pt x="15" y="408"/>
                </a:cubicBezTo>
                <a:cubicBezTo>
                  <a:pt x="30" y="559"/>
                  <a:pt x="158" y="733"/>
                  <a:pt x="287" y="90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94"/>
          <p:cNvSpPr/>
          <p:nvPr/>
        </p:nvSpPr>
        <p:spPr>
          <a:xfrm>
            <a:off x="1619280" y="5157720"/>
            <a:ext cx="6288120" cy="1103400"/>
          </a:xfrm>
          <a:custGeom>
            <a:avLst/>
            <a:gdLst/>
            <a:ahLst/>
            <a:rect l="l" t="t" r="r" b="b"/>
            <a:pathLst>
              <a:path w="4097" h="695">
                <a:moveTo>
                  <a:pt x="3946" y="90"/>
                </a:moveTo>
                <a:cubicBezTo>
                  <a:pt x="4021" y="222"/>
                  <a:pt x="4097" y="355"/>
                  <a:pt x="3765" y="453"/>
                </a:cubicBezTo>
                <a:cubicBezTo>
                  <a:pt x="3433" y="551"/>
                  <a:pt x="2518" y="665"/>
                  <a:pt x="1951" y="680"/>
                </a:cubicBezTo>
                <a:cubicBezTo>
                  <a:pt x="1384" y="695"/>
                  <a:pt x="688" y="657"/>
                  <a:pt x="363" y="544"/>
                </a:cubicBezTo>
                <a:cubicBezTo>
                  <a:pt x="38" y="431"/>
                  <a:pt x="60" y="91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95"/>
          <p:cNvSpPr/>
          <p:nvPr/>
        </p:nvSpPr>
        <p:spPr>
          <a:xfrm>
            <a:off x="431640" y="2492280"/>
            <a:ext cx="1764000" cy="2665440"/>
          </a:xfrm>
          <a:custGeom>
            <a:avLst/>
            <a:gdLst/>
            <a:ahLst/>
            <a:rect l="l" t="t" r="r" b="b"/>
            <a:pathLst>
              <a:path w="1111" h="1679">
                <a:moveTo>
                  <a:pt x="431" y="1679"/>
                </a:moveTo>
                <a:cubicBezTo>
                  <a:pt x="215" y="1592"/>
                  <a:pt x="0" y="1505"/>
                  <a:pt x="113" y="1225"/>
                </a:cubicBezTo>
                <a:cubicBezTo>
                  <a:pt x="226" y="945"/>
                  <a:pt x="945" y="204"/>
                  <a:pt x="1111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96"/>
          <p:cNvSpPr/>
          <p:nvPr/>
        </p:nvSpPr>
        <p:spPr>
          <a:xfrm>
            <a:off x="3827520" y="2986200"/>
            <a:ext cx="3840120" cy="2698560"/>
          </a:xfrm>
          <a:custGeom>
            <a:avLst/>
            <a:gdLst/>
            <a:ahLst/>
            <a:rect l="l" t="t" r="r" b="b"/>
            <a:pathLst>
              <a:path w="2419" h="1700">
                <a:moveTo>
                  <a:pt x="15" y="1368"/>
                </a:moveTo>
                <a:cubicBezTo>
                  <a:pt x="7" y="1519"/>
                  <a:pt x="0" y="1670"/>
                  <a:pt x="106" y="1685"/>
                </a:cubicBezTo>
                <a:cubicBezTo>
                  <a:pt x="212" y="1700"/>
                  <a:pt x="522" y="1700"/>
                  <a:pt x="650" y="1458"/>
                </a:cubicBezTo>
                <a:cubicBezTo>
                  <a:pt x="778" y="1216"/>
                  <a:pt x="741" y="468"/>
                  <a:pt x="877" y="234"/>
                </a:cubicBezTo>
                <a:cubicBezTo>
                  <a:pt x="1013" y="0"/>
                  <a:pt x="1248" y="75"/>
                  <a:pt x="1467" y="52"/>
                </a:cubicBezTo>
                <a:cubicBezTo>
                  <a:pt x="1686" y="29"/>
                  <a:pt x="2034" y="7"/>
                  <a:pt x="2193" y="98"/>
                </a:cubicBezTo>
                <a:cubicBezTo>
                  <a:pt x="2352" y="189"/>
                  <a:pt x="2381" y="514"/>
                  <a:pt x="2419" y="59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97"/>
          <p:cNvSpPr/>
          <p:nvPr/>
        </p:nvSpPr>
        <p:spPr>
          <a:xfrm>
            <a:off x="3371760" y="5157720"/>
            <a:ext cx="3000600" cy="803520"/>
          </a:xfrm>
          <a:custGeom>
            <a:avLst/>
            <a:gdLst/>
            <a:ahLst/>
            <a:rect l="l" t="t" r="r" b="b"/>
            <a:pathLst>
              <a:path w="1890" h="506">
                <a:moveTo>
                  <a:pt x="121" y="0"/>
                </a:moveTo>
                <a:cubicBezTo>
                  <a:pt x="60" y="162"/>
                  <a:pt x="0" y="325"/>
                  <a:pt x="76" y="408"/>
                </a:cubicBezTo>
                <a:cubicBezTo>
                  <a:pt x="152" y="491"/>
                  <a:pt x="394" y="506"/>
                  <a:pt x="575" y="499"/>
                </a:cubicBezTo>
                <a:cubicBezTo>
                  <a:pt x="756" y="492"/>
                  <a:pt x="945" y="431"/>
                  <a:pt x="1164" y="363"/>
                </a:cubicBezTo>
                <a:cubicBezTo>
                  <a:pt x="1383" y="295"/>
                  <a:pt x="1769" y="135"/>
                  <a:pt x="1890" y="9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468360" y="1484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说出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中用电压表测灯泡电压不恰当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"/>
          <p:cNvGrpSpPr/>
          <p:nvPr/>
        </p:nvGrpSpPr>
        <p:grpSpPr>
          <a:xfrm>
            <a:off x="755640" y="3141720"/>
            <a:ext cx="3599280" cy="2885040"/>
            <a:chOff x="755640" y="3141720"/>
            <a:chExt cx="3599280" cy="2885040"/>
          </a:xfrm>
        </p:grpSpPr>
        <p:grpSp>
          <p:nvGrpSpPr>
            <p:cNvPr id="658" name="Group 4"/>
            <p:cNvGrpSpPr/>
            <p:nvPr/>
          </p:nvGrpSpPr>
          <p:grpSpPr>
            <a:xfrm>
              <a:off x="755640" y="3141720"/>
              <a:ext cx="3599280" cy="2517120"/>
              <a:chOff x="755640" y="3141720"/>
              <a:chExt cx="3599280" cy="2517120"/>
            </a:xfrm>
          </p:grpSpPr>
          <p:pic>
            <p:nvPicPr>
              <p:cNvPr id="659" name="Picture 5" descr="dm"/>
              <p:cNvPicPr/>
              <p:nvPr/>
            </p:nvPicPr>
            <p:blipFill>
              <a:blip r:embed="rId1"/>
              <a:stretch/>
            </p:blipFill>
            <p:spPr>
              <a:xfrm>
                <a:off x="755640" y="4310640"/>
                <a:ext cx="1199880" cy="73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0" name="Picture 6" descr="______4"/>
              <p:cNvPicPr/>
              <p:nvPr/>
            </p:nvPicPr>
            <p:blipFill>
              <a:blip r:embed="rId2"/>
              <a:stretch/>
            </p:blipFill>
            <p:spPr>
              <a:xfrm>
                <a:off x="2865600" y="4036320"/>
                <a:ext cx="1489320" cy="76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1" name="Group 7"/>
              <p:cNvGrpSpPr/>
              <p:nvPr/>
            </p:nvGrpSpPr>
            <p:grpSpPr>
              <a:xfrm>
                <a:off x="1396080" y="3141720"/>
                <a:ext cx="1344240" cy="984600"/>
                <a:chOff x="1396080" y="3141720"/>
                <a:chExt cx="1344240" cy="984600"/>
              </a:xfrm>
            </p:grpSpPr>
            <p:pic>
              <p:nvPicPr>
                <p:cNvPr id="662" name="Object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38640" y="3141720"/>
                  <a:ext cx="1201680" cy="98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3" name="Rectangle 9"/>
                <p:cNvSpPr/>
                <p:nvPr/>
              </p:nvSpPr>
              <p:spPr>
                <a:xfrm>
                  <a:off x="2294280" y="360612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Verdan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Rectangle 10"/>
                <p:cNvSpPr/>
                <p:nvPr/>
              </p:nvSpPr>
              <p:spPr>
                <a:xfrm>
                  <a:off x="1931760" y="3738600"/>
                  <a:ext cx="25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ffff"/>
                      </a:solidFill>
                      <a:latin typeface="Verdana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Rectangle 11"/>
                <p:cNvSpPr/>
                <p:nvPr/>
              </p:nvSpPr>
              <p:spPr>
                <a:xfrm>
                  <a:off x="1396080" y="3757680"/>
                  <a:ext cx="324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ffff"/>
                      </a:solidFill>
                      <a:latin typeface="Verdana"/>
                    </a:rPr>
                    <a:t>1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6" name="Objec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996560" y="5140440"/>
                <a:ext cx="1551600" cy="51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Freeform 13"/>
              <p:cNvSpPr/>
              <p:nvPr/>
            </p:nvSpPr>
            <p:spPr>
              <a:xfrm>
                <a:off x="861120" y="4765680"/>
                <a:ext cx="1200240" cy="669960"/>
              </a:xfrm>
              <a:custGeom>
                <a:avLst/>
                <a:gdLst/>
                <a:ahLst/>
                <a:rect l="l" t="t" r="r" b="b"/>
                <a:pathLst>
                  <a:path w="464" h="349">
                    <a:moveTo>
                      <a:pt x="2" y="0"/>
                    </a:moveTo>
                    <a:cubicBezTo>
                      <a:pt x="6" y="28"/>
                      <a:pt x="0" y="62"/>
                      <a:pt x="17" y="84"/>
                    </a:cubicBezTo>
                    <a:cubicBezTo>
                      <a:pt x="70" y="152"/>
                      <a:pt x="153" y="167"/>
                      <a:pt x="214" y="228"/>
                    </a:cubicBezTo>
                    <a:cubicBezTo>
                      <a:pt x="319" y="333"/>
                      <a:pt x="262" y="314"/>
                      <a:pt x="366" y="326"/>
                    </a:cubicBezTo>
                    <a:cubicBezTo>
                      <a:pt x="401" y="338"/>
                      <a:pt x="427" y="349"/>
                      <a:pt x="464" y="349"/>
                    </a:cubicBezTo>
                  </a:path>
                </a:pathLst>
              </a:custGeom>
              <a:noFill/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"/>
              <p:cNvGrpSpPr/>
              <p:nvPr/>
            </p:nvGrpSpPr>
            <p:grpSpPr>
              <a:xfrm>
                <a:off x="1623600" y="4587120"/>
                <a:ext cx="1614240" cy="92160"/>
                <a:chOff x="1623600" y="4587120"/>
                <a:chExt cx="1614240" cy="92160"/>
              </a:xfrm>
            </p:grpSpPr>
            <p:sp>
              <p:nvSpPr>
                <p:cNvPr id="669" name="Line 14"/>
                <p:cNvSpPr/>
                <p:nvPr/>
              </p:nvSpPr>
              <p:spPr>
                <a:xfrm flipV="1">
                  <a:off x="1623960" y="4587120"/>
                  <a:ext cx="1613880" cy="92160"/>
                </a:xfrm>
                <a:prstGeom prst="line">
                  <a:avLst/>
                </a:prstGeom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1623600" y="4587120"/>
                  <a:ext cx="161388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3485880" y="4587120"/>
                <a:ext cx="621360" cy="921600"/>
                <a:chOff x="3485880" y="4587120"/>
                <a:chExt cx="621360" cy="921600"/>
              </a:xfrm>
            </p:grpSpPr>
            <p:sp>
              <p:nvSpPr>
                <p:cNvPr id="672" name="Line 15"/>
                <p:cNvSpPr/>
                <p:nvPr/>
              </p:nvSpPr>
              <p:spPr>
                <a:xfrm flipH="1">
                  <a:off x="3485880" y="4587120"/>
                  <a:ext cx="621000" cy="921600"/>
                </a:xfrm>
                <a:prstGeom prst="line">
                  <a:avLst/>
                </a:prstGeom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>
                  <a:off x="3486240" y="4587120"/>
                  <a:ext cx="621000" cy="92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2493360" y="3757680"/>
                <a:ext cx="869040" cy="829440"/>
                <a:chOff x="2493360" y="3757680"/>
                <a:chExt cx="869040" cy="829440"/>
              </a:xfrm>
            </p:grpSpPr>
            <p:sp>
              <p:nvSpPr>
                <p:cNvPr id="675" name="Line 16"/>
                <p:cNvSpPr/>
                <p:nvPr/>
              </p:nvSpPr>
              <p:spPr>
                <a:xfrm>
                  <a:off x="2493360" y="3757680"/>
                  <a:ext cx="869040" cy="829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>
                  <a:off x="2493360" y="3757680"/>
                  <a:ext cx="869040" cy="82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Freeform 17"/>
              <p:cNvSpPr/>
              <p:nvPr/>
            </p:nvSpPr>
            <p:spPr>
              <a:xfrm>
                <a:off x="887400" y="3776760"/>
                <a:ext cx="1308240" cy="988920"/>
              </a:xfrm>
              <a:custGeom>
                <a:avLst/>
                <a:gdLst/>
                <a:ahLst/>
                <a:rect l="l" t="t" r="r" b="b"/>
                <a:pathLst>
                  <a:path w="506" h="515">
                    <a:moveTo>
                      <a:pt x="0" y="515"/>
                    </a:moveTo>
                    <a:cubicBezTo>
                      <a:pt x="5" y="466"/>
                      <a:pt x="0" y="393"/>
                      <a:pt x="45" y="364"/>
                    </a:cubicBezTo>
                    <a:cubicBezTo>
                      <a:pt x="54" y="351"/>
                      <a:pt x="119" y="259"/>
                      <a:pt x="128" y="258"/>
                    </a:cubicBezTo>
                    <a:cubicBezTo>
                      <a:pt x="206" y="251"/>
                      <a:pt x="285" y="253"/>
                      <a:pt x="363" y="250"/>
                    </a:cubicBezTo>
                    <a:cubicBezTo>
                      <a:pt x="408" y="240"/>
                      <a:pt x="444" y="222"/>
                      <a:pt x="477" y="190"/>
                    </a:cubicBezTo>
                    <a:cubicBezTo>
                      <a:pt x="506" y="107"/>
                      <a:pt x="500" y="134"/>
                      <a:pt x="500" y="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Rectangle 18"/>
            <p:cNvSpPr/>
            <p:nvPr/>
          </p:nvSpPr>
          <p:spPr>
            <a:xfrm>
              <a:off x="1881000" y="55670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97d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9"/>
          <p:cNvGrpSpPr/>
          <p:nvPr/>
        </p:nvGrpSpPr>
        <p:grpSpPr>
          <a:xfrm>
            <a:off x="4572000" y="3213000"/>
            <a:ext cx="3671280" cy="3157920"/>
            <a:chOff x="4572000" y="3213000"/>
            <a:chExt cx="3671280" cy="3157920"/>
          </a:xfrm>
        </p:grpSpPr>
        <p:grpSp>
          <p:nvGrpSpPr>
            <p:cNvPr id="680" name="Group 20"/>
            <p:cNvGrpSpPr/>
            <p:nvPr/>
          </p:nvGrpSpPr>
          <p:grpSpPr>
            <a:xfrm>
              <a:off x="4572000" y="3213000"/>
              <a:ext cx="3671280" cy="2788200"/>
              <a:chOff x="4572000" y="3213000"/>
              <a:chExt cx="3671280" cy="2788200"/>
            </a:xfrm>
          </p:grpSpPr>
          <p:pic>
            <p:nvPicPr>
              <p:cNvPr id="681" name="Object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1800" y="5459040"/>
                <a:ext cx="1582560" cy="54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" name="Picture 22" descr="dm"/>
              <p:cNvPicPr/>
              <p:nvPr/>
            </p:nvPicPr>
            <p:blipFill>
              <a:blip r:embed="rId6"/>
              <a:stretch/>
            </p:blipFill>
            <p:spPr>
              <a:xfrm>
                <a:off x="4572000" y="4435560"/>
                <a:ext cx="1223640" cy="77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Picture 23" descr="______4"/>
              <p:cNvPicPr/>
              <p:nvPr/>
            </p:nvPicPr>
            <p:blipFill>
              <a:blip r:embed="rId7"/>
              <a:stretch/>
            </p:blipFill>
            <p:spPr>
              <a:xfrm>
                <a:off x="6724080" y="4148280"/>
                <a:ext cx="1519200" cy="802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4" name="Group 24"/>
              <p:cNvGrpSpPr/>
              <p:nvPr/>
            </p:nvGrpSpPr>
            <p:grpSpPr>
              <a:xfrm>
                <a:off x="5224320" y="3213000"/>
                <a:ext cx="1371600" cy="1029240"/>
                <a:chOff x="5224320" y="3213000"/>
                <a:chExt cx="1371600" cy="1029240"/>
              </a:xfrm>
            </p:grpSpPr>
            <p:pic>
              <p:nvPicPr>
                <p:cNvPr id="685" name="Object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370480" y="3213000"/>
                  <a:ext cx="1225440" cy="102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6" name="Rectangle 26"/>
                <p:cNvSpPr/>
                <p:nvPr/>
              </p:nvSpPr>
              <p:spPr>
                <a:xfrm>
                  <a:off x="6139800" y="37004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Verdan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Rectangle 27"/>
                <p:cNvSpPr/>
                <p:nvPr/>
              </p:nvSpPr>
              <p:spPr>
                <a:xfrm>
                  <a:off x="5771160" y="3839040"/>
                  <a:ext cx="25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ffff"/>
                      </a:solidFill>
                      <a:latin typeface="Verdana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Rectangle 28"/>
                <p:cNvSpPr/>
                <p:nvPr/>
              </p:nvSpPr>
              <p:spPr>
                <a:xfrm>
                  <a:off x="5224320" y="3856680"/>
                  <a:ext cx="324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ffff"/>
                      </a:solidFill>
                      <a:latin typeface="Verdana"/>
                    </a:rPr>
                    <a:t>1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457600" y="4724640"/>
                <a:ext cx="1645920" cy="95760"/>
                <a:chOff x="5457600" y="4724640"/>
                <a:chExt cx="1645920" cy="95760"/>
              </a:xfrm>
            </p:grpSpPr>
            <p:sp>
              <p:nvSpPr>
                <p:cNvPr id="690" name="Line 29"/>
                <p:cNvSpPr/>
                <p:nvPr/>
              </p:nvSpPr>
              <p:spPr>
                <a:xfrm flipV="1">
                  <a:off x="5457600" y="4724640"/>
                  <a:ext cx="1645920" cy="95760"/>
                </a:xfrm>
                <a:prstGeom prst="line">
                  <a:avLst/>
                </a:prstGeom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 txBox="1"/>
                <p:nvPr/>
              </p:nvSpPr>
              <p:spPr>
                <a:xfrm rot="10800000">
                  <a:off x="5457600" y="4724640"/>
                  <a:ext cx="1645920" cy="9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7103880" y="4724640"/>
                <a:ext cx="886320" cy="1119600"/>
                <a:chOff x="7103880" y="4724640"/>
                <a:chExt cx="886320" cy="1119600"/>
              </a:xfrm>
            </p:grpSpPr>
            <p:sp>
              <p:nvSpPr>
                <p:cNvPr id="693" name="Line 30"/>
                <p:cNvSpPr/>
                <p:nvPr/>
              </p:nvSpPr>
              <p:spPr>
                <a:xfrm flipH="1">
                  <a:off x="7103880" y="4724640"/>
                  <a:ext cx="886320" cy="1119600"/>
                </a:xfrm>
                <a:prstGeom prst="line">
                  <a:avLst/>
                </a:prstGeom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 txBox="1"/>
                <p:nvPr/>
              </p:nvSpPr>
              <p:spPr>
                <a:xfrm>
                  <a:off x="7103880" y="4724640"/>
                  <a:ext cx="886320" cy="111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344280" y="3821040"/>
                <a:ext cx="886320" cy="963720"/>
                <a:chOff x="6344280" y="3821040"/>
                <a:chExt cx="886320" cy="963720"/>
              </a:xfrm>
            </p:grpSpPr>
            <p:sp>
              <p:nvSpPr>
                <p:cNvPr id="696" name="Line 31"/>
                <p:cNvSpPr/>
                <p:nvPr/>
              </p:nvSpPr>
              <p:spPr>
                <a:xfrm>
                  <a:off x="6344280" y="3821040"/>
                  <a:ext cx="886320" cy="963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 txBox="1"/>
                <p:nvPr/>
              </p:nvSpPr>
              <p:spPr>
                <a:xfrm>
                  <a:off x="6344280" y="3821040"/>
                  <a:ext cx="88632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Freeform 32"/>
              <p:cNvSpPr/>
              <p:nvPr/>
            </p:nvSpPr>
            <p:spPr>
              <a:xfrm>
                <a:off x="4700880" y="3907440"/>
                <a:ext cx="1284120" cy="973080"/>
              </a:xfrm>
              <a:custGeom>
                <a:avLst/>
                <a:gdLst/>
                <a:ahLst/>
                <a:rect l="l" t="t" r="r" b="b"/>
                <a:pathLst>
                  <a:path w="487" h="485">
                    <a:moveTo>
                      <a:pt x="487" y="0"/>
                    </a:moveTo>
                    <a:cubicBezTo>
                      <a:pt x="484" y="43"/>
                      <a:pt x="483" y="86"/>
                      <a:pt x="479" y="129"/>
                    </a:cubicBezTo>
                    <a:cubicBezTo>
                      <a:pt x="478" y="138"/>
                      <a:pt x="468" y="177"/>
                      <a:pt x="456" y="182"/>
                    </a:cubicBezTo>
                    <a:cubicBezTo>
                      <a:pt x="440" y="189"/>
                      <a:pt x="421" y="187"/>
                      <a:pt x="403" y="189"/>
                    </a:cubicBezTo>
                    <a:cubicBezTo>
                      <a:pt x="373" y="192"/>
                      <a:pt x="342" y="194"/>
                      <a:pt x="312" y="197"/>
                    </a:cubicBezTo>
                    <a:cubicBezTo>
                      <a:pt x="235" y="218"/>
                      <a:pt x="153" y="194"/>
                      <a:pt x="77" y="220"/>
                    </a:cubicBezTo>
                    <a:cubicBezTo>
                      <a:pt x="65" y="236"/>
                      <a:pt x="49" y="248"/>
                      <a:pt x="39" y="265"/>
                    </a:cubicBezTo>
                    <a:cubicBezTo>
                      <a:pt x="0" y="330"/>
                      <a:pt x="9" y="415"/>
                      <a:pt x="9" y="48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9" name="Picture 33" descr=""/>
              <p:cNvPicPr/>
              <p:nvPr/>
            </p:nvPicPr>
            <p:blipFill>
              <a:blip r:embed="rId9"/>
              <a:stretch/>
            </p:blipFill>
            <p:spPr>
              <a:xfrm>
                <a:off x="6471000" y="5459040"/>
                <a:ext cx="777960" cy="536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0" name=""/>
              <p:cNvGrpSpPr/>
              <p:nvPr/>
            </p:nvGrpSpPr>
            <p:grpSpPr>
              <a:xfrm>
                <a:off x="4698000" y="4880880"/>
                <a:ext cx="253440" cy="867240"/>
                <a:chOff x="4698000" y="4880880"/>
                <a:chExt cx="253440" cy="867240"/>
              </a:xfrm>
            </p:grpSpPr>
            <p:sp>
              <p:nvSpPr>
                <p:cNvPr id="701" name="Line 34"/>
                <p:cNvSpPr/>
                <p:nvPr/>
              </p:nvSpPr>
              <p:spPr>
                <a:xfrm>
                  <a:off x="4698000" y="4880880"/>
                  <a:ext cx="253440" cy="867240"/>
                </a:xfrm>
                <a:prstGeom prst="line">
                  <a:avLst/>
                </a:prstGeom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 txBox="1"/>
                <p:nvPr/>
              </p:nvSpPr>
              <p:spPr>
                <a:xfrm>
                  <a:off x="4698000" y="4880880"/>
                  <a:ext cx="253440" cy="86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Rectangle 35"/>
              <p:cNvSpPr/>
              <p:nvPr/>
            </p:nvSpPr>
            <p:spPr>
              <a:xfrm>
                <a:off x="5754600" y="5169960"/>
                <a:ext cx="5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Verdana"/>
                  </a:rPr>
                  <a:t>4.5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36"/>
            <p:cNvSpPr/>
            <p:nvPr/>
          </p:nvSpPr>
          <p:spPr>
            <a:xfrm>
              <a:off x="5718240" y="59112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97d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37"/>
          <p:cNvGrpSpPr/>
          <p:nvPr/>
        </p:nvGrpSpPr>
        <p:grpSpPr>
          <a:xfrm>
            <a:off x="6732720" y="1413000"/>
            <a:ext cx="2086920" cy="2186640"/>
            <a:chOff x="6732720" y="1413000"/>
            <a:chExt cx="2086920" cy="2186640"/>
          </a:xfrm>
        </p:grpSpPr>
        <p:pic>
          <p:nvPicPr>
            <p:cNvPr id="706" name="Object 38" descr=""/>
            <p:cNvPicPr/>
            <p:nvPr/>
          </p:nvPicPr>
          <p:blipFill>
            <a:blip r:embed="rId10"/>
            <a:stretch/>
          </p:blipFill>
          <p:spPr>
            <a:xfrm>
              <a:off x="6732720" y="1413000"/>
              <a:ext cx="2086920" cy="17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Rectangle 39"/>
            <p:cNvSpPr/>
            <p:nvPr/>
          </p:nvSpPr>
          <p:spPr>
            <a:xfrm>
              <a:off x="7677000" y="3139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97d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663480" y="2565360"/>
            <a:ext cx="3979440" cy="3024000"/>
            <a:chOff x="663480" y="2565360"/>
            <a:chExt cx="3979440" cy="3024000"/>
          </a:xfrm>
        </p:grpSpPr>
        <p:pic>
          <p:nvPicPr>
            <p:cNvPr id="709" name="Object 3" descr=""/>
            <p:cNvPicPr/>
            <p:nvPr/>
          </p:nvPicPr>
          <p:blipFill>
            <a:blip r:embed="rId1"/>
            <a:stretch/>
          </p:blipFill>
          <p:spPr>
            <a:xfrm>
              <a:off x="663480" y="2565360"/>
              <a:ext cx="3979440" cy="302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0" name=""/>
            <p:cNvGrpSpPr/>
            <p:nvPr/>
          </p:nvGrpSpPr>
          <p:grpSpPr>
            <a:xfrm>
              <a:off x="1186560" y="3951720"/>
              <a:ext cx="784800" cy="614160"/>
              <a:chOff x="1186560" y="3951720"/>
              <a:chExt cx="784800" cy="614160"/>
            </a:xfrm>
          </p:grpSpPr>
          <p:sp>
            <p:nvSpPr>
              <p:cNvPr id="711" name="Line 4"/>
              <p:cNvSpPr/>
              <p:nvPr/>
            </p:nvSpPr>
            <p:spPr>
              <a:xfrm flipH="1" flipV="1">
                <a:off x="1186560" y="3951720"/>
                <a:ext cx="784800" cy="61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 rot="10800000">
                <a:off x="1186560" y="3951720"/>
                <a:ext cx="784800" cy="61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Rectangle 5"/>
          <p:cNvSpPr/>
          <p:nvPr/>
        </p:nvSpPr>
        <p:spPr>
          <a:xfrm>
            <a:off x="849600" y="47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6"/>
          <p:cNvGrpSpPr/>
          <p:nvPr/>
        </p:nvGrpSpPr>
        <p:grpSpPr>
          <a:xfrm>
            <a:off x="4633920" y="2565360"/>
            <a:ext cx="4114440" cy="3022200"/>
            <a:chOff x="4633920" y="2565360"/>
            <a:chExt cx="4114440" cy="3022200"/>
          </a:xfrm>
        </p:grpSpPr>
        <p:pic>
          <p:nvPicPr>
            <p:cNvPr id="715" name="Object 7" descr=""/>
            <p:cNvPicPr/>
            <p:nvPr/>
          </p:nvPicPr>
          <p:blipFill>
            <a:blip r:embed="rId2"/>
            <a:stretch/>
          </p:blipFill>
          <p:spPr>
            <a:xfrm>
              <a:off x="4633920" y="2565360"/>
              <a:ext cx="4114440" cy="302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6" name=""/>
            <p:cNvGrpSpPr/>
            <p:nvPr/>
          </p:nvGrpSpPr>
          <p:grpSpPr>
            <a:xfrm>
              <a:off x="7413840" y="4019760"/>
              <a:ext cx="778320" cy="504360"/>
              <a:chOff x="7413840" y="4019760"/>
              <a:chExt cx="778320" cy="504360"/>
            </a:xfrm>
          </p:grpSpPr>
          <p:sp>
            <p:nvSpPr>
              <p:cNvPr id="717" name="Line 8"/>
              <p:cNvSpPr/>
              <p:nvPr/>
            </p:nvSpPr>
            <p:spPr>
              <a:xfrm flipV="1">
                <a:off x="7413840" y="4019760"/>
                <a:ext cx="778320" cy="504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 txBox="1"/>
              <p:nvPr/>
            </p:nvSpPr>
            <p:spPr>
              <a:xfrm rot="10800000">
                <a:off x="7413840" y="4019760"/>
                <a:ext cx="778320" cy="50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Rectangle 9"/>
          <p:cNvSpPr/>
          <p:nvPr/>
        </p:nvSpPr>
        <p:spPr>
          <a:xfrm>
            <a:off x="4810320" y="47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0"/>
          <p:cNvSpPr/>
          <p:nvPr/>
        </p:nvSpPr>
        <p:spPr>
          <a:xfrm>
            <a:off x="1258920" y="1052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、指出甲、乙电压表的测量示数产生的原因，并说出纠正的方法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隶书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、下列岛电路图中，电流表和电压表使用均正确的是图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　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3" descr="Image1959"/>
          <p:cNvPicPr/>
          <p:nvPr/>
        </p:nvPicPr>
        <p:blipFill>
          <a:blip r:embed="rId1"/>
          <a:stretch/>
        </p:blipFill>
        <p:spPr>
          <a:xfrm>
            <a:off x="617400" y="1851120"/>
            <a:ext cx="790920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-360" y="763560"/>
            <a:ext cx="9001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关于电压的说法，正确的是（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电路断开后，电路中电流为零，因此电源电压也为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电路两端只要有电压，电路中就一定有电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电路中只要有电流，电路两端一定有电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用电压表测电压时，可把电压表串入电路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1289520" y="4218840"/>
            <a:ext cx="35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电压是产生电流的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4494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中考题回顾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&lt;1&gt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152280" y="167652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某次电学实验不能正常进行，需要判断干电池是否报废，可取一节干电池，用电压表来测量它的电压，下列步骤中正确的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电压表的正接线柱与干电池的负极接触，负接线柱与正　　极接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刻度盘上读出电压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电压表的量程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电压表的负接线柱与干电池的负极接触，正接线柱与正　　极接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电压表的量程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②①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⑤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④②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④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1547640" y="2362320"/>
            <a:ext cx="11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5" descr="Q_013"/>
          <p:cNvPicPr/>
          <p:nvPr/>
        </p:nvPicPr>
        <p:blipFill>
          <a:blip r:embed="rId1"/>
          <a:stretch/>
        </p:blipFill>
        <p:spPr>
          <a:xfrm>
            <a:off x="6659640" y="620640"/>
            <a:ext cx="1403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2376360" y="2529000"/>
            <a:ext cx="3963960" cy="28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431640" y="333360"/>
            <a:ext cx="81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别用一节电池、两节电池对小灯泡供电，两次实验小灯泡的亮度相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认为是什么原因引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形标注 1"/>
          <p:cNvSpPr/>
          <p:nvPr/>
        </p:nvSpPr>
        <p:spPr>
          <a:xfrm>
            <a:off x="5184720" y="1901880"/>
            <a:ext cx="2664000" cy="806400"/>
          </a:xfrm>
          <a:prstGeom prst="wedgeEllipseCallout">
            <a:avLst>
              <a:gd name="adj1" fmla="val -60703"/>
              <a:gd name="adj2" fmla="val 74171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较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形标注 2"/>
          <p:cNvSpPr/>
          <p:nvPr/>
        </p:nvSpPr>
        <p:spPr>
          <a:xfrm>
            <a:off x="6696000" y="4184640"/>
            <a:ext cx="1908360" cy="973080"/>
          </a:xfrm>
          <a:prstGeom prst="wedgeEllipseCallout">
            <a:avLst>
              <a:gd name="adj1" fmla="val -111870"/>
              <a:gd name="adj2" fmla="val -63212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较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HWOCRTEMP_ROC330"/>
          <p:cNvPicPr/>
          <p:nvPr/>
        </p:nvPicPr>
        <p:blipFill>
          <a:blip r:embed="rId1"/>
          <a:stretch/>
        </p:blipFill>
        <p:spPr>
          <a:xfrm>
            <a:off x="7020000" y="3068640"/>
            <a:ext cx="1904760" cy="174780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3"/>
          <p:cNvSpPr/>
          <p:nvPr/>
        </p:nvSpPr>
        <p:spPr>
          <a:xfrm>
            <a:off x="0" y="1676520"/>
            <a:ext cx="708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用电压表测量电压时，如果不能估计出被测电压的范围，应该先用电压表的大量程进行试触．某次实验中，只知道电压不超过安全电压，所用电压表如图所示．关于试触后的操作，下列说法中正确的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如果示数大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 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则需调换接线柱重新试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如果示数大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 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则必须换用另一个量程更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的电压表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如果示数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 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 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之间，则需调换接线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试触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如果示数小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 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则必须换用另一个量程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的电压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2484360" y="685800"/>
            <a:ext cx="47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中考题回顾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&lt;2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838080" y="3124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6"/>
          <p:cNvGrpSpPr/>
          <p:nvPr/>
        </p:nvGrpSpPr>
        <p:grpSpPr>
          <a:xfrm>
            <a:off x="361080" y="18720"/>
            <a:ext cx="1838880" cy="1623240"/>
            <a:chOff x="361080" y="18720"/>
            <a:chExt cx="1838880" cy="1623240"/>
          </a:xfrm>
        </p:grpSpPr>
        <p:pic>
          <p:nvPicPr>
            <p:cNvPr id="734" name="Picture 7" descr="jae"/>
            <p:cNvPicPr/>
            <p:nvPr/>
          </p:nvPicPr>
          <p:blipFill>
            <a:blip r:embed="rId2"/>
            <a:stretch/>
          </p:blipFill>
          <p:spPr>
            <a:xfrm rot="21451200">
              <a:off x="757080" y="423720"/>
              <a:ext cx="96660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8" descr="q2"/>
            <p:cNvPicPr/>
            <p:nvPr/>
          </p:nvPicPr>
          <p:blipFill>
            <a:blip r:embed="rId3"/>
            <a:stretch/>
          </p:blipFill>
          <p:spPr>
            <a:xfrm rot="21451200">
              <a:off x="1711800" y="461880"/>
              <a:ext cx="479160" cy="4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9" descr="q2"/>
            <p:cNvPicPr/>
            <p:nvPr/>
          </p:nvPicPr>
          <p:blipFill>
            <a:blip r:embed="rId4"/>
            <a:stretch/>
          </p:blipFill>
          <p:spPr>
            <a:xfrm rot="21451200">
              <a:off x="369720" y="28800"/>
              <a:ext cx="479160" cy="4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10" descr="q2"/>
            <p:cNvPicPr/>
            <p:nvPr/>
          </p:nvPicPr>
          <p:blipFill>
            <a:blip r:embed="rId5"/>
            <a:stretch/>
          </p:blipFill>
          <p:spPr>
            <a:xfrm rot="21451200">
              <a:off x="392760" y="592200"/>
              <a:ext cx="399600" cy="35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2"/>
          <p:cNvSpPr/>
          <p:nvPr/>
        </p:nvSpPr>
        <p:spPr>
          <a:xfrm>
            <a:off x="826920" y="692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电压表的使用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3"/>
          <p:cNvGrpSpPr/>
          <p:nvPr/>
        </p:nvGrpSpPr>
        <p:grpSpPr>
          <a:xfrm>
            <a:off x="519120" y="1697040"/>
            <a:ext cx="8445600" cy="1157760"/>
            <a:chOff x="519120" y="1697040"/>
            <a:chExt cx="8445600" cy="1157760"/>
          </a:xfrm>
        </p:grpSpPr>
        <p:sp>
          <p:nvSpPr>
            <p:cNvPr id="740" name="Text Box 4"/>
            <p:cNvSpPr/>
            <p:nvPr/>
          </p:nvSpPr>
          <p:spPr>
            <a:xfrm>
              <a:off x="519120" y="169704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校零：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检查电压表的指针是否对准零刻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5"/>
            <p:cNvSpPr/>
            <p:nvPr/>
          </p:nvSpPr>
          <p:spPr>
            <a:xfrm>
              <a:off x="2340000" y="2273400"/>
              <a:ext cx="66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线，如有偏差，进行较正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6"/>
          <p:cNvGrpSpPr/>
          <p:nvPr/>
        </p:nvGrpSpPr>
        <p:grpSpPr>
          <a:xfrm>
            <a:off x="468360" y="2895480"/>
            <a:ext cx="8675640" cy="1101960"/>
            <a:chOff x="468360" y="2895480"/>
            <a:chExt cx="8675640" cy="1101960"/>
          </a:xfrm>
        </p:grpSpPr>
        <p:sp>
          <p:nvSpPr>
            <p:cNvPr id="743" name="Text Box 7"/>
            <p:cNvSpPr/>
            <p:nvPr/>
          </p:nvSpPr>
          <p:spPr>
            <a:xfrm>
              <a:off x="468360" y="2895480"/>
              <a:ext cx="867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并联：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压表必须并联在待测电路的两端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8"/>
            <p:cNvSpPr/>
            <p:nvPr/>
          </p:nvSpPr>
          <p:spPr>
            <a:xfrm>
              <a:off x="2411280" y="341604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应使电流从电压表的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接线柱 流入，从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接线柱流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9"/>
          <p:cNvGrpSpPr/>
          <p:nvPr/>
        </p:nvGrpSpPr>
        <p:grpSpPr>
          <a:xfrm>
            <a:off x="539640" y="4595760"/>
            <a:ext cx="8533080" cy="1571760"/>
            <a:chOff x="539640" y="4595760"/>
            <a:chExt cx="8533080" cy="1571760"/>
          </a:xfrm>
        </p:grpSpPr>
        <p:sp>
          <p:nvSpPr>
            <p:cNvPr id="746" name="Text Box 10"/>
            <p:cNvSpPr/>
            <p:nvPr/>
          </p:nvSpPr>
          <p:spPr>
            <a:xfrm>
              <a:off x="539640" y="4595760"/>
              <a:ext cx="85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被测电压的大小不能超出电压表量程。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1"/>
            <p:cNvSpPr/>
            <p:nvPr/>
          </p:nvSpPr>
          <p:spPr>
            <a:xfrm>
              <a:off x="1187280" y="5098680"/>
              <a:ext cx="7561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般先选用大量程进行试触，如电压表的示数在小量程范围内，则改用小量程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609480" y="21337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用电压表测电压时，某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接入的是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0~3V 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的量程，却  在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0~15V 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的量程中读成了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伏，则实际电压应该是（    ）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4876920" y="380988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3674520" y="548280"/>
            <a:ext cx="13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中的高电压、人体电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3" descr="电鳗"/>
          <p:cNvPicPr/>
          <p:nvPr/>
        </p:nvPicPr>
        <p:blipFill>
          <a:blip r:embed="rId1"/>
          <a:stretch/>
        </p:blipFill>
        <p:spPr>
          <a:xfrm>
            <a:off x="1547640" y="1268280"/>
            <a:ext cx="6153480" cy="461484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4"/>
          <p:cNvSpPr/>
          <p:nvPr/>
        </p:nvSpPr>
        <p:spPr>
          <a:xfrm>
            <a:off x="2411280" y="59500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高压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990-76E2-423B-8574-B27180B38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未命名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900000" y="119916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电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形成电流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900000" y="19184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电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提供电压的装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00000" y="256536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电压符号：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940360" y="119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推动电荷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3336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、电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900000" y="330876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国际单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伏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简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单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kV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毫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mV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微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μV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549440" y="4941720"/>
            <a:ext cx="39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伏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伏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伏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伏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伏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微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611280" y="5149800"/>
            <a:ext cx="32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电机两个放电球之间的电压高达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几万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068960" y="4721400"/>
            <a:ext cx="1312920" cy="210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起电机放电"/>
          <p:cNvPicPr/>
          <p:nvPr/>
        </p:nvPicPr>
        <p:blipFill>
          <a:blip r:embed="rId2"/>
          <a:stretch/>
        </p:blipFill>
        <p:spPr>
          <a:xfrm>
            <a:off x="3936960" y="4340160"/>
            <a:ext cx="313200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:\users\yanhj\appdata\roaming\360se6\USERDA~1\Temp\207EA6~1.JPG"/>
          <p:cNvPicPr/>
          <p:nvPr/>
        </p:nvPicPr>
        <p:blipFill>
          <a:blip r:embed="rId3"/>
          <a:stretch/>
        </p:blipFill>
        <p:spPr>
          <a:xfrm>
            <a:off x="324000" y="187200"/>
            <a:ext cx="3101760" cy="20653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3708360" y="8254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节干电池的电压：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5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d:\users\yanhj\appdata\roaming\360se6\USERDA~1\Temp\200807~1.JPG"/>
          <p:cNvPicPr/>
          <p:nvPr/>
        </p:nvPicPr>
        <p:blipFill>
          <a:blip r:embed="rId4"/>
          <a:stretch/>
        </p:blipFill>
        <p:spPr>
          <a:xfrm>
            <a:off x="325440" y="2492280"/>
            <a:ext cx="4686120" cy="15336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5184720" y="29289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家用电器：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20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H:\2\资源\八下和九年级图片素材\八年级下册\06第六章 电压 电阻\01一、电压\显像管工作电压10KV以上.jpg"/>
          <p:cNvPicPr/>
          <p:nvPr/>
        </p:nvPicPr>
        <p:blipFill>
          <a:blip r:embed="rId1"/>
          <a:stretch/>
        </p:blipFill>
        <p:spPr>
          <a:xfrm>
            <a:off x="4356000" y="4184640"/>
            <a:ext cx="1951200" cy="219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431640" y="4132440"/>
            <a:ext cx="1455840" cy="240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1979640" y="4149720"/>
            <a:ext cx="2085840" cy="2314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6516720" y="3933720"/>
            <a:ext cx="2320920" cy="26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N8ER{QRBD`Z$~AG_~$9S[8"/>
          <p:cNvPicPr/>
          <p:nvPr/>
        </p:nvPicPr>
        <p:blipFill>
          <a:blip r:embed="rId5"/>
          <a:stretch/>
        </p:blipFill>
        <p:spPr>
          <a:xfrm>
            <a:off x="252360" y="728640"/>
            <a:ext cx="860436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85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电源之父：伏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16765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伏特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意大利物理学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善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思考、喜欢探求、勇于实践的他在青少年时期就开始了电学实验，他读了很多电学的书，他的实验超出了当时已知的一切电学知识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他宣布发明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伏打电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这一神奇发明，对电学的研究具有划时代的意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伏特被称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源之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后人为纪念这位著名的物理学家，把电压的单位规定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伏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00605022333464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0"/>
            <a:ext cx="182880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C:\Users\yanhj\AppData\Roaming\Tencent\Users\68788615\QQ\WinTemp\RichOle\]N]G})F)VAIL)~Z{}MUM_[M.jpg"/>
          <p:cNvPicPr/>
          <p:nvPr/>
        </p:nvPicPr>
        <p:blipFill>
          <a:blip r:embed="rId1"/>
          <a:stretch/>
        </p:blipFill>
        <p:spPr>
          <a:xfrm>
            <a:off x="581040" y="404640"/>
            <a:ext cx="8569440" cy="3706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598320" y="4329000"/>
            <a:ext cx="805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水果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=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电源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为发光二极管提供了“电 压”，使自由电荷在电路中定向运动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199"/>
          <p:cNvSpPr/>
          <p:nvPr/>
        </p:nvSpPr>
        <p:spPr>
          <a:xfrm>
            <a:off x="1246320" y="477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25Z</dcterms:modified>
  <cp:revision>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