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280-A52D-469F-B24E-F1767BEF6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FA70-1467-4714-84F9-D0633234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7C5-B2A7-45CC-B3A1-ABB5F857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8B71-9CC8-4FB6-8914-2658AE20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8DC9-9E4F-4859-B1D3-D120CAD0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291F9-A7E0-481E-B0D9-AA7EBD8C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6679-EEA3-4548-82F8-FAF44BFD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DF87-E513-4BC9-BBF1-92420AF9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2DEC2-4762-4F03-850D-5A6CD8CB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FC66B-7809-465C-9891-AE333EA1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76F0-1844-494C-AFEB-1A0597EC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D6DD-4009-44E1-B128-AC67D3D0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C65E-6ED9-460A-AEB3-4D10A56B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DAB8-7784-4DB4-93FB-441B47AD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78A8-C1FF-4127-9BC0-54073107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46338-9347-472E-A691-04699D72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03F0-D33C-4780-A705-881CCA95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7AE-950E-4AB6-BBC8-F4BB9847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93E8-5F15-4133-8D60-5358B8E5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A9CA-2195-4679-B937-C1405275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97A3-670F-4701-97B8-06AFB895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E4ED-AFB2-47AC-A66B-9FE4A054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A68E-C0D3-4F1E-AC31-DDD9A152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E048-4ADC-4904-B179-43A0E836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5F0D-2552-4B49-8A1B-5DACBFA560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00EC-E5AB-4763-BAAE-D079E7BD7E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83DA-7E6B-45B4-ADD2-7BCD383C82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4280" y="2205000"/>
            <a:ext cx="7845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宋体"/>
                <a:ea typeface="宋体"/>
              </a:rPr>
              <a:t>多种多样的交通运输方式</a:t>
            </a:r>
            <a:r>
              <a:rPr b="1" lang="en-US" sz="4000" spc="-1" strike="noStrike">
                <a:solidFill>
                  <a:srgbClr val="ff33cc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33cc"/>
                </a:solidFill>
                <a:latin typeface="宋体"/>
                <a:ea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26920" y="1015920"/>
            <a:ext cx="295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华文彩云"/>
                <a:ea typeface="华文彩云"/>
              </a:rPr>
              <a:t>第三单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13211836657"/>
          <p:cNvPicPr/>
          <p:nvPr/>
        </p:nvPicPr>
        <p:blipFill>
          <a:blip r:embed="rId1"/>
          <a:stretch/>
        </p:blipFill>
        <p:spPr>
          <a:xfrm>
            <a:off x="826920" y="981000"/>
            <a:ext cx="7634520" cy="4184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1547640" y="55148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以飞机为主的航空运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管道运输"/>
          <p:cNvPicPr/>
          <p:nvPr/>
        </p:nvPicPr>
        <p:blipFill>
          <a:blip r:embed="rId1"/>
          <a:stretch/>
        </p:blipFill>
        <p:spPr>
          <a:xfrm>
            <a:off x="905040" y="1197000"/>
            <a:ext cx="7340400" cy="4900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776160" y="374760"/>
            <a:ext cx="336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管道运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畜力运输"/>
          <p:cNvPicPr/>
          <p:nvPr/>
        </p:nvPicPr>
        <p:blipFill>
          <a:blip r:embed="rId1"/>
          <a:stretch/>
        </p:blipFill>
        <p:spPr>
          <a:xfrm>
            <a:off x="1116000" y="1663560"/>
            <a:ext cx="7129440" cy="4432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1116000" y="412920"/>
            <a:ext cx="342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畜力运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10dfa9ec8a1363273a8e24b7918fa0ec09fac7d7"/>
          <p:cNvPicPr/>
          <p:nvPr/>
        </p:nvPicPr>
        <p:blipFill>
          <a:blip r:embed="rId1"/>
          <a:stretch/>
        </p:blipFill>
        <p:spPr>
          <a:xfrm>
            <a:off x="900000" y="981000"/>
            <a:ext cx="7415280" cy="47116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900000" y="157320"/>
            <a:ext cx="287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</a:rPr>
              <a:t>人力运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1333440" y="1517400"/>
            <a:ext cx="6408360" cy="4467240"/>
            <a:chOff x="1333440" y="1517400"/>
            <a:chExt cx="6408360" cy="4467240"/>
          </a:xfrm>
        </p:grpSpPr>
        <p:sp>
          <p:nvSpPr>
            <p:cNvPr id="166" name="Freeform 38"/>
            <p:cNvSpPr/>
            <p:nvPr/>
          </p:nvSpPr>
          <p:spPr>
            <a:xfrm>
              <a:off x="3426480" y="2980440"/>
              <a:ext cx="2212200" cy="1541520"/>
            </a:xfrm>
            <a:custGeom>
              <a:avLst/>
              <a:gdLst/>
              <a:ahLst/>
              <a:rect l="l" t="t" r="r" b="b"/>
              <a:pathLst>
                <a:path w="1339" h="805">
                  <a:moveTo>
                    <a:pt x="320" y="0"/>
                  </a:moveTo>
                  <a:lnTo>
                    <a:pt x="1019" y="0"/>
                  </a:lnTo>
                  <a:lnTo>
                    <a:pt x="1339" y="403"/>
                  </a:lnTo>
                  <a:lnTo>
                    <a:pt x="1019" y="805"/>
                  </a:lnTo>
                  <a:lnTo>
                    <a:pt x="328" y="805"/>
                  </a:lnTo>
                  <a:lnTo>
                    <a:pt x="0" y="394"/>
                  </a:lnTo>
                  <a:lnTo>
                    <a:pt x="32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66"/>
                </a:gs>
              </a:gsLst>
              <a:lin ang="5400000"/>
            </a:gradFill>
            <a:ln w="28440">
              <a:solidFill>
                <a:srgbClr val="99cc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9"/>
            <p:cNvSpPr/>
            <p:nvPr/>
          </p:nvSpPr>
          <p:spPr>
            <a:xfrm>
              <a:off x="2963880" y="4645800"/>
              <a:ext cx="3150720" cy="1338840"/>
            </a:xfrm>
            <a:custGeom>
              <a:avLst/>
              <a:gdLst/>
              <a:ahLst/>
              <a:rect l="l" t="t" r="r" b="b"/>
              <a:pathLst>
                <a:path w="1907" h="699">
                  <a:moveTo>
                    <a:pt x="600" y="0"/>
                  </a:moveTo>
                  <a:lnTo>
                    <a:pt x="1307" y="0"/>
                  </a:lnTo>
                  <a:lnTo>
                    <a:pt x="1907" y="699"/>
                  </a:lnTo>
                  <a:lnTo>
                    <a:pt x="0" y="699"/>
                  </a:lnTo>
                  <a:lnTo>
                    <a:pt x="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66"/>
                </a:gs>
              </a:gsLst>
              <a:lin ang="5400000"/>
            </a:gradFill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0"/>
            <p:cNvSpPr/>
            <p:nvPr/>
          </p:nvSpPr>
          <p:spPr>
            <a:xfrm flipV="1">
              <a:off x="2963880" y="1516680"/>
              <a:ext cx="3150720" cy="1338840"/>
            </a:xfrm>
            <a:custGeom>
              <a:avLst/>
              <a:gdLst/>
              <a:ahLst/>
              <a:rect l="l" t="t" r="r" b="b"/>
              <a:pathLst>
                <a:path w="1907" h="699">
                  <a:moveTo>
                    <a:pt x="600" y="0"/>
                  </a:moveTo>
                  <a:lnTo>
                    <a:pt x="1307" y="0"/>
                  </a:lnTo>
                  <a:lnTo>
                    <a:pt x="1907" y="699"/>
                  </a:lnTo>
                  <a:lnTo>
                    <a:pt x="0" y="699"/>
                  </a:lnTo>
                  <a:lnTo>
                    <a:pt x="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66"/>
                </a:gs>
              </a:gsLst>
              <a:lin ang="5400000"/>
            </a:gradFill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1"/>
            <p:cNvSpPr/>
            <p:nvPr/>
          </p:nvSpPr>
          <p:spPr>
            <a:xfrm>
              <a:off x="1333440" y="1580400"/>
              <a:ext cx="2540880" cy="2123280"/>
            </a:xfrm>
            <a:custGeom>
              <a:avLst/>
              <a:gdLst/>
              <a:ahLst/>
              <a:rect l="l" t="t" r="r" b="b"/>
              <a:pathLst>
                <a:path w="1538" h="1109">
                  <a:moveTo>
                    <a:pt x="1200" y="1109"/>
                  </a:moveTo>
                  <a:lnTo>
                    <a:pt x="1538" y="690"/>
                  </a:lnTo>
                  <a:lnTo>
                    <a:pt x="937" y="0"/>
                  </a:lnTo>
                  <a:lnTo>
                    <a:pt x="0" y="1109"/>
                  </a:lnTo>
                  <a:lnTo>
                    <a:pt x="1200" y="1109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66"/>
                </a:gs>
              </a:gsLst>
              <a:lin ang="5400000"/>
            </a:gradFill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2"/>
            <p:cNvSpPr/>
            <p:nvPr/>
          </p:nvSpPr>
          <p:spPr>
            <a:xfrm>
              <a:off x="1334880" y="3813120"/>
              <a:ext cx="2527560" cy="2139120"/>
            </a:xfrm>
            <a:custGeom>
              <a:avLst/>
              <a:gdLst/>
              <a:ahLst/>
              <a:rect l="l" t="t" r="r" b="b"/>
              <a:pathLst>
                <a:path w="1529" h="1117">
                  <a:moveTo>
                    <a:pt x="1200" y="0"/>
                  </a:moveTo>
                  <a:lnTo>
                    <a:pt x="1529" y="410"/>
                  </a:lnTo>
                  <a:lnTo>
                    <a:pt x="929" y="1117"/>
                  </a:lnTo>
                  <a:lnTo>
                    <a:pt x="0" y="0"/>
                  </a:lnTo>
                  <a:lnTo>
                    <a:pt x="120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66"/>
                </a:gs>
              </a:gsLst>
              <a:lin ang="5400000"/>
            </a:gradFill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3"/>
            <p:cNvSpPr/>
            <p:nvPr/>
          </p:nvSpPr>
          <p:spPr>
            <a:xfrm flipH="1">
              <a:off x="5200920" y="1580400"/>
              <a:ext cx="2540880" cy="2123280"/>
            </a:xfrm>
            <a:custGeom>
              <a:avLst/>
              <a:gdLst/>
              <a:ahLst/>
              <a:rect l="l" t="t" r="r" b="b"/>
              <a:pathLst>
                <a:path w="1538" h="1109">
                  <a:moveTo>
                    <a:pt x="1200" y="1109"/>
                  </a:moveTo>
                  <a:lnTo>
                    <a:pt x="1538" y="690"/>
                  </a:lnTo>
                  <a:lnTo>
                    <a:pt x="937" y="0"/>
                  </a:lnTo>
                  <a:lnTo>
                    <a:pt x="0" y="1109"/>
                  </a:lnTo>
                  <a:lnTo>
                    <a:pt x="1200" y="1109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66"/>
                </a:gs>
              </a:gsLst>
              <a:lin ang="5400000"/>
            </a:gradFill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4"/>
            <p:cNvSpPr/>
            <p:nvPr/>
          </p:nvSpPr>
          <p:spPr>
            <a:xfrm flipH="1">
              <a:off x="5202720" y="3813120"/>
              <a:ext cx="2525760" cy="2139120"/>
            </a:xfrm>
            <a:custGeom>
              <a:avLst/>
              <a:gdLst/>
              <a:ahLst/>
              <a:rect l="l" t="t" r="r" b="b"/>
              <a:pathLst>
                <a:path w="1529" h="1117">
                  <a:moveTo>
                    <a:pt x="1200" y="0"/>
                  </a:moveTo>
                  <a:lnTo>
                    <a:pt x="1529" y="410"/>
                  </a:lnTo>
                  <a:lnTo>
                    <a:pt x="929" y="1117"/>
                  </a:lnTo>
                  <a:lnTo>
                    <a:pt x="0" y="0"/>
                  </a:lnTo>
                  <a:lnTo>
                    <a:pt x="120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ffff66"/>
                </a:gs>
              </a:gsLst>
              <a:lin ang="5400000"/>
            </a:gradFill>
            <a:ln w="284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5"/>
            <p:cNvSpPr/>
            <p:nvPr/>
          </p:nvSpPr>
          <p:spPr>
            <a:xfrm flipH="1">
              <a:off x="3692520" y="3324240"/>
              <a:ext cx="1706400" cy="8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</a:rPr>
                <a:t>运输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</a:rPr>
                <a:t>分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6"/>
            <p:cNvSpPr/>
            <p:nvPr/>
          </p:nvSpPr>
          <p:spPr>
            <a:xfrm flipH="1">
              <a:off x="3692520" y="1978560"/>
              <a:ext cx="1706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</a:rPr>
                <a:t>公路运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47"/>
            <p:cNvSpPr/>
            <p:nvPr/>
          </p:nvSpPr>
          <p:spPr>
            <a:xfrm flipH="1">
              <a:off x="3692520" y="5106960"/>
              <a:ext cx="1706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</a:rPr>
                <a:t>航空运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48"/>
            <p:cNvSpPr/>
            <p:nvPr/>
          </p:nvSpPr>
          <p:spPr>
            <a:xfrm flipH="1">
              <a:off x="2027160" y="4399920"/>
              <a:ext cx="1704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</a:rPr>
                <a:t>管道运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9"/>
            <p:cNvSpPr/>
            <p:nvPr/>
          </p:nvSpPr>
          <p:spPr>
            <a:xfrm flipH="1">
              <a:off x="2027160" y="2714400"/>
              <a:ext cx="17049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</a:rPr>
                <a:t>其他运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50"/>
            <p:cNvSpPr/>
            <p:nvPr/>
          </p:nvSpPr>
          <p:spPr>
            <a:xfrm flipH="1">
              <a:off x="5353200" y="4399920"/>
              <a:ext cx="1706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</a:rPr>
                <a:t>水路运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 flipH="1">
              <a:off x="5353200" y="2714400"/>
              <a:ext cx="1706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00"/>
                  </a:solidFill>
                  <a:latin typeface="Arial"/>
                </a:rPr>
                <a:t>铁路运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7280" y="114264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黑体"/>
              </a:rPr>
              <a:t>分小组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86920" y="2060640"/>
            <a:ext cx="689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第一小组：公路运输的优点和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第二小组：铁路运输的优点和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第三小组：水陆运输的优点和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第四小组：航空运输的优点和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第五小组：管道运输的优点和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第六小组：人力运输的优点和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第七小组：畜力运输的优点和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208080" y="189000"/>
            <a:ext cx="935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  <a:ea typeface="隶书"/>
              </a:rPr>
              <a:t>  </a:t>
            </a:r>
            <a:r>
              <a:rPr b="0" lang="zh-CN" sz="4400" spc="-1" strike="noStrike">
                <a:solidFill>
                  <a:srgbClr val="ff33cc"/>
                </a:solidFill>
                <a:latin typeface="黑体"/>
                <a:ea typeface="黑体"/>
              </a:rPr>
              <a:t>二、 各种运输方式的优点和缺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135080" y="2112840"/>
            <a:ext cx="106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971640" y="1052640"/>
            <a:ext cx="7416720" cy="5040360"/>
            <a:chOff x="971640" y="1052640"/>
            <a:chExt cx="7416720" cy="5040360"/>
          </a:xfrm>
        </p:grpSpPr>
        <p:sp>
          <p:nvSpPr>
            <p:cNvPr id="185" name="AutoShape 4"/>
            <p:cNvSpPr/>
            <p:nvPr/>
          </p:nvSpPr>
          <p:spPr>
            <a:xfrm>
              <a:off x="971640" y="1052640"/>
              <a:ext cx="7416720" cy="5040360"/>
            </a:xfrm>
            <a:prstGeom prst="flowChartAlternateProcess">
              <a:avLst/>
            </a:prstGeom>
            <a:solidFill>
              <a:srgbClr val="ccffcc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059280" y="1052640"/>
              <a:ext cx="360" cy="5040360"/>
              <a:chOff x="3059280" y="1052640"/>
              <a:chExt cx="360" cy="5040360"/>
            </a:xfrm>
          </p:grpSpPr>
          <p:sp>
            <p:nvSpPr>
              <p:cNvPr id="187" name="Line 5"/>
              <p:cNvSpPr/>
              <p:nvPr/>
            </p:nvSpPr>
            <p:spPr>
              <a:xfrm>
                <a:off x="3059280" y="1052640"/>
                <a:ext cx="0" cy="5040360"/>
              </a:xfrm>
              <a:prstGeom prst="line">
                <a:avLst/>
              </a:prstGeom>
              <a:ln w="284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 txBox="1"/>
              <p:nvPr/>
            </p:nvSpPr>
            <p:spPr>
              <a:xfrm>
                <a:off x="3059280" y="1052640"/>
                <a:ext cx="360" cy="504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867640" y="1052640"/>
              <a:ext cx="360" cy="5040360"/>
              <a:chOff x="5867640" y="1052640"/>
              <a:chExt cx="360" cy="5040360"/>
            </a:xfrm>
          </p:grpSpPr>
          <p:sp>
            <p:nvSpPr>
              <p:cNvPr id="190" name="Line 6"/>
              <p:cNvSpPr/>
              <p:nvPr/>
            </p:nvSpPr>
            <p:spPr>
              <a:xfrm>
                <a:off x="5867640" y="1052640"/>
                <a:ext cx="0" cy="5040360"/>
              </a:xfrm>
              <a:prstGeom prst="line">
                <a:avLst/>
              </a:prstGeom>
              <a:ln w="284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>
                <a:off x="5867640" y="1052640"/>
                <a:ext cx="360" cy="504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971640" y="2113200"/>
              <a:ext cx="7416720" cy="360"/>
              <a:chOff x="971640" y="2113200"/>
              <a:chExt cx="7416720" cy="360"/>
            </a:xfrm>
          </p:grpSpPr>
          <p:sp>
            <p:nvSpPr>
              <p:cNvPr id="193" name="Line 7"/>
              <p:cNvSpPr/>
              <p:nvPr/>
            </p:nvSpPr>
            <p:spPr>
              <a:xfrm>
                <a:off x="971640" y="2113200"/>
                <a:ext cx="741672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>
                <a:off x="971640" y="2113200"/>
                <a:ext cx="741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971640" y="3500640"/>
              <a:ext cx="7416720" cy="360"/>
              <a:chOff x="971640" y="3500640"/>
              <a:chExt cx="7416720" cy="360"/>
            </a:xfrm>
          </p:grpSpPr>
          <p:sp>
            <p:nvSpPr>
              <p:cNvPr id="196" name="Line 8"/>
              <p:cNvSpPr/>
              <p:nvPr/>
            </p:nvSpPr>
            <p:spPr>
              <a:xfrm>
                <a:off x="971640" y="3500640"/>
                <a:ext cx="741672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>
                <a:off x="971640" y="3500640"/>
                <a:ext cx="741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971640" y="4797720"/>
              <a:ext cx="7416720" cy="360"/>
              <a:chOff x="971640" y="4797720"/>
              <a:chExt cx="7416720" cy="360"/>
            </a:xfrm>
          </p:grpSpPr>
          <p:sp>
            <p:nvSpPr>
              <p:cNvPr id="199" name="Line 9"/>
              <p:cNvSpPr/>
              <p:nvPr/>
            </p:nvSpPr>
            <p:spPr>
              <a:xfrm>
                <a:off x="971640" y="4797720"/>
                <a:ext cx="741672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971640" y="4797720"/>
                <a:ext cx="741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Text Box 10"/>
          <p:cNvSpPr/>
          <p:nvPr/>
        </p:nvSpPr>
        <p:spPr>
          <a:xfrm>
            <a:off x="1135080" y="1297080"/>
            <a:ext cx="17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运输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3419640" y="1297080"/>
            <a:ext cx="170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优        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6229440" y="1297080"/>
            <a:ext cx="170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缺        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1135080" y="2570040"/>
            <a:ext cx="17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公路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4"/>
          <p:cNvSpPr/>
          <p:nvPr/>
        </p:nvSpPr>
        <p:spPr>
          <a:xfrm>
            <a:off x="1135080" y="3933720"/>
            <a:ext cx="17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铁路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5"/>
          <p:cNvSpPr/>
          <p:nvPr/>
        </p:nvSpPr>
        <p:spPr>
          <a:xfrm>
            <a:off x="1135080" y="5157720"/>
            <a:ext cx="17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水路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6"/>
          <p:cNvSpPr/>
          <p:nvPr/>
        </p:nvSpPr>
        <p:spPr>
          <a:xfrm>
            <a:off x="3102120" y="2570040"/>
            <a:ext cx="27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速度快，灵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7"/>
          <p:cNvSpPr/>
          <p:nvPr/>
        </p:nvSpPr>
        <p:spPr>
          <a:xfrm>
            <a:off x="5870520" y="2570040"/>
            <a:ext cx="24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量小、价格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8"/>
          <p:cNvSpPr/>
          <p:nvPr/>
        </p:nvSpPr>
        <p:spPr>
          <a:xfrm>
            <a:off x="3298680" y="3630600"/>
            <a:ext cx="23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速度快，运量大、价格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6267600" y="394668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灵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0"/>
          <p:cNvSpPr/>
          <p:nvPr/>
        </p:nvSpPr>
        <p:spPr>
          <a:xfrm>
            <a:off x="3102120" y="525132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量大，价格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21"/>
          <p:cNvSpPr/>
          <p:nvPr/>
        </p:nvSpPr>
        <p:spPr>
          <a:xfrm>
            <a:off x="5872320" y="5251320"/>
            <a:ext cx="24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速度慢、不灵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1008000" y="1052640"/>
            <a:ext cx="7416720" cy="5040360"/>
            <a:chOff x="1008000" y="1052640"/>
            <a:chExt cx="7416720" cy="5040360"/>
          </a:xfrm>
        </p:grpSpPr>
        <p:sp>
          <p:nvSpPr>
            <p:cNvPr id="214" name="AutoShape 3"/>
            <p:cNvSpPr/>
            <p:nvPr/>
          </p:nvSpPr>
          <p:spPr>
            <a:xfrm>
              <a:off x="1008000" y="1052640"/>
              <a:ext cx="7416720" cy="5040360"/>
            </a:xfrm>
            <a:prstGeom prst="flowChartAlternateProcess">
              <a:avLst/>
            </a:prstGeom>
            <a:solidFill>
              <a:srgbClr val="ccffcc"/>
            </a:solidFill>
            <a:ln w="284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3095640" y="1052640"/>
              <a:ext cx="360" cy="5040360"/>
              <a:chOff x="3095640" y="1052640"/>
              <a:chExt cx="360" cy="5040360"/>
            </a:xfrm>
          </p:grpSpPr>
          <p:sp>
            <p:nvSpPr>
              <p:cNvPr id="216" name="Line 4"/>
              <p:cNvSpPr/>
              <p:nvPr/>
            </p:nvSpPr>
            <p:spPr>
              <a:xfrm>
                <a:off x="3095640" y="1052640"/>
                <a:ext cx="0" cy="5040360"/>
              </a:xfrm>
              <a:prstGeom prst="line">
                <a:avLst/>
              </a:prstGeom>
              <a:ln w="284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 txBox="1"/>
              <p:nvPr/>
            </p:nvSpPr>
            <p:spPr>
              <a:xfrm>
                <a:off x="3095640" y="1052640"/>
                <a:ext cx="360" cy="504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5904000" y="1052640"/>
              <a:ext cx="360" cy="5040360"/>
              <a:chOff x="5904000" y="1052640"/>
              <a:chExt cx="360" cy="5040360"/>
            </a:xfrm>
          </p:grpSpPr>
          <p:sp>
            <p:nvSpPr>
              <p:cNvPr id="219" name="Line 5"/>
              <p:cNvSpPr/>
              <p:nvPr/>
            </p:nvSpPr>
            <p:spPr>
              <a:xfrm>
                <a:off x="5904000" y="1052640"/>
                <a:ext cx="0" cy="5040360"/>
              </a:xfrm>
              <a:prstGeom prst="line">
                <a:avLst/>
              </a:prstGeom>
              <a:ln w="284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 txBox="1"/>
              <p:nvPr/>
            </p:nvSpPr>
            <p:spPr>
              <a:xfrm>
                <a:off x="5904000" y="1052640"/>
                <a:ext cx="360" cy="504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1008000" y="2113200"/>
              <a:ext cx="7416720" cy="360"/>
              <a:chOff x="1008000" y="2113200"/>
              <a:chExt cx="7416720" cy="360"/>
            </a:xfrm>
          </p:grpSpPr>
          <p:sp>
            <p:nvSpPr>
              <p:cNvPr id="222" name="Line 6"/>
              <p:cNvSpPr/>
              <p:nvPr/>
            </p:nvSpPr>
            <p:spPr>
              <a:xfrm>
                <a:off x="1008000" y="2113200"/>
                <a:ext cx="741672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 txBox="1"/>
              <p:nvPr/>
            </p:nvSpPr>
            <p:spPr>
              <a:xfrm>
                <a:off x="1008000" y="2113200"/>
                <a:ext cx="741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1008000" y="3500640"/>
              <a:ext cx="7416720" cy="360"/>
              <a:chOff x="1008000" y="3500640"/>
              <a:chExt cx="7416720" cy="360"/>
            </a:xfrm>
          </p:grpSpPr>
          <p:sp>
            <p:nvSpPr>
              <p:cNvPr id="225" name="Line 7"/>
              <p:cNvSpPr/>
              <p:nvPr/>
            </p:nvSpPr>
            <p:spPr>
              <a:xfrm>
                <a:off x="1008000" y="3500640"/>
                <a:ext cx="741672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 txBox="1"/>
              <p:nvPr/>
            </p:nvSpPr>
            <p:spPr>
              <a:xfrm>
                <a:off x="1008000" y="3500640"/>
                <a:ext cx="741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008000" y="4797720"/>
              <a:ext cx="7416720" cy="360"/>
              <a:chOff x="1008000" y="4797720"/>
              <a:chExt cx="7416720" cy="360"/>
            </a:xfrm>
          </p:grpSpPr>
          <p:sp>
            <p:nvSpPr>
              <p:cNvPr id="228" name="Line 8"/>
              <p:cNvSpPr/>
              <p:nvPr/>
            </p:nvSpPr>
            <p:spPr>
              <a:xfrm>
                <a:off x="1008000" y="4797720"/>
                <a:ext cx="7416720" cy="0"/>
              </a:xfrm>
              <a:prstGeom prst="line">
                <a:avLst/>
              </a:prstGeom>
              <a:ln w="284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 txBox="1"/>
              <p:nvPr/>
            </p:nvSpPr>
            <p:spPr>
              <a:xfrm>
                <a:off x="1008000" y="4797720"/>
                <a:ext cx="741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Text Box 9"/>
          <p:cNvSpPr/>
          <p:nvPr/>
        </p:nvSpPr>
        <p:spPr>
          <a:xfrm>
            <a:off x="1135080" y="1413000"/>
            <a:ext cx="17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航空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1135080" y="2638440"/>
            <a:ext cx="17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管道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1135080" y="4005360"/>
            <a:ext cx="17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人力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1135080" y="5157720"/>
            <a:ext cx="17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</a:rPr>
              <a:t>畜力运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3521160" y="1440000"/>
            <a:ext cx="21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速度快、灵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6013440" y="1440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量小，价格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5689440" y="26384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价格高、不灵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3492360" y="263844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量大、速度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3506760" y="3916440"/>
            <a:ext cx="24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灵活、价格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3506760" y="5219640"/>
            <a:ext cx="21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灵活、价格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6013440" y="39924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量小，速度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6013440" y="521964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量小，速度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26560" y="160020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1813320" y="2679840"/>
            <a:ext cx="23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火车，铁路运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162080" y="5546880"/>
            <a:ext cx="53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（汽车，公路运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-206280" y="189000"/>
            <a:ext cx="935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  <a:ea typeface="隶书"/>
              </a:rPr>
              <a:t>          </a:t>
            </a:r>
            <a:r>
              <a:rPr b="0" lang="zh-CN" sz="4800" spc="-1" strike="noStrike">
                <a:solidFill>
                  <a:srgbClr val="ff33cc"/>
                </a:solidFill>
                <a:latin typeface="黑体"/>
                <a:ea typeface="黑体"/>
              </a:rPr>
              <a:t>运输方式大竞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62080" y="14907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、北方的水果要运到我们南方来，    需要什么样的运输方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212840" y="3645000"/>
            <a:ext cx="75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、母亲节，鲜花的销售量特别大，要从外地批发鲜花回来卖，可以用什么样的运输方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539640" y="981000"/>
            <a:ext cx="8229600" cy="51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476360" y="156852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火车，铁路运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476360" y="2727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汽车，公路运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476360" y="400536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轮船，水路运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1733400" y="556560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飞机，航空运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534960" y="981000"/>
            <a:ext cx="823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从柳州把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吨甘蔗运往上海批发商那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460440" y="2087640"/>
            <a:ext cx="83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从面包厂把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吨的面包运输到附近的商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539640" y="3244680"/>
            <a:ext cx="833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从大连煤运码头把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万吨煤运到上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539640" y="4498920"/>
            <a:ext cx="8433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北京一批价值千万的救灾药品急运云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灾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21760"/>
            <a:ext cx="317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黑体"/>
                <a:ea typeface="黑体"/>
              </a:rPr>
              <a:t>  </a:t>
            </a:r>
            <a:r>
              <a:rPr b="0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猜一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汽车"/>
          <p:cNvPicPr/>
          <p:nvPr/>
        </p:nvPicPr>
        <p:blipFill>
          <a:blip r:embed="rId1"/>
          <a:stretch/>
        </p:blipFill>
        <p:spPr>
          <a:xfrm>
            <a:off x="3564000" y="3211560"/>
            <a:ext cx="4998960" cy="30798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939960" y="175752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880920" y="2311560"/>
            <a:ext cx="3475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31840" y="1700280"/>
            <a:ext cx="58928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小一间房，有墙又有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马路当中跑，行人走两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971280" y="981000"/>
            <a:ext cx="7716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大庆油田的原油源源不断的运到吉化炼油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吨木材由大兴安岭运往北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一批小汽车由上海运到日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把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5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公斤大米从一楼运输到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700360" y="1978200"/>
            <a:ext cx="40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管道，管道运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743200" y="3225960"/>
            <a:ext cx="34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火车，铁路运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743200" y="430524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轮船，水路运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2743200" y="5537160"/>
            <a:ext cx="294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（人，人力运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文本框 8200"/>
          <p:cNvSpPr/>
          <p:nvPr/>
        </p:nvSpPr>
        <p:spPr>
          <a:xfrm>
            <a:off x="971640" y="5238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8E05-A28C-4123-ADEC-1416BE79E6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-1044720" y="571680"/>
            <a:ext cx="9356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  <a:ea typeface="隶书"/>
              </a:rPr>
              <a:t>           </a:t>
            </a:r>
            <a:r>
              <a:rPr b="0" lang="zh-CN" sz="3600" spc="-1" strike="noStrike">
                <a:solidFill>
                  <a:srgbClr val="008000"/>
                </a:solidFill>
                <a:latin typeface="黑体"/>
                <a:ea typeface="黑体"/>
              </a:rPr>
              <a:t>三、 学会选择适当的运输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24000" y="1916280"/>
            <a:ext cx="8170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黑体"/>
              </a:rPr>
              <a:t>生活中的交通运输方式是多种多样的，每一种方式都有它的特点和作用，我们要学会思考，</a:t>
            </a:r>
            <a:r>
              <a:rPr b="1" lang="zh-CN" sz="3600" spc="-1" strike="noStrike" u="sng">
                <a:solidFill>
                  <a:srgbClr val="a50021"/>
                </a:solidFill>
                <a:uFillTx/>
                <a:latin typeface="Arial"/>
                <a:ea typeface="黑体"/>
              </a:rPr>
              <a:t>根据运输对象的特点和实际情况</a:t>
            </a:r>
            <a:r>
              <a:rPr b="1" lang="en-US" sz="3600" spc="-1" strike="noStrike" u="sng">
                <a:solidFill>
                  <a:srgbClr val="a50021"/>
                </a:solidFill>
                <a:uFillTx/>
                <a:latin typeface="Arial"/>
                <a:ea typeface="黑体"/>
              </a:rPr>
              <a:t>，选择合适的交通运输方式，使自己的生活更加便捷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3"/>
          <p:cNvSpPr/>
          <p:nvPr/>
        </p:nvSpPr>
        <p:spPr>
          <a:xfrm>
            <a:off x="250920" y="274680"/>
            <a:ext cx="3178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黑体"/>
                <a:ea typeface="黑体"/>
              </a:rPr>
              <a:t>  </a:t>
            </a:r>
            <a:r>
              <a:rPr b="0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猜一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50920" y="2449440"/>
            <a:ext cx="482436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远看像城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近看一排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行千里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载万吨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4985563_161136092752_2"/>
          <p:cNvPicPr/>
          <p:nvPr/>
        </p:nvPicPr>
        <p:blipFill>
          <a:blip r:embed="rId1"/>
          <a:stretch/>
        </p:blipFill>
        <p:spPr>
          <a:xfrm>
            <a:off x="3995640" y="1417680"/>
            <a:ext cx="490068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猜一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63640" y="1599840"/>
            <a:ext cx="518472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面一座楼，没腿四处走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载人又送货，江海任它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轮船"/>
          <p:cNvPicPr/>
          <p:nvPr/>
        </p:nvPicPr>
        <p:blipFill>
          <a:blip r:embed="rId1"/>
          <a:stretch/>
        </p:blipFill>
        <p:spPr>
          <a:xfrm>
            <a:off x="1547640" y="2997360"/>
            <a:ext cx="540072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黑体"/>
              </a:rPr>
              <a:t>猜一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759280" y="2060640"/>
            <a:ext cx="338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耳听赛雷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眼看像只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早晨去拉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晚上回北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飞机"/>
          <p:cNvPicPr/>
          <p:nvPr/>
        </p:nvPicPr>
        <p:blipFill>
          <a:blip r:embed="rId1"/>
          <a:stretch/>
        </p:blipFill>
        <p:spPr>
          <a:xfrm>
            <a:off x="96840" y="1844640"/>
            <a:ext cx="541188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-757440" y="189000"/>
            <a:ext cx="56307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想一想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汽车"/>
          <p:cNvPicPr/>
          <p:nvPr/>
        </p:nvPicPr>
        <p:blipFill>
          <a:blip r:embed="rId1"/>
          <a:stretch/>
        </p:blipFill>
        <p:spPr>
          <a:xfrm>
            <a:off x="1298520" y="1125360"/>
            <a:ext cx="3168720" cy="2216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4985563_161136092752_2"/>
          <p:cNvPicPr/>
          <p:nvPr/>
        </p:nvPicPr>
        <p:blipFill>
          <a:blip r:embed="rId2"/>
          <a:stretch/>
        </p:blipFill>
        <p:spPr>
          <a:xfrm>
            <a:off x="4643280" y="1125360"/>
            <a:ext cx="3276720" cy="221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轮船"/>
          <p:cNvPicPr/>
          <p:nvPr/>
        </p:nvPicPr>
        <p:blipFill>
          <a:blip r:embed="rId3"/>
          <a:stretch/>
        </p:blipFill>
        <p:spPr>
          <a:xfrm>
            <a:off x="1298520" y="3573360"/>
            <a:ext cx="3202200" cy="218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飞机"/>
          <p:cNvPicPr/>
          <p:nvPr/>
        </p:nvPicPr>
        <p:blipFill>
          <a:blip r:embed="rId4"/>
          <a:stretch/>
        </p:blipFill>
        <p:spPr>
          <a:xfrm>
            <a:off x="4643280" y="3573360"/>
            <a:ext cx="3276720" cy="2185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7"/>
          <p:cNvSpPr/>
          <p:nvPr/>
        </p:nvSpPr>
        <p:spPr>
          <a:xfrm>
            <a:off x="196920" y="595152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Arial"/>
                <a:ea typeface="黑体"/>
              </a:rPr>
              <a:t>这四种不同的交通工具，都有着一个共同的作用，是什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73080" y="907920"/>
            <a:ext cx="640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一、多种多样的交通运输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20120521112549482"/>
          <p:cNvPicPr/>
          <p:nvPr/>
        </p:nvPicPr>
        <p:blipFill>
          <a:blip r:embed="rId1"/>
          <a:stretch/>
        </p:blipFill>
        <p:spPr>
          <a:xfrm>
            <a:off x="973080" y="2205000"/>
            <a:ext cx="6875640" cy="33973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>
            <a:off x="1368360" y="580716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以汽车、卡车为主的公路运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-395280" y="-84240"/>
            <a:ext cx="31654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  </a:t>
            </a:r>
            <a:r>
              <a:rPr b="0" lang="zh-CN" sz="4400" spc="-1" strike="noStrike">
                <a:solidFill>
                  <a:srgbClr val="008000"/>
                </a:solidFill>
                <a:latin typeface="黑体"/>
                <a:ea typeface="黑体"/>
              </a:rPr>
              <a:t>看一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2009322202750864"/>
          <p:cNvPicPr/>
          <p:nvPr/>
        </p:nvPicPr>
        <p:blipFill>
          <a:blip r:embed="rId1"/>
          <a:stretch/>
        </p:blipFill>
        <p:spPr>
          <a:xfrm>
            <a:off x="900000" y="1125360"/>
            <a:ext cx="7128000" cy="4578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1547640" y="55148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以火车为主的铁路运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01300000258388122569311771751"/>
          <p:cNvPicPr/>
          <p:nvPr/>
        </p:nvPicPr>
        <p:blipFill>
          <a:blip r:embed="rId1"/>
          <a:stretch/>
        </p:blipFill>
        <p:spPr>
          <a:xfrm>
            <a:off x="1547640" y="981000"/>
            <a:ext cx="6264360" cy="43023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547640" y="551484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以轮船为主的水路运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7T12:59:1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46Z</dcterms:modified>
  <cp:revision>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