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5E9-174B-4DE2-A6EE-5500B49D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31A-8D61-4F38-A14C-E5B3214C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445-E397-4D91-A798-513ACFE5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F79-75AA-41C3-B4DC-6148B406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5AF7-ACB4-417F-A993-A7F43B83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DB34-43E1-4DC8-B6E2-D5D09AF4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BA33-871B-4E77-9540-2B109C89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292A-FE7F-4BC2-A376-90FF5695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6DDB-0E2C-4FF9-9025-15E2B4A1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AB34-EA9B-4058-B4C1-9ED7B1A8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C215-97B2-4266-9DDA-120DCF5E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363-469B-40AB-BB58-2DABE6DC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8594-6B04-4790-B110-EFB02195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6E78-8A9D-4C41-B29D-4FC8D2C8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4210-0AAE-4267-BAB7-6A4ED205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61CA-E572-4DF1-A21D-54DD4F46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7339-5F9C-40DF-AAFF-C4F0F4AC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D30-215F-4F27-9D05-F562ADCC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785-5BC4-46B0-A78B-05EB531A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2FE-367E-47DC-978E-EFEE4CFB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41B-A4C2-44EC-A1F3-A58F379E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174-E42F-4294-9DE0-742747E5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124-9EBA-46C9-B824-F9F5FBD2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499-4909-4ED3-8CFD-F7F4F6B5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036A-C3D2-4BD2-B1F2-B1B629536E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DA32-F8FA-4CAA-B7F3-BBAC6B0E11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900000" y="6345360"/>
            <a:ext cx="7201080" cy="73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592360" y="1893960"/>
            <a:ext cx="561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电阻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979560" y="404640"/>
            <a:ext cx="7296120" cy="681120"/>
          </a:xfrm>
          <a:custGeom>
            <a:avLst/>
            <a:gdLst>
              <a:gd name="textAreaLeft" fmla="*/ 80280 w 7296120"/>
              <a:gd name="textAreaRight" fmla="*/ 7215840 w 7296120"/>
              <a:gd name="textAreaTop" fmla="*/ 80280 h 681120"/>
              <a:gd name="textAreaBottom" fmla="*/ 600840 h 681120"/>
            </a:gdLst>
            <a:ahLst/>
            <a:rect l="textAreaLeft" t="textAreaTop" r="textAreaRight" b="textAreaBottom"/>
            <a:pathLst>
              <a:path w="2312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7667" y="21600"/>
                </a:lnTo>
                <a:arcTo wR="3600" hR="3600" stAng="10800000" swAng="5400000"/>
                <a:lnTo>
                  <a:pt x="231267" y="3600"/>
                </a:lnTo>
                <a:arcTo wR="3600" hR="3600" stAng="5400000" swAng="5400000"/>
                <a:close/>
              </a:path>
            </a:pathLst>
          </a:custGeom>
          <a:solidFill>
            <a:srgbClr val="8fe8f1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人民教育出版社九年级物理第十六章第三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214200" y="4286160"/>
            <a:ext cx="2016360" cy="182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png-0224"/>
          <p:cNvPicPr/>
          <p:nvPr/>
        </p:nvPicPr>
        <p:blipFill>
          <a:blip r:embed="rId2"/>
          <a:stretch/>
        </p:blipFill>
        <p:spPr>
          <a:xfrm>
            <a:off x="7924680" y="53006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108000" y="189000"/>
            <a:ext cx="8856720" cy="703440"/>
            <a:chOff x="108000" y="189000"/>
            <a:chExt cx="8856720" cy="703440"/>
          </a:xfrm>
        </p:grpSpPr>
        <p:sp>
          <p:nvSpPr>
            <p:cNvPr id="209" name="矩形 4"/>
            <p:cNvSpPr/>
            <p:nvPr/>
          </p:nvSpPr>
          <p:spPr>
            <a:xfrm>
              <a:off x="108000" y="189000"/>
              <a:ext cx="8856720" cy="703440"/>
            </a:xfrm>
            <a:prstGeom prst="rect">
              <a:avLst/>
            </a:prstGeom>
            <a:solidFill>
              <a:srgbClr val="663300"/>
            </a:solidFill>
            <a:ln w="76320">
              <a:solidFill>
                <a:srgbClr val="ff9933"/>
              </a:solidFill>
              <a:miter/>
            </a:ln>
            <a:effectLst>
              <a:outerShdw dist="2304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【提出问题】 【猜想】 【进行实验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"/>
            <p:cNvSpPr/>
            <p:nvPr/>
          </p:nvSpPr>
          <p:spPr>
            <a:xfrm rot="10800000">
              <a:off x="3121200" y="406440"/>
              <a:ext cx="503280" cy="433440"/>
            </a:xfrm>
            <a:prstGeom prst="leftArrow">
              <a:avLst>
                <a:gd name="adj1" fmla="val 50000"/>
                <a:gd name="adj2" fmla="val 29012"/>
              </a:avLst>
            </a:prstGeom>
            <a:solidFill>
              <a:srgbClr val="ffff99"/>
            </a:solidFill>
            <a:ln w="34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5"/>
            <p:cNvSpPr/>
            <p:nvPr/>
          </p:nvSpPr>
          <p:spPr>
            <a:xfrm rot="10800000">
              <a:off x="5281560" y="409680"/>
              <a:ext cx="503280" cy="433440"/>
            </a:xfrm>
            <a:prstGeom prst="leftArrow">
              <a:avLst>
                <a:gd name="adj1" fmla="val 50000"/>
                <a:gd name="adj2" fmla="val 29012"/>
              </a:avLst>
            </a:prstGeom>
            <a:solidFill>
              <a:srgbClr val="ffff99"/>
            </a:solidFill>
            <a:ln w="34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6"/>
          <p:cNvGrpSpPr/>
          <p:nvPr/>
        </p:nvGrpSpPr>
        <p:grpSpPr>
          <a:xfrm>
            <a:off x="1835280" y="2492280"/>
            <a:ext cx="5254560" cy="3816000"/>
            <a:chOff x="1835280" y="2492280"/>
            <a:chExt cx="5254560" cy="3816000"/>
          </a:xfrm>
        </p:grpSpPr>
        <p:grpSp>
          <p:nvGrpSpPr>
            <p:cNvPr id="213" name="Group 7"/>
            <p:cNvGrpSpPr/>
            <p:nvPr/>
          </p:nvGrpSpPr>
          <p:grpSpPr>
            <a:xfrm>
              <a:off x="2058120" y="2492280"/>
              <a:ext cx="4942080" cy="1804680"/>
              <a:chOff x="2058120" y="2492280"/>
              <a:chExt cx="4942080" cy="1804680"/>
            </a:xfrm>
          </p:grpSpPr>
          <p:pic>
            <p:nvPicPr>
              <p:cNvPr id="21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8120" y="3212280"/>
                <a:ext cx="1530720" cy="91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671640" y="2492280"/>
                <a:ext cx="3328560" cy="18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Freeform 10"/>
              <p:cNvSpPr/>
              <p:nvPr/>
            </p:nvSpPr>
            <p:spPr>
              <a:xfrm rot="349800">
                <a:off x="3503880" y="3859200"/>
                <a:ext cx="499680" cy="72720"/>
              </a:xfrm>
              <a:custGeom>
                <a:avLst/>
                <a:gdLst/>
                <a:ahLst/>
                <a:rect l="l" t="t" r="r" b="b"/>
                <a:pathLst>
                  <a:path w="562" h="82">
                    <a:moveTo>
                      <a:pt x="0" y="82"/>
                    </a:moveTo>
                    <a:cubicBezTo>
                      <a:pt x="66" y="61"/>
                      <a:pt x="136" y="53"/>
                      <a:pt x="202" y="32"/>
                    </a:cubicBezTo>
                    <a:cubicBezTo>
                      <a:pt x="232" y="0"/>
                      <a:pt x="265" y="7"/>
                      <a:pt x="310" y="3"/>
                    </a:cubicBezTo>
                    <a:cubicBezTo>
                      <a:pt x="376" y="9"/>
                      <a:pt x="438" y="19"/>
                      <a:pt x="504" y="24"/>
                    </a:cubicBezTo>
                    <a:cubicBezTo>
                      <a:pt x="537" y="36"/>
                      <a:pt x="518" y="32"/>
                      <a:pt x="562" y="3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11"/>
            <p:cNvSpPr/>
            <p:nvPr/>
          </p:nvSpPr>
          <p:spPr>
            <a:xfrm>
              <a:off x="2146320" y="3936240"/>
              <a:ext cx="266760" cy="722160"/>
            </a:xfrm>
            <a:custGeom>
              <a:avLst/>
              <a:gdLst/>
              <a:ahLst/>
              <a:rect l="l" t="t" r="r" b="b"/>
              <a:pathLst>
                <a:path w="367" h="608">
                  <a:moveTo>
                    <a:pt x="367" y="10"/>
                  </a:moveTo>
                  <a:cubicBezTo>
                    <a:pt x="333" y="13"/>
                    <a:pt x="291" y="0"/>
                    <a:pt x="267" y="24"/>
                  </a:cubicBezTo>
                  <a:cubicBezTo>
                    <a:pt x="261" y="30"/>
                    <a:pt x="263" y="39"/>
                    <a:pt x="259" y="46"/>
                  </a:cubicBezTo>
                  <a:cubicBezTo>
                    <a:pt x="246" y="66"/>
                    <a:pt x="222" y="83"/>
                    <a:pt x="202" y="96"/>
                  </a:cubicBezTo>
                  <a:cubicBezTo>
                    <a:pt x="192" y="127"/>
                    <a:pt x="167" y="153"/>
                    <a:pt x="144" y="176"/>
                  </a:cubicBezTo>
                  <a:cubicBezTo>
                    <a:pt x="133" y="209"/>
                    <a:pt x="109" y="231"/>
                    <a:pt x="94" y="262"/>
                  </a:cubicBezTo>
                  <a:cubicBezTo>
                    <a:pt x="80" y="291"/>
                    <a:pt x="86" y="300"/>
                    <a:pt x="58" y="320"/>
                  </a:cubicBezTo>
                  <a:cubicBezTo>
                    <a:pt x="46" y="366"/>
                    <a:pt x="56" y="330"/>
                    <a:pt x="43" y="370"/>
                  </a:cubicBezTo>
                  <a:cubicBezTo>
                    <a:pt x="38" y="384"/>
                    <a:pt x="29" y="413"/>
                    <a:pt x="29" y="413"/>
                  </a:cubicBezTo>
                  <a:cubicBezTo>
                    <a:pt x="20" y="469"/>
                    <a:pt x="14" y="512"/>
                    <a:pt x="7" y="572"/>
                  </a:cubicBezTo>
                  <a:cubicBezTo>
                    <a:pt x="6" y="584"/>
                    <a:pt x="0" y="608"/>
                    <a:pt x="0" y="60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"/>
            <p:cNvSpPr/>
            <p:nvPr/>
          </p:nvSpPr>
          <p:spPr>
            <a:xfrm>
              <a:off x="6733440" y="3729600"/>
              <a:ext cx="222840" cy="824400"/>
            </a:xfrm>
            <a:custGeom>
              <a:avLst/>
              <a:gdLst/>
              <a:ahLst/>
              <a:rect l="l" t="t" r="r" b="b"/>
              <a:pathLst>
                <a:path w="166" h="900">
                  <a:moveTo>
                    <a:pt x="86" y="0"/>
                  </a:moveTo>
                  <a:cubicBezTo>
                    <a:pt x="106" y="54"/>
                    <a:pt x="109" y="111"/>
                    <a:pt x="122" y="166"/>
                  </a:cubicBezTo>
                  <a:cubicBezTo>
                    <a:pt x="119" y="299"/>
                    <a:pt x="166" y="442"/>
                    <a:pt x="94" y="555"/>
                  </a:cubicBezTo>
                  <a:cubicBezTo>
                    <a:pt x="83" y="595"/>
                    <a:pt x="78" y="638"/>
                    <a:pt x="65" y="677"/>
                  </a:cubicBezTo>
                  <a:cubicBezTo>
                    <a:pt x="56" y="742"/>
                    <a:pt x="52" y="817"/>
                    <a:pt x="14" y="872"/>
                  </a:cubicBezTo>
                  <a:cubicBezTo>
                    <a:pt x="6" y="896"/>
                    <a:pt x="12" y="888"/>
                    <a:pt x="0" y="9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3"/>
            <p:cNvGrpSpPr/>
            <p:nvPr/>
          </p:nvGrpSpPr>
          <p:grpSpPr>
            <a:xfrm>
              <a:off x="1835280" y="4709520"/>
              <a:ext cx="5254560" cy="1598760"/>
              <a:chOff x="1835280" y="4709520"/>
              <a:chExt cx="5254560" cy="1598760"/>
            </a:xfrm>
          </p:grpSpPr>
          <p:pic>
            <p:nvPicPr>
              <p:cNvPr id="220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835280" y="4709520"/>
                <a:ext cx="5254560" cy="1598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1" name=""/>
              <p:cNvGrpSpPr/>
              <p:nvPr/>
            </p:nvGrpSpPr>
            <p:grpSpPr>
              <a:xfrm>
                <a:off x="1968480" y="4812480"/>
                <a:ext cx="4943520" cy="103320"/>
                <a:chOff x="1968480" y="4812480"/>
                <a:chExt cx="4943520" cy="103320"/>
              </a:xfrm>
            </p:grpSpPr>
            <p:sp>
              <p:nvSpPr>
                <p:cNvPr id="222" name="Line 15"/>
                <p:cNvSpPr/>
                <p:nvPr/>
              </p:nvSpPr>
              <p:spPr>
                <a:xfrm flipV="1">
                  <a:off x="1968840" y="4812480"/>
                  <a:ext cx="4943160" cy="1033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 txBox="1"/>
                <p:nvPr/>
              </p:nvSpPr>
              <p:spPr>
                <a:xfrm rot="10800000">
                  <a:off x="1968480" y="4812480"/>
                  <a:ext cx="4943160" cy="10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013480" y="5276160"/>
                <a:ext cx="4943520" cy="103320"/>
                <a:chOff x="2013480" y="5276160"/>
                <a:chExt cx="4943520" cy="103320"/>
              </a:xfrm>
            </p:grpSpPr>
            <p:sp>
              <p:nvSpPr>
                <p:cNvPr id="225" name="Line 16"/>
                <p:cNvSpPr/>
                <p:nvPr/>
              </p:nvSpPr>
              <p:spPr>
                <a:xfrm flipV="1">
                  <a:off x="2013840" y="5276160"/>
                  <a:ext cx="4943160" cy="10332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 rot="10800000">
                  <a:off x="2013480" y="5276160"/>
                  <a:ext cx="4943160" cy="10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17"/>
              <p:cNvGrpSpPr/>
              <p:nvPr/>
            </p:nvGrpSpPr>
            <p:grpSpPr>
              <a:xfrm>
                <a:off x="1968480" y="5661720"/>
                <a:ext cx="4943880" cy="542520"/>
                <a:chOff x="1968480" y="5661720"/>
                <a:chExt cx="4943880" cy="54252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1968480" y="5661720"/>
                  <a:ext cx="4943520" cy="103320"/>
                  <a:chOff x="1968480" y="5661720"/>
                  <a:chExt cx="4943520" cy="103320"/>
                </a:xfrm>
              </p:grpSpPr>
              <p:sp>
                <p:nvSpPr>
                  <p:cNvPr id="229" name="Line 18"/>
                  <p:cNvSpPr/>
                  <p:nvPr/>
                </p:nvSpPr>
                <p:spPr>
                  <a:xfrm flipV="1">
                    <a:off x="1968840" y="5661720"/>
                    <a:ext cx="4943160" cy="103320"/>
                  </a:xfrm>
                  <a:prstGeom prst="line">
                    <a:avLst/>
                  </a:prstGeom>
                  <a:ln w="381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 txBox="1"/>
                  <p:nvPr/>
                </p:nvSpPr>
                <p:spPr>
                  <a:xfrm rot="10800000">
                    <a:off x="1968480" y="5661720"/>
                    <a:ext cx="4943160" cy="10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6912000" y="5688000"/>
                  <a:ext cx="360" cy="360360"/>
                  <a:chOff x="6912000" y="5688000"/>
                  <a:chExt cx="360" cy="360360"/>
                </a:xfrm>
              </p:grpSpPr>
              <p:sp>
                <p:nvSpPr>
                  <p:cNvPr id="232" name="Line 19"/>
                  <p:cNvSpPr/>
                  <p:nvPr/>
                </p:nvSpPr>
                <p:spPr>
                  <a:xfrm>
                    <a:off x="6912000" y="5688000"/>
                    <a:ext cx="0" cy="360360"/>
                  </a:xfrm>
                  <a:prstGeom prst="line">
                    <a:avLst/>
                  </a:prstGeom>
                  <a:ln w="381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 txBox="1"/>
                  <p:nvPr/>
                </p:nvSpPr>
                <p:spPr>
                  <a:xfrm>
                    <a:off x="6912000" y="5688000"/>
                    <a:ext cx="36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1968480" y="6048720"/>
                  <a:ext cx="4943520" cy="155520"/>
                  <a:chOff x="1968480" y="6048720"/>
                  <a:chExt cx="4943520" cy="155520"/>
                </a:xfrm>
              </p:grpSpPr>
              <p:sp>
                <p:nvSpPr>
                  <p:cNvPr id="235" name="Line 20"/>
                  <p:cNvSpPr/>
                  <p:nvPr/>
                </p:nvSpPr>
                <p:spPr>
                  <a:xfrm flipV="1">
                    <a:off x="1968840" y="6048720"/>
                    <a:ext cx="4943160" cy="155520"/>
                  </a:xfrm>
                  <a:prstGeom prst="line">
                    <a:avLst/>
                  </a:prstGeom>
                  <a:ln w="381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 txBox="1"/>
                  <p:nvPr/>
                </p:nvSpPr>
                <p:spPr>
                  <a:xfrm rot="10800000">
                    <a:off x="1968480" y="6048720"/>
                    <a:ext cx="4943160" cy="15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37" name="TextBox 53"/>
          <p:cNvSpPr/>
          <p:nvPr/>
        </p:nvSpPr>
        <p:spPr>
          <a:xfrm>
            <a:off x="395280" y="1052640"/>
            <a:ext cx="799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探究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：导体电阻与长度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电阻与横截面积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108000" y="115920"/>
            <a:ext cx="8856720" cy="703440"/>
            <a:chOff x="108000" y="115920"/>
            <a:chExt cx="8856720" cy="703440"/>
          </a:xfrm>
        </p:grpSpPr>
        <p:sp>
          <p:nvSpPr>
            <p:cNvPr id="239" name="矩形 4"/>
            <p:cNvSpPr/>
            <p:nvPr/>
          </p:nvSpPr>
          <p:spPr>
            <a:xfrm>
              <a:off x="108000" y="115920"/>
              <a:ext cx="8856720" cy="703440"/>
            </a:xfrm>
            <a:prstGeom prst="rect">
              <a:avLst/>
            </a:prstGeom>
            <a:solidFill>
              <a:srgbClr val="663300"/>
            </a:solidFill>
            <a:ln w="76320">
              <a:solidFill>
                <a:srgbClr val="ff9933"/>
              </a:solidFill>
              <a:miter/>
            </a:ln>
            <a:effectLst>
              <a:outerShdw dist="2304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【提出问题】 【猜想】 【进行实验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4"/>
            <p:cNvSpPr/>
            <p:nvPr/>
          </p:nvSpPr>
          <p:spPr>
            <a:xfrm rot="10800000">
              <a:off x="3121200" y="333360"/>
              <a:ext cx="503280" cy="433440"/>
            </a:xfrm>
            <a:prstGeom prst="leftArrow">
              <a:avLst>
                <a:gd name="adj1" fmla="val 50000"/>
                <a:gd name="adj2" fmla="val 29012"/>
              </a:avLst>
            </a:prstGeom>
            <a:solidFill>
              <a:srgbClr val="ffff99"/>
            </a:solidFill>
            <a:ln w="34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5"/>
            <p:cNvSpPr/>
            <p:nvPr/>
          </p:nvSpPr>
          <p:spPr>
            <a:xfrm rot="10800000">
              <a:off x="5281560" y="336600"/>
              <a:ext cx="503280" cy="433440"/>
            </a:xfrm>
            <a:prstGeom prst="leftArrow">
              <a:avLst>
                <a:gd name="adj1" fmla="val 50000"/>
                <a:gd name="adj2" fmla="val 29012"/>
              </a:avLst>
            </a:prstGeom>
            <a:solidFill>
              <a:srgbClr val="ffff99"/>
            </a:solidFill>
            <a:ln w="34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4"/>
          <p:cNvSpPr/>
          <p:nvPr/>
        </p:nvSpPr>
        <p:spPr>
          <a:xfrm>
            <a:off x="250920" y="1125360"/>
            <a:ext cx="6626160" cy="703440"/>
          </a:xfrm>
          <a:prstGeom prst="rect">
            <a:avLst/>
          </a:prstGeom>
          <a:solidFill>
            <a:srgbClr val="663300"/>
          </a:solidFill>
          <a:ln w="76320">
            <a:solidFill>
              <a:srgbClr val="ff9933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【分析数据】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【得出结论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179280" y="2276640"/>
            <a:ext cx="8785440" cy="779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导体的电阻与材料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 rot="10800000">
            <a:off x="323640" y="1341360"/>
            <a:ext cx="502920" cy="433440"/>
          </a:xfrm>
          <a:prstGeom prst="leftArrow">
            <a:avLst>
              <a:gd name="adj1" fmla="val 50000"/>
              <a:gd name="adj2" fmla="val 28991"/>
            </a:avLst>
          </a:prstGeom>
          <a:solidFill>
            <a:srgbClr val="ffff99"/>
          </a:solidFill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 rot="10800000">
            <a:off x="3564000" y="1341360"/>
            <a:ext cx="503280" cy="433440"/>
          </a:xfrm>
          <a:prstGeom prst="leftArrow">
            <a:avLst>
              <a:gd name="adj1" fmla="val 50000"/>
              <a:gd name="adj2" fmla="val 29012"/>
            </a:avLst>
          </a:prstGeom>
          <a:solidFill>
            <a:srgbClr val="ffff99"/>
          </a:solidFill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179280" y="3213000"/>
            <a:ext cx="8785440" cy="779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当导体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定时，导体越长，电阻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179280" y="4797360"/>
            <a:ext cx="8785440" cy="779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当导体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定时，横截面积越大，电阻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300720" y="227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有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4284720" y="3284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材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5435640" y="321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横截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5653080" y="3860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11640" y="4876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材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5651640" y="4876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长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5653080" y="55245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763640" y="170028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"/>
          <p:cNvSpPr/>
          <p:nvPr/>
        </p:nvSpPr>
        <p:spPr>
          <a:xfrm>
            <a:off x="179280" y="260280"/>
            <a:ext cx="3959280" cy="703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76320">
            <a:solidFill>
              <a:srgbClr val="ff9933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【反馈练习二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79280" y="2039040"/>
            <a:ext cx="8498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1467000"/>
                <a:tab algn="l" pos="266688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于导体的电阻，下列说法中正确的是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1467000"/>
                <a:tab algn="l" pos="266688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导体中有电流，导体才能有电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1467000"/>
                <a:tab algn="l" pos="266688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导体电阻的大小取决于通过它的  电流的大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1467000"/>
                <a:tab algn="l" pos="266688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导体电阻是导体本身的一种性质，与通过的电流无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1467000"/>
                <a:tab algn="l" pos="266688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导体的电阻只与导体的长度有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75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692360" y="1413000"/>
          <a:ext cx="6095880" cy="42084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电阻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铜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镍铬合金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Box 3"/>
          <p:cNvSpPr/>
          <p:nvPr/>
        </p:nvSpPr>
        <p:spPr>
          <a:xfrm>
            <a:off x="324000" y="68400"/>
            <a:ext cx="8502480" cy="644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资料分析：几种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横截面积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金属导线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的电阻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692360" y="1413000"/>
          <a:ext cx="6095880" cy="42084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电阻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铜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镍铬合金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Box 3"/>
          <p:cNvSpPr/>
          <p:nvPr/>
        </p:nvSpPr>
        <p:spPr>
          <a:xfrm>
            <a:off x="324000" y="141120"/>
            <a:ext cx="8502480" cy="644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资料分析：几种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横截面积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金属导线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的电阻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6"/>
          <p:cNvSpPr/>
          <p:nvPr/>
        </p:nvSpPr>
        <p:spPr>
          <a:xfrm>
            <a:off x="250920" y="55897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解释：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为什么不用铁做导线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476360" y="1700280"/>
          <a:ext cx="6095880" cy="42084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电阻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铜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镍铬合金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TextBox 3"/>
          <p:cNvSpPr/>
          <p:nvPr/>
        </p:nvSpPr>
        <p:spPr>
          <a:xfrm>
            <a:off x="324000" y="141120"/>
            <a:ext cx="8502480" cy="1184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横截面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金属导线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32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的电阻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4"/>
          <p:cNvSpPr/>
          <p:nvPr/>
        </p:nvSpPr>
        <p:spPr>
          <a:xfrm>
            <a:off x="108000" y="115920"/>
            <a:ext cx="3024000" cy="6426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76320">
            <a:solidFill>
              <a:srgbClr val="ff9933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【课堂小结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539640" y="1270080"/>
            <a:ext cx="2232000" cy="644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539640" y="2851200"/>
            <a:ext cx="2205000" cy="644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539640" y="4179960"/>
            <a:ext cx="2205000" cy="644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维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3851280" y="836640"/>
            <a:ext cx="1081080" cy="644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3851280" y="1641600"/>
            <a:ext cx="3960720" cy="644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响电阻大小的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2771640" y="993600"/>
            <a:ext cx="1079640" cy="1152360"/>
            <a:chOff x="2771640" y="993600"/>
            <a:chExt cx="1079640" cy="1152360"/>
          </a:xfrm>
        </p:grpSpPr>
        <p:sp>
          <p:nvSpPr>
            <p:cNvPr id="272" name="AutoShape 9"/>
            <p:cNvSpPr/>
            <p:nvPr/>
          </p:nvSpPr>
          <p:spPr>
            <a:xfrm>
              <a:off x="2771640" y="1209600"/>
              <a:ext cx="57636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0"/>
            <p:cNvSpPr/>
            <p:nvPr/>
          </p:nvSpPr>
          <p:spPr>
            <a:xfrm>
              <a:off x="3419280" y="993600"/>
              <a:ext cx="432000" cy="360360"/>
            </a:xfrm>
            <a:prstGeom prst="rightArrow">
              <a:avLst>
                <a:gd name="adj1" fmla="val 50000"/>
                <a:gd name="adj2" fmla="val 29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1"/>
            <p:cNvSpPr/>
            <p:nvPr/>
          </p:nvSpPr>
          <p:spPr>
            <a:xfrm>
              <a:off x="3419280" y="1785600"/>
              <a:ext cx="432000" cy="360360"/>
            </a:xfrm>
            <a:prstGeom prst="rightArrow">
              <a:avLst>
                <a:gd name="adj1" fmla="val 50000"/>
                <a:gd name="adj2" fmla="val 29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2"/>
            <p:cNvSpPr/>
            <p:nvPr/>
          </p:nvSpPr>
          <p:spPr>
            <a:xfrm>
              <a:off x="3203280" y="1064880"/>
              <a:ext cx="216000" cy="100836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3"/>
          <p:cNvGrpSpPr/>
          <p:nvPr/>
        </p:nvGrpSpPr>
        <p:grpSpPr>
          <a:xfrm>
            <a:off x="2771640" y="2575080"/>
            <a:ext cx="1079640" cy="1152360"/>
            <a:chOff x="2771640" y="2575080"/>
            <a:chExt cx="1079640" cy="1152360"/>
          </a:xfrm>
        </p:grpSpPr>
        <p:sp>
          <p:nvSpPr>
            <p:cNvPr id="277" name="AutoShape 14"/>
            <p:cNvSpPr/>
            <p:nvPr/>
          </p:nvSpPr>
          <p:spPr>
            <a:xfrm>
              <a:off x="2771640" y="2791080"/>
              <a:ext cx="57636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5"/>
            <p:cNvSpPr/>
            <p:nvPr/>
          </p:nvSpPr>
          <p:spPr>
            <a:xfrm>
              <a:off x="3419280" y="2575080"/>
              <a:ext cx="432000" cy="360360"/>
            </a:xfrm>
            <a:prstGeom prst="rightArrow">
              <a:avLst>
                <a:gd name="adj1" fmla="val 50000"/>
                <a:gd name="adj2" fmla="val 29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6"/>
            <p:cNvSpPr/>
            <p:nvPr/>
          </p:nvSpPr>
          <p:spPr>
            <a:xfrm>
              <a:off x="3419280" y="3367080"/>
              <a:ext cx="432000" cy="360360"/>
            </a:xfrm>
            <a:prstGeom prst="rightArrow">
              <a:avLst>
                <a:gd name="adj1" fmla="val 50000"/>
                <a:gd name="adj2" fmla="val 29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7"/>
            <p:cNvSpPr/>
            <p:nvPr/>
          </p:nvSpPr>
          <p:spPr>
            <a:xfrm>
              <a:off x="3203280" y="2646360"/>
              <a:ext cx="216000" cy="100836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Box 3"/>
          <p:cNvSpPr/>
          <p:nvPr/>
        </p:nvSpPr>
        <p:spPr>
          <a:xfrm>
            <a:off x="3859200" y="2419200"/>
            <a:ext cx="1550880" cy="644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换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3851280" y="3222720"/>
            <a:ext cx="2421000" cy="644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控制变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>
            <a:off x="2771640" y="4179960"/>
            <a:ext cx="5763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3348000" y="4003560"/>
            <a:ext cx="1117800" cy="1177560"/>
          </a:xfrm>
          <a:custGeom>
            <a:avLst/>
            <a:gdLst>
              <a:gd name="textAreaLeft" fmla="*/ 54360 w 1117800"/>
              <a:gd name="textAreaRight" fmla="*/ 1063440 w 1117800"/>
              <a:gd name="textAreaTop" fmla="*/ 54360 h 1177560"/>
              <a:gd name="textAreaBottom" fmla="*/ 1123200 h 1177560"/>
            </a:gdLst>
            <a:ahLst/>
            <a:rect l="textAreaLeft" t="textAreaTop" r="textAreaRight" b="textAreaBottom"/>
            <a:pathLst>
              <a:path w="21600" h="22754">
                <a:moveTo>
                  <a:pt x="3600" y="0"/>
                </a:moveTo>
                <a:arcTo wR="3600" hR="3600" stAng="16200000" swAng="-5400000"/>
                <a:lnTo>
                  <a:pt x="0" y="19154"/>
                </a:lnTo>
                <a:arcTo wR="3600" hR="3600" stAng="10800000" swAng="-5400000"/>
                <a:lnTo>
                  <a:pt x="18000" y="227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出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2"/>
          <p:cNvSpPr/>
          <p:nvPr/>
        </p:nvSpPr>
        <p:spPr>
          <a:xfrm>
            <a:off x="4500720" y="4253040"/>
            <a:ext cx="287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4788000" y="4035600"/>
            <a:ext cx="1117440" cy="1177560"/>
          </a:xfrm>
          <a:custGeom>
            <a:avLst/>
            <a:gdLst>
              <a:gd name="textAreaLeft" fmla="*/ 54360 w 1117440"/>
              <a:gd name="textAreaRight" fmla="*/ 1063080 w 1117440"/>
              <a:gd name="textAreaTop" fmla="*/ 54360 h 1177560"/>
              <a:gd name="textAreaBottom" fmla="*/ 1123200 h 1177560"/>
            </a:gdLst>
            <a:ahLst/>
            <a:rect l="textAreaLeft" t="textAreaTop" r="textAreaRight" b="textAreaBottom"/>
            <a:pathLst>
              <a:path w="21600" h="22762">
                <a:moveTo>
                  <a:pt x="3600" y="0"/>
                </a:moveTo>
                <a:arcTo wR="3600" hR="3600" stAng="16200000" swAng="-5400000"/>
                <a:lnTo>
                  <a:pt x="0" y="19162"/>
                </a:lnTo>
                <a:arcTo wR="3600" hR="3600" stAng="10800000" swAng="-5400000"/>
                <a:lnTo>
                  <a:pt x="18000" y="22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出假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4"/>
          <p:cNvSpPr/>
          <p:nvPr/>
        </p:nvSpPr>
        <p:spPr>
          <a:xfrm>
            <a:off x="5940360" y="4253040"/>
            <a:ext cx="2890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6227640" y="4035600"/>
            <a:ext cx="1117800" cy="1177560"/>
          </a:xfrm>
          <a:custGeom>
            <a:avLst/>
            <a:gdLst>
              <a:gd name="textAreaLeft" fmla="*/ 54360 w 1117800"/>
              <a:gd name="textAreaRight" fmla="*/ 1063440 w 1117800"/>
              <a:gd name="textAreaTop" fmla="*/ 54360 h 1177560"/>
              <a:gd name="textAreaBottom" fmla="*/ 1123200 h 1177560"/>
            </a:gdLst>
            <a:ahLst/>
            <a:rect l="textAreaLeft" t="textAreaTop" r="textAreaRight" b="textAreaBottom"/>
            <a:pathLst>
              <a:path w="21600" h="22754">
                <a:moveTo>
                  <a:pt x="3600" y="0"/>
                </a:moveTo>
                <a:arcTo wR="3600" hR="3600" stAng="16200000" swAng="-5400000"/>
                <a:lnTo>
                  <a:pt x="0" y="19154"/>
                </a:lnTo>
                <a:arcTo wR="3600" hR="3600" stAng="10800000" swAng="-5400000"/>
                <a:lnTo>
                  <a:pt x="18000" y="227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6"/>
          <p:cNvSpPr/>
          <p:nvPr/>
        </p:nvSpPr>
        <p:spPr>
          <a:xfrm>
            <a:off x="7380360" y="4365720"/>
            <a:ext cx="288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7667640" y="4035600"/>
            <a:ext cx="1117440" cy="1177560"/>
          </a:xfrm>
          <a:custGeom>
            <a:avLst/>
            <a:gdLst>
              <a:gd name="textAreaLeft" fmla="*/ 54360 w 1117440"/>
              <a:gd name="textAreaRight" fmla="*/ 1063080 w 1117440"/>
              <a:gd name="textAreaTop" fmla="*/ 54360 h 1177560"/>
              <a:gd name="textAreaBottom" fmla="*/ 1123200 h 1177560"/>
            </a:gdLst>
            <a:ahLst/>
            <a:rect l="textAreaLeft" t="textAreaTop" r="textAreaRight" b="textAreaBottom"/>
            <a:pathLst>
              <a:path w="21600" h="22762">
                <a:moveTo>
                  <a:pt x="3600" y="0"/>
                </a:moveTo>
                <a:arcTo wR="3600" hR="3600" stAng="16200000" swAng="-5400000"/>
                <a:lnTo>
                  <a:pt x="0" y="19162"/>
                </a:lnTo>
                <a:arcTo wR="3600" hR="3600" stAng="10800000" swAng="-5400000"/>
                <a:lnTo>
                  <a:pt x="18000" y="22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得出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8"/>
          <p:cNvSpPr/>
          <p:nvPr/>
        </p:nvSpPr>
        <p:spPr>
          <a:xfrm>
            <a:off x="6659640" y="5229360"/>
            <a:ext cx="4334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6372360" y="5661000"/>
            <a:ext cx="1081080" cy="644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>
            <a:off x="5292720" y="5805360"/>
            <a:ext cx="719280" cy="505080"/>
          </a:xfrm>
          <a:prstGeom prst="leftArrow">
            <a:avLst>
              <a:gd name="adj1" fmla="val 50000"/>
              <a:gd name="adj2" fmla="val 355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"/>
          <p:cNvSpPr/>
          <p:nvPr/>
        </p:nvSpPr>
        <p:spPr>
          <a:xfrm>
            <a:off x="3851280" y="5661000"/>
            <a:ext cx="1081080" cy="644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"/>
          <p:cNvSpPr/>
          <p:nvPr/>
        </p:nvSpPr>
        <p:spPr>
          <a:xfrm>
            <a:off x="611280" y="5661000"/>
            <a:ext cx="2205000" cy="644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3"/>
          <p:cNvSpPr/>
          <p:nvPr/>
        </p:nvSpPr>
        <p:spPr>
          <a:xfrm>
            <a:off x="2843280" y="5589720"/>
            <a:ext cx="6490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08000" y="1052640"/>
            <a:ext cx="9036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必做）下列说法中正确的是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导体越长，其电阻越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导体越粗，其电阻越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导体越细，其电阻越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在导体的材料、粗细相同时，导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越长其电阻越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7813800" y="119700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4"/>
          <p:cNvSpPr/>
          <p:nvPr/>
        </p:nvSpPr>
        <p:spPr>
          <a:xfrm>
            <a:off x="179280" y="189000"/>
            <a:ext cx="4032360" cy="8251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76320">
            <a:solidFill>
              <a:srgbClr val="ff9933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【反馈检测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8199"/>
          <p:cNvSpPr/>
          <p:nvPr/>
        </p:nvSpPr>
        <p:spPr>
          <a:xfrm>
            <a:off x="1152360" y="4924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75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79280" y="260280"/>
            <a:ext cx="878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必做）将一根阻值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电阻线接入电路中，当开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闭合时，通过其电流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.5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其电阻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Ω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开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断开时，通过其电流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_A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电阻值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_Ω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将这根电阻线均匀地拉长，其电阻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选填“变大”、“不变”、“变小”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5940360" y="1413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6516720" y="191628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979640" y="2637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851280" y="321300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变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75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75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75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75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0" y="260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选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图是研究影响导体的电阻大小因素的实验装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种规格的导体分别接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间进行研究比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认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要研究导体的电阻与长度的关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选用导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要研究导体的电阻与横截面积的关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选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要研究导体的电阻与材料的关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选用导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22200" y="3141720"/>
          <a:ext cx="4826160" cy="3019320"/>
        </p:xfrm>
        <a:graphic>
          <a:graphicData uri="http://schemas.openxmlformats.org/drawingml/2006/table">
            <a:tbl>
              <a:tblPr/>
              <a:tblGrid>
                <a:gridCol w="1081080"/>
                <a:gridCol w="936720"/>
                <a:gridCol w="1150920"/>
                <a:gridCol w="16574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材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导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长度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(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横截面积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(mm</a:t>
                      </a:r>
                      <a:r>
                        <a:rPr b="1" lang="zh-CN" sz="2800" spc="-1" strike="noStrike" baseline="30000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镍铬合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锰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8" name="Group 33"/>
          <p:cNvGrpSpPr/>
          <p:nvPr/>
        </p:nvGrpSpPr>
        <p:grpSpPr>
          <a:xfrm>
            <a:off x="5580000" y="2997360"/>
            <a:ext cx="3168720" cy="1577520"/>
            <a:chOff x="5580000" y="2997360"/>
            <a:chExt cx="3168720" cy="1577520"/>
          </a:xfrm>
        </p:grpSpPr>
        <p:sp>
          <p:nvSpPr>
            <p:cNvPr id="309" name="Rectangle 34"/>
            <p:cNvSpPr/>
            <p:nvPr/>
          </p:nvSpPr>
          <p:spPr>
            <a:xfrm>
              <a:off x="5651280" y="3139920"/>
              <a:ext cx="3097440" cy="13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11640" y="3355920"/>
              <a:ext cx="2498760" cy="360"/>
              <a:chOff x="6011640" y="3355920"/>
              <a:chExt cx="2498760" cy="360"/>
            </a:xfrm>
          </p:grpSpPr>
          <p:sp>
            <p:nvSpPr>
              <p:cNvPr id="311" name="Line 35"/>
              <p:cNvSpPr/>
              <p:nvPr/>
            </p:nvSpPr>
            <p:spPr>
              <a:xfrm>
                <a:off x="6011640" y="3355920"/>
                <a:ext cx="2498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6011640" y="3355920"/>
                <a:ext cx="249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011640" y="3644640"/>
              <a:ext cx="2498760" cy="360"/>
              <a:chOff x="6011640" y="3644640"/>
              <a:chExt cx="2498760" cy="360"/>
            </a:xfrm>
          </p:grpSpPr>
          <p:sp>
            <p:nvSpPr>
              <p:cNvPr id="314" name="Line 36"/>
              <p:cNvSpPr/>
              <p:nvPr/>
            </p:nvSpPr>
            <p:spPr>
              <a:xfrm>
                <a:off x="6011640" y="3644640"/>
                <a:ext cx="2498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 txBox="1"/>
              <p:nvPr/>
            </p:nvSpPr>
            <p:spPr>
              <a:xfrm>
                <a:off x="6011640" y="3644640"/>
                <a:ext cx="249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011640" y="4005000"/>
              <a:ext cx="1249560" cy="360"/>
              <a:chOff x="6011640" y="4005000"/>
              <a:chExt cx="1249560" cy="360"/>
            </a:xfrm>
          </p:grpSpPr>
          <p:sp>
            <p:nvSpPr>
              <p:cNvPr id="317" name="Line 37"/>
              <p:cNvSpPr/>
              <p:nvPr/>
            </p:nvSpPr>
            <p:spPr>
              <a:xfrm>
                <a:off x="6011640" y="4005000"/>
                <a:ext cx="1249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6011640" y="4005000"/>
                <a:ext cx="124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 Box 38"/>
            <p:cNvSpPr/>
            <p:nvPr/>
          </p:nvSpPr>
          <p:spPr>
            <a:xfrm>
              <a:off x="5580000" y="2997360"/>
              <a:ext cx="48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39"/>
            <p:cNvSpPr/>
            <p:nvPr/>
          </p:nvSpPr>
          <p:spPr>
            <a:xfrm>
              <a:off x="5580000" y="3352680"/>
              <a:ext cx="48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40"/>
            <p:cNvSpPr/>
            <p:nvPr/>
          </p:nvSpPr>
          <p:spPr>
            <a:xfrm>
              <a:off x="5580000" y="3659040"/>
              <a:ext cx="48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011640" y="4292280"/>
              <a:ext cx="2498760" cy="360"/>
              <a:chOff x="6011640" y="4292280"/>
              <a:chExt cx="2498760" cy="360"/>
            </a:xfrm>
          </p:grpSpPr>
          <p:sp>
            <p:nvSpPr>
              <p:cNvPr id="323" name="Line 41"/>
              <p:cNvSpPr/>
              <p:nvPr/>
            </p:nvSpPr>
            <p:spPr>
              <a:xfrm>
                <a:off x="6011640" y="4292280"/>
                <a:ext cx="24987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6011640" y="4292280"/>
                <a:ext cx="249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Rectangle 42"/>
            <p:cNvSpPr/>
            <p:nvPr/>
          </p:nvSpPr>
          <p:spPr>
            <a:xfrm>
              <a:off x="5610600" y="40543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43"/>
          <p:cNvGrpSpPr/>
          <p:nvPr/>
        </p:nvGrpSpPr>
        <p:grpSpPr>
          <a:xfrm>
            <a:off x="5149800" y="4653000"/>
            <a:ext cx="3859560" cy="1791720"/>
            <a:chOff x="5149800" y="4653000"/>
            <a:chExt cx="3859560" cy="1791720"/>
          </a:xfrm>
        </p:grpSpPr>
        <p:pic>
          <p:nvPicPr>
            <p:cNvPr id="327" name="Object 44" descr=""/>
            <p:cNvPicPr/>
            <p:nvPr/>
          </p:nvPicPr>
          <p:blipFill>
            <a:blip r:embed="rId1"/>
            <a:stretch/>
          </p:blipFill>
          <p:spPr>
            <a:xfrm>
              <a:off x="5724720" y="4653000"/>
              <a:ext cx="2952720" cy="179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Rectangle 45"/>
            <p:cNvSpPr/>
            <p:nvPr/>
          </p:nvSpPr>
          <p:spPr>
            <a:xfrm>
              <a:off x="5149800" y="473004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6"/>
            <p:cNvSpPr/>
            <p:nvPr/>
          </p:nvSpPr>
          <p:spPr>
            <a:xfrm>
              <a:off x="8534520" y="4730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0"/>
          <p:cNvSpPr/>
          <p:nvPr/>
        </p:nvSpPr>
        <p:spPr>
          <a:xfrm>
            <a:off x="108000" y="981000"/>
            <a:ext cx="8928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概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单位：       ，简称      ，符号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常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单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换算关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定值电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电路符号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108000" y="115920"/>
            <a:ext cx="3527280" cy="703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76320">
            <a:solidFill>
              <a:srgbClr val="ff9933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一、电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979640" y="1125360"/>
            <a:ext cx="619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表示导体对电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阻碍作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763640" y="174132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欧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00720" y="17002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732720" y="1628640"/>
            <a:ext cx="8650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0000ff"/>
                </a:solidFill>
                <a:latin typeface="Arial"/>
              </a:rPr>
              <a:t>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987640" y="249228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兆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千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k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843280" y="334152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 kΩ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=  10</a:t>
            </a:r>
            <a:r>
              <a:rPr b="1" lang="en-US" sz="4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1"/>
          <p:cNvGrpSpPr/>
          <p:nvPr/>
        </p:nvGrpSpPr>
        <p:grpSpPr>
          <a:xfrm>
            <a:off x="3059280" y="5661000"/>
            <a:ext cx="2447640" cy="360360"/>
            <a:chOff x="3059280" y="5661000"/>
            <a:chExt cx="2447640" cy="360360"/>
          </a:xfrm>
        </p:grpSpPr>
        <p:sp>
          <p:nvSpPr>
            <p:cNvPr id="98" name="直接连接符 7"/>
            <p:cNvSpPr/>
            <p:nvPr/>
          </p:nvSpPr>
          <p:spPr>
            <a:xfrm>
              <a:off x="3059280" y="5841000"/>
              <a:ext cx="2447640" cy="180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8"/>
            <p:cNvSpPr/>
            <p:nvPr/>
          </p:nvSpPr>
          <p:spPr>
            <a:xfrm>
              <a:off x="3744720" y="5661000"/>
              <a:ext cx="1076760" cy="360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4"/>
          <p:cNvSpPr/>
          <p:nvPr/>
        </p:nvSpPr>
        <p:spPr>
          <a:xfrm>
            <a:off x="1908000" y="11160"/>
            <a:ext cx="20876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2627280" y="462132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具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电阻值的元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2843280" y="400536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 MΩ =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4000" spc="-1" strike="noStrike" baseline="30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3995640" y="0"/>
            <a:ext cx="5040360" cy="1312920"/>
          </a:xfrm>
          <a:prstGeom prst="rect">
            <a:avLst/>
          </a:prstGeom>
          <a:solidFill>
            <a:srgbClr val="663300"/>
          </a:solidFill>
          <a:ln w="76320">
            <a:solidFill>
              <a:srgbClr val="ff9933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学习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自学课本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P63~64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电阻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梳理基础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3995640" y="1341360"/>
            <a:ext cx="5040360" cy="459720"/>
          </a:xfrm>
          <a:prstGeom prst="rect">
            <a:avLst/>
          </a:prstGeom>
          <a:solidFill>
            <a:srgbClr val="663300"/>
          </a:solidFill>
          <a:ln w="76320">
            <a:solidFill>
              <a:srgbClr val="ff9933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完成学案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A077-3F0D-411F-B167-DC6ABDF957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4"/>
          <p:cNvSpPr/>
          <p:nvPr/>
        </p:nvSpPr>
        <p:spPr>
          <a:xfrm>
            <a:off x="611280" y="620640"/>
            <a:ext cx="3384360" cy="8251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76320">
            <a:solidFill>
              <a:srgbClr val="ff9933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【小资料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585720" y="2421000"/>
            <a:ext cx="8112240" cy="22986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66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科学世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半导体      超导现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108000" y="115920"/>
            <a:ext cx="3959280" cy="703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76320">
            <a:solidFill>
              <a:srgbClr val="ff9933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【反馈练习一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4920" y="1478880"/>
            <a:ext cx="525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图，将铜丝和镍铬合金丝分别连入电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连接铜丝时灯泡较亮，说明铜丝对电流的阻碍作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电阻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08000" y="4869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   0.5MΩ=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KΩ=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\\初三物理\初三物理共享\新教材图 电压电阻 生活用电\16章 电压电阻\电压电阻图\16-3-1.JPG"/>
          <p:cNvPicPr/>
          <p:nvPr/>
        </p:nvPicPr>
        <p:blipFill>
          <a:blip r:embed="rId1"/>
          <a:stretch/>
        </p:blipFill>
        <p:spPr>
          <a:xfrm>
            <a:off x="4824360" y="1125360"/>
            <a:ext cx="4319640" cy="27370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3059280" y="465300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508720" y="472428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10</a:t>
            </a:r>
            <a:r>
              <a:rPr b="1" lang="zh-CN" sz="5400" spc="-1" strike="noStrike" baseline="30000">
                <a:solidFill>
                  <a:srgbClr val="ff0000"/>
                </a:solidFill>
                <a:latin typeface="Arial"/>
                <a:ea typeface="黑体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3201840" y="318132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39640" y="37576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57080" y="2276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电阻的大小与哪些因素有关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324000" y="189000"/>
            <a:ext cx="3492360" cy="703440"/>
          </a:xfrm>
          <a:prstGeom prst="rect">
            <a:avLst/>
          </a:prstGeom>
          <a:solidFill>
            <a:srgbClr val="663300"/>
          </a:solidFill>
          <a:ln w="76320">
            <a:solidFill>
              <a:srgbClr val="ff9933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【提出问题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7812000" y="573408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5"/>
          <p:cNvGrpSpPr/>
          <p:nvPr/>
        </p:nvGrpSpPr>
        <p:grpSpPr>
          <a:xfrm>
            <a:off x="324000" y="189000"/>
            <a:ext cx="6121080" cy="703440"/>
            <a:chOff x="324000" y="189000"/>
            <a:chExt cx="6121080" cy="703440"/>
          </a:xfrm>
        </p:grpSpPr>
        <p:sp>
          <p:nvSpPr>
            <p:cNvPr id="117" name="矩形 4"/>
            <p:cNvSpPr/>
            <p:nvPr/>
          </p:nvSpPr>
          <p:spPr>
            <a:xfrm>
              <a:off x="324000" y="189000"/>
              <a:ext cx="6121080" cy="703440"/>
            </a:xfrm>
            <a:prstGeom prst="rect">
              <a:avLst/>
            </a:prstGeom>
            <a:solidFill>
              <a:srgbClr val="663300"/>
            </a:solidFill>
            <a:ln w="76320">
              <a:solidFill>
                <a:srgbClr val="ff9933"/>
              </a:solidFill>
              <a:miter/>
            </a:ln>
            <a:effectLst>
              <a:outerShdw dist="2304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【提出问题】 【猜想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 rot="10800000">
              <a:off x="3348000" y="408960"/>
              <a:ext cx="502560" cy="441360"/>
            </a:xfrm>
            <a:prstGeom prst="leftArrow">
              <a:avLst>
                <a:gd name="adj1" fmla="val 50000"/>
                <a:gd name="adj2" fmla="val 28451"/>
              </a:avLst>
            </a:prstGeom>
            <a:solidFill>
              <a:srgbClr val="ffff99"/>
            </a:solidFill>
            <a:ln w="34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44280"/>
            <a:ext cx="331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思考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42920" y="10810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电阻与材料的关系时，该如何选择导体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324000" y="2708280"/>
            <a:ext cx="8497440" cy="3239640"/>
            <a:chOff x="324000" y="2708280"/>
            <a:chExt cx="8497440" cy="3239640"/>
          </a:xfrm>
        </p:grpSpPr>
        <p:pic>
          <p:nvPicPr>
            <p:cNvPr id="122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2708280"/>
              <a:ext cx="8497440" cy="323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"/>
            <p:cNvGrpSpPr/>
            <p:nvPr/>
          </p:nvGrpSpPr>
          <p:grpSpPr>
            <a:xfrm>
              <a:off x="540000" y="2917440"/>
              <a:ext cx="7994160" cy="209880"/>
              <a:chOff x="540000" y="2917440"/>
              <a:chExt cx="7994160" cy="209880"/>
            </a:xfrm>
          </p:grpSpPr>
          <p:sp>
            <p:nvSpPr>
              <p:cNvPr id="124" name="Line 6"/>
              <p:cNvSpPr/>
              <p:nvPr/>
            </p:nvSpPr>
            <p:spPr>
              <a:xfrm flipV="1">
                <a:off x="540000" y="2917440"/>
                <a:ext cx="7994160" cy="209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 rot="10800000">
                <a:off x="540000" y="2917080"/>
                <a:ext cx="7994160" cy="20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13080" y="3857400"/>
              <a:ext cx="7994160" cy="209880"/>
              <a:chOff x="613080" y="3857400"/>
              <a:chExt cx="7994160" cy="209880"/>
            </a:xfrm>
          </p:grpSpPr>
          <p:sp>
            <p:nvSpPr>
              <p:cNvPr id="127" name="Line 7"/>
              <p:cNvSpPr/>
              <p:nvPr/>
            </p:nvSpPr>
            <p:spPr>
              <a:xfrm flipV="1">
                <a:off x="613080" y="3857400"/>
                <a:ext cx="7994160" cy="209880"/>
              </a:xfrm>
              <a:prstGeom prst="line">
                <a:avLst/>
              </a:prstGeom>
              <a:ln w="57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 rot="10800000">
                <a:off x="613080" y="3857040"/>
                <a:ext cx="7994160" cy="20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8"/>
            <p:cNvGrpSpPr/>
            <p:nvPr/>
          </p:nvGrpSpPr>
          <p:grpSpPr>
            <a:xfrm>
              <a:off x="539640" y="4638960"/>
              <a:ext cx="7994520" cy="1098720"/>
              <a:chOff x="539640" y="4638960"/>
              <a:chExt cx="7994520" cy="109872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539640" y="4638960"/>
                <a:ext cx="7994160" cy="209520"/>
                <a:chOff x="539640" y="4638960"/>
                <a:chExt cx="7994160" cy="209520"/>
              </a:xfrm>
            </p:grpSpPr>
            <p:sp>
              <p:nvSpPr>
                <p:cNvPr id="131" name="Line 9"/>
                <p:cNvSpPr/>
                <p:nvPr/>
              </p:nvSpPr>
              <p:spPr>
                <a:xfrm flipV="1">
                  <a:off x="540000" y="4638960"/>
                  <a:ext cx="7993800" cy="20952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 txBox="1"/>
                <p:nvPr/>
              </p:nvSpPr>
              <p:spPr>
                <a:xfrm rot="10800000">
                  <a:off x="539640" y="4638600"/>
                  <a:ext cx="7993800" cy="20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8533800" y="4691520"/>
                <a:ext cx="360" cy="730440"/>
                <a:chOff x="8533800" y="4691520"/>
                <a:chExt cx="360" cy="730440"/>
              </a:xfrm>
            </p:grpSpPr>
            <p:sp>
              <p:nvSpPr>
                <p:cNvPr id="134" name="Line 10"/>
                <p:cNvSpPr/>
                <p:nvPr/>
              </p:nvSpPr>
              <p:spPr>
                <a:xfrm>
                  <a:off x="8533800" y="4691520"/>
                  <a:ext cx="0" cy="730440"/>
                </a:xfrm>
                <a:prstGeom prst="line">
                  <a:avLst/>
                </a:prstGeom>
                <a:ln w="3816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 txBox="1"/>
                <p:nvPr/>
              </p:nvSpPr>
              <p:spPr>
                <a:xfrm>
                  <a:off x="8533800" y="4691520"/>
                  <a:ext cx="36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39640" y="5421960"/>
                <a:ext cx="7994160" cy="315720"/>
                <a:chOff x="539640" y="5421960"/>
                <a:chExt cx="7994160" cy="315720"/>
              </a:xfrm>
            </p:grpSpPr>
            <p:sp>
              <p:nvSpPr>
                <p:cNvPr id="137" name="Line 11"/>
                <p:cNvSpPr/>
                <p:nvPr/>
              </p:nvSpPr>
              <p:spPr>
                <a:xfrm flipV="1">
                  <a:off x="540000" y="5421960"/>
                  <a:ext cx="7993800" cy="31572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 txBox="1"/>
                <p:nvPr/>
              </p:nvSpPr>
              <p:spPr>
                <a:xfrm rot="10800000">
                  <a:off x="539640" y="5421600"/>
                  <a:ext cx="7993800" cy="3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40" name="矩形 4"/>
          <p:cNvSpPr/>
          <p:nvPr/>
        </p:nvSpPr>
        <p:spPr>
          <a:xfrm>
            <a:off x="179280" y="115920"/>
            <a:ext cx="8856720" cy="703440"/>
          </a:xfrm>
          <a:prstGeom prst="rect">
            <a:avLst/>
          </a:prstGeom>
          <a:solidFill>
            <a:srgbClr val="663300"/>
          </a:solidFill>
          <a:ln w="76320">
            <a:solidFill>
              <a:srgbClr val="ff9933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【提出问题】 【猜想】 【设计实验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 rot="10800000">
            <a:off x="3203640" y="333360"/>
            <a:ext cx="503280" cy="433440"/>
          </a:xfrm>
          <a:prstGeom prst="leftArrow">
            <a:avLst>
              <a:gd name="adj1" fmla="val 50000"/>
              <a:gd name="adj2" fmla="val 29012"/>
            </a:avLst>
          </a:prstGeom>
          <a:solidFill>
            <a:srgbClr val="ffff99"/>
          </a:solidFill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 rot="10800000">
            <a:off x="5364000" y="333360"/>
            <a:ext cx="503280" cy="433440"/>
          </a:xfrm>
          <a:prstGeom prst="leftArrow">
            <a:avLst>
              <a:gd name="adj1" fmla="val 50000"/>
              <a:gd name="adj2" fmla="val 29012"/>
            </a:avLst>
          </a:prstGeom>
          <a:solidFill>
            <a:srgbClr val="ffff99"/>
          </a:solidFill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971640" y="234936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反映电阻的大小？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755640" y="3573360"/>
            <a:ext cx="7734240" cy="13201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观察电流表的示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电流越大，说明导体的阻碍作用越小，电阻越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79280" y="981000"/>
            <a:ext cx="331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思考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108000" y="189000"/>
            <a:ext cx="8856720" cy="703440"/>
            <a:chOff x="108000" y="189000"/>
            <a:chExt cx="8856720" cy="703440"/>
          </a:xfrm>
        </p:grpSpPr>
        <p:sp>
          <p:nvSpPr>
            <p:cNvPr id="147" name="矩形 4"/>
            <p:cNvSpPr/>
            <p:nvPr/>
          </p:nvSpPr>
          <p:spPr>
            <a:xfrm>
              <a:off x="108000" y="189000"/>
              <a:ext cx="8856720" cy="703440"/>
            </a:xfrm>
            <a:prstGeom prst="rect">
              <a:avLst/>
            </a:prstGeom>
            <a:solidFill>
              <a:srgbClr val="663300"/>
            </a:solidFill>
            <a:ln w="76320">
              <a:solidFill>
                <a:srgbClr val="ff9933"/>
              </a:solidFill>
              <a:miter/>
            </a:ln>
            <a:effectLst>
              <a:outerShdw dist="2304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【提出问题】 【猜想】 【进行实验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"/>
            <p:cNvSpPr/>
            <p:nvPr/>
          </p:nvSpPr>
          <p:spPr>
            <a:xfrm rot="10800000">
              <a:off x="3121200" y="406440"/>
              <a:ext cx="503280" cy="433440"/>
            </a:xfrm>
            <a:prstGeom prst="leftArrow">
              <a:avLst>
                <a:gd name="adj1" fmla="val 50000"/>
                <a:gd name="adj2" fmla="val 29012"/>
              </a:avLst>
            </a:prstGeom>
            <a:solidFill>
              <a:srgbClr val="ffff99"/>
            </a:solidFill>
            <a:ln w="34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5"/>
            <p:cNvSpPr/>
            <p:nvPr/>
          </p:nvSpPr>
          <p:spPr>
            <a:xfrm rot="10800000">
              <a:off x="5281560" y="409680"/>
              <a:ext cx="503280" cy="433440"/>
            </a:xfrm>
            <a:prstGeom prst="leftArrow">
              <a:avLst>
                <a:gd name="adj1" fmla="val 50000"/>
                <a:gd name="adj2" fmla="val 29012"/>
              </a:avLst>
            </a:prstGeom>
            <a:solidFill>
              <a:srgbClr val="ffff99"/>
            </a:solidFill>
            <a:ln w="34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6"/>
          <p:cNvGrpSpPr/>
          <p:nvPr/>
        </p:nvGrpSpPr>
        <p:grpSpPr>
          <a:xfrm>
            <a:off x="1403280" y="2276640"/>
            <a:ext cx="5686560" cy="4031640"/>
            <a:chOff x="1403280" y="2276640"/>
            <a:chExt cx="5686560" cy="4031640"/>
          </a:xfrm>
        </p:grpSpPr>
        <p:grpSp>
          <p:nvGrpSpPr>
            <p:cNvPr id="151" name="Group 7"/>
            <p:cNvGrpSpPr/>
            <p:nvPr/>
          </p:nvGrpSpPr>
          <p:grpSpPr>
            <a:xfrm>
              <a:off x="1644120" y="2276640"/>
              <a:ext cx="5348520" cy="1906560"/>
              <a:chOff x="1644120" y="2276640"/>
              <a:chExt cx="5348520" cy="1906560"/>
            </a:xfrm>
          </p:grpSpPr>
          <p:pic>
            <p:nvPicPr>
              <p:cNvPr id="152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644120" y="3037320"/>
                <a:ext cx="1656360" cy="96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390480" y="2276640"/>
                <a:ext cx="3602160" cy="190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Freeform 10"/>
              <p:cNvSpPr/>
              <p:nvPr/>
            </p:nvSpPr>
            <p:spPr>
              <a:xfrm rot="349800">
                <a:off x="3208680" y="3720960"/>
                <a:ext cx="541080" cy="76680"/>
              </a:xfrm>
              <a:custGeom>
                <a:avLst/>
                <a:gdLst/>
                <a:ahLst/>
                <a:rect l="l" t="t" r="r" b="b"/>
                <a:pathLst>
                  <a:path w="562" h="82">
                    <a:moveTo>
                      <a:pt x="0" y="82"/>
                    </a:moveTo>
                    <a:cubicBezTo>
                      <a:pt x="66" y="61"/>
                      <a:pt x="136" y="53"/>
                      <a:pt x="202" y="32"/>
                    </a:cubicBezTo>
                    <a:cubicBezTo>
                      <a:pt x="232" y="0"/>
                      <a:pt x="265" y="7"/>
                      <a:pt x="310" y="3"/>
                    </a:cubicBezTo>
                    <a:cubicBezTo>
                      <a:pt x="376" y="9"/>
                      <a:pt x="438" y="19"/>
                      <a:pt x="504" y="24"/>
                    </a:cubicBezTo>
                    <a:cubicBezTo>
                      <a:pt x="537" y="36"/>
                      <a:pt x="518" y="32"/>
                      <a:pt x="562" y="3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11"/>
            <p:cNvSpPr/>
            <p:nvPr/>
          </p:nvSpPr>
          <p:spPr>
            <a:xfrm>
              <a:off x="1739880" y="3802320"/>
              <a:ext cx="288720" cy="762840"/>
            </a:xfrm>
            <a:custGeom>
              <a:avLst/>
              <a:gdLst/>
              <a:ahLst/>
              <a:rect l="l" t="t" r="r" b="b"/>
              <a:pathLst>
                <a:path w="367" h="608">
                  <a:moveTo>
                    <a:pt x="367" y="10"/>
                  </a:moveTo>
                  <a:cubicBezTo>
                    <a:pt x="333" y="13"/>
                    <a:pt x="291" y="0"/>
                    <a:pt x="267" y="24"/>
                  </a:cubicBezTo>
                  <a:cubicBezTo>
                    <a:pt x="261" y="30"/>
                    <a:pt x="263" y="39"/>
                    <a:pt x="259" y="46"/>
                  </a:cubicBezTo>
                  <a:cubicBezTo>
                    <a:pt x="246" y="66"/>
                    <a:pt x="222" y="83"/>
                    <a:pt x="202" y="96"/>
                  </a:cubicBezTo>
                  <a:cubicBezTo>
                    <a:pt x="192" y="127"/>
                    <a:pt x="167" y="153"/>
                    <a:pt x="144" y="176"/>
                  </a:cubicBezTo>
                  <a:cubicBezTo>
                    <a:pt x="133" y="209"/>
                    <a:pt x="109" y="231"/>
                    <a:pt x="94" y="262"/>
                  </a:cubicBezTo>
                  <a:cubicBezTo>
                    <a:pt x="80" y="291"/>
                    <a:pt x="86" y="300"/>
                    <a:pt x="58" y="320"/>
                  </a:cubicBezTo>
                  <a:cubicBezTo>
                    <a:pt x="46" y="366"/>
                    <a:pt x="56" y="330"/>
                    <a:pt x="43" y="370"/>
                  </a:cubicBezTo>
                  <a:cubicBezTo>
                    <a:pt x="38" y="384"/>
                    <a:pt x="29" y="413"/>
                    <a:pt x="29" y="413"/>
                  </a:cubicBezTo>
                  <a:cubicBezTo>
                    <a:pt x="20" y="469"/>
                    <a:pt x="14" y="512"/>
                    <a:pt x="7" y="572"/>
                  </a:cubicBezTo>
                  <a:cubicBezTo>
                    <a:pt x="6" y="584"/>
                    <a:pt x="0" y="608"/>
                    <a:pt x="0" y="60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6703920" y="3583800"/>
              <a:ext cx="240840" cy="870840"/>
            </a:xfrm>
            <a:custGeom>
              <a:avLst/>
              <a:gdLst/>
              <a:ahLst/>
              <a:rect l="l" t="t" r="r" b="b"/>
              <a:pathLst>
                <a:path w="166" h="900">
                  <a:moveTo>
                    <a:pt x="86" y="0"/>
                  </a:moveTo>
                  <a:cubicBezTo>
                    <a:pt x="106" y="54"/>
                    <a:pt x="109" y="111"/>
                    <a:pt x="122" y="166"/>
                  </a:cubicBezTo>
                  <a:cubicBezTo>
                    <a:pt x="119" y="299"/>
                    <a:pt x="166" y="442"/>
                    <a:pt x="94" y="555"/>
                  </a:cubicBezTo>
                  <a:cubicBezTo>
                    <a:pt x="83" y="595"/>
                    <a:pt x="78" y="638"/>
                    <a:pt x="65" y="677"/>
                  </a:cubicBezTo>
                  <a:cubicBezTo>
                    <a:pt x="56" y="742"/>
                    <a:pt x="52" y="817"/>
                    <a:pt x="14" y="872"/>
                  </a:cubicBezTo>
                  <a:cubicBezTo>
                    <a:pt x="6" y="896"/>
                    <a:pt x="12" y="888"/>
                    <a:pt x="0" y="9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1403280" y="4619160"/>
              <a:ext cx="5686560" cy="1689120"/>
              <a:chOff x="1403280" y="4619160"/>
              <a:chExt cx="5686560" cy="1689120"/>
            </a:xfrm>
          </p:grpSpPr>
          <p:pic>
            <p:nvPicPr>
              <p:cNvPr id="158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03280" y="4619160"/>
                <a:ext cx="5686560" cy="1689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" name=""/>
              <p:cNvGrpSpPr/>
              <p:nvPr/>
            </p:nvGrpSpPr>
            <p:grpSpPr>
              <a:xfrm>
                <a:off x="1547640" y="4728240"/>
                <a:ext cx="5349600" cy="109440"/>
                <a:chOff x="1547640" y="4728240"/>
                <a:chExt cx="5349600" cy="109440"/>
              </a:xfrm>
            </p:grpSpPr>
            <p:sp>
              <p:nvSpPr>
                <p:cNvPr id="160" name="Line 15"/>
                <p:cNvSpPr/>
                <p:nvPr/>
              </p:nvSpPr>
              <p:spPr>
                <a:xfrm flipV="1">
                  <a:off x="1547640" y="4728240"/>
                  <a:ext cx="5349600" cy="10944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 txBox="1"/>
                <p:nvPr/>
              </p:nvSpPr>
              <p:spPr>
                <a:xfrm rot="10800000">
                  <a:off x="1547640" y="4728240"/>
                  <a:ext cx="5349600" cy="1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596600" y="5218200"/>
                <a:ext cx="5349600" cy="109440"/>
                <a:chOff x="1596600" y="5218200"/>
                <a:chExt cx="5349600" cy="109440"/>
              </a:xfrm>
            </p:grpSpPr>
            <p:sp>
              <p:nvSpPr>
                <p:cNvPr id="163" name="Line 16"/>
                <p:cNvSpPr/>
                <p:nvPr/>
              </p:nvSpPr>
              <p:spPr>
                <a:xfrm flipV="1">
                  <a:off x="1596600" y="5218200"/>
                  <a:ext cx="5349600" cy="10944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 txBox="1"/>
                <p:nvPr/>
              </p:nvSpPr>
              <p:spPr>
                <a:xfrm rot="10800000">
                  <a:off x="1596600" y="5218200"/>
                  <a:ext cx="5349600" cy="1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17"/>
              <p:cNvGrpSpPr/>
              <p:nvPr/>
            </p:nvGrpSpPr>
            <p:grpSpPr>
              <a:xfrm>
                <a:off x="1547640" y="5625360"/>
                <a:ext cx="5349960" cy="572760"/>
                <a:chOff x="1547640" y="5625360"/>
                <a:chExt cx="5349960" cy="57276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547640" y="5625360"/>
                  <a:ext cx="5349600" cy="109080"/>
                  <a:chOff x="1547640" y="5625360"/>
                  <a:chExt cx="5349600" cy="109080"/>
                </a:xfrm>
              </p:grpSpPr>
              <p:sp>
                <p:nvSpPr>
                  <p:cNvPr id="167" name="Line 18"/>
                  <p:cNvSpPr/>
                  <p:nvPr/>
                </p:nvSpPr>
                <p:spPr>
                  <a:xfrm flipV="1">
                    <a:off x="1547640" y="5625360"/>
                    <a:ext cx="5349600" cy="109080"/>
                  </a:xfrm>
                  <a:prstGeom prst="line">
                    <a:avLst/>
                  </a:prstGeom>
                  <a:ln w="381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 txBox="1"/>
                  <p:nvPr/>
                </p:nvSpPr>
                <p:spPr>
                  <a:xfrm rot="10800000">
                    <a:off x="1547640" y="5625360"/>
                    <a:ext cx="5349600" cy="10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897240" y="5653080"/>
                  <a:ext cx="360" cy="380880"/>
                  <a:chOff x="6897240" y="5653080"/>
                  <a:chExt cx="360" cy="380880"/>
                </a:xfrm>
              </p:grpSpPr>
              <p:sp>
                <p:nvSpPr>
                  <p:cNvPr id="170" name="Line 19"/>
                  <p:cNvSpPr/>
                  <p:nvPr/>
                </p:nvSpPr>
                <p:spPr>
                  <a:xfrm>
                    <a:off x="6897240" y="5653080"/>
                    <a:ext cx="0" cy="380880"/>
                  </a:xfrm>
                  <a:prstGeom prst="line">
                    <a:avLst/>
                  </a:prstGeom>
                  <a:ln w="381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 txBox="1"/>
                  <p:nvPr/>
                </p:nvSpPr>
                <p:spPr>
                  <a:xfrm>
                    <a:off x="6897240" y="56530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1547640" y="6033600"/>
                  <a:ext cx="5349600" cy="164520"/>
                  <a:chOff x="1547640" y="6033600"/>
                  <a:chExt cx="5349600" cy="164520"/>
                </a:xfrm>
              </p:grpSpPr>
              <p:sp>
                <p:nvSpPr>
                  <p:cNvPr id="173" name="Line 20"/>
                  <p:cNvSpPr/>
                  <p:nvPr/>
                </p:nvSpPr>
                <p:spPr>
                  <a:xfrm flipV="1">
                    <a:off x="1547640" y="6033600"/>
                    <a:ext cx="5349600" cy="164520"/>
                  </a:xfrm>
                  <a:prstGeom prst="line">
                    <a:avLst/>
                  </a:prstGeom>
                  <a:ln w="381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 txBox="1"/>
                  <p:nvPr/>
                </p:nvSpPr>
                <p:spPr>
                  <a:xfrm rot="10800000">
                    <a:off x="1547640" y="6033600"/>
                    <a:ext cx="5349600" cy="164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75" name="TextBox 53"/>
          <p:cNvSpPr/>
          <p:nvPr/>
        </p:nvSpPr>
        <p:spPr>
          <a:xfrm>
            <a:off x="611280" y="1268280"/>
            <a:ext cx="77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探究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：导体电阻与材料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50920" y="549360"/>
            <a:ext cx="8856720" cy="703440"/>
            <a:chOff x="250920" y="549360"/>
            <a:chExt cx="8856720" cy="703440"/>
          </a:xfrm>
        </p:grpSpPr>
        <p:sp>
          <p:nvSpPr>
            <p:cNvPr id="177" name="矩形 4"/>
            <p:cNvSpPr/>
            <p:nvPr/>
          </p:nvSpPr>
          <p:spPr>
            <a:xfrm>
              <a:off x="250920" y="549360"/>
              <a:ext cx="8856720" cy="703440"/>
            </a:xfrm>
            <a:prstGeom prst="rect">
              <a:avLst/>
            </a:prstGeom>
            <a:solidFill>
              <a:srgbClr val="663300"/>
            </a:solidFill>
            <a:ln w="76320">
              <a:solidFill>
                <a:srgbClr val="ff9933"/>
              </a:solidFill>
              <a:miter/>
            </a:ln>
            <a:effectLst>
              <a:outerShdw dist="2304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【提出问题】 【猜想】 【进行实验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4"/>
            <p:cNvSpPr/>
            <p:nvPr/>
          </p:nvSpPr>
          <p:spPr>
            <a:xfrm rot="10800000">
              <a:off x="3264120" y="766800"/>
              <a:ext cx="503280" cy="433440"/>
            </a:xfrm>
            <a:prstGeom prst="leftArrow">
              <a:avLst>
                <a:gd name="adj1" fmla="val 50000"/>
                <a:gd name="adj2" fmla="val 29012"/>
              </a:avLst>
            </a:prstGeom>
            <a:solidFill>
              <a:srgbClr val="ffff99"/>
            </a:solidFill>
            <a:ln w="34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 rot="10800000">
              <a:off x="5424480" y="770040"/>
              <a:ext cx="503280" cy="433440"/>
            </a:xfrm>
            <a:prstGeom prst="leftArrow">
              <a:avLst>
                <a:gd name="adj1" fmla="val 50000"/>
                <a:gd name="adj2" fmla="val 29012"/>
              </a:avLst>
            </a:prstGeom>
            <a:solidFill>
              <a:srgbClr val="ffff99"/>
            </a:solidFill>
            <a:ln w="34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矩形 4"/>
          <p:cNvSpPr/>
          <p:nvPr/>
        </p:nvSpPr>
        <p:spPr>
          <a:xfrm>
            <a:off x="250920" y="1484280"/>
            <a:ext cx="6626160" cy="703440"/>
          </a:xfrm>
          <a:prstGeom prst="rect">
            <a:avLst/>
          </a:prstGeom>
          <a:solidFill>
            <a:srgbClr val="663300"/>
          </a:solidFill>
          <a:ln w="76320">
            <a:solidFill>
              <a:srgbClr val="ff9933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【分析数据】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【得出结论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79280" y="2492280"/>
            <a:ext cx="8785440" cy="7790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导体的电阻与材料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 rot="10800000">
            <a:off x="323640" y="1700280"/>
            <a:ext cx="502920" cy="433440"/>
          </a:xfrm>
          <a:prstGeom prst="leftArrow">
            <a:avLst>
              <a:gd name="adj1" fmla="val 50000"/>
              <a:gd name="adj2" fmla="val 28991"/>
            </a:avLst>
          </a:prstGeom>
          <a:solidFill>
            <a:srgbClr val="ffff99"/>
          </a:solidFill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 rot="10800000">
            <a:off x="3564000" y="1700280"/>
            <a:ext cx="503280" cy="433440"/>
          </a:xfrm>
          <a:prstGeom prst="leftArrow">
            <a:avLst>
              <a:gd name="adj1" fmla="val 50000"/>
              <a:gd name="adj2" fmla="val 29012"/>
            </a:avLst>
          </a:prstGeom>
          <a:solidFill>
            <a:srgbClr val="ffff99"/>
          </a:solidFill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6300720" y="2492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有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497800" cy="32400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539640" y="2923920"/>
            <a:ext cx="7920000" cy="144360"/>
            <a:chOff x="539640" y="2923920"/>
            <a:chExt cx="7920000" cy="144360"/>
          </a:xfrm>
        </p:grpSpPr>
        <p:sp>
          <p:nvSpPr>
            <p:cNvPr id="187" name="Line 3"/>
            <p:cNvSpPr/>
            <p:nvPr/>
          </p:nvSpPr>
          <p:spPr>
            <a:xfrm flipV="1">
              <a:off x="539640" y="2923920"/>
              <a:ext cx="7920000" cy="144360"/>
            </a:xfrm>
            <a:prstGeom prst="line">
              <a:avLst/>
            </a:prstGeom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 rot="10800000">
              <a:off x="539640" y="2923560"/>
              <a:ext cx="792000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39640" y="3860640"/>
            <a:ext cx="7920000" cy="138240"/>
            <a:chOff x="539640" y="3860640"/>
            <a:chExt cx="7920000" cy="138240"/>
          </a:xfrm>
        </p:grpSpPr>
        <p:sp>
          <p:nvSpPr>
            <p:cNvPr id="190" name="Line 4"/>
            <p:cNvSpPr/>
            <p:nvPr/>
          </p:nvSpPr>
          <p:spPr>
            <a:xfrm flipV="1">
              <a:off x="539640" y="3860640"/>
              <a:ext cx="7920000" cy="138240"/>
            </a:xfrm>
            <a:prstGeom prst="line">
              <a:avLst/>
            </a:prstGeom>
            <a:ln w="57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 rot="10800000">
              <a:off x="539640" y="3860280"/>
              <a:ext cx="7920000" cy="138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39640" y="4652640"/>
            <a:ext cx="7920000" cy="144360"/>
            <a:chOff x="539640" y="4652640"/>
            <a:chExt cx="7920000" cy="144360"/>
          </a:xfrm>
        </p:grpSpPr>
        <p:sp>
          <p:nvSpPr>
            <p:cNvPr id="193" name="Line 5"/>
            <p:cNvSpPr/>
            <p:nvPr/>
          </p:nvSpPr>
          <p:spPr>
            <a:xfrm flipV="1">
              <a:off x="539640" y="4652640"/>
              <a:ext cx="7920000" cy="144360"/>
            </a:xfrm>
            <a:prstGeom prst="line">
              <a:avLst/>
            </a:prstGeom>
            <a:ln w="572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 rot="10800000">
              <a:off x="539640" y="4652280"/>
              <a:ext cx="792000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8459640" y="4653000"/>
            <a:ext cx="360" cy="803160"/>
            <a:chOff x="8459640" y="4653000"/>
            <a:chExt cx="360" cy="803160"/>
          </a:xfrm>
        </p:grpSpPr>
        <p:sp>
          <p:nvSpPr>
            <p:cNvPr id="196" name="Line 6"/>
            <p:cNvSpPr/>
            <p:nvPr/>
          </p:nvSpPr>
          <p:spPr>
            <a:xfrm>
              <a:off x="8459640" y="4653000"/>
              <a:ext cx="0" cy="80316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8459640" y="4653000"/>
              <a:ext cx="360" cy="80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39280" y="5445000"/>
            <a:ext cx="7923600" cy="216000"/>
            <a:chOff x="539280" y="5445000"/>
            <a:chExt cx="7923600" cy="216000"/>
          </a:xfrm>
        </p:grpSpPr>
        <p:sp>
          <p:nvSpPr>
            <p:cNvPr id="199" name="Line 7"/>
            <p:cNvSpPr/>
            <p:nvPr/>
          </p:nvSpPr>
          <p:spPr>
            <a:xfrm flipV="1">
              <a:off x="539640" y="5445000"/>
              <a:ext cx="7923240" cy="216000"/>
            </a:xfrm>
            <a:prstGeom prst="line">
              <a:avLst/>
            </a:prstGeom>
            <a:ln w="572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10800000">
              <a:off x="539280" y="5444640"/>
              <a:ext cx="79232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Freeform 8"/>
          <p:cNvSpPr/>
          <p:nvPr/>
        </p:nvSpPr>
        <p:spPr>
          <a:xfrm>
            <a:off x="539640" y="4738680"/>
            <a:ext cx="144720" cy="922320"/>
          </a:xfrm>
          <a:custGeom>
            <a:avLst/>
            <a:gdLst/>
            <a:ahLst/>
            <a:rect l="l" t="t" r="r" b="b"/>
            <a:pathLst>
              <a:path w="91" h="581">
                <a:moveTo>
                  <a:pt x="70" y="0"/>
                </a:moveTo>
                <a:cubicBezTo>
                  <a:pt x="58" y="36"/>
                  <a:pt x="39" y="60"/>
                  <a:pt x="34" y="101"/>
                </a:cubicBezTo>
                <a:cubicBezTo>
                  <a:pt x="25" y="171"/>
                  <a:pt x="19" y="235"/>
                  <a:pt x="5" y="303"/>
                </a:cubicBezTo>
                <a:cubicBezTo>
                  <a:pt x="6" y="330"/>
                  <a:pt x="0" y="512"/>
                  <a:pt x="52" y="529"/>
                </a:cubicBezTo>
                <a:cubicBezTo>
                  <a:pt x="58" y="535"/>
                  <a:pt x="66" y="539"/>
                  <a:pt x="70" y="546"/>
                </a:cubicBezTo>
                <a:cubicBezTo>
                  <a:pt x="91" y="581"/>
                  <a:pt x="61" y="563"/>
                  <a:pt x="88" y="57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"/>
          <p:cNvSpPr/>
          <p:nvPr/>
        </p:nvSpPr>
        <p:spPr>
          <a:xfrm>
            <a:off x="411120" y="5661000"/>
            <a:ext cx="360360" cy="936720"/>
          </a:xfrm>
          <a:custGeom>
            <a:avLst/>
            <a:gdLst/>
            <a:ahLst/>
            <a:rect l="l" t="t" r="r" b="b"/>
            <a:pathLst>
              <a:path w="91" h="581">
                <a:moveTo>
                  <a:pt x="70" y="0"/>
                </a:moveTo>
                <a:cubicBezTo>
                  <a:pt x="58" y="36"/>
                  <a:pt x="39" y="60"/>
                  <a:pt x="34" y="101"/>
                </a:cubicBezTo>
                <a:cubicBezTo>
                  <a:pt x="25" y="171"/>
                  <a:pt x="19" y="235"/>
                  <a:pt x="5" y="303"/>
                </a:cubicBezTo>
                <a:cubicBezTo>
                  <a:pt x="6" y="330"/>
                  <a:pt x="0" y="512"/>
                  <a:pt x="52" y="529"/>
                </a:cubicBezTo>
                <a:cubicBezTo>
                  <a:pt x="58" y="535"/>
                  <a:pt x="66" y="539"/>
                  <a:pt x="70" y="546"/>
                </a:cubicBezTo>
                <a:cubicBezTo>
                  <a:pt x="91" y="581"/>
                  <a:pt x="61" y="563"/>
                  <a:pt x="88" y="57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"/>
          <p:cNvPicPr/>
          <p:nvPr/>
        </p:nvPicPr>
        <p:blipFill>
          <a:blip r:embed="rId2"/>
          <a:stretch/>
        </p:blipFill>
        <p:spPr>
          <a:xfrm>
            <a:off x="8388360" y="5445000"/>
            <a:ext cx="231840" cy="1008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1"/>
          <p:cNvSpPr/>
          <p:nvPr/>
        </p:nvSpPr>
        <p:spPr>
          <a:xfrm>
            <a:off x="0" y="0"/>
            <a:ext cx="331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思考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179280" y="129852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何探究电阻与长度的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3869640" y="1298520"/>
            <a:ext cx="9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何探究与横截面积的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199"/>
          <p:cNvSpPr/>
          <p:nvPr/>
        </p:nvSpPr>
        <p:spPr>
          <a:xfrm>
            <a:off x="2424240" y="382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3T11:34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41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