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EXPLODE.WAV" ContentType="audio/x-wav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CAC-707B-431F-B39A-3C76A8A8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654-2503-4F26-9015-6D27C40E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674-02D4-46F4-8D19-FA2769CD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858-FAF8-4B40-82E7-332C4F76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C4DC-C1B1-4DEA-B39A-D70F717E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A8A1-3754-40E2-9899-BA4BF30B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6C7E-993E-4A2C-9102-C3C60A5B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9DB8-88CA-44C6-9988-466C981C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AB1C-F3FE-4E8D-BCAC-766E8386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3FD8-262D-4EF9-9634-C71D39E1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323A-7CDC-4B4B-9B30-4B98088C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E1F-74A2-4B17-A3F2-2219EB0F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CB24-44E2-477D-877E-EFBC3FB3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965A-86C2-4369-A42E-2F1BE700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1E4B-1EAA-49DD-BFFD-D6C70AEA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49E1-5117-4CEC-B57A-8F678637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2E3E-30E6-4E14-ACC2-03BCF622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A5E4-DD9F-44F5-AC0B-1BF14B73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6F1C-32D3-4A66-A065-6A9BC0FE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55BD-AF5A-498C-B027-1F7ADABD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AE34-AD4B-4C51-B7BC-B7529C0E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EA26-8685-4D98-98AB-950687B4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6BF-6DA4-4503-BD95-FDEC8E62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B078-E273-47F7-A6B1-913D7225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2022-B5AD-4808-8565-E0F2628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3D41-961A-4BAF-B868-2EC57AC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F81A-41C1-4188-9B44-A05E4EE2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DEBE-D8DE-4691-93EB-828AC6A1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7531-60DF-4132-9329-FC1E7458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3AEF-14D7-460F-9BA2-1C9BDB98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AF07-850F-4006-9672-AE3F8DB9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56A95-5097-4192-8D90-12A6DF7A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7CE07-AEDF-480A-81F1-7BAAD3FC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572-EEC4-403F-AB11-8E2FF943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7C78E-A73E-4EF8-9BD3-48C83F7A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A283-64C8-4183-BD5E-563586BC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CD47-3DE5-4722-95D5-482CF7B2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C3FE-E4D8-4478-8D32-8182CB4B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988C-3AFD-4FA6-B091-DF1FD28E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4E28-F3C7-47F1-828B-B98C6324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C0B81-6CEF-4D0A-A972-225DC9A8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2E7DF-15FA-4FA5-8BAF-B3B2FB34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457F-1A89-4E77-B7F8-65D7E5CC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8BF-F670-4BBC-921A-C3307FCC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514-E251-4804-A88F-317812F8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679-F17C-4AE7-9DE7-365DCFF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E85-8984-4BCE-9E3A-A3AF9E42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A41-4CD4-4F7B-80FA-C4B82282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F220-1A67-4245-9B3B-8524DA926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F1B2-A775-4AF9-8E53-3880C7BA5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E2EF-5087-478A-9065-645CB621F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A442-9D61-4727-A25A-3A04F6AC93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4"/>
          <p:cNvSpPr txBox="1"/>
          <p:nvPr/>
        </p:nvSpPr>
        <p:spPr>
          <a:xfrm>
            <a:off x="1290600" y="765000"/>
            <a:ext cx="640080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232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宋体"/>
              </a:rPr>
              <a:t>俄国十月革命课件</a:t>
            </a:r>
            <a:r>
              <a:rPr b="1" lang="en-US" sz="4000" spc="1" strike="noStrike">
                <a:ln w="2232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2232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22320">
                <a:solidFill>
                  <a:srgbClr val="ffffff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5" name="图片 1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6769440" cy="409572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066680" y="246600"/>
            <a:ext cx="6664320" cy="581400"/>
          </a:xfrm>
          <a:prstGeom prst="rect">
            <a:avLst/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工人赤卫队和革命士兵攻打冬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1066680" y="857160"/>
            <a:ext cx="7243920" cy="2425680"/>
            <a:chOff x="1066680" y="857160"/>
            <a:chExt cx="7243920" cy="2425680"/>
          </a:xfrm>
        </p:grpSpPr>
        <p:pic>
          <p:nvPicPr>
            <p:cNvPr id="216" name="Object 4" descr=""/>
            <p:cNvPicPr/>
            <p:nvPr/>
          </p:nvPicPr>
          <p:blipFill>
            <a:blip r:embed="rId2"/>
            <a:stretch/>
          </p:blipFill>
          <p:spPr>
            <a:xfrm>
              <a:off x="4705200" y="857160"/>
              <a:ext cx="3605400" cy="241920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17" name="Object 5" descr=""/>
            <p:cNvPicPr/>
            <p:nvPr/>
          </p:nvPicPr>
          <p:blipFill>
            <a:blip r:embed="rId3"/>
            <a:stretch/>
          </p:blipFill>
          <p:spPr>
            <a:xfrm>
              <a:off x="1066680" y="857160"/>
              <a:ext cx="3581640" cy="2425680"/>
            </a:xfrm>
            <a:prstGeom prst="rect">
              <a:avLst/>
            </a:prstGeom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pic>
        <p:nvPicPr>
          <p:cNvPr id="218" name="Picture 6" descr="武装起义者攻打冬宫后的留影"/>
          <p:cNvPicPr/>
          <p:nvPr/>
        </p:nvPicPr>
        <p:blipFill>
          <a:blip r:embed="rId4"/>
          <a:stretch/>
        </p:blipFill>
        <p:spPr>
          <a:xfrm>
            <a:off x="1143000" y="3867120"/>
            <a:ext cx="3352680" cy="269712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19" name="Text Box 7"/>
          <p:cNvSpPr/>
          <p:nvPr/>
        </p:nvSpPr>
        <p:spPr>
          <a:xfrm>
            <a:off x="5332680" y="6094440"/>
            <a:ext cx="2558160" cy="459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武装起义者攻打冬宫后的留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533520" y="3600360"/>
            <a:ext cx="8076960" cy="2286000"/>
          </a:xfrm>
          <a:custGeom>
            <a:avLst/>
            <a:gdLst/>
            <a:ahLst/>
            <a:rect l="l" t="t" r="r" b="b"/>
            <a:pathLst>
              <a:path w="5088" h="1440">
                <a:moveTo>
                  <a:pt x="0" y="0"/>
                </a:moveTo>
                <a:lnTo>
                  <a:pt x="2688" y="0"/>
                </a:lnTo>
                <a:lnTo>
                  <a:pt x="2688" y="1440"/>
                </a:lnTo>
                <a:lnTo>
                  <a:pt x="5088" y="1440"/>
                </a:lnTo>
              </a:path>
            </a:pathLst>
          </a:custGeom>
          <a:noFill/>
          <a:ln w="44280">
            <a:solidFill>
              <a:srgbClr val="0066ff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1-08a"/>
          <p:cNvPicPr/>
          <p:nvPr/>
        </p:nvPicPr>
        <p:blipFill>
          <a:blip r:embed="rId2"/>
          <a:stretch/>
        </p:blipFill>
        <p:spPr>
          <a:xfrm>
            <a:off x="1523880" y="609480"/>
            <a:ext cx="3434040" cy="487692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2" name="Text Box 3"/>
          <p:cNvSpPr/>
          <p:nvPr/>
        </p:nvSpPr>
        <p:spPr>
          <a:xfrm>
            <a:off x="160020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列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7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2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486400" y="2650680"/>
            <a:ext cx="22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全俄第二次苏维埃代表大会上列宁当选为人民委员会主席。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3"/>
          <p:cNvGrpSpPr/>
          <p:nvPr/>
        </p:nvGrpSpPr>
        <p:grpSpPr>
          <a:xfrm>
            <a:off x="611280" y="0"/>
            <a:ext cx="5562360" cy="3576600"/>
            <a:chOff x="611280" y="0"/>
            <a:chExt cx="5562360" cy="3576600"/>
          </a:xfrm>
        </p:grpSpPr>
        <p:sp>
          <p:nvSpPr>
            <p:cNvPr id="225" name="AutoShape 4"/>
            <p:cNvSpPr/>
            <p:nvPr/>
          </p:nvSpPr>
          <p:spPr>
            <a:xfrm>
              <a:off x="611280" y="0"/>
              <a:ext cx="5562360" cy="3576600"/>
            </a:xfrm>
            <a:prstGeom prst="cloudCallout">
              <a:avLst>
                <a:gd name="adj1" fmla="val 41037"/>
                <a:gd name="adj2" fmla="val 60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5"/>
            <p:cNvSpPr/>
            <p:nvPr/>
          </p:nvSpPr>
          <p:spPr>
            <a:xfrm>
              <a:off x="992160" y="909360"/>
              <a:ext cx="48762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6"/>
          <p:cNvSpPr/>
          <p:nvPr/>
        </p:nvSpPr>
        <p:spPr>
          <a:xfrm>
            <a:off x="971640" y="1125360"/>
            <a:ext cx="49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十月革命的胜利有何重大历史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08000" y="234936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俄国十月革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冲破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世界帝国主义阵线，在世界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/6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土地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创建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一个社会主义国家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它不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激励着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各国无产阶级的斗争，而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鼓舞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被压迫民族的解放斗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十月革命的胜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推动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马克思列宁主义在世界的传播，并向各国人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展示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条崭新的寻求解放的道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十月革命是世界现代史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开端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2514600" y="533520"/>
            <a:ext cx="4952880" cy="3184560"/>
          </a:xfrm>
          <a:prstGeom prst="cloudCallout">
            <a:avLst>
              <a:gd name="adj1" fmla="val -48111"/>
              <a:gd name="adj2" fmla="val 7113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124080" y="1371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，俄国十月革命对中国有什么影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971640" y="335772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鼓舞了中国人民寻求民族解放的斗争；给中国送来了马克思列宁主义；中国的仁人志士开始在中国介绍十月革命和社会主义。总之，十月革命为中国革命树立了榜样。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毛泽东说：“俄国十月革命的一声炮响给中国革命送来了马克思主义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…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4330800" y="3198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7080" y="-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俄国十月革命小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重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764640"/>
            <a:ext cx="914400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性    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    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    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领导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    果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意    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979640" y="765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产阶级革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050920" y="1341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1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050920" y="191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彼得格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2050920" y="2492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列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979640" y="3141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月革命取得胜利，俄国人民创建了苏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1943280" y="3716280"/>
            <a:ext cx="70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俄国十月革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冲破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界帝国主义阵线，在世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土地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创建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个社会主义国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不仅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激励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国无产阶级的斗争，而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鼓舞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被压迫民族的解放斗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月革命的胜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推动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克思列宁主义在世界的传播，并向各国人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展示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条崭新的寻求解放的道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月革命是世界现代史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400"/>
                            </p:stCondLst>
                            <p:childTnLst>
                              <p:par>
                                <p:cTn id="3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作业"/>
          <p:cNvPicPr/>
          <p:nvPr/>
        </p:nvPicPr>
        <p:blipFill>
          <a:blip r:embed="rId2"/>
          <a:stretch/>
        </p:blipFill>
        <p:spPr>
          <a:xfrm>
            <a:off x="2085840" y="907920"/>
            <a:ext cx="4970520" cy="57913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3809880" y="2349360"/>
            <a:ext cx="259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　俄国十月革命的胜利有何意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1044720" y="333360"/>
            <a:ext cx="1726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知识巩固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作业"/>
          <p:cNvPicPr/>
          <p:nvPr/>
        </p:nvPicPr>
        <p:blipFill>
          <a:blip r:embed="rId2"/>
          <a:stretch/>
        </p:blipFill>
        <p:spPr>
          <a:xfrm>
            <a:off x="2085840" y="1022400"/>
            <a:ext cx="4970520" cy="57913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3352680" y="19162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想一想，中国共产党探索出的革命道路与俄国十月革命道路有何异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WordArt 5"/>
          <p:cNvSpPr txBox="1"/>
          <p:nvPr/>
        </p:nvSpPr>
        <p:spPr>
          <a:xfrm>
            <a:off x="1042920" y="333360"/>
            <a:ext cx="172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畅想天地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BBB7-B1B9-4952-B76C-460231AB18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作业"/>
          <p:cNvPicPr/>
          <p:nvPr/>
        </p:nvPicPr>
        <p:blipFill>
          <a:blip r:embed="rId2"/>
          <a:stretch/>
        </p:blipFill>
        <p:spPr>
          <a:xfrm>
            <a:off x="2050920" y="981000"/>
            <a:ext cx="4970520" cy="57913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3546360" y="21528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查找资料，了解有关反映俄国十月革命的影视、文学作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WordArt 5"/>
          <p:cNvSpPr txBox="1"/>
          <p:nvPr/>
        </p:nvSpPr>
        <p:spPr>
          <a:xfrm>
            <a:off x="1042920" y="333360"/>
            <a:ext cx="172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自己动手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00000" y="1628640"/>
            <a:ext cx="1920960" cy="70344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华文新魏"/>
              </a:rPr>
              <a:t>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133640" y="2708280"/>
            <a:ext cx="7029360" cy="20646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华文仿宋"/>
                <a:ea typeface="华文仿宋"/>
              </a:rPr>
              <a:t>、了解俄国二月革命、十月革命的基本史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993300"/>
                </a:solidFill>
                <a:latin typeface="华文仿宋"/>
                <a:ea typeface="华文仿宋"/>
              </a:rPr>
              <a:t>、识记十月革命爆发的时间、地点、领导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华文仿宋"/>
                <a:ea typeface="华文仿宋"/>
              </a:rPr>
              <a:t>、理解十月革命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9640" y="1555920"/>
          <a:ext cx="3745080" cy="2377800"/>
        </p:xfrm>
        <a:graphic>
          <a:graphicData uri="http://schemas.openxmlformats.org/drawingml/2006/table">
            <a:tbl>
              <a:tblPr/>
              <a:tblGrid>
                <a:gridCol w="1432080"/>
                <a:gridCol w="231300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　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　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领导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革命主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　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结　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932360" y="1555920"/>
          <a:ext cx="3743280" cy="2376360"/>
        </p:xfrm>
        <a:graphic>
          <a:graphicData uri="http://schemas.openxmlformats.org/drawingml/2006/table">
            <a:tbl>
              <a:tblPr/>
              <a:tblGrid>
                <a:gridCol w="1274760"/>
                <a:gridCol w="2468520"/>
              </a:tblGrid>
              <a:tr h="407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起义目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发生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领导力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革命主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结    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8360" y="4941720"/>
          <a:ext cx="7991280" cy="1727280"/>
        </p:xfrm>
        <a:graphic>
          <a:graphicData uri="http://schemas.openxmlformats.org/drawingml/2006/table">
            <a:tbl>
              <a:tblPr/>
              <a:tblGrid>
                <a:gridCol w="1598400"/>
                <a:gridCol w="1598400"/>
                <a:gridCol w="1596960"/>
                <a:gridCol w="1598760"/>
                <a:gridCol w="1598760"/>
              </a:tblGrid>
              <a:tr h="569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12240">
                      <a:solidFill>
                        <a:srgbClr val="2d2db9"/>
                      </a:solidFill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12240">
                      <a:solidFill>
                        <a:srgbClr val="2d2db9"/>
                      </a:solidFill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性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12240">
                      <a:solidFill>
                        <a:srgbClr val="2d2db9"/>
                      </a:solidFill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革命任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12240">
                      <a:solidFill>
                        <a:srgbClr val="2d2db9"/>
                      </a:solidFill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12240">
                      <a:solidFill>
                        <a:srgbClr val="2d2db9"/>
                      </a:solidFill>
                    </a:lnB>
                    <a:solidFill>
                      <a:srgbClr val="8585e0"/>
                    </a:solidFill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二月革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1224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1224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1224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1224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1224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</a:tr>
              <a:tr h="57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十月革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31"/>
          <p:cNvSpPr/>
          <p:nvPr/>
        </p:nvSpPr>
        <p:spPr>
          <a:xfrm>
            <a:off x="1258920" y="1044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行楷"/>
              </a:rPr>
              <a:t>二月革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5724360" y="10144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行楷"/>
              </a:rPr>
              <a:t>十月革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1979640" y="4356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行楷"/>
              </a:rPr>
              <a:t>二月革命与十月革命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Text Box 31" descr=""/>
          <p:cNvPicPr/>
          <p:nvPr/>
        </p:nvPicPr>
        <p:blipFill>
          <a:blip r:embed="rId2"/>
          <a:stretch/>
        </p:blipFill>
        <p:spPr>
          <a:xfrm>
            <a:off x="-108000" y="44280"/>
            <a:ext cx="56167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371600" y="1676520"/>
          <a:ext cx="6553080" cy="4552920"/>
        </p:xfrm>
        <a:graphic>
          <a:graphicData uri="http://schemas.openxmlformats.org/drawingml/2006/table">
            <a:tbl>
              <a:tblPr/>
              <a:tblGrid>
                <a:gridCol w="2209680"/>
                <a:gridCol w="4343400"/>
              </a:tblGrid>
              <a:tr h="8380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　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地　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领导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3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革命主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　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结　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Text Box 25"/>
          <p:cNvSpPr/>
          <p:nvPr/>
        </p:nvSpPr>
        <p:spPr>
          <a:xfrm>
            <a:off x="3581280" y="18590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917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月（俄历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3581280" y="2590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首都彼得格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7"/>
          <p:cNvSpPr/>
          <p:nvPr/>
        </p:nvSpPr>
        <p:spPr>
          <a:xfrm>
            <a:off x="3581280" y="3306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布尔什维克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3581280" y="4068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工人和士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3581280" y="48308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武装起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3581280" y="55166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推翻沙皇专制统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3352680" y="54756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行楷"/>
              </a:rPr>
              <a:t>二月革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523880" y="1447920"/>
          <a:ext cx="6095880" cy="4878360"/>
        </p:xfrm>
        <a:graphic>
          <a:graphicData uri="http://schemas.openxmlformats.org/drawingml/2006/table">
            <a:tbl>
              <a:tblPr/>
              <a:tblGrid>
                <a:gridCol w="1828800"/>
                <a:gridCol w="4267080"/>
              </a:tblGrid>
              <a:tr h="62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起义目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50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发生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32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领导力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53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革命主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4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结    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Text Box 22"/>
          <p:cNvSpPr/>
          <p:nvPr/>
        </p:nvSpPr>
        <p:spPr>
          <a:xfrm>
            <a:off x="2484360" y="476280"/>
            <a:ext cx="436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华文行楷"/>
              </a:rPr>
              <a:t>彼得格勒武装起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3568680" y="1504800"/>
            <a:ext cx="39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翻资产阶级临时政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3657600" y="215424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282920" y="29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列宁为首的布尔什维克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348080" y="4168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工人赤卫队和革命力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635280" y="4869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，冬宫被攻占，标志着彼得格勒武装起义取得胜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95280" y="1773360"/>
          <a:ext cx="8491680" cy="3168360"/>
        </p:xfrm>
        <a:graphic>
          <a:graphicData uri="http://schemas.openxmlformats.org/drawingml/2006/table">
            <a:tbl>
              <a:tblPr/>
              <a:tblGrid>
                <a:gridCol w="1440000"/>
                <a:gridCol w="1957320"/>
                <a:gridCol w="1697040"/>
                <a:gridCol w="1698480"/>
                <a:gridCol w="1698840"/>
              </a:tblGrid>
              <a:tr h="1045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12240">
                      <a:solidFill>
                        <a:srgbClr val="2d2db9"/>
                      </a:solidFill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12240">
                      <a:solidFill>
                        <a:srgbClr val="2d2db9"/>
                      </a:solidFill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12240">
                      <a:solidFill>
                        <a:srgbClr val="2d2db9"/>
                      </a:solidFill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革命任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12240">
                      <a:solidFill>
                        <a:srgbClr val="2d2db9"/>
                      </a:solidFill>
                    </a:lnB>
                    <a:solidFill>
                      <a:srgbClr val="8585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12240">
                      <a:solidFill>
                        <a:srgbClr val="2d2db9"/>
                      </a:solidFill>
                    </a:lnB>
                    <a:solidFill>
                      <a:srgbClr val="8585e0"/>
                    </a:solidFill>
                  </a:tcPr>
                </a:tc>
              </a:tr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二月革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1224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1224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1224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1224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1224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2d2db9">
                        <a:alpha val="20000"/>
                      </a:srgbClr>
                    </a:solidFill>
                  </a:tcPr>
                </a:tc>
              </a:tr>
              <a:tr h="1060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十月革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31"/>
          <p:cNvSpPr/>
          <p:nvPr/>
        </p:nvSpPr>
        <p:spPr>
          <a:xfrm>
            <a:off x="1994040" y="907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  <a:ea typeface="华文行楷"/>
              </a:rPr>
              <a:t>二月革命与十月革命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5"/>
          <p:cNvSpPr/>
          <p:nvPr/>
        </p:nvSpPr>
        <p:spPr>
          <a:xfrm>
            <a:off x="1979640" y="31114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1908000" y="4149720"/>
            <a:ext cx="17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3944880" y="2997360"/>
            <a:ext cx="14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资产阶级民主革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3944880" y="396396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产阶级革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5580000" y="299736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推翻沙皇统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5580000" y="396396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推翻临时政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7215120" y="2997360"/>
            <a:ext cx="14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政权并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7230960" y="39639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社会主义国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447920" y="77616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华文行楷"/>
              </a:rPr>
              <a:t>二月革命后两个政权并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371600" y="2108160"/>
          <a:ext cx="6553080" cy="3649680"/>
        </p:xfrm>
        <a:graphic>
          <a:graphicData uri="http://schemas.openxmlformats.org/drawingml/2006/table">
            <a:tbl>
              <a:tblPr/>
              <a:tblGrid>
                <a:gridCol w="2211480"/>
                <a:gridCol w="2157480"/>
                <a:gridCol w="2184120"/>
              </a:tblGrid>
              <a:tr h="7365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政权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支持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实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457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58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1"/>
          <p:cNvSpPr/>
          <p:nvPr/>
        </p:nvSpPr>
        <p:spPr>
          <a:xfrm>
            <a:off x="1676520" y="30481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工兵代表苏维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1600200" y="4495680"/>
            <a:ext cx="18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资产阶级临时政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3693960" y="3048120"/>
            <a:ext cx="21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工农群众和革命士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3657600" y="4495680"/>
            <a:ext cx="207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孟什维克和社会革命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5"/>
          <p:cNvSpPr/>
          <p:nvPr/>
        </p:nvSpPr>
        <p:spPr>
          <a:xfrm>
            <a:off x="6226200" y="3048120"/>
            <a:ext cx="131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拥有武装力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6002280" y="4495680"/>
            <a:ext cx="169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掌握各级行政机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1917年布尔什维克起义前，示威者散布在彼得格尔勒的大街小巷里。这些日子发生了人所共知的七月事件。"/>
          <p:cNvPicPr/>
          <p:nvPr/>
        </p:nvPicPr>
        <p:blipFill>
          <a:blip r:embed="rId2"/>
          <a:stretch/>
        </p:blipFill>
        <p:spPr>
          <a:xfrm>
            <a:off x="1828800" y="628560"/>
            <a:ext cx="4800600" cy="4019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10" name="Text Box 3"/>
          <p:cNvSpPr/>
          <p:nvPr/>
        </p:nvSpPr>
        <p:spPr>
          <a:xfrm>
            <a:off x="1636560" y="506412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二月革命以后，在彼得格勒的几十万群众示威游行，遭到临时政府的镇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938280" y="56628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月流血事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阿芙乐尔号巡洋舰"/>
          <p:cNvPicPr/>
          <p:nvPr/>
        </p:nvPicPr>
        <p:blipFill>
          <a:blip r:embed="rId2"/>
          <a:stretch/>
        </p:blipFill>
        <p:spPr>
          <a:xfrm>
            <a:off x="1523880" y="380880"/>
            <a:ext cx="6096240" cy="50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Text Box 3"/>
          <p:cNvSpPr/>
          <p:nvPr/>
        </p:nvSpPr>
        <p:spPr>
          <a:xfrm>
            <a:off x="2133720" y="5668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阿芙乐尔”号巡洋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3:17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10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