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png" ContentType="image/png"/>
  <Override PartName="/ppt/media/image1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3E9F-5913-4F54-BA75-2B0C1E4C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4FD5-27F8-4B88-995E-CDD0B78E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782D-1845-4488-9F5B-8817C79E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7243-554E-4514-8F89-2A8DA132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7A5A-B217-4005-9E0E-43E192FF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740B-23DE-4C62-A13E-54994711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550F-CB66-4BBA-85F5-79977B31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DC4E-2EDE-4376-8274-CB4D484D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9831-9B0B-4331-9B99-B90963CF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2370-8092-43AA-B39E-B5F0F8A9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E253-40C0-4237-90FC-ADAC0072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E5E2-A55D-4325-ACFB-D6F2DA467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4BB9-ACEE-4FB1-B270-E681D9FD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02D2-82E9-4FE3-A156-AD3858EE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1450-CFC7-418D-A664-DE73B873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8CA3-562A-4583-91B5-4B7A8340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4204-3292-477A-98E8-F20888DF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266E-BF82-4CC1-850A-6FA4AF89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C335-DA80-4DD8-A256-CAD42544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83DF-9801-4932-8855-A7FE10FD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D2BB-94D9-4ECE-80A7-257717A6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17B5-9385-4833-901B-D40A46D7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6172-7E6C-4545-AA5E-6CAF64DB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E504-B077-49BC-8E40-B2643AAD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46DC-0FBA-4B3F-9322-7B3E1747D23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78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79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80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81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82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83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84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85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7c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</p:grpSp>
        <p:sp>
          <p:nvSpPr>
            <p:cNvPr id="86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87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88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89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90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91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grpSp>
          <p:nvGrpSpPr>
            <p:cNvPr id="92" name="Group 17"/>
            <p:cNvGrpSpPr/>
            <p:nvPr/>
          </p:nvGrpSpPr>
          <p:grpSpPr>
            <a:xfrm>
              <a:off x="4136040" y="1034640"/>
              <a:ext cx="1017000" cy="1263240"/>
              <a:chOff x="4136040" y="1034640"/>
              <a:chExt cx="1017000" cy="1263240"/>
            </a:xfrm>
          </p:grpSpPr>
          <p:sp>
            <p:nvSpPr>
              <p:cNvPr id="93" name="Freeform 18"/>
              <p:cNvSpPr/>
              <p:nvPr/>
            </p:nvSpPr>
            <p:spPr>
              <a:xfrm rot="3220200">
                <a:off x="4551840" y="107244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94" name="Freeform 19"/>
              <p:cNvSpPr/>
              <p:nvPr/>
            </p:nvSpPr>
            <p:spPr>
              <a:xfrm rot="3220200">
                <a:off x="4636440" y="160560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95" name="Freeform 20"/>
              <p:cNvSpPr/>
              <p:nvPr/>
            </p:nvSpPr>
            <p:spPr>
              <a:xfrm rot="3220200">
                <a:off x="4096440" y="196416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</p:grpSp>
        <p:grpSp>
          <p:nvGrpSpPr>
            <p:cNvPr id="96" name="Group 21"/>
            <p:cNvGrpSpPr/>
            <p:nvPr/>
          </p:nvGrpSpPr>
          <p:grpSpPr>
            <a:xfrm>
              <a:off x="5640480" y="293040"/>
              <a:ext cx="888840" cy="833760"/>
              <a:chOff x="5640480" y="293040"/>
              <a:chExt cx="888840" cy="833760"/>
            </a:xfrm>
          </p:grpSpPr>
          <p:sp>
            <p:nvSpPr>
              <p:cNvPr id="97" name="Freeform 22"/>
              <p:cNvSpPr/>
              <p:nvPr/>
            </p:nvSpPr>
            <p:spPr>
              <a:xfrm rot="14908200">
                <a:off x="5751720" y="79668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98" name="Freeform 23"/>
              <p:cNvSpPr/>
              <p:nvPr/>
            </p:nvSpPr>
            <p:spPr>
              <a:xfrm rot="14908200">
                <a:off x="5700600" y="47628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 rot="14908200">
                <a:off x="6239520" y="393480"/>
                <a:ext cx="32004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</p:grpSp>
        <p:grpSp>
          <p:nvGrpSpPr>
            <p:cNvPr id="100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1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102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103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</p:grpSp>
        <p:grpSp>
          <p:nvGrpSpPr>
            <p:cNvPr id="104" name="Group 29"/>
            <p:cNvGrpSpPr/>
            <p:nvPr/>
          </p:nvGrpSpPr>
          <p:grpSpPr>
            <a:xfrm>
              <a:off x="354600" y="428400"/>
              <a:ext cx="1693080" cy="1148040"/>
              <a:chOff x="354600" y="428400"/>
              <a:chExt cx="1693080" cy="1148040"/>
            </a:xfrm>
          </p:grpSpPr>
          <p:sp>
            <p:nvSpPr>
              <p:cNvPr id="105" name="Freeform 30"/>
              <p:cNvSpPr/>
              <p:nvPr/>
            </p:nvSpPr>
            <p:spPr>
              <a:xfrm flipH="1" rot="4107000">
                <a:off x="1557000" y="104796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106" name="Freeform 31"/>
              <p:cNvSpPr/>
              <p:nvPr/>
            </p:nvSpPr>
            <p:spPr>
              <a:xfrm flipH="1" rot="4107000">
                <a:off x="1002960" y="572040"/>
                <a:ext cx="60948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107" name="Freeform 32"/>
              <p:cNvSpPr/>
              <p:nvPr/>
            </p:nvSpPr>
            <p:spPr>
              <a:xfrm flipH="1" rot="4107000">
                <a:off x="257040" y="1086480"/>
                <a:ext cx="637200" cy="225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</p:grpSp>
        <p:grpSp>
          <p:nvGrpSpPr>
            <p:cNvPr id="108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09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110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  <p:sp>
            <p:nvSpPr>
              <p:cNvPr id="111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905c01"/>
                  </a:solidFill>
                  <a:latin typeface="Verdana"/>
                </a:endParaRPr>
              </a:p>
            </p:txBody>
          </p:sp>
        </p:grpSp>
        <p:sp>
          <p:nvSpPr>
            <p:cNvPr id="112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113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114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115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116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117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118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05c01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7CD2-70B2-4989-9036-D2196390C2B8}" type="slidenum">
              <a:rPr b="0" lang="en-US" sz="1400" spc="-1" strike="noStrike">
                <a:solidFill>
                  <a:srgbClr val="905c01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5" descr="放大镜（2）"/>
          <p:cNvPicPr/>
          <p:nvPr/>
        </p:nvPicPr>
        <p:blipFill>
          <a:blip r:embed="rId1"/>
          <a:stretch/>
        </p:blipFill>
        <p:spPr>
          <a:xfrm>
            <a:off x="2573280" y="2889360"/>
            <a:ext cx="4032360" cy="3025800"/>
          </a:xfrm>
          <a:prstGeom prst="rect">
            <a:avLst/>
          </a:prstGeom>
          <a:ln w="0">
            <a:noFill/>
          </a:ln>
        </p:spPr>
      </p:pic>
      <p:pic>
        <p:nvPicPr>
          <p:cNvPr id="159" name="矩形 3" descr=""/>
          <p:cNvPicPr/>
          <p:nvPr/>
        </p:nvPicPr>
        <p:blipFill>
          <a:blip r:embed="rId2"/>
          <a:stretch/>
        </p:blipFill>
        <p:spPr>
          <a:xfrm>
            <a:off x="1816200" y="1052640"/>
            <a:ext cx="5709960" cy="96048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05c01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905c01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8"/>
          <p:cNvGrpSpPr/>
          <p:nvPr/>
        </p:nvGrpSpPr>
        <p:grpSpPr>
          <a:xfrm>
            <a:off x="1368360" y="2600280"/>
            <a:ext cx="5399280" cy="1981080"/>
            <a:chOff x="1368360" y="2600280"/>
            <a:chExt cx="5399280" cy="1981080"/>
          </a:xfrm>
        </p:grpSpPr>
        <p:sp>
          <p:nvSpPr>
            <p:cNvPr id="193" name="AutoShape 5"/>
            <p:cNvSpPr/>
            <p:nvPr/>
          </p:nvSpPr>
          <p:spPr>
            <a:xfrm>
              <a:off x="1368360" y="2600280"/>
              <a:ext cx="5399280" cy="198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905c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905c01"/>
                </a:solidFill>
                <a:latin typeface="Verdana"/>
              </a:endParaRPr>
            </a:p>
          </p:txBody>
        </p:sp>
        <p:sp>
          <p:nvSpPr>
            <p:cNvPr id="194" name="Rectangle 3"/>
            <p:cNvSpPr/>
            <p:nvPr/>
          </p:nvSpPr>
          <p:spPr>
            <a:xfrm>
              <a:off x="1655640" y="2744640"/>
              <a:ext cx="4824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905c01"/>
                  </a:solidFill>
                  <a:latin typeface="Verdana"/>
                  <a:ea typeface="楷体_GB2312"/>
                </a:rPr>
                <a:t>      </a:t>
              </a:r>
              <a:r>
                <a:rPr b="1" lang="zh-CN" sz="2600" spc="-1" strike="noStrike">
                  <a:solidFill>
                    <a:srgbClr val="905c01"/>
                  </a:solidFill>
                  <a:latin typeface="Verdana"/>
                  <a:ea typeface="楷体_GB2312"/>
                </a:rPr>
                <a:t>放大镜镜片的特点是透明和中间较厚（凸起）。放大镜广泛应用在人们生活生产的许多方面。</a:t>
              </a:r>
              <a:endParaRPr b="1" lang="en-US" sz="2600" spc="-1" strike="noStrike">
                <a:solidFill>
                  <a:srgbClr val="905c01"/>
                </a:solidFill>
                <a:latin typeface="Verdana"/>
              </a:endParaRPr>
            </a:p>
          </p:txBody>
        </p:sp>
      </p:grpSp>
      <p:pic>
        <p:nvPicPr>
          <p:cNvPr id="195" name="Picture 6" descr="学生 男3"/>
          <p:cNvPicPr/>
          <p:nvPr/>
        </p:nvPicPr>
        <p:blipFill>
          <a:blip r:embed="rId2"/>
          <a:stretch/>
        </p:blipFill>
        <p:spPr>
          <a:xfrm>
            <a:off x="6804000" y="3681360"/>
            <a:ext cx="1957320" cy="20606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7"/>
          <p:cNvSpPr/>
          <p:nvPr/>
        </p:nvSpPr>
        <p:spPr>
          <a:xfrm>
            <a:off x="719280" y="1592280"/>
            <a:ext cx="347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放大镜的特点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719280" y="2349360"/>
            <a:ext cx="756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Arial"/>
                <a:ea typeface="楷体_GB2312"/>
              </a:rPr>
              <a:t>一般我们把中间厚、边缘薄的镜片叫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凸透镜。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719280" y="4508640"/>
            <a:ext cx="763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Arial"/>
                <a:ea typeface="楷体_GB2312"/>
              </a:rPr>
              <a:t>把中间薄、边缘厚的镜片叫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凹透镜。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719280" y="3284640"/>
            <a:ext cx="655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05c01"/>
                </a:solidFill>
                <a:latin typeface="Arial"/>
                <a:ea typeface="楷体_GB2312"/>
              </a:rPr>
              <a:t>       </a:t>
            </a:r>
            <a:r>
              <a:rPr b="1" lang="zh-CN" sz="2600" spc="-1" strike="noStrike">
                <a:solidFill>
                  <a:srgbClr val="905c01"/>
                </a:solidFill>
                <a:latin typeface="Arial"/>
                <a:ea typeface="楷体_GB2312"/>
              </a:rPr>
              <a:t>因为凸透镜有放大的功能，所以在生活中人们常常把它叫做放大镜。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201" name="Picture 6" descr="学生 女3"/>
          <p:cNvPicPr/>
          <p:nvPr/>
        </p:nvPicPr>
        <p:blipFill>
          <a:blip r:embed="rId2"/>
          <a:stretch/>
        </p:blipFill>
        <p:spPr>
          <a:xfrm>
            <a:off x="6624720" y="3968640"/>
            <a:ext cx="1573200" cy="1656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8"/>
          <p:cNvSpPr/>
          <p:nvPr/>
        </p:nvSpPr>
        <p:spPr>
          <a:xfrm>
            <a:off x="719280" y="1592280"/>
            <a:ext cx="347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放大镜的特点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05c01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0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A5BC-0BE1-42B2-B103-73E03B98FAB7}" type="slidenum">
              <a:rPr b="0" lang="zh-CN" sz="1400" spc="-1" strike="noStrike">
                <a:solidFill>
                  <a:srgbClr val="905c01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3"/>
          <p:cNvSpPr/>
          <p:nvPr/>
        </p:nvSpPr>
        <p:spPr>
          <a:xfrm>
            <a:off x="719280" y="1521000"/>
            <a:ext cx="511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凹透镜和凸透镜有何应用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719280" y="2276640"/>
            <a:ext cx="8029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由透明材料（如玻璃、水晶、透明塑料等）磨制成的两个折射面都是球面，或一面是球面另一面是平面的透明体，叫做透镜。透镜可分为凸透镜和凹透镜两大类。凸透镜的中央部分比边缘厚，有会聚光线的作用，又叫会聚透镜；凹透镜的中央部分比边缘薄，有发散光线的作用，又叫发散透镜。光线通过透镜会聚的点叫焦点，焦点与透镜中心间的距离叫焦距，焦距越小，会聚（凸透镜）或发散（凹透镜）光线的本领越大，因此可用焦距的倒数表示透镜的折光本领，眼镜的度数就是通过焦距的倒数乘以</a:t>
            </a:r>
            <a:r>
              <a:rPr b="1" lang="en-US" sz="24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905c01"/>
                </a:solidFill>
                <a:latin typeface="楷体_GB2312"/>
                <a:ea typeface="楷体_GB2312"/>
              </a:rPr>
              <a:t>来计算的。 凹透镜可以做近视镜，也可以用来制作显微镜、望远镜。凸透镜可以做放大镜、老花镜、人工晶体、取火用（阳光下聚焦）、显微镜、望远镜等。我国早在西汉时期就有人用冰作为透镜来生火了。 </a:t>
            </a:r>
            <a:endParaRPr b="1" lang="en-US" sz="24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未标题-1_03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3492360" y="5516640"/>
            <a:ext cx="223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放大镜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63" name="Picture 8" descr="放大镜（3）"/>
          <p:cNvPicPr/>
          <p:nvPr/>
        </p:nvPicPr>
        <p:blipFill>
          <a:blip r:embed="rId2"/>
          <a:stretch/>
        </p:blipFill>
        <p:spPr>
          <a:xfrm>
            <a:off x="2340000" y="1521000"/>
            <a:ext cx="4532400" cy="395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未标题-1_03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0"/>
          <p:cNvSpPr/>
          <p:nvPr/>
        </p:nvSpPr>
        <p:spPr>
          <a:xfrm>
            <a:off x="1008000" y="5481720"/>
            <a:ext cx="691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imes New Roman"/>
                <a:ea typeface="楷体_GB2312"/>
              </a:rPr>
              <a:t>放大镜倍数不同的放大镜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66" name="Picture 64" descr="1101D"/>
          <p:cNvPicPr/>
          <p:nvPr/>
        </p:nvPicPr>
        <p:blipFill>
          <a:blip r:embed="rId2"/>
          <a:stretch/>
        </p:blipFill>
        <p:spPr>
          <a:xfrm>
            <a:off x="2087640" y="1881360"/>
            <a:ext cx="4716360" cy="34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未标题-1_03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6"/>
          <p:cNvSpPr/>
          <p:nvPr/>
        </p:nvSpPr>
        <p:spPr>
          <a:xfrm>
            <a:off x="2340000" y="5553000"/>
            <a:ext cx="471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Times New Roman"/>
                <a:ea typeface="楷体_GB2312"/>
              </a:rPr>
              <a:t>能放大物体的仪器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69" name="Picture 40" descr="1104D"/>
          <p:cNvPicPr/>
          <p:nvPr/>
        </p:nvPicPr>
        <p:blipFill>
          <a:blip r:embed="rId2"/>
          <a:stretch/>
        </p:blipFill>
        <p:spPr>
          <a:xfrm>
            <a:off x="1943280" y="1665360"/>
            <a:ext cx="5221080" cy="37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5"/>
          <p:cNvSpPr/>
          <p:nvPr/>
        </p:nvSpPr>
        <p:spPr>
          <a:xfrm>
            <a:off x="719280" y="1521000"/>
            <a:ext cx="4808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为什么要用放大镜观察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72" name="Text Box 117"/>
          <p:cNvSpPr/>
          <p:nvPr/>
        </p:nvSpPr>
        <p:spPr>
          <a:xfrm>
            <a:off x="719280" y="2168640"/>
            <a:ext cx="720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有哪些工作需要经常用到放大镜？放大镜的作用是什么？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73" name="Picture 118" descr="图片1"/>
          <p:cNvPicPr/>
          <p:nvPr/>
        </p:nvPicPr>
        <p:blipFill>
          <a:blip r:embed="rId2"/>
          <a:stretch/>
        </p:blipFill>
        <p:spPr>
          <a:xfrm>
            <a:off x="1763640" y="3249720"/>
            <a:ext cx="5977080" cy="2960640"/>
          </a:xfrm>
          <a:prstGeom prst="rect">
            <a:avLst/>
          </a:prstGeom>
          <a:ln w="0">
            <a:noFill/>
          </a:ln>
        </p:spPr>
      </p:pic>
      <p:sp>
        <p:nvSpPr>
          <p:cNvPr id="174" name="文本框 8200"/>
          <p:cNvSpPr/>
          <p:nvPr/>
        </p:nvSpPr>
        <p:spPr>
          <a:xfrm>
            <a:off x="2668680" y="11127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17cd00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1" lang="zh-CN" sz="1600" spc="-1" strike="noStrike">
                <a:solidFill>
                  <a:srgbClr val="905c01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905c01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4"/>
          <p:cNvSpPr/>
          <p:nvPr/>
        </p:nvSpPr>
        <p:spPr>
          <a:xfrm>
            <a:off x="719280" y="1484280"/>
            <a:ext cx="347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放大镜下的新发现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77" name="Picture 16" descr="图片2"/>
          <p:cNvPicPr/>
          <p:nvPr/>
        </p:nvPicPr>
        <p:blipFill>
          <a:blip r:embed="rId2"/>
          <a:stretch/>
        </p:blipFill>
        <p:spPr>
          <a:xfrm>
            <a:off x="1547640" y="1989000"/>
            <a:ext cx="5688360" cy="37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719280" y="1592280"/>
            <a:ext cx="347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放大镜下的新发现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80" name="Picture 4" descr="1103D"/>
          <p:cNvPicPr/>
          <p:nvPr/>
        </p:nvPicPr>
        <p:blipFill>
          <a:blip r:embed="rId2"/>
          <a:stretch/>
        </p:blipFill>
        <p:spPr>
          <a:xfrm>
            <a:off x="2303640" y="3141720"/>
            <a:ext cx="4066920" cy="29527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719280" y="2133720"/>
            <a:ext cx="7616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用眼睛看科学书上的一副图片，再用放大镜观察这幅图片，两次观察获得的信息有什么不同？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4"/>
          <p:cNvSpPr/>
          <p:nvPr/>
        </p:nvSpPr>
        <p:spPr>
          <a:xfrm>
            <a:off x="719280" y="2241720"/>
            <a:ext cx="730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用放大镜观察印刷物上的照片和电视机、计算机的屏幕。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719280" y="3284640"/>
            <a:ext cx="594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用放大镜观察印刷物上的照片和电视机、计算机的屏幕，观察的结果是不仅图像放大了，而且还会发现肉眼不能发现的秘密，那就是图像是由色彩点组成的。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85" name="Picture 6" descr="学生 男3"/>
          <p:cNvPicPr/>
          <p:nvPr/>
        </p:nvPicPr>
        <p:blipFill>
          <a:blip r:embed="rId2"/>
          <a:stretch/>
        </p:blipFill>
        <p:spPr>
          <a:xfrm>
            <a:off x="6732720" y="3608280"/>
            <a:ext cx="1957320" cy="20606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719280" y="1592280"/>
            <a:ext cx="347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放大镜下的新发现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未标题-1_06"/>
          <p:cNvPicPr/>
          <p:nvPr/>
        </p:nvPicPr>
        <p:blipFill>
          <a:blip r:embed="rId1"/>
          <a:stretch/>
        </p:blipFill>
        <p:spPr>
          <a:xfrm>
            <a:off x="685800" y="743040"/>
            <a:ext cx="1847880" cy="704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719280" y="1592280"/>
            <a:ext cx="347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放大镜的特点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719280" y="2276640"/>
            <a:ext cx="7581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      </a:t>
            </a:r>
            <a:r>
              <a:rPr b="1" lang="zh-CN" sz="2600" spc="-1" strike="noStrike">
                <a:solidFill>
                  <a:srgbClr val="905c01"/>
                </a:solidFill>
                <a:latin typeface="Verdana"/>
                <a:ea typeface="楷体_GB2312"/>
              </a:rPr>
              <a:t>放大镜为什么能放大物体的图像呢？我们注意到了它的特点了吗？什么样的放大镜放大倍数比较大呢？</a:t>
            </a:r>
            <a:endParaRPr b="1" lang="en-US" sz="2600" spc="-1" strike="noStrike">
              <a:solidFill>
                <a:srgbClr val="905c01"/>
              </a:solidFill>
              <a:latin typeface="Verdana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2411280" y="3176640"/>
            <a:ext cx="3816360" cy="30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02:39:1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2:30Z</dcterms:modified>
  <cp:revision>1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