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gif" ContentType="image/gif"/>
  <Override PartName="/ppt/media/image9.gif" ContentType="image/gif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8EF-9D58-4305-80DC-18AB80F3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582-CE52-4922-A6FA-38A693D0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EB5D9-34D8-4D1B-B01D-3A64C73A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DD8F0-A891-424D-B17A-BAC5FB17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0A57A-F566-47CA-84C4-71B156F2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B4936-76E1-4B51-B865-D25FF6E0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659F3-B4D8-458D-ACF1-82B888D4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1B0A1-6DE1-4079-AD07-1F9E6CE6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8D398-2368-4CC3-85D2-B3816786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63D2B-8068-49B0-8D60-9DE709DB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E0BE1-3A32-465D-962D-7158395F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1E0-51E0-4B9B-BF6A-00DF2915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D00C-8282-43A9-95DE-E76FE412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EE72-0371-419A-B07B-26DE6F07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1CE0-59E3-4324-8ACE-9D95DC21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1357-87F8-40BD-AD06-2F6BD873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09F4-3D36-4D3D-9568-E77429F6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FDAB-14B7-437C-8D48-A8A22E5A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5D9F-DF2C-431F-94BC-2021C6D6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1E76-F2B5-4E50-B1F6-C5D77039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975-6107-4C55-BCF3-C19B0BF5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AD49-AC07-46C3-90FC-E77E086F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B106-2F3C-40BA-86DC-D744A806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A43F-7B33-4519-89DF-4CE5EED0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EA08-3799-4B0C-8C64-44AE5AFE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C515-D5FF-4BAA-8E51-041D03F1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C03D7-69B1-443F-AEDF-AA000FA8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62E3D-2193-4187-900E-D1CEDDD1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F50FA-F647-4AC0-B19A-C88DC25D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C2D61-0EB6-4BE6-BE3C-17B34390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E381D-DD4E-4321-BEEE-29B2897A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F6AD-A1FF-4A7D-85BE-85FAB5D8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AC1FB-AA31-4802-B5A2-42FAA167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B3A56-3FA0-4E40-852C-6ECEDB62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4A988-1252-4BF4-BAC9-9BB01271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FA1CB-C5B3-444C-90A4-B1472962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74BDA-3E2E-4697-9BDB-C9C3E32E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274C2-8099-439A-AF30-30A080FA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BDB3E-99E6-4FA9-BFC2-DF13B0CD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B0185-4153-4C1F-9D66-7BBAB7AE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0B415-52C5-48EE-873B-61DB3291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A9BF8-4524-49C8-84F6-D73B7A6B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CE7-1096-4DA6-AEFE-9A321FD4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D6923-FC68-4FC1-92F7-9A69C7A3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B3583-DEA3-4F28-905E-D0B81066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65A85-2BF9-45E6-811D-7BB32876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E7B0F-96EA-453D-8513-79E5BD8A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3C193-CB7B-4D9F-87FC-EE70524C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80143-07EF-46FD-ACCC-9A21B0A7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2EA20-31F8-401C-9E43-1996393A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EEC38-2462-4A19-9D68-FF093E93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70484-7FAA-4471-922A-BF06737E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80E10F-31F1-4E6D-BDC8-8E122946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9F0-66E1-4645-AB93-58207F8B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215C7D-4A80-421A-98D0-F058B135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53001-06E7-4A76-85DD-9497E3A5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A7E9F-DD47-44D3-887B-584DB11A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C37CA-CEAC-45B9-AA8E-3362F125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FC439-09CA-4A40-878A-24EAA003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CC1A30-0751-45B3-A654-E87DA278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D12B24-9521-4D67-BC89-3BACAD61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552FAA-C281-45A2-A5A9-94D9CCC9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2C70EB-29C4-4E04-9929-9901F143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1E299-E95A-49F3-B7A6-111EF6EB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290A-E204-42CD-B8E3-EB0E41EA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157298-B5B6-4BB6-BAAF-08C68784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2C0C9-B77A-4299-BCDA-E0ACD896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0C20A-B540-4CB4-8025-7950165D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73485-DC31-4D13-A4E8-2D1F99A0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6A182-1370-498C-8A5B-F13F4B0D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35CA0-4CC4-4ED5-8EFF-DAC136C7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270D8-ADD5-45A5-935E-44B9BECE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DF1AC-1B82-46D3-9418-425B8BB4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B5B61-1F85-4E4A-8791-C8476924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8415E-390E-46C7-A618-17575BBE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A20-A445-46FF-B90F-44793CAE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8F8D7-F5FA-4798-8D1E-C8660DCB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66B3C-9ADD-42EE-841E-FC595FBE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1721C-73CE-483A-AF88-48AE13F8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44370-584D-40FB-8F79-B13F2BDB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5D866-281A-4399-ACE7-E7A9EE3E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BE89F-C48D-43CC-BA55-14C14E26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C9D28-5251-4636-8BE6-A90AD62A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1F50F-534A-4901-A192-FD09B6F7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54365-2B5A-4D93-A789-A7066DF5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84562-D56E-43DF-9D6E-76C4A185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237-17C8-45DE-90A6-0E37411F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161E0-337B-4133-BECC-078597FF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E4216-91CD-470A-B755-6E4EC27E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F1C96-87F3-4BE6-97F3-A6289595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1BAFF-FA0F-48CD-BE50-8956A28C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6C0EE-0639-4008-A67F-E61D7842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57EB5-01CC-451B-AB6D-06DDAED3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C2A80-BA3D-41F4-AF75-09A3C8B3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A62FC-4D1D-4259-9AE0-0F0E2C38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2173F-9336-41E3-B958-950D6264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1B23E-9085-4EE7-B238-148E7FF2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C1E-27F5-47AB-A995-659BADB2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4B4BE-E720-4BE4-8823-D29B77CF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76299-C407-44E3-BD28-85300623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734DD-4752-49E0-8BA7-4036EEEC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F7E1C-5A80-4C35-99EE-CA451F5E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9FB57-16BF-47AB-9E28-E5C6C096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4F933-325C-4C15-AE37-5D67E47B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B5019-F069-46CE-ACAB-D40EADBA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41DAD-A9BD-4B32-A7EE-DAEE61EE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6FF42-31F0-4D50-A913-00EDAAFE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21406-8EEB-4C63-9125-A70A2884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E4AA-0F2F-489D-973C-6B21972B91B5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1157-1D21-4D03-B722-F47C8690955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300"/>
          <p:cNvSpPr/>
          <p:nvPr/>
        </p:nvSpPr>
        <p:spPr>
          <a:xfrm>
            <a:off x="2603520" y="-4680"/>
            <a:ext cx="720720" cy="1089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42"/>
          <p:cNvSpPr/>
          <p:nvPr/>
        </p:nvSpPr>
        <p:spPr>
          <a:xfrm>
            <a:off x="468360" y="0"/>
            <a:ext cx="612720" cy="3068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361"/>
          <p:cNvSpPr/>
          <p:nvPr/>
        </p:nvSpPr>
        <p:spPr>
          <a:xfrm>
            <a:off x="863640" y="7920"/>
            <a:ext cx="569880" cy="2058840"/>
          </a:xfrm>
          <a:custGeom>
            <a:avLst/>
            <a:gdLst/>
            <a:ahLst/>
            <a:rect l="l" t="t" r="r" b="b"/>
            <a:pathLst>
              <a:path w="359" h="1297">
                <a:moveTo>
                  <a:pt x="0" y="0"/>
                </a:moveTo>
                <a:cubicBezTo>
                  <a:pt x="21" y="112"/>
                  <a:pt x="42" y="224"/>
                  <a:pt x="68" y="341"/>
                </a:cubicBezTo>
                <a:cubicBezTo>
                  <a:pt x="94" y="458"/>
                  <a:pt x="114" y="595"/>
                  <a:pt x="159" y="704"/>
                </a:cubicBezTo>
                <a:cubicBezTo>
                  <a:pt x="204" y="813"/>
                  <a:pt x="321" y="907"/>
                  <a:pt x="340" y="998"/>
                </a:cubicBezTo>
                <a:cubicBezTo>
                  <a:pt x="359" y="1089"/>
                  <a:pt x="310" y="1199"/>
                  <a:pt x="272" y="1248"/>
                </a:cubicBezTo>
                <a:cubicBezTo>
                  <a:pt x="234" y="1297"/>
                  <a:pt x="151" y="1297"/>
                  <a:pt x="113" y="1293"/>
                </a:cubicBezTo>
                <a:cubicBezTo>
                  <a:pt x="75" y="1289"/>
                  <a:pt x="56" y="1255"/>
                  <a:pt x="45" y="1225"/>
                </a:cubicBezTo>
                <a:cubicBezTo>
                  <a:pt x="34" y="1195"/>
                  <a:pt x="34" y="1142"/>
                  <a:pt x="45" y="1112"/>
                </a:cubicBezTo>
                <a:cubicBezTo>
                  <a:pt x="56" y="1082"/>
                  <a:pt x="83" y="1055"/>
                  <a:pt x="113" y="1044"/>
                </a:cubicBezTo>
                <a:cubicBezTo>
                  <a:pt x="143" y="1033"/>
                  <a:pt x="201" y="1029"/>
                  <a:pt x="227" y="1044"/>
                </a:cubicBezTo>
                <a:cubicBezTo>
                  <a:pt x="253" y="1059"/>
                  <a:pt x="268" y="1104"/>
                  <a:pt x="272" y="1134"/>
                </a:cubicBezTo>
                <a:cubicBezTo>
                  <a:pt x="276" y="1164"/>
                  <a:pt x="268" y="1206"/>
                  <a:pt x="249" y="1225"/>
                </a:cubicBezTo>
                <a:cubicBezTo>
                  <a:pt x="230" y="1244"/>
                  <a:pt x="185" y="1252"/>
                  <a:pt x="159" y="1248"/>
                </a:cubicBezTo>
                <a:cubicBezTo>
                  <a:pt x="133" y="1244"/>
                  <a:pt x="102" y="1221"/>
                  <a:pt x="91" y="1202"/>
                </a:cubicBezTo>
                <a:cubicBezTo>
                  <a:pt x="80" y="1183"/>
                  <a:pt x="84" y="1153"/>
                  <a:pt x="91" y="1134"/>
                </a:cubicBezTo>
                <a:cubicBezTo>
                  <a:pt x="98" y="1115"/>
                  <a:pt x="117" y="1097"/>
                  <a:pt x="136" y="1089"/>
                </a:cubicBezTo>
                <a:cubicBezTo>
                  <a:pt x="155" y="1081"/>
                  <a:pt x="189" y="1078"/>
                  <a:pt x="204" y="1089"/>
                </a:cubicBezTo>
                <a:cubicBezTo>
                  <a:pt x="219" y="1100"/>
                  <a:pt x="231" y="1138"/>
                  <a:pt x="227" y="1157"/>
                </a:cubicBezTo>
                <a:cubicBezTo>
                  <a:pt x="223" y="1176"/>
                  <a:pt x="196" y="1195"/>
                  <a:pt x="181" y="1202"/>
                </a:cubicBezTo>
                <a:cubicBezTo>
                  <a:pt x="166" y="1209"/>
                  <a:pt x="147" y="1209"/>
                  <a:pt x="136" y="1202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Freeform 362"/>
          <p:cNvSpPr/>
          <p:nvPr/>
        </p:nvSpPr>
        <p:spPr>
          <a:xfrm>
            <a:off x="1150920" y="981000"/>
            <a:ext cx="546120" cy="455760"/>
          </a:xfrm>
          <a:custGeom>
            <a:avLst/>
            <a:gdLst/>
            <a:ahLst/>
            <a:rect l="l" t="t" r="r" b="b"/>
            <a:pathLst>
              <a:path w="344" h="287">
                <a:moveTo>
                  <a:pt x="0" y="132"/>
                </a:moveTo>
                <a:cubicBezTo>
                  <a:pt x="43" y="190"/>
                  <a:pt x="87" y="249"/>
                  <a:pt x="136" y="268"/>
                </a:cubicBezTo>
                <a:cubicBezTo>
                  <a:pt x="185" y="287"/>
                  <a:pt x="261" y="269"/>
                  <a:pt x="295" y="246"/>
                </a:cubicBezTo>
                <a:cubicBezTo>
                  <a:pt x="329" y="223"/>
                  <a:pt x="336" y="170"/>
                  <a:pt x="340" y="132"/>
                </a:cubicBezTo>
                <a:cubicBezTo>
                  <a:pt x="344" y="94"/>
                  <a:pt x="336" y="38"/>
                  <a:pt x="317" y="19"/>
                </a:cubicBezTo>
                <a:cubicBezTo>
                  <a:pt x="298" y="0"/>
                  <a:pt x="253" y="11"/>
                  <a:pt x="227" y="19"/>
                </a:cubicBezTo>
                <a:cubicBezTo>
                  <a:pt x="201" y="27"/>
                  <a:pt x="170" y="37"/>
                  <a:pt x="159" y="64"/>
                </a:cubicBezTo>
                <a:cubicBezTo>
                  <a:pt x="148" y="91"/>
                  <a:pt x="152" y="152"/>
                  <a:pt x="159" y="178"/>
                </a:cubicBezTo>
                <a:cubicBezTo>
                  <a:pt x="166" y="204"/>
                  <a:pt x="185" y="215"/>
                  <a:pt x="204" y="223"/>
                </a:cubicBezTo>
                <a:cubicBezTo>
                  <a:pt x="223" y="231"/>
                  <a:pt x="257" y="234"/>
                  <a:pt x="272" y="223"/>
                </a:cubicBezTo>
                <a:cubicBezTo>
                  <a:pt x="287" y="212"/>
                  <a:pt x="291" y="178"/>
                  <a:pt x="295" y="155"/>
                </a:cubicBezTo>
                <a:cubicBezTo>
                  <a:pt x="299" y="132"/>
                  <a:pt x="306" y="102"/>
                  <a:pt x="295" y="87"/>
                </a:cubicBezTo>
                <a:cubicBezTo>
                  <a:pt x="284" y="72"/>
                  <a:pt x="242" y="57"/>
                  <a:pt x="227" y="64"/>
                </a:cubicBezTo>
                <a:cubicBezTo>
                  <a:pt x="212" y="71"/>
                  <a:pt x="200" y="117"/>
                  <a:pt x="204" y="132"/>
                </a:cubicBezTo>
                <a:cubicBezTo>
                  <a:pt x="208" y="147"/>
                  <a:pt x="256" y="155"/>
                  <a:pt x="249" y="155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363"/>
          <p:cNvSpPr/>
          <p:nvPr/>
        </p:nvSpPr>
        <p:spPr>
          <a:xfrm>
            <a:off x="1547640" y="7920"/>
            <a:ext cx="360360" cy="541440"/>
          </a:xfrm>
          <a:custGeom>
            <a:avLst/>
            <a:gdLst/>
            <a:ahLst/>
            <a:rect l="l" t="t" r="r" b="b"/>
            <a:pathLst>
              <a:path w="344" h="507">
                <a:moveTo>
                  <a:pt x="45" y="0"/>
                </a:moveTo>
                <a:cubicBezTo>
                  <a:pt x="37" y="44"/>
                  <a:pt x="30" y="88"/>
                  <a:pt x="23" y="137"/>
                </a:cubicBezTo>
                <a:cubicBezTo>
                  <a:pt x="16" y="186"/>
                  <a:pt x="0" y="246"/>
                  <a:pt x="0" y="295"/>
                </a:cubicBezTo>
                <a:cubicBezTo>
                  <a:pt x="0" y="344"/>
                  <a:pt x="4" y="397"/>
                  <a:pt x="23" y="431"/>
                </a:cubicBezTo>
                <a:cubicBezTo>
                  <a:pt x="42" y="465"/>
                  <a:pt x="72" y="491"/>
                  <a:pt x="113" y="499"/>
                </a:cubicBezTo>
                <a:cubicBezTo>
                  <a:pt x="154" y="507"/>
                  <a:pt x="234" y="503"/>
                  <a:pt x="272" y="477"/>
                </a:cubicBezTo>
                <a:cubicBezTo>
                  <a:pt x="310" y="451"/>
                  <a:pt x="336" y="386"/>
                  <a:pt x="340" y="341"/>
                </a:cubicBezTo>
                <a:cubicBezTo>
                  <a:pt x="344" y="296"/>
                  <a:pt x="329" y="235"/>
                  <a:pt x="295" y="205"/>
                </a:cubicBezTo>
                <a:cubicBezTo>
                  <a:pt x="261" y="175"/>
                  <a:pt x="174" y="152"/>
                  <a:pt x="136" y="159"/>
                </a:cubicBezTo>
                <a:cubicBezTo>
                  <a:pt x="98" y="166"/>
                  <a:pt x="79" y="223"/>
                  <a:pt x="68" y="250"/>
                </a:cubicBezTo>
                <a:cubicBezTo>
                  <a:pt x="57" y="277"/>
                  <a:pt x="64" y="292"/>
                  <a:pt x="68" y="318"/>
                </a:cubicBezTo>
                <a:cubicBezTo>
                  <a:pt x="72" y="344"/>
                  <a:pt x="76" y="390"/>
                  <a:pt x="91" y="409"/>
                </a:cubicBezTo>
                <a:cubicBezTo>
                  <a:pt x="106" y="428"/>
                  <a:pt x="136" y="427"/>
                  <a:pt x="159" y="431"/>
                </a:cubicBezTo>
                <a:cubicBezTo>
                  <a:pt x="182" y="435"/>
                  <a:pt x="204" y="454"/>
                  <a:pt x="227" y="431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364"/>
          <p:cNvSpPr/>
          <p:nvPr/>
        </p:nvSpPr>
        <p:spPr>
          <a:xfrm>
            <a:off x="2400480" y="7920"/>
            <a:ext cx="226800" cy="1441440"/>
          </a:xfrm>
          <a:custGeom>
            <a:avLst/>
            <a:gdLst/>
            <a:ahLst/>
            <a:rect l="l" t="t" r="r" b="b"/>
            <a:pathLst>
              <a:path w="143" h="908">
                <a:moveTo>
                  <a:pt x="53" y="0"/>
                </a:moveTo>
                <a:cubicBezTo>
                  <a:pt x="79" y="13"/>
                  <a:pt x="106" y="27"/>
                  <a:pt x="98" y="114"/>
                </a:cubicBezTo>
                <a:cubicBezTo>
                  <a:pt x="90" y="201"/>
                  <a:pt x="14" y="409"/>
                  <a:pt x="7" y="522"/>
                </a:cubicBezTo>
                <a:cubicBezTo>
                  <a:pt x="0" y="635"/>
                  <a:pt x="30" y="730"/>
                  <a:pt x="53" y="794"/>
                </a:cubicBezTo>
                <a:cubicBezTo>
                  <a:pt x="76" y="858"/>
                  <a:pt x="109" y="883"/>
                  <a:pt x="143" y="908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365"/>
          <p:cNvSpPr/>
          <p:nvPr/>
        </p:nvSpPr>
        <p:spPr>
          <a:xfrm>
            <a:off x="3324240" y="7920"/>
            <a:ext cx="612720" cy="787320"/>
          </a:xfrm>
          <a:custGeom>
            <a:avLst/>
            <a:gdLst/>
            <a:ahLst/>
            <a:rect l="l" t="t" r="r" b="b"/>
            <a:pathLst>
              <a:path w="386" h="496">
                <a:moveTo>
                  <a:pt x="15" y="0"/>
                </a:moveTo>
                <a:cubicBezTo>
                  <a:pt x="7" y="98"/>
                  <a:pt x="0" y="197"/>
                  <a:pt x="15" y="273"/>
                </a:cubicBezTo>
                <a:cubicBezTo>
                  <a:pt x="30" y="349"/>
                  <a:pt x="65" y="420"/>
                  <a:pt x="106" y="454"/>
                </a:cubicBezTo>
                <a:cubicBezTo>
                  <a:pt x="147" y="488"/>
                  <a:pt x="219" y="496"/>
                  <a:pt x="264" y="477"/>
                </a:cubicBezTo>
                <a:cubicBezTo>
                  <a:pt x="309" y="458"/>
                  <a:pt x="370" y="390"/>
                  <a:pt x="378" y="341"/>
                </a:cubicBezTo>
                <a:cubicBezTo>
                  <a:pt x="386" y="292"/>
                  <a:pt x="344" y="208"/>
                  <a:pt x="310" y="182"/>
                </a:cubicBezTo>
                <a:cubicBezTo>
                  <a:pt x="276" y="156"/>
                  <a:pt x="204" y="163"/>
                  <a:pt x="174" y="182"/>
                </a:cubicBezTo>
                <a:cubicBezTo>
                  <a:pt x="144" y="201"/>
                  <a:pt x="124" y="261"/>
                  <a:pt x="128" y="295"/>
                </a:cubicBezTo>
                <a:cubicBezTo>
                  <a:pt x="132" y="329"/>
                  <a:pt x="166" y="375"/>
                  <a:pt x="196" y="386"/>
                </a:cubicBezTo>
                <a:cubicBezTo>
                  <a:pt x="226" y="397"/>
                  <a:pt x="291" y="389"/>
                  <a:pt x="310" y="363"/>
                </a:cubicBezTo>
                <a:cubicBezTo>
                  <a:pt x="329" y="337"/>
                  <a:pt x="352" y="268"/>
                  <a:pt x="310" y="22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AB22-8A2A-4BEC-9130-A7D0BB4ACD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7029-BE49-4E8E-A2D2-CED673B47F80}" type="datetime">
              <a:rPr b="0" lang="en-US" sz="1100" spc="-1" strike="noStrike">
                <a:solidFill>
                  <a:srgbClr val="f8f8f8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7FE1-0B2A-4AB9-BE09-ACBBB01E222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00"/>
          <p:cNvSpPr/>
          <p:nvPr/>
        </p:nvSpPr>
        <p:spPr>
          <a:xfrm>
            <a:off x="2603520" y="-4680"/>
            <a:ext cx="720720" cy="1089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42"/>
          <p:cNvSpPr/>
          <p:nvPr/>
        </p:nvSpPr>
        <p:spPr>
          <a:xfrm>
            <a:off x="468360" y="0"/>
            <a:ext cx="612720" cy="3068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61"/>
          <p:cNvSpPr/>
          <p:nvPr/>
        </p:nvSpPr>
        <p:spPr>
          <a:xfrm>
            <a:off x="863640" y="7920"/>
            <a:ext cx="569880" cy="2058840"/>
          </a:xfrm>
          <a:custGeom>
            <a:avLst/>
            <a:gdLst/>
            <a:ahLst/>
            <a:rect l="l" t="t" r="r" b="b"/>
            <a:pathLst>
              <a:path w="359" h="1297">
                <a:moveTo>
                  <a:pt x="0" y="0"/>
                </a:moveTo>
                <a:cubicBezTo>
                  <a:pt x="21" y="112"/>
                  <a:pt x="42" y="224"/>
                  <a:pt x="68" y="341"/>
                </a:cubicBezTo>
                <a:cubicBezTo>
                  <a:pt x="94" y="458"/>
                  <a:pt x="114" y="595"/>
                  <a:pt x="159" y="704"/>
                </a:cubicBezTo>
                <a:cubicBezTo>
                  <a:pt x="204" y="813"/>
                  <a:pt x="321" y="907"/>
                  <a:pt x="340" y="998"/>
                </a:cubicBezTo>
                <a:cubicBezTo>
                  <a:pt x="359" y="1089"/>
                  <a:pt x="310" y="1199"/>
                  <a:pt x="272" y="1248"/>
                </a:cubicBezTo>
                <a:cubicBezTo>
                  <a:pt x="234" y="1297"/>
                  <a:pt x="151" y="1297"/>
                  <a:pt x="113" y="1293"/>
                </a:cubicBezTo>
                <a:cubicBezTo>
                  <a:pt x="75" y="1289"/>
                  <a:pt x="56" y="1255"/>
                  <a:pt x="45" y="1225"/>
                </a:cubicBezTo>
                <a:cubicBezTo>
                  <a:pt x="34" y="1195"/>
                  <a:pt x="34" y="1142"/>
                  <a:pt x="45" y="1112"/>
                </a:cubicBezTo>
                <a:cubicBezTo>
                  <a:pt x="56" y="1082"/>
                  <a:pt x="83" y="1055"/>
                  <a:pt x="113" y="1044"/>
                </a:cubicBezTo>
                <a:cubicBezTo>
                  <a:pt x="143" y="1033"/>
                  <a:pt x="201" y="1029"/>
                  <a:pt x="227" y="1044"/>
                </a:cubicBezTo>
                <a:cubicBezTo>
                  <a:pt x="253" y="1059"/>
                  <a:pt x="268" y="1104"/>
                  <a:pt x="272" y="1134"/>
                </a:cubicBezTo>
                <a:cubicBezTo>
                  <a:pt x="276" y="1164"/>
                  <a:pt x="268" y="1206"/>
                  <a:pt x="249" y="1225"/>
                </a:cubicBezTo>
                <a:cubicBezTo>
                  <a:pt x="230" y="1244"/>
                  <a:pt x="185" y="1252"/>
                  <a:pt x="159" y="1248"/>
                </a:cubicBezTo>
                <a:cubicBezTo>
                  <a:pt x="133" y="1244"/>
                  <a:pt x="102" y="1221"/>
                  <a:pt x="91" y="1202"/>
                </a:cubicBezTo>
                <a:cubicBezTo>
                  <a:pt x="80" y="1183"/>
                  <a:pt x="84" y="1153"/>
                  <a:pt x="91" y="1134"/>
                </a:cubicBezTo>
                <a:cubicBezTo>
                  <a:pt x="98" y="1115"/>
                  <a:pt x="117" y="1097"/>
                  <a:pt x="136" y="1089"/>
                </a:cubicBezTo>
                <a:cubicBezTo>
                  <a:pt x="155" y="1081"/>
                  <a:pt x="189" y="1078"/>
                  <a:pt x="204" y="1089"/>
                </a:cubicBezTo>
                <a:cubicBezTo>
                  <a:pt x="219" y="1100"/>
                  <a:pt x="231" y="1138"/>
                  <a:pt x="227" y="1157"/>
                </a:cubicBezTo>
                <a:cubicBezTo>
                  <a:pt x="223" y="1176"/>
                  <a:pt x="196" y="1195"/>
                  <a:pt x="181" y="1202"/>
                </a:cubicBezTo>
                <a:cubicBezTo>
                  <a:pt x="166" y="1209"/>
                  <a:pt x="147" y="1209"/>
                  <a:pt x="136" y="1202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62"/>
          <p:cNvSpPr/>
          <p:nvPr/>
        </p:nvSpPr>
        <p:spPr>
          <a:xfrm>
            <a:off x="1150920" y="981000"/>
            <a:ext cx="546120" cy="455760"/>
          </a:xfrm>
          <a:custGeom>
            <a:avLst/>
            <a:gdLst/>
            <a:ahLst/>
            <a:rect l="l" t="t" r="r" b="b"/>
            <a:pathLst>
              <a:path w="344" h="287">
                <a:moveTo>
                  <a:pt x="0" y="132"/>
                </a:moveTo>
                <a:cubicBezTo>
                  <a:pt x="43" y="190"/>
                  <a:pt x="87" y="249"/>
                  <a:pt x="136" y="268"/>
                </a:cubicBezTo>
                <a:cubicBezTo>
                  <a:pt x="185" y="287"/>
                  <a:pt x="261" y="269"/>
                  <a:pt x="295" y="246"/>
                </a:cubicBezTo>
                <a:cubicBezTo>
                  <a:pt x="329" y="223"/>
                  <a:pt x="336" y="170"/>
                  <a:pt x="340" y="132"/>
                </a:cubicBezTo>
                <a:cubicBezTo>
                  <a:pt x="344" y="94"/>
                  <a:pt x="336" y="38"/>
                  <a:pt x="317" y="19"/>
                </a:cubicBezTo>
                <a:cubicBezTo>
                  <a:pt x="298" y="0"/>
                  <a:pt x="253" y="11"/>
                  <a:pt x="227" y="19"/>
                </a:cubicBezTo>
                <a:cubicBezTo>
                  <a:pt x="201" y="27"/>
                  <a:pt x="170" y="37"/>
                  <a:pt x="159" y="64"/>
                </a:cubicBezTo>
                <a:cubicBezTo>
                  <a:pt x="148" y="91"/>
                  <a:pt x="152" y="152"/>
                  <a:pt x="159" y="178"/>
                </a:cubicBezTo>
                <a:cubicBezTo>
                  <a:pt x="166" y="204"/>
                  <a:pt x="185" y="215"/>
                  <a:pt x="204" y="223"/>
                </a:cubicBezTo>
                <a:cubicBezTo>
                  <a:pt x="223" y="231"/>
                  <a:pt x="257" y="234"/>
                  <a:pt x="272" y="223"/>
                </a:cubicBezTo>
                <a:cubicBezTo>
                  <a:pt x="287" y="212"/>
                  <a:pt x="291" y="178"/>
                  <a:pt x="295" y="155"/>
                </a:cubicBezTo>
                <a:cubicBezTo>
                  <a:pt x="299" y="132"/>
                  <a:pt x="306" y="102"/>
                  <a:pt x="295" y="87"/>
                </a:cubicBezTo>
                <a:cubicBezTo>
                  <a:pt x="284" y="72"/>
                  <a:pt x="242" y="57"/>
                  <a:pt x="227" y="64"/>
                </a:cubicBezTo>
                <a:cubicBezTo>
                  <a:pt x="212" y="71"/>
                  <a:pt x="200" y="117"/>
                  <a:pt x="204" y="132"/>
                </a:cubicBezTo>
                <a:cubicBezTo>
                  <a:pt x="208" y="147"/>
                  <a:pt x="256" y="155"/>
                  <a:pt x="249" y="155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63"/>
          <p:cNvSpPr/>
          <p:nvPr/>
        </p:nvSpPr>
        <p:spPr>
          <a:xfrm>
            <a:off x="1547640" y="7920"/>
            <a:ext cx="360360" cy="541440"/>
          </a:xfrm>
          <a:custGeom>
            <a:avLst/>
            <a:gdLst/>
            <a:ahLst/>
            <a:rect l="l" t="t" r="r" b="b"/>
            <a:pathLst>
              <a:path w="344" h="507">
                <a:moveTo>
                  <a:pt x="45" y="0"/>
                </a:moveTo>
                <a:cubicBezTo>
                  <a:pt x="37" y="44"/>
                  <a:pt x="30" y="88"/>
                  <a:pt x="23" y="137"/>
                </a:cubicBezTo>
                <a:cubicBezTo>
                  <a:pt x="16" y="186"/>
                  <a:pt x="0" y="246"/>
                  <a:pt x="0" y="295"/>
                </a:cubicBezTo>
                <a:cubicBezTo>
                  <a:pt x="0" y="344"/>
                  <a:pt x="4" y="397"/>
                  <a:pt x="23" y="431"/>
                </a:cubicBezTo>
                <a:cubicBezTo>
                  <a:pt x="42" y="465"/>
                  <a:pt x="72" y="491"/>
                  <a:pt x="113" y="499"/>
                </a:cubicBezTo>
                <a:cubicBezTo>
                  <a:pt x="154" y="507"/>
                  <a:pt x="234" y="503"/>
                  <a:pt x="272" y="477"/>
                </a:cubicBezTo>
                <a:cubicBezTo>
                  <a:pt x="310" y="451"/>
                  <a:pt x="336" y="386"/>
                  <a:pt x="340" y="341"/>
                </a:cubicBezTo>
                <a:cubicBezTo>
                  <a:pt x="344" y="296"/>
                  <a:pt x="329" y="235"/>
                  <a:pt x="295" y="205"/>
                </a:cubicBezTo>
                <a:cubicBezTo>
                  <a:pt x="261" y="175"/>
                  <a:pt x="174" y="152"/>
                  <a:pt x="136" y="159"/>
                </a:cubicBezTo>
                <a:cubicBezTo>
                  <a:pt x="98" y="166"/>
                  <a:pt x="79" y="223"/>
                  <a:pt x="68" y="250"/>
                </a:cubicBezTo>
                <a:cubicBezTo>
                  <a:pt x="57" y="277"/>
                  <a:pt x="64" y="292"/>
                  <a:pt x="68" y="318"/>
                </a:cubicBezTo>
                <a:cubicBezTo>
                  <a:pt x="72" y="344"/>
                  <a:pt x="76" y="390"/>
                  <a:pt x="91" y="409"/>
                </a:cubicBezTo>
                <a:cubicBezTo>
                  <a:pt x="106" y="428"/>
                  <a:pt x="136" y="427"/>
                  <a:pt x="159" y="431"/>
                </a:cubicBezTo>
                <a:cubicBezTo>
                  <a:pt x="182" y="435"/>
                  <a:pt x="204" y="454"/>
                  <a:pt x="227" y="431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64"/>
          <p:cNvSpPr/>
          <p:nvPr/>
        </p:nvSpPr>
        <p:spPr>
          <a:xfrm>
            <a:off x="2400480" y="7920"/>
            <a:ext cx="226800" cy="1441440"/>
          </a:xfrm>
          <a:custGeom>
            <a:avLst/>
            <a:gdLst/>
            <a:ahLst/>
            <a:rect l="l" t="t" r="r" b="b"/>
            <a:pathLst>
              <a:path w="143" h="908">
                <a:moveTo>
                  <a:pt x="53" y="0"/>
                </a:moveTo>
                <a:cubicBezTo>
                  <a:pt x="79" y="13"/>
                  <a:pt x="106" y="27"/>
                  <a:pt x="98" y="114"/>
                </a:cubicBezTo>
                <a:cubicBezTo>
                  <a:pt x="90" y="201"/>
                  <a:pt x="14" y="409"/>
                  <a:pt x="7" y="522"/>
                </a:cubicBezTo>
                <a:cubicBezTo>
                  <a:pt x="0" y="635"/>
                  <a:pt x="30" y="730"/>
                  <a:pt x="53" y="794"/>
                </a:cubicBezTo>
                <a:cubicBezTo>
                  <a:pt x="76" y="858"/>
                  <a:pt x="109" y="883"/>
                  <a:pt x="143" y="908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65"/>
          <p:cNvSpPr/>
          <p:nvPr/>
        </p:nvSpPr>
        <p:spPr>
          <a:xfrm>
            <a:off x="3324240" y="7920"/>
            <a:ext cx="612720" cy="787320"/>
          </a:xfrm>
          <a:custGeom>
            <a:avLst/>
            <a:gdLst/>
            <a:ahLst/>
            <a:rect l="l" t="t" r="r" b="b"/>
            <a:pathLst>
              <a:path w="386" h="496">
                <a:moveTo>
                  <a:pt x="15" y="0"/>
                </a:moveTo>
                <a:cubicBezTo>
                  <a:pt x="7" y="98"/>
                  <a:pt x="0" y="197"/>
                  <a:pt x="15" y="273"/>
                </a:cubicBezTo>
                <a:cubicBezTo>
                  <a:pt x="30" y="349"/>
                  <a:pt x="65" y="420"/>
                  <a:pt x="106" y="454"/>
                </a:cubicBezTo>
                <a:cubicBezTo>
                  <a:pt x="147" y="488"/>
                  <a:pt x="219" y="496"/>
                  <a:pt x="264" y="477"/>
                </a:cubicBezTo>
                <a:cubicBezTo>
                  <a:pt x="309" y="458"/>
                  <a:pt x="370" y="390"/>
                  <a:pt x="378" y="341"/>
                </a:cubicBezTo>
                <a:cubicBezTo>
                  <a:pt x="386" y="292"/>
                  <a:pt x="344" y="208"/>
                  <a:pt x="310" y="182"/>
                </a:cubicBezTo>
                <a:cubicBezTo>
                  <a:pt x="276" y="156"/>
                  <a:pt x="204" y="163"/>
                  <a:pt x="174" y="182"/>
                </a:cubicBezTo>
                <a:cubicBezTo>
                  <a:pt x="144" y="201"/>
                  <a:pt x="124" y="261"/>
                  <a:pt x="128" y="295"/>
                </a:cubicBezTo>
                <a:cubicBezTo>
                  <a:pt x="132" y="329"/>
                  <a:pt x="166" y="375"/>
                  <a:pt x="196" y="386"/>
                </a:cubicBezTo>
                <a:cubicBezTo>
                  <a:pt x="226" y="397"/>
                  <a:pt x="291" y="389"/>
                  <a:pt x="310" y="363"/>
                </a:cubicBezTo>
                <a:cubicBezTo>
                  <a:pt x="329" y="337"/>
                  <a:pt x="352" y="268"/>
                  <a:pt x="310" y="22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D59E-AD72-4B49-A683-3780CF32C1C6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9663-1D02-4F95-BCA7-79CBCF7355C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E1F4-7B23-4222-B244-DF63017C2488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4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EA6C-367E-4326-AFBC-D237B8D66CC0}" type="slidenum">
              <a:rPr b="0" lang="en-US" sz="11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ftr" idx="15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0"/>
          <p:cNvSpPr/>
          <p:nvPr/>
        </p:nvSpPr>
        <p:spPr>
          <a:xfrm>
            <a:off x="2603520" y="-4680"/>
            <a:ext cx="720720" cy="1089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42"/>
          <p:cNvSpPr/>
          <p:nvPr/>
        </p:nvSpPr>
        <p:spPr>
          <a:xfrm>
            <a:off x="468360" y="0"/>
            <a:ext cx="612720" cy="3068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61"/>
          <p:cNvSpPr/>
          <p:nvPr/>
        </p:nvSpPr>
        <p:spPr>
          <a:xfrm>
            <a:off x="863640" y="7920"/>
            <a:ext cx="569880" cy="2058840"/>
          </a:xfrm>
          <a:custGeom>
            <a:avLst/>
            <a:gdLst/>
            <a:ahLst/>
            <a:rect l="l" t="t" r="r" b="b"/>
            <a:pathLst>
              <a:path w="359" h="1297">
                <a:moveTo>
                  <a:pt x="0" y="0"/>
                </a:moveTo>
                <a:cubicBezTo>
                  <a:pt x="21" y="112"/>
                  <a:pt x="42" y="224"/>
                  <a:pt x="68" y="341"/>
                </a:cubicBezTo>
                <a:cubicBezTo>
                  <a:pt x="94" y="458"/>
                  <a:pt x="114" y="595"/>
                  <a:pt x="159" y="704"/>
                </a:cubicBezTo>
                <a:cubicBezTo>
                  <a:pt x="204" y="813"/>
                  <a:pt x="321" y="907"/>
                  <a:pt x="340" y="998"/>
                </a:cubicBezTo>
                <a:cubicBezTo>
                  <a:pt x="359" y="1089"/>
                  <a:pt x="310" y="1199"/>
                  <a:pt x="272" y="1248"/>
                </a:cubicBezTo>
                <a:cubicBezTo>
                  <a:pt x="234" y="1297"/>
                  <a:pt x="151" y="1297"/>
                  <a:pt x="113" y="1293"/>
                </a:cubicBezTo>
                <a:cubicBezTo>
                  <a:pt x="75" y="1289"/>
                  <a:pt x="56" y="1255"/>
                  <a:pt x="45" y="1225"/>
                </a:cubicBezTo>
                <a:cubicBezTo>
                  <a:pt x="34" y="1195"/>
                  <a:pt x="34" y="1142"/>
                  <a:pt x="45" y="1112"/>
                </a:cubicBezTo>
                <a:cubicBezTo>
                  <a:pt x="56" y="1082"/>
                  <a:pt x="83" y="1055"/>
                  <a:pt x="113" y="1044"/>
                </a:cubicBezTo>
                <a:cubicBezTo>
                  <a:pt x="143" y="1033"/>
                  <a:pt x="201" y="1029"/>
                  <a:pt x="227" y="1044"/>
                </a:cubicBezTo>
                <a:cubicBezTo>
                  <a:pt x="253" y="1059"/>
                  <a:pt x="268" y="1104"/>
                  <a:pt x="272" y="1134"/>
                </a:cubicBezTo>
                <a:cubicBezTo>
                  <a:pt x="276" y="1164"/>
                  <a:pt x="268" y="1206"/>
                  <a:pt x="249" y="1225"/>
                </a:cubicBezTo>
                <a:cubicBezTo>
                  <a:pt x="230" y="1244"/>
                  <a:pt x="185" y="1252"/>
                  <a:pt x="159" y="1248"/>
                </a:cubicBezTo>
                <a:cubicBezTo>
                  <a:pt x="133" y="1244"/>
                  <a:pt x="102" y="1221"/>
                  <a:pt x="91" y="1202"/>
                </a:cubicBezTo>
                <a:cubicBezTo>
                  <a:pt x="80" y="1183"/>
                  <a:pt x="84" y="1153"/>
                  <a:pt x="91" y="1134"/>
                </a:cubicBezTo>
                <a:cubicBezTo>
                  <a:pt x="98" y="1115"/>
                  <a:pt x="117" y="1097"/>
                  <a:pt x="136" y="1089"/>
                </a:cubicBezTo>
                <a:cubicBezTo>
                  <a:pt x="155" y="1081"/>
                  <a:pt x="189" y="1078"/>
                  <a:pt x="204" y="1089"/>
                </a:cubicBezTo>
                <a:cubicBezTo>
                  <a:pt x="219" y="1100"/>
                  <a:pt x="231" y="1138"/>
                  <a:pt x="227" y="1157"/>
                </a:cubicBezTo>
                <a:cubicBezTo>
                  <a:pt x="223" y="1176"/>
                  <a:pt x="196" y="1195"/>
                  <a:pt x="181" y="1202"/>
                </a:cubicBezTo>
                <a:cubicBezTo>
                  <a:pt x="166" y="1209"/>
                  <a:pt x="147" y="1209"/>
                  <a:pt x="136" y="1202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62"/>
          <p:cNvSpPr/>
          <p:nvPr/>
        </p:nvSpPr>
        <p:spPr>
          <a:xfrm>
            <a:off x="1150920" y="981000"/>
            <a:ext cx="546120" cy="455760"/>
          </a:xfrm>
          <a:custGeom>
            <a:avLst/>
            <a:gdLst/>
            <a:ahLst/>
            <a:rect l="l" t="t" r="r" b="b"/>
            <a:pathLst>
              <a:path w="344" h="287">
                <a:moveTo>
                  <a:pt x="0" y="132"/>
                </a:moveTo>
                <a:cubicBezTo>
                  <a:pt x="43" y="190"/>
                  <a:pt x="87" y="249"/>
                  <a:pt x="136" y="268"/>
                </a:cubicBezTo>
                <a:cubicBezTo>
                  <a:pt x="185" y="287"/>
                  <a:pt x="261" y="269"/>
                  <a:pt x="295" y="246"/>
                </a:cubicBezTo>
                <a:cubicBezTo>
                  <a:pt x="329" y="223"/>
                  <a:pt x="336" y="170"/>
                  <a:pt x="340" y="132"/>
                </a:cubicBezTo>
                <a:cubicBezTo>
                  <a:pt x="344" y="94"/>
                  <a:pt x="336" y="38"/>
                  <a:pt x="317" y="19"/>
                </a:cubicBezTo>
                <a:cubicBezTo>
                  <a:pt x="298" y="0"/>
                  <a:pt x="253" y="11"/>
                  <a:pt x="227" y="19"/>
                </a:cubicBezTo>
                <a:cubicBezTo>
                  <a:pt x="201" y="27"/>
                  <a:pt x="170" y="37"/>
                  <a:pt x="159" y="64"/>
                </a:cubicBezTo>
                <a:cubicBezTo>
                  <a:pt x="148" y="91"/>
                  <a:pt x="152" y="152"/>
                  <a:pt x="159" y="178"/>
                </a:cubicBezTo>
                <a:cubicBezTo>
                  <a:pt x="166" y="204"/>
                  <a:pt x="185" y="215"/>
                  <a:pt x="204" y="223"/>
                </a:cubicBezTo>
                <a:cubicBezTo>
                  <a:pt x="223" y="231"/>
                  <a:pt x="257" y="234"/>
                  <a:pt x="272" y="223"/>
                </a:cubicBezTo>
                <a:cubicBezTo>
                  <a:pt x="287" y="212"/>
                  <a:pt x="291" y="178"/>
                  <a:pt x="295" y="155"/>
                </a:cubicBezTo>
                <a:cubicBezTo>
                  <a:pt x="299" y="132"/>
                  <a:pt x="306" y="102"/>
                  <a:pt x="295" y="87"/>
                </a:cubicBezTo>
                <a:cubicBezTo>
                  <a:pt x="284" y="72"/>
                  <a:pt x="242" y="57"/>
                  <a:pt x="227" y="64"/>
                </a:cubicBezTo>
                <a:cubicBezTo>
                  <a:pt x="212" y="71"/>
                  <a:pt x="200" y="117"/>
                  <a:pt x="204" y="132"/>
                </a:cubicBezTo>
                <a:cubicBezTo>
                  <a:pt x="208" y="147"/>
                  <a:pt x="256" y="155"/>
                  <a:pt x="249" y="155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63"/>
          <p:cNvSpPr/>
          <p:nvPr/>
        </p:nvSpPr>
        <p:spPr>
          <a:xfrm>
            <a:off x="1547640" y="7920"/>
            <a:ext cx="360360" cy="541440"/>
          </a:xfrm>
          <a:custGeom>
            <a:avLst/>
            <a:gdLst/>
            <a:ahLst/>
            <a:rect l="l" t="t" r="r" b="b"/>
            <a:pathLst>
              <a:path w="344" h="507">
                <a:moveTo>
                  <a:pt x="45" y="0"/>
                </a:moveTo>
                <a:cubicBezTo>
                  <a:pt x="37" y="44"/>
                  <a:pt x="30" y="88"/>
                  <a:pt x="23" y="137"/>
                </a:cubicBezTo>
                <a:cubicBezTo>
                  <a:pt x="16" y="186"/>
                  <a:pt x="0" y="246"/>
                  <a:pt x="0" y="295"/>
                </a:cubicBezTo>
                <a:cubicBezTo>
                  <a:pt x="0" y="344"/>
                  <a:pt x="4" y="397"/>
                  <a:pt x="23" y="431"/>
                </a:cubicBezTo>
                <a:cubicBezTo>
                  <a:pt x="42" y="465"/>
                  <a:pt x="72" y="491"/>
                  <a:pt x="113" y="499"/>
                </a:cubicBezTo>
                <a:cubicBezTo>
                  <a:pt x="154" y="507"/>
                  <a:pt x="234" y="503"/>
                  <a:pt x="272" y="477"/>
                </a:cubicBezTo>
                <a:cubicBezTo>
                  <a:pt x="310" y="451"/>
                  <a:pt x="336" y="386"/>
                  <a:pt x="340" y="341"/>
                </a:cubicBezTo>
                <a:cubicBezTo>
                  <a:pt x="344" y="296"/>
                  <a:pt x="329" y="235"/>
                  <a:pt x="295" y="205"/>
                </a:cubicBezTo>
                <a:cubicBezTo>
                  <a:pt x="261" y="175"/>
                  <a:pt x="174" y="152"/>
                  <a:pt x="136" y="159"/>
                </a:cubicBezTo>
                <a:cubicBezTo>
                  <a:pt x="98" y="166"/>
                  <a:pt x="79" y="223"/>
                  <a:pt x="68" y="250"/>
                </a:cubicBezTo>
                <a:cubicBezTo>
                  <a:pt x="57" y="277"/>
                  <a:pt x="64" y="292"/>
                  <a:pt x="68" y="318"/>
                </a:cubicBezTo>
                <a:cubicBezTo>
                  <a:pt x="72" y="344"/>
                  <a:pt x="76" y="390"/>
                  <a:pt x="91" y="409"/>
                </a:cubicBezTo>
                <a:cubicBezTo>
                  <a:pt x="106" y="428"/>
                  <a:pt x="136" y="427"/>
                  <a:pt x="159" y="431"/>
                </a:cubicBezTo>
                <a:cubicBezTo>
                  <a:pt x="182" y="435"/>
                  <a:pt x="204" y="454"/>
                  <a:pt x="227" y="431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64"/>
          <p:cNvSpPr/>
          <p:nvPr/>
        </p:nvSpPr>
        <p:spPr>
          <a:xfrm>
            <a:off x="2400480" y="7920"/>
            <a:ext cx="226800" cy="1441440"/>
          </a:xfrm>
          <a:custGeom>
            <a:avLst/>
            <a:gdLst/>
            <a:ahLst/>
            <a:rect l="l" t="t" r="r" b="b"/>
            <a:pathLst>
              <a:path w="143" h="908">
                <a:moveTo>
                  <a:pt x="53" y="0"/>
                </a:moveTo>
                <a:cubicBezTo>
                  <a:pt x="79" y="13"/>
                  <a:pt x="106" y="27"/>
                  <a:pt x="98" y="114"/>
                </a:cubicBezTo>
                <a:cubicBezTo>
                  <a:pt x="90" y="201"/>
                  <a:pt x="14" y="409"/>
                  <a:pt x="7" y="522"/>
                </a:cubicBezTo>
                <a:cubicBezTo>
                  <a:pt x="0" y="635"/>
                  <a:pt x="30" y="730"/>
                  <a:pt x="53" y="794"/>
                </a:cubicBezTo>
                <a:cubicBezTo>
                  <a:pt x="76" y="858"/>
                  <a:pt x="109" y="883"/>
                  <a:pt x="143" y="908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65"/>
          <p:cNvSpPr/>
          <p:nvPr/>
        </p:nvSpPr>
        <p:spPr>
          <a:xfrm>
            <a:off x="3324240" y="7920"/>
            <a:ext cx="612720" cy="787320"/>
          </a:xfrm>
          <a:custGeom>
            <a:avLst/>
            <a:gdLst/>
            <a:ahLst/>
            <a:rect l="l" t="t" r="r" b="b"/>
            <a:pathLst>
              <a:path w="386" h="496">
                <a:moveTo>
                  <a:pt x="15" y="0"/>
                </a:moveTo>
                <a:cubicBezTo>
                  <a:pt x="7" y="98"/>
                  <a:pt x="0" y="197"/>
                  <a:pt x="15" y="273"/>
                </a:cubicBezTo>
                <a:cubicBezTo>
                  <a:pt x="30" y="349"/>
                  <a:pt x="65" y="420"/>
                  <a:pt x="106" y="454"/>
                </a:cubicBezTo>
                <a:cubicBezTo>
                  <a:pt x="147" y="488"/>
                  <a:pt x="219" y="496"/>
                  <a:pt x="264" y="477"/>
                </a:cubicBezTo>
                <a:cubicBezTo>
                  <a:pt x="309" y="458"/>
                  <a:pt x="370" y="390"/>
                  <a:pt x="378" y="341"/>
                </a:cubicBezTo>
                <a:cubicBezTo>
                  <a:pt x="386" y="292"/>
                  <a:pt x="344" y="208"/>
                  <a:pt x="310" y="182"/>
                </a:cubicBezTo>
                <a:cubicBezTo>
                  <a:pt x="276" y="156"/>
                  <a:pt x="204" y="163"/>
                  <a:pt x="174" y="182"/>
                </a:cubicBezTo>
                <a:cubicBezTo>
                  <a:pt x="144" y="201"/>
                  <a:pt x="124" y="261"/>
                  <a:pt x="128" y="295"/>
                </a:cubicBezTo>
                <a:cubicBezTo>
                  <a:pt x="132" y="329"/>
                  <a:pt x="166" y="375"/>
                  <a:pt x="196" y="386"/>
                </a:cubicBezTo>
                <a:cubicBezTo>
                  <a:pt x="226" y="397"/>
                  <a:pt x="291" y="389"/>
                  <a:pt x="310" y="363"/>
                </a:cubicBezTo>
                <a:cubicBezTo>
                  <a:pt x="329" y="337"/>
                  <a:pt x="352" y="268"/>
                  <a:pt x="310" y="22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7ECF-6D27-473E-A7E4-51A4C0A2C754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2281-3A42-4BD0-AF08-E5B48164771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0CD9-55D0-4EC8-89E7-93C254C8E588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DFA6-D3EB-42A8-ADC6-00D71B3A822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D959-23E7-4944-B805-5771B946D88E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3A33-B8A6-44FC-BD68-3ABA5F3F664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00"/>
          <p:cNvSpPr/>
          <p:nvPr/>
        </p:nvSpPr>
        <p:spPr>
          <a:xfrm>
            <a:off x="2603520" y="-4680"/>
            <a:ext cx="720720" cy="1089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42"/>
          <p:cNvSpPr/>
          <p:nvPr/>
        </p:nvSpPr>
        <p:spPr>
          <a:xfrm>
            <a:off x="468360" y="0"/>
            <a:ext cx="612720" cy="3068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61"/>
          <p:cNvSpPr/>
          <p:nvPr/>
        </p:nvSpPr>
        <p:spPr>
          <a:xfrm>
            <a:off x="863640" y="7920"/>
            <a:ext cx="569880" cy="2058840"/>
          </a:xfrm>
          <a:custGeom>
            <a:avLst/>
            <a:gdLst/>
            <a:ahLst/>
            <a:rect l="l" t="t" r="r" b="b"/>
            <a:pathLst>
              <a:path w="359" h="1297">
                <a:moveTo>
                  <a:pt x="0" y="0"/>
                </a:moveTo>
                <a:cubicBezTo>
                  <a:pt x="21" y="112"/>
                  <a:pt x="42" y="224"/>
                  <a:pt x="68" y="341"/>
                </a:cubicBezTo>
                <a:cubicBezTo>
                  <a:pt x="94" y="458"/>
                  <a:pt x="114" y="595"/>
                  <a:pt x="159" y="704"/>
                </a:cubicBezTo>
                <a:cubicBezTo>
                  <a:pt x="204" y="813"/>
                  <a:pt x="321" y="907"/>
                  <a:pt x="340" y="998"/>
                </a:cubicBezTo>
                <a:cubicBezTo>
                  <a:pt x="359" y="1089"/>
                  <a:pt x="310" y="1199"/>
                  <a:pt x="272" y="1248"/>
                </a:cubicBezTo>
                <a:cubicBezTo>
                  <a:pt x="234" y="1297"/>
                  <a:pt x="151" y="1297"/>
                  <a:pt x="113" y="1293"/>
                </a:cubicBezTo>
                <a:cubicBezTo>
                  <a:pt x="75" y="1289"/>
                  <a:pt x="56" y="1255"/>
                  <a:pt x="45" y="1225"/>
                </a:cubicBezTo>
                <a:cubicBezTo>
                  <a:pt x="34" y="1195"/>
                  <a:pt x="34" y="1142"/>
                  <a:pt x="45" y="1112"/>
                </a:cubicBezTo>
                <a:cubicBezTo>
                  <a:pt x="56" y="1082"/>
                  <a:pt x="83" y="1055"/>
                  <a:pt x="113" y="1044"/>
                </a:cubicBezTo>
                <a:cubicBezTo>
                  <a:pt x="143" y="1033"/>
                  <a:pt x="201" y="1029"/>
                  <a:pt x="227" y="1044"/>
                </a:cubicBezTo>
                <a:cubicBezTo>
                  <a:pt x="253" y="1059"/>
                  <a:pt x="268" y="1104"/>
                  <a:pt x="272" y="1134"/>
                </a:cubicBezTo>
                <a:cubicBezTo>
                  <a:pt x="276" y="1164"/>
                  <a:pt x="268" y="1206"/>
                  <a:pt x="249" y="1225"/>
                </a:cubicBezTo>
                <a:cubicBezTo>
                  <a:pt x="230" y="1244"/>
                  <a:pt x="185" y="1252"/>
                  <a:pt x="159" y="1248"/>
                </a:cubicBezTo>
                <a:cubicBezTo>
                  <a:pt x="133" y="1244"/>
                  <a:pt x="102" y="1221"/>
                  <a:pt x="91" y="1202"/>
                </a:cubicBezTo>
                <a:cubicBezTo>
                  <a:pt x="80" y="1183"/>
                  <a:pt x="84" y="1153"/>
                  <a:pt x="91" y="1134"/>
                </a:cubicBezTo>
                <a:cubicBezTo>
                  <a:pt x="98" y="1115"/>
                  <a:pt x="117" y="1097"/>
                  <a:pt x="136" y="1089"/>
                </a:cubicBezTo>
                <a:cubicBezTo>
                  <a:pt x="155" y="1081"/>
                  <a:pt x="189" y="1078"/>
                  <a:pt x="204" y="1089"/>
                </a:cubicBezTo>
                <a:cubicBezTo>
                  <a:pt x="219" y="1100"/>
                  <a:pt x="231" y="1138"/>
                  <a:pt x="227" y="1157"/>
                </a:cubicBezTo>
                <a:cubicBezTo>
                  <a:pt x="223" y="1176"/>
                  <a:pt x="196" y="1195"/>
                  <a:pt x="181" y="1202"/>
                </a:cubicBezTo>
                <a:cubicBezTo>
                  <a:pt x="166" y="1209"/>
                  <a:pt x="147" y="1209"/>
                  <a:pt x="136" y="1202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62"/>
          <p:cNvSpPr/>
          <p:nvPr/>
        </p:nvSpPr>
        <p:spPr>
          <a:xfrm>
            <a:off x="1150920" y="981000"/>
            <a:ext cx="546120" cy="455760"/>
          </a:xfrm>
          <a:custGeom>
            <a:avLst/>
            <a:gdLst/>
            <a:ahLst/>
            <a:rect l="l" t="t" r="r" b="b"/>
            <a:pathLst>
              <a:path w="344" h="287">
                <a:moveTo>
                  <a:pt x="0" y="132"/>
                </a:moveTo>
                <a:cubicBezTo>
                  <a:pt x="43" y="190"/>
                  <a:pt x="87" y="249"/>
                  <a:pt x="136" y="268"/>
                </a:cubicBezTo>
                <a:cubicBezTo>
                  <a:pt x="185" y="287"/>
                  <a:pt x="261" y="269"/>
                  <a:pt x="295" y="246"/>
                </a:cubicBezTo>
                <a:cubicBezTo>
                  <a:pt x="329" y="223"/>
                  <a:pt x="336" y="170"/>
                  <a:pt x="340" y="132"/>
                </a:cubicBezTo>
                <a:cubicBezTo>
                  <a:pt x="344" y="94"/>
                  <a:pt x="336" y="38"/>
                  <a:pt x="317" y="19"/>
                </a:cubicBezTo>
                <a:cubicBezTo>
                  <a:pt x="298" y="0"/>
                  <a:pt x="253" y="11"/>
                  <a:pt x="227" y="19"/>
                </a:cubicBezTo>
                <a:cubicBezTo>
                  <a:pt x="201" y="27"/>
                  <a:pt x="170" y="37"/>
                  <a:pt x="159" y="64"/>
                </a:cubicBezTo>
                <a:cubicBezTo>
                  <a:pt x="148" y="91"/>
                  <a:pt x="152" y="152"/>
                  <a:pt x="159" y="178"/>
                </a:cubicBezTo>
                <a:cubicBezTo>
                  <a:pt x="166" y="204"/>
                  <a:pt x="185" y="215"/>
                  <a:pt x="204" y="223"/>
                </a:cubicBezTo>
                <a:cubicBezTo>
                  <a:pt x="223" y="231"/>
                  <a:pt x="257" y="234"/>
                  <a:pt x="272" y="223"/>
                </a:cubicBezTo>
                <a:cubicBezTo>
                  <a:pt x="287" y="212"/>
                  <a:pt x="291" y="178"/>
                  <a:pt x="295" y="155"/>
                </a:cubicBezTo>
                <a:cubicBezTo>
                  <a:pt x="299" y="132"/>
                  <a:pt x="306" y="102"/>
                  <a:pt x="295" y="87"/>
                </a:cubicBezTo>
                <a:cubicBezTo>
                  <a:pt x="284" y="72"/>
                  <a:pt x="242" y="57"/>
                  <a:pt x="227" y="64"/>
                </a:cubicBezTo>
                <a:cubicBezTo>
                  <a:pt x="212" y="71"/>
                  <a:pt x="200" y="117"/>
                  <a:pt x="204" y="132"/>
                </a:cubicBezTo>
                <a:cubicBezTo>
                  <a:pt x="208" y="147"/>
                  <a:pt x="256" y="155"/>
                  <a:pt x="249" y="155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63"/>
          <p:cNvSpPr/>
          <p:nvPr/>
        </p:nvSpPr>
        <p:spPr>
          <a:xfrm>
            <a:off x="1547640" y="7920"/>
            <a:ext cx="360360" cy="541440"/>
          </a:xfrm>
          <a:custGeom>
            <a:avLst/>
            <a:gdLst/>
            <a:ahLst/>
            <a:rect l="l" t="t" r="r" b="b"/>
            <a:pathLst>
              <a:path w="344" h="507">
                <a:moveTo>
                  <a:pt x="45" y="0"/>
                </a:moveTo>
                <a:cubicBezTo>
                  <a:pt x="37" y="44"/>
                  <a:pt x="30" y="88"/>
                  <a:pt x="23" y="137"/>
                </a:cubicBezTo>
                <a:cubicBezTo>
                  <a:pt x="16" y="186"/>
                  <a:pt x="0" y="246"/>
                  <a:pt x="0" y="295"/>
                </a:cubicBezTo>
                <a:cubicBezTo>
                  <a:pt x="0" y="344"/>
                  <a:pt x="4" y="397"/>
                  <a:pt x="23" y="431"/>
                </a:cubicBezTo>
                <a:cubicBezTo>
                  <a:pt x="42" y="465"/>
                  <a:pt x="72" y="491"/>
                  <a:pt x="113" y="499"/>
                </a:cubicBezTo>
                <a:cubicBezTo>
                  <a:pt x="154" y="507"/>
                  <a:pt x="234" y="503"/>
                  <a:pt x="272" y="477"/>
                </a:cubicBezTo>
                <a:cubicBezTo>
                  <a:pt x="310" y="451"/>
                  <a:pt x="336" y="386"/>
                  <a:pt x="340" y="341"/>
                </a:cubicBezTo>
                <a:cubicBezTo>
                  <a:pt x="344" y="296"/>
                  <a:pt x="329" y="235"/>
                  <a:pt x="295" y="205"/>
                </a:cubicBezTo>
                <a:cubicBezTo>
                  <a:pt x="261" y="175"/>
                  <a:pt x="174" y="152"/>
                  <a:pt x="136" y="159"/>
                </a:cubicBezTo>
                <a:cubicBezTo>
                  <a:pt x="98" y="166"/>
                  <a:pt x="79" y="223"/>
                  <a:pt x="68" y="250"/>
                </a:cubicBezTo>
                <a:cubicBezTo>
                  <a:pt x="57" y="277"/>
                  <a:pt x="64" y="292"/>
                  <a:pt x="68" y="318"/>
                </a:cubicBezTo>
                <a:cubicBezTo>
                  <a:pt x="72" y="344"/>
                  <a:pt x="76" y="390"/>
                  <a:pt x="91" y="409"/>
                </a:cubicBezTo>
                <a:cubicBezTo>
                  <a:pt x="106" y="428"/>
                  <a:pt x="136" y="427"/>
                  <a:pt x="159" y="431"/>
                </a:cubicBezTo>
                <a:cubicBezTo>
                  <a:pt x="182" y="435"/>
                  <a:pt x="204" y="454"/>
                  <a:pt x="227" y="431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64"/>
          <p:cNvSpPr/>
          <p:nvPr/>
        </p:nvSpPr>
        <p:spPr>
          <a:xfrm>
            <a:off x="2400480" y="7920"/>
            <a:ext cx="226800" cy="1441440"/>
          </a:xfrm>
          <a:custGeom>
            <a:avLst/>
            <a:gdLst/>
            <a:ahLst/>
            <a:rect l="l" t="t" r="r" b="b"/>
            <a:pathLst>
              <a:path w="143" h="908">
                <a:moveTo>
                  <a:pt x="53" y="0"/>
                </a:moveTo>
                <a:cubicBezTo>
                  <a:pt x="79" y="13"/>
                  <a:pt x="106" y="27"/>
                  <a:pt x="98" y="114"/>
                </a:cubicBezTo>
                <a:cubicBezTo>
                  <a:pt x="90" y="201"/>
                  <a:pt x="14" y="409"/>
                  <a:pt x="7" y="522"/>
                </a:cubicBezTo>
                <a:cubicBezTo>
                  <a:pt x="0" y="635"/>
                  <a:pt x="30" y="730"/>
                  <a:pt x="53" y="794"/>
                </a:cubicBezTo>
                <a:cubicBezTo>
                  <a:pt x="76" y="858"/>
                  <a:pt x="109" y="883"/>
                  <a:pt x="143" y="908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65"/>
          <p:cNvSpPr/>
          <p:nvPr/>
        </p:nvSpPr>
        <p:spPr>
          <a:xfrm>
            <a:off x="3324240" y="7920"/>
            <a:ext cx="612720" cy="787320"/>
          </a:xfrm>
          <a:custGeom>
            <a:avLst/>
            <a:gdLst/>
            <a:ahLst/>
            <a:rect l="l" t="t" r="r" b="b"/>
            <a:pathLst>
              <a:path w="386" h="496">
                <a:moveTo>
                  <a:pt x="15" y="0"/>
                </a:moveTo>
                <a:cubicBezTo>
                  <a:pt x="7" y="98"/>
                  <a:pt x="0" y="197"/>
                  <a:pt x="15" y="273"/>
                </a:cubicBezTo>
                <a:cubicBezTo>
                  <a:pt x="30" y="349"/>
                  <a:pt x="65" y="420"/>
                  <a:pt x="106" y="454"/>
                </a:cubicBezTo>
                <a:cubicBezTo>
                  <a:pt x="147" y="488"/>
                  <a:pt x="219" y="496"/>
                  <a:pt x="264" y="477"/>
                </a:cubicBezTo>
                <a:cubicBezTo>
                  <a:pt x="309" y="458"/>
                  <a:pt x="370" y="390"/>
                  <a:pt x="378" y="341"/>
                </a:cubicBezTo>
                <a:cubicBezTo>
                  <a:pt x="386" y="292"/>
                  <a:pt x="344" y="208"/>
                  <a:pt x="310" y="182"/>
                </a:cubicBezTo>
                <a:cubicBezTo>
                  <a:pt x="276" y="156"/>
                  <a:pt x="204" y="163"/>
                  <a:pt x="174" y="182"/>
                </a:cubicBezTo>
                <a:cubicBezTo>
                  <a:pt x="144" y="201"/>
                  <a:pt x="124" y="261"/>
                  <a:pt x="128" y="295"/>
                </a:cubicBezTo>
                <a:cubicBezTo>
                  <a:pt x="132" y="329"/>
                  <a:pt x="166" y="375"/>
                  <a:pt x="196" y="386"/>
                </a:cubicBezTo>
                <a:cubicBezTo>
                  <a:pt x="226" y="397"/>
                  <a:pt x="291" y="389"/>
                  <a:pt x="310" y="363"/>
                </a:cubicBezTo>
                <a:cubicBezTo>
                  <a:pt x="329" y="337"/>
                  <a:pt x="352" y="268"/>
                  <a:pt x="310" y="22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EDD2-EC21-4ADA-AC63-CFFC4C987B92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98E6-1239-43F6-8BEE-FA97EB4C5B0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7" descr=""/>
          <p:cNvPicPr/>
          <p:nvPr/>
        </p:nvPicPr>
        <p:blipFill>
          <a:blip r:embed="rId1"/>
          <a:stretch/>
        </p:blipFill>
        <p:spPr>
          <a:xfrm>
            <a:off x="866880" y="2060640"/>
            <a:ext cx="7002360" cy="1495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20080407222334607"/>
          <p:cNvPicPr/>
          <p:nvPr/>
        </p:nvPicPr>
        <p:blipFill>
          <a:blip r:embed="rId2"/>
          <a:stretch/>
        </p:blipFill>
        <p:spPr>
          <a:xfrm>
            <a:off x="5435640" y="4005360"/>
            <a:ext cx="3438360" cy="2500200"/>
          </a:xfrm>
          <a:prstGeom prst="rect">
            <a:avLst/>
          </a:prstGeom>
          <a:ln w="0">
            <a:noFill/>
          </a:ln>
        </p:spPr>
      </p:pic>
      <p:sp>
        <p:nvSpPr>
          <p:cNvPr id="415" name="矩形 6"/>
          <p:cNvSpPr/>
          <p:nvPr/>
        </p:nvSpPr>
        <p:spPr>
          <a:xfrm>
            <a:off x="4240440" y="647640"/>
            <a:ext cx="25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七课   感受法律的尊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6155"/>
          <p:cNvSpPr/>
          <p:nvPr/>
        </p:nvSpPr>
        <p:spPr>
          <a:xfrm>
            <a:off x="47520" y="635328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AutoShape 4"/>
          <p:cNvSpPr/>
          <p:nvPr/>
        </p:nvSpPr>
        <p:spPr>
          <a:xfrm>
            <a:off x="1042920" y="1268280"/>
            <a:ext cx="7921800" cy="518508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6"/>
          <p:cNvSpPr/>
          <p:nvPr/>
        </p:nvSpPr>
        <p:spPr>
          <a:xfrm>
            <a:off x="1224000" y="5553000"/>
            <a:ext cx="253800" cy="25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1476360" y="5373720"/>
            <a:ext cx="38880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4"/>
          <p:cNvSpPr/>
          <p:nvPr/>
        </p:nvSpPr>
        <p:spPr>
          <a:xfrm>
            <a:off x="1224000" y="1233360"/>
            <a:ext cx="75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辩一辩，我们现在年龄小，这是否意味着我们就与犯罪无关？年龄小犯罪也不会受到处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我们正处于未成年阶段，受到国家司法的特殊保护。但是，我们要懂得：犯罪对自己、家庭、对他人、对社会，都有百害而无一利。我们一定要约束自己的行为，心中要有道德和法律的准绳，不能只顾自己不顾他人，不能图一时痛快，占小便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249"/>
          <p:cNvSpPr/>
          <p:nvPr/>
        </p:nvSpPr>
        <p:spPr>
          <a:xfrm rot="14400000">
            <a:off x="8385480" y="1941840"/>
            <a:ext cx="129960" cy="44280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250"/>
          <p:cNvSpPr/>
          <p:nvPr/>
        </p:nvSpPr>
        <p:spPr>
          <a:xfrm rot="1800000">
            <a:off x="8064360" y="4832280"/>
            <a:ext cx="1461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251"/>
          <p:cNvSpPr/>
          <p:nvPr/>
        </p:nvSpPr>
        <p:spPr>
          <a:xfrm rot="5400000">
            <a:off x="8172720" y="6133320"/>
            <a:ext cx="1414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252"/>
          <p:cNvSpPr/>
          <p:nvPr/>
        </p:nvSpPr>
        <p:spPr>
          <a:xfrm rot="17400000">
            <a:off x="8040600" y="3868560"/>
            <a:ext cx="181080" cy="53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253"/>
          <p:cNvSpPr/>
          <p:nvPr/>
        </p:nvSpPr>
        <p:spPr>
          <a:xfrm rot="5400000">
            <a:off x="8071920" y="2757240"/>
            <a:ext cx="1396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4176720" y="768240"/>
            <a:ext cx="4284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加强自我防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611280" y="2726640"/>
            <a:ext cx="7416720" cy="947160"/>
          </a:xfrm>
          <a:prstGeom prst="rect">
            <a:avLst/>
          </a:prstGeom>
          <a:noFill/>
          <a:ln w="38160">
            <a:solidFill>
              <a:srgbClr val="2c0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你如何看待小张的行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他的转变给我们什么启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4279320" y="1885320"/>
            <a:ext cx="88344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树立法律意识，从小事做起，预防违法犯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611280" y="4645080"/>
            <a:ext cx="828036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要做一个有道德的合格的公民，我们应自觉树立法律意识，维护法律的尊严，自觉依法自律，做一个守法的人；加强修养，践行道德，做一个有道德的人。从小事做起，预防违法犯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55"/>
          <p:cNvSpPr/>
          <p:nvPr/>
        </p:nvSpPr>
        <p:spPr>
          <a:xfrm>
            <a:off x="539640" y="768240"/>
            <a:ext cx="4465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解疑合探二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" descr="gif025"/>
          <p:cNvPicPr/>
          <p:nvPr/>
        </p:nvPicPr>
        <p:blipFill>
          <a:blip r:embed="rId1"/>
          <a:stretch/>
        </p:blipFill>
        <p:spPr>
          <a:xfrm>
            <a:off x="7559640" y="5472000"/>
            <a:ext cx="1584360" cy="138600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4"/>
          <p:cNvSpPr/>
          <p:nvPr/>
        </p:nvSpPr>
        <p:spPr>
          <a:xfrm>
            <a:off x="539640" y="189000"/>
            <a:ext cx="71280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预防未成年人犯罪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我们划清了明确的是非界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468360" y="1268280"/>
            <a:ext cx="8353440" cy="3393000"/>
          </a:xfrm>
          <a:prstGeom prst="rect">
            <a:avLst/>
          </a:prstGeom>
          <a:noFill/>
          <a:ln w="442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国家制订和实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未成年人犯罪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目的是什么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9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国家制定和实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未成年人犯罪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是什么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9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200412913222757217"/>
          <p:cNvPicPr/>
          <p:nvPr/>
        </p:nvPicPr>
        <p:blipFill>
          <a:blip r:embed="rId2"/>
          <a:stretch/>
        </p:blipFill>
        <p:spPr>
          <a:xfrm>
            <a:off x="7527960" y="0"/>
            <a:ext cx="1616040" cy="184464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7"/>
          <p:cNvSpPr/>
          <p:nvPr/>
        </p:nvSpPr>
        <p:spPr>
          <a:xfrm>
            <a:off x="539640" y="248940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保障未成年人身心健康、养成其良好的品行、有效的防御未成年人犯罪而制定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8"/>
          <p:cNvSpPr/>
          <p:nvPr/>
        </p:nvSpPr>
        <p:spPr>
          <a:xfrm>
            <a:off x="539640" y="47919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部法律就设专章规定了对未成年人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不良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预防，对严重不良行为的矫治，为我们划清了明确的是非界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9" descr="72"/>
          <p:cNvPicPr/>
          <p:nvPr/>
        </p:nvPicPr>
        <p:blipFill>
          <a:blip r:embed="rId3"/>
          <a:stretch/>
        </p:blipFill>
        <p:spPr>
          <a:xfrm>
            <a:off x="4500720" y="5877000"/>
            <a:ext cx="357120" cy="76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2340000" y="2133720"/>
            <a:ext cx="4495680" cy="360"/>
            <a:chOff x="2340000" y="2133720"/>
            <a:chExt cx="4495680" cy="360"/>
          </a:xfrm>
        </p:grpSpPr>
        <p:sp>
          <p:nvSpPr>
            <p:cNvPr id="510" name="Line 3"/>
            <p:cNvSpPr/>
            <p:nvPr/>
          </p:nvSpPr>
          <p:spPr>
            <a:xfrm>
              <a:off x="2340000" y="2133720"/>
              <a:ext cx="44956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2340000" y="2133720"/>
              <a:ext cx="4495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Text Box 4"/>
          <p:cNvSpPr/>
          <p:nvPr/>
        </p:nvSpPr>
        <p:spPr>
          <a:xfrm>
            <a:off x="2484360" y="1557360"/>
            <a:ext cx="490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达到聚众斗殴，多次参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致人重伤或死亡等严重情节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7093080" y="1628640"/>
            <a:ext cx="1730160" cy="581400"/>
          </a:xfrm>
          <a:prstGeom prst="rect">
            <a:avLst/>
          </a:prstGeom>
          <a:noFill/>
          <a:ln w="9360">
            <a:solidFill>
              <a:srgbClr val="2c0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 Narrow"/>
                <a:ea typeface="黑体"/>
              </a:rPr>
              <a:t>斗殴</a:t>
            </a:r>
            <a:r>
              <a:rPr b="1" lang="zh-CN" sz="2400" spc="-1" strike="noStrike">
                <a:solidFill>
                  <a:srgbClr val="ff0000"/>
                </a:solidFill>
                <a:latin typeface="Arial Narrow"/>
                <a:ea typeface="黑体"/>
              </a:rPr>
              <a:t>（犯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324000" y="3500280"/>
            <a:ext cx="1979640" cy="947160"/>
          </a:xfrm>
          <a:prstGeom prst="rect">
            <a:avLst/>
          </a:prstGeom>
          <a:noFill/>
          <a:ln w="9360">
            <a:solidFill>
              <a:srgbClr val="2c0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 Narrow"/>
                <a:ea typeface="黑体"/>
              </a:rPr>
              <a:t>偷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Narrow"/>
                <a:ea typeface="黑体"/>
              </a:rPr>
              <a:t>（一般违法行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2626920" y="4292280"/>
            <a:ext cx="4321440" cy="360"/>
            <a:chOff x="2626920" y="4292280"/>
            <a:chExt cx="4321440" cy="360"/>
          </a:xfrm>
        </p:grpSpPr>
        <p:sp>
          <p:nvSpPr>
            <p:cNvPr id="516" name="Line 7"/>
            <p:cNvSpPr/>
            <p:nvPr/>
          </p:nvSpPr>
          <p:spPr>
            <a:xfrm>
              <a:off x="2627280" y="4292640"/>
              <a:ext cx="43210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 rot="10800000">
              <a:off x="2626920" y="429228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 Box 8"/>
          <p:cNvSpPr/>
          <p:nvPr/>
        </p:nvSpPr>
        <p:spPr>
          <a:xfrm>
            <a:off x="2700360" y="335772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达到偷窃数额较大或特别巨大多次偷窃，盗窃金融机构，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额巨大或盗窃文物情节严重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7164360" y="3789360"/>
            <a:ext cx="1728720" cy="947160"/>
          </a:xfrm>
          <a:prstGeom prst="rect">
            <a:avLst/>
          </a:prstGeom>
          <a:noFill/>
          <a:ln w="9360">
            <a:solidFill>
              <a:srgbClr val="2c0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 Narrow"/>
                <a:ea typeface="黑体"/>
              </a:rPr>
              <a:t>盗窃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Narrow"/>
                <a:ea typeface="黑体"/>
              </a:rPr>
              <a:t>（犯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23640" y="1493640"/>
            <a:ext cx="1979640" cy="1223640"/>
          </a:xfrm>
          <a:prstGeom prst="rect">
            <a:avLst/>
          </a:prstGeom>
          <a:noFill/>
          <a:ln w="9360">
            <a:solidFill>
              <a:srgbClr val="2c01cb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打架</a:t>
            </a:r>
            <a:br>
              <a:rPr sz="3200"/>
            </a:br>
            <a:r>
              <a:rPr b="1" lang="zh-CN" sz="24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（一般违法行为）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108000" y="5229360"/>
            <a:ext cx="8964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违法与犯罪之间没有不可逾越的鸿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2"/>
          <p:cNvSpPr/>
          <p:nvPr/>
        </p:nvSpPr>
        <p:spPr>
          <a:xfrm>
            <a:off x="8317080" y="616572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20755" y="10800"/>
                </a:moveTo>
                <a:lnTo>
                  <a:pt x="10250" y="17806"/>
                </a:lnTo>
                <a:lnTo>
                  <a:pt x="10250" y="3794"/>
                </a:lnTo>
                <a:close/>
              </a:path>
              <a:path fill="darken" w="34513" h="21600">
                <a:moveTo>
                  <a:pt x="22600" y="3794"/>
                </a:moveTo>
                <a:lnTo>
                  <a:pt x="22600" y="17806"/>
                </a:lnTo>
                <a:lnTo>
                  <a:pt x="24263" y="17806"/>
                </a:lnTo>
                <a:lnTo>
                  <a:pt x="24263" y="3794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3" descr="200412913222757217"/>
          <p:cNvPicPr/>
          <p:nvPr/>
        </p:nvPicPr>
        <p:blipFill>
          <a:blip r:embed="rId1"/>
          <a:stretch/>
        </p:blipFill>
        <p:spPr>
          <a:xfrm>
            <a:off x="7527960" y="0"/>
            <a:ext cx="1616040" cy="184464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14"/>
          <p:cNvSpPr/>
          <p:nvPr/>
        </p:nvSpPr>
        <p:spPr>
          <a:xfrm>
            <a:off x="4069800" y="332640"/>
            <a:ext cx="3546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要防微杜渐，防患于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WordArt 4"/>
          <p:cNvSpPr txBox="1"/>
          <p:nvPr/>
        </p:nvSpPr>
        <p:spPr>
          <a:xfrm>
            <a:off x="1116000" y="1409760"/>
            <a:ext cx="273672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质疑再探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6" name="WordArt 5"/>
          <p:cNvSpPr txBox="1"/>
          <p:nvPr/>
        </p:nvSpPr>
        <p:spPr>
          <a:xfrm rot="5400000">
            <a:off x="3996360" y="2780640"/>
            <a:ext cx="3097080" cy="20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2124000" y="711360"/>
            <a:ext cx="2808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  <a:ea typeface="黑体"/>
              </a:rPr>
              <a:t>课堂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1474920" y="1830240"/>
            <a:ext cx="1871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  <a:ea typeface="黑体"/>
              </a:rPr>
              <a:t>认清犯罪危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-691920" y="2060640"/>
            <a:ext cx="164268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Verdana"/>
                <a:ea typeface="黑体"/>
              </a:rPr>
              <a:t>防患于未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635280" y="2838600"/>
            <a:ext cx="44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要远离违法犯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3635280" y="443700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未成年人犯罪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 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清是非美丑和行为界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1474920" y="4133880"/>
            <a:ext cx="2089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  <a:ea typeface="黑体"/>
              </a:rPr>
              <a:t>加强自我防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8"/>
          <p:cNvSpPr/>
          <p:nvPr/>
        </p:nvSpPr>
        <p:spPr>
          <a:xfrm>
            <a:off x="971640" y="2060640"/>
            <a:ext cx="431640" cy="3024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78480 h 3024000"/>
              <a:gd name="textAreaBottom" fmla="*/ 294552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9"/>
          <p:cNvSpPr/>
          <p:nvPr/>
        </p:nvSpPr>
        <p:spPr>
          <a:xfrm>
            <a:off x="3203640" y="4005360"/>
            <a:ext cx="431640" cy="1944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0"/>
          <p:cNvSpPr/>
          <p:nvPr/>
        </p:nvSpPr>
        <p:spPr>
          <a:xfrm>
            <a:off x="3346560" y="1700280"/>
            <a:ext cx="215640" cy="1584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1"/>
          <p:cNvSpPr/>
          <p:nvPr/>
        </p:nvSpPr>
        <p:spPr>
          <a:xfrm>
            <a:off x="3635280" y="161460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违法犯罪所付出的代价极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2"/>
          <p:cNvSpPr/>
          <p:nvPr/>
        </p:nvSpPr>
        <p:spPr>
          <a:xfrm>
            <a:off x="3635280" y="2189160"/>
            <a:ext cx="55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道德水平高低与违法犯罪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3"/>
          <p:cNvSpPr/>
          <p:nvPr/>
        </p:nvSpPr>
        <p:spPr>
          <a:xfrm>
            <a:off x="3635280" y="3716280"/>
            <a:ext cx="55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从小事做起，预防违法犯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3635280" y="5516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防微杜渐，防患于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6"/>
          <p:cNvSpPr/>
          <p:nvPr/>
        </p:nvSpPr>
        <p:spPr>
          <a:xfrm>
            <a:off x="4167360" y="2262240"/>
            <a:ext cx="1183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请学科班长对本节所学做一个总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AutoShape 4"/>
          <p:cNvSpPr/>
          <p:nvPr/>
        </p:nvSpPr>
        <p:spPr>
          <a:xfrm>
            <a:off x="900000" y="1119240"/>
            <a:ext cx="767088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"/>
          <p:cNvSpPr/>
          <p:nvPr/>
        </p:nvSpPr>
        <p:spPr>
          <a:xfrm>
            <a:off x="1224000" y="5553000"/>
            <a:ext cx="253800" cy="25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1476360" y="5373720"/>
            <a:ext cx="38880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33"/>
          <p:cNvSpPr/>
          <p:nvPr/>
        </p:nvSpPr>
        <p:spPr>
          <a:xfrm>
            <a:off x="1079640" y="1916280"/>
            <a:ext cx="7286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要做到预防违法犯罪，就必须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高道德水平，增强法制观念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心灵深处憎恶违法犯罪，行为上远离违法犯罪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杜绝不良行为做起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清违法犯罪的危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①③             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①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 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②③④         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①②③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249"/>
          <p:cNvSpPr/>
          <p:nvPr/>
        </p:nvSpPr>
        <p:spPr>
          <a:xfrm rot="14400000">
            <a:off x="7786440" y="2369520"/>
            <a:ext cx="129960" cy="44100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250"/>
          <p:cNvSpPr/>
          <p:nvPr/>
        </p:nvSpPr>
        <p:spPr>
          <a:xfrm rot="1800000">
            <a:off x="8064360" y="4832280"/>
            <a:ext cx="1461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251"/>
          <p:cNvSpPr/>
          <p:nvPr/>
        </p:nvSpPr>
        <p:spPr>
          <a:xfrm rot="5400000">
            <a:off x="8172720" y="6133320"/>
            <a:ext cx="1414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252"/>
          <p:cNvSpPr/>
          <p:nvPr/>
        </p:nvSpPr>
        <p:spPr>
          <a:xfrm rot="17400000">
            <a:off x="8040600" y="3868560"/>
            <a:ext cx="181080" cy="53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253"/>
          <p:cNvSpPr/>
          <p:nvPr/>
        </p:nvSpPr>
        <p:spPr>
          <a:xfrm rot="5400000">
            <a:off x="8071920" y="2757240"/>
            <a:ext cx="1396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170160" y="368280"/>
            <a:ext cx="59738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Franklin Gothic Medium"/>
              </a:rPr>
              <a:t> </a:t>
            </a:r>
            <a:r>
              <a:rPr b="1" lang="zh-CN" sz="6000" spc="-1" strike="noStrike">
                <a:solidFill>
                  <a:srgbClr val="3333ff"/>
                </a:solidFill>
                <a:latin typeface="Franklin Gothic Medium"/>
              </a:rPr>
              <a:t>运用拓展</a:t>
            </a:r>
            <a:endParaRPr b="0" lang="en-US" sz="6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1" name="WordArt 220"/>
          <p:cNvSpPr txBox="1"/>
          <p:nvPr/>
        </p:nvSpPr>
        <p:spPr>
          <a:xfrm rot="591000">
            <a:off x="7703640" y="1916280"/>
            <a:ext cx="28584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D</a:t>
            </a:r>
            <a:endParaRPr b="1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5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AutoShape 4"/>
          <p:cNvSpPr/>
          <p:nvPr/>
        </p:nvSpPr>
        <p:spPr>
          <a:xfrm>
            <a:off x="900000" y="1119240"/>
            <a:ext cx="767088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6"/>
          <p:cNvSpPr/>
          <p:nvPr/>
        </p:nvSpPr>
        <p:spPr>
          <a:xfrm>
            <a:off x="1224000" y="5553000"/>
            <a:ext cx="253800" cy="25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7"/>
          <p:cNvSpPr/>
          <p:nvPr/>
        </p:nvSpPr>
        <p:spPr>
          <a:xfrm>
            <a:off x="1476360" y="5373720"/>
            <a:ext cx="38880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33"/>
          <p:cNvSpPr/>
          <p:nvPr/>
        </p:nvSpPr>
        <p:spPr>
          <a:xfrm>
            <a:off x="1230480" y="1317600"/>
            <a:ext cx="709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良行为和严重不良行为，都有可能发展为违法犯罪。在我们身边存在的不良行为或严重不良行为有（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旷课　      ②打架斗殴、辱骂他人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行向他人索要财物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看、收听色情、淫秽的音像制品、读物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①②③④       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②③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①②④           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①③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249"/>
          <p:cNvSpPr/>
          <p:nvPr/>
        </p:nvSpPr>
        <p:spPr>
          <a:xfrm rot="14400000">
            <a:off x="7801560" y="1941480"/>
            <a:ext cx="1299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250"/>
          <p:cNvSpPr/>
          <p:nvPr/>
        </p:nvSpPr>
        <p:spPr>
          <a:xfrm rot="1800000">
            <a:off x="8064360" y="4832280"/>
            <a:ext cx="1461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51"/>
          <p:cNvSpPr/>
          <p:nvPr/>
        </p:nvSpPr>
        <p:spPr>
          <a:xfrm rot="5400000">
            <a:off x="8172720" y="6133320"/>
            <a:ext cx="1414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252"/>
          <p:cNvSpPr/>
          <p:nvPr/>
        </p:nvSpPr>
        <p:spPr>
          <a:xfrm rot="17400000">
            <a:off x="8040600" y="3868560"/>
            <a:ext cx="181080" cy="53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253"/>
          <p:cNvSpPr/>
          <p:nvPr/>
        </p:nvSpPr>
        <p:spPr>
          <a:xfrm rot="5400000">
            <a:off x="8071920" y="2757240"/>
            <a:ext cx="1396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WordArt 219"/>
          <p:cNvSpPr txBox="1"/>
          <p:nvPr/>
        </p:nvSpPr>
        <p:spPr>
          <a:xfrm rot="591000">
            <a:off x="6911640" y="2349360"/>
            <a:ext cx="28584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A</a:t>
            </a:r>
            <a:endParaRPr b="1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3"/>
          <p:cNvSpPr/>
          <p:nvPr/>
        </p:nvSpPr>
        <p:spPr>
          <a:xfrm>
            <a:off x="324000" y="123336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分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中生郑某原来表现很好，曾多次被评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好学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后来他常和社会上不三不四得人来往，变得无心学习，不交作业，经常旷课，一个偶然的机会，他结识了几个赌友，之后便经常旷课赌博还被公安机关处以罚款。但郑某不思悔改，为了偿还赌债，他在校园里偷窃少量财物，被学校扭送到公安机关拘留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。为了报复学校，在拘留期满后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深夜，他带上汽油、打火机，纵火烧毁了学校实验楼，造成国家财产损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元，被人民法院依法判处无期徒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4"/>
          <p:cNvSpPr txBox="1"/>
          <p:nvPr/>
        </p:nvSpPr>
        <p:spPr>
          <a:xfrm>
            <a:off x="5904000" y="235080"/>
            <a:ext cx="216360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以致用</a:t>
            </a:r>
            <a:endParaRPr b="0" lang="en-US" sz="1800" spc="1" strike="noStrike">
              <a:ln w="1260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65" name="Picture 5" descr="bang1"/>
          <p:cNvPicPr/>
          <p:nvPr/>
        </p:nvPicPr>
        <p:blipFill>
          <a:blip r:embed="rId1"/>
          <a:stretch/>
        </p:blipFill>
        <p:spPr>
          <a:xfrm>
            <a:off x="8280360" y="0"/>
            <a:ext cx="86364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3"/>
          <p:cNvSpPr txBox="1"/>
          <p:nvPr/>
        </p:nvSpPr>
        <p:spPr>
          <a:xfrm>
            <a:off x="2592360" y="512640"/>
            <a:ext cx="32749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中宋"/>
              </a:rPr>
              <a:t>复习回顾：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576360" y="2023920"/>
            <a:ext cx="7596000" cy="40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286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什么是违法行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违法行为有哪几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犯罪的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犯罪的三个基本特征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什么是刑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刑罚分几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A370-CD49-4753-A242-C1BFCA7C8E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669960" y="1052640"/>
            <a:ext cx="847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根据上面材料回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１）郑某的行为中哪些属于违反校纪校规的行为？哪些属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违法行为？哪些属于犯罪行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２）你从这个案例中受到了什么启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334240" y="2421000"/>
            <a:ext cx="493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无心学习，不交作业，旷课属于违反校纪校规的行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赌博、偷少量财物属于一般违法行为；纵火烧毁教学楼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犯罪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611280" y="450864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我们应自觉树立法律意识，维护法律的尊严，自觉依法自律，做一个守法的人；加强自身修养，践行道德，做一个有道德的人。要从小事做起，预防违法犯罪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7" descr="bang1"/>
          <p:cNvPicPr/>
          <p:nvPr/>
        </p:nvPicPr>
        <p:blipFill>
          <a:blip r:embed="rId1"/>
          <a:stretch/>
        </p:blipFill>
        <p:spPr>
          <a:xfrm>
            <a:off x="8280360" y="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74" name="WordArt 8"/>
          <p:cNvSpPr txBox="1"/>
          <p:nvPr/>
        </p:nvSpPr>
        <p:spPr>
          <a:xfrm>
            <a:off x="5904000" y="235080"/>
            <a:ext cx="216360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以致用</a:t>
            </a:r>
            <a:endParaRPr b="0" lang="en-US" sz="1800" spc="1" strike="noStrike">
              <a:ln w="1260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458"/>
          <p:cNvGrpSpPr/>
          <p:nvPr/>
        </p:nvGrpSpPr>
        <p:grpSpPr>
          <a:xfrm>
            <a:off x="868320" y="2438280"/>
            <a:ext cx="541080" cy="560160"/>
            <a:chOff x="868320" y="2438280"/>
            <a:chExt cx="541080" cy="560160"/>
          </a:xfrm>
        </p:grpSpPr>
        <p:sp>
          <p:nvSpPr>
            <p:cNvPr id="420" name="Oval 4"/>
            <p:cNvSpPr/>
            <p:nvPr/>
          </p:nvSpPr>
          <p:spPr>
            <a:xfrm>
              <a:off x="868320" y="2438280"/>
              <a:ext cx="541080" cy="5601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5"/>
            <p:cNvSpPr/>
            <p:nvPr/>
          </p:nvSpPr>
          <p:spPr>
            <a:xfrm>
              <a:off x="884520" y="2474280"/>
              <a:ext cx="510480" cy="48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6"/>
            <p:cNvSpPr/>
            <p:nvPr/>
          </p:nvSpPr>
          <p:spPr>
            <a:xfrm>
              <a:off x="913320" y="2512440"/>
              <a:ext cx="448920" cy="42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15600" y="3482640"/>
            <a:ext cx="6048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逐步形成分辨是非、辨别善恶的能力。</a:t>
            </a:r>
            <a:r>
              <a:rPr b="0" lang="zh-CN" sz="3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pSp>
        <p:nvGrpSpPr>
          <p:cNvPr id="424" name="Group 460"/>
          <p:cNvGrpSpPr/>
          <p:nvPr/>
        </p:nvGrpSpPr>
        <p:grpSpPr>
          <a:xfrm>
            <a:off x="868320" y="3627360"/>
            <a:ext cx="541080" cy="560160"/>
            <a:chOff x="868320" y="3627360"/>
            <a:chExt cx="541080" cy="560160"/>
          </a:xfrm>
        </p:grpSpPr>
        <p:sp>
          <p:nvSpPr>
            <p:cNvPr id="425" name="Oval 461"/>
            <p:cNvSpPr/>
            <p:nvPr/>
          </p:nvSpPr>
          <p:spPr>
            <a:xfrm>
              <a:off x="868320" y="3627360"/>
              <a:ext cx="541080" cy="5601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62"/>
            <p:cNvSpPr/>
            <p:nvPr/>
          </p:nvSpPr>
          <p:spPr>
            <a:xfrm>
              <a:off x="884520" y="3663360"/>
              <a:ext cx="510480" cy="48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463"/>
            <p:cNvSpPr/>
            <p:nvPr/>
          </p:nvSpPr>
          <p:spPr>
            <a:xfrm>
              <a:off x="913320" y="3701520"/>
              <a:ext cx="448920" cy="42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588680" y="3230280"/>
            <a:ext cx="6769440" cy="36360"/>
            <a:chOff x="1588680" y="3230280"/>
            <a:chExt cx="6769440" cy="36360"/>
          </a:xfrm>
        </p:grpSpPr>
        <p:sp>
          <p:nvSpPr>
            <p:cNvPr id="429" name="Line 464"/>
            <p:cNvSpPr/>
            <p:nvPr/>
          </p:nvSpPr>
          <p:spPr>
            <a:xfrm flipV="1">
              <a:off x="1589040" y="3230280"/>
              <a:ext cx="6769080" cy="36360"/>
            </a:xfrm>
            <a:prstGeom prst="line">
              <a:avLst/>
            </a:prstGeom>
            <a:ln cap="rnd" w="28440">
              <a:solidFill>
                <a:srgbClr val="00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 rot="10800000">
              <a:off x="1588680" y="3229920"/>
              <a:ext cx="6769080" cy="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Rectangle 695"/>
          <p:cNvSpPr/>
          <p:nvPr/>
        </p:nvSpPr>
        <p:spPr>
          <a:xfrm>
            <a:off x="1763640" y="657360"/>
            <a:ext cx="597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学 习 目 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32"/>
          <p:cNvSpPr/>
          <p:nvPr/>
        </p:nvSpPr>
        <p:spPr>
          <a:xfrm>
            <a:off x="2849040" y="2187720"/>
            <a:ext cx="42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通过学习，了解犯罪的危害，知道不良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严重不良行为可能发展为违法犯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60"/>
          <p:cNvGrpSpPr/>
          <p:nvPr/>
        </p:nvGrpSpPr>
        <p:grpSpPr>
          <a:xfrm>
            <a:off x="868320" y="4759200"/>
            <a:ext cx="541080" cy="560160"/>
            <a:chOff x="868320" y="4759200"/>
            <a:chExt cx="541080" cy="560160"/>
          </a:xfrm>
        </p:grpSpPr>
        <p:sp>
          <p:nvSpPr>
            <p:cNvPr id="434" name="Oval 461"/>
            <p:cNvSpPr/>
            <p:nvPr/>
          </p:nvSpPr>
          <p:spPr>
            <a:xfrm>
              <a:off x="868320" y="4759200"/>
              <a:ext cx="541080" cy="560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462"/>
            <p:cNvSpPr/>
            <p:nvPr/>
          </p:nvSpPr>
          <p:spPr>
            <a:xfrm>
              <a:off x="884520" y="4795200"/>
              <a:ext cx="510480" cy="48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463"/>
            <p:cNvSpPr/>
            <p:nvPr/>
          </p:nvSpPr>
          <p:spPr>
            <a:xfrm>
              <a:off x="913320" y="4833360"/>
              <a:ext cx="448920" cy="42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 Box 240"/>
          <p:cNvSpPr/>
          <p:nvPr/>
        </p:nvSpPr>
        <p:spPr>
          <a:xfrm>
            <a:off x="4767120" y="47275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加强自身修养，增强法制观念，防微杜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552320" y="5283000"/>
            <a:ext cx="6769440" cy="36360"/>
            <a:chOff x="1552320" y="5283000"/>
            <a:chExt cx="6769440" cy="36360"/>
          </a:xfrm>
        </p:grpSpPr>
        <p:sp>
          <p:nvSpPr>
            <p:cNvPr id="439" name="Line 464"/>
            <p:cNvSpPr/>
            <p:nvPr/>
          </p:nvSpPr>
          <p:spPr>
            <a:xfrm flipV="1">
              <a:off x="1552680" y="5283000"/>
              <a:ext cx="6769080" cy="36360"/>
            </a:xfrm>
            <a:prstGeom prst="line">
              <a:avLst/>
            </a:prstGeom>
            <a:ln cap="rnd" w="28440">
              <a:solidFill>
                <a:srgbClr val="00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 rot="10800000">
              <a:off x="1552320" y="5282640"/>
              <a:ext cx="6769080" cy="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552320" y="4238280"/>
            <a:ext cx="6769440" cy="36360"/>
            <a:chOff x="1552320" y="4238280"/>
            <a:chExt cx="6769440" cy="36360"/>
          </a:xfrm>
        </p:grpSpPr>
        <p:sp>
          <p:nvSpPr>
            <p:cNvPr id="442" name="Line 464"/>
            <p:cNvSpPr/>
            <p:nvPr/>
          </p:nvSpPr>
          <p:spPr>
            <a:xfrm flipV="1">
              <a:off x="1552680" y="4238280"/>
              <a:ext cx="6769080" cy="36360"/>
            </a:xfrm>
            <a:prstGeom prst="line">
              <a:avLst/>
            </a:prstGeom>
            <a:ln cap="rnd" w="28440">
              <a:solidFill>
                <a:srgbClr val="00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 rot="10800000">
              <a:off x="1552320" y="4237920"/>
              <a:ext cx="6769080" cy="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3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设疑自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324000" y="1773360"/>
            <a:ext cx="84960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请同学们用自己喜欢的方式读教材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97---P101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页内容，采用圈点、批注的方法，根据自己的理解提出问题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矩形 5"/>
          <p:cNvSpPr/>
          <p:nvPr/>
        </p:nvSpPr>
        <p:spPr>
          <a:xfrm>
            <a:off x="2879640" y="3500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31640" y="1844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4680" indent="-228600">
              <a:lnSpc>
                <a:spcPct val="100000"/>
              </a:lnSpc>
              <a:spcBef>
                <a:spcPts val="1001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Franklin Gothic Medium"/>
              </a:rPr>
              <a:t>要求：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  <a:p>
            <a:pPr marL="274680" indent="-228600">
              <a:lnSpc>
                <a:spcPct val="100000"/>
              </a:lnSpc>
              <a:spcBef>
                <a:spcPts val="1001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Franklin Gothic Medium"/>
              </a:rPr>
              <a:t>1</a:t>
            </a:r>
            <a:r>
              <a:rPr b="1" lang="zh-CN" sz="4000" spc="-1" strike="noStrike">
                <a:solidFill>
                  <a:srgbClr val="008000"/>
                </a:solidFill>
                <a:latin typeface="Franklin Gothic Medium"/>
              </a:rPr>
              <a:t>、限时</a:t>
            </a:r>
            <a:r>
              <a:rPr b="1" lang="en-US" sz="4000" spc="-1" strike="noStrike">
                <a:solidFill>
                  <a:srgbClr val="008000"/>
                </a:solidFill>
                <a:latin typeface="Franklin Gothic Medium"/>
              </a:rPr>
              <a:t>8</a:t>
            </a:r>
            <a:r>
              <a:rPr b="1" lang="zh-CN" sz="4000" spc="-1" strike="noStrike">
                <a:solidFill>
                  <a:srgbClr val="008000"/>
                </a:solidFill>
                <a:latin typeface="Franklin Gothic Medium"/>
              </a:rPr>
              <a:t>分钟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  <a:p>
            <a:pPr marL="274680" indent="-228600">
              <a:lnSpc>
                <a:spcPct val="100000"/>
              </a:lnSpc>
              <a:spcBef>
                <a:spcPts val="1001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Franklin Gothic Medium"/>
              </a:rPr>
              <a:t>2</a:t>
            </a:r>
            <a:r>
              <a:rPr b="1" lang="zh-CN" sz="4000" spc="-1" strike="noStrike">
                <a:solidFill>
                  <a:srgbClr val="008000"/>
                </a:solidFill>
                <a:latin typeface="Franklin Gothic Medium"/>
              </a:rPr>
              <a:t>、</a:t>
            </a:r>
            <a:r>
              <a:rPr b="1" lang="en-US" sz="4000" spc="-1" strike="noStrike">
                <a:solidFill>
                  <a:srgbClr val="008000"/>
                </a:solidFill>
                <a:latin typeface="Franklin Gothic Medium"/>
              </a:rPr>
              <a:t>5</a:t>
            </a:r>
            <a:r>
              <a:rPr b="1" lang="zh-CN" sz="4000" spc="-1" strike="noStrike">
                <a:solidFill>
                  <a:srgbClr val="008000"/>
                </a:solidFill>
                <a:latin typeface="Franklin Gothic Medium"/>
              </a:rPr>
              <a:t>分钟独立思考，</a:t>
            </a:r>
            <a:r>
              <a:rPr b="1" lang="en-US" sz="4000" spc="-1" strike="noStrike">
                <a:solidFill>
                  <a:srgbClr val="008000"/>
                </a:solidFill>
                <a:latin typeface="Franklin Gothic Medium"/>
              </a:rPr>
              <a:t>3</a:t>
            </a:r>
            <a:r>
              <a:rPr b="1" lang="zh-CN" sz="4000" spc="-1" strike="noStrike">
                <a:solidFill>
                  <a:srgbClr val="008000"/>
                </a:solidFill>
                <a:latin typeface="Franklin Gothic Medium"/>
              </a:rPr>
              <a:t>分钟小组交流，达成共识；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  <a:p>
            <a:pPr marL="274680" indent="-228600">
              <a:lnSpc>
                <a:spcPct val="100000"/>
              </a:lnSpc>
              <a:spcBef>
                <a:spcPts val="1001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Franklin Gothic Medium"/>
              </a:rPr>
              <a:t>3</a:t>
            </a:r>
            <a:r>
              <a:rPr b="1" lang="zh-CN" sz="4000" spc="-1" strike="noStrike">
                <a:solidFill>
                  <a:srgbClr val="008000"/>
                </a:solidFill>
                <a:latin typeface="Franklin Gothic Medium"/>
              </a:rPr>
              <a:t>、小组长做好记录，以备展示和点评。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250"/>
          <p:cNvSpPr/>
          <p:nvPr/>
        </p:nvSpPr>
        <p:spPr>
          <a:xfrm rot="1800000">
            <a:off x="8064360" y="4832280"/>
            <a:ext cx="1461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4"/>
          <p:cNvSpPr/>
          <p:nvPr/>
        </p:nvSpPr>
        <p:spPr>
          <a:xfrm>
            <a:off x="1116000" y="1281240"/>
            <a:ext cx="7658280" cy="51847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1224000" y="5553000"/>
            <a:ext cx="253800" cy="25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7"/>
          <p:cNvSpPr/>
          <p:nvPr/>
        </p:nvSpPr>
        <p:spPr>
          <a:xfrm>
            <a:off x="1476360" y="5373720"/>
            <a:ext cx="38880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1547640" y="1484280"/>
            <a:ext cx="716616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教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9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案例，思考并回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陈某由一个品学兼优的好学生逐步走向犯罪深渊的原因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导致人们走向犯罪道路的原因主要有：道德水平低；法制观念淡薄；为获得某种满足，贪图便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249"/>
          <p:cNvSpPr/>
          <p:nvPr/>
        </p:nvSpPr>
        <p:spPr>
          <a:xfrm rot="14400000">
            <a:off x="8385480" y="1941840"/>
            <a:ext cx="129960" cy="44280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251"/>
          <p:cNvSpPr/>
          <p:nvPr/>
        </p:nvSpPr>
        <p:spPr>
          <a:xfrm rot="5400000">
            <a:off x="8172720" y="6133320"/>
            <a:ext cx="1414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252"/>
          <p:cNvSpPr/>
          <p:nvPr/>
        </p:nvSpPr>
        <p:spPr>
          <a:xfrm rot="17400000">
            <a:off x="8040600" y="3868560"/>
            <a:ext cx="181080" cy="53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253"/>
          <p:cNvSpPr/>
          <p:nvPr/>
        </p:nvSpPr>
        <p:spPr>
          <a:xfrm rot="5400000">
            <a:off x="8071920" y="2757240"/>
            <a:ext cx="1396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584280"/>
            <a:ext cx="4465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解疑合探一：</a:t>
            </a:r>
            <a:endParaRPr b="0" lang="en-US" sz="5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58" name="Rectangle 250"/>
          <p:cNvSpPr/>
          <p:nvPr/>
        </p:nvSpPr>
        <p:spPr>
          <a:xfrm>
            <a:off x="3672000" y="441360"/>
            <a:ext cx="53290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认清犯罪危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4"/>
          <p:cNvSpPr/>
          <p:nvPr/>
        </p:nvSpPr>
        <p:spPr>
          <a:xfrm>
            <a:off x="826920" y="981000"/>
            <a:ext cx="8137800" cy="547236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6"/>
          <p:cNvSpPr/>
          <p:nvPr/>
        </p:nvSpPr>
        <p:spPr>
          <a:xfrm>
            <a:off x="1224000" y="5553000"/>
            <a:ext cx="253800" cy="25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7"/>
          <p:cNvSpPr/>
          <p:nvPr/>
        </p:nvSpPr>
        <p:spPr>
          <a:xfrm>
            <a:off x="1476360" y="5373720"/>
            <a:ext cx="38880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4"/>
          <p:cNvSpPr/>
          <p:nvPr/>
        </p:nvSpPr>
        <p:spPr>
          <a:xfrm>
            <a:off x="1079640" y="1011240"/>
            <a:ext cx="72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结合陈某的经历说说道德水平高低与违法犯罪之间有何联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道德水平高低与违法犯罪有密切的关系。人的行为是思想观念支配的。①道德水平高、法制观念强，就会追求上进，不犯或少犯错误，行为上就不会做出违法犯罪的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道德水平低、法制观念淡薄，就会追求低级趣味，难免犯违反纪律的错误，发展下去就会可能违法，甚至犯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249"/>
          <p:cNvSpPr/>
          <p:nvPr/>
        </p:nvSpPr>
        <p:spPr>
          <a:xfrm rot="14400000">
            <a:off x="8541360" y="1684800"/>
            <a:ext cx="130320" cy="44280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250"/>
          <p:cNvSpPr/>
          <p:nvPr/>
        </p:nvSpPr>
        <p:spPr>
          <a:xfrm rot="1800000">
            <a:off x="8424720" y="5229360"/>
            <a:ext cx="146160" cy="44280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251"/>
          <p:cNvSpPr/>
          <p:nvPr/>
        </p:nvSpPr>
        <p:spPr>
          <a:xfrm rot="5400000">
            <a:off x="8506080" y="604728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252"/>
          <p:cNvSpPr/>
          <p:nvPr/>
        </p:nvSpPr>
        <p:spPr>
          <a:xfrm rot="17400000">
            <a:off x="8312040" y="3865320"/>
            <a:ext cx="181080" cy="53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253"/>
          <p:cNvSpPr/>
          <p:nvPr/>
        </p:nvSpPr>
        <p:spPr>
          <a:xfrm rot="5400000">
            <a:off x="8469360" y="2878200"/>
            <a:ext cx="139680" cy="3045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4"/>
          <p:cNvSpPr/>
          <p:nvPr/>
        </p:nvSpPr>
        <p:spPr>
          <a:xfrm>
            <a:off x="900000" y="1268280"/>
            <a:ext cx="8064720" cy="518508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6"/>
          <p:cNvSpPr/>
          <p:nvPr/>
        </p:nvSpPr>
        <p:spPr>
          <a:xfrm>
            <a:off x="1224000" y="5553000"/>
            <a:ext cx="253800" cy="25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7"/>
          <p:cNvSpPr/>
          <p:nvPr/>
        </p:nvSpPr>
        <p:spPr>
          <a:xfrm>
            <a:off x="1476360" y="5373720"/>
            <a:ext cx="38880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4"/>
          <p:cNvSpPr/>
          <p:nvPr/>
        </p:nvSpPr>
        <p:spPr>
          <a:xfrm>
            <a:off x="990720" y="1303200"/>
            <a:ext cx="788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教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9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案例，讨论：犯罪对自己、对他人、对家庭、对社会有什么危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对自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葬送自己的未来，并且最终受到法律的惩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对家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辜负父母的希望，可能使得家庭关系紧张，甚至造成家庭破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对他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犯别人的财产权和人身安全，对他人的财物和生命造成危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对社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扰乱社会治安秩序，影响了社会的稳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249"/>
          <p:cNvSpPr/>
          <p:nvPr/>
        </p:nvSpPr>
        <p:spPr>
          <a:xfrm rot="14400000">
            <a:off x="8385480" y="1941840"/>
            <a:ext cx="129960" cy="44280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250"/>
          <p:cNvSpPr/>
          <p:nvPr/>
        </p:nvSpPr>
        <p:spPr>
          <a:xfrm rot="1800000">
            <a:off x="8064360" y="4832280"/>
            <a:ext cx="1461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51"/>
          <p:cNvSpPr/>
          <p:nvPr/>
        </p:nvSpPr>
        <p:spPr>
          <a:xfrm rot="5400000">
            <a:off x="8172720" y="6133320"/>
            <a:ext cx="1414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52"/>
          <p:cNvSpPr/>
          <p:nvPr/>
        </p:nvSpPr>
        <p:spPr>
          <a:xfrm rot="17400000">
            <a:off x="8040600" y="3868560"/>
            <a:ext cx="181080" cy="53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53"/>
          <p:cNvSpPr/>
          <p:nvPr/>
        </p:nvSpPr>
        <p:spPr>
          <a:xfrm rot="5400000">
            <a:off x="8071920" y="2757240"/>
            <a:ext cx="1396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576360" y="112536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方正姚体"/>
                <a:ea typeface="方正姚体"/>
              </a:rPr>
              <a:t>思考一：</a:t>
            </a:r>
            <a:r>
              <a:rPr b="1" lang="en-US" sz="2400" spc="-1" strike="noStrike">
                <a:solidFill>
                  <a:srgbClr val="000066"/>
                </a:solidFill>
                <a:latin typeface="方正姚体"/>
                <a:ea typeface="方正姚体"/>
              </a:rPr>
              <a:t>98</a:t>
            </a:r>
            <a:r>
              <a:rPr b="1" lang="zh-CN" sz="2400" spc="-1" strike="noStrike">
                <a:solidFill>
                  <a:srgbClr val="000066"/>
                </a:solidFill>
                <a:latin typeface="方正姚体"/>
                <a:ea typeface="方正姚体"/>
              </a:rPr>
              <a:t>页材料中小迪的行为对自己、对他人、对家庭、对社会都有哪些危害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468360" y="33577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07ed"/>
                </a:solidFill>
                <a:latin typeface="Times New Roman"/>
                <a:ea typeface="黑体"/>
              </a:rPr>
              <a:t>对他人的危害：</a:t>
            </a:r>
            <a:r>
              <a:rPr b="1" lang="zh-CN" sz="2400" spc="-1" strike="noStrike">
                <a:solidFill>
                  <a:srgbClr val="4e07e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3059280" y="32130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损害他人财物、导致他人经济损失，危害他人人身安全、生命安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468360" y="2549520"/>
            <a:ext cx="29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07ed"/>
                </a:solidFill>
                <a:latin typeface="Times New Roman"/>
                <a:ea typeface="黑体"/>
              </a:rPr>
              <a:t>对自己的危害：</a:t>
            </a:r>
            <a:r>
              <a:rPr b="1" lang="zh-CN" sz="2400" spc="-1" strike="noStrike">
                <a:solidFill>
                  <a:srgbClr val="4e07e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5344920" y="2565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坐牢，失去人身自由，葬送前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1010520" y="4149720"/>
            <a:ext cx="17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07ed"/>
                </a:solidFill>
                <a:latin typeface="黑体"/>
                <a:ea typeface="黑体"/>
              </a:rPr>
              <a:t>对家庭的危害：</a:t>
            </a:r>
            <a:r>
              <a:rPr b="1" lang="zh-CN" sz="2400" spc="-1" strike="noStrike">
                <a:solidFill>
                  <a:srgbClr val="4e07ed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3059280" y="4221000"/>
            <a:ext cx="57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让家人伤心、失望，甚至危害家人的生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971280" y="486900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07ed"/>
                </a:solidFill>
                <a:latin typeface="Times New Roman"/>
                <a:ea typeface="黑体"/>
              </a:rPr>
              <a:t>对社会的危害：</a:t>
            </a:r>
            <a:r>
              <a:rPr b="1" lang="zh-CN" sz="2800" spc="-1" strike="noStrike">
                <a:solidFill>
                  <a:srgbClr val="4e07e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5173920" y="479736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影响社会安定，败坏社会风气。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468360" y="5734080"/>
            <a:ext cx="5904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论：违法犯罪付出的代价太大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8199"/>
          <p:cNvSpPr/>
          <p:nvPr/>
        </p:nvSpPr>
        <p:spPr>
          <a:xfrm>
            <a:off x="1152360" y="641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2:32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58Z</dcterms:modified>
  <cp:revision>9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