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6.jpeg" ContentType="image/jpeg"/>
  <Override PartName="/ppt/media/image7.jpeg" ContentType="image/jpeg"/>
  <Override PartName="/ppt/media/camera.wav" ContentType="audio/x-wav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type.wav" ContentType="audio/x-wav"/>
  <Override PartName="/ppt/media/image5.jpeg" ContentType="image/jpeg"/>
  <Override PartName="/ppt/media/image10.jpeg" ContentType="image/jpeg"/>
  <Override PartName="/ppt/media/image8.jpeg" ContentType="image/jpeg"/>
  <Override PartName="/ppt/media/projctor.wav" ContentType="audio/x-wav"/>
  <Override PartName="/ppt/media/cashreg.wav" ContentType="audio/x-wav"/>
  <Override PartName="/ppt/media/image4.png" ContentType="image/png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73A3-2BEB-4313-A97A-0666FFB1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B04-6EEB-48D1-82BE-67BDB496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655-DA60-438D-8BBE-AFDF7334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F94-F5CE-446E-89A8-F2F26B5A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7DFF-CD0E-478D-8383-542C572F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4474-CAE4-4466-9DF8-EFD3D1B1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F387-DA8F-47A6-8B00-AE7A3DB8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B931-FC24-4940-B9EF-A1D8F0C2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CEF5-E4EB-4493-B159-B2E43D9E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DF34-96EF-4AAF-8B67-D7F0F9F8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E42C-2D56-46F0-B819-48325AD3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817-77F6-4818-B79A-3E736B9E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507B-366B-4E30-95B2-4339B1EF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DAB6-9C99-4259-8834-24A46EE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2E4D-C75E-4FFE-A328-EE8C8C49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4028-18C8-4C4B-9935-508736BB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5EAD-76F6-4FEB-87C3-3F33DFD2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1CCA-1E03-4966-AFB6-D93A3FD3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F5CD-0DDC-42D4-A295-46E8003E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59A3A-F229-47A8-A289-51098756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456F1-C7BE-4B84-AF77-ACD9A85C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00671-970F-4883-A28E-A8BF5DF6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A37-1653-48C8-9253-19B4401A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1520-BB7E-4F55-B45D-46933078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8EC2-D365-4EA4-9661-738F50C5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358BE-D8F5-4C9E-AF35-1BE7ABB6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18F8-405F-4554-B0C2-EDED10D9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10A4-417D-411A-A964-A607C0EC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7FE4-F98E-44A6-BE4A-979F02DC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DF191-0BFB-4EBC-8C19-50C41F4C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A67-82B3-445C-A94A-69A2EB25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8D7-CAB2-4471-B855-D965030C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1F2-66CA-4C21-BB85-F25A0773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522-0C9E-479F-8DD6-EE039E28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08D-F643-41D4-A74A-8ACE7A66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CE1-F3E4-4012-912E-4E7DD5F8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9290-929C-4C70-9B16-2B581ABE2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28FF-9C8B-4316-A8E0-9232FA9D7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D255-194C-46DA-944C-0631950DAE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laser.wav"/><Relationship Id="rId5" Type="http://schemas.openxmlformats.org/officeDocument/2006/relationships/audio" Target="../media/type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audio" Target="../media/cashreg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shreg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01720" y="1989000"/>
            <a:ext cx="5639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3300"/>
                </a:solidFill>
                <a:latin typeface="华文行楷"/>
              </a:rPr>
              <a:t>凡卡小学语文</a:t>
            </a:r>
            <a:r>
              <a:rPr b="1" lang="en-US" sz="40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3300"/>
                </a:solidFill>
                <a:latin typeface="华文行楷"/>
              </a:rPr>
              <a:t>PPT</a:t>
            </a:r>
            <a:r>
              <a:rPr b="1" lang="zh-CN" sz="40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3300"/>
                </a:solidFill>
                <a:latin typeface="华文行楷"/>
              </a:rPr>
              <a:t>课件下载</a:t>
            </a:r>
            <a:endParaRPr b="1" lang="en-US" sz="4000" spc="1" strike="noStrike">
              <a:ln w="9360">
                <a:solidFill>
                  <a:srgbClr val="008000"/>
                </a:solidFill>
                <a:round/>
              </a:ln>
              <a:solidFill>
                <a:srgbClr val="ff3300"/>
              </a:solidFill>
              <a:latin typeface="华文行楷"/>
              <a:ea typeface="华文行楷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FR20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1981080" y="152280"/>
            <a:ext cx="51055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课后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Times New Roman"/>
                <a:ea typeface="华文隶书"/>
              </a:rPr>
              <a:t>    </a:t>
            </a:r>
            <a:r>
              <a:rPr b="1" lang="zh-CN" sz="5400" spc="-1" strike="noStrike">
                <a:solidFill>
                  <a:srgbClr val="cc00ff"/>
                </a:solidFill>
                <a:latin typeface="Times New Roman"/>
                <a:ea typeface="华文隶书"/>
              </a:rPr>
              <a:t>把凡卡的故事讲给亲友听，看看身边有没有凡卡这样的人，请你设法帮助他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6343-2466-4439-BB34-0E68560C28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4284720" y="549360"/>
            <a:ext cx="44640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宋体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读了凡卡，我们认识了什么？对今天的生活应该怎样珍惜？回家和父母聊一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219320" y="457200"/>
            <a:ext cx="6095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教学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、了解旧俄时代穷孩子的悲惨命运，理解作者表达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、学习课文的细节描写和叙述、信、凡卡的回忆交叉在一起描写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、有感情地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8199"/>
          <p:cNvSpPr/>
          <p:nvPr/>
        </p:nvSpPr>
        <p:spPr>
          <a:xfrm>
            <a:off x="2484360" y="98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6"/>
          <p:cNvSpPr/>
          <p:nvPr/>
        </p:nvSpPr>
        <p:spPr>
          <a:xfrm>
            <a:off x="2124000" y="639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p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828800" y="115920"/>
            <a:ext cx="6172200" cy="37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  <a:ea typeface="华文隶书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隶书"/>
              </a:rPr>
              <a:t>学习文中写信的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讨论：凡卡在信中讲了哪几件事？说明他是个怎样的孩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R2003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13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971640" y="50328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、问候爷爷，表明自己的思念及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   </a:t>
            </a:r>
            <a:r>
              <a:rPr b="1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孤儿身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、痛苦的学徒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3</a:t>
            </a:r>
            <a:r>
              <a:rPr b="1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、介绍莫斯科见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4</a:t>
            </a:r>
            <a:r>
              <a:rPr b="1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、哀求爷爷、问候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R2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2057400" y="1736640"/>
            <a:ext cx="670572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隶书"/>
              </a:rPr>
              <a:t>学习文中回忆的部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809880" y="356544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思考讨论：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凡卡在写信的同时还插进去叙述了哪些内容？作者这么写的目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8199"/>
          <p:cNvSpPr/>
          <p:nvPr/>
        </p:nvSpPr>
        <p:spPr>
          <a:xfrm>
            <a:off x="1835280" y="547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FR2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-76320" y="2819520"/>
            <a:ext cx="967752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爷爷守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乡村雪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以欢乐反衬凡卡的凄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和爷爷砍圣诞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80040" y="3276720"/>
            <a:ext cx="457200" cy="2313000"/>
          </a:xfrm>
          <a:custGeom>
            <a:avLst/>
            <a:gdLst>
              <a:gd name="textAreaLeft" fmla="*/ 0 w 457200"/>
              <a:gd name="textAreaRight" fmla="*/ 164880 w 457200"/>
              <a:gd name="textAreaTop" fmla="*/ 60120 h 2313000"/>
              <a:gd name="textAreaBottom" fmla="*/ 2252880 h 23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FR2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38280" y="1432080"/>
            <a:ext cx="4876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华文隶书"/>
              </a:rPr>
              <a:t>学习文章最后一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、凡卡的信爷爷能收到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、凡卡自己知道吗？如果你在场，你准备怎么帮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914400" y="90792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总结本文的写作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一、抓住细节描写，使文章写得很感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二、对比的描写，反衬凡卡的凄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插叙的手法，读来自然、流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8199"/>
          <p:cNvSpPr/>
          <p:nvPr/>
        </p:nvSpPr>
        <p:spPr>
          <a:xfrm>
            <a:off x="755640" y="141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5:11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04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