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0D2A-5664-41F1-A62F-45526A257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162C-577F-4EA2-B4FC-9190CCCD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99BE-285A-4DE9-9137-21B4CBEA8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85DF-7BF1-4416-A64E-2A7E3C0CA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625F-B875-4B0C-93EA-8D5D5E708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FE83-CB97-476D-98C7-B5437840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6D80-9E55-497E-82DA-0A4DA881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6DA2-5789-428C-9E4E-A31EBAE0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C683-9E1A-47E8-A3CC-838AA749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4C32-4806-4A0A-875B-ACEF1DB0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DD2F-A32B-423A-B049-D65A96C6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DB93-6083-4339-9A98-F87D8C70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701C-0506-4CEE-8953-39456722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80C8-5A1A-4705-8E4B-CE3852C1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A1E0-A5E0-44BF-B433-CDE366E6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C87F-6F79-42C3-ABC0-476A790D9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08C2-9F19-4835-A3EC-C3A6AA858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0411-262B-48AE-9B95-C90F098B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BA17-709B-49C7-828C-FFE00922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354A-D5A8-4DFD-BE64-4B9F7A2E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ECD6-90D2-42FF-B151-826D695D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C33D-9E1F-43DF-B765-20026F07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D668-1E17-44DF-ABAA-800C248F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FC68-F15C-45F5-BB0E-AA10E011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FB4D-2AF8-4C69-BE7D-A6A17AB50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66E4-4649-4BEF-8B43-BB02F34FE2A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8"/>
          <p:cNvSpPr txBox="1"/>
          <p:nvPr/>
        </p:nvSpPr>
        <p:spPr>
          <a:xfrm>
            <a:off x="1538280" y="990720"/>
            <a:ext cx="6400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分类和回收利用</a:t>
            </a:r>
            <a:r>
              <a:rPr b="1" lang="en-US" sz="40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模板打包下载</a:t>
            </a:r>
            <a:endParaRPr b="1" lang="en-US" sz="40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3" name="图片 1" descr=""/>
          <p:cNvPicPr/>
          <p:nvPr/>
        </p:nvPicPr>
        <p:blipFill>
          <a:blip r:embed="rId1"/>
          <a:srcRect l="0" t="4992" r="0" b="7542"/>
          <a:stretch/>
        </p:blipFill>
        <p:spPr>
          <a:xfrm>
            <a:off x="2133720" y="2743200"/>
            <a:ext cx="4919400" cy="337032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3"/>
          <p:cNvPicPr/>
          <p:nvPr/>
        </p:nvPicPr>
        <p:blipFill>
          <a:blip r:embed="rId1"/>
          <a:stretch/>
        </p:blipFill>
        <p:spPr>
          <a:xfrm>
            <a:off x="304920" y="990720"/>
            <a:ext cx="3962160" cy="4267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5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38433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1371600" y="55627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软木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5867280" y="55627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瓦楞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F6C8-A80C-4E0A-871C-8B0A373BA42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4"/>
          <p:cNvPicPr/>
          <p:nvPr/>
        </p:nvPicPr>
        <p:blipFill>
          <a:blip r:embed="rId1"/>
          <a:srcRect l="0" t="0" r="0" b="22642"/>
          <a:stretch/>
        </p:blipFill>
        <p:spPr>
          <a:xfrm>
            <a:off x="380880" y="1219320"/>
            <a:ext cx="4038840" cy="3124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914400" y="5257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利用报纸和纸板做成的书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6"/>
          <p:cNvPicPr/>
          <p:nvPr/>
        </p:nvPicPr>
        <p:blipFill>
          <a:blip r:embed="rId2"/>
          <a:stretch/>
        </p:blipFill>
        <p:spPr>
          <a:xfrm>
            <a:off x="4648320" y="990720"/>
            <a:ext cx="4286160" cy="38862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5257800" y="53341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利用木板制作的挂钥匙的饰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1295280" y="8380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知道废品回收站都回收些什么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10047546"/>
          <p:cNvPicPr/>
          <p:nvPr/>
        </p:nvPicPr>
        <p:blipFill>
          <a:blip r:embed="rId1"/>
          <a:stretch/>
        </p:blipFill>
        <p:spPr>
          <a:xfrm>
            <a:off x="914400" y="1752480"/>
            <a:ext cx="2895480" cy="28958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838080" y="4876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塑料：能够多次熔化成形，回收利用塑料能够减少环境污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5029200" y="48006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玻璃：回收玻璃比直接用天然原料制取玻璃便宜。因为玻璃熔化的温度比用生料熔炼的温度低很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g33_1242819"/>
          <p:cNvPicPr/>
          <p:nvPr/>
        </p:nvPicPr>
        <p:blipFill>
          <a:blip r:embed="rId2"/>
          <a:stretch/>
        </p:blipFill>
        <p:spPr>
          <a:xfrm>
            <a:off x="5257800" y="182880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5029200" y="23623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金属：许多金属可以被熔化后再利用。回收利用废金属，既节约能源又节约矿石资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219320" y="4724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家庭垃圾中，还有纸张、布料等可以被回收利用的材料。（完成作业本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7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页填表题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0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3009960" cy="857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"/>
          <p:cNvPicPr/>
          <p:nvPr/>
        </p:nvPicPr>
        <p:blipFill>
          <a:blip r:embed="rId2"/>
          <a:stretch/>
        </p:blipFill>
        <p:spPr>
          <a:xfrm>
            <a:off x="1447920" y="3581280"/>
            <a:ext cx="316224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533520" y="380880"/>
            <a:ext cx="800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垃圾的回收利用，需要把其中可利用的材料区分和集中起来。要进行有效地回收，必须改变垃圾混装的旧习惯，对生活垃圾进行分类和分装，这是我们每个公民应尽的义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457200" y="30481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垃圾分类的最终是一个资源循环型的社会。垃圾混装是把垃圾当成废物，而垃圾分装是把垃圾当成资源；混装的垃圾被送到填埋场，侵占了大量的土地，分装的垃圾被分送到各个回收再造部门，不占用土地；混装垃圾无论是填埋还是焚烧都会污染土地和大气，而分装垃圾则会促进无害化处理；混装垃圾增加环卫和环保部门的劳作，分装垃圾只需我们的举手之劳。而且垃圾分类、分装便于对有毒垃圾的处理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11"/>
          <p:cNvSpPr txBox="1"/>
          <p:nvPr/>
        </p:nvSpPr>
        <p:spPr>
          <a:xfrm>
            <a:off x="566640" y="2209680"/>
            <a:ext cx="26672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分装的好处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97" name="文本框 8200"/>
          <p:cNvSpPr/>
          <p:nvPr/>
        </p:nvSpPr>
        <p:spPr>
          <a:xfrm>
            <a:off x="3233880" y="23464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800" y="-7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1800" y="-7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795240" y="76212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009999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9999"/>
                </a:solidFill>
                <a:latin typeface="黑体"/>
                <a:ea typeface="黑体"/>
              </a:rPr>
              <a:t>回收废塑料</a:t>
            </a:r>
            <a:r>
              <a:rPr b="1" lang="en-US" sz="2400" spc="-1" strike="noStrike">
                <a:solidFill>
                  <a:srgbClr val="009999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9999"/>
                </a:solidFill>
                <a:latin typeface="黑体"/>
                <a:ea typeface="黑体"/>
              </a:rPr>
              <a:t>开发“第二油田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少废塑料可以还原为再生塑料，而所有的废塑料、废餐盒、食品袋、编织袋、软包装盒等都可以回炼为燃油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吨废塑料至少能回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千克汽油和柴油，难怪有人称回收旧塑料为开发“第二油田”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871560" y="3048120"/>
            <a:ext cx="762012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9999"/>
                </a:solidFill>
                <a:latin typeface="黑体"/>
                <a:ea typeface="黑体"/>
              </a:rPr>
              <a:t>回收废电池</a:t>
            </a:r>
            <a:r>
              <a:rPr b="1" lang="en-US" sz="2400" spc="-1" strike="noStrike">
                <a:solidFill>
                  <a:srgbClr val="009999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9999"/>
                </a:solidFill>
                <a:latin typeface="黑体"/>
                <a:ea typeface="黑体"/>
              </a:rPr>
              <a:t>防止悲剧重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痛痛病”和“水俣病”都是在日本发生的工业公害病。这是由于含镉或汞的工业废水污染了土壤和水源，进入了人类的食物链。“水俣病”是汞中毒，患者由于体内大量的积蓄甲基汞而发生脑中枢神经和末梢神经损害，轻者手足麻木，重者死亡。“痛痛病”是镉中毒，患者手足疼痛，全身各处都很容易发生骨折。得这种病的人都一直喊着“痛啊！痛啊！”，直到死去，所以被叫做“痛痛病”。由于普通土干电池都含有这两种有毒金属元素，所以说电池从生产到废弃，时刻都潜伏着污染。电池的回收势在必行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5"/>
          <p:cNvSpPr/>
          <p:nvPr/>
        </p:nvSpPr>
        <p:spPr>
          <a:xfrm>
            <a:off x="1143000" y="1676520"/>
            <a:ext cx="72388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9999"/>
                </a:solidFill>
                <a:latin typeface="黑体"/>
                <a:ea typeface="黑体"/>
              </a:rPr>
              <a:t>回收废纸</a:t>
            </a:r>
            <a:r>
              <a:rPr b="1" lang="en-US" sz="2400" spc="-1" strike="noStrike">
                <a:solidFill>
                  <a:srgbClr val="009999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9999"/>
                </a:solidFill>
                <a:latin typeface="黑体"/>
                <a:ea typeface="黑体"/>
              </a:rPr>
              <a:t>再造林木资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回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吨废纸能生产好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千克，可以少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棵大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节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立方米的垃圾填埋场空间，还可以节约一半以上的造纸能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减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5%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水污染，每张纸至少可以回收两次。办公用纸、旧信封信纸、笔记本、书籍、报纸、广告宣传纸、贷物包装纸、纸箱纸盒、纸餐具等在第一次回收后，可再造纸印制成书籍、稿纸、名片、使条纸等。第二次回收后，还可制成卫生纸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066680" y="4495680"/>
            <a:ext cx="7467840" cy="12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9999"/>
                </a:solidFill>
                <a:latin typeface="黑体"/>
                <a:ea typeface="黑体"/>
              </a:rPr>
              <a:t>回收生物垃圾</a:t>
            </a:r>
            <a:r>
              <a:rPr b="1" lang="en-US" sz="2400" spc="-1" strike="noStrike">
                <a:solidFill>
                  <a:srgbClr val="009999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9999"/>
                </a:solidFill>
                <a:latin typeface="黑体"/>
                <a:ea typeface="黑体"/>
              </a:rPr>
              <a:t>再造绿色肥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我们日常生活的食物残渣可以通过堆肥再造、成为植树绿化的有机肥料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5"/>
          <p:cNvSpPr/>
          <p:nvPr/>
        </p:nvSpPr>
        <p:spPr>
          <a:xfrm>
            <a:off x="1143000" y="1828800"/>
            <a:ext cx="746748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黑体"/>
                <a:ea typeface="黑体"/>
              </a:rPr>
              <a:t>5.</a:t>
            </a: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回收各种废弃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            </a:t>
            </a:r>
            <a:r>
              <a:rPr b="1" lang="en-US" sz="2800" spc="-1" strike="noStrike">
                <a:solidFill>
                  <a:srgbClr val="009999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所有的垃圾都能变成资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铝制易拉罐再制铝，比用铝土提取铝少消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1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能量，减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5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空气污染；废玻璃再造玻璃，不仅可节约石英砂、纯碱、长石粉、煤炭，还可节电，减少大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能量消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减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空气污染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水污染。回收一个玻璃瓶节省的能量，可使灯泡发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时。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1219320" y="1523880"/>
            <a:ext cx="617220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堆肥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将食品废料、杂草、落叶等掺入污水，堆积起来，表面覆盖一层土壤。腐熟时间一般需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~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月。腐熟后的垃圾可以用来做底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8200"/>
          <p:cNvSpPr/>
          <p:nvPr/>
        </p:nvSpPr>
        <p:spPr>
          <a:xfrm>
            <a:off x="1501920" y="46418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2"/>
          <p:cNvPicPr/>
          <p:nvPr/>
        </p:nvPicPr>
        <p:blipFill>
          <a:blip r:embed="rId1"/>
          <a:srcRect l="0" t="0" r="0" b="12590"/>
          <a:stretch/>
        </p:blipFill>
        <p:spPr>
          <a:xfrm>
            <a:off x="228600" y="152280"/>
            <a:ext cx="4724280" cy="2743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环保坐椅"/>
          <p:cNvPicPr/>
          <p:nvPr/>
        </p:nvPicPr>
        <p:blipFill>
          <a:blip r:embed="rId2"/>
          <a:srcRect l="0" t="0" r="0" b="11891"/>
          <a:stretch/>
        </p:blipFill>
        <p:spPr>
          <a:xfrm>
            <a:off x="4038480" y="3352680"/>
            <a:ext cx="4648320" cy="30481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533520" y="44197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99"/>
                </a:solidFill>
                <a:latin typeface="Arial"/>
                <a:ea typeface="华文行楷"/>
              </a:rPr>
              <a:t>漂亮的环保坐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1T08:22:1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5:15Z</dcterms:modified>
  <cp:revision>2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