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A9AF-E48D-4617-991B-C731E1FF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3B68-5060-4749-A707-5F01F94B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01D05-96CD-4357-B3A1-7401EE01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BAD82-3348-4FD9-837B-7D4E9CBD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D2988-B546-48FE-BEF2-CE03A44D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58AD6-C2FE-4F16-89AE-5574B0AA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55585-0356-418E-9736-B2A741A0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3049F-5641-4A2C-A035-E101ECA0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98AA7-270A-4794-9E17-909BE04E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7386A-5BE0-493F-9081-7A8B34D6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37E00-D7E3-40F8-B572-2948FB91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DC5A6-6253-48F4-AD5D-E8A085C5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9EA-534F-466A-8D63-DF27EC3E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D4B0E-BDC2-4ED2-AC2E-EEFDDB82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FDA96-863E-4BD4-98A5-53E5CF29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3E427-13B3-4913-AC39-9188B131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058E2-EBDD-4554-8D0A-DC7810D4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8AB39-EED1-434E-AE57-C025B23C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7DD2E-5F84-457D-84A2-3939BE97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0A049-5B2A-423E-B365-A2B80987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9B169-119F-46E4-819D-A8A1E255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9FACA-4064-4E73-9D09-9C1FB8F9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73089-B5AD-499D-9F68-E9465AF0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869-C128-4A24-A6C6-36A19D6B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7D352-D8DD-4ACA-B706-B47AD0C4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45E51-C421-4956-B96C-C32DFF74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C79A7-C187-4DC0-B017-47B5B6F3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BF935-A0B1-4447-B65D-559AA9EB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9FD61-2562-4F08-9987-808F8AD6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90A19-E4DA-4633-AF54-6A3AFCB8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411D5-688C-4CD6-9533-D1638754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887C3-8641-4C82-86CE-F0BEB178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08094-366A-497A-90ED-9E98F115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319DD-246D-4AE9-8766-33A699D2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5BD0-43FD-4A5B-8EE1-B826ACE3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1A2B3-E738-4A3D-9183-C8111B9F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80F11-9829-4D12-ABB2-D28B4240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4EB01-23A3-4763-A6F0-CBFB6B03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59E06-25B5-4D17-ACF9-6B063A6C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FE92C-6915-48DA-9D8A-2E0DC338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4A014-3B9D-40D7-AEA4-21E566FA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83F35-620C-404E-B638-76EE93AC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C475B-A481-4A01-B92E-47F805C1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8FEFE-B62D-4FF6-8933-D5D75B65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E8094-89CD-4FBE-83D2-CB4EBC4F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A40C-F8BC-48AA-9C66-4DCC0B6C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E31E8-2307-4286-87B0-04D499AB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F0DC6-CF81-46DC-9C31-F5552835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90638-2313-4F41-B5BB-605D5325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8E94E-9902-43B9-BA6F-18966915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3D366-B808-4992-91CF-C032DFEC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1F1C7-9F9F-4CEB-A1BB-97CFC403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364CD9-3739-4C8B-BF39-A13B05F8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D0E4B-26B7-4B22-BAA9-24C8930D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A1042-BB00-4009-A9CF-3110F44E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61A53-C9C2-45B9-9020-1A6BBFB7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C1DB-D7A5-4C48-B9D0-38D1BC99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D214C-BE65-4443-BD31-A7155BDF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008BA-3BF8-4663-AE86-B0360EC2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018D1-1B98-4690-BF29-76475652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2E011-D6BD-45D8-99FF-48C3092D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B9F47-6A2B-484A-A6A2-008D47EE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BDF05-5B74-4413-913F-1D28A0B8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E47819-2473-41F5-8BB8-8D1E3D97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F763D5-B960-4333-9963-7B50C3AC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13417-1B7F-49F2-8D53-85F90030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BE8EA2-46CC-4540-A56F-D8B4BA1C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DF18-82BA-4EED-85AE-64527A64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D7A283-588F-4974-B1DD-F390B857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C5228C-BA0C-4CEF-A4CB-EDCBD1E3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1E52E9-D507-4FD8-9A76-95355197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825EC4-82A2-450E-A91C-291A7B6C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E5B166-A31A-4008-A1D6-2DB24B77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C5AD5A-8B9C-4BDB-9AFD-D5127675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854103-E4E4-43FC-9EFE-853A4C66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FC835-59A2-42AC-8F1F-A2B72C7F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8E78E-1E45-46FA-B115-D8BE5C38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9225F2-DDB5-4537-82B5-C88D46E5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F5DC-04B5-4BAE-B2A8-3F291591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A57EC-AC31-43AE-97AB-4A5EAD05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F50C5F-0FFD-417C-91B5-51B38D3B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0F27C5-4460-462D-90CF-CB966BE4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42FC3E-C1AB-4AB7-84FB-0BDDEFDB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63AF30-E84F-4D67-89D5-48F9A302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F411EB-BAE4-48C2-BB03-345BD0A3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AD327B-252E-47F8-8479-21E3D085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D76A74-A4BE-421E-B8E2-E987D194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37329-7689-4236-AFC0-5E175350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69B2A8-933E-4BAA-BFED-89CC60B8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7B4B-CE90-4271-BB77-577DBF5E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4C75A6-9D2E-48C2-A748-52EBCF97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F9E9CC-931B-46EE-906C-B3031A6E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84C4B2-3822-4AC4-8B9D-C14221D5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2C0FD6-FE58-4528-AF20-0B5C9348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F0F369-62F7-4667-8DC2-2069BF8D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BB9DB4-4488-4361-B6B7-3678D638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76AA7-676D-43B0-BDB2-E31A7DAA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36898A-9263-4359-B7E2-FBF8EE28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F07376-E4BF-4C40-89E6-D41C5940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2DC40C-E3B3-4F06-AC84-76905DC7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0156-D0DD-4B81-8F6B-A1980652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19B912-5223-40C1-A916-7BEA827D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318B94-712D-4938-8953-769398CE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7ABB66-3F0C-4104-AB91-4513749A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B8BD4B-BEC7-4A1F-8194-94FB8E1C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32A9DC-305D-437A-B446-BF619156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51BE0E-8F85-4BF7-A6F1-2B1D3208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416FA1-2450-4E01-8250-B55F79F5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3951DF-2010-471B-9239-8593C3D4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CEA163-04B2-49C1-8676-CE66C054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769095-5BDE-4C3C-915B-1440848E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6B6-1EFF-47C8-B114-8EB800CB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120D-D594-4D6D-9D7E-0223E02C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B806D3-9934-4F6C-A203-D01E292F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3BB2EF-F202-4C93-82A6-301D2713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DE68A6-3574-4C94-86EE-DEAFCCBA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CD968C-0959-46B6-8447-C9D49F1A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C80CD9-5241-47B7-AB23-29859815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A955BC-782F-452E-A163-5D4AC2D9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AE5F1-C01B-4F07-904C-59645FC3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D9D13A-909C-4F2A-940E-DDDEADF9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38D4C6-9F81-4765-9D98-EBD13F7B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800937-E0EA-4CF5-9A50-5872A59D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38C7-05BC-49C7-AB6D-E9707DB1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7149B0-B43A-421D-8636-7BBFDD96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ABD0AC-4B76-4DEB-80FB-29B9F9E0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24A1B8-A8B7-43DA-A9AC-0215517A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97D91D-FC30-4486-9485-C6701824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68345-0D5C-4F66-868A-71D2CC20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02FEE6-B6BE-4026-8E7C-22689EF9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F58996-2D83-4918-9145-0AC56EDC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0FE70C-37D4-4921-BAF9-FCCEFCEC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D9D86-49FB-4B7F-BF52-0D4BA0A6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0EC35C-D345-4BDB-884A-2C8F8CC4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405C-2EDB-4072-A0F8-16BD2A75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E5B95E-4EC0-46AB-A414-5570BBF5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D4D534-F4DE-4701-967D-E031F81E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662D05-927C-4F5A-BBF5-53A68BB7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07C04A-921D-43C1-8388-84284D7F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DC1F9C-874E-48E0-B680-87D5F1F1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D99427-11B6-4F17-B817-4DCD4CBD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E645CD-6D72-4D15-AEFC-A6B34AAD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9F1562-9295-4488-BC66-83EA8551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78D64E-5226-4121-9A9B-D368017A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4823CA-BC7C-4815-839C-67CC8DA1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6B5B-10FE-4183-9020-082D8FC2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4D416A-8567-46DB-A9E4-09690393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F2143C-E9E9-4621-80D3-99C46486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3D2ED4-839F-4CBC-9F56-8441B84F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6C9FF2-4ABB-4D3B-B83C-A387D3DD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B2AD06-64FB-4F30-8D99-0856A08E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FC75D3-E8AD-4A94-A6A3-C8C70EB7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8DECF5-FBE3-4CE5-AEC5-9B363E97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537D0E-E1A4-4EB0-AA7F-2F6FB1E7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626194-0CEA-4C6E-89BE-C8CB1EF6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16FC80-313D-4408-980D-1847724B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5A0D-C2ED-4D34-B33C-F9268F5D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90B2F3-9C28-4A53-AFBB-4F8B1C0C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7B10C5-EBE5-452A-9DFC-9B1D0E93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8E7515-1EE7-448D-989A-7525D0A3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012A1B-DC74-47FB-B2C1-9A7E63E4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AB4D68-6E83-4B28-988C-C47C52CB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08CBF6-EE85-47BF-97B1-4880B66D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F5CD37-A564-4112-85C5-4B952DA4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440028-9026-40BF-A66A-FBD690F0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0EBC6C-CDA4-493E-B65B-5E620D84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6CD9CD-E3DD-4789-99A1-C64E5037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2F0DD-C0D8-4AEF-8806-5A5D56B0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1539AC-6AF9-4C17-B31C-7D75CC3B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AD81CC-E639-46BD-B852-75321F36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470EBE-10E9-4327-960F-77B286E2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835347-66F9-48AE-B8AD-D12CB3A8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8784D5-B485-4D87-A6A4-FE77A4A0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12AF07-D130-4B0B-826F-8E4ECF32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360492-930E-48CA-9427-456E2850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2872D6-8BE1-46A5-ACAA-DC7330E4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B7D9E3-A44E-4157-BD7D-E7061ADC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8F9CC9-A125-44A2-8C3C-8E4E128E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6301F-B27B-455F-823E-E003CF30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1EB51F-18CD-4F9B-9E70-005AFBC3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B50572-82A3-4CF1-97CE-BD3FC02A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E99AE1-0003-40C3-A517-D69D733F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49437A-F9E6-491B-85F8-888670AA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654069-3AC9-4847-A8EF-396FA2B7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52077-5C75-4FB2-9105-8D15E10A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ECB7F-7CA4-455D-AEFE-A274B5F5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9BB5E-8E98-4AE8-B6BB-0E10991E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47F-2DAF-44F5-8775-7B128925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9D9B6-513D-43CF-9923-F9CBBC73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03BC4-4539-42D5-82D9-6D440035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5B930-BCFC-4DB5-9695-9F87A047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4581-0020-478F-BDE1-A1991B48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717CE-4DF4-463B-815E-C1C78732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747AB-BE18-4ED8-B613-F402FEDE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2DF10-4728-4CE9-96EC-479C2409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70A18-A889-47D1-BB64-A707D784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B7272-66F9-4F9C-A64B-F56FC62F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D3308-F507-4D6B-AB92-8A7676FA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217-9C70-4151-86EB-2EC860E2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F24E6-1F09-40EB-88A3-8D82BF52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C041E-E002-4059-B02C-388FB4DF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722E8-8523-4817-9641-1DCFBC40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6E2CE-188E-4A58-9B54-2A24BE83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9C9B2-2396-475B-84AC-E65DDAC7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03E36-BD6C-4165-9588-A2301007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C2DD9-7A7C-48E8-8803-16DD88C7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E8B3-8651-426C-AB47-86BB61DD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B79AA-8938-4A5B-A993-F250C0FC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AD8AA-46DE-48BB-8A33-9E0CB047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0B3-A808-4030-A0CB-299BBA43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E411E-6AAC-4E03-8990-DEA06C17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70DE6-DBD7-47BD-9699-7EB413FD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03020-3463-45C3-80E7-5B7CB536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7FEDD-E9DF-43FA-8543-D5475514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1A1DE-C1E6-4947-B395-6960AD93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AE2DB-F70D-4535-A843-ECD38206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D858A-EFC9-47B6-87F3-37683A56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2C98A-1B44-4CEB-A080-482F68DA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AFB75-0ACE-42FA-98B2-FDC55333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92116-4CE8-4062-82E1-C1FE00FA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F1D-B295-4206-A299-544E03D1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947BD-9EA8-4FBD-8EA5-80697DBD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34AD6-BB26-40CD-ACE9-B5386B35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73A4B-F4F6-4ADA-AED5-1F2505D2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3B146-1F48-419E-89CB-85A0D4E2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4B624-B121-439D-BE30-CC009816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77C0E-60A0-4B79-A9B4-990C187A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4DE15-B18C-4680-B888-2AF3AD50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E4E82-F526-4306-B21A-412C654A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6FF0A-331A-4633-B33F-BF585EC4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E7503-5D48-46ED-9324-3F9FA603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8F4-983F-4696-8B91-15F796DE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22B9D-EDA1-4662-8735-EF2DD682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9834D-5AA8-4482-B04E-7C07363D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2629E-2555-40D3-A100-2334D33A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C8FB9-1E71-4F42-81E0-55CE4486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3FDB1-0559-4DB0-9D8C-6620489D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F25D9-6479-4307-AD8D-C9AFBC57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22016-7A40-4A53-B576-C46D75B1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0A194-FC19-4132-A271-C3C5F000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ABD33-31A9-43AD-961B-34FA2AB8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08710-F42E-4DC3-91F1-78C88263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72F-334E-490C-BD80-1A46CA0D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7E877-1347-4626-A0DF-15401F12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04269-6C0F-4DBC-84B5-7753EEE5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528DA-2F83-40CB-82BA-C19DE0D5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83FCD-A12C-4822-B4FB-44CD2535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8BC7E-B12E-4C44-A80B-6706A789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860FE-1F1E-40E4-A632-9DC5B981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1ED27-23EA-4F1F-A876-D446D07D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5BD83-4653-4621-AD78-2B2494DE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63B70-9E4D-45D5-91C0-DA508727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39C48-B762-4ED1-B9FB-B58B963E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4AF-F142-4EE8-A50B-D7F9D540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BD4FA-8805-4A1D-9FD6-A36A73AC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6BF07-54D5-4C43-9B6C-0CA3213E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63F32-0C9E-436A-977F-8876D8FD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B21AD-84AF-4493-9E6A-9BBB0BAA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71985-C753-4156-972B-E4767AD2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20571-1D20-4ADB-8BDC-4257334F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F0C02-0756-4473-A1EA-D7221D01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D381E-91B8-44E2-8A59-DFA24E39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C1E81-D7D1-4655-B394-4EB5359F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8FA68-7A74-4FC7-AE64-46C332EC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20FD-107B-4713-96CA-0F81F1555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35E0-EFB3-4E5E-9F89-3D3B32A88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5408-E2A5-405F-96BD-71803A9B5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C353-FAC2-4A1A-A7E1-7EAC5C123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105D-9AA1-43E6-BFBF-74A2DB378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EE5B-F9CF-4CE9-8184-5BC21F459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3A68-BF85-4082-8963-57ED07991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9D96-DF76-4B2B-A169-CCA063B1E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6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5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5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63A3-D81D-435B-84D7-54B1259719B9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2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3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4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5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6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5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5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5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0DDD-7DC1-4585-BB06-C883001FF2E4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59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760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1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2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3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4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5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634F-C330-4C6F-BA4D-D4025A5DF306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1C09-B6B0-4312-8A6E-A8027BC50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07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808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9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0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1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2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5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5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6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B186-133B-46B1-AD51-A19239635944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55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856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7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8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9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0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5E3D-B91C-4FAB-9122-E22A17D9AB01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03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90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8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6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6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6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145B-229E-4FD1-9698-61656A4FFA32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84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93E8-8263-430F-BE31-98BDB1B0F51C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EF25-3BF0-4773-BCEB-E84367364C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2CFD-EC0A-4BBE-87FE-C45FB11B9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CA76-479F-4CE5-9E7D-BAD788C1E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AA88-009C-4994-AAAA-85604B7AC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F1A6-7567-42B2-A6E5-A5AAAAC2D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FC82-64A0-4F4F-98CB-9D7506A9D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&#28014;&#21147;&#29616;&#35937;.DAT" TargetMode="External"/><Relationship Id="rId2" Type="http://schemas.openxmlformats.org/officeDocument/2006/relationships/hyperlink" Target="&#28014;&#21147;&#29616;&#35937;.DAT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2"/>
          <p:cNvSpPr/>
          <p:nvPr/>
        </p:nvSpPr>
        <p:spPr>
          <a:xfrm>
            <a:off x="395280" y="1429560"/>
            <a:ext cx="884088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0.1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浮力课件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矩形 1"/>
          <p:cNvSpPr/>
          <p:nvPr/>
        </p:nvSpPr>
        <p:spPr>
          <a:xfrm>
            <a:off x="539640" y="98100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猜想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浮力的大小可能与哪些因素有关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猜想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猜想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等会 我们自己动手用实验探究你的猜想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6" name="TextBox 2"/>
          <p:cNvSpPr/>
          <p:nvPr/>
        </p:nvSpPr>
        <p:spPr>
          <a:xfrm>
            <a:off x="539640" y="55166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写出疑问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205092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学质疑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TextBox 1"/>
          <p:cNvSpPr/>
          <p:nvPr/>
        </p:nvSpPr>
        <p:spPr>
          <a:xfrm>
            <a:off x="971640" y="765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三、互动释疑、精讲与实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9" name="TextBox 2"/>
          <p:cNvSpPr/>
          <p:nvPr/>
        </p:nvSpPr>
        <p:spPr>
          <a:xfrm>
            <a:off x="179280" y="1341360"/>
            <a:ext cx="856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互动释疑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一）实验：称重法测浮力大小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0" name="Picture 4" descr=""/>
          <p:cNvPicPr/>
          <p:nvPr/>
        </p:nvPicPr>
        <p:blipFill>
          <a:blip r:embed="rId1"/>
          <a:stretch/>
        </p:blipFill>
        <p:spPr>
          <a:xfrm>
            <a:off x="1332000" y="3162240"/>
            <a:ext cx="6119640" cy="3429000"/>
          </a:xfrm>
          <a:prstGeom prst="rect">
            <a:avLst/>
          </a:prstGeom>
          <a:ln w="0">
            <a:noFill/>
          </a:ln>
        </p:spPr>
      </p:pic>
      <p:sp>
        <p:nvSpPr>
          <p:cNvPr id="1001" name="TextBox 1"/>
          <p:cNvSpPr/>
          <p:nvPr/>
        </p:nvSpPr>
        <p:spPr>
          <a:xfrm>
            <a:off x="324000" y="2500200"/>
            <a:ext cx="748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小结：称重法测浮力：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F</a:t>
            </a:r>
            <a:r>
              <a:rPr b="1" lang="zh-CN" sz="3200" spc="-1" strike="noStrike" baseline="-25000">
                <a:solidFill>
                  <a:srgbClr val="660033"/>
                </a:solidFill>
                <a:latin typeface="Arial"/>
              </a:rPr>
              <a:t>浮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=G </a:t>
            </a:r>
            <a:r>
              <a:rPr b="1" lang="en-US" sz="3200" spc="-1" strike="noStrike">
                <a:solidFill>
                  <a:srgbClr val="660033"/>
                </a:solidFill>
                <a:latin typeface="宋体-方正超大字符集"/>
                <a:ea typeface="宋体-方正超大字符集"/>
              </a:rPr>
              <a:t>-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F</a:t>
            </a:r>
            <a:r>
              <a:rPr b="1" lang="zh-CN" sz="3200" spc="-1" strike="noStrike" baseline="-25000">
                <a:solidFill>
                  <a:srgbClr val="660033"/>
                </a:solidFill>
                <a:latin typeface="Arial"/>
              </a:rPr>
              <a:t>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extBox 1"/>
          <p:cNvSpPr/>
          <p:nvPr/>
        </p:nvSpPr>
        <p:spPr>
          <a:xfrm>
            <a:off x="611280" y="620640"/>
            <a:ext cx="47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知识拓展与巩固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如右图所示，小明用测力计分别在空气中、水中和盐水中测出了物体的重，则当物体浸没在水中时，所受到的浮力为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______N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；物体浸没在盐水中时，所受到的浮力为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______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3" name="对象 2" descr="21世纪教育网 -- 中国最大型、最专业的中小学教育资源门户网站"/>
          <p:cNvPicPr/>
          <p:nvPr/>
        </p:nvPicPr>
        <p:blipFill>
          <a:blip r:embed="rId1"/>
          <a:stretch/>
        </p:blipFill>
        <p:spPr>
          <a:xfrm>
            <a:off x="5343480" y="3284640"/>
            <a:ext cx="3167280" cy="335736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1"/>
          <p:cNvSpPr/>
          <p:nvPr/>
        </p:nvSpPr>
        <p:spPr>
          <a:xfrm>
            <a:off x="3494520" y="3860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5" name="TextBox 2"/>
          <p:cNvSpPr/>
          <p:nvPr/>
        </p:nvSpPr>
        <p:spPr>
          <a:xfrm>
            <a:off x="1048320" y="55198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1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Box 1"/>
          <p:cNvSpPr/>
          <p:nvPr/>
        </p:nvSpPr>
        <p:spPr>
          <a:xfrm>
            <a:off x="539640" y="1197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实验：探究浮力的大小跟哪些因素有关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7" name="TextBox 2"/>
          <p:cNvSpPr/>
          <p:nvPr/>
        </p:nvSpPr>
        <p:spPr>
          <a:xfrm>
            <a:off x="539640" y="404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Arial"/>
              </a:rPr>
              <a:t>四、决定浮力大小的因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8" name="TextBox 3"/>
          <p:cNvSpPr/>
          <p:nvPr/>
        </p:nvSpPr>
        <p:spPr>
          <a:xfrm>
            <a:off x="711360" y="2421000"/>
            <a:ext cx="166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猜想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猜想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猜想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…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9" name="TextBox 4"/>
          <p:cNvSpPr/>
          <p:nvPr/>
        </p:nvSpPr>
        <p:spPr>
          <a:xfrm>
            <a:off x="709560" y="528336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设计实验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进行实验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0" name="TextBox 5"/>
          <p:cNvSpPr/>
          <p:nvPr/>
        </p:nvSpPr>
        <p:spPr>
          <a:xfrm>
            <a:off x="2368440" y="2492280"/>
            <a:ext cx="59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浮力的大小跟浸没的深度有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1" name="TextBox 6"/>
          <p:cNvSpPr/>
          <p:nvPr/>
        </p:nvSpPr>
        <p:spPr>
          <a:xfrm>
            <a:off x="2386080" y="3068640"/>
            <a:ext cx="618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浮力的大小与物体浸在液体中的体积有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2" name="TextBox 7"/>
          <p:cNvSpPr/>
          <p:nvPr/>
        </p:nvSpPr>
        <p:spPr>
          <a:xfrm>
            <a:off x="2522520" y="4076640"/>
            <a:ext cx="58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浮力的大小与液体的密度有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3" name="TextBox 8"/>
          <p:cNvSpPr/>
          <p:nvPr/>
        </p:nvSpPr>
        <p:spPr>
          <a:xfrm>
            <a:off x="711360" y="1843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提出问题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浮力的大小与哪些因素有关呢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4" name=""/>
          <p:cNvGraphicFramePr/>
          <p:nvPr/>
        </p:nvGraphicFramePr>
        <p:xfrm>
          <a:off x="179280" y="1484280"/>
          <a:ext cx="8621640" cy="5473800"/>
        </p:xfrm>
        <a:graphic>
          <a:graphicData uri="http://schemas.openxmlformats.org/drawingml/2006/table">
            <a:tbl>
              <a:tblPr/>
              <a:tblGrid>
                <a:gridCol w="1944720"/>
                <a:gridCol w="1871640"/>
                <a:gridCol w="2940120"/>
                <a:gridCol w="1865160"/>
              </a:tblGrid>
              <a:tr h="790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猜想因素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比较条件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所受浮力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N)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有无相关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</a:tr>
              <a:tr h="62604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浸没深度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浅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深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</a:tr>
              <a:tr h="57924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浸入体积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少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多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</a:tr>
              <a:tr h="57960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液体密度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水</a:t>
                      </a: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小</a:t>
                      </a: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盐水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</a:tr>
              <a:tr h="57924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物体密度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铜柱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铁柱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5" name="TextBox 11"/>
          <p:cNvSpPr/>
          <p:nvPr/>
        </p:nvSpPr>
        <p:spPr>
          <a:xfrm>
            <a:off x="900000" y="404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实验记录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6" name="TextBox 12"/>
          <p:cNvSpPr/>
          <p:nvPr/>
        </p:nvSpPr>
        <p:spPr>
          <a:xfrm>
            <a:off x="3564000" y="40464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注意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:1.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控制变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2.F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浮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=G-F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示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测得浮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7" name="文本框 8200"/>
          <p:cNvSpPr/>
          <p:nvPr/>
        </p:nvSpPr>
        <p:spPr>
          <a:xfrm>
            <a:off x="2843280" y="30193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Box 12"/>
          <p:cNvSpPr/>
          <p:nvPr/>
        </p:nvSpPr>
        <p:spPr>
          <a:xfrm>
            <a:off x="2046240" y="4927680"/>
            <a:ext cx="2376360" cy="581400"/>
          </a:xfrm>
          <a:prstGeom prst="rect">
            <a:avLst/>
          </a:prstGeom>
          <a:solidFill>
            <a:srgbClr val="ffffff"/>
          </a:solidFill>
          <a:ln w="15840">
            <a:solidFill>
              <a:srgbClr val="305c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浸没的深度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9" name="TextBox 1"/>
          <p:cNvSpPr/>
          <p:nvPr/>
        </p:nvSpPr>
        <p:spPr>
          <a:xfrm>
            <a:off x="468360" y="1019160"/>
            <a:ext cx="8424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  <a:ea typeface="宋体"/>
              </a:rPr>
              <a:t>结论</a:t>
            </a:r>
            <a:r>
              <a:rPr b="0" lang="zh-CN" sz="4000" spc="-1" strike="noStrike">
                <a:solidFill>
                  <a:srgbClr val="00040c"/>
                </a:solidFill>
                <a:latin typeface="Calibri"/>
                <a:ea typeface="宋体"/>
              </a:rPr>
              <a:t>：决定浮力大小的因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534960" indent="-5349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40c"/>
                </a:solidFill>
                <a:latin typeface="Calibri"/>
                <a:ea typeface="宋体"/>
              </a:rPr>
              <a:t>有</a:t>
            </a:r>
            <a:r>
              <a:rPr b="0" lang="en-US" sz="4000" spc="-1" strike="noStrike" u="sng">
                <a:solidFill>
                  <a:srgbClr val="00040c"/>
                </a:solidFill>
                <a:uFillTx/>
                <a:latin typeface="Calibri"/>
                <a:ea typeface="宋体"/>
              </a:rPr>
              <a:t>                              </a:t>
            </a:r>
            <a:r>
              <a:rPr b="0" lang="zh-CN" sz="4000" spc="-1" strike="noStrike" u="sng">
                <a:solidFill>
                  <a:srgbClr val="00040c"/>
                </a:solidFill>
                <a:uFillTx/>
                <a:latin typeface="Calibri"/>
                <a:ea typeface="宋体"/>
              </a:rPr>
              <a:t>和</a:t>
            </a:r>
            <a:r>
              <a:rPr b="0" lang="en-US" sz="4000" spc="-1" strike="noStrike" u="sng">
                <a:solidFill>
                  <a:srgbClr val="00040c"/>
                </a:solidFill>
                <a:uFillTx/>
                <a:latin typeface="Calibri"/>
                <a:ea typeface="宋体"/>
              </a:rPr>
              <a:t>                   </a:t>
            </a:r>
            <a:r>
              <a:rPr b="0" lang="zh-CN" sz="4000" spc="-1" strike="noStrike">
                <a:solidFill>
                  <a:srgbClr val="00040c"/>
                </a:solidFill>
                <a:latin typeface="Calibri"/>
                <a:ea typeface="宋体"/>
              </a:rPr>
              <a:t>， </a:t>
            </a:r>
            <a:r>
              <a:rPr b="0" lang="en-US" sz="4000" spc="-1" strike="noStrike">
                <a:solidFill>
                  <a:srgbClr val="00040c"/>
                </a:solidFill>
                <a:latin typeface="Calibri"/>
                <a:ea typeface="宋体"/>
              </a:rPr>
              <a:t>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534960" indent="-5349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40c"/>
                </a:solidFill>
                <a:latin typeface="Calibri"/>
                <a:ea typeface="宋体"/>
              </a:rPr>
              <a:t>                          </a:t>
            </a:r>
            <a:r>
              <a:rPr b="0" lang="zh-CN" sz="4000" spc="-1" strike="noStrike">
                <a:solidFill>
                  <a:srgbClr val="00040c"/>
                </a:solidFill>
                <a:latin typeface="Calibri"/>
                <a:ea typeface="宋体"/>
              </a:rPr>
              <a:t>越</a:t>
            </a:r>
            <a:r>
              <a:rPr b="0" lang="en-US" sz="4000" spc="-1" strike="noStrike" u="sng">
                <a:solidFill>
                  <a:srgbClr val="00040c"/>
                </a:solidFill>
                <a:uFillTx/>
                <a:latin typeface="Calibri"/>
                <a:ea typeface="宋体"/>
              </a:rPr>
              <a:t> </a:t>
            </a:r>
            <a:r>
              <a:rPr b="0" lang="zh-CN" sz="4000" spc="-1" strike="noStrike" u="sng">
                <a:solidFill>
                  <a:srgbClr val="00040c"/>
                </a:solidFill>
                <a:uFillTx/>
                <a:latin typeface="Calibri"/>
                <a:ea typeface="宋体"/>
              </a:rPr>
              <a:t>大</a:t>
            </a:r>
            <a:r>
              <a:rPr b="0" lang="en-US" sz="4000" spc="-1" strike="noStrike" u="sng">
                <a:solidFill>
                  <a:srgbClr val="00040c"/>
                </a:solidFill>
                <a:uFillTx/>
                <a:latin typeface="Calibri"/>
                <a:ea typeface="宋体"/>
              </a:rPr>
              <a:t>,                        </a:t>
            </a:r>
            <a:r>
              <a:rPr b="0" lang="zh-CN" sz="4000" spc="-1" strike="noStrike">
                <a:solidFill>
                  <a:srgbClr val="00040c"/>
                </a:solidFill>
                <a:latin typeface="Calibri"/>
                <a:ea typeface="宋体"/>
              </a:rPr>
              <a:t>越大，所受的浮力就越大。浮力的大小</a:t>
            </a:r>
            <a:r>
              <a:rPr b="0" lang="en-US" sz="4000" spc="-1" strike="noStrike">
                <a:solidFill>
                  <a:srgbClr val="00040c"/>
                </a:solidFill>
                <a:latin typeface="Calibri"/>
                <a:ea typeface="宋体"/>
              </a:rPr>
              <a:t>       </a:t>
            </a:r>
            <a:r>
              <a:rPr b="0" lang="zh-CN" sz="4000" spc="-1" strike="noStrike">
                <a:solidFill>
                  <a:srgbClr val="00040c"/>
                </a:solidFill>
                <a:latin typeface="Calibri"/>
                <a:ea typeface="宋体"/>
              </a:rPr>
              <a:t>与</a:t>
            </a:r>
            <a:r>
              <a:rPr b="0" lang="en-US" sz="4000" spc="-1" strike="noStrike" u="sng">
                <a:solidFill>
                  <a:srgbClr val="00040c"/>
                </a:solidFill>
                <a:uFillTx/>
                <a:latin typeface="Calibri"/>
                <a:ea typeface="宋体"/>
              </a:rPr>
              <a:t>                                </a:t>
            </a:r>
            <a:r>
              <a:rPr b="0" lang="zh-CN" sz="4000" spc="-1" strike="noStrike" u="sng">
                <a:solidFill>
                  <a:srgbClr val="00040c"/>
                </a:solidFill>
                <a:uFillTx/>
                <a:latin typeface="Calibri"/>
                <a:ea typeface="宋体"/>
              </a:rPr>
              <a:t>、物体的密度、形状</a:t>
            </a:r>
            <a:r>
              <a:rPr b="0" lang="zh-CN" sz="4000" spc="-1" strike="noStrike">
                <a:solidFill>
                  <a:srgbClr val="00040c"/>
                </a:solidFill>
                <a:latin typeface="Calibri"/>
                <a:ea typeface="宋体"/>
              </a:rPr>
              <a:t>等无关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0" name="TextBox 2"/>
          <p:cNvSpPr/>
          <p:nvPr/>
        </p:nvSpPr>
        <p:spPr>
          <a:xfrm>
            <a:off x="1116000" y="22050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ndara"/>
                <a:ea typeface="宋体"/>
              </a:rPr>
              <a:t>浸入液体的体积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1" name="TextBox 6"/>
          <p:cNvSpPr/>
          <p:nvPr/>
        </p:nvSpPr>
        <p:spPr>
          <a:xfrm>
            <a:off x="5857200" y="2205000"/>
            <a:ext cx="1400040" cy="581400"/>
          </a:xfrm>
          <a:prstGeom prst="rect">
            <a:avLst/>
          </a:prstGeom>
          <a:solidFill>
            <a:srgbClr val="ffffff"/>
          </a:solidFill>
          <a:ln w="15840">
            <a:solidFill>
              <a:srgbClr val="305c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液体的密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2" name="TextBox 8"/>
          <p:cNvSpPr/>
          <p:nvPr/>
        </p:nvSpPr>
        <p:spPr>
          <a:xfrm>
            <a:off x="4903920" y="3144960"/>
            <a:ext cx="2771640" cy="581400"/>
          </a:xfrm>
          <a:prstGeom prst="rect">
            <a:avLst/>
          </a:prstGeom>
          <a:solidFill>
            <a:srgbClr val="ffffff"/>
          </a:solidFill>
          <a:ln w="15840">
            <a:solidFill>
              <a:srgbClr val="305c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液体的密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3" name="TextBox 9"/>
          <p:cNvSpPr/>
          <p:nvPr/>
        </p:nvSpPr>
        <p:spPr>
          <a:xfrm>
            <a:off x="468360" y="31734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ndara"/>
                <a:ea typeface="宋体"/>
              </a:rPr>
              <a:t>浸入液体的体积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4" name="TextBox 10"/>
          <p:cNvSpPr/>
          <p:nvPr/>
        </p:nvSpPr>
        <p:spPr>
          <a:xfrm>
            <a:off x="9144000" y="4365720"/>
            <a:ext cx="184320" cy="584280"/>
          </a:xfrm>
          <a:prstGeom prst="rect">
            <a:avLst/>
          </a:prstGeom>
          <a:solidFill>
            <a:srgbClr val="ffffff"/>
          </a:solidFill>
          <a:ln w="15840">
            <a:solidFill>
              <a:srgbClr val="305c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3" descr="CHILKAT-CID-62de419f-9541-b9db-c3e4-7fefdf980428"/>
          <p:cNvPicPr/>
          <p:nvPr/>
        </p:nvPicPr>
        <p:blipFill>
          <a:blip r:embed="rId1"/>
          <a:stretch/>
        </p:blipFill>
        <p:spPr>
          <a:xfrm>
            <a:off x="6014880" y="4508640"/>
            <a:ext cx="2737080" cy="220500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 txBox="1"/>
          <p:nvPr/>
        </p:nvSpPr>
        <p:spPr>
          <a:xfrm>
            <a:off x="0" y="9806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、把甲、乙两个体积相等的物体放入水中，它们静止时的情况如图所示，下列说法中正确的是（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   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．甲物体受到的浮力等于乙物体受到的浮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．甲物体受到的浮力大于乙物体受到的浮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．甲物体受到的浮力小于乙物体受到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的浮力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 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．无法判断谁受到的浮力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7" name="TextBox 4"/>
          <p:cNvSpPr/>
          <p:nvPr/>
        </p:nvSpPr>
        <p:spPr>
          <a:xfrm>
            <a:off x="1843200" y="1989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8" name="TextBox 5"/>
          <p:cNvSpPr/>
          <p:nvPr/>
        </p:nvSpPr>
        <p:spPr>
          <a:xfrm>
            <a:off x="1042920" y="476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应用与巩固</a:t>
            </a:r>
            <a:r>
              <a:rPr b="0" lang="zh-CN" sz="3200" spc="-1" strike="noStrike">
                <a:solidFill>
                  <a:srgbClr val="99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178920" y="953640"/>
            <a:ext cx="854100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同一物体分别浸没在煤油和水中，所受的浮力在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   </a:t>
            </a:r>
            <a:r>
              <a:rPr b="1" lang="zh-CN" sz="3600" spc="-1" strike="noStrike" u="sng">
                <a:solidFill>
                  <a:srgbClr val="00040c"/>
                </a:solidFill>
                <a:uFillTx/>
                <a:latin typeface="Arial"/>
              </a:rPr>
              <a:t>中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大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B 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是四个体积、形状相同而材料不同的球，把它们投入水中静止后的情况如下图所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示，它们当中所受 浮力大小的是：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00040c"/>
                </a:solidFill>
                <a:latin typeface="Arial"/>
              </a:rPr>
              <a:t>A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 F</a:t>
            </a:r>
            <a:r>
              <a:rPr b="1" lang="en-US" sz="3600" spc="-1" strike="noStrike" baseline="-25000">
                <a:solidFill>
                  <a:srgbClr val="00040c"/>
                </a:solidFill>
                <a:latin typeface="Arial"/>
              </a:rPr>
              <a:t>B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 F</a:t>
            </a:r>
            <a:r>
              <a:rPr b="1" lang="en-US" sz="3600" spc="-1" strike="noStrike" baseline="-25000">
                <a:solidFill>
                  <a:srgbClr val="00040c"/>
                </a:solidFill>
                <a:latin typeface="Arial"/>
              </a:rPr>
              <a:t>C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 F</a:t>
            </a:r>
            <a:r>
              <a:rPr b="1" lang="en-US" sz="3600" spc="-1" strike="noStrike" baseline="-25000">
                <a:solidFill>
                  <a:srgbClr val="00040c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30" name="图片 3" descr="CHILKAT-CID-85cbe7db-7154-551d-6d95-29339f86a25c"/>
          <p:cNvPicPr/>
          <p:nvPr/>
        </p:nvPicPr>
        <p:blipFill>
          <a:blip r:embed="rId1"/>
          <a:stretch/>
        </p:blipFill>
        <p:spPr>
          <a:xfrm>
            <a:off x="5364000" y="4724280"/>
            <a:ext cx="2592720" cy="1944720"/>
          </a:xfrm>
          <a:prstGeom prst="rect">
            <a:avLst/>
          </a:prstGeom>
          <a:ln w="0">
            <a:noFill/>
          </a:ln>
        </p:spPr>
      </p:pic>
      <p:sp>
        <p:nvSpPr>
          <p:cNvPr id="1031" name="TextBox 8"/>
          <p:cNvSpPr/>
          <p:nvPr/>
        </p:nvSpPr>
        <p:spPr>
          <a:xfrm>
            <a:off x="2819520" y="1413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2" name="TextBox 9"/>
          <p:cNvSpPr/>
          <p:nvPr/>
        </p:nvSpPr>
        <p:spPr>
          <a:xfrm>
            <a:off x="4984920" y="3894120"/>
            <a:ext cx="66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3" name="TextBox 10"/>
          <p:cNvSpPr/>
          <p:nvPr/>
        </p:nvSpPr>
        <p:spPr>
          <a:xfrm>
            <a:off x="4140360" y="388944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4" name="TextBox 3"/>
          <p:cNvSpPr/>
          <p:nvPr/>
        </p:nvSpPr>
        <p:spPr>
          <a:xfrm>
            <a:off x="6149880" y="3781440"/>
            <a:ext cx="4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．图所示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体积相同，将其放入水中处于不同位置，试比较各物体受到的浮力大小。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40c"/>
                </a:solidFill>
                <a:latin typeface="Arial"/>
              </a:rPr>
              <a:t>B</a:t>
            </a:r>
            <a:r>
              <a:rPr b="1" lang="zh-CN" sz="3200" spc="-1" strike="noStrike" baseline="-25000">
                <a:solidFill>
                  <a:srgbClr val="00040c"/>
                </a:solidFill>
                <a:latin typeface="Arial"/>
              </a:rPr>
              <a:t>浮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40c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00040c"/>
                </a:solidFill>
                <a:latin typeface="Arial"/>
              </a:rPr>
              <a:t>浮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40c"/>
                </a:solidFill>
                <a:latin typeface="Arial"/>
              </a:rPr>
              <a:t>A</a:t>
            </a:r>
            <a:r>
              <a:rPr b="1" lang="zh-CN" sz="3200" spc="-1" strike="noStrike" baseline="-25000">
                <a:solidFill>
                  <a:srgbClr val="00040c"/>
                </a:solidFill>
                <a:latin typeface="Arial"/>
              </a:rPr>
              <a:t>浮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（填 “＞” “＝”或“＜”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36" name="图片 3" descr="21世纪教育网 -- 中国最大型、最专业的中小学教育资源门户网站"/>
          <p:cNvPicPr/>
          <p:nvPr/>
        </p:nvPicPr>
        <p:blipFill>
          <a:blip r:embed="rId1"/>
          <a:stretch/>
        </p:blipFill>
        <p:spPr>
          <a:xfrm>
            <a:off x="4589640" y="4149720"/>
            <a:ext cx="2646360" cy="25192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630600" y="29592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8" name="Text Box 6"/>
          <p:cNvSpPr/>
          <p:nvPr/>
        </p:nvSpPr>
        <p:spPr>
          <a:xfrm>
            <a:off x="2556000" y="3068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250920" y="1196640"/>
            <a:ext cx="8540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：观察右图判断：请你说说哪个鱼说得正确？为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0" name="图片 3" descr="21世纪教育网 -- 中国最大型、最专业的中小学教育资源门户网站"/>
          <p:cNvPicPr/>
          <p:nvPr/>
        </p:nvPicPr>
        <p:blipFill>
          <a:blip r:embed="rId1"/>
          <a:stretch/>
        </p:blipFill>
        <p:spPr>
          <a:xfrm>
            <a:off x="3059280" y="1879560"/>
            <a:ext cx="5149800" cy="3760920"/>
          </a:xfrm>
          <a:prstGeom prst="rect">
            <a:avLst/>
          </a:prstGeom>
          <a:ln w="0">
            <a:noFill/>
          </a:ln>
        </p:spPr>
      </p:pic>
      <p:sp>
        <p:nvSpPr>
          <p:cNvPr id="1041" name="TextBox 1"/>
          <p:cNvSpPr/>
          <p:nvPr/>
        </p:nvSpPr>
        <p:spPr>
          <a:xfrm>
            <a:off x="755640" y="278136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上面个鱼说法正确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1"/>
          <p:cNvSpPr/>
          <p:nvPr/>
        </p:nvSpPr>
        <p:spPr>
          <a:xfrm>
            <a:off x="4211640" y="896760"/>
            <a:ext cx="4032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浮力</a:t>
            </a:r>
            <a:r>
              <a:rPr b="0" lang="zh-CN" sz="40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现象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6" name="TextBox 1"/>
          <p:cNvSpPr/>
          <p:nvPr/>
        </p:nvSpPr>
        <p:spPr>
          <a:xfrm>
            <a:off x="1241280" y="946080"/>
            <a:ext cx="36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7" name="TextBox 2"/>
          <p:cNvSpPr/>
          <p:nvPr/>
        </p:nvSpPr>
        <p:spPr>
          <a:xfrm>
            <a:off x="1069920" y="765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.</a:t>
            </a: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引入课题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8" name="Picture 10" descr="xin_3501040410290301271340"/>
          <p:cNvPicPr/>
          <p:nvPr/>
        </p:nvPicPr>
        <p:blipFill>
          <a:blip r:embed="rId3"/>
          <a:stretch/>
        </p:blipFill>
        <p:spPr>
          <a:xfrm>
            <a:off x="684360" y="1776240"/>
            <a:ext cx="492120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25280" y="549360"/>
            <a:ext cx="8856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小结：</a:t>
            </a:r>
            <a:r>
              <a:rPr b="0" lang="zh-CN" sz="4000" spc="-1" strike="noStrike">
                <a:solidFill>
                  <a:srgbClr val="c00000"/>
                </a:solidFill>
                <a:latin typeface="Arial"/>
                <a:ea typeface="黑体"/>
              </a:rPr>
              <a:t>本节课学到了哪些知识？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黑体"/>
              </a:rPr>
              <a:t>   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87120" y="1196640"/>
            <a:ext cx="80485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浮力：浸在液体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或气体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里的物体受到液体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或气体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向上托的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方向：竖直向上；施力物：液体或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193680" y="3643200"/>
            <a:ext cx="80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浮力产生的原因是液体对物体向上的压力大于向下的压力，这个压力差就是浮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5" name="TextBox 1"/>
          <p:cNvSpPr/>
          <p:nvPr/>
        </p:nvSpPr>
        <p:spPr>
          <a:xfrm>
            <a:off x="131760" y="2997360"/>
            <a:ext cx="688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称重法测浮力：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1" lang="zh-CN" sz="3600" spc="-1" strike="noStrike" baseline="-25000">
                <a:solidFill>
                  <a:srgbClr val="c00000"/>
                </a:solidFill>
                <a:latin typeface="Arial"/>
              </a:rPr>
              <a:t>浮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=G-F</a:t>
            </a:r>
            <a:r>
              <a:rPr b="1" lang="zh-CN" sz="3600" spc="-1" strike="noStrike" baseline="-25000">
                <a:solidFill>
                  <a:srgbClr val="c00000"/>
                </a:solidFill>
                <a:latin typeface="Arial"/>
              </a:rPr>
              <a:t>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6" name="TextBox 2"/>
          <p:cNvSpPr/>
          <p:nvPr/>
        </p:nvSpPr>
        <p:spPr>
          <a:xfrm>
            <a:off x="193680" y="4695840"/>
            <a:ext cx="78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40c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40c"/>
                </a:solidFill>
                <a:latin typeface="Arial"/>
              </a:rPr>
              <a:t>决定浮力大小的因素：与浸在液体中的体积有关，与液体的密度有关。浸在液体中的体积越大，液体的密度越大，受的浮力就越大。与浸没的深度、物体的形状、物体的密度无关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3" descr="21世纪教育网 -- 中国最大型、最专业的中小学教育资源门户网站"/>
          <p:cNvPicPr/>
          <p:nvPr/>
        </p:nvPicPr>
        <p:blipFill>
          <a:blip r:embed="rId1"/>
          <a:stretch/>
        </p:blipFill>
        <p:spPr>
          <a:xfrm>
            <a:off x="4572000" y="4076640"/>
            <a:ext cx="4608360" cy="262404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 txBox="1"/>
          <p:nvPr/>
        </p:nvSpPr>
        <p:spPr>
          <a:xfrm>
            <a:off x="250920" y="549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、某同学通过实验来研究影响浮力大小的因素，做了如图所示的一系列实验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40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）对比分析②③两次实验，得出的结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是：</a:t>
            </a:r>
            <a:r>
              <a:rPr b="1" lang="zh-CN" sz="2400" spc="-1" strike="noStrike" u="sng">
                <a:solidFill>
                  <a:srgbClr val="00040c"/>
                </a:solidFill>
                <a:uFillTx/>
                <a:latin typeface="Arial"/>
              </a:rPr>
              <a:t>                                                                   </a:t>
            </a:r>
            <a:r>
              <a:rPr b="1" lang="en-US" sz="2400" spc="-1" strike="noStrike">
                <a:solidFill>
                  <a:srgbClr val="00040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对比分析③④两次实验，得出的结论是</a:t>
            </a:r>
            <a:r>
              <a:rPr b="1" lang="zh-CN" sz="2400" spc="-1" strike="noStrike" u="sng">
                <a:solidFill>
                  <a:srgbClr val="00040c"/>
                </a:solidFill>
                <a:uFillTx/>
                <a:latin typeface="Arial"/>
              </a:rPr>
              <a:t>：                          </a:t>
            </a:r>
            <a:r>
              <a:rPr b="1" lang="en-US" sz="2400" spc="-1" strike="noStrike" u="sng">
                <a:solidFill>
                  <a:srgbClr val="00040c"/>
                </a:solidFill>
                <a:uFillTx/>
                <a:latin typeface="Arial"/>
              </a:rPr>
              <a:t>.                                                   </a:t>
            </a:r>
            <a:r>
              <a:rPr b="1" lang="zh-CN" sz="2400" spc="-1" strike="noStrike" u="sng">
                <a:solidFill>
                  <a:srgbClr val="00040c"/>
                </a:solidFill>
                <a:uFillTx/>
                <a:latin typeface="Arial"/>
              </a:rPr>
              <a:t>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对比分析④⑤两次实验，得出的结论是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40c"/>
                </a:solidFill>
                <a:uFillTx/>
                <a:latin typeface="Arial"/>
              </a:rPr>
              <a:t>.</a:t>
            </a:r>
            <a:r>
              <a:rPr b="1" lang="en-US" sz="2400" spc="-1" strike="noStrike">
                <a:solidFill>
                  <a:srgbClr val="00040c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40c"/>
                </a:solidFill>
                <a:uFillTx/>
                <a:latin typeface="Arial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　（</a:t>
            </a:r>
            <a:r>
              <a:rPr b="1" lang="en-US" sz="2400" spc="-1" strike="noStrike">
                <a:solidFill>
                  <a:srgbClr val="00040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）综合分析和归纳上述实验，得到的较为完整的结论是：</a:t>
            </a:r>
            <a:r>
              <a:rPr b="1" lang="en-US" sz="2400" spc="-1" strike="noStrike">
                <a:solidFill>
                  <a:srgbClr val="00040c"/>
                </a:solidFill>
                <a:latin typeface="Arial"/>
              </a:rPr>
              <a:t>___________________</a:t>
            </a:r>
            <a:r>
              <a:rPr b="1" lang="en-US" sz="2400" spc="-1" strike="noStrike" u="sng">
                <a:solidFill>
                  <a:srgbClr val="00040c"/>
                </a:solidFill>
                <a:uFillTx/>
                <a:latin typeface="Arial"/>
              </a:rPr>
              <a:t>_</a:t>
            </a:r>
            <a:r>
              <a:rPr b="1" lang="en-US" sz="2400" spc="-1" strike="noStrike">
                <a:solidFill>
                  <a:srgbClr val="00040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9" name="TextBox 1"/>
          <p:cNvSpPr/>
          <p:nvPr/>
        </p:nvSpPr>
        <p:spPr>
          <a:xfrm>
            <a:off x="1476360" y="1628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浮力的大小与浸入的体积有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0" name="TextBox 2"/>
          <p:cNvSpPr/>
          <p:nvPr/>
        </p:nvSpPr>
        <p:spPr>
          <a:xfrm>
            <a:off x="1300320" y="242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浮力的大小与浸没的深度无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1" name="TextBox 3"/>
          <p:cNvSpPr/>
          <p:nvPr/>
        </p:nvSpPr>
        <p:spPr>
          <a:xfrm>
            <a:off x="1042920" y="30956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浮力的大小与液体的密度有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2" name="TextBox 4"/>
          <p:cNvSpPr/>
          <p:nvPr/>
        </p:nvSpPr>
        <p:spPr>
          <a:xfrm>
            <a:off x="1476360" y="386064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浮力的大小与浸入的体积、液体的密度有关；与浸没的深度等无关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 txBox="1"/>
          <p:nvPr/>
        </p:nvSpPr>
        <p:spPr>
          <a:xfrm>
            <a:off x="306000" y="487440"/>
            <a:ext cx="883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一个边长为</a:t>
            </a:r>
            <a:r>
              <a:rPr b="1" i="1" lang="en-US" sz="3200" spc="-1" strike="noStrike">
                <a:solidFill>
                  <a:srgbClr val="00040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的立方体铁块从图（甲）所示的实线位置（此时该立方体的下表面恰与水面齐平）下降至图中的虚线位置，则图（乙）中能正确反映铁块所受水的浮力的大小</a:t>
            </a:r>
            <a:r>
              <a:rPr b="1" i="1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和铁块下表面在水中的深度</a:t>
            </a:r>
            <a:r>
              <a:rPr b="1" i="1" lang="en-US" sz="3200" spc="-1" strike="noStrike">
                <a:solidFill>
                  <a:srgbClr val="00040c"/>
                </a:solidFill>
                <a:latin typeface="Arial"/>
              </a:rPr>
              <a:t>h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关系的图像是（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54" name="组合 6"/>
          <p:cNvGrpSpPr/>
          <p:nvPr/>
        </p:nvGrpSpPr>
        <p:grpSpPr>
          <a:xfrm>
            <a:off x="146160" y="3490920"/>
            <a:ext cx="8746560" cy="2962080"/>
            <a:chOff x="146160" y="3490920"/>
            <a:chExt cx="8746560" cy="2962080"/>
          </a:xfrm>
        </p:grpSpPr>
        <p:grpSp>
          <p:nvGrpSpPr>
            <p:cNvPr id="1055" name="Group 67"/>
            <p:cNvGrpSpPr/>
            <p:nvPr/>
          </p:nvGrpSpPr>
          <p:grpSpPr>
            <a:xfrm>
              <a:off x="2009160" y="3942720"/>
              <a:ext cx="6883560" cy="2487240"/>
              <a:chOff x="2009160" y="3942720"/>
              <a:chExt cx="6883560" cy="2487240"/>
            </a:xfrm>
          </p:grpSpPr>
          <p:sp>
            <p:nvSpPr>
              <p:cNvPr id="1056" name="Line 68"/>
              <p:cNvSpPr/>
              <p:nvPr/>
            </p:nvSpPr>
            <p:spPr>
              <a:xfrm flipV="1">
                <a:off x="7512120" y="4056120"/>
                <a:ext cx="0" cy="138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57" name="Line 69"/>
              <p:cNvSpPr/>
              <p:nvPr/>
            </p:nvSpPr>
            <p:spPr>
              <a:xfrm>
                <a:off x="7512120" y="5441400"/>
                <a:ext cx="138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58" name="Line 70"/>
              <p:cNvSpPr/>
              <p:nvPr/>
            </p:nvSpPr>
            <p:spPr>
              <a:xfrm>
                <a:off x="7512120" y="5383080"/>
                <a:ext cx="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59" name="Line 71"/>
              <p:cNvSpPr/>
              <p:nvPr/>
            </p:nvSpPr>
            <p:spPr>
              <a:xfrm>
                <a:off x="8066880" y="5383080"/>
                <a:ext cx="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0" name="Line 72"/>
              <p:cNvSpPr/>
              <p:nvPr/>
            </p:nvSpPr>
            <p:spPr>
              <a:xfrm>
                <a:off x="8620560" y="5383080"/>
                <a:ext cx="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1" name="Line 73"/>
              <p:cNvSpPr/>
              <p:nvPr/>
            </p:nvSpPr>
            <p:spPr>
              <a:xfrm flipV="1">
                <a:off x="7512120" y="4329720"/>
                <a:ext cx="1124640" cy="110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2" name="Line 74"/>
              <p:cNvSpPr/>
              <p:nvPr/>
            </p:nvSpPr>
            <p:spPr>
              <a:xfrm>
                <a:off x="8630280" y="4375440"/>
                <a:ext cx="0" cy="9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3" name="Line 75"/>
              <p:cNvSpPr/>
              <p:nvPr/>
            </p:nvSpPr>
            <p:spPr>
              <a:xfrm flipV="1">
                <a:off x="3958920" y="4067280"/>
                <a:ext cx="0" cy="138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4" name="Line 76"/>
              <p:cNvSpPr/>
              <p:nvPr/>
            </p:nvSpPr>
            <p:spPr>
              <a:xfrm>
                <a:off x="3958920" y="5452920"/>
                <a:ext cx="138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5" name="Line 77"/>
              <p:cNvSpPr/>
              <p:nvPr/>
            </p:nvSpPr>
            <p:spPr>
              <a:xfrm>
                <a:off x="3958920" y="5394600"/>
                <a:ext cx="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6" name="Line 78"/>
              <p:cNvSpPr/>
              <p:nvPr/>
            </p:nvSpPr>
            <p:spPr>
              <a:xfrm>
                <a:off x="4513680" y="5394600"/>
                <a:ext cx="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7" name="Line 79"/>
              <p:cNvSpPr/>
              <p:nvPr/>
            </p:nvSpPr>
            <p:spPr>
              <a:xfrm>
                <a:off x="5067360" y="5394600"/>
                <a:ext cx="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8" name="Line 80"/>
              <p:cNvSpPr/>
              <p:nvPr/>
            </p:nvSpPr>
            <p:spPr>
              <a:xfrm flipH="1" flipV="1">
                <a:off x="3958920" y="4407120"/>
                <a:ext cx="1110960" cy="10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9" name="Line 81"/>
              <p:cNvSpPr/>
              <p:nvPr/>
            </p:nvSpPr>
            <p:spPr>
              <a:xfrm flipV="1">
                <a:off x="5749920" y="4056120"/>
                <a:ext cx="0" cy="138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0" name="Line 82"/>
              <p:cNvSpPr/>
              <p:nvPr/>
            </p:nvSpPr>
            <p:spPr>
              <a:xfrm>
                <a:off x="5749920" y="5441400"/>
                <a:ext cx="138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1" name="Line 83"/>
              <p:cNvSpPr/>
              <p:nvPr/>
            </p:nvSpPr>
            <p:spPr>
              <a:xfrm>
                <a:off x="5749920" y="5383080"/>
                <a:ext cx="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2" name="Line 84"/>
              <p:cNvSpPr/>
              <p:nvPr/>
            </p:nvSpPr>
            <p:spPr>
              <a:xfrm>
                <a:off x="6304680" y="5383080"/>
                <a:ext cx="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3" name="Line 85"/>
              <p:cNvSpPr/>
              <p:nvPr/>
            </p:nvSpPr>
            <p:spPr>
              <a:xfrm>
                <a:off x="6858360" y="5383080"/>
                <a:ext cx="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4" name="Line 86"/>
              <p:cNvSpPr/>
              <p:nvPr/>
            </p:nvSpPr>
            <p:spPr>
              <a:xfrm flipH="1" flipV="1">
                <a:off x="5752080" y="4394520"/>
                <a:ext cx="559440" cy="51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5" name="Line 87"/>
              <p:cNvSpPr/>
              <p:nvPr/>
            </p:nvSpPr>
            <p:spPr>
              <a:xfrm>
                <a:off x="6313320" y="4903560"/>
                <a:ext cx="55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6" name="Line 88"/>
              <p:cNvSpPr/>
              <p:nvPr/>
            </p:nvSpPr>
            <p:spPr>
              <a:xfrm>
                <a:off x="6298920" y="4922280"/>
                <a:ext cx="0" cy="41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7" name="Text Box 89"/>
              <p:cNvSpPr/>
              <p:nvPr/>
            </p:nvSpPr>
            <p:spPr>
              <a:xfrm>
                <a:off x="5302440" y="5402160"/>
                <a:ext cx="20304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h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8" name="Text Box 90"/>
              <p:cNvSpPr/>
              <p:nvPr/>
            </p:nvSpPr>
            <p:spPr>
              <a:xfrm>
                <a:off x="7079040" y="5389560"/>
                <a:ext cx="20304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h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9" name="Text Box 91"/>
              <p:cNvSpPr/>
              <p:nvPr/>
            </p:nvSpPr>
            <p:spPr>
              <a:xfrm>
                <a:off x="4465440" y="5389560"/>
                <a:ext cx="200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0" name="Text Box 92"/>
              <p:cNvSpPr/>
              <p:nvPr/>
            </p:nvSpPr>
            <p:spPr>
              <a:xfrm>
                <a:off x="6242040" y="5371560"/>
                <a:ext cx="200880" cy="54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1" name="Text Box 93"/>
              <p:cNvSpPr/>
              <p:nvPr/>
            </p:nvSpPr>
            <p:spPr>
              <a:xfrm>
                <a:off x="8018640" y="5402160"/>
                <a:ext cx="200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2" name="Text Box 94"/>
              <p:cNvSpPr/>
              <p:nvPr/>
            </p:nvSpPr>
            <p:spPr>
              <a:xfrm>
                <a:off x="4955400" y="5421240"/>
                <a:ext cx="20124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2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3" name="Text Box 95"/>
              <p:cNvSpPr/>
              <p:nvPr/>
            </p:nvSpPr>
            <p:spPr>
              <a:xfrm>
                <a:off x="6746400" y="5402160"/>
                <a:ext cx="20124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2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4" name="Text Box 96"/>
              <p:cNvSpPr/>
              <p:nvPr/>
            </p:nvSpPr>
            <p:spPr>
              <a:xfrm>
                <a:off x="8508600" y="5384520"/>
                <a:ext cx="201240" cy="54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2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5" name="Text Box 97"/>
              <p:cNvSpPr/>
              <p:nvPr/>
            </p:nvSpPr>
            <p:spPr>
              <a:xfrm>
                <a:off x="3771000" y="3980520"/>
                <a:ext cx="201240" cy="54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F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6" name="Text Box 98"/>
              <p:cNvSpPr/>
              <p:nvPr/>
            </p:nvSpPr>
            <p:spPr>
              <a:xfrm>
                <a:off x="5562000" y="3942720"/>
                <a:ext cx="201240" cy="54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F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7" name="Text Box 99"/>
              <p:cNvSpPr/>
              <p:nvPr/>
            </p:nvSpPr>
            <p:spPr>
              <a:xfrm>
                <a:off x="7324200" y="3942720"/>
                <a:ext cx="201240" cy="54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F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8" name="Text Box 100"/>
              <p:cNvSpPr/>
              <p:nvPr/>
            </p:nvSpPr>
            <p:spPr>
              <a:xfrm>
                <a:off x="2774520" y="5803560"/>
                <a:ext cx="303120" cy="58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9" name="Text Box 101"/>
              <p:cNvSpPr/>
              <p:nvPr/>
            </p:nvSpPr>
            <p:spPr>
              <a:xfrm>
                <a:off x="4522320" y="5822280"/>
                <a:ext cx="303120" cy="58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B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0" name="Text Box 102"/>
              <p:cNvSpPr/>
              <p:nvPr/>
            </p:nvSpPr>
            <p:spPr>
              <a:xfrm>
                <a:off x="6298920" y="5830200"/>
                <a:ext cx="303120" cy="58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C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1" name="Text Box 103"/>
              <p:cNvSpPr/>
              <p:nvPr/>
            </p:nvSpPr>
            <p:spPr>
              <a:xfrm>
                <a:off x="8046360" y="5841360"/>
                <a:ext cx="303120" cy="58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D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2" name="Text Box 104"/>
              <p:cNvSpPr/>
              <p:nvPr/>
            </p:nvSpPr>
            <p:spPr>
              <a:xfrm>
                <a:off x="3858840" y="5365440"/>
                <a:ext cx="20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0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3" name="Text Box 105"/>
              <p:cNvSpPr/>
              <p:nvPr/>
            </p:nvSpPr>
            <p:spPr>
              <a:xfrm>
                <a:off x="5649840" y="5346360"/>
                <a:ext cx="20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0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4" name="Text Box 106"/>
              <p:cNvSpPr/>
              <p:nvPr/>
            </p:nvSpPr>
            <p:spPr>
              <a:xfrm>
                <a:off x="7412040" y="5346360"/>
                <a:ext cx="201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0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095" name="Group 107"/>
              <p:cNvGrpSpPr/>
              <p:nvPr/>
            </p:nvGrpSpPr>
            <p:grpSpPr>
              <a:xfrm>
                <a:off x="2009160" y="3999240"/>
                <a:ext cx="1689840" cy="1942920"/>
                <a:chOff x="2009160" y="3999240"/>
                <a:chExt cx="1689840" cy="1942920"/>
              </a:xfrm>
            </p:grpSpPr>
            <p:sp>
              <p:nvSpPr>
                <p:cNvPr id="1096" name="Line 108"/>
                <p:cNvSpPr/>
                <p:nvPr/>
              </p:nvSpPr>
              <p:spPr>
                <a:xfrm>
                  <a:off x="2195280" y="5448600"/>
                  <a:ext cx="138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109"/>
                <p:cNvSpPr/>
                <p:nvPr/>
              </p:nvSpPr>
              <p:spPr>
                <a:xfrm flipV="1">
                  <a:off x="2195280" y="4063320"/>
                  <a:ext cx="0" cy="138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110"/>
                <p:cNvSpPr/>
                <p:nvPr/>
              </p:nvSpPr>
              <p:spPr>
                <a:xfrm>
                  <a:off x="2195280" y="5390280"/>
                  <a:ext cx="0" cy="5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111"/>
                <p:cNvSpPr/>
                <p:nvPr/>
              </p:nvSpPr>
              <p:spPr>
                <a:xfrm>
                  <a:off x="2751120" y="5390280"/>
                  <a:ext cx="0" cy="5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112"/>
                <p:cNvSpPr/>
                <p:nvPr/>
              </p:nvSpPr>
              <p:spPr>
                <a:xfrm>
                  <a:off x="3306240" y="5390280"/>
                  <a:ext cx="0" cy="5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113"/>
                <p:cNvSpPr/>
                <p:nvPr/>
              </p:nvSpPr>
              <p:spPr>
                <a:xfrm flipV="1">
                  <a:off x="2198160" y="4906440"/>
                  <a:ext cx="552600" cy="54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114"/>
                <p:cNvSpPr/>
                <p:nvPr/>
              </p:nvSpPr>
              <p:spPr>
                <a:xfrm>
                  <a:off x="2751120" y="4914360"/>
                  <a:ext cx="0" cy="41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115"/>
                <p:cNvSpPr/>
                <p:nvPr/>
              </p:nvSpPr>
              <p:spPr>
                <a:xfrm>
                  <a:off x="2759760" y="4910760"/>
                  <a:ext cx="55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4" name="Text Box 116"/>
                <p:cNvSpPr/>
                <p:nvPr/>
              </p:nvSpPr>
              <p:spPr>
                <a:xfrm>
                  <a:off x="3498120" y="5399280"/>
                  <a:ext cx="200880" cy="54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h</a:t>
                  </a:r>
                  <a:endParaRPr b="0" lang="en-US" sz="9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5" name="Text Box 117"/>
                <p:cNvSpPr/>
                <p:nvPr/>
              </p:nvSpPr>
              <p:spPr>
                <a:xfrm>
                  <a:off x="2673000" y="5367600"/>
                  <a:ext cx="203400" cy="54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a</a:t>
                  </a:r>
                  <a:endParaRPr b="0" lang="en-US" sz="9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6" name="Text Box 118"/>
                <p:cNvSpPr/>
                <p:nvPr/>
              </p:nvSpPr>
              <p:spPr>
                <a:xfrm>
                  <a:off x="3193920" y="5399280"/>
                  <a:ext cx="200880" cy="54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2</a:t>
                  </a: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a</a:t>
                  </a:r>
                  <a:endParaRPr b="0" lang="en-US" sz="9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7" name="Text Box 119"/>
                <p:cNvSpPr/>
                <p:nvPr/>
              </p:nvSpPr>
              <p:spPr>
                <a:xfrm>
                  <a:off x="2009160" y="3999240"/>
                  <a:ext cx="200880" cy="54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F</a:t>
                  </a:r>
                  <a:endParaRPr b="0" lang="en-US" sz="9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8" name="Text Box 120"/>
                <p:cNvSpPr/>
                <p:nvPr/>
              </p:nvSpPr>
              <p:spPr>
                <a:xfrm>
                  <a:off x="2094840" y="5361480"/>
                  <a:ext cx="20124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0</a:t>
                  </a:r>
                  <a:endParaRPr b="0" lang="en-US" sz="10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121"/>
                <p:cNvSpPr/>
                <p:nvPr/>
              </p:nvSpPr>
              <p:spPr>
                <a:xfrm>
                  <a:off x="3310200" y="4925880"/>
                  <a:ext cx="0" cy="41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122"/>
              <p:cNvSpPr/>
              <p:nvPr/>
            </p:nvSpPr>
            <p:spPr>
              <a:xfrm>
                <a:off x="4507920" y="4929840"/>
                <a:ext cx="0" cy="41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1" name="Line 123"/>
              <p:cNvSpPr/>
              <p:nvPr/>
            </p:nvSpPr>
            <p:spPr>
              <a:xfrm>
                <a:off x="6861960" y="4929840"/>
                <a:ext cx="0" cy="41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2" name="Line 124"/>
              <p:cNvSpPr/>
              <p:nvPr/>
            </p:nvSpPr>
            <p:spPr>
              <a:xfrm>
                <a:off x="8061120" y="4929840"/>
                <a:ext cx="0" cy="41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113" name="Group 125"/>
            <p:cNvGrpSpPr/>
            <p:nvPr/>
          </p:nvGrpSpPr>
          <p:grpSpPr>
            <a:xfrm>
              <a:off x="146160" y="3490920"/>
              <a:ext cx="1732680" cy="2962080"/>
              <a:chOff x="146160" y="3490920"/>
              <a:chExt cx="1732680" cy="2962080"/>
            </a:xfrm>
          </p:grpSpPr>
          <p:sp>
            <p:nvSpPr>
              <p:cNvPr id="1114" name="Line 126"/>
              <p:cNvSpPr/>
              <p:nvPr/>
            </p:nvSpPr>
            <p:spPr>
              <a:xfrm>
                <a:off x="391320" y="4478040"/>
                <a:ext cx="1435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5" name="Rectangle 127"/>
              <p:cNvSpPr/>
              <p:nvPr/>
            </p:nvSpPr>
            <p:spPr>
              <a:xfrm>
                <a:off x="904680" y="3863880"/>
                <a:ext cx="476280" cy="62532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6" name="Line 128"/>
              <p:cNvSpPr/>
              <p:nvPr/>
            </p:nvSpPr>
            <p:spPr>
              <a:xfrm>
                <a:off x="564840" y="3871800"/>
                <a:ext cx="31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7" name="Line 129"/>
              <p:cNvSpPr/>
              <p:nvPr/>
            </p:nvSpPr>
            <p:spPr>
              <a:xfrm>
                <a:off x="693720" y="3877920"/>
                <a:ext cx="0" cy="61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8" name="Line 130"/>
              <p:cNvSpPr/>
              <p:nvPr/>
            </p:nvSpPr>
            <p:spPr>
              <a:xfrm>
                <a:off x="1465200" y="5721840"/>
                <a:ext cx="31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9" name="Line 131"/>
              <p:cNvSpPr/>
              <p:nvPr/>
            </p:nvSpPr>
            <p:spPr>
              <a:xfrm>
                <a:off x="1138680" y="3490920"/>
                <a:ext cx="0" cy="370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20" name="Line 132"/>
              <p:cNvSpPr/>
              <p:nvPr/>
            </p:nvSpPr>
            <p:spPr>
              <a:xfrm>
                <a:off x="1146240" y="4714920"/>
                <a:ext cx="0" cy="370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21" name="Text Box 133"/>
              <p:cNvSpPr/>
              <p:nvPr/>
            </p:nvSpPr>
            <p:spPr>
              <a:xfrm>
                <a:off x="392400" y="3923640"/>
                <a:ext cx="303120" cy="58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122" name="Group 134"/>
              <p:cNvGrpSpPr/>
              <p:nvPr/>
            </p:nvGrpSpPr>
            <p:grpSpPr>
              <a:xfrm>
                <a:off x="362520" y="4808520"/>
                <a:ext cx="1466280" cy="201240"/>
                <a:chOff x="362520" y="4808520"/>
                <a:chExt cx="1466280" cy="201240"/>
              </a:xfrm>
            </p:grpSpPr>
            <p:sp>
              <p:nvSpPr>
                <p:cNvPr id="1123" name="Line 135"/>
                <p:cNvSpPr/>
                <p:nvPr/>
              </p:nvSpPr>
              <p:spPr>
                <a:xfrm>
                  <a:off x="452880" y="4808520"/>
                  <a:ext cx="137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136"/>
                <p:cNvSpPr/>
                <p:nvPr/>
              </p:nvSpPr>
              <p:spPr>
                <a:xfrm>
                  <a:off x="362520" y="5009760"/>
                  <a:ext cx="143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5" name="Group 137"/>
              <p:cNvGrpSpPr/>
              <p:nvPr/>
            </p:nvGrpSpPr>
            <p:grpSpPr>
              <a:xfrm>
                <a:off x="362520" y="5203800"/>
                <a:ext cx="1466280" cy="201240"/>
                <a:chOff x="362520" y="5203800"/>
                <a:chExt cx="1466280" cy="201240"/>
              </a:xfrm>
            </p:grpSpPr>
            <p:sp>
              <p:nvSpPr>
                <p:cNvPr id="1126" name="Line 138"/>
                <p:cNvSpPr/>
                <p:nvPr/>
              </p:nvSpPr>
              <p:spPr>
                <a:xfrm>
                  <a:off x="452880" y="5203800"/>
                  <a:ext cx="137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139"/>
                <p:cNvSpPr/>
                <p:nvPr/>
              </p:nvSpPr>
              <p:spPr>
                <a:xfrm>
                  <a:off x="362520" y="5405040"/>
                  <a:ext cx="143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8" name="Group 140"/>
              <p:cNvGrpSpPr/>
              <p:nvPr/>
            </p:nvGrpSpPr>
            <p:grpSpPr>
              <a:xfrm>
                <a:off x="362520" y="5598720"/>
                <a:ext cx="1466280" cy="201240"/>
                <a:chOff x="362520" y="5598720"/>
                <a:chExt cx="1466280" cy="201240"/>
              </a:xfrm>
            </p:grpSpPr>
            <p:sp>
              <p:nvSpPr>
                <p:cNvPr id="1129" name="Line 141"/>
                <p:cNvSpPr/>
                <p:nvPr/>
              </p:nvSpPr>
              <p:spPr>
                <a:xfrm>
                  <a:off x="452880" y="5598720"/>
                  <a:ext cx="137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142"/>
                <p:cNvSpPr/>
                <p:nvPr/>
              </p:nvSpPr>
              <p:spPr>
                <a:xfrm>
                  <a:off x="362520" y="5799960"/>
                  <a:ext cx="143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1" name="Rectangle 143"/>
              <p:cNvSpPr/>
              <p:nvPr/>
            </p:nvSpPr>
            <p:spPr>
              <a:xfrm>
                <a:off x="897120" y="5089680"/>
                <a:ext cx="477360" cy="62532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158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2" name="Line 144"/>
              <p:cNvSpPr/>
              <p:nvPr/>
            </p:nvSpPr>
            <p:spPr>
              <a:xfrm>
                <a:off x="424080" y="6012720"/>
                <a:ext cx="13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3" name="Line 145"/>
              <p:cNvSpPr/>
              <p:nvPr/>
            </p:nvSpPr>
            <p:spPr>
              <a:xfrm>
                <a:off x="1545120" y="4492080"/>
                <a:ext cx="0" cy="123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4" name="Text Box 146"/>
              <p:cNvSpPr/>
              <p:nvPr/>
            </p:nvSpPr>
            <p:spPr>
              <a:xfrm>
                <a:off x="1575720" y="4873320"/>
                <a:ext cx="303120" cy="58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2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5" name="Text Box 147"/>
              <p:cNvSpPr/>
              <p:nvPr/>
            </p:nvSpPr>
            <p:spPr>
              <a:xfrm>
                <a:off x="290160" y="4674600"/>
                <a:ext cx="158760" cy="177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 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6" name="Text Box 148"/>
              <p:cNvSpPr/>
              <p:nvPr/>
            </p:nvSpPr>
            <p:spPr>
              <a:xfrm>
                <a:off x="146160" y="5414040"/>
                <a:ext cx="303120" cy="500040"/>
              </a:xfrm>
              <a:prstGeom prst="rect">
                <a:avLst/>
              </a:prstGeom>
              <a:solidFill>
                <a:srgbClr val="ffffff">
                  <a:alpha val="9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水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137" name="TextBox 1"/>
          <p:cNvSpPr/>
          <p:nvPr/>
        </p:nvSpPr>
        <p:spPr>
          <a:xfrm>
            <a:off x="7512120" y="242712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395280" y="907920"/>
            <a:ext cx="854064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4080" indent="-13356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一个盛有盐水的容器中悬浮着一个鸡蛋，容器放在斜面上，如图所示。图上画出了几个力的方向，你认为鸡蛋所受浮力的方向应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154080" indent="-13356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选填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40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40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40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或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40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154080" indent="-13356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154080" indent="-13356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154080" indent="-13356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154080" indent="-13356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一金属块在空气中称重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27N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，把它全部浸没在水中称弹簧测力计的示数为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17N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，则该金属块受到的浮力</a:t>
            </a:r>
            <a:r>
              <a:rPr b="0" lang="zh-CN" sz="3200" spc="-1" strike="noStrike" u="sng">
                <a:solidFill>
                  <a:srgbClr val="00040c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9" name="Picture 2" descr=""/>
          <p:cNvPicPr/>
          <p:nvPr/>
        </p:nvPicPr>
        <p:blipFill>
          <a:blip r:embed="rId1"/>
          <a:stretch/>
        </p:blipFill>
        <p:spPr>
          <a:xfrm>
            <a:off x="6227640" y="2492280"/>
            <a:ext cx="2070360" cy="1657440"/>
          </a:xfrm>
          <a:prstGeom prst="rect">
            <a:avLst/>
          </a:prstGeom>
          <a:ln w="0">
            <a:noFill/>
          </a:ln>
        </p:spPr>
      </p:pic>
      <p:sp>
        <p:nvSpPr>
          <p:cNvPr id="1140" name="TextBox 3"/>
          <p:cNvSpPr/>
          <p:nvPr/>
        </p:nvSpPr>
        <p:spPr>
          <a:xfrm>
            <a:off x="8298000" y="200340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1" name="TextBox 4"/>
          <p:cNvSpPr/>
          <p:nvPr/>
        </p:nvSpPr>
        <p:spPr>
          <a:xfrm>
            <a:off x="3492360" y="5732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 txBox="1"/>
          <p:nvPr/>
        </p:nvSpPr>
        <p:spPr>
          <a:xfrm>
            <a:off x="324000" y="69228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跳水运动员离开跳台后，从接触水面到全部浸入水中，他受到的浮力将</a:t>
            </a:r>
            <a:r>
              <a:rPr b="0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；当他全部浸入水中下沉的过程中，受到的浮力将</a:t>
            </a:r>
            <a:r>
              <a:rPr b="0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.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将皮球按进水中，当放手以后，皮球会上浮。在皮球未露出水面之前，所受水的压强和浮力的变化情况，正确的是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(     )                                 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压强减小，浮力不变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压强增大，浮力不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压强不变，浮力变大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压强不变，浮力变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3" name="TextBox 4"/>
          <p:cNvSpPr/>
          <p:nvPr/>
        </p:nvSpPr>
        <p:spPr>
          <a:xfrm>
            <a:off x="6084720" y="1341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增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4" name="TextBox 5"/>
          <p:cNvSpPr/>
          <p:nvPr/>
        </p:nvSpPr>
        <p:spPr>
          <a:xfrm>
            <a:off x="7740720" y="1709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不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5" name="TextBox 6"/>
          <p:cNvSpPr/>
          <p:nvPr/>
        </p:nvSpPr>
        <p:spPr>
          <a:xfrm>
            <a:off x="6300720" y="3500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6" name="文本框 8200"/>
          <p:cNvSpPr/>
          <p:nvPr/>
        </p:nvSpPr>
        <p:spPr>
          <a:xfrm>
            <a:off x="1866960" y="357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图片 1" descr="21世纪教育网 -- 中国最大型、最专业的中小学教育资源门户网站"/>
          <p:cNvPicPr/>
          <p:nvPr/>
        </p:nvPicPr>
        <p:blipFill>
          <a:blip r:embed="rId1"/>
          <a:stretch/>
        </p:blipFill>
        <p:spPr>
          <a:xfrm>
            <a:off x="5651640" y="3921120"/>
            <a:ext cx="3024000" cy="268128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 txBox="1"/>
          <p:nvPr/>
        </p:nvSpPr>
        <p:spPr>
          <a:xfrm>
            <a:off x="250920" y="476280"/>
            <a:ext cx="8540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物体在液体中受到的浮力大小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(     )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和物体本身的重力大小有关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和物体的体积大小有关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和物体的密度大小有关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和物体浸入液体的体积大小有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如图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11: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同一物体浸没在水中和酒精中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在</a:t>
            </a:r>
            <a:r>
              <a:rPr b="0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中弹簧测力计所受的拉力大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在</a:t>
            </a:r>
            <a:r>
              <a:rPr b="0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中弹簧测力计的示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变化大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9" name="TextBox 3"/>
          <p:cNvSpPr/>
          <p:nvPr/>
        </p:nvSpPr>
        <p:spPr>
          <a:xfrm>
            <a:off x="6732720" y="692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0" name="TextBox 4"/>
          <p:cNvSpPr/>
          <p:nvPr/>
        </p:nvSpPr>
        <p:spPr>
          <a:xfrm>
            <a:off x="1116000" y="3382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酒精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1" name="TextBox 5"/>
          <p:cNvSpPr/>
          <p:nvPr/>
        </p:nvSpPr>
        <p:spPr>
          <a:xfrm>
            <a:off x="1116000" y="39211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 txBox="1"/>
          <p:nvPr/>
        </p:nvSpPr>
        <p:spPr>
          <a:xfrm>
            <a:off x="324000" y="907920"/>
            <a:ext cx="854064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如右图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示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弹簧测力计的示数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随物体浸入水中深度的变化如图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12.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则物体的重力为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N,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浸没后浮力为 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53" name="Picture 2" descr=""/>
          <p:cNvPicPr/>
          <p:nvPr/>
        </p:nvPicPr>
        <p:blipFill>
          <a:blip r:embed="rId1"/>
          <a:stretch/>
        </p:blipFill>
        <p:spPr>
          <a:xfrm>
            <a:off x="2771640" y="2708280"/>
            <a:ext cx="4870440" cy="309564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5"/>
          <p:cNvSpPr/>
          <p:nvPr/>
        </p:nvSpPr>
        <p:spPr>
          <a:xfrm>
            <a:off x="8120160" y="14065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5" name="TextBox 6"/>
          <p:cNvSpPr/>
          <p:nvPr/>
        </p:nvSpPr>
        <p:spPr>
          <a:xfrm>
            <a:off x="3492360" y="19335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8808-066A-4497-B067-D9B60F6E1E95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Box 1"/>
          <p:cNvSpPr/>
          <p:nvPr/>
        </p:nvSpPr>
        <p:spPr>
          <a:xfrm>
            <a:off x="684360" y="473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学质疑答案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1" name="TextBox 2"/>
          <p:cNvSpPr/>
          <p:nvPr/>
        </p:nvSpPr>
        <p:spPr>
          <a:xfrm>
            <a:off x="873000" y="111600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托      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托    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轻      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2" name="TextBox 3"/>
          <p:cNvSpPr/>
          <p:nvPr/>
        </p:nvSpPr>
        <p:spPr>
          <a:xfrm>
            <a:off x="922320" y="1701720"/>
            <a:ext cx="609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5.    0.2      F</a:t>
            </a:r>
            <a:r>
              <a:rPr b="1" lang="zh-CN" sz="3200" spc="-1" strike="noStrike" baseline="-25000">
                <a:solidFill>
                  <a:srgbClr val="00040c"/>
                </a:solidFill>
                <a:latin typeface="Arial"/>
              </a:rPr>
              <a:t>示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3" name="TextBox 5"/>
          <p:cNvSpPr/>
          <p:nvPr/>
        </p:nvSpPr>
        <p:spPr>
          <a:xfrm>
            <a:off x="968400" y="2421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6. 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＞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压力差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4" name="TextBox 6"/>
          <p:cNvSpPr/>
          <p:nvPr/>
        </p:nvSpPr>
        <p:spPr>
          <a:xfrm>
            <a:off x="968400" y="3357720"/>
            <a:ext cx="36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浸没与浸在的不同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5" name="TextBox 8"/>
          <p:cNvSpPr/>
          <p:nvPr/>
        </p:nvSpPr>
        <p:spPr>
          <a:xfrm>
            <a:off x="822240" y="4076640"/>
            <a:ext cx="785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浸没指整个物体都淹没在液面以下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浸在可以部分淹没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也可全部淹没在液面下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浸在包括了浸没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Control 2" descr=""/>
          <p:cNvPicPr/>
          <p:nvPr/>
        </p:nvPicPr>
        <p:blipFill>
          <a:blip r:embed="rId1"/>
          <a:stretch/>
        </p:blipFill>
        <p:spPr>
          <a:xfrm>
            <a:off x="4724280" y="1628640"/>
            <a:ext cx="4240440" cy="32403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0" descr="水球"/>
          <p:cNvPicPr/>
          <p:nvPr/>
        </p:nvPicPr>
        <p:blipFill>
          <a:blip r:embed="rId2"/>
          <a:stretch/>
        </p:blipFill>
        <p:spPr>
          <a:xfrm>
            <a:off x="179280" y="1628640"/>
            <a:ext cx="4321440" cy="324036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961" name="WordArt 45"/>
          <p:cNvSpPr txBox="1"/>
          <p:nvPr/>
        </p:nvSpPr>
        <p:spPr>
          <a:xfrm>
            <a:off x="2268360" y="333360"/>
            <a:ext cx="4824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认识浮力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Picture 2" descr="鸭子"/>
          <p:cNvPicPr/>
          <p:nvPr/>
        </p:nvPicPr>
        <p:blipFill>
          <a:blip r:embed="rId1"/>
          <a:stretch/>
        </p:blipFill>
        <p:spPr>
          <a:xfrm>
            <a:off x="-108000" y="3209760"/>
            <a:ext cx="4168800" cy="36482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3" descr="轮船"/>
          <p:cNvPicPr/>
          <p:nvPr/>
        </p:nvPicPr>
        <p:blipFill>
          <a:blip r:embed="rId2"/>
          <a:stretch/>
        </p:blipFill>
        <p:spPr>
          <a:xfrm>
            <a:off x="3828960" y="3209760"/>
            <a:ext cx="5315040" cy="36482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4" descr="热气球"/>
          <p:cNvPicPr/>
          <p:nvPr/>
        </p:nvPicPr>
        <p:blipFill>
          <a:blip r:embed="rId3"/>
          <a:stretch/>
        </p:blipFill>
        <p:spPr>
          <a:xfrm>
            <a:off x="3828960" y="0"/>
            <a:ext cx="5315040" cy="3246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0" descr="xin_3501040410290301271340"/>
          <p:cNvPicPr/>
          <p:nvPr/>
        </p:nvPicPr>
        <p:blipFill>
          <a:blip r:embed="rId4"/>
          <a:stretch/>
        </p:blipFill>
        <p:spPr>
          <a:xfrm>
            <a:off x="-108000" y="1440"/>
            <a:ext cx="3936960" cy="322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4"/>
          <p:cNvSpPr/>
          <p:nvPr/>
        </p:nvSpPr>
        <p:spPr>
          <a:xfrm>
            <a:off x="142920" y="1626480"/>
            <a:ext cx="9001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通过现象，认识什么叫浮力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浮力的方向及施力物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会用弹簧测力计测浮力的大小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了解浮力产生的原因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会用控制变量法</a:t>
            </a: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--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探究浮力大      小与哪些因素有关。并会初步判断所受浮力的大小</a:t>
            </a: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1" lang="zh-CN" sz="4400" spc="-1" strike="noStrike">
                <a:solidFill>
                  <a:srgbClr val="001d2e"/>
                </a:solidFill>
                <a:latin typeface="黑体"/>
                <a:ea typeface="黑体"/>
              </a:rPr>
              <a:t>难点</a:t>
            </a: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2771640" y="208080"/>
            <a:ext cx="333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学习目标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Box 1"/>
          <p:cNvSpPr/>
          <p:nvPr/>
        </p:nvSpPr>
        <p:spPr>
          <a:xfrm>
            <a:off x="1476360" y="5493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自学质疑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9" name="TextBox 2"/>
          <p:cNvSpPr/>
          <p:nvPr/>
        </p:nvSpPr>
        <p:spPr>
          <a:xfrm>
            <a:off x="108000" y="148428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、鸭子能浮在水面上，用钢铁做的轮船也能浮在水面上，说明它们受到了水对它们的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、飞艇、热气球能升上天空，说明它们也受到空气对它们向上的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、我们从水中抬起一个石头要比在空气中抬起感觉要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   </a:t>
            </a:r>
            <a:r>
              <a:rPr b="1" lang="zh-CN" sz="3600" spc="-1" strike="noStrike" u="sng">
                <a:solidFill>
                  <a:srgbClr val="00040c"/>
                </a:solidFill>
                <a:uFillTx/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 “轻”或“重” ），这些事例都说明，在水中要下沉的物体也受到水的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力。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………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.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0" name="TextBox 1"/>
          <p:cNvSpPr/>
          <p:nvPr/>
        </p:nvSpPr>
        <p:spPr>
          <a:xfrm>
            <a:off x="1187280" y="2781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1" name="TextBox 5"/>
          <p:cNvSpPr/>
          <p:nvPr/>
        </p:nvSpPr>
        <p:spPr>
          <a:xfrm>
            <a:off x="5456160" y="37306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2" name="TextBox 6"/>
          <p:cNvSpPr/>
          <p:nvPr/>
        </p:nvSpPr>
        <p:spPr>
          <a:xfrm>
            <a:off x="1971720" y="5805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3" name="TextBox 3"/>
          <p:cNvSpPr/>
          <p:nvPr/>
        </p:nvSpPr>
        <p:spPr>
          <a:xfrm>
            <a:off x="3059280" y="4797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4" name="TextBox 2"/>
          <p:cNvSpPr/>
          <p:nvPr/>
        </p:nvSpPr>
        <p:spPr>
          <a:xfrm>
            <a:off x="4427640" y="611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写出疑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Box 1"/>
          <p:cNvSpPr/>
          <p:nvPr/>
        </p:nvSpPr>
        <p:spPr>
          <a:xfrm>
            <a:off x="900000" y="1557360"/>
            <a:ext cx="755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  <a:ea typeface="宋体"/>
              </a:rPr>
              <a:t>、认识浮力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40c"/>
                </a:solidFill>
                <a:latin typeface="Arial"/>
                <a:ea typeface="宋体"/>
              </a:rPr>
              <a:t>从以上这些浮力现象可总结出：一切浸在液体或气体中的物体都受到液体或气体对它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  <a:ea typeface="宋体"/>
              </a:rPr>
              <a:t>的托力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  <a:ea typeface="宋体"/>
              </a:rPr>
              <a:t>这个力叫做浮力。浮力的方向总是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  <a:ea typeface="宋体"/>
              </a:rPr>
              <a:t>。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  <a:ea typeface="宋体"/>
              </a:rPr>
              <a:t>与 重力的方向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  <a:ea typeface="宋体"/>
              </a:rPr>
              <a:t>（选填“相同”或“相反”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40c"/>
                </a:solidFill>
                <a:latin typeface="Arial"/>
                <a:ea typeface="宋体"/>
              </a:rPr>
              <a:t>浮力的施力物是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  <a:ea typeface="宋体"/>
              </a:rPr>
              <a:t>            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39"/>
                </a:solidFill>
                <a:latin typeface="Arial"/>
                <a:ea typeface="宋体"/>
              </a:rPr>
              <a:t>你认为</a:t>
            </a:r>
            <a:r>
              <a:rPr b="1" lang="en-US" sz="3200" spc="-1" strike="noStrike">
                <a:solidFill>
                  <a:srgbClr val="003b39"/>
                </a:solidFill>
                <a:latin typeface="Arial"/>
                <a:ea typeface="宋体"/>
              </a:rPr>
              <a:t>”</a:t>
            </a:r>
            <a:r>
              <a:rPr b="1" lang="en-US" sz="3200" spc="-1" strike="noStrike">
                <a:solidFill>
                  <a:srgbClr val="003b39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3b39"/>
                </a:solidFill>
                <a:latin typeface="Arial"/>
                <a:ea typeface="宋体"/>
              </a:rPr>
              <a:t>浸在</a:t>
            </a:r>
            <a:r>
              <a:rPr b="1" lang="en-US" sz="3200" spc="-1" strike="noStrike">
                <a:solidFill>
                  <a:srgbClr val="003b39"/>
                </a:solidFill>
                <a:latin typeface="Arial"/>
                <a:ea typeface="宋体"/>
              </a:rPr>
              <a:t>”</a:t>
            </a:r>
            <a:r>
              <a:rPr b="1" lang="zh-CN" sz="3200" spc="-1" strike="noStrike">
                <a:solidFill>
                  <a:srgbClr val="003b39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003b39"/>
                </a:solidFill>
                <a:latin typeface="Arial"/>
                <a:ea typeface="宋体"/>
              </a:rPr>
              <a:t>”</a:t>
            </a:r>
            <a:r>
              <a:rPr b="1" lang="zh-CN" sz="3200" spc="-1" strike="noStrike">
                <a:solidFill>
                  <a:srgbClr val="003b39"/>
                </a:solidFill>
                <a:latin typeface="Arial"/>
                <a:ea typeface="宋体"/>
              </a:rPr>
              <a:t>浸没</a:t>
            </a:r>
            <a:r>
              <a:rPr b="1" lang="en-US" sz="3200" spc="-1" strike="noStrike">
                <a:solidFill>
                  <a:srgbClr val="003b39"/>
                </a:solidFill>
                <a:latin typeface="Arial"/>
                <a:ea typeface="宋体"/>
              </a:rPr>
              <a:t>”</a:t>
            </a:r>
            <a:r>
              <a:rPr b="1" lang="zh-CN" sz="3200" spc="-1" strike="noStrike">
                <a:solidFill>
                  <a:srgbClr val="003b39"/>
                </a:solidFill>
                <a:latin typeface="Arial"/>
                <a:ea typeface="宋体"/>
              </a:rPr>
              <a:t>相同吗</a:t>
            </a:r>
            <a:r>
              <a:rPr b="1" lang="en-US" sz="3200" spc="-1" strike="noStrike">
                <a:solidFill>
                  <a:srgbClr val="003b39"/>
                </a:solidFill>
                <a:latin typeface="Arial"/>
                <a:ea typeface="宋体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6" name="TextBox 2"/>
          <p:cNvSpPr/>
          <p:nvPr/>
        </p:nvSpPr>
        <p:spPr>
          <a:xfrm>
            <a:off x="1476360" y="549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自学质疑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7" name="TextBox 2"/>
          <p:cNvSpPr/>
          <p:nvPr/>
        </p:nvSpPr>
        <p:spPr>
          <a:xfrm>
            <a:off x="1476360" y="3068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向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8" name="TextBox 3"/>
          <p:cNvSpPr/>
          <p:nvPr/>
        </p:nvSpPr>
        <p:spPr>
          <a:xfrm>
            <a:off x="6959520" y="3508200"/>
            <a:ext cx="12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9" name="TextBox 4"/>
          <p:cNvSpPr/>
          <p:nvPr/>
        </p:nvSpPr>
        <p:spPr>
          <a:xfrm>
            <a:off x="4032360" y="428940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液体或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0" name="TextBox 6"/>
          <p:cNvSpPr/>
          <p:nvPr/>
        </p:nvSpPr>
        <p:spPr>
          <a:xfrm>
            <a:off x="2359080" y="3395520"/>
            <a:ext cx="24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竖直向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2" descr=""/>
          <p:cNvPicPr/>
          <p:nvPr/>
        </p:nvPicPr>
        <p:blipFill>
          <a:blip r:embed="rId1"/>
          <a:stretch/>
        </p:blipFill>
        <p:spPr>
          <a:xfrm>
            <a:off x="4586400" y="1413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82" name="TextBox 1"/>
          <p:cNvSpPr/>
          <p:nvPr/>
        </p:nvSpPr>
        <p:spPr>
          <a:xfrm>
            <a:off x="554040" y="692280"/>
            <a:ext cx="4032360" cy="41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如何用弹簧测力计测量物体浸没在水中所受的浮力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如果用测力计测出铜块重为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1N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，将铜块没入水中，测力计的示数变为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0.8N,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铜块受到的浮力是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。总结为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秤重法测浮力：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1" lang="zh-CN" sz="3200" spc="-1" strike="noStrike" baseline="-25000">
                <a:solidFill>
                  <a:srgbClr val="00040c"/>
                </a:solidFill>
                <a:latin typeface="Arial"/>
              </a:rPr>
              <a:t>浮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=G  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</a:t>
            </a:r>
            <a:r>
              <a:rPr b="1" lang="en-US" sz="3200" spc="-1" strike="noStrike" u="sng" baseline="-25000">
                <a:solidFill>
                  <a:srgbClr val="00040c"/>
                </a:solidFill>
                <a:uFillTx/>
                <a:latin typeface="Arial"/>
              </a:rPr>
              <a:t>,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3" name="TextBox 2"/>
          <p:cNvSpPr/>
          <p:nvPr/>
        </p:nvSpPr>
        <p:spPr>
          <a:xfrm>
            <a:off x="205092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二、自学质疑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4" name="TextBox 1"/>
          <p:cNvSpPr/>
          <p:nvPr/>
        </p:nvSpPr>
        <p:spPr>
          <a:xfrm>
            <a:off x="2495520" y="40705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.2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5" name="TextBox 2"/>
          <p:cNvSpPr/>
          <p:nvPr/>
        </p:nvSpPr>
        <p:spPr>
          <a:xfrm>
            <a:off x="2027160" y="50101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1"/>
          <p:cNvSpPr/>
          <p:nvPr/>
        </p:nvSpPr>
        <p:spPr>
          <a:xfrm>
            <a:off x="611280" y="98100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浮力产生的原因：浸在液体中的物体下表面受到液体对它向上的压力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液体对它上表面向下的压力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＞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＜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。这个向上和向下的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是浮力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7" name="TextBox 2"/>
          <p:cNvSpPr/>
          <p:nvPr/>
        </p:nvSpPr>
        <p:spPr>
          <a:xfrm>
            <a:off x="205092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自学质疑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cxnSp>
        <p:nvCxnSpPr>
          <p:cNvPr id="988" name="直接箭头连接符 3"/>
          <p:cNvCxnSpPr/>
          <p:nvPr/>
        </p:nvCxnSpPr>
        <p:spPr>
          <a:xfrm>
            <a:off x="5003280" y="4220640"/>
            <a:ext cx="864360" cy="1080"/>
          </a:xfrm>
          <a:prstGeom prst="straightConnector1">
            <a:avLst/>
          </a:prstGeom>
          <a:ln w="9360">
            <a:solidFill>
              <a:srgbClr val="c6e7fb"/>
            </a:solidFill>
            <a:round/>
            <a:tailEnd len="med" type="arrow" w="med"/>
          </a:ln>
        </p:spPr>
      </p:cxnSp>
      <p:cxnSp>
        <p:nvCxnSpPr>
          <p:cNvPr id="989" name="直接箭头连接符 5"/>
          <p:cNvCxnSpPr/>
          <p:nvPr/>
        </p:nvCxnSpPr>
        <p:spPr>
          <a:xfrm>
            <a:off x="5003280" y="4652640"/>
            <a:ext cx="864360" cy="1080"/>
          </a:xfrm>
          <a:prstGeom prst="straightConnector1">
            <a:avLst/>
          </a:prstGeom>
          <a:ln w="9360">
            <a:solidFill>
              <a:srgbClr val="c6e7fb"/>
            </a:solidFill>
            <a:round/>
            <a:tailEnd len="med" type="arrow" w="med"/>
          </a:ln>
        </p:spPr>
      </p:cxnSp>
      <p:pic>
        <p:nvPicPr>
          <p:cNvPr id="990" name="Picture 4" descr=""/>
          <p:cNvPicPr/>
          <p:nvPr/>
        </p:nvPicPr>
        <p:blipFill>
          <a:blip r:embed="rId1"/>
          <a:stretch/>
        </p:blipFill>
        <p:spPr>
          <a:xfrm>
            <a:off x="5051520" y="3716280"/>
            <a:ext cx="3825720" cy="2870280"/>
          </a:xfrm>
          <a:prstGeom prst="rect">
            <a:avLst/>
          </a:prstGeom>
          <a:ln w="0">
            <a:noFill/>
          </a:ln>
        </p:spPr>
      </p:pic>
      <p:sp>
        <p:nvSpPr>
          <p:cNvPr id="991" name="右箭头 7"/>
          <p:cNvSpPr/>
          <p:nvPr/>
        </p:nvSpPr>
        <p:spPr>
          <a:xfrm>
            <a:off x="5219640" y="4967280"/>
            <a:ext cx="792360" cy="4608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ccecff"/>
          </a:solidFill>
          <a:ln w="25560">
            <a:solidFill>
              <a:srgbClr val="95ad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2" name="右箭头 13"/>
          <p:cNvSpPr/>
          <p:nvPr/>
        </p:nvSpPr>
        <p:spPr>
          <a:xfrm flipH="1" flipV="1">
            <a:off x="7740720" y="4941720"/>
            <a:ext cx="792000" cy="46080"/>
          </a:xfrm>
          <a:prstGeom prst="rightArrow">
            <a:avLst>
              <a:gd name="adj1" fmla="val 50000"/>
              <a:gd name="adj2" fmla="val 49891"/>
            </a:avLst>
          </a:prstGeom>
          <a:solidFill>
            <a:srgbClr val="ccecff"/>
          </a:solidFill>
          <a:ln w="25560">
            <a:solidFill>
              <a:srgbClr val="95ad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3" name="TextBox 1"/>
          <p:cNvSpPr/>
          <p:nvPr/>
        </p:nvSpPr>
        <p:spPr>
          <a:xfrm>
            <a:off x="7308720" y="162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4" name="TextBox 2"/>
          <p:cNvSpPr/>
          <p:nvPr/>
        </p:nvSpPr>
        <p:spPr>
          <a:xfrm>
            <a:off x="4067280" y="270828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压力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5:43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12Z</dcterms:modified>
  <cp:revision>1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