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21.jpeg" ContentType="image/jpeg"/>
  <Override PartName="/ppt/media/image29.png" ContentType="image/png"/>
  <Override PartName="/ppt/media/image22.wmf" ContentType="image/x-wmf"/>
  <Override PartName="/ppt/media/image19.wmf" ContentType="image/x-wmf"/>
  <Override PartName="/ppt/media/image16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5.png" ContentType="image/png"/>
  <Override PartName="/ppt/media/image9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7.jpeg" ContentType="image/jpeg"/>
  <Override PartName="/ppt/media/image31.gif" ContentType="image/gif"/>
  <Override PartName="/ppt/media/image32.jpeg" ContentType="image/jpeg"/>
  <Override PartName="/ppt/media/image5.jpeg" ContentType="image/jpeg"/>
  <Override PartName="/ppt/media/image26.jpeg" ContentType="image/jpeg"/>
  <Override PartName="/ppt/media/image11.gif" ContentType="image/gif"/>
  <Override PartName="/ppt/media/image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5.wmf" ContentType="image/x-wmf"/>
  <Override PartName="/ppt/media/image1.jpeg" ContentType="image/jpeg"/>
  <Override PartName="/ppt/media/image28.jpeg" ContentType="image/jpeg"/>
  <Override PartName="/ppt/media/image27.gif" ContentType="image/gif"/>
  <Override PartName="/ppt/media/image24.jpeg" ContentType="image/jpeg"/>
  <Override PartName="/ppt/media/projctor.wav" ContentType="audio/x-wav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2E0-5BC3-4B40-9C06-90910A42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691-0741-46BC-B770-446BA91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867-4200-42EB-A4C8-AD578F00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261-A328-4793-A191-EC015DA6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54BB-9D26-4575-A88D-534BC118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2DF2-BFE6-4045-ABEF-60D0E12A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0810-050F-47BC-959A-6204BDAE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735-DCE4-45B6-8EEA-3C73E79F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D858-76D8-4F58-AB45-0E9BB10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DF7A-5C81-4001-9FBD-B9498D2E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3372-AC60-4AEC-884E-69BA7C4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2A8-FF70-40E8-870C-6F80E194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78D5-5BB0-4088-B2A5-97029132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1CF2-E11C-4DE1-96E8-96A09F7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083B-40C6-4978-B0BE-F56ED00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83C6-2CBA-42AE-9499-F6AD2136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A8B7-AD5E-4087-A952-7FAE9139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78F-BC03-478D-A0BA-E4364419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D5C-CA96-4081-9D00-67CC14E5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A41-4898-41BC-B19B-5620A90D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15A-6092-435C-BBE7-2871284C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068-4D4B-4CDB-A2ED-51B0BBCD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76C-36CC-4B60-910D-1CE7143A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76E-EE99-45E6-97D8-560F2A3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A94A-F2AE-40D7-B380-61D70CDD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EDB5-B529-477B-B810-E5E5147EAE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hyperlink" Target="270,12,&#24187;&#28783;&#29255; 12" TargetMode="External"/><Relationship Id="rId3" Type="http://schemas.openxmlformats.org/officeDocument/2006/relationships/hyperlink" Target="270,12,&#24187;&#28783;&#29255; 12" TargetMode="External"/><Relationship Id="rId4" Type="http://schemas.openxmlformats.org/officeDocument/2006/relationships/hyperlink" Target="276,14,&#24187;&#28783;&#29255; 14" TargetMode="External"/><Relationship Id="rId5" Type="http://schemas.openxmlformats.org/officeDocument/2006/relationships/hyperlink" Target="276,14,&#24187;&#28783;&#29255; 14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666520"/>
            <a:ext cx="19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繁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895480" y="264780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f5f5f"/>
                </a:solidFill>
                <a:latin typeface="Arial"/>
                <a:ea typeface="楷体_GB2312"/>
              </a:rPr>
              <a:t>一时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105520" y="259092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隋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990720" y="1447920"/>
            <a:ext cx="70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单元　繁荣与开放的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文本框 2" descr=""/>
          <p:cNvPicPr/>
          <p:nvPr/>
        </p:nvPicPr>
        <p:blipFill>
          <a:blip r:embed="rId2"/>
          <a:stretch/>
        </p:blipFill>
        <p:spPr>
          <a:xfrm>
            <a:off x="639720" y="3809880"/>
            <a:ext cx="7610400" cy="70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375 0.00556 E">
                                      <p:cBhvr>
                                        <p:cTn id="23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22222E-006 L 0.19167 -0.00555 E">
                                      <p:cBhvr>
                                        <p:cTn id="5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61bf8882d6a257b7f703a6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1981080" y="1447920"/>
            <a:ext cx="5943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隋朝的建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陈政权的腐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长期分裂，人民渴望统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838080" y="1523880"/>
            <a:ext cx="914400" cy="609840"/>
          </a:xfrm>
          <a:custGeom>
            <a:avLst/>
            <a:gdLst>
              <a:gd name="textAreaLeft" fmla="*/ 376560 w 914400"/>
              <a:gd name="textAreaRight" fmla="*/ 537840 w 91440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838080" y="2666880"/>
            <a:ext cx="914400" cy="609840"/>
          </a:xfrm>
          <a:custGeom>
            <a:avLst/>
            <a:gdLst>
              <a:gd name="textAreaLeft" fmla="*/ 376560 w 914400"/>
              <a:gd name="textAreaRight" fmla="*/ 537840 w 91440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914400" y="3886200"/>
            <a:ext cx="914400" cy="609480"/>
          </a:xfrm>
          <a:custGeom>
            <a:avLst/>
            <a:gdLst>
              <a:gd name="textAreaLeft" fmla="*/ 376560 w 914400"/>
              <a:gd name="textAreaRight" fmla="*/ 537840 w 9144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图片11"/>
          <p:cNvPicPr/>
          <p:nvPr/>
        </p:nvPicPr>
        <p:blipFill>
          <a:blip r:embed="rId2"/>
          <a:stretch/>
        </p:blipFill>
        <p:spPr>
          <a:xfrm>
            <a:off x="8001000" y="6210360"/>
            <a:ext cx="971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2" descr="图片3"/>
          <p:cNvPicPr/>
          <p:nvPr/>
        </p:nvPicPr>
        <p:blipFill>
          <a:blip r:embed="rId1"/>
          <a:stretch/>
        </p:blipFill>
        <p:spPr>
          <a:xfrm>
            <a:off x="152280" y="0"/>
            <a:ext cx="7734600" cy="4276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01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图片10"/>
          <p:cNvPicPr/>
          <p:nvPr/>
        </p:nvPicPr>
        <p:blipFill>
          <a:blip r:embed="rId3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"/>
          <p:cNvSpPr/>
          <p:nvPr/>
        </p:nvSpPr>
        <p:spPr>
          <a:xfrm>
            <a:off x="144792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隋朝前期的繁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66680" y="2057400"/>
            <a:ext cx="7010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066680" y="35053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19320" y="5410080"/>
            <a:ext cx="4952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371600" y="2895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改革制度、发展生产、注重吏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523880" y="5181480"/>
            <a:ext cx="5181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国家统一、人民负担减轻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社会经济繁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3" descr="图片1"/>
          <p:cNvPicPr/>
          <p:nvPr/>
        </p:nvPicPr>
        <p:blipFill>
          <a:blip r:embed="rId4"/>
          <a:stretch/>
        </p:blipFill>
        <p:spPr>
          <a:xfrm>
            <a:off x="6553080" y="43434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14"/>
          <p:cNvSpPr/>
          <p:nvPr/>
        </p:nvSpPr>
        <p:spPr>
          <a:xfrm>
            <a:off x="3581280" y="129528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6"/>
          <p:cNvSpPr/>
          <p:nvPr/>
        </p:nvSpPr>
        <p:spPr>
          <a:xfrm>
            <a:off x="3657600" y="358128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1" descr="图片10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914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228600" y="609480"/>
          <a:ext cx="8534520" cy="2860560"/>
        </p:xfrm>
        <a:graphic>
          <a:graphicData uri="http://schemas.openxmlformats.org/drawingml/2006/table">
            <a:tbl>
              <a:tblPr/>
              <a:tblGrid>
                <a:gridCol w="990720"/>
                <a:gridCol w="2743200"/>
                <a:gridCol w="3124080"/>
                <a:gridCol w="167652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隋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隋盛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Arial"/>
                          <a:ea typeface="隶书"/>
                        </a:rPr>
                        <a:t>结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人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三千多万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四千六百多万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Arial"/>
                          <a:ea typeface="隶书"/>
                        </a:rPr>
                        <a:t>人口激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垦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一千九百多万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五千五百多万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Arial"/>
                          <a:ea typeface="隶书"/>
                        </a:rPr>
                        <a:t>垦田扩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粮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长安太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洛阳含嘉仓洛口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Arial"/>
                          <a:ea typeface="隶书"/>
                        </a:rPr>
                        <a:t>粮仓丰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30"/>
          <p:cNvSpPr/>
          <p:nvPr/>
        </p:nvSpPr>
        <p:spPr>
          <a:xfrm>
            <a:off x="380880" y="380988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计天下储积，得供五六十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——</a:t>
            </a:r>
            <a:r>
              <a:rPr b="1" lang="en-US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贞观政要</a:t>
            </a:r>
            <a:r>
              <a:rPr b="1" lang="en-US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2" descr="图片11"/>
          <p:cNvPicPr/>
          <p:nvPr/>
        </p:nvPicPr>
        <p:blipFill>
          <a:blip r:embed="rId2"/>
          <a:stretch/>
        </p:blipFill>
        <p:spPr>
          <a:xfrm>
            <a:off x="8172360" y="621036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3"/>
          <p:cNvSpPr/>
          <p:nvPr/>
        </p:nvSpPr>
        <p:spPr>
          <a:xfrm>
            <a:off x="0" y="54100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华文行楷"/>
                <a:ea typeface="华文行楷"/>
              </a:rPr>
              <a:t>隋文帝统治时期被称为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开皇之治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3" descr="2009530155638038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00800" y="213336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343400" y="609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66ff"/>
                </a:solidFill>
                <a:latin typeface="隶书"/>
                <a:ea typeface="隶书"/>
              </a:rPr>
              <a:t>、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23920" y="1143000"/>
            <a:ext cx="40388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南北交通，巩固隋王朝对全国统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4343400" y="20574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66ff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ff66ff"/>
                </a:solidFill>
                <a:latin typeface="隶书"/>
                <a:ea typeface="隶书"/>
              </a:rPr>
              <a:t>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343400" y="2819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ff66ff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ff66ff"/>
                </a:solidFill>
                <a:latin typeface="隶书"/>
                <a:ea typeface="隶书"/>
              </a:rPr>
              <a:t>规模</a:t>
            </a:r>
            <a:r>
              <a:rPr b="0" lang="zh-CN" sz="4000" spc="-1" strike="noStrike">
                <a:solidFill>
                  <a:srgbClr val="ff66ff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343400" y="48769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隶书"/>
                <a:ea typeface="隶书"/>
              </a:rPr>
              <a:t>4</a:t>
            </a:r>
            <a:r>
              <a:rPr b="0" lang="zh-CN" sz="4000" spc="-1" strike="noStrike">
                <a:solidFill>
                  <a:srgbClr val="ff66ff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ff66ff"/>
                </a:solidFill>
                <a:latin typeface="隶书"/>
                <a:ea typeface="隶书"/>
              </a:rPr>
              <a:t>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20"/>
          <p:cNvSpPr txBox="1"/>
          <p:nvPr/>
        </p:nvSpPr>
        <p:spPr>
          <a:xfrm rot="5400000">
            <a:off x="142560" y="2905200"/>
            <a:ext cx="4038480" cy="1123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开 通 大 运 河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4343400" y="3581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洛阳为中心，北达涿郡，南至余杭，全长两千多公里，是古代世界最长的运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4343400" y="55627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促进了南北经济的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2209680" y="38088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隶书"/>
                <a:ea typeface="隶书"/>
              </a:rPr>
              <a:t>从图中你想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3" dur="1" fill="hold"/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Object 3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314" name="Text Box 2"/>
          <p:cNvSpPr/>
          <p:nvPr/>
        </p:nvSpPr>
        <p:spPr>
          <a:xfrm>
            <a:off x="2362320" y="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隋 朝 大 运 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4129200" y="1598760"/>
            <a:ext cx="1509480" cy="2198520"/>
          </a:xfrm>
          <a:custGeom>
            <a:avLst/>
            <a:gdLst/>
            <a:ahLst/>
            <a:rect l="l" t="t" r="r" b="b"/>
            <a:pathLst>
              <a:path w="1116" h="1626">
                <a:moveTo>
                  <a:pt x="948" y="0"/>
                </a:moveTo>
                <a:cubicBezTo>
                  <a:pt x="956" y="2"/>
                  <a:pt x="981" y="57"/>
                  <a:pt x="1044" y="75"/>
                </a:cubicBezTo>
                <a:cubicBezTo>
                  <a:pt x="1095" y="105"/>
                  <a:pt x="1091" y="115"/>
                  <a:pt x="1098" y="135"/>
                </a:cubicBezTo>
                <a:cubicBezTo>
                  <a:pt x="1096" y="170"/>
                  <a:pt x="1116" y="163"/>
                  <a:pt x="1106" y="193"/>
                </a:cubicBezTo>
                <a:cubicBezTo>
                  <a:pt x="1095" y="226"/>
                  <a:pt x="1090" y="205"/>
                  <a:pt x="1074" y="240"/>
                </a:cubicBezTo>
                <a:cubicBezTo>
                  <a:pt x="1071" y="246"/>
                  <a:pt x="1062" y="300"/>
                  <a:pt x="1062" y="300"/>
                </a:cubicBezTo>
                <a:cubicBezTo>
                  <a:pt x="1059" y="341"/>
                  <a:pt x="1066" y="450"/>
                  <a:pt x="1056" y="489"/>
                </a:cubicBezTo>
                <a:cubicBezTo>
                  <a:pt x="1047" y="529"/>
                  <a:pt x="1021" y="525"/>
                  <a:pt x="1008" y="540"/>
                </a:cubicBezTo>
                <a:cubicBezTo>
                  <a:pt x="995" y="557"/>
                  <a:pt x="988" y="559"/>
                  <a:pt x="978" y="588"/>
                </a:cubicBezTo>
                <a:cubicBezTo>
                  <a:pt x="932" y="638"/>
                  <a:pt x="966" y="645"/>
                  <a:pt x="945" y="717"/>
                </a:cubicBezTo>
                <a:cubicBezTo>
                  <a:pt x="934" y="724"/>
                  <a:pt x="909" y="776"/>
                  <a:pt x="897" y="780"/>
                </a:cubicBezTo>
                <a:cubicBezTo>
                  <a:pt x="889" y="792"/>
                  <a:pt x="827" y="822"/>
                  <a:pt x="819" y="834"/>
                </a:cubicBezTo>
                <a:cubicBezTo>
                  <a:pt x="791" y="861"/>
                  <a:pt x="768" y="862"/>
                  <a:pt x="747" y="891"/>
                </a:cubicBezTo>
                <a:cubicBezTo>
                  <a:pt x="734" y="911"/>
                  <a:pt x="701" y="983"/>
                  <a:pt x="693" y="1008"/>
                </a:cubicBezTo>
                <a:cubicBezTo>
                  <a:pt x="684" y="1033"/>
                  <a:pt x="650" y="1061"/>
                  <a:pt x="636" y="1095"/>
                </a:cubicBezTo>
                <a:cubicBezTo>
                  <a:pt x="607" y="1111"/>
                  <a:pt x="578" y="1189"/>
                  <a:pt x="555" y="1203"/>
                </a:cubicBezTo>
                <a:cubicBezTo>
                  <a:pt x="549" y="1213"/>
                  <a:pt x="452" y="1324"/>
                  <a:pt x="444" y="1332"/>
                </a:cubicBezTo>
                <a:cubicBezTo>
                  <a:pt x="407" y="1383"/>
                  <a:pt x="323" y="1385"/>
                  <a:pt x="273" y="1425"/>
                </a:cubicBezTo>
                <a:cubicBezTo>
                  <a:pt x="223" y="1465"/>
                  <a:pt x="186" y="1539"/>
                  <a:pt x="141" y="1572"/>
                </a:cubicBezTo>
                <a:cubicBezTo>
                  <a:pt x="96" y="1605"/>
                  <a:pt x="30" y="1615"/>
                  <a:pt x="0" y="1626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4384800" y="3678120"/>
            <a:ext cx="1785960" cy="797040"/>
          </a:xfrm>
          <a:custGeom>
            <a:avLst/>
            <a:gdLst/>
            <a:ahLst/>
            <a:rect l="l" t="t" r="r" b="b"/>
            <a:pathLst>
              <a:path w="1321" h="589">
                <a:moveTo>
                  <a:pt x="0" y="4"/>
                </a:moveTo>
                <a:cubicBezTo>
                  <a:pt x="6" y="0"/>
                  <a:pt x="99" y="67"/>
                  <a:pt x="99" y="67"/>
                </a:cubicBezTo>
                <a:cubicBezTo>
                  <a:pt x="124" y="81"/>
                  <a:pt x="276" y="69"/>
                  <a:pt x="297" y="79"/>
                </a:cubicBezTo>
                <a:cubicBezTo>
                  <a:pt x="307" y="82"/>
                  <a:pt x="391" y="139"/>
                  <a:pt x="369" y="139"/>
                </a:cubicBezTo>
                <a:cubicBezTo>
                  <a:pt x="397" y="160"/>
                  <a:pt x="397" y="183"/>
                  <a:pt x="429" y="193"/>
                </a:cubicBezTo>
                <a:cubicBezTo>
                  <a:pt x="458" y="202"/>
                  <a:pt x="554" y="187"/>
                  <a:pt x="582" y="196"/>
                </a:cubicBezTo>
                <a:cubicBezTo>
                  <a:pt x="612" y="214"/>
                  <a:pt x="658" y="249"/>
                  <a:pt x="693" y="277"/>
                </a:cubicBezTo>
                <a:cubicBezTo>
                  <a:pt x="736" y="301"/>
                  <a:pt x="748" y="337"/>
                  <a:pt x="795" y="355"/>
                </a:cubicBezTo>
                <a:cubicBezTo>
                  <a:pt x="850" y="376"/>
                  <a:pt x="856" y="407"/>
                  <a:pt x="912" y="409"/>
                </a:cubicBezTo>
                <a:cubicBezTo>
                  <a:pt x="985" y="436"/>
                  <a:pt x="1186" y="472"/>
                  <a:pt x="1254" y="499"/>
                </a:cubicBezTo>
                <a:cubicBezTo>
                  <a:pt x="1321" y="529"/>
                  <a:pt x="1300" y="574"/>
                  <a:pt x="1314" y="589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6"/>
          <p:cNvSpPr/>
          <p:nvPr/>
        </p:nvSpPr>
        <p:spPr>
          <a:xfrm>
            <a:off x="6369120" y="4267080"/>
            <a:ext cx="162000" cy="576360"/>
          </a:xfrm>
          <a:custGeom>
            <a:avLst/>
            <a:gdLst/>
            <a:ahLst/>
            <a:rect l="l" t="t" r="r" b="b"/>
            <a:pathLst>
              <a:path w="120" h="426">
                <a:moveTo>
                  <a:pt x="0" y="0"/>
                </a:moveTo>
                <a:cubicBezTo>
                  <a:pt x="9" y="6"/>
                  <a:pt x="3" y="26"/>
                  <a:pt x="16" y="40"/>
                </a:cubicBezTo>
                <a:cubicBezTo>
                  <a:pt x="26" y="52"/>
                  <a:pt x="35" y="74"/>
                  <a:pt x="42" y="90"/>
                </a:cubicBezTo>
                <a:cubicBezTo>
                  <a:pt x="58" y="125"/>
                  <a:pt x="101" y="196"/>
                  <a:pt x="114" y="252"/>
                </a:cubicBezTo>
                <a:cubicBezTo>
                  <a:pt x="118" y="279"/>
                  <a:pt x="116" y="401"/>
                  <a:pt x="120" y="426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6545160" y="4856040"/>
            <a:ext cx="451080" cy="733680"/>
          </a:xfrm>
          <a:custGeom>
            <a:avLst/>
            <a:gdLst/>
            <a:ahLst/>
            <a:rect l="l" t="t" r="r" b="b"/>
            <a:pathLst>
              <a:path w="334" h="543">
                <a:moveTo>
                  <a:pt x="0" y="0"/>
                </a:moveTo>
                <a:cubicBezTo>
                  <a:pt x="2" y="20"/>
                  <a:pt x="20" y="60"/>
                  <a:pt x="36" y="70"/>
                </a:cubicBezTo>
                <a:cubicBezTo>
                  <a:pt x="52" y="95"/>
                  <a:pt x="78" y="128"/>
                  <a:pt x="107" y="138"/>
                </a:cubicBezTo>
                <a:cubicBezTo>
                  <a:pt x="126" y="157"/>
                  <a:pt x="143" y="162"/>
                  <a:pt x="167" y="174"/>
                </a:cubicBezTo>
                <a:cubicBezTo>
                  <a:pt x="189" y="185"/>
                  <a:pt x="195" y="187"/>
                  <a:pt x="214" y="200"/>
                </a:cubicBezTo>
                <a:cubicBezTo>
                  <a:pt x="220" y="217"/>
                  <a:pt x="271" y="228"/>
                  <a:pt x="281" y="243"/>
                </a:cubicBezTo>
                <a:cubicBezTo>
                  <a:pt x="286" y="270"/>
                  <a:pt x="311" y="302"/>
                  <a:pt x="305" y="330"/>
                </a:cubicBezTo>
                <a:cubicBezTo>
                  <a:pt x="315" y="369"/>
                  <a:pt x="334" y="406"/>
                  <a:pt x="320" y="441"/>
                </a:cubicBezTo>
                <a:cubicBezTo>
                  <a:pt x="306" y="476"/>
                  <a:pt x="244" y="522"/>
                  <a:pt x="224" y="543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4891680" y="2430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5118840" y="1846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4599720" y="2938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6514200" y="420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5237640" y="368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752000" y="3502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6601320" y="4529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6795000" y="477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6968160" y="506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7001640" y="5383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5617080" y="3890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5535720" y="2290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608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4475160" y="40752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605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5870520" y="45194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605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6259680" y="50911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610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5519520" y="1403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涿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4"/>
          <p:cNvSpPr/>
          <p:nvPr/>
        </p:nvSpPr>
        <p:spPr>
          <a:xfrm>
            <a:off x="2817360" y="4041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长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3909600" y="3857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洛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"/>
          <p:cNvSpPr/>
          <p:nvPr/>
        </p:nvSpPr>
        <p:spPr>
          <a:xfrm>
            <a:off x="6430680" y="5513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余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6165720" y="4863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江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609480" y="4572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隋朝大运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3657600" y="2057400"/>
            <a:ext cx="208080" cy="243000"/>
          </a:xfrm>
          <a:custGeom>
            <a:avLst/>
            <a:gdLst/>
            <a:ahLst/>
            <a:rect l="l" t="t" r="r" b="b"/>
            <a:pathLst>
              <a:path w="131" h="153">
                <a:moveTo>
                  <a:pt x="0" y="33"/>
                </a:moveTo>
                <a:cubicBezTo>
                  <a:pt x="13" y="125"/>
                  <a:pt x="0" y="153"/>
                  <a:pt x="96" y="129"/>
                </a:cubicBezTo>
                <a:cubicBezTo>
                  <a:pt x="102" y="99"/>
                  <a:pt x="131" y="0"/>
                  <a:pt x="60" y="9"/>
                </a:cubicBezTo>
                <a:cubicBezTo>
                  <a:pt x="39" y="12"/>
                  <a:pt x="20" y="25"/>
                  <a:pt x="0" y="33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"/>
          <p:cNvSpPr/>
          <p:nvPr/>
        </p:nvSpPr>
        <p:spPr>
          <a:xfrm>
            <a:off x="2743200" y="2209680"/>
            <a:ext cx="2762280" cy="3971880"/>
          </a:xfrm>
          <a:custGeom>
            <a:avLst/>
            <a:gdLst/>
            <a:ahLst/>
            <a:rect l="l" t="t" r="r" b="b"/>
            <a:pathLst>
              <a:path w="1740" h="2502">
                <a:moveTo>
                  <a:pt x="636" y="6"/>
                </a:moveTo>
                <a:cubicBezTo>
                  <a:pt x="709" y="24"/>
                  <a:pt x="669" y="0"/>
                  <a:pt x="696" y="54"/>
                </a:cubicBezTo>
                <a:cubicBezTo>
                  <a:pt x="702" y="67"/>
                  <a:pt x="714" y="77"/>
                  <a:pt x="720" y="90"/>
                </a:cubicBezTo>
                <a:cubicBezTo>
                  <a:pt x="730" y="113"/>
                  <a:pt x="744" y="162"/>
                  <a:pt x="744" y="162"/>
                </a:cubicBezTo>
                <a:cubicBezTo>
                  <a:pt x="740" y="210"/>
                  <a:pt x="741" y="259"/>
                  <a:pt x="732" y="306"/>
                </a:cubicBezTo>
                <a:cubicBezTo>
                  <a:pt x="729" y="320"/>
                  <a:pt x="714" y="329"/>
                  <a:pt x="708" y="342"/>
                </a:cubicBezTo>
                <a:cubicBezTo>
                  <a:pt x="686" y="391"/>
                  <a:pt x="674" y="439"/>
                  <a:pt x="648" y="486"/>
                </a:cubicBezTo>
                <a:cubicBezTo>
                  <a:pt x="634" y="511"/>
                  <a:pt x="609" y="531"/>
                  <a:pt x="600" y="558"/>
                </a:cubicBezTo>
                <a:cubicBezTo>
                  <a:pt x="596" y="570"/>
                  <a:pt x="596" y="584"/>
                  <a:pt x="588" y="594"/>
                </a:cubicBezTo>
                <a:cubicBezTo>
                  <a:pt x="558" y="631"/>
                  <a:pt x="485" y="634"/>
                  <a:pt x="444" y="642"/>
                </a:cubicBezTo>
                <a:cubicBezTo>
                  <a:pt x="346" y="707"/>
                  <a:pt x="327" y="807"/>
                  <a:pt x="252" y="882"/>
                </a:cubicBezTo>
                <a:cubicBezTo>
                  <a:pt x="179" y="955"/>
                  <a:pt x="99" y="1001"/>
                  <a:pt x="0" y="1026"/>
                </a:cubicBezTo>
                <a:cubicBezTo>
                  <a:pt x="4" y="1038"/>
                  <a:pt x="1" y="1055"/>
                  <a:pt x="12" y="1062"/>
                </a:cubicBezTo>
                <a:cubicBezTo>
                  <a:pt x="29" y="1073"/>
                  <a:pt x="52" y="1069"/>
                  <a:pt x="72" y="1074"/>
                </a:cubicBezTo>
                <a:cubicBezTo>
                  <a:pt x="118" y="1085"/>
                  <a:pt x="159" y="1108"/>
                  <a:pt x="204" y="1122"/>
                </a:cubicBezTo>
                <a:cubicBezTo>
                  <a:pt x="240" y="1133"/>
                  <a:pt x="280" y="1137"/>
                  <a:pt x="312" y="1158"/>
                </a:cubicBezTo>
                <a:cubicBezTo>
                  <a:pt x="398" y="1216"/>
                  <a:pt x="477" y="1280"/>
                  <a:pt x="564" y="1338"/>
                </a:cubicBezTo>
                <a:cubicBezTo>
                  <a:pt x="591" y="1356"/>
                  <a:pt x="630" y="1347"/>
                  <a:pt x="660" y="1362"/>
                </a:cubicBezTo>
                <a:cubicBezTo>
                  <a:pt x="714" y="1389"/>
                  <a:pt x="770" y="1415"/>
                  <a:pt x="828" y="1434"/>
                </a:cubicBezTo>
                <a:cubicBezTo>
                  <a:pt x="844" y="1439"/>
                  <a:pt x="860" y="1441"/>
                  <a:pt x="876" y="1446"/>
                </a:cubicBezTo>
                <a:cubicBezTo>
                  <a:pt x="900" y="1453"/>
                  <a:pt x="948" y="1470"/>
                  <a:pt x="948" y="1470"/>
                </a:cubicBezTo>
                <a:cubicBezTo>
                  <a:pt x="984" y="1458"/>
                  <a:pt x="1020" y="1446"/>
                  <a:pt x="1056" y="1434"/>
                </a:cubicBezTo>
                <a:cubicBezTo>
                  <a:pt x="1095" y="1421"/>
                  <a:pt x="1176" y="1410"/>
                  <a:pt x="1176" y="1410"/>
                </a:cubicBezTo>
                <a:cubicBezTo>
                  <a:pt x="1182" y="1406"/>
                  <a:pt x="1234" y="1367"/>
                  <a:pt x="1248" y="1374"/>
                </a:cubicBezTo>
                <a:cubicBezTo>
                  <a:pt x="1259" y="1380"/>
                  <a:pt x="1256" y="1398"/>
                  <a:pt x="1260" y="1410"/>
                </a:cubicBezTo>
                <a:cubicBezTo>
                  <a:pt x="1271" y="1489"/>
                  <a:pt x="1295" y="1560"/>
                  <a:pt x="1308" y="1638"/>
                </a:cubicBezTo>
                <a:cubicBezTo>
                  <a:pt x="1312" y="1718"/>
                  <a:pt x="1314" y="1798"/>
                  <a:pt x="1320" y="1878"/>
                </a:cubicBezTo>
                <a:cubicBezTo>
                  <a:pt x="1322" y="1914"/>
                  <a:pt x="1325" y="1950"/>
                  <a:pt x="1332" y="1986"/>
                </a:cubicBezTo>
                <a:cubicBezTo>
                  <a:pt x="1371" y="2180"/>
                  <a:pt x="1520" y="2171"/>
                  <a:pt x="1656" y="2262"/>
                </a:cubicBezTo>
                <a:cubicBezTo>
                  <a:pt x="1718" y="2355"/>
                  <a:pt x="1695" y="2307"/>
                  <a:pt x="1728" y="2406"/>
                </a:cubicBezTo>
                <a:cubicBezTo>
                  <a:pt x="1732" y="2418"/>
                  <a:pt x="1740" y="2442"/>
                  <a:pt x="1740" y="2442"/>
                </a:cubicBezTo>
                <a:cubicBezTo>
                  <a:pt x="1727" y="2494"/>
                  <a:pt x="1728" y="2474"/>
                  <a:pt x="1728" y="2502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5410080" y="6019920"/>
            <a:ext cx="138240" cy="207720"/>
          </a:xfrm>
          <a:custGeom>
            <a:avLst/>
            <a:gdLst/>
            <a:ahLst/>
            <a:rect l="l" t="t" r="r" b="b"/>
            <a:pathLst>
              <a:path w="87" h="131">
                <a:moveTo>
                  <a:pt x="31" y="0"/>
                </a:moveTo>
                <a:cubicBezTo>
                  <a:pt x="18" y="40"/>
                  <a:pt x="0" y="74"/>
                  <a:pt x="31" y="120"/>
                </a:cubicBezTo>
                <a:cubicBezTo>
                  <a:pt x="38" y="131"/>
                  <a:pt x="55" y="112"/>
                  <a:pt x="67" y="108"/>
                </a:cubicBezTo>
                <a:cubicBezTo>
                  <a:pt x="87" y="48"/>
                  <a:pt x="84" y="35"/>
                  <a:pt x="31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2666880" y="3733920"/>
            <a:ext cx="162000" cy="217440"/>
          </a:xfrm>
          <a:custGeom>
            <a:avLst/>
            <a:gdLst/>
            <a:ahLst/>
            <a:rect l="l" t="t" r="r" b="b"/>
            <a:pathLst>
              <a:path w="102" h="137">
                <a:moveTo>
                  <a:pt x="82" y="41"/>
                </a:moveTo>
                <a:cubicBezTo>
                  <a:pt x="74" y="29"/>
                  <a:pt x="72" y="10"/>
                  <a:pt x="58" y="5"/>
                </a:cubicBezTo>
                <a:cubicBezTo>
                  <a:pt x="42" y="0"/>
                  <a:pt x="15" y="1"/>
                  <a:pt x="10" y="17"/>
                </a:cubicBezTo>
                <a:cubicBezTo>
                  <a:pt x="0" y="52"/>
                  <a:pt x="9" y="91"/>
                  <a:pt x="22" y="125"/>
                </a:cubicBezTo>
                <a:cubicBezTo>
                  <a:pt x="27" y="137"/>
                  <a:pt x="46" y="133"/>
                  <a:pt x="58" y="137"/>
                </a:cubicBezTo>
                <a:cubicBezTo>
                  <a:pt x="82" y="102"/>
                  <a:pt x="102" y="81"/>
                  <a:pt x="82" y="4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388620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涿郡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北京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914400" y="4191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洛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556272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余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杭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1905120" y="2514600"/>
            <a:ext cx="1143000" cy="609480"/>
          </a:xfrm>
          <a:prstGeom prst="wedgeRectCallout">
            <a:avLst>
              <a:gd name="adj1" fmla="val 69722"/>
              <a:gd name="adj2" fmla="val 96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永济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1"/>
          <p:cNvSpPr/>
          <p:nvPr/>
        </p:nvSpPr>
        <p:spPr>
          <a:xfrm>
            <a:off x="4343400" y="3505320"/>
            <a:ext cx="1143000" cy="457200"/>
          </a:xfrm>
          <a:prstGeom prst="wedgeRectCallout">
            <a:avLst>
              <a:gd name="adj1" fmla="val -100833"/>
              <a:gd name="adj2" fmla="val 139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通济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>
            <a:off x="5486400" y="4800600"/>
            <a:ext cx="1143000" cy="533520"/>
          </a:xfrm>
          <a:prstGeom prst="wedgeRectCallout">
            <a:avLst>
              <a:gd name="adj1" fmla="val -103333"/>
              <a:gd name="adj2" fmla="val 3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邗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629400" y="5562720"/>
            <a:ext cx="1219320" cy="533160"/>
          </a:xfrm>
          <a:prstGeom prst="wedgeRectCallout">
            <a:avLst>
              <a:gd name="adj1" fmla="val -147134"/>
              <a:gd name="adj2" fmla="val 12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江南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6260400" y="304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条：一条贯穿南北的大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4724280" y="914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长：二千多公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5791320" y="1752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市：三个城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6095880" y="2514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段：分为四 段水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5867280" y="33526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河：贯穿五大水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31"/>
          <p:cNvGrpSpPr/>
          <p:nvPr/>
        </p:nvGrpSpPr>
        <p:grpSpPr>
          <a:xfrm>
            <a:off x="304920" y="4114800"/>
            <a:ext cx="1981080" cy="825480"/>
            <a:chOff x="304920" y="4114800"/>
            <a:chExt cx="1981080" cy="825480"/>
          </a:xfrm>
        </p:grpSpPr>
        <p:sp>
          <p:nvSpPr>
            <p:cNvPr id="357" name="Text Box 29"/>
            <p:cNvSpPr/>
            <p:nvPr/>
          </p:nvSpPr>
          <p:spPr>
            <a:xfrm>
              <a:off x="304920" y="44197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长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218960" y="4114800"/>
              <a:ext cx="1067040" cy="533520"/>
              <a:chOff x="1218960" y="4114800"/>
              <a:chExt cx="1067040" cy="533520"/>
            </a:xfrm>
          </p:grpSpPr>
          <p:sp>
            <p:nvSpPr>
              <p:cNvPr id="359" name="Line 30"/>
              <p:cNvSpPr/>
              <p:nvPr/>
            </p:nvSpPr>
            <p:spPr>
              <a:xfrm flipV="1">
                <a:off x="1219320" y="4114800"/>
                <a:ext cx="106668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 txBox="1"/>
              <p:nvPr/>
            </p:nvSpPr>
            <p:spPr>
              <a:xfrm rot="10800000">
                <a:off x="1218960" y="4114800"/>
                <a:ext cx="106668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strips dir="ru"/>
    <p:sndAc>
      <p:stSnd>
        <p:snd r:embed="rId1" name="projctor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2009131043867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99"/>
                </a:solidFill>
                <a:latin typeface="Arial"/>
              </a:rPr>
              <a:t>隋炀帝时为什么能够开通纵贯南北的大运河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本第四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33520" y="2918880"/>
            <a:ext cx="822960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隋朝前期经济繁荣，为开河提供了经济实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隋朝国家统一，使隋炀帝有征发几百万人的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有前代开凿的几段古运河为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图片8"/>
          <p:cNvPicPr/>
          <p:nvPr/>
        </p:nvPicPr>
        <p:blipFill>
          <a:blip r:embed="rId2"/>
          <a:stretch/>
        </p:blipFill>
        <p:spPr>
          <a:xfrm>
            <a:off x="380880" y="457200"/>
            <a:ext cx="20574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隋朝大运河"/>
          <p:cNvPicPr/>
          <p:nvPr/>
        </p:nvPicPr>
        <p:blipFill>
          <a:blip r:embed="rId2"/>
          <a:stretch/>
        </p:blipFill>
        <p:spPr>
          <a:xfrm>
            <a:off x="0" y="0"/>
            <a:ext cx="4419720" cy="38098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4495680" y="1981080"/>
            <a:ext cx="4648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下转漕，仰此一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句话什么意思？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4495680" y="0"/>
            <a:ext cx="46483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通涿郡之渔商，南运江都之转输，其为利也博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5"/>
          <p:cNvGrpSpPr/>
          <p:nvPr/>
        </p:nvGrpSpPr>
        <p:grpSpPr>
          <a:xfrm>
            <a:off x="0" y="3886200"/>
            <a:ext cx="8388000" cy="990360"/>
            <a:chOff x="0" y="3886200"/>
            <a:chExt cx="8388000" cy="990360"/>
          </a:xfrm>
        </p:grpSpPr>
        <p:pic>
          <p:nvPicPr>
            <p:cNvPr id="370" name="Picture 6" descr="wh005"/>
            <p:cNvPicPr/>
            <p:nvPr/>
          </p:nvPicPr>
          <p:blipFill>
            <a:blip r:embed="rId3"/>
            <a:stretch/>
          </p:blipFill>
          <p:spPr>
            <a:xfrm>
              <a:off x="0" y="3886200"/>
              <a:ext cx="173268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7"/>
            <p:cNvSpPr/>
            <p:nvPr/>
          </p:nvSpPr>
          <p:spPr>
            <a:xfrm>
              <a:off x="1635480" y="4030560"/>
              <a:ext cx="67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水运粮食在古代为什么重要？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8"/>
          <p:cNvSpPr/>
          <p:nvPr/>
        </p:nvSpPr>
        <p:spPr>
          <a:xfrm>
            <a:off x="304920" y="4648320"/>
            <a:ext cx="806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古代没有铁路、汽车等交通工具，运输粮食利用车、马，靠人力、畜力进行，运量小，速度慢，费用大。而水运粮食比陆运，运量大，速度快，费用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图片8"/>
          <p:cNvPicPr/>
          <p:nvPr/>
        </p:nvPicPr>
        <p:blipFill>
          <a:blip r:embed="rId4"/>
          <a:stretch/>
        </p:blipFill>
        <p:spPr>
          <a:xfrm>
            <a:off x="4495680" y="1066680"/>
            <a:ext cx="250524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9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3580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加强南北交通，巩固隋王朝对全国统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WordArt 5"/>
          <p:cNvSpPr txBox="1"/>
          <p:nvPr/>
        </p:nvSpPr>
        <p:spPr>
          <a:xfrm rot="21317400">
            <a:off x="151920" y="685800"/>
            <a:ext cx="27432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练一练</a:t>
            </a:r>
            <a:endParaRPr b="1" i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190476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Arial"/>
              </a:rPr>
              <a:t>隋唐帝为什么要开通运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图片11"/>
          <p:cNvPicPr/>
          <p:nvPr/>
        </p:nvPicPr>
        <p:blipFill>
          <a:blip r:embed="rId1"/>
          <a:stretch/>
        </p:blipFill>
        <p:spPr>
          <a:xfrm>
            <a:off x="8172360" y="6019920"/>
            <a:ext cx="971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914400" y="1905120"/>
            <a:ext cx="3886200" cy="8380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隋朝的统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14400" y="3048120"/>
            <a:ext cx="3886200" cy="8380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隋文帝改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914400" y="4191120"/>
            <a:ext cx="3886200" cy="8380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大运河开通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105520" y="2590920"/>
            <a:ext cx="3657600" cy="1447560"/>
          </a:xfrm>
          <a:prstGeom prst="ellipse">
            <a:avLst/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探究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</a:rPr>
              <a:t>活动与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天运河不经过洛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天运河北段已不通航，现正在逐步开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28600" y="14479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今天的运河和隋朝大运河有什么区别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1219320" y="609480"/>
            <a:ext cx="4392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尽道隋亡为此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至今千里赖通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若无水殿龙舟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共禹论功不较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皮日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b03_18"/>
          <p:cNvPicPr/>
          <p:nvPr/>
        </p:nvPicPr>
        <p:blipFill>
          <a:blip r:embed="rId1"/>
          <a:stretch/>
        </p:blipFill>
        <p:spPr>
          <a:xfrm>
            <a:off x="0" y="4365720"/>
            <a:ext cx="1819440" cy="203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3" name=""/>
          <p:cNvGraphicFramePr/>
          <p:nvPr/>
        </p:nvGraphicFramePr>
        <p:xfrm>
          <a:off x="5003640" y="3219480"/>
          <a:ext cx="5327640" cy="3051000"/>
        </p:xfrm>
        <a:graphic>
          <a:graphicData uri="http://schemas.openxmlformats.org/drawingml/2006/table">
            <a:tbl>
              <a:tblPr/>
              <a:tblGrid>
                <a:gridCol w="5327640"/>
              </a:tblGrid>
              <a:tr h="305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3300"/>
                          </a:solidFill>
                          <a:latin typeface="隶书"/>
                          <a:ea typeface="隶书"/>
                        </a:rPr>
                        <a:t>汴水通淮利最多，</a:t>
                      </a:r>
                      <a:br>
                        <a:rPr sz="3200"/>
                      </a:br>
                      <a:r>
                        <a:rPr b="1" lang="zh-CN" sz="3200" spc="-1" strike="noStrike">
                          <a:solidFill>
                            <a:srgbClr val="663300"/>
                          </a:solidFill>
                          <a:latin typeface="隶书"/>
                          <a:ea typeface="隶书"/>
                        </a:rPr>
                        <a:t>生人为害亦相和。 </a:t>
                      </a:r>
                      <a:br>
                        <a:rPr sz="3200"/>
                      </a:br>
                      <a:r>
                        <a:rPr b="1" lang="zh-CN" sz="3200" spc="-1" strike="noStrike">
                          <a:solidFill>
                            <a:srgbClr val="663300"/>
                          </a:solidFill>
                          <a:latin typeface="隶书"/>
                          <a:ea typeface="隶书"/>
                        </a:rPr>
                        <a:t>东南四十三州地，</a:t>
                      </a:r>
                      <a:br>
                        <a:rPr sz="3200"/>
                      </a:br>
                      <a:r>
                        <a:rPr b="1" lang="zh-CN" sz="3200" spc="-1" strike="noStrike">
                          <a:solidFill>
                            <a:srgbClr val="663300"/>
                          </a:solidFill>
                          <a:latin typeface="隶书"/>
                          <a:ea typeface="隶书"/>
                        </a:rPr>
                        <a:t>取尽膏脂是此河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3300"/>
                          </a:solidFill>
                          <a:latin typeface="隶书"/>
                          <a:ea typeface="隶书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663300"/>
                          </a:solidFill>
                          <a:latin typeface="Arial"/>
                          <a:ea typeface="隶书"/>
                        </a:rPr>
                        <a:t>——</a:t>
                      </a:r>
                      <a:r>
                        <a:rPr b="1" lang="zh-CN" sz="3200" spc="-1" strike="noStrike">
                          <a:solidFill>
                            <a:srgbClr val="663300"/>
                          </a:solidFill>
                          <a:latin typeface="隶书"/>
                          <a:ea typeface="隶书"/>
                        </a:rPr>
                        <a:t>唐</a:t>
                      </a:r>
                      <a:r>
                        <a:rPr b="1" lang="en-US" sz="3200" spc="-1" strike="noStrike">
                          <a:solidFill>
                            <a:srgbClr val="663300"/>
                          </a:solidFill>
                          <a:latin typeface="Arial"/>
                          <a:ea typeface="隶书"/>
                        </a:rPr>
                        <a:t>•</a:t>
                      </a:r>
                      <a:r>
                        <a:rPr b="1" lang="zh-CN" sz="3200" spc="-1" strike="noStrike">
                          <a:solidFill>
                            <a:srgbClr val="663300"/>
                          </a:solidFill>
                          <a:latin typeface="隶书"/>
                          <a:ea typeface="隶书"/>
                        </a:rPr>
                        <a:t>李敬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4" name="WordArt 10" descr=""/>
          <p:cNvPicPr/>
          <p:nvPr/>
        </p:nvPicPr>
        <p:blipFill>
          <a:blip r:embed="rId2"/>
          <a:stretch/>
        </p:blipFill>
        <p:spPr>
          <a:xfrm>
            <a:off x="4567320" y="762120"/>
            <a:ext cx="4456080" cy="17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3" descr="图片2"/>
          <p:cNvPicPr/>
          <p:nvPr/>
        </p:nvPicPr>
        <p:blipFill>
          <a:blip r:embed="rId1"/>
          <a:stretch/>
        </p:blipFill>
        <p:spPr>
          <a:xfrm>
            <a:off x="0" y="152280"/>
            <a:ext cx="5257800" cy="15242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167652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zh-CN" sz="6600" spc="-1" strike="noStrike">
                <a:solidFill>
                  <a:srgbClr val="ff0000"/>
                </a:solidFill>
                <a:latin typeface="Arial"/>
              </a:rPr>
              <a:t>大运河在今天有何利用价值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42667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可以作为南水北调的渠道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图片4"/>
          <p:cNvPicPr/>
          <p:nvPr/>
        </p:nvPicPr>
        <p:blipFill>
          <a:blip r:embed="rId2"/>
          <a:stretch/>
        </p:blipFill>
        <p:spPr>
          <a:xfrm>
            <a:off x="6762600" y="220968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12"/>
          <p:cNvSpPr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</a:rPr>
              <a:t>课外拓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C9A8-4D88-406E-9108-0142A26BF4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W0200804175369291571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3" descr="2009418012762827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360360" y="1717560"/>
            <a:ext cx="72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58920" y="2797200"/>
            <a:ext cx="757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58920" y="4021200"/>
            <a:ext cx="757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104840" y="2077920"/>
            <a:ext cx="227160" cy="2397240"/>
          </a:xfrm>
          <a:custGeom>
            <a:avLst/>
            <a:gdLst>
              <a:gd name="textAreaLeft" fmla="*/ 0 w 227160"/>
              <a:gd name="textAreaRight" fmla="*/ 82080 w 227160"/>
              <a:gd name="textAreaTop" fmla="*/ 62280 h 2397240"/>
              <a:gd name="textAreaBottom" fmla="*/ 2334960 h 239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368360" y="2438280"/>
            <a:ext cx="7272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18840" y="2797200"/>
            <a:ext cx="6069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西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112840" y="2077920"/>
            <a:ext cx="227160" cy="2417760"/>
          </a:xfrm>
          <a:custGeom>
            <a:avLst/>
            <a:gdLst>
              <a:gd name="textAreaLeft" fmla="*/ 145080 w 227160"/>
              <a:gd name="textAreaRight" fmla="*/ 227520 w 227160"/>
              <a:gd name="textAreaTop" fmla="*/ 62640 h 2417760"/>
              <a:gd name="textAreaBottom" fmla="*/ 2355120 h 241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341440" y="1501920"/>
            <a:ext cx="1468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五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363760" y="4021200"/>
            <a:ext cx="9842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东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32200" y="2004840"/>
            <a:ext cx="399960" cy="1800"/>
            <a:chOff x="3832200" y="2004840"/>
            <a:chExt cx="399960" cy="1800"/>
          </a:xfrm>
        </p:grpSpPr>
        <p:sp>
          <p:nvSpPr>
            <p:cNvPr id="104" name="Line 11"/>
            <p:cNvSpPr/>
            <p:nvPr/>
          </p:nvSpPr>
          <p:spPr>
            <a:xfrm>
              <a:off x="3832200" y="2004840"/>
              <a:ext cx="399960" cy="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832200" y="2004840"/>
              <a:ext cx="3999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12"/>
          <p:cNvSpPr/>
          <p:nvPr/>
        </p:nvSpPr>
        <p:spPr>
          <a:xfrm>
            <a:off x="4307040" y="1501920"/>
            <a:ext cx="1027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7721640" y="3962520"/>
            <a:ext cx="9651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350040" y="3962520"/>
            <a:ext cx="9651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4952880" y="40212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3738600" y="4021200"/>
            <a:ext cx="879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>
            <a:off x="5427720" y="15019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5735520" y="2220840"/>
            <a:ext cx="12747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西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5730840" y="996840"/>
            <a:ext cx="127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东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7562880" y="2286000"/>
            <a:ext cx="1206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7483320" y="990720"/>
            <a:ext cx="127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147080" y="1523880"/>
            <a:ext cx="320400" cy="1800"/>
            <a:chOff x="7147080" y="1523880"/>
            <a:chExt cx="320400" cy="1800"/>
          </a:xfrm>
        </p:grpSpPr>
        <p:sp>
          <p:nvSpPr>
            <p:cNvPr id="117" name="Line 22"/>
            <p:cNvSpPr/>
            <p:nvPr/>
          </p:nvSpPr>
          <p:spPr>
            <a:xfrm>
              <a:off x="7147080" y="1523880"/>
              <a:ext cx="320400" cy="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7147080" y="1523880"/>
              <a:ext cx="3204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45280" y="2743200"/>
            <a:ext cx="378000" cy="1440"/>
            <a:chOff x="7145280" y="2743200"/>
            <a:chExt cx="378000" cy="1440"/>
          </a:xfrm>
        </p:grpSpPr>
        <p:sp>
          <p:nvSpPr>
            <p:cNvPr id="120" name="Line 23"/>
            <p:cNvSpPr/>
            <p:nvPr/>
          </p:nvSpPr>
          <p:spPr>
            <a:xfrm>
              <a:off x="7145280" y="2743200"/>
              <a:ext cx="37800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7145280" y="2743200"/>
              <a:ext cx="37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153280" y="1905120"/>
            <a:ext cx="360" cy="380880"/>
            <a:chOff x="8153280" y="1905120"/>
            <a:chExt cx="360" cy="380880"/>
          </a:xfrm>
        </p:grpSpPr>
        <p:sp>
          <p:nvSpPr>
            <p:cNvPr id="123" name="Line 24"/>
            <p:cNvSpPr/>
            <p:nvPr/>
          </p:nvSpPr>
          <p:spPr>
            <a:xfrm>
              <a:off x="8153280" y="1905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8153280" y="1905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413160" y="4419720"/>
            <a:ext cx="320760" cy="1440"/>
            <a:chOff x="3413160" y="4419720"/>
            <a:chExt cx="320760" cy="1440"/>
          </a:xfrm>
        </p:grpSpPr>
        <p:sp>
          <p:nvSpPr>
            <p:cNvPr id="126" name="Line 25"/>
            <p:cNvSpPr/>
            <p:nvPr/>
          </p:nvSpPr>
          <p:spPr>
            <a:xfrm>
              <a:off x="3413160" y="4419720"/>
              <a:ext cx="3207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413160" y="4419720"/>
              <a:ext cx="320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627440" y="4454640"/>
            <a:ext cx="320760" cy="1440"/>
            <a:chOff x="4627440" y="4454640"/>
            <a:chExt cx="320760" cy="1440"/>
          </a:xfrm>
        </p:grpSpPr>
        <p:sp>
          <p:nvSpPr>
            <p:cNvPr id="129" name="Line 26"/>
            <p:cNvSpPr/>
            <p:nvPr/>
          </p:nvSpPr>
          <p:spPr>
            <a:xfrm>
              <a:off x="4627440" y="4454640"/>
              <a:ext cx="3207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627440" y="4454640"/>
              <a:ext cx="320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943600" y="4495680"/>
            <a:ext cx="320760" cy="1800"/>
            <a:chOff x="5943600" y="4495680"/>
            <a:chExt cx="320760" cy="1800"/>
          </a:xfrm>
        </p:grpSpPr>
        <p:sp>
          <p:nvSpPr>
            <p:cNvPr id="132" name="Line 27"/>
            <p:cNvSpPr/>
            <p:nvPr/>
          </p:nvSpPr>
          <p:spPr>
            <a:xfrm>
              <a:off x="5943600" y="4495680"/>
              <a:ext cx="320760" cy="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5943600" y="4495680"/>
              <a:ext cx="320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391520" y="4419720"/>
            <a:ext cx="320400" cy="1440"/>
            <a:chOff x="7391520" y="4419720"/>
            <a:chExt cx="320400" cy="1440"/>
          </a:xfrm>
        </p:grpSpPr>
        <p:sp>
          <p:nvSpPr>
            <p:cNvPr id="135" name="Line 28"/>
            <p:cNvSpPr/>
            <p:nvPr/>
          </p:nvSpPr>
          <p:spPr>
            <a:xfrm>
              <a:off x="7391520" y="4419720"/>
              <a:ext cx="32040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7391520" y="4419720"/>
              <a:ext cx="3204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南北朝并立形势（宋）%20拷贝"/>
          <p:cNvPicPr/>
          <p:nvPr/>
        </p:nvPicPr>
        <p:blipFill>
          <a:blip r:embed="rId1"/>
          <a:stretch/>
        </p:blipFill>
        <p:spPr>
          <a:xfrm>
            <a:off x="533520" y="0"/>
            <a:ext cx="8610480" cy="677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南北朝并立形势（齐）%20拷贝"/>
          <p:cNvPicPr/>
          <p:nvPr/>
        </p:nvPicPr>
        <p:blipFill>
          <a:blip r:embed="rId2"/>
          <a:stretch/>
        </p:blipFill>
        <p:spPr>
          <a:xfrm>
            <a:off x="609480" y="0"/>
            <a:ext cx="853452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南北朝并立形势（梁）%20拷贝"/>
          <p:cNvPicPr/>
          <p:nvPr/>
        </p:nvPicPr>
        <p:blipFill>
          <a:blip r:embed="rId3"/>
          <a:stretch/>
        </p:blipFill>
        <p:spPr>
          <a:xfrm>
            <a:off x="609480" y="0"/>
            <a:ext cx="8534520" cy="682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南北朝并立形势（陈）%20拷贝"/>
          <p:cNvPicPr/>
          <p:nvPr/>
        </p:nvPicPr>
        <p:blipFill>
          <a:blip r:embed="rId4"/>
          <a:stretch/>
        </p:blipFill>
        <p:spPr>
          <a:xfrm>
            <a:off x="609480" y="0"/>
            <a:ext cx="8534520" cy="6738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600" y="182196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南北朝地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267080" y="1676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940000" y="297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建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676520" y="3808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819520" y="5867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隋与陈对峙形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257800" y="1371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581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 rot="19671000">
            <a:off x="5334120" y="1980720"/>
            <a:ext cx="239760" cy="1676520"/>
          </a:xfrm>
          <a:prstGeom prst="downArrow">
            <a:avLst>
              <a:gd name="adj1" fmla="val 50000"/>
              <a:gd name="adj2" fmla="val 1747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486400" y="23623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(589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04960" y="838080"/>
            <a:ext cx="1066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杨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stat"/>
          <p:cNvPicPr/>
          <p:nvPr/>
        </p:nvPicPr>
        <p:blipFill>
          <a:blip r:embed="rId2"/>
          <a:stretch/>
        </p:blipFill>
        <p:spPr>
          <a:xfrm>
            <a:off x="5410080" y="3581280"/>
            <a:ext cx="144720" cy="149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stat"/>
          <p:cNvPicPr/>
          <p:nvPr/>
        </p:nvPicPr>
        <p:blipFill>
          <a:blip r:embed="rId3"/>
          <a:stretch/>
        </p:blipFill>
        <p:spPr>
          <a:xfrm>
            <a:off x="5732640" y="3581280"/>
            <a:ext cx="145800" cy="152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ui"/>
          <p:cNvPicPr/>
          <p:nvPr/>
        </p:nvPicPr>
        <p:blipFill>
          <a:blip r:embed="rId4"/>
          <a:stretch/>
        </p:blipFill>
        <p:spPr>
          <a:xfrm>
            <a:off x="4788000" y="3357720"/>
            <a:ext cx="380880" cy="6253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473280" y="5076720"/>
            <a:ext cx="895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479760" y="5340240"/>
            <a:ext cx="895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33520" y="5715000"/>
            <a:ext cx="792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安  今陕西西安         涿郡  今北京      余杭  今浙江杭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219320" y="914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隋朝疆域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3657600" y="1371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 8 9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dur="indefinite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p_large_vUsW_0d38000aa2592d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隋朝的建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520" y="167652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都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开国皇帝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57200" y="4572000"/>
            <a:ext cx="396252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南北统一事件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3200400" y="2209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8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320040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320040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杨坚（隋文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34340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89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   灭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  <p:sndAc>
      <p:stSnd>
        <p:snd r:embed="rId2" name="projctor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5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50920" y="1413000"/>
            <a:ext cx="685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50920" y="2565360"/>
            <a:ext cx="609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3716280"/>
            <a:ext cx="685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971640" y="1773360"/>
            <a:ext cx="215640" cy="2396880"/>
          </a:xfrm>
          <a:custGeom>
            <a:avLst/>
            <a:gdLst>
              <a:gd name="textAreaLeft" fmla="*/ 0 w 215640"/>
              <a:gd name="textAreaRight" fmla="*/ 77760 w 215640"/>
              <a:gd name="textAreaTop" fmla="*/ 62280 h 2396880"/>
              <a:gd name="textAreaBottom" fmla="*/ 2334600 h 23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8920" y="2133720"/>
            <a:ext cx="69228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81560" y="2514600"/>
            <a:ext cx="1155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979640" y="1773360"/>
            <a:ext cx="216000" cy="24177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2640 h 2417760"/>
              <a:gd name="textAreaBottom" fmla="*/ 2355120 h 241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268360" y="1197000"/>
            <a:ext cx="1214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195640" y="3716280"/>
            <a:ext cx="936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东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92360" y="1700280"/>
            <a:ext cx="381240" cy="360"/>
            <a:chOff x="3492360" y="1700280"/>
            <a:chExt cx="381240" cy="360"/>
          </a:xfrm>
        </p:grpSpPr>
        <p:sp>
          <p:nvSpPr>
            <p:cNvPr id="179" name="Line 11"/>
            <p:cNvSpPr/>
            <p:nvPr/>
          </p:nvSpPr>
          <p:spPr>
            <a:xfrm>
              <a:off x="3492360" y="1700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492360" y="170028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2"/>
          <p:cNvSpPr/>
          <p:nvPr/>
        </p:nvSpPr>
        <p:spPr>
          <a:xfrm>
            <a:off x="3924360" y="119700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6877080" y="371628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5724360" y="3716280"/>
            <a:ext cx="838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4572000" y="371628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419640" y="371628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4859280" y="11970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5148360" y="198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219640" y="765000"/>
            <a:ext cx="838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东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6732720" y="198900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6659640" y="69228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156360" y="1268280"/>
            <a:ext cx="304920" cy="360"/>
            <a:chOff x="6156360" y="1268280"/>
            <a:chExt cx="304920" cy="360"/>
          </a:xfrm>
        </p:grpSpPr>
        <p:sp>
          <p:nvSpPr>
            <p:cNvPr id="192" name="Line 22"/>
            <p:cNvSpPr/>
            <p:nvPr/>
          </p:nvSpPr>
          <p:spPr>
            <a:xfrm>
              <a:off x="6156360" y="1268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156360" y="12682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56360" y="2421000"/>
            <a:ext cx="360360" cy="360"/>
            <a:chOff x="6156360" y="2421000"/>
            <a:chExt cx="360360" cy="360"/>
          </a:xfrm>
        </p:grpSpPr>
        <p:sp>
          <p:nvSpPr>
            <p:cNvPr id="195" name="Line 23"/>
            <p:cNvSpPr/>
            <p:nvPr/>
          </p:nvSpPr>
          <p:spPr>
            <a:xfrm>
              <a:off x="6156360" y="24210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6156360" y="2421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093080" y="1628640"/>
            <a:ext cx="360" cy="381240"/>
            <a:chOff x="7093080" y="1628640"/>
            <a:chExt cx="360" cy="381240"/>
          </a:xfrm>
        </p:grpSpPr>
        <p:sp>
          <p:nvSpPr>
            <p:cNvPr id="198" name="Line 24"/>
            <p:cNvSpPr/>
            <p:nvPr/>
          </p:nvSpPr>
          <p:spPr>
            <a:xfrm>
              <a:off x="7093080" y="162864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7093080" y="162864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25"/>
          <p:cNvSpPr/>
          <p:nvPr/>
        </p:nvSpPr>
        <p:spPr>
          <a:xfrm>
            <a:off x="8028000" y="2637000"/>
            <a:ext cx="685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132000" y="4149720"/>
            <a:ext cx="304920" cy="360"/>
            <a:chOff x="3132000" y="4149720"/>
            <a:chExt cx="304920" cy="360"/>
          </a:xfrm>
        </p:grpSpPr>
        <p:sp>
          <p:nvSpPr>
            <p:cNvPr id="202" name="Line 26"/>
            <p:cNvSpPr/>
            <p:nvPr/>
          </p:nvSpPr>
          <p:spPr>
            <a:xfrm>
              <a:off x="3132000" y="4149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3132000" y="414972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284720" y="4149720"/>
            <a:ext cx="304920" cy="360"/>
            <a:chOff x="4284720" y="4149720"/>
            <a:chExt cx="304920" cy="360"/>
          </a:xfrm>
        </p:grpSpPr>
        <p:sp>
          <p:nvSpPr>
            <p:cNvPr id="205" name="Line 27"/>
            <p:cNvSpPr/>
            <p:nvPr/>
          </p:nvSpPr>
          <p:spPr>
            <a:xfrm>
              <a:off x="4284720" y="4149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4284720" y="414972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35640" y="4149720"/>
            <a:ext cx="304920" cy="360"/>
            <a:chOff x="5435640" y="4149720"/>
            <a:chExt cx="304920" cy="360"/>
          </a:xfrm>
        </p:grpSpPr>
        <p:sp>
          <p:nvSpPr>
            <p:cNvPr id="208" name="Line 28"/>
            <p:cNvSpPr/>
            <p:nvPr/>
          </p:nvSpPr>
          <p:spPr>
            <a:xfrm>
              <a:off x="5435640" y="4149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5435640" y="414972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588000" y="4149720"/>
            <a:ext cx="304920" cy="360"/>
            <a:chOff x="6588000" y="4149720"/>
            <a:chExt cx="304920" cy="360"/>
          </a:xfrm>
        </p:grpSpPr>
        <p:sp>
          <p:nvSpPr>
            <p:cNvPr id="211" name="Line 29"/>
            <p:cNvSpPr/>
            <p:nvPr/>
          </p:nvSpPr>
          <p:spPr>
            <a:xfrm>
              <a:off x="6588000" y="4149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6588000" y="414972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AutoShape 30"/>
          <p:cNvSpPr/>
          <p:nvPr/>
        </p:nvSpPr>
        <p:spPr>
          <a:xfrm>
            <a:off x="7740720" y="2133720"/>
            <a:ext cx="176040" cy="1871640"/>
          </a:xfrm>
          <a:custGeom>
            <a:avLst/>
            <a:gdLst>
              <a:gd name="textAreaLeft" fmla="*/ 0 w 176040"/>
              <a:gd name="textAreaRight" fmla="*/ 63360 w 17604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1517400" y="580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政权分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5940360" y="55166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全国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284360" y="6021360"/>
            <a:ext cx="1440000" cy="1440"/>
            <a:chOff x="4284360" y="6021360"/>
            <a:chExt cx="1440000" cy="1440"/>
          </a:xfrm>
        </p:grpSpPr>
        <p:sp>
          <p:nvSpPr>
            <p:cNvPr id="217" name="Line 33"/>
            <p:cNvSpPr/>
            <p:nvPr/>
          </p:nvSpPr>
          <p:spPr>
            <a:xfrm flipV="1">
              <a:off x="4284720" y="6021360"/>
              <a:ext cx="1439640" cy="1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0800000">
              <a:off x="4284360" y="6021360"/>
              <a:ext cx="1439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34"/>
          <p:cNvSpPr/>
          <p:nvPr/>
        </p:nvSpPr>
        <p:spPr>
          <a:xfrm>
            <a:off x="493920" y="4973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的发展趋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6" descr="图片10"/>
          <p:cNvPicPr/>
          <p:nvPr/>
        </p:nvPicPr>
        <p:blipFill>
          <a:blip r:embed="rId2"/>
          <a:stretch/>
        </p:blipFill>
        <p:spPr>
          <a:xfrm>
            <a:off x="15228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7"/>
          <p:cNvSpPr/>
          <p:nvPr/>
        </p:nvSpPr>
        <p:spPr>
          <a:xfrm>
            <a:off x="403200" y="1565280"/>
            <a:ext cx="685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403200" y="2717640"/>
            <a:ext cx="609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403200" y="3868560"/>
            <a:ext cx="685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0"/>
          <p:cNvSpPr/>
          <p:nvPr/>
        </p:nvSpPr>
        <p:spPr>
          <a:xfrm>
            <a:off x="1123920" y="1925640"/>
            <a:ext cx="216000" cy="2397240"/>
          </a:xfrm>
          <a:custGeom>
            <a:avLst/>
            <a:gdLst>
              <a:gd name="textAreaLeft" fmla="*/ 0 w 216000"/>
              <a:gd name="textAreaRight" fmla="*/ 78120 w 216000"/>
              <a:gd name="textAreaTop" fmla="*/ 62280 h 2397240"/>
              <a:gd name="textAreaBottom" fmla="*/ 2334960 h 239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1411200" y="2286000"/>
            <a:ext cx="69228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2"/>
          <p:cNvSpPr/>
          <p:nvPr/>
        </p:nvSpPr>
        <p:spPr>
          <a:xfrm>
            <a:off x="933840" y="2666880"/>
            <a:ext cx="1155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3"/>
          <p:cNvSpPr/>
          <p:nvPr/>
        </p:nvSpPr>
        <p:spPr>
          <a:xfrm>
            <a:off x="2131920" y="1925640"/>
            <a:ext cx="216000" cy="24177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2640 h 2417760"/>
              <a:gd name="textAreaBottom" fmla="*/ 2355120 h 241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4"/>
          <p:cNvSpPr/>
          <p:nvPr/>
        </p:nvSpPr>
        <p:spPr>
          <a:xfrm>
            <a:off x="2421000" y="1349280"/>
            <a:ext cx="1214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347920" y="3868560"/>
            <a:ext cx="936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东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45000" y="1852560"/>
            <a:ext cx="380880" cy="360"/>
            <a:chOff x="3645000" y="1852560"/>
            <a:chExt cx="380880" cy="360"/>
          </a:xfrm>
        </p:grpSpPr>
        <p:sp>
          <p:nvSpPr>
            <p:cNvPr id="231" name="Line 46"/>
            <p:cNvSpPr/>
            <p:nvPr/>
          </p:nvSpPr>
          <p:spPr>
            <a:xfrm>
              <a:off x="3645000" y="18525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3645000" y="185256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7"/>
          <p:cNvSpPr/>
          <p:nvPr/>
        </p:nvSpPr>
        <p:spPr>
          <a:xfrm>
            <a:off x="4076640" y="1349280"/>
            <a:ext cx="838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7029360" y="3868560"/>
            <a:ext cx="838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5877000" y="386856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724280" y="3868560"/>
            <a:ext cx="838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1"/>
          <p:cNvSpPr/>
          <p:nvPr/>
        </p:nvSpPr>
        <p:spPr>
          <a:xfrm>
            <a:off x="3571920" y="386856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2"/>
          <p:cNvSpPr/>
          <p:nvPr/>
        </p:nvSpPr>
        <p:spPr>
          <a:xfrm>
            <a:off x="5011560" y="13492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3"/>
          <p:cNvSpPr/>
          <p:nvPr/>
        </p:nvSpPr>
        <p:spPr>
          <a:xfrm>
            <a:off x="5300640" y="2141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4"/>
          <p:cNvSpPr/>
          <p:nvPr/>
        </p:nvSpPr>
        <p:spPr>
          <a:xfrm>
            <a:off x="5372280" y="91764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东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5"/>
          <p:cNvSpPr/>
          <p:nvPr/>
        </p:nvSpPr>
        <p:spPr>
          <a:xfrm>
            <a:off x="6885000" y="214164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6"/>
          <p:cNvSpPr/>
          <p:nvPr/>
        </p:nvSpPr>
        <p:spPr>
          <a:xfrm>
            <a:off x="6811920" y="844560"/>
            <a:ext cx="838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308640" y="1420920"/>
            <a:ext cx="304920" cy="360"/>
            <a:chOff x="6308640" y="1420920"/>
            <a:chExt cx="304920" cy="360"/>
          </a:xfrm>
        </p:grpSpPr>
        <p:sp>
          <p:nvSpPr>
            <p:cNvPr id="244" name="Line 57"/>
            <p:cNvSpPr/>
            <p:nvPr/>
          </p:nvSpPr>
          <p:spPr>
            <a:xfrm>
              <a:off x="6308640" y="14209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6308640" y="142092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308640" y="2573280"/>
            <a:ext cx="360360" cy="360"/>
            <a:chOff x="6308640" y="2573280"/>
            <a:chExt cx="360360" cy="360"/>
          </a:xfrm>
        </p:grpSpPr>
        <p:sp>
          <p:nvSpPr>
            <p:cNvPr id="247" name="Line 58"/>
            <p:cNvSpPr/>
            <p:nvPr/>
          </p:nvSpPr>
          <p:spPr>
            <a:xfrm>
              <a:off x="6308640" y="257328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308640" y="25732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245360" y="1781280"/>
            <a:ext cx="360" cy="380880"/>
            <a:chOff x="7245360" y="1781280"/>
            <a:chExt cx="360" cy="380880"/>
          </a:xfrm>
        </p:grpSpPr>
        <p:sp>
          <p:nvSpPr>
            <p:cNvPr id="250" name="Line 59"/>
            <p:cNvSpPr/>
            <p:nvPr/>
          </p:nvSpPr>
          <p:spPr>
            <a:xfrm>
              <a:off x="7245360" y="17812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7245360" y="178128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60"/>
          <p:cNvSpPr/>
          <p:nvPr/>
        </p:nvSpPr>
        <p:spPr>
          <a:xfrm>
            <a:off x="8180280" y="2789280"/>
            <a:ext cx="685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84640" y="4302000"/>
            <a:ext cx="304560" cy="360"/>
            <a:chOff x="3284640" y="4302000"/>
            <a:chExt cx="304560" cy="360"/>
          </a:xfrm>
        </p:grpSpPr>
        <p:sp>
          <p:nvSpPr>
            <p:cNvPr id="254" name="Line 61"/>
            <p:cNvSpPr/>
            <p:nvPr/>
          </p:nvSpPr>
          <p:spPr>
            <a:xfrm>
              <a:off x="3284640" y="43020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3284640" y="43020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437000" y="4302000"/>
            <a:ext cx="304920" cy="360"/>
            <a:chOff x="4437000" y="4302000"/>
            <a:chExt cx="304920" cy="360"/>
          </a:xfrm>
        </p:grpSpPr>
        <p:sp>
          <p:nvSpPr>
            <p:cNvPr id="257" name="Line 62"/>
            <p:cNvSpPr/>
            <p:nvPr/>
          </p:nvSpPr>
          <p:spPr>
            <a:xfrm>
              <a:off x="4437000" y="4302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437000" y="43020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87920" y="4302000"/>
            <a:ext cx="304920" cy="360"/>
            <a:chOff x="5587920" y="4302000"/>
            <a:chExt cx="304920" cy="360"/>
          </a:xfrm>
        </p:grpSpPr>
        <p:sp>
          <p:nvSpPr>
            <p:cNvPr id="260" name="Line 63"/>
            <p:cNvSpPr/>
            <p:nvPr/>
          </p:nvSpPr>
          <p:spPr>
            <a:xfrm>
              <a:off x="5587920" y="4302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5587920" y="43020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740640" y="4302000"/>
            <a:ext cx="304560" cy="360"/>
            <a:chOff x="6740640" y="4302000"/>
            <a:chExt cx="304560" cy="360"/>
          </a:xfrm>
        </p:grpSpPr>
        <p:sp>
          <p:nvSpPr>
            <p:cNvPr id="263" name="Line 64"/>
            <p:cNvSpPr/>
            <p:nvPr/>
          </p:nvSpPr>
          <p:spPr>
            <a:xfrm>
              <a:off x="6740640" y="43020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740640" y="43020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AutoShape 65"/>
          <p:cNvSpPr/>
          <p:nvPr/>
        </p:nvSpPr>
        <p:spPr>
          <a:xfrm>
            <a:off x="7893000" y="2286000"/>
            <a:ext cx="176400" cy="1871640"/>
          </a:xfrm>
          <a:custGeom>
            <a:avLst/>
            <a:gdLst>
              <a:gd name="textAreaLeft" fmla="*/ 0 w 176400"/>
              <a:gd name="textAreaRight" fmla="*/ 63720 w 1764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6"/>
          <p:cNvSpPr/>
          <p:nvPr/>
        </p:nvSpPr>
        <p:spPr>
          <a:xfrm>
            <a:off x="2158920" y="586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政权分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5943600" y="5791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全国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190760" y="6172200"/>
            <a:ext cx="1440000" cy="1440"/>
            <a:chOff x="4190760" y="6172200"/>
            <a:chExt cx="1440000" cy="1440"/>
          </a:xfrm>
        </p:grpSpPr>
        <p:sp>
          <p:nvSpPr>
            <p:cNvPr id="269" name="Line 68"/>
            <p:cNvSpPr/>
            <p:nvPr/>
          </p:nvSpPr>
          <p:spPr>
            <a:xfrm flipV="1">
              <a:off x="4191120" y="6172200"/>
              <a:ext cx="1439640" cy="1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4190760" y="6172200"/>
              <a:ext cx="1439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69"/>
          <p:cNvSpPr/>
          <p:nvPr/>
        </p:nvSpPr>
        <p:spPr>
          <a:xfrm>
            <a:off x="646560" y="5126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的发展趋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314840" y="3123720"/>
            <a:ext cx="360" cy="685800"/>
            <a:chOff x="7314840" y="3123720"/>
            <a:chExt cx="360" cy="685800"/>
          </a:xfrm>
        </p:grpSpPr>
        <p:sp>
          <p:nvSpPr>
            <p:cNvPr id="273" name="Line 70"/>
            <p:cNvSpPr/>
            <p:nvPr/>
          </p:nvSpPr>
          <p:spPr>
            <a:xfrm flipV="1">
              <a:off x="7315200" y="3123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 rot="10800000">
              <a:off x="7314840" y="31237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"/>
          <p:cNvSpPr/>
          <p:nvPr/>
        </p:nvSpPr>
        <p:spPr>
          <a:xfrm>
            <a:off x="1219320" y="11430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隋朝完成统一大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图片6"/>
          <p:cNvPicPr/>
          <p:nvPr/>
        </p:nvPicPr>
        <p:blipFill>
          <a:blip r:embed="rId2"/>
          <a:stretch/>
        </p:blipFill>
        <p:spPr>
          <a:xfrm rot="21174000">
            <a:off x="2971800" y="22860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3:24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26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