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png" ContentType="image/png"/>
  <Override PartName="/ppt/media/image19.png" ContentType="image/png"/>
  <Override PartName="/ppt/media/image18.gif" ContentType="image/gif"/>
  <Override PartName="/ppt/media/image17.png" ContentType="image/png"/>
  <Override PartName="/ppt/media/image15.jpeg" ContentType="image/jpeg"/>
  <Override PartName="/ppt/media/image14.jpeg" ContentType="image/jpeg"/>
  <Override PartName="/ppt/media/image13.png" ContentType="image/png"/>
  <Override PartName="/ppt/media/image12.jpeg" ContentType="image/jpeg"/>
  <Override PartName="/ppt/media/image4.png" ContentType="image/png"/>
  <Override PartName="/ppt/media/whoosh.wav" ContentType="audio/x-wav"/>
  <Override PartName="/ppt/media/image8.jpeg" ContentType="image/jpeg"/>
  <Override PartName="/ppt/media/image28.png" ContentType="image/png"/>
  <Override PartName="/ppt/media/image7.jpeg" ContentType="image/jpeg"/>
  <Override PartName="/ppt/media/camera.wav" ContentType="audio/x-wav"/>
  <Override PartName="/ppt/media/image16.png" ContentType="image/png"/>
  <Override PartName="/ppt/media/image25.gif" ContentType="image/gif"/>
  <Override PartName="/ppt/media/image6.jpeg" ContentType="image/jpeg"/>
  <Override PartName="/ppt/media/image10.png" ContentType="image/png"/>
  <Override PartName="/ppt/media/image27.jpeg" ContentType="image/jpeg"/>
  <Override PartName="/ppt/media/ricochet.wav" ContentType="audio/x-wav"/>
  <Override PartName="/ppt/media/image30.gif" ContentType="image/gif"/>
  <Override PartName="/ppt/media/image26.png" ContentType="image/png"/>
  <Override PartName="/ppt/media/chimes.wav" ContentType="audio/x-wav"/>
  <Override PartName="/ppt/media/image29.png" ContentType="image/png"/>
  <Override PartName="/ppt/media/image31.jpeg" ContentType="image/jpeg"/>
  <Override PartName="/ppt/media/image32.png" ContentType="image/png"/>
  <Override PartName="/ppt/media/image5.jpeg" ContentType="image/jpeg"/>
  <Override PartName="/ppt/media/image9.gif" ContentType="image/gif"/>
  <Override PartName="/ppt/media/laser.wav" ContentType="audio/x-wav"/>
  <Override PartName="/ppt/media/image20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1.png" ContentType="image/png"/>
  <Override PartName="/ppt/media/image22.png" ContentType="image/png"/>
  <Override PartName="/ppt/media/image24.jpeg" ContentType="image/jpeg"/>
  <Override PartName="/ppt/media/projctor.wav" ContentType="audio/x-wav"/>
  <Override PartName="/ppt/media/image1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2A9-4E91-4346-AC50-F3BF5550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3CA-D2F5-482F-B1C0-4FD3A89B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2D3-2074-4850-854E-D9747D15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0168-772F-414E-8B63-0244E3A3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DB81-D910-47F4-992D-63FBF545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4D72-B402-445F-8C49-9C547028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715F-8C23-48F0-A1B9-CA50B1B8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D41C-CB1D-4783-972D-F14FCE5E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FB61-413F-46A1-999C-7A5A6068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A7D0-5B5F-4986-BCD0-7DA4751E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549B-C06A-4F61-BD05-E6819B9A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FBA-CD14-44C1-A32F-7C72B97A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C17A-A019-43DC-AFF7-54419A0A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DF23-7E37-469C-8DC5-ED47C668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7718-3503-4886-9E0F-FCB604C4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4995-EAF8-479B-9698-C36801A0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CAB0-B35F-435F-ADBE-3C0274D7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2ABB-AC8E-4644-95D8-A247B553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9F9-8938-4742-9477-07345523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9E8-3A2A-4564-A9B9-E9962D24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1B4-1096-4A46-904F-F03D883B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9AA-B83B-4877-9BFA-98DAAD4E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8132-9E58-4B60-AE83-0EFF6044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BF1-805F-47C6-9DC6-4BFBBB2C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C5FA-A26F-4006-830C-5A4B96EFF3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4DBA-ABC1-4B87-A5CD-0A1D6F9A9A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2%201&#21628;&#21560;.flv" TargetMode="External"/><Relationship Id="rId2" Type="http://schemas.openxmlformats.org/officeDocument/2006/relationships/hyperlink" Target="&#24433;&#20687;&#65306;&#21628;&#21560;&#26102;&#33016;&#24275;&#30340;&#21464;&#21270;56&#31186;.MPG" TargetMode="Externa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&#21628;&#21560;&#30340;&#21160;&#30011;&#28436;&#31034;.swf" TargetMode="External"/><Relationship Id="rId2" Type="http://schemas.openxmlformats.org/officeDocument/2006/relationships/image" Target="../media/image9.gi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audio" Target="../media/lase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laser.wav"/><Relationship Id="rId11" Type="http://schemas.openxmlformats.org/officeDocument/2006/relationships/audio" Target="../media/projctor.wav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laser.wav"/><Relationship Id="rId10" Type="http://schemas.openxmlformats.org/officeDocument/2006/relationships/audio" Target="../media/projctor.wav"/><Relationship Id="rId11" Type="http://schemas.openxmlformats.org/officeDocument/2006/relationships/audio" Target="../media/chimes.wav"/><Relationship Id="rId12" Type="http://schemas.openxmlformats.org/officeDocument/2006/relationships/audio" Target="../media/laser.wav"/><Relationship Id="rId13" Type="http://schemas.openxmlformats.org/officeDocument/2006/relationships/audio" Target="../media/projctor.wav"/><Relationship Id="rId14" Type="http://schemas.openxmlformats.org/officeDocument/2006/relationships/audio" Target="../media/projctor.wav"/><Relationship Id="rId15" Type="http://schemas.openxmlformats.org/officeDocument/2006/relationships/audio" Target="../media/chimes.wav"/><Relationship Id="rId16" Type="http://schemas.openxmlformats.org/officeDocument/2006/relationships/audio" Target="../media/laser.wav"/><Relationship Id="rId17" Type="http://schemas.openxmlformats.org/officeDocument/2006/relationships/audio" Target="../media/projctor.wav"/><Relationship Id="rId18" Type="http://schemas.openxmlformats.org/officeDocument/2006/relationships/audio" Target="../media/chimes.wav"/><Relationship Id="rId19" Type="http://schemas.openxmlformats.org/officeDocument/2006/relationships/audio" Target="../media/laser.wav"/><Relationship Id="rId20" Type="http://schemas.openxmlformats.org/officeDocument/2006/relationships/audio" Target="../media/projctor.wav"/><Relationship Id="rId21" Type="http://schemas.openxmlformats.org/officeDocument/2006/relationships/audio" Target="../media/chimes.wav"/><Relationship Id="rId22" Type="http://schemas.openxmlformats.org/officeDocument/2006/relationships/audio" Target="../media/laser.wav"/><Relationship Id="rId23" Type="http://schemas.openxmlformats.org/officeDocument/2006/relationships/audio" Target="../media/projctor.wav"/><Relationship Id="rId24" Type="http://schemas.openxmlformats.org/officeDocument/2006/relationships/audio" Target="../media/chimes.wav"/><Relationship Id="rId25" Type="http://schemas.openxmlformats.org/officeDocument/2006/relationships/audio" Target="../media/laser.wav"/><Relationship Id="rId26" Type="http://schemas.openxmlformats.org/officeDocument/2006/relationships/audio" Target="../media/projctor.wav"/><Relationship Id="rId2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&#32954;&#20869;&#20132;&#25442;.swf" TargetMode="External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lunwen2.photo.hexun.com/17376222_d.html" TargetMode="Externa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audio" Target="../media/projctor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76040" y="1828800"/>
            <a:ext cx="883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发生在肺内的气体交换</a:t>
            </a:r>
            <a:r>
              <a:rPr b="1" i="1" lang="en-US" sz="4000" spc="-1" strike="noStrike">
                <a:solidFill>
                  <a:srgbClr val="ff3300"/>
                </a:solidFill>
                <a:latin typeface="宋体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2451240" y="3200400"/>
            <a:ext cx="4181400" cy="2738520"/>
          </a:xfrm>
          <a:prstGeom prst="rect">
            <a:avLst/>
          </a:prstGeom>
          <a:ln w="0">
            <a:noFill/>
          </a:ln>
        </p:spPr>
      </p:pic>
      <p:sp>
        <p:nvSpPr>
          <p:cNvPr id="84" name="矩形 3"/>
          <p:cNvSpPr/>
          <p:nvPr/>
        </p:nvSpPr>
        <p:spPr>
          <a:xfrm>
            <a:off x="3420360" y="8380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章   人体的呼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609480" y="7621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胸围差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吸气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终了的胸围长度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呼气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终了的胸围长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28600" y="2286000"/>
            <a:ext cx="8391600" cy="1068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：某同学平静是的胸围长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8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厘米，尽力深吸气时胸围长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9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厘米，尽力呼气时胸围长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78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厘米，他的胸围差时      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733920" y="3733920"/>
            <a:ext cx="1371600" cy="360"/>
            <a:chOff x="3733920" y="3733920"/>
            <a:chExt cx="1371600" cy="360"/>
          </a:xfrm>
        </p:grpSpPr>
        <p:sp>
          <p:nvSpPr>
            <p:cNvPr id="162" name="Line 4"/>
            <p:cNvSpPr/>
            <p:nvPr/>
          </p:nvSpPr>
          <p:spPr>
            <a:xfrm>
              <a:off x="3733920" y="37339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3733920" y="373392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5"/>
          <p:cNvSpPr/>
          <p:nvPr/>
        </p:nvSpPr>
        <p:spPr>
          <a:xfrm>
            <a:off x="3657600" y="3200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28600" y="4038480"/>
            <a:ext cx="8458200" cy="181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：在学校体检中，小明同学的胸围差三次测试的结果分别为：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1cm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9cm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0cm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。请问：小明的胸围差应是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A 11cm   B 9cm    C 10cm    D 9.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480060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52280" y="428760"/>
          <a:ext cx="6553080" cy="6048360"/>
        </p:xfrm>
        <a:graphic>
          <a:graphicData uri="http://schemas.openxmlformats.org/drawingml/2006/table">
            <a:tbl>
              <a:tblPr/>
              <a:tblGrid>
                <a:gridCol w="2324160"/>
                <a:gridCol w="1258920"/>
                <a:gridCol w="1255680"/>
                <a:gridCol w="1714320"/>
              </a:tblGrid>
              <a:tr h="9032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姓     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性 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年 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胸 围 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8841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宋       通         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（常常锻炼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854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刘       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850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张       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.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8510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李       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.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8510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王       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853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王       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168" name="Text Box 44"/>
          <p:cNvSpPr/>
          <p:nvPr/>
        </p:nvSpPr>
        <p:spPr>
          <a:xfrm>
            <a:off x="7238880" y="60948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5"/>
          <p:cNvSpPr/>
          <p:nvPr/>
        </p:nvSpPr>
        <p:spPr>
          <a:xfrm>
            <a:off x="7162920" y="4572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6"/>
          <p:cNvSpPr/>
          <p:nvPr/>
        </p:nvSpPr>
        <p:spPr>
          <a:xfrm>
            <a:off x="7238880" y="609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结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7"/>
          <p:cNvSpPr/>
          <p:nvPr/>
        </p:nvSpPr>
        <p:spPr>
          <a:xfrm>
            <a:off x="7086600" y="2286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性别有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8"/>
          <p:cNvSpPr/>
          <p:nvPr/>
        </p:nvSpPr>
        <p:spPr>
          <a:xfrm>
            <a:off x="7010280" y="3809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年龄有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9"/>
          <p:cNvSpPr/>
          <p:nvPr/>
        </p:nvSpPr>
        <p:spPr>
          <a:xfrm>
            <a:off x="6629400" y="51814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身体锻炼有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0" descr="叶2"/>
          <p:cNvPicPr/>
          <p:nvPr/>
        </p:nvPicPr>
        <p:blipFill>
          <a:blip r:embed="rId1"/>
          <a:stretch/>
        </p:blipFill>
        <p:spPr>
          <a:xfrm>
            <a:off x="6934320" y="5791320"/>
            <a:ext cx="18288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-2509200" y="609480"/>
            <a:ext cx="11227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结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8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吸气时，胸廓</a:t>
            </a:r>
            <a:r>
              <a:rPr b="1" lang="zh-CN" sz="8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扩大</a:t>
            </a:r>
            <a:r>
              <a:rPr b="1" lang="zh-CN" sz="8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</a:t>
            </a:r>
            <a:r>
              <a:rPr b="1" lang="zh-CN" sz="8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呼气时，胸廓</a:t>
            </a:r>
            <a:r>
              <a:rPr b="1" lang="zh-CN" sz="8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缩小</a:t>
            </a:r>
            <a:r>
              <a:rPr b="1" lang="zh-CN" sz="8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>
            <a:hlinkClick r:id="rId1"/>
          </p:cNvPr>
          <p:cNvSpPr/>
          <p:nvPr/>
        </p:nvSpPr>
        <p:spPr>
          <a:xfrm>
            <a:off x="5486400" y="58672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7301"/>
                </a:moveTo>
                <a:lnTo>
                  <a:pt x="12412" y="7301"/>
                </a:lnTo>
                <a:lnTo>
                  <a:pt x="12795" y="7667"/>
                </a:lnTo>
                <a:lnTo>
                  <a:pt x="22004" y="7667"/>
                </a:lnTo>
                <a:lnTo>
                  <a:pt x="22561" y="8224"/>
                </a:lnTo>
                <a:lnTo>
                  <a:pt x="22561" y="8772"/>
                </a:lnTo>
                <a:lnTo>
                  <a:pt x="24406" y="8772"/>
                </a:lnTo>
                <a:lnTo>
                  <a:pt x="24772" y="8224"/>
                </a:lnTo>
                <a:lnTo>
                  <a:pt x="25511" y="8224"/>
                </a:lnTo>
                <a:lnTo>
                  <a:pt x="25511" y="13376"/>
                </a:lnTo>
                <a:lnTo>
                  <a:pt x="24772" y="13376"/>
                </a:lnTo>
                <a:lnTo>
                  <a:pt x="24406" y="12828"/>
                </a:lnTo>
                <a:lnTo>
                  <a:pt x="22561" y="12828"/>
                </a:lnTo>
                <a:lnTo>
                  <a:pt x="22561" y="14107"/>
                </a:lnTo>
                <a:lnTo>
                  <a:pt x="12978" y="14107"/>
                </a:lnTo>
                <a:lnTo>
                  <a:pt x="12978" y="9877"/>
                </a:lnTo>
                <a:lnTo>
                  <a:pt x="12795" y="9877"/>
                </a:lnTo>
                <a:lnTo>
                  <a:pt x="12412" y="10243"/>
                </a:lnTo>
                <a:lnTo>
                  <a:pt x="11498" y="102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>
            <a:hlinkClick r:id="rId2"/>
          </p:cNvPr>
          <p:cNvSpPr/>
          <p:nvPr/>
        </p:nvSpPr>
        <p:spPr>
          <a:xfrm>
            <a:off x="7086600" y="58672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7301"/>
                </a:moveTo>
                <a:lnTo>
                  <a:pt x="12412" y="7301"/>
                </a:lnTo>
                <a:lnTo>
                  <a:pt x="12795" y="7667"/>
                </a:lnTo>
                <a:lnTo>
                  <a:pt x="22004" y="7667"/>
                </a:lnTo>
                <a:lnTo>
                  <a:pt x="22561" y="8224"/>
                </a:lnTo>
                <a:lnTo>
                  <a:pt x="22561" y="8772"/>
                </a:lnTo>
                <a:lnTo>
                  <a:pt x="24406" y="8772"/>
                </a:lnTo>
                <a:lnTo>
                  <a:pt x="24772" y="8224"/>
                </a:lnTo>
                <a:lnTo>
                  <a:pt x="25511" y="8224"/>
                </a:lnTo>
                <a:lnTo>
                  <a:pt x="25511" y="13376"/>
                </a:lnTo>
                <a:lnTo>
                  <a:pt x="24772" y="13376"/>
                </a:lnTo>
                <a:lnTo>
                  <a:pt x="24406" y="12828"/>
                </a:lnTo>
                <a:lnTo>
                  <a:pt x="22561" y="12828"/>
                </a:lnTo>
                <a:lnTo>
                  <a:pt x="22561" y="14107"/>
                </a:lnTo>
                <a:lnTo>
                  <a:pt x="12978" y="14107"/>
                </a:lnTo>
                <a:lnTo>
                  <a:pt x="12978" y="9877"/>
                </a:lnTo>
                <a:lnTo>
                  <a:pt x="12795" y="9877"/>
                </a:lnTo>
                <a:lnTo>
                  <a:pt x="12412" y="10243"/>
                </a:lnTo>
                <a:lnTo>
                  <a:pt x="11498" y="1024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奔跑的松鼠">
            <a:hlinkClick r:id="rId1"/>
          </p:cNvPr>
          <p:cNvPicPr/>
          <p:nvPr/>
        </p:nvPicPr>
        <p:blipFill>
          <a:blip r:embed="rId2"/>
          <a:stretch/>
        </p:blipFill>
        <p:spPr>
          <a:xfrm rot="10800000">
            <a:off x="304920" y="685440"/>
            <a:ext cx="761760" cy="12193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2246040" y="1125360"/>
            <a:ext cx="1460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3300"/>
                </a:solidFill>
                <a:latin typeface="Times New Roman"/>
              </a:rPr>
              <a:t>讨论：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432080" y="2687760"/>
            <a:ext cx="6416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4200" spc="-1" strike="noStrike">
                <a:solidFill>
                  <a:srgbClr val="333399"/>
                </a:solidFill>
                <a:latin typeface="Times New Roman"/>
              </a:rPr>
              <a:t>当吸入气体和呼出气体时肋间肌和膈肌是如何运动的？胸廓容积是如何变化的？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762120" y="85896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胸廓横向的扩张和收缩，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肋骨间的肌肉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收缩和舒张的结果。胸腔容积的变化还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膈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的活动有关。膈主要是肌肉组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4572000"/>
            <a:ext cx="7696080" cy="13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吸气时，膈肌收缩，膈顶部下降，胸腔上下径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呼气时，膈肌舒张，膈顶部回升，胸腔上下径缩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http://www.pep.com.cn/images/20021201/import84098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5"/>
          <p:cNvSpPr/>
          <p:nvPr/>
        </p:nvSpPr>
        <p:spPr>
          <a:xfrm>
            <a:off x="8077320" y="55627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7301"/>
                </a:moveTo>
                <a:lnTo>
                  <a:pt x="12804" y="7301"/>
                </a:lnTo>
                <a:lnTo>
                  <a:pt x="13187" y="7667"/>
                </a:lnTo>
                <a:lnTo>
                  <a:pt x="22396" y="7667"/>
                </a:lnTo>
                <a:lnTo>
                  <a:pt x="22953" y="8224"/>
                </a:lnTo>
                <a:lnTo>
                  <a:pt x="22953" y="8772"/>
                </a:lnTo>
                <a:lnTo>
                  <a:pt x="24798" y="8772"/>
                </a:lnTo>
                <a:lnTo>
                  <a:pt x="25163" y="8224"/>
                </a:lnTo>
                <a:lnTo>
                  <a:pt x="25903" y="8224"/>
                </a:lnTo>
                <a:lnTo>
                  <a:pt x="25903" y="13376"/>
                </a:lnTo>
                <a:lnTo>
                  <a:pt x="25163" y="13376"/>
                </a:lnTo>
                <a:lnTo>
                  <a:pt x="24798" y="12828"/>
                </a:lnTo>
                <a:lnTo>
                  <a:pt x="22953" y="12828"/>
                </a:lnTo>
                <a:lnTo>
                  <a:pt x="22953" y="14107"/>
                </a:lnTo>
                <a:lnTo>
                  <a:pt x="13370" y="14107"/>
                </a:lnTo>
                <a:lnTo>
                  <a:pt x="13370" y="9877"/>
                </a:lnTo>
                <a:lnTo>
                  <a:pt x="13187" y="9877"/>
                </a:lnTo>
                <a:lnTo>
                  <a:pt x="12804" y="10243"/>
                </a:lnTo>
                <a:lnTo>
                  <a:pt x="11890" y="1024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演示实验（课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页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模仿肺的运动"/>
          <p:cNvPicPr/>
          <p:nvPr/>
        </p:nvPicPr>
        <p:blipFill>
          <a:blip r:embed="rId1"/>
          <a:stretch/>
        </p:blipFill>
        <p:spPr>
          <a:xfrm>
            <a:off x="533520" y="1295280"/>
            <a:ext cx="6781680" cy="50054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4"/>
          <p:cNvSpPr/>
          <p:nvPr/>
        </p:nvSpPr>
        <p:spPr>
          <a:xfrm>
            <a:off x="7620120" y="5486400"/>
            <a:ext cx="990360" cy="533520"/>
          </a:xfrm>
          <a:custGeom>
            <a:avLst/>
            <a:gdLst>
              <a:gd name="textAreaLeft" fmla="*/ 34560 w 990360"/>
              <a:gd name="textAreaRight" fmla="*/ 955800 w 9903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83" h="21600">
                <a:moveTo>
                  <a:pt x="0" y="0"/>
                </a:moveTo>
                <a:lnTo>
                  <a:pt x="40083" y="0"/>
                </a:lnTo>
                <a:lnTo>
                  <a:pt x="40083" y="21600"/>
                </a:lnTo>
                <a:lnTo>
                  <a:pt x="0" y="21600"/>
                </a:lnTo>
                <a:close/>
              </a:path>
              <a:path fill="lightenLess" w="40083" h="21600">
                <a:moveTo>
                  <a:pt x="0" y="0"/>
                </a:moveTo>
                <a:lnTo>
                  <a:pt x="40083" y="0"/>
                </a:lnTo>
                <a:lnTo>
                  <a:pt x="38683" y="1400"/>
                </a:lnTo>
                <a:lnTo>
                  <a:pt x="1400" y="1400"/>
                </a:lnTo>
                <a:close/>
              </a:path>
              <a:path fill="darken" w="40083" h="21600">
                <a:moveTo>
                  <a:pt x="40083" y="0"/>
                </a:moveTo>
                <a:lnTo>
                  <a:pt x="40083" y="21600"/>
                </a:lnTo>
                <a:lnTo>
                  <a:pt x="38683" y="20200"/>
                </a:lnTo>
                <a:lnTo>
                  <a:pt x="38683" y="1400"/>
                </a:lnTo>
                <a:close/>
              </a:path>
              <a:path fill="darkenLess" w="40083" h="21600">
                <a:moveTo>
                  <a:pt x="40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83" y="20200"/>
                </a:lnTo>
                <a:close/>
              </a:path>
              <a:path fill="lighten" w="40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83" h="21600">
                <a:moveTo>
                  <a:pt x="13035" y="7301"/>
                </a:moveTo>
                <a:lnTo>
                  <a:pt x="13949" y="7301"/>
                </a:lnTo>
                <a:lnTo>
                  <a:pt x="14332" y="7667"/>
                </a:lnTo>
                <a:lnTo>
                  <a:pt x="23540" y="7667"/>
                </a:lnTo>
                <a:lnTo>
                  <a:pt x="24097" y="8224"/>
                </a:lnTo>
                <a:lnTo>
                  <a:pt x="24097" y="8772"/>
                </a:lnTo>
                <a:lnTo>
                  <a:pt x="25943" y="8772"/>
                </a:lnTo>
                <a:lnTo>
                  <a:pt x="26308" y="8224"/>
                </a:lnTo>
                <a:lnTo>
                  <a:pt x="27048" y="8224"/>
                </a:lnTo>
                <a:lnTo>
                  <a:pt x="27048" y="13376"/>
                </a:lnTo>
                <a:lnTo>
                  <a:pt x="26308" y="13376"/>
                </a:lnTo>
                <a:lnTo>
                  <a:pt x="25943" y="12828"/>
                </a:lnTo>
                <a:lnTo>
                  <a:pt x="24097" y="12828"/>
                </a:lnTo>
                <a:lnTo>
                  <a:pt x="24097" y="14107"/>
                </a:lnTo>
                <a:lnTo>
                  <a:pt x="14515" y="14107"/>
                </a:lnTo>
                <a:lnTo>
                  <a:pt x="14515" y="9877"/>
                </a:lnTo>
                <a:lnTo>
                  <a:pt x="14332" y="9877"/>
                </a:lnTo>
                <a:lnTo>
                  <a:pt x="13949" y="10243"/>
                </a:lnTo>
                <a:lnTo>
                  <a:pt x="13035" y="102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Times New Roman"/>
                <a:ea typeface="华文彩云"/>
              </a:rPr>
              <a:t>结论</a:t>
            </a:r>
            <a:r>
              <a:rPr b="0" lang="zh-CN" sz="9600" spc="-1" strike="noStrike">
                <a:solidFill>
                  <a:srgbClr val="3333ff"/>
                </a:solidFill>
                <a:latin typeface="Times New Roman"/>
                <a:ea typeface="华文彩云"/>
              </a:rPr>
              <a:t>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28600" y="220968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肺</a:t>
            </a:r>
            <a:r>
              <a:rPr b="1" lang="zh-CN" sz="6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扩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343400" y="213372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肺内压</a:t>
            </a:r>
            <a:r>
              <a:rPr b="1" lang="zh-CN" sz="6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减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191120" y="380880"/>
            <a:ext cx="495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气体进入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04920" y="35812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肺</a:t>
            </a:r>
            <a:r>
              <a:rPr b="1" lang="zh-CN" sz="6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缩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4343400" y="350532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肺内压</a:t>
            </a:r>
            <a:r>
              <a:rPr b="1" lang="zh-CN" sz="6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增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3505320" y="541008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气体从肺中排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743200" y="2743200"/>
            <a:ext cx="1676520" cy="360"/>
            <a:chOff x="2743200" y="2743200"/>
            <a:chExt cx="1676520" cy="360"/>
          </a:xfrm>
        </p:grpSpPr>
        <p:sp>
          <p:nvSpPr>
            <p:cNvPr id="196" name="Line 9"/>
            <p:cNvSpPr/>
            <p:nvPr/>
          </p:nvSpPr>
          <p:spPr>
            <a:xfrm>
              <a:off x="2743200" y="2743200"/>
              <a:ext cx="167652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2743200" y="2743200"/>
              <a:ext cx="167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819520" y="4114800"/>
            <a:ext cx="1600200" cy="360"/>
            <a:chOff x="2819520" y="4114800"/>
            <a:chExt cx="1600200" cy="360"/>
          </a:xfrm>
        </p:grpSpPr>
        <p:sp>
          <p:nvSpPr>
            <p:cNvPr id="199" name="Line 10"/>
            <p:cNvSpPr/>
            <p:nvPr/>
          </p:nvSpPr>
          <p:spPr>
            <a:xfrm>
              <a:off x="2819520" y="4114800"/>
              <a:ext cx="160020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819520" y="411480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324480" y="4419720"/>
            <a:ext cx="360" cy="1143000"/>
            <a:chOff x="6324480" y="4419720"/>
            <a:chExt cx="360" cy="1143000"/>
          </a:xfrm>
        </p:grpSpPr>
        <p:sp>
          <p:nvSpPr>
            <p:cNvPr id="202" name="Line 11"/>
            <p:cNvSpPr/>
            <p:nvPr/>
          </p:nvSpPr>
          <p:spPr>
            <a:xfrm>
              <a:off x="6324480" y="4419720"/>
              <a:ext cx="0" cy="1143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6324480" y="4419720"/>
              <a:ext cx="36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324120" y="1295280"/>
            <a:ext cx="360" cy="990720"/>
            <a:chOff x="6324120" y="1295280"/>
            <a:chExt cx="360" cy="990720"/>
          </a:xfrm>
        </p:grpSpPr>
        <p:sp>
          <p:nvSpPr>
            <p:cNvPr id="205" name="Line 12"/>
            <p:cNvSpPr/>
            <p:nvPr/>
          </p:nvSpPr>
          <p:spPr>
            <a:xfrm flipV="1">
              <a:off x="6324480" y="1295280"/>
              <a:ext cx="0" cy="9907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 rot="10800000">
              <a:off x="6324120" y="1295280"/>
              <a:ext cx="36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380880" y="990720"/>
            <a:ext cx="1905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隶书"/>
              </a:rPr>
              <a:t>肋间外肌和膈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057400" y="2133720"/>
            <a:ext cx="1066680" cy="360"/>
            <a:chOff x="2057400" y="2133720"/>
            <a:chExt cx="1066680" cy="360"/>
          </a:xfrm>
        </p:grpSpPr>
        <p:sp>
          <p:nvSpPr>
            <p:cNvPr id="209" name="Line 3"/>
            <p:cNvSpPr/>
            <p:nvPr/>
          </p:nvSpPr>
          <p:spPr>
            <a:xfrm>
              <a:off x="2057400" y="2133720"/>
              <a:ext cx="1066680" cy="0"/>
            </a:xfrm>
            <a:prstGeom prst="line">
              <a:avLst/>
            </a:prstGeom>
            <a:ln w="7632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2057400" y="213372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4"/>
          <p:cNvSpPr/>
          <p:nvPr/>
        </p:nvSpPr>
        <p:spPr>
          <a:xfrm>
            <a:off x="2895480" y="121932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隶书"/>
              </a:rPr>
              <a:t>胸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809880" y="2133720"/>
            <a:ext cx="1067040" cy="360"/>
            <a:chOff x="3809880" y="2133720"/>
            <a:chExt cx="1067040" cy="360"/>
          </a:xfrm>
        </p:grpSpPr>
        <p:sp>
          <p:nvSpPr>
            <p:cNvPr id="213" name="Line 5"/>
            <p:cNvSpPr/>
            <p:nvPr/>
          </p:nvSpPr>
          <p:spPr>
            <a:xfrm>
              <a:off x="3809880" y="2133720"/>
              <a:ext cx="1067040" cy="0"/>
            </a:xfrm>
            <a:prstGeom prst="line">
              <a:avLst/>
            </a:prstGeom>
            <a:ln w="7632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3809880" y="2133720"/>
              <a:ext cx="1067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6"/>
          <p:cNvSpPr/>
          <p:nvPr/>
        </p:nvSpPr>
        <p:spPr>
          <a:xfrm>
            <a:off x="4724280" y="99072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隶书"/>
              </a:rPr>
              <a:t>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334120" y="2057400"/>
            <a:ext cx="838080" cy="360"/>
            <a:chOff x="5334120" y="2057400"/>
            <a:chExt cx="838080" cy="360"/>
          </a:xfrm>
        </p:grpSpPr>
        <p:sp>
          <p:nvSpPr>
            <p:cNvPr id="217" name="Line 7"/>
            <p:cNvSpPr/>
            <p:nvPr/>
          </p:nvSpPr>
          <p:spPr>
            <a:xfrm>
              <a:off x="5334120" y="2057400"/>
              <a:ext cx="838080" cy="0"/>
            </a:xfrm>
            <a:prstGeom prst="line">
              <a:avLst/>
            </a:prstGeom>
            <a:ln w="7632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5334120" y="205740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8"/>
          <p:cNvSpPr/>
          <p:nvPr/>
        </p:nvSpPr>
        <p:spPr>
          <a:xfrm>
            <a:off x="5943600" y="12952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隶书"/>
              </a:rPr>
              <a:t>肺内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8077320" y="1066680"/>
            <a:ext cx="6094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隶书"/>
              </a:rPr>
              <a:t>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隶书"/>
              </a:rPr>
              <a:t>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315200" y="1981080"/>
            <a:ext cx="914400" cy="360"/>
            <a:chOff x="7315200" y="1981080"/>
            <a:chExt cx="914400" cy="360"/>
          </a:xfrm>
        </p:grpSpPr>
        <p:sp>
          <p:nvSpPr>
            <p:cNvPr id="222" name="Line 10"/>
            <p:cNvSpPr/>
            <p:nvPr/>
          </p:nvSpPr>
          <p:spPr>
            <a:xfrm>
              <a:off x="7315200" y="1981080"/>
              <a:ext cx="914400" cy="0"/>
            </a:xfrm>
            <a:prstGeom prst="line">
              <a:avLst/>
            </a:prstGeom>
            <a:ln w="7632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7315200" y="198108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1"/>
          <p:cNvSpPr/>
          <p:nvPr/>
        </p:nvSpPr>
        <p:spPr>
          <a:xfrm>
            <a:off x="533520" y="36576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隶书"/>
              </a:rPr>
              <a:t>肋间外肌和膈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62320" y="5029200"/>
            <a:ext cx="990360" cy="360"/>
            <a:chOff x="2362320" y="5029200"/>
            <a:chExt cx="990360" cy="360"/>
          </a:xfrm>
        </p:grpSpPr>
        <p:sp>
          <p:nvSpPr>
            <p:cNvPr id="226" name="Line 12"/>
            <p:cNvSpPr/>
            <p:nvPr/>
          </p:nvSpPr>
          <p:spPr>
            <a:xfrm>
              <a:off x="2362320" y="5029200"/>
              <a:ext cx="990360" cy="0"/>
            </a:xfrm>
            <a:prstGeom prst="line">
              <a:avLst/>
            </a:prstGeom>
            <a:ln w="7632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2362320" y="5029200"/>
              <a:ext cx="99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 Box 13"/>
          <p:cNvSpPr/>
          <p:nvPr/>
        </p:nvSpPr>
        <p:spPr>
          <a:xfrm>
            <a:off x="2819520" y="41911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隶书"/>
              </a:rPr>
              <a:t>胸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733920" y="4952880"/>
            <a:ext cx="1066680" cy="360"/>
            <a:chOff x="3733920" y="4952880"/>
            <a:chExt cx="1066680" cy="360"/>
          </a:xfrm>
        </p:grpSpPr>
        <p:sp>
          <p:nvSpPr>
            <p:cNvPr id="230" name="Line 14"/>
            <p:cNvSpPr/>
            <p:nvPr/>
          </p:nvSpPr>
          <p:spPr>
            <a:xfrm>
              <a:off x="3733920" y="4952880"/>
              <a:ext cx="1066680" cy="0"/>
            </a:xfrm>
            <a:prstGeom prst="line">
              <a:avLst/>
            </a:prstGeom>
            <a:ln w="7632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3733920" y="495288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15"/>
          <p:cNvSpPr/>
          <p:nvPr/>
        </p:nvSpPr>
        <p:spPr>
          <a:xfrm>
            <a:off x="4800600" y="38862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隶书"/>
              </a:rPr>
              <a:t>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486400" y="4952880"/>
            <a:ext cx="533520" cy="360"/>
            <a:chOff x="5486400" y="4952880"/>
            <a:chExt cx="533520" cy="360"/>
          </a:xfrm>
        </p:grpSpPr>
        <p:sp>
          <p:nvSpPr>
            <p:cNvPr id="234" name="Line 16"/>
            <p:cNvSpPr/>
            <p:nvPr/>
          </p:nvSpPr>
          <p:spPr>
            <a:xfrm>
              <a:off x="5486400" y="4952880"/>
              <a:ext cx="533520" cy="0"/>
            </a:xfrm>
            <a:prstGeom prst="line">
              <a:avLst/>
            </a:prstGeom>
            <a:ln w="7632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5486400" y="495288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17"/>
          <p:cNvSpPr/>
          <p:nvPr/>
        </p:nvSpPr>
        <p:spPr>
          <a:xfrm>
            <a:off x="5715000" y="42670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隶书"/>
              </a:rPr>
              <a:t>肺内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238880" y="4952880"/>
            <a:ext cx="990720" cy="360"/>
            <a:chOff x="7238880" y="4952880"/>
            <a:chExt cx="990720" cy="360"/>
          </a:xfrm>
        </p:grpSpPr>
        <p:sp>
          <p:nvSpPr>
            <p:cNvPr id="238" name="Line 18"/>
            <p:cNvSpPr/>
            <p:nvPr/>
          </p:nvSpPr>
          <p:spPr>
            <a:xfrm>
              <a:off x="7238880" y="4952880"/>
              <a:ext cx="990720" cy="0"/>
            </a:xfrm>
            <a:prstGeom prst="line">
              <a:avLst/>
            </a:prstGeom>
            <a:ln w="7632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7238880" y="495288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19"/>
          <p:cNvSpPr/>
          <p:nvPr/>
        </p:nvSpPr>
        <p:spPr>
          <a:xfrm>
            <a:off x="7924680" y="4038480"/>
            <a:ext cx="7621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隶书"/>
              </a:rPr>
              <a:t>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隶书"/>
              </a:rPr>
              <a:t>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未知"/>
          <p:cNvSpPr/>
          <p:nvPr/>
        </p:nvSpPr>
        <p:spPr>
          <a:xfrm>
            <a:off x="-1461960" y="-387360"/>
            <a:ext cx="2859120" cy="2114640"/>
          </a:xfrm>
          <a:custGeom>
            <a:avLst/>
            <a:gdLst/>
            <a:ahLst/>
            <a:rect l="l" t="t" r="r" b="b"/>
            <a:pathLst>
              <a:path w="1804" h="1335">
                <a:moveTo>
                  <a:pt x="68" y="68"/>
                </a:moveTo>
                <a:lnTo>
                  <a:pt x="643" y="0"/>
                </a:lnTo>
                <a:lnTo>
                  <a:pt x="1129" y="89"/>
                </a:lnTo>
                <a:lnTo>
                  <a:pt x="1684" y="44"/>
                </a:lnTo>
                <a:lnTo>
                  <a:pt x="1804" y="307"/>
                </a:lnTo>
                <a:lnTo>
                  <a:pt x="1752" y="558"/>
                </a:lnTo>
                <a:lnTo>
                  <a:pt x="1457" y="981"/>
                </a:lnTo>
                <a:lnTo>
                  <a:pt x="1042" y="923"/>
                </a:lnTo>
                <a:lnTo>
                  <a:pt x="1129" y="1335"/>
                </a:lnTo>
                <a:lnTo>
                  <a:pt x="1093" y="1311"/>
                </a:lnTo>
                <a:lnTo>
                  <a:pt x="1055" y="1282"/>
                </a:lnTo>
                <a:lnTo>
                  <a:pt x="1003" y="1245"/>
                </a:lnTo>
                <a:lnTo>
                  <a:pt x="944" y="1200"/>
                </a:lnTo>
                <a:lnTo>
                  <a:pt x="876" y="1151"/>
                </a:lnTo>
                <a:lnTo>
                  <a:pt x="805" y="1098"/>
                </a:lnTo>
                <a:lnTo>
                  <a:pt x="730" y="1043"/>
                </a:lnTo>
                <a:lnTo>
                  <a:pt x="659" y="987"/>
                </a:lnTo>
                <a:lnTo>
                  <a:pt x="587" y="934"/>
                </a:lnTo>
                <a:lnTo>
                  <a:pt x="523" y="880"/>
                </a:lnTo>
                <a:lnTo>
                  <a:pt x="461" y="834"/>
                </a:lnTo>
                <a:lnTo>
                  <a:pt x="412" y="791"/>
                </a:lnTo>
                <a:lnTo>
                  <a:pt x="377" y="759"/>
                </a:lnTo>
                <a:lnTo>
                  <a:pt x="347" y="718"/>
                </a:lnTo>
                <a:lnTo>
                  <a:pt x="338" y="684"/>
                </a:lnTo>
                <a:lnTo>
                  <a:pt x="302" y="622"/>
                </a:lnTo>
                <a:lnTo>
                  <a:pt x="276" y="584"/>
                </a:lnTo>
                <a:lnTo>
                  <a:pt x="247" y="543"/>
                </a:lnTo>
                <a:lnTo>
                  <a:pt x="214" y="499"/>
                </a:lnTo>
                <a:lnTo>
                  <a:pt x="182" y="456"/>
                </a:lnTo>
                <a:lnTo>
                  <a:pt x="146" y="411"/>
                </a:lnTo>
                <a:lnTo>
                  <a:pt x="114" y="371"/>
                </a:lnTo>
                <a:lnTo>
                  <a:pt x="59" y="298"/>
                </a:lnTo>
                <a:lnTo>
                  <a:pt x="17" y="247"/>
                </a:lnTo>
                <a:lnTo>
                  <a:pt x="0" y="228"/>
                </a:lnTo>
                <a:lnTo>
                  <a:pt x="68" y="68"/>
                </a:lnTo>
                <a:lnTo>
                  <a:pt x="68" y="68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未知"/>
          <p:cNvSpPr/>
          <p:nvPr/>
        </p:nvSpPr>
        <p:spPr>
          <a:xfrm>
            <a:off x="-1595520" y="-446040"/>
            <a:ext cx="12693600" cy="7705800"/>
          </a:xfrm>
          <a:custGeom>
            <a:avLst/>
            <a:gdLst/>
            <a:ahLst/>
            <a:rect l="l" t="t" r="r" b="b"/>
            <a:pathLst>
              <a:path w="7999" h="4857">
                <a:moveTo>
                  <a:pt x="84" y="207"/>
                </a:moveTo>
                <a:lnTo>
                  <a:pt x="292" y="800"/>
                </a:lnTo>
                <a:lnTo>
                  <a:pt x="328" y="1383"/>
                </a:lnTo>
                <a:lnTo>
                  <a:pt x="136" y="1760"/>
                </a:lnTo>
                <a:lnTo>
                  <a:pt x="311" y="2148"/>
                </a:lnTo>
                <a:lnTo>
                  <a:pt x="84" y="2502"/>
                </a:lnTo>
                <a:lnTo>
                  <a:pt x="240" y="3371"/>
                </a:lnTo>
                <a:lnTo>
                  <a:pt x="208" y="3635"/>
                </a:lnTo>
                <a:lnTo>
                  <a:pt x="0" y="4377"/>
                </a:lnTo>
                <a:lnTo>
                  <a:pt x="208" y="4412"/>
                </a:lnTo>
                <a:lnTo>
                  <a:pt x="172" y="4616"/>
                </a:lnTo>
                <a:lnTo>
                  <a:pt x="795" y="4606"/>
                </a:lnTo>
                <a:lnTo>
                  <a:pt x="1628" y="4719"/>
                </a:lnTo>
                <a:lnTo>
                  <a:pt x="1924" y="4650"/>
                </a:lnTo>
                <a:lnTo>
                  <a:pt x="3990" y="4823"/>
                </a:lnTo>
                <a:lnTo>
                  <a:pt x="3990" y="4708"/>
                </a:lnTo>
                <a:lnTo>
                  <a:pt x="4561" y="4742"/>
                </a:lnTo>
                <a:lnTo>
                  <a:pt x="4684" y="4810"/>
                </a:lnTo>
                <a:lnTo>
                  <a:pt x="5151" y="4674"/>
                </a:lnTo>
                <a:lnTo>
                  <a:pt x="5550" y="4742"/>
                </a:lnTo>
                <a:lnTo>
                  <a:pt x="6105" y="4685"/>
                </a:lnTo>
                <a:lnTo>
                  <a:pt x="7165" y="4719"/>
                </a:lnTo>
                <a:lnTo>
                  <a:pt x="7701" y="4857"/>
                </a:lnTo>
                <a:lnTo>
                  <a:pt x="7963" y="4490"/>
                </a:lnTo>
                <a:lnTo>
                  <a:pt x="7720" y="4388"/>
                </a:lnTo>
                <a:lnTo>
                  <a:pt x="7999" y="3987"/>
                </a:lnTo>
                <a:lnTo>
                  <a:pt x="7720" y="3806"/>
                </a:lnTo>
                <a:lnTo>
                  <a:pt x="7477" y="2869"/>
                </a:lnTo>
                <a:lnTo>
                  <a:pt x="7701" y="2342"/>
                </a:lnTo>
                <a:lnTo>
                  <a:pt x="7649" y="2046"/>
                </a:lnTo>
                <a:lnTo>
                  <a:pt x="7944" y="1577"/>
                </a:lnTo>
                <a:lnTo>
                  <a:pt x="7649" y="595"/>
                </a:lnTo>
                <a:lnTo>
                  <a:pt x="7980" y="207"/>
                </a:lnTo>
                <a:lnTo>
                  <a:pt x="7720" y="58"/>
                </a:lnTo>
                <a:lnTo>
                  <a:pt x="7425" y="115"/>
                </a:lnTo>
                <a:lnTo>
                  <a:pt x="6575" y="0"/>
                </a:lnTo>
                <a:lnTo>
                  <a:pt x="5897" y="207"/>
                </a:lnTo>
                <a:lnTo>
                  <a:pt x="5255" y="105"/>
                </a:lnTo>
                <a:lnTo>
                  <a:pt x="4006" y="47"/>
                </a:lnTo>
                <a:lnTo>
                  <a:pt x="3328" y="92"/>
                </a:lnTo>
                <a:lnTo>
                  <a:pt x="2394" y="71"/>
                </a:lnTo>
                <a:lnTo>
                  <a:pt x="1405" y="139"/>
                </a:lnTo>
                <a:lnTo>
                  <a:pt x="1177" y="630"/>
                </a:lnTo>
                <a:lnTo>
                  <a:pt x="2582" y="708"/>
                </a:lnTo>
                <a:lnTo>
                  <a:pt x="2949" y="583"/>
                </a:lnTo>
                <a:lnTo>
                  <a:pt x="3779" y="698"/>
                </a:lnTo>
                <a:lnTo>
                  <a:pt x="4353" y="619"/>
                </a:lnTo>
                <a:lnTo>
                  <a:pt x="4979" y="687"/>
                </a:lnTo>
                <a:lnTo>
                  <a:pt x="5706" y="583"/>
                </a:lnTo>
                <a:lnTo>
                  <a:pt x="6332" y="640"/>
                </a:lnTo>
                <a:lnTo>
                  <a:pt x="6384" y="868"/>
                </a:lnTo>
                <a:lnTo>
                  <a:pt x="6747" y="926"/>
                </a:lnTo>
                <a:lnTo>
                  <a:pt x="6591" y="1338"/>
                </a:lnTo>
                <a:lnTo>
                  <a:pt x="6835" y="1440"/>
                </a:lnTo>
                <a:lnTo>
                  <a:pt x="6608" y="2001"/>
                </a:lnTo>
                <a:lnTo>
                  <a:pt x="6799" y="2195"/>
                </a:lnTo>
                <a:lnTo>
                  <a:pt x="6627" y="2628"/>
                </a:lnTo>
                <a:lnTo>
                  <a:pt x="6627" y="2869"/>
                </a:lnTo>
                <a:lnTo>
                  <a:pt x="6747" y="3087"/>
                </a:lnTo>
                <a:lnTo>
                  <a:pt x="6471" y="3496"/>
                </a:lnTo>
                <a:lnTo>
                  <a:pt x="6747" y="3761"/>
                </a:lnTo>
                <a:lnTo>
                  <a:pt x="6504" y="4068"/>
                </a:lnTo>
                <a:lnTo>
                  <a:pt x="6105" y="4149"/>
                </a:lnTo>
                <a:lnTo>
                  <a:pt x="5187" y="4079"/>
                </a:lnTo>
                <a:lnTo>
                  <a:pt x="4856" y="4273"/>
                </a:lnTo>
                <a:lnTo>
                  <a:pt x="4233" y="4102"/>
                </a:lnTo>
                <a:lnTo>
                  <a:pt x="3623" y="4113"/>
                </a:lnTo>
                <a:lnTo>
                  <a:pt x="2793" y="4126"/>
                </a:lnTo>
                <a:lnTo>
                  <a:pt x="2287" y="4239"/>
                </a:lnTo>
                <a:lnTo>
                  <a:pt x="2099" y="4057"/>
                </a:lnTo>
                <a:lnTo>
                  <a:pt x="1628" y="4217"/>
                </a:lnTo>
                <a:lnTo>
                  <a:pt x="1628" y="3919"/>
                </a:lnTo>
                <a:lnTo>
                  <a:pt x="1142" y="3806"/>
                </a:lnTo>
                <a:lnTo>
                  <a:pt x="1456" y="3349"/>
                </a:lnTo>
                <a:lnTo>
                  <a:pt x="1142" y="3142"/>
                </a:lnTo>
                <a:lnTo>
                  <a:pt x="1405" y="2743"/>
                </a:lnTo>
                <a:lnTo>
                  <a:pt x="1057" y="2652"/>
                </a:lnTo>
                <a:lnTo>
                  <a:pt x="1246" y="1487"/>
                </a:lnTo>
                <a:lnTo>
                  <a:pt x="1177" y="1018"/>
                </a:lnTo>
                <a:lnTo>
                  <a:pt x="1038" y="847"/>
                </a:lnTo>
                <a:lnTo>
                  <a:pt x="986" y="538"/>
                </a:lnTo>
                <a:lnTo>
                  <a:pt x="1126" y="299"/>
                </a:lnTo>
                <a:lnTo>
                  <a:pt x="84" y="207"/>
                </a:lnTo>
                <a:lnTo>
                  <a:pt x="84" y="207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未知"/>
          <p:cNvSpPr/>
          <p:nvPr/>
        </p:nvSpPr>
        <p:spPr>
          <a:xfrm>
            <a:off x="-581040" y="4300560"/>
            <a:ext cx="571680" cy="1015920"/>
          </a:xfrm>
          <a:custGeom>
            <a:avLst/>
            <a:gdLst/>
            <a:ahLst/>
            <a:rect l="l" t="t" r="r" b="b"/>
            <a:pathLst>
              <a:path w="360" h="640">
                <a:moveTo>
                  <a:pt x="360" y="90"/>
                </a:moveTo>
                <a:lnTo>
                  <a:pt x="341" y="429"/>
                </a:lnTo>
                <a:lnTo>
                  <a:pt x="311" y="542"/>
                </a:lnTo>
                <a:lnTo>
                  <a:pt x="295" y="587"/>
                </a:lnTo>
                <a:lnTo>
                  <a:pt x="256" y="616"/>
                </a:lnTo>
                <a:lnTo>
                  <a:pt x="204" y="636"/>
                </a:lnTo>
                <a:lnTo>
                  <a:pt x="149" y="640"/>
                </a:lnTo>
                <a:lnTo>
                  <a:pt x="42" y="610"/>
                </a:lnTo>
                <a:lnTo>
                  <a:pt x="0" y="531"/>
                </a:lnTo>
                <a:lnTo>
                  <a:pt x="16" y="405"/>
                </a:lnTo>
                <a:lnTo>
                  <a:pt x="32" y="318"/>
                </a:lnTo>
                <a:lnTo>
                  <a:pt x="58" y="243"/>
                </a:lnTo>
                <a:lnTo>
                  <a:pt x="104" y="79"/>
                </a:lnTo>
                <a:lnTo>
                  <a:pt x="117" y="43"/>
                </a:lnTo>
                <a:lnTo>
                  <a:pt x="149" y="17"/>
                </a:lnTo>
                <a:lnTo>
                  <a:pt x="191" y="4"/>
                </a:lnTo>
                <a:lnTo>
                  <a:pt x="237" y="0"/>
                </a:lnTo>
                <a:lnTo>
                  <a:pt x="324" y="26"/>
                </a:lnTo>
                <a:lnTo>
                  <a:pt x="360" y="90"/>
                </a:lnTo>
                <a:lnTo>
                  <a:pt x="360" y="9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未知"/>
          <p:cNvSpPr/>
          <p:nvPr/>
        </p:nvSpPr>
        <p:spPr>
          <a:xfrm>
            <a:off x="835200" y="6281640"/>
            <a:ext cx="1895400" cy="304920"/>
          </a:xfrm>
          <a:custGeom>
            <a:avLst/>
            <a:gdLst/>
            <a:ahLst/>
            <a:rect l="l" t="t" r="r" b="b"/>
            <a:pathLst>
              <a:path w="1194" h="192">
                <a:moveTo>
                  <a:pt x="101" y="38"/>
                </a:moveTo>
                <a:lnTo>
                  <a:pt x="354" y="47"/>
                </a:lnTo>
                <a:lnTo>
                  <a:pt x="574" y="32"/>
                </a:lnTo>
                <a:lnTo>
                  <a:pt x="795" y="11"/>
                </a:lnTo>
                <a:lnTo>
                  <a:pt x="1048" y="0"/>
                </a:lnTo>
                <a:lnTo>
                  <a:pt x="1113" y="8"/>
                </a:lnTo>
                <a:lnTo>
                  <a:pt x="1158" y="30"/>
                </a:lnTo>
                <a:lnTo>
                  <a:pt x="1194" y="96"/>
                </a:lnTo>
                <a:lnTo>
                  <a:pt x="1184" y="130"/>
                </a:lnTo>
                <a:lnTo>
                  <a:pt x="1158" y="162"/>
                </a:lnTo>
                <a:lnTo>
                  <a:pt x="1113" y="183"/>
                </a:lnTo>
                <a:lnTo>
                  <a:pt x="1048" y="192"/>
                </a:lnTo>
                <a:lnTo>
                  <a:pt x="561" y="185"/>
                </a:lnTo>
                <a:lnTo>
                  <a:pt x="75" y="153"/>
                </a:lnTo>
                <a:lnTo>
                  <a:pt x="17" y="128"/>
                </a:lnTo>
                <a:lnTo>
                  <a:pt x="0" y="87"/>
                </a:lnTo>
                <a:lnTo>
                  <a:pt x="10" y="66"/>
                </a:lnTo>
                <a:lnTo>
                  <a:pt x="33" y="51"/>
                </a:lnTo>
                <a:lnTo>
                  <a:pt x="101" y="38"/>
                </a:lnTo>
                <a:lnTo>
                  <a:pt x="101" y="3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未知"/>
          <p:cNvSpPr/>
          <p:nvPr/>
        </p:nvSpPr>
        <p:spPr>
          <a:xfrm>
            <a:off x="3297240" y="6281640"/>
            <a:ext cx="2049480" cy="362160"/>
          </a:xfrm>
          <a:custGeom>
            <a:avLst/>
            <a:gdLst/>
            <a:ahLst/>
            <a:rect l="l" t="t" r="r" b="b"/>
            <a:pathLst>
              <a:path w="1291" h="228">
                <a:moveTo>
                  <a:pt x="159" y="0"/>
                </a:moveTo>
                <a:lnTo>
                  <a:pt x="516" y="25"/>
                </a:lnTo>
                <a:lnTo>
                  <a:pt x="869" y="36"/>
                </a:lnTo>
                <a:lnTo>
                  <a:pt x="1145" y="36"/>
                </a:lnTo>
                <a:lnTo>
                  <a:pt x="1210" y="45"/>
                </a:lnTo>
                <a:lnTo>
                  <a:pt x="1255" y="66"/>
                </a:lnTo>
                <a:lnTo>
                  <a:pt x="1291" y="132"/>
                </a:lnTo>
                <a:lnTo>
                  <a:pt x="1281" y="168"/>
                </a:lnTo>
                <a:lnTo>
                  <a:pt x="1255" y="198"/>
                </a:lnTo>
                <a:lnTo>
                  <a:pt x="1210" y="220"/>
                </a:lnTo>
                <a:lnTo>
                  <a:pt x="1145" y="228"/>
                </a:lnTo>
                <a:lnTo>
                  <a:pt x="869" y="228"/>
                </a:lnTo>
                <a:lnTo>
                  <a:pt x="499" y="217"/>
                </a:lnTo>
                <a:lnTo>
                  <a:pt x="130" y="190"/>
                </a:lnTo>
                <a:lnTo>
                  <a:pt x="68" y="179"/>
                </a:lnTo>
                <a:lnTo>
                  <a:pt x="26" y="153"/>
                </a:lnTo>
                <a:lnTo>
                  <a:pt x="0" y="85"/>
                </a:lnTo>
                <a:lnTo>
                  <a:pt x="13" y="51"/>
                </a:lnTo>
                <a:lnTo>
                  <a:pt x="45" y="21"/>
                </a:lnTo>
                <a:lnTo>
                  <a:pt x="94" y="4"/>
                </a:lnTo>
                <a:lnTo>
                  <a:pt x="159" y="0"/>
                </a:lnTo>
                <a:lnTo>
                  <a:pt x="159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6418440" y="6267600"/>
            <a:ext cx="1827000" cy="339480"/>
          </a:xfrm>
          <a:custGeom>
            <a:avLst/>
            <a:gdLst/>
            <a:ahLst/>
            <a:rect l="l" t="t" r="r" b="b"/>
            <a:pathLst>
              <a:path w="1151" h="214">
                <a:moveTo>
                  <a:pt x="74" y="45"/>
                </a:moveTo>
                <a:lnTo>
                  <a:pt x="360" y="26"/>
                </a:lnTo>
                <a:lnTo>
                  <a:pt x="493" y="9"/>
                </a:lnTo>
                <a:lnTo>
                  <a:pt x="645" y="0"/>
                </a:lnTo>
                <a:lnTo>
                  <a:pt x="862" y="11"/>
                </a:lnTo>
                <a:lnTo>
                  <a:pt x="1070" y="47"/>
                </a:lnTo>
                <a:lnTo>
                  <a:pt x="1119" y="66"/>
                </a:lnTo>
                <a:lnTo>
                  <a:pt x="1148" y="92"/>
                </a:lnTo>
                <a:lnTo>
                  <a:pt x="1151" y="154"/>
                </a:lnTo>
                <a:lnTo>
                  <a:pt x="1128" y="184"/>
                </a:lnTo>
                <a:lnTo>
                  <a:pt x="1093" y="203"/>
                </a:lnTo>
                <a:lnTo>
                  <a:pt x="1044" y="214"/>
                </a:lnTo>
                <a:lnTo>
                  <a:pt x="989" y="209"/>
                </a:lnTo>
                <a:lnTo>
                  <a:pt x="817" y="186"/>
                </a:lnTo>
                <a:lnTo>
                  <a:pt x="642" y="182"/>
                </a:lnTo>
                <a:lnTo>
                  <a:pt x="353" y="162"/>
                </a:lnTo>
                <a:lnTo>
                  <a:pt x="220" y="148"/>
                </a:lnTo>
                <a:lnTo>
                  <a:pt x="64" y="137"/>
                </a:lnTo>
                <a:lnTo>
                  <a:pt x="13" y="122"/>
                </a:lnTo>
                <a:lnTo>
                  <a:pt x="0" y="88"/>
                </a:lnTo>
                <a:lnTo>
                  <a:pt x="19" y="58"/>
                </a:lnTo>
                <a:lnTo>
                  <a:pt x="74" y="45"/>
                </a:lnTo>
                <a:lnTo>
                  <a:pt x="74" y="4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未知"/>
          <p:cNvSpPr/>
          <p:nvPr/>
        </p:nvSpPr>
        <p:spPr>
          <a:xfrm>
            <a:off x="9672480" y="1060560"/>
            <a:ext cx="530280" cy="1120680"/>
          </a:xfrm>
          <a:custGeom>
            <a:avLst/>
            <a:gdLst/>
            <a:ahLst/>
            <a:rect l="l" t="t" r="r" b="b"/>
            <a:pathLst>
              <a:path w="334" h="706">
                <a:moveTo>
                  <a:pt x="334" y="108"/>
                </a:moveTo>
                <a:lnTo>
                  <a:pt x="311" y="241"/>
                </a:lnTo>
                <a:lnTo>
                  <a:pt x="282" y="360"/>
                </a:lnTo>
                <a:lnTo>
                  <a:pt x="272" y="612"/>
                </a:lnTo>
                <a:lnTo>
                  <a:pt x="269" y="648"/>
                </a:lnTo>
                <a:lnTo>
                  <a:pt x="243" y="678"/>
                </a:lnTo>
                <a:lnTo>
                  <a:pt x="204" y="697"/>
                </a:lnTo>
                <a:lnTo>
                  <a:pt x="159" y="706"/>
                </a:lnTo>
                <a:lnTo>
                  <a:pt x="68" y="691"/>
                </a:lnTo>
                <a:lnTo>
                  <a:pt x="16" y="629"/>
                </a:lnTo>
                <a:lnTo>
                  <a:pt x="0" y="362"/>
                </a:lnTo>
                <a:lnTo>
                  <a:pt x="22" y="96"/>
                </a:lnTo>
                <a:lnTo>
                  <a:pt x="42" y="51"/>
                </a:lnTo>
                <a:lnTo>
                  <a:pt x="77" y="21"/>
                </a:lnTo>
                <a:lnTo>
                  <a:pt x="129" y="4"/>
                </a:lnTo>
                <a:lnTo>
                  <a:pt x="188" y="0"/>
                </a:lnTo>
                <a:lnTo>
                  <a:pt x="292" y="29"/>
                </a:lnTo>
                <a:lnTo>
                  <a:pt x="334" y="108"/>
                </a:lnTo>
                <a:lnTo>
                  <a:pt x="334" y="10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未知"/>
          <p:cNvSpPr/>
          <p:nvPr/>
        </p:nvSpPr>
        <p:spPr>
          <a:xfrm>
            <a:off x="9728280" y="2668680"/>
            <a:ext cx="438120" cy="1276200"/>
          </a:xfrm>
          <a:custGeom>
            <a:avLst/>
            <a:gdLst/>
            <a:ahLst/>
            <a:rect l="l" t="t" r="r" b="b"/>
            <a:pathLst>
              <a:path w="276" h="804">
                <a:moveTo>
                  <a:pt x="244" y="79"/>
                </a:moveTo>
                <a:lnTo>
                  <a:pt x="276" y="723"/>
                </a:lnTo>
                <a:lnTo>
                  <a:pt x="263" y="759"/>
                </a:lnTo>
                <a:lnTo>
                  <a:pt x="231" y="785"/>
                </a:lnTo>
                <a:lnTo>
                  <a:pt x="188" y="800"/>
                </a:lnTo>
                <a:lnTo>
                  <a:pt x="143" y="804"/>
                </a:lnTo>
                <a:lnTo>
                  <a:pt x="55" y="778"/>
                </a:lnTo>
                <a:lnTo>
                  <a:pt x="20" y="714"/>
                </a:lnTo>
                <a:lnTo>
                  <a:pt x="26" y="546"/>
                </a:lnTo>
                <a:lnTo>
                  <a:pt x="20" y="399"/>
                </a:lnTo>
                <a:lnTo>
                  <a:pt x="0" y="81"/>
                </a:lnTo>
                <a:lnTo>
                  <a:pt x="10" y="47"/>
                </a:lnTo>
                <a:lnTo>
                  <a:pt x="36" y="21"/>
                </a:lnTo>
                <a:lnTo>
                  <a:pt x="75" y="4"/>
                </a:lnTo>
                <a:lnTo>
                  <a:pt x="120" y="0"/>
                </a:lnTo>
                <a:lnTo>
                  <a:pt x="205" y="19"/>
                </a:lnTo>
                <a:lnTo>
                  <a:pt x="244" y="79"/>
                </a:lnTo>
                <a:lnTo>
                  <a:pt x="244" y="7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未知"/>
          <p:cNvSpPr/>
          <p:nvPr/>
        </p:nvSpPr>
        <p:spPr>
          <a:xfrm>
            <a:off x="9636120" y="4330800"/>
            <a:ext cx="530280" cy="976320"/>
          </a:xfrm>
          <a:custGeom>
            <a:avLst/>
            <a:gdLst/>
            <a:ahLst/>
            <a:rect l="l" t="t" r="r" b="b"/>
            <a:pathLst>
              <a:path w="334" h="615">
                <a:moveTo>
                  <a:pt x="253" y="71"/>
                </a:moveTo>
                <a:lnTo>
                  <a:pt x="334" y="542"/>
                </a:lnTo>
                <a:lnTo>
                  <a:pt x="308" y="580"/>
                </a:lnTo>
                <a:lnTo>
                  <a:pt x="289" y="595"/>
                </a:lnTo>
                <a:lnTo>
                  <a:pt x="266" y="606"/>
                </a:lnTo>
                <a:lnTo>
                  <a:pt x="159" y="615"/>
                </a:lnTo>
                <a:lnTo>
                  <a:pt x="68" y="578"/>
                </a:lnTo>
                <a:lnTo>
                  <a:pt x="49" y="544"/>
                </a:lnTo>
                <a:lnTo>
                  <a:pt x="49" y="501"/>
                </a:lnTo>
                <a:lnTo>
                  <a:pt x="68" y="395"/>
                </a:lnTo>
                <a:lnTo>
                  <a:pt x="58" y="299"/>
                </a:lnTo>
                <a:lnTo>
                  <a:pt x="29" y="205"/>
                </a:lnTo>
                <a:lnTo>
                  <a:pt x="0" y="96"/>
                </a:lnTo>
                <a:lnTo>
                  <a:pt x="3" y="60"/>
                </a:lnTo>
                <a:lnTo>
                  <a:pt x="26" y="30"/>
                </a:lnTo>
                <a:lnTo>
                  <a:pt x="62" y="11"/>
                </a:lnTo>
                <a:lnTo>
                  <a:pt x="107" y="0"/>
                </a:lnTo>
                <a:lnTo>
                  <a:pt x="198" y="11"/>
                </a:lnTo>
                <a:lnTo>
                  <a:pt x="253" y="71"/>
                </a:lnTo>
                <a:lnTo>
                  <a:pt x="253" y="7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未知"/>
          <p:cNvSpPr/>
          <p:nvPr/>
        </p:nvSpPr>
        <p:spPr>
          <a:xfrm>
            <a:off x="6912000" y="-90360"/>
            <a:ext cx="1622520" cy="287280"/>
          </a:xfrm>
          <a:custGeom>
            <a:avLst/>
            <a:gdLst/>
            <a:ahLst/>
            <a:rect l="l" t="t" r="r" b="b"/>
            <a:pathLst>
              <a:path w="1022" h="184">
                <a:moveTo>
                  <a:pt x="88" y="49"/>
                </a:moveTo>
                <a:lnTo>
                  <a:pt x="483" y="24"/>
                </a:lnTo>
                <a:lnTo>
                  <a:pt x="671" y="9"/>
                </a:lnTo>
                <a:lnTo>
                  <a:pt x="882" y="0"/>
                </a:lnTo>
                <a:lnTo>
                  <a:pt x="941" y="9"/>
                </a:lnTo>
                <a:lnTo>
                  <a:pt x="986" y="30"/>
                </a:lnTo>
                <a:lnTo>
                  <a:pt x="1022" y="92"/>
                </a:lnTo>
                <a:lnTo>
                  <a:pt x="1012" y="126"/>
                </a:lnTo>
                <a:lnTo>
                  <a:pt x="986" y="154"/>
                </a:lnTo>
                <a:lnTo>
                  <a:pt x="941" y="175"/>
                </a:lnTo>
                <a:lnTo>
                  <a:pt x="882" y="184"/>
                </a:lnTo>
                <a:lnTo>
                  <a:pt x="88" y="164"/>
                </a:lnTo>
                <a:lnTo>
                  <a:pt x="19" y="145"/>
                </a:lnTo>
                <a:lnTo>
                  <a:pt x="0" y="107"/>
                </a:lnTo>
                <a:lnTo>
                  <a:pt x="19" y="66"/>
                </a:lnTo>
                <a:lnTo>
                  <a:pt x="49" y="54"/>
                </a:lnTo>
                <a:lnTo>
                  <a:pt x="88" y="49"/>
                </a:lnTo>
                <a:lnTo>
                  <a:pt x="88" y="4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未知"/>
          <p:cNvSpPr/>
          <p:nvPr/>
        </p:nvSpPr>
        <p:spPr>
          <a:xfrm>
            <a:off x="1695600" y="-22320"/>
            <a:ext cx="1915920" cy="344520"/>
          </a:xfrm>
          <a:custGeom>
            <a:avLst/>
            <a:gdLst/>
            <a:ahLst/>
            <a:rect l="l" t="t" r="r" b="b"/>
            <a:pathLst>
              <a:path w="1207" h="220">
                <a:moveTo>
                  <a:pt x="114" y="40"/>
                </a:moveTo>
                <a:lnTo>
                  <a:pt x="376" y="13"/>
                </a:lnTo>
                <a:lnTo>
                  <a:pt x="610" y="0"/>
                </a:lnTo>
                <a:lnTo>
                  <a:pt x="847" y="4"/>
                </a:lnTo>
                <a:lnTo>
                  <a:pt x="1106" y="32"/>
                </a:lnTo>
                <a:lnTo>
                  <a:pt x="1161" y="47"/>
                </a:lnTo>
                <a:lnTo>
                  <a:pt x="1194" y="72"/>
                </a:lnTo>
                <a:lnTo>
                  <a:pt x="1207" y="134"/>
                </a:lnTo>
                <a:lnTo>
                  <a:pt x="1187" y="164"/>
                </a:lnTo>
                <a:lnTo>
                  <a:pt x="1155" y="185"/>
                </a:lnTo>
                <a:lnTo>
                  <a:pt x="1109" y="198"/>
                </a:lnTo>
                <a:lnTo>
                  <a:pt x="1051" y="198"/>
                </a:lnTo>
                <a:lnTo>
                  <a:pt x="817" y="175"/>
                </a:lnTo>
                <a:lnTo>
                  <a:pt x="607" y="177"/>
                </a:lnTo>
                <a:lnTo>
                  <a:pt x="162" y="220"/>
                </a:lnTo>
                <a:lnTo>
                  <a:pt x="101" y="220"/>
                </a:lnTo>
                <a:lnTo>
                  <a:pt x="52" y="205"/>
                </a:lnTo>
                <a:lnTo>
                  <a:pt x="3" y="147"/>
                </a:lnTo>
                <a:lnTo>
                  <a:pt x="0" y="130"/>
                </a:lnTo>
                <a:lnTo>
                  <a:pt x="3" y="113"/>
                </a:lnTo>
                <a:lnTo>
                  <a:pt x="19" y="81"/>
                </a:lnTo>
                <a:lnTo>
                  <a:pt x="58" y="55"/>
                </a:lnTo>
                <a:lnTo>
                  <a:pt x="114" y="40"/>
                </a:lnTo>
                <a:lnTo>
                  <a:pt x="114" y="4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未知"/>
          <p:cNvSpPr/>
          <p:nvPr/>
        </p:nvSpPr>
        <p:spPr>
          <a:xfrm>
            <a:off x="4197240" y="-12600"/>
            <a:ext cx="1900440" cy="299880"/>
          </a:xfrm>
          <a:custGeom>
            <a:avLst/>
            <a:gdLst/>
            <a:ahLst/>
            <a:rect l="l" t="t" r="r" b="b"/>
            <a:pathLst>
              <a:path w="1197" h="192">
                <a:moveTo>
                  <a:pt x="127" y="0"/>
                </a:moveTo>
                <a:lnTo>
                  <a:pt x="601" y="11"/>
                </a:lnTo>
                <a:lnTo>
                  <a:pt x="1071" y="22"/>
                </a:lnTo>
                <a:lnTo>
                  <a:pt x="1126" y="28"/>
                </a:lnTo>
                <a:lnTo>
                  <a:pt x="1165" y="47"/>
                </a:lnTo>
                <a:lnTo>
                  <a:pt x="1197" y="107"/>
                </a:lnTo>
                <a:lnTo>
                  <a:pt x="1191" y="137"/>
                </a:lnTo>
                <a:lnTo>
                  <a:pt x="1165" y="165"/>
                </a:lnTo>
                <a:lnTo>
                  <a:pt x="1126" y="184"/>
                </a:lnTo>
                <a:lnTo>
                  <a:pt x="1071" y="192"/>
                </a:lnTo>
                <a:lnTo>
                  <a:pt x="601" y="179"/>
                </a:lnTo>
                <a:lnTo>
                  <a:pt x="127" y="169"/>
                </a:lnTo>
                <a:lnTo>
                  <a:pt x="72" y="162"/>
                </a:lnTo>
                <a:lnTo>
                  <a:pt x="33" y="143"/>
                </a:lnTo>
                <a:lnTo>
                  <a:pt x="0" y="83"/>
                </a:lnTo>
                <a:lnTo>
                  <a:pt x="7" y="54"/>
                </a:lnTo>
                <a:lnTo>
                  <a:pt x="33" y="26"/>
                </a:lnTo>
                <a:lnTo>
                  <a:pt x="72" y="7"/>
                </a:lnTo>
                <a:lnTo>
                  <a:pt x="127" y="0"/>
                </a:lnTo>
                <a:lnTo>
                  <a:pt x="127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未知"/>
          <p:cNvSpPr/>
          <p:nvPr/>
        </p:nvSpPr>
        <p:spPr>
          <a:xfrm>
            <a:off x="-473040" y="968400"/>
            <a:ext cx="515880" cy="1493640"/>
          </a:xfrm>
          <a:custGeom>
            <a:avLst/>
            <a:gdLst/>
            <a:ahLst/>
            <a:rect l="l" t="t" r="r" b="b"/>
            <a:pathLst>
              <a:path w="328" h="941">
                <a:moveTo>
                  <a:pt x="328" y="96"/>
                </a:moveTo>
                <a:lnTo>
                  <a:pt x="295" y="303"/>
                </a:lnTo>
                <a:lnTo>
                  <a:pt x="273" y="397"/>
                </a:lnTo>
                <a:lnTo>
                  <a:pt x="250" y="486"/>
                </a:lnTo>
                <a:lnTo>
                  <a:pt x="192" y="877"/>
                </a:lnTo>
                <a:lnTo>
                  <a:pt x="182" y="904"/>
                </a:lnTo>
                <a:lnTo>
                  <a:pt x="159" y="924"/>
                </a:lnTo>
                <a:lnTo>
                  <a:pt x="94" y="941"/>
                </a:lnTo>
                <a:lnTo>
                  <a:pt x="29" y="924"/>
                </a:lnTo>
                <a:lnTo>
                  <a:pt x="0" y="877"/>
                </a:lnTo>
                <a:lnTo>
                  <a:pt x="16" y="482"/>
                </a:lnTo>
                <a:lnTo>
                  <a:pt x="49" y="85"/>
                </a:lnTo>
                <a:lnTo>
                  <a:pt x="65" y="47"/>
                </a:lnTo>
                <a:lnTo>
                  <a:pt x="101" y="19"/>
                </a:lnTo>
                <a:lnTo>
                  <a:pt x="146" y="4"/>
                </a:lnTo>
                <a:lnTo>
                  <a:pt x="195" y="0"/>
                </a:lnTo>
                <a:lnTo>
                  <a:pt x="289" y="26"/>
                </a:lnTo>
                <a:lnTo>
                  <a:pt x="328" y="96"/>
                </a:lnTo>
                <a:lnTo>
                  <a:pt x="328" y="9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未知"/>
          <p:cNvSpPr/>
          <p:nvPr/>
        </p:nvSpPr>
        <p:spPr>
          <a:xfrm>
            <a:off x="-1085760" y="5516640"/>
            <a:ext cx="1797120" cy="1150920"/>
          </a:xfrm>
          <a:custGeom>
            <a:avLst/>
            <a:gdLst/>
            <a:ahLst/>
            <a:rect l="l" t="t" r="r" b="b"/>
            <a:pathLst>
              <a:path w="1135" h="725">
                <a:moveTo>
                  <a:pt x="29" y="307"/>
                </a:moveTo>
                <a:lnTo>
                  <a:pt x="39" y="288"/>
                </a:lnTo>
                <a:lnTo>
                  <a:pt x="75" y="273"/>
                </a:lnTo>
                <a:lnTo>
                  <a:pt x="182" y="249"/>
                </a:lnTo>
                <a:lnTo>
                  <a:pt x="396" y="228"/>
                </a:lnTo>
                <a:lnTo>
                  <a:pt x="422" y="145"/>
                </a:lnTo>
                <a:lnTo>
                  <a:pt x="445" y="74"/>
                </a:lnTo>
                <a:lnTo>
                  <a:pt x="467" y="45"/>
                </a:lnTo>
                <a:lnTo>
                  <a:pt x="493" y="23"/>
                </a:lnTo>
                <a:lnTo>
                  <a:pt x="535" y="0"/>
                </a:lnTo>
                <a:lnTo>
                  <a:pt x="571" y="0"/>
                </a:lnTo>
                <a:lnTo>
                  <a:pt x="603" y="21"/>
                </a:lnTo>
                <a:lnTo>
                  <a:pt x="665" y="102"/>
                </a:lnTo>
                <a:lnTo>
                  <a:pt x="704" y="153"/>
                </a:lnTo>
                <a:lnTo>
                  <a:pt x="746" y="205"/>
                </a:lnTo>
                <a:lnTo>
                  <a:pt x="876" y="190"/>
                </a:lnTo>
                <a:lnTo>
                  <a:pt x="986" y="175"/>
                </a:lnTo>
                <a:lnTo>
                  <a:pt x="1122" y="175"/>
                </a:lnTo>
                <a:lnTo>
                  <a:pt x="1135" y="192"/>
                </a:lnTo>
                <a:lnTo>
                  <a:pt x="1106" y="228"/>
                </a:lnTo>
                <a:lnTo>
                  <a:pt x="1074" y="254"/>
                </a:lnTo>
                <a:lnTo>
                  <a:pt x="1028" y="286"/>
                </a:lnTo>
                <a:lnTo>
                  <a:pt x="999" y="305"/>
                </a:lnTo>
                <a:lnTo>
                  <a:pt x="970" y="324"/>
                </a:lnTo>
                <a:lnTo>
                  <a:pt x="934" y="345"/>
                </a:lnTo>
                <a:lnTo>
                  <a:pt x="895" y="367"/>
                </a:lnTo>
                <a:lnTo>
                  <a:pt x="944" y="435"/>
                </a:lnTo>
                <a:lnTo>
                  <a:pt x="986" y="507"/>
                </a:lnTo>
                <a:lnTo>
                  <a:pt x="1028" y="655"/>
                </a:lnTo>
                <a:lnTo>
                  <a:pt x="1015" y="708"/>
                </a:lnTo>
                <a:lnTo>
                  <a:pt x="996" y="721"/>
                </a:lnTo>
                <a:lnTo>
                  <a:pt x="973" y="725"/>
                </a:lnTo>
                <a:lnTo>
                  <a:pt x="827" y="682"/>
                </a:lnTo>
                <a:lnTo>
                  <a:pt x="785" y="663"/>
                </a:lnTo>
                <a:lnTo>
                  <a:pt x="743" y="642"/>
                </a:lnTo>
                <a:lnTo>
                  <a:pt x="701" y="618"/>
                </a:lnTo>
                <a:lnTo>
                  <a:pt x="662" y="597"/>
                </a:lnTo>
                <a:lnTo>
                  <a:pt x="626" y="578"/>
                </a:lnTo>
                <a:lnTo>
                  <a:pt x="594" y="561"/>
                </a:lnTo>
                <a:lnTo>
                  <a:pt x="545" y="537"/>
                </a:lnTo>
                <a:lnTo>
                  <a:pt x="493" y="563"/>
                </a:lnTo>
                <a:lnTo>
                  <a:pt x="448" y="586"/>
                </a:lnTo>
                <a:lnTo>
                  <a:pt x="402" y="610"/>
                </a:lnTo>
                <a:lnTo>
                  <a:pt x="360" y="631"/>
                </a:lnTo>
                <a:lnTo>
                  <a:pt x="325" y="648"/>
                </a:lnTo>
                <a:lnTo>
                  <a:pt x="289" y="663"/>
                </a:lnTo>
                <a:lnTo>
                  <a:pt x="240" y="678"/>
                </a:lnTo>
                <a:lnTo>
                  <a:pt x="211" y="672"/>
                </a:lnTo>
                <a:lnTo>
                  <a:pt x="204" y="633"/>
                </a:lnTo>
                <a:lnTo>
                  <a:pt x="227" y="563"/>
                </a:lnTo>
                <a:lnTo>
                  <a:pt x="250" y="512"/>
                </a:lnTo>
                <a:lnTo>
                  <a:pt x="279" y="450"/>
                </a:lnTo>
                <a:lnTo>
                  <a:pt x="208" y="431"/>
                </a:lnTo>
                <a:lnTo>
                  <a:pt x="91" y="394"/>
                </a:lnTo>
                <a:lnTo>
                  <a:pt x="7" y="350"/>
                </a:lnTo>
                <a:lnTo>
                  <a:pt x="0" y="328"/>
                </a:lnTo>
                <a:lnTo>
                  <a:pt x="29" y="307"/>
                </a:lnTo>
                <a:lnTo>
                  <a:pt x="29" y="307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未知"/>
          <p:cNvSpPr/>
          <p:nvPr/>
        </p:nvSpPr>
        <p:spPr>
          <a:xfrm>
            <a:off x="8791560" y="-357120"/>
            <a:ext cx="1801800" cy="1146240"/>
          </a:xfrm>
          <a:custGeom>
            <a:avLst/>
            <a:gdLst/>
            <a:ahLst/>
            <a:rect l="l" t="t" r="r" b="b"/>
            <a:pathLst>
              <a:path w="1135" h="725">
                <a:moveTo>
                  <a:pt x="26" y="307"/>
                </a:moveTo>
                <a:lnTo>
                  <a:pt x="39" y="290"/>
                </a:lnTo>
                <a:lnTo>
                  <a:pt x="71" y="273"/>
                </a:lnTo>
                <a:lnTo>
                  <a:pt x="182" y="251"/>
                </a:lnTo>
                <a:lnTo>
                  <a:pt x="392" y="230"/>
                </a:lnTo>
                <a:lnTo>
                  <a:pt x="418" y="147"/>
                </a:lnTo>
                <a:lnTo>
                  <a:pt x="441" y="74"/>
                </a:lnTo>
                <a:lnTo>
                  <a:pt x="467" y="45"/>
                </a:lnTo>
                <a:lnTo>
                  <a:pt x="490" y="23"/>
                </a:lnTo>
                <a:lnTo>
                  <a:pt x="532" y="0"/>
                </a:lnTo>
                <a:lnTo>
                  <a:pt x="568" y="2"/>
                </a:lnTo>
                <a:lnTo>
                  <a:pt x="600" y="21"/>
                </a:lnTo>
                <a:lnTo>
                  <a:pt x="665" y="102"/>
                </a:lnTo>
                <a:lnTo>
                  <a:pt x="701" y="153"/>
                </a:lnTo>
                <a:lnTo>
                  <a:pt x="743" y="207"/>
                </a:lnTo>
                <a:lnTo>
                  <a:pt x="872" y="190"/>
                </a:lnTo>
                <a:lnTo>
                  <a:pt x="983" y="177"/>
                </a:lnTo>
                <a:lnTo>
                  <a:pt x="1119" y="175"/>
                </a:lnTo>
                <a:lnTo>
                  <a:pt x="1135" y="194"/>
                </a:lnTo>
                <a:lnTo>
                  <a:pt x="1106" y="230"/>
                </a:lnTo>
                <a:lnTo>
                  <a:pt x="1074" y="256"/>
                </a:lnTo>
                <a:lnTo>
                  <a:pt x="1028" y="286"/>
                </a:lnTo>
                <a:lnTo>
                  <a:pt x="999" y="305"/>
                </a:lnTo>
                <a:lnTo>
                  <a:pt x="967" y="324"/>
                </a:lnTo>
                <a:lnTo>
                  <a:pt x="931" y="345"/>
                </a:lnTo>
                <a:lnTo>
                  <a:pt x="892" y="369"/>
                </a:lnTo>
                <a:lnTo>
                  <a:pt x="944" y="437"/>
                </a:lnTo>
                <a:lnTo>
                  <a:pt x="983" y="507"/>
                </a:lnTo>
                <a:lnTo>
                  <a:pt x="1025" y="655"/>
                </a:lnTo>
                <a:lnTo>
                  <a:pt x="1012" y="708"/>
                </a:lnTo>
                <a:lnTo>
                  <a:pt x="996" y="721"/>
                </a:lnTo>
                <a:lnTo>
                  <a:pt x="970" y="725"/>
                </a:lnTo>
                <a:lnTo>
                  <a:pt x="824" y="682"/>
                </a:lnTo>
                <a:lnTo>
                  <a:pt x="782" y="663"/>
                </a:lnTo>
                <a:lnTo>
                  <a:pt x="739" y="642"/>
                </a:lnTo>
                <a:lnTo>
                  <a:pt x="697" y="620"/>
                </a:lnTo>
                <a:lnTo>
                  <a:pt x="658" y="597"/>
                </a:lnTo>
                <a:lnTo>
                  <a:pt x="623" y="578"/>
                </a:lnTo>
                <a:lnTo>
                  <a:pt x="590" y="561"/>
                </a:lnTo>
                <a:lnTo>
                  <a:pt x="545" y="539"/>
                </a:lnTo>
                <a:lnTo>
                  <a:pt x="493" y="563"/>
                </a:lnTo>
                <a:lnTo>
                  <a:pt x="444" y="586"/>
                </a:lnTo>
                <a:lnTo>
                  <a:pt x="399" y="610"/>
                </a:lnTo>
                <a:lnTo>
                  <a:pt x="357" y="631"/>
                </a:lnTo>
                <a:lnTo>
                  <a:pt x="321" y="648"/>
                </a:lnTo>
                <a:lnTo>
                  <a:pt x="289" y="663"/>
                </a:lnTo>
                <a:lnTo>
                  <a:pt x="237" y="678"/>
                </a:lnTo>
                <a:lnTo>
                  <a:pt x="208" y="672"/>
                </a:lnTo>
                <a:lnTo>
                  <a:pt x="201" y="635"/>
                </a:lnTo>
                <a:lnTo>
                  <a:pt x="224" y="563"/>
                </a:lnTo>
                <a:lnTo>
                  <a:pt x="246" y="514"/>
                </a:lnTo>
                <a:lnTo>
                  <a:pt x="276" y="452"/>
                </a:lnTo>
                <a:lnTo>
                  <a:pt x="204" y="431"/>
                </a:lnTo>
                <a:lnTo>
                  <a:pt x="91" y="394"/>
                </a:lnTo>
                <a:lnTo>
                  <a:pt x="6" y="352"/>
                </a:lnTo>
                <a:lnTo>
                  <a:pt x="0" y="328"/>
                </a:lnTo>
                <a:lnTo>
                  <a:pt x="26" y="307"/>
                </a:lnTo>
                <a:lnTo>
                  <a:pt x="26" y="307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未知"/>
          <p:cNvSpPr/>
          <p:nvPr/>
        </p:nvSpPr>
        <p:spPr>
          <a:xfrm>
            <a:off x="8929800" y="5618160"/>
            <a:ext cx="1803240" cy="1150920"/>
          </a:xfrm>
          <a:custGeom>
            <a:avLst/>
            <a:gdLst/>
            <a:ahLst/>
            <a:rect l="l" t="t" r="r" b="b"/>
            <a:pathLst>
              <a:path w="1136" h="725">
                <a:moveTo>
                  <a:pt x="30" y="307"/>
                </a:moveTo>
                <a:lnTo>
                  <a:pt x="39" y="290"/>
                </a:lnTo>
                <a:lnTo>
                  <a:pt x="72" y="275"/>
                </a:lnTo>
                <a:lnTo>
                  <a:pt x="182" y="251"/>
                </a:lnTo>
                <a:lnTo>
                  <a:pt x="396" y="230"/>
                </a:lnTo>
                <a:lnTo>
                  <a:pt x="419" y="147"/>
                </a:lnTo>
                <a:lnTo>
                  <a:pt x="442" y="77"/>
                </a:lnTo>
                <a:lnTo>
                  <a:pt x="468" y="45"/>
                </a:lnTo>
                <a:lnTo>
                  <a:pt x="494" y="23"/>
                </a:lnTo>
                <a:lnTo>
                  <a:pt x="532" y="0"/>
                </a:lnTo>
                <a:lnTo>
                  <a:pt x="568" y="2"/>
                </a:lnTo>
                <a:lnTo>
                  <a:pt x="601" y="21"/>
                </a:lnTo>
                <a:lnTo>
                  <a:pt x="665" y="104"/>
                </a:lnTo>
                <a:lnTo>
                  <a:pt x="701" y="156"/>
                </a:lnTo>
                <a:lnTo>
                  <a:pt x="743" y="207"/>
                </a:lnTo>
                <a:lnTo>
                  <a:pt x="876" y="190"/>
                </a:lnTo>
                <a:lnTo>
                  <a:pt x="987" y="177"/>
                </a:lnTo>
                <a:lnTo>
                  <a:pt x="1123" y="175"/>
                </a:lnTo>
                <a:lnTo>
                  <a:pt x="1136" y="194"/>
                </a:lnTo>
                <a:lnTo>
                  <a:pt x="1107" y="230"/>
                </a:lnTo>
                <a:lnTo>
                  <a:pt x="1074" y="256"/>
                </a:lnTo>
                <a:lnTo>
                  <a:pt x="1029" y="288"/>
                </a:lnTo>
                <a:lnTo>
                  <a:pt x="1000" y="305"/>
                </a:lnTo>
                <a:lnTo>
                  <a:pt x="967" y="324"/>
                </a:lnTo>
                <a:lnTo>
                  <a:pt x="931" y="345"/>
                </a:lnTo>
                <a:lnTo>
                  <a:pt x="893" y="369"/>
                </a:lnTo>
                <a:lnTo>
                  <a:pt x="944" y="437"/>
                </a:lnTo>
                <a:lnTo>
                  <a:pt x="983" y="507"/>
                </a:lnTo>
                <a:lnTo>
                  <a:pt x="1026" y="655"/>
                </a:lnTo>
                <a:lnTo>
                  <a:pt x="1016" y="708"/>
                </a:lnTo>
                <a:lnTo>
                  <a:pt x="996" y="721"/>
                </a:lnTo>
                <a:lnTo>
                  <a:pt x="970" y="725"/>
                </a:lnTo>
                <a:lnTo>
                  <a:pt x="828" y="682"/>
                </a:lnTo>
                <a:lnTo>
                  <a:pt x="782" y="663"/>
                </a:lnTo>
                <a:lnTo>
                  <a:pt x="740" y="642"/>
                </a:lnTo>
                <a:lnTo>
                  <a:pt x="701" y="621"/>
                </a:lnTo>
                <a:lnTo>
                  <a:pt x="659" y="599"/>
                </a:lnTo>
                <a:lnTo>
                  <a:pt x="623" y="578"/>
                </a:lnTo>
                <a:lnTo>
                  <a:pt x="591" y="561"/>
                </a:lnTo>
                <a:lnTo>
                  <a:pt x="545" y="539"/>
                </a:lnTo>
                <a:lnTo>
                  <a:pt x="494" y="563"/>
                </a:lnTo>
                <a:lnTo>
                  <a:pt x="445" y="589"/>
                </a:lnTo>
                <a:lnTo>
                  <a:pt x="399" y="610"/>
                </a:lnTo>
                <a:lnTo>
                  <a:pt x="361" y="631"/>
                </a:lnTo>
                <a:lnTo>
                  <a:pt x="322" y="648"/>
                </a:lnTo>
                <a:lnTo>
                  <a:pt x="289" y="663"/>
                </a:lnTo>
                <a:lnTo>
                  <a:pt x="237" y="680"/>
                </a:lnTo>
                <a:lnTo>
                  <a:pt x="208" y="672"/>
                </a:lnTo>
                <a:lnTo>
                  <a:pt x="205" y="635"/>
                </a:lnTo>
                <a:lnTo>
                  <a:pt x="224" y="565"/>
                </a:lnTo>
                <a:lnTo>
                  <a:pt x="247" y="514"/>
                </a:lnTo>
                <a:lnTo>
                  <a:pt x="279" y="452"/>
                </a:lnTo>
                <a:lnTo>
                  <a:pt x="205" y="431"/>
                </a:lnTo>
                <a:lnTo>
                  <a:pt x="91" y="394"/>
                </a:lnTo>
                <a:lnTo>
                  <a:pt x="7" y="352"/>
                </a:lnTo>
                <a:lnTo>
                  <a:pt x="0" y="328"/>
                </a:lnTo>
                <a:lnTo>
                  <a:pt x="30" y="307"/>
                </a:lnTo>
                <a:lnTo>
                  <a:pt x="30" y="307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未知"/>
          <p:cNvSpPr/>
          <p:nvPr/>
        </p:nvSpPr>
        <p:spPr>
          <a:xfrm>
            <a:off x="-647640" y="-314280"/>
            <a:ext cx="1797120" cy="1147680"/>
          </a:xfrm>
          <a:custGeom>
            <a:avLst/>
            <a:gdLst/>
            <a:ahLst/>
            <a:rect l="l" t="t" r="r" b="b"/>
            <a:pathLst>
              <a:path w="1135" h="726">
                <a:moveTo>
                  <a:pt x="29" y="305"/>
                </a:moveTo>
                <a:lnTo>
                  <a:pt x="42" y="288"/>
                </a:lnTo>
                <a:lnTo>
                  <a:pt x="74" y="273"/>
                </a:lnTo>
                <a:lnTo>
                  <a:pt x="182" y="250"/>
                </a:lnTo>
                <a:lnTo>
                  <a:pt x="396" y="229"/>
                </a:lnTo>
                <a:lnTo>
                  <a:pt x="422" y="146"/>
                </a:lnTo>
                <a:lnTo>
                  <a:pt x="444" y="75"/>
                </a:lnTo>
                <a:lnTo>
                  <a:pt x="467" y="45"/>
                </a:lnTo>
                <a:lnTo>
                  <a:pt x="493" y="24"/>
                </a:lnTo>
                <a:lnTo>
                  <a:pt x="535" y="0"/>
                </a:lnTo>
                <a:lnTo>
                  <a:pt x="571" y="0"/>
                </a:lnTo>
                <a:lnTo>
                  <a:pt x="603" y="22"/>
                </a:lnTo>
                <a:lnTo>
                  <a:pt x="665" y="103"/>
                </a:lnTo>
                <a:lnTo>
                  <a:pt x="704" y="154"/>
                </a:lnTo>
                <a:lnTo>
                  <a:pt x="746" y="205"/>
                </a:lnTo>
                <a:lnTo>
                  <a:pt x="876" y="188"/>
                </a:lnTo>
                <a:lnTo>
                  <a:pt x="986" y="175"/>
                </a:lnTo>
                <a:lnTo>
                  <a:pt x="1122" y="175"/>
                </a:lnTo>
                <a:lnTo>
                  <a:pt x="1135" y="192"/>
                </a:lnTo>
                <a:lnTo>
                  <a:pt x="1109" y="229"/>
                </a:lnTo>
                <a:lnTo>
                  <a:pt x="1074" y="254"/>
                </a:lnTo>
                <a:lnTo>
                  <a:pt x="1028" y="286"/>
                </a:lnTo>
                <a:lnTo>
                  <a:pt x="999" y="305"/>
                </a:lnTo>
                <a:lnTo>
                  <a:pt x="970" y="325"/>
                </a:lnTo>
                <a:lnTo>
                  <a:pt x="934" y="346"/>
                </a:lnTo>
                <a:lnTo>
                  <a:pt x="895" y="369"/>
                </a:lnTo>
                <a:lnTo>
                  <a:pt x="944" y="436"/>
                </a:lnTo>
                <a:lnTo>
                  <a:pt x="986" y="506"/>
                </a:lnTo>
                <a:lnTo>
                  <a:pt x="1028" y="655"/>
                </a:lnTo>
                <a:lnTo>
                  <a:pt x="1015" y="709"/>
                </a:lnTo>
                <a:lnTo>
                  <a:pt x="999" y="721"/>
                </a:lnTo>
                <a:lnTo>
                  <a:pt x="973" y="726"/>
                </a:lnTo>
                <a:lnTo>
                  <a:pt x="827" y="683"/>
                </a:lnTo>
                <a:lnTo>
                  <a:pt x="785" y="664"/>
                </a:lnTo>
                <a:lnTo>
                  <a:pt x="743" y="643"/>
                </a:lnTo>
                <a:lnTo>
                  <a:pt x="701" y="619"/>
                </a:lnTo>
                <a:lnTo>
                  <a:pt x="662" y="598"/>
                </a:lnTo>
                <a:lnTo>
                  <a:pt x="626" y="579"/>
                </a:lnTo>
                <a:lnTo>
                  <a:pt x="593" y="561"/>
                </a:lnTo>
                <a:lnTo>
                  <a:pt x="545" y="538"/>
                </a:lnTo>
                <a:lnTo>
                  <a:pt x="493" y="564"/>
                </a:lnTo>
                <a:lnTo>
                  <a:pt x="447" y="587"/>
                </a:lnTo>
                <a:lnTo>
                  <a:pt x="402" y="611"/>
                </a:lnTo>
                <a:lnTo>
                  <a:pt x="360" y="632"/>
                </a:lnTo>
                <a:lnTo>
                  <a:pt x="324" y="649"/>
                </a:lnTo>
                <a:lnTo>
                  <a:pt x="289" y="664"/>
                </a:lnTo>
                <a:lnTo>
                  <a:pt x="240" y="679"/>
                </a:lnTo>
                <a:lnTo>
                  <a:pt x="211" y="672"/>
                </a:lnTo>
                <a:lnTo>
                  <a:pt x="204" y="636"/>
                </a:lnTo>
                <a:lnTo>
                  <a:pt x="227" y="564"/>
                </a:lnTo>
                <a:lnTo>
                  <a:pt x="250" y="512"/>
                </a:lnTo>
                <a:lnTo>
                  <a:pt x="279" y="451"/>
                </a:lnTo>
                <a:lnTo>
                  <a:pt x="207" y="431"/>
                </a:lnTo>
                <a:lnTo>
                  <a:pt x="91" y="395"/>
                </a:lnTo>
                <a:lnTo>
                  <a:pt x="10" y="350"/>
                </a:lnTo>
                <a:lnTo>
                  <a:pt x="0" y="329"/>
                </a:lnTo>
                <a:lnTo>
                  <a:pt x="29" y="305"/>
                </a:lnTo>
                <a:lnTo>
                  <a:pt x="29" y="30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未知"/>
          <p:cNvSpPr/>
          <p:nvPr/>
        </p:nvSpPr>
        <p:spPr>
          <a:xfrm>
            <a:off x="-447840" y="2719440"/>
            <a:ext cx="520920" cy="974520"/>
          </a:xfrm>
          <a:custGeom>
            <a:avLst/>
            <a:gdLst/>
            <a:ahLst/>
            <a:rect l="l" t="t" r="r" b="b"/>
            <a:pathLst>
              <a:path w="331" h="614">
                <a:moveTo>
                  <a:pt x="253" y="70"/>
                </a:moveTo>
                <a:lnTo>
                  <a:pt x="331" y="542"/>
                </a:lnTo>
                <a:lnTo>
                  <a:pt x="305" y="580"/>
                </a:lnTo>
                <a:lnTo>
                  <a:pt x="286" y="595"/>
                </a:lnTo>
                <a:lnTo>
                  <a:pt x="263" y="606"/>
                </a:lnTo>
                <a:lnTo>
                  <a:pt x="159" y="614"/>
                </a:lnTo>
                <a:lnTo>
                  <a:pt x="68" y="578"/>
                </a:lnTo>
                <a:lnTo>
                  <a:pt x="46" y="544"/>
                </a:lnTo>
                <a:lnTo>
                  <a:pt x="46" y="501"/>
                </a:lnTo>
                <a:lnTo>
                  <a:pt x="65" y="394"/>
                </a:lnTo>
                <a:lnTo>
                  <a:pt x="56" y="298"/>
                </a:lnTo>
                <a:lnTo>
                  <a:pt x="30" y="205"/>
                </a:lnTo>
                <a:lnTo>
                  <a:pt x="0" y="96"/>
                </a:lnTo>
                <a:lnTo>
                  <a:pt x="0" y="60"/>
                </a:lnTo>
                <a:lnTo>
                  <a:pt x="23" y="30"/>
                </a:lnTo>
                <a:lnTo>
                  <a:pt x="62" y="11"/>
                </a:lnTo>
                <a:lnTo>
                  <a:pt x="107" y="0"/>
                </a:lnTo>
                <a:lnTo>
                  <a:pt x="198" y="11"/>
                </a:lnTo>
                <a:lnTo>
                  <a:pt x="253" y="70"/>
                </a:lnTo>
                <a:lnTo>
                  <a:pt x="253" y="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未知"/>
          <p:cNvSpPr/>
          <p:nvPr/>
        </p:nvSpPr>
        <p:spPr>
          <a:xfrm>
            <a:off x="-801720" y="4351320"/>
            <a:ext cx="565200" cy="1015920"/>
          </a:xfrm>
          <a:custGeom>
            <a:avLst/>
            <a:gdLst/>
            <a:ahLst/>
            <a:rect l="l" t="t" r="r" b="b"/>
            <a:pathLst>
              <a:path w="356" h="640">
                <a:moveTo>
                  <a:pt x="356" y="90"/>
                </a:moveTo>
                <a:lnTo>
                  <a:pt x="337" y="429"/>
                </a:lnTo>
                <a:lnTo>
                  <a:pt x="308" y="542"/>
                </a:lnTo>
                <a:lnTo>
                  <a:pt x="291" y="587"/>
                </a:lnTo>
                <a:lnTo>
                  <a:pt x="253" y="616"/>
                </a:lnTo>
                <a:lnTo>
                  <a:pt x="204" y="636"/>
                </a:lnTo>
                <a:lnTo>
                  <a:pt x="146" y="640"/>
                </a:lnTo>
                <a:lnTo>
                  <a:pt x="42" y="610"/>
                </a:lnTo>
                <a:lnTo>
                  <a:pt x="0" y="531"/>
                </a:lnTo>
                <a:lnTo>
                  <a:pt x="13" y="405"/>
                </a:lnTo>
                <a:lnTo>
                  <a:pt x="32" y="318"/>
                </a:lnTo>
                <a:lnTo>
                  <a:pt x="58" y="243"/>
                </a:lnTo>
                <a:lnTo>
                  <a:pt x="100" y="81"/>
                </a:lnTo>
                <a:lnTo>
                  <a:pt x="113" y="43"/>
                </a:lnTo>
                <a:lnTo>
                  <a:pt x="146" y="17"/>
                </a:lnTo>
                <a:lnTo>
                  <a:pt x="188" y="4"/>
                </a:lnTo>
                <a:lnTo>
                  <a:pt x="236" y="0"/>
                </a:lnTo>
                <a:lnTo>
                  <a:pt x="321" y="23"/>
                </a:lnTo>
                <a:lnTo>
                  <a:pt x="356" y="90"/>
                </a:lnTo>
                <a:lnTo>
                  <a:pt x="356" y="9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未知"/>
          <p:cNvSpPr/>
          <p:nvPr/>
        </p:nvSpPr>
        <p:spPr>
          <a:xfrm>
            <a:off x="609480" y="6332400"/>
            <a:ext cx="1893960" cy="304920"/>
          </a:xfrm>
          <a:custGeom>
            <a:avLst/>
            <a:gdLst/>
            <a:ahLst/>
            <a:rect l="l" t="t" r="r" b="b"/>
            <a:pathLst>
              <a:path w="1193" h="192">
                <a:moveTo>
                  <a:pt x="100" y="38"/>
                </a:moveTo>
                <a:lnTo>
                  <a:pt x="353" y="47"/>
                </a:lnTo>
                <a:lnTo>
                  <a:pt x="574" y="32"/>
                </a:lnTo>
                <a:lnTo>
                  <a:pt x="798" y="11"/>
                </a:lnTo>
                <a:lnTo>
                  <a:pt x="1047" y="0"/>
                </a:lnTo>
                <a:lnTo>
                  <a:pt x="1112" y="8"/>
                </a:lnTo>
                <a:lnTo>
                  <a:pt x="1158" y="30"/>
                </a:lnTo>
                <a:lnTo>
                  <a:pt x="1193" y="96"/>
                </a:lnTo>
                <a:lnTo>
                  <a:pt x="1184" y="130"/>
                </a:lnTo>
                <a:lnTo>
                  <a:pt x="1158" y="162"/>
                </a:lnTo>
                <a:lnTo>
                  <a:pt x="1112" y="183"/>
                </a:lnTo>
                <a:lnTo>
                  <a:pt x="1047" y="192"/>
                </a:lnTo>
                <a:lnTo>
                  <a:pt x="561" y="185"/>
                </a:lnTo>
                <a:lnTo>
                  <a:pt x="77" y="153"/>
                </a:lnTo>
                <a:lnTo>
                  <a:pt x="16" y="128"/>
                </a:lnTo>
                <a:lnTo>
                  <a:pt x="0" y="87"/>
                </a:lnTo>
                <a:lnTo>
                  <a:pt x="13" y="68"/>
                </a:lnTo>
                <a:lnTo>
                  <a:pt x="32" y="51"/>
                </a:lnTo>
                <a:lnTo>
                  <a:pt x="100" y="38"/>
                </a:lnTo>
                <a:lnTo>
                  <a:pt x="100" y="3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未知"/>
          <p:cNvSpPr/>
          <p:nvPr/>
        </p:nvSpPr>
        <p:spPr>
          <a:xfrm>
            <a:off x="3070080" y="6332400"/>
            <a:ext cx="2049480" cy="362160"/>
          </a:xfrm>
          <a:custGeom>
            <a:avLst/>
            <a:gdLst/>
            <a:ahLst/>
            <a:rect l="l" t="t" r="r" b="b"/>
            <a:pathLst>
              <a:path w="1291" h="228">
                <a:moveTo>
                  <a:pt x="159" y="0"/>
                </a:moveTo>
                <a:lnTo>
                  <a:pt x="516" y="25"/>
                </a:lnTo>
                <a:lnTo>
                  <a:pt x="869" y="36"/>
                </a:lnTo>
                <a:lnTo>
                  <a:pt x="1145" y="36"/>
                </a:lnTo>
                <a:lnTo>
                  <a:pt x="1210" y="45"/>
                </a:lnTo>
                <a:lnTo>
                  <a:pt x="1255" y="66"/>
                </a:lnTo>
                <a:lnTo>
                  <a:pt x="1291" y="132"/>
                </a:lnTo>
                <a:lnTo>
                  <a:pt x="1281" y="168"/>
                </a:lnTo>
                <a:lnTo>
                  <a:pt x="1255" y="198"/>
                </a:lnTo>
                <a:lnTo>
                  <a:pt x="1210" y="220"/>
                </a:lnTo>
                <a:lnTo>
                  <a:pt x="1145" y="228"/>
                </a:lnTo>
                <a:lnTo>
                  <a:pt x="869" y="228"/>
                </a:lnTo>
                <a:lnTo>
                  <a:pt x="500" y="217"/>
                </a:lnTo>
                <a:lnTo>
                  <a:pt x="130" y="192"/>
                </a:lnTo>
                <a:lnTo>
                  <a:pt x="68" y="179"/>
                </a:lnTo>
                <a:lnTo>
                  <a:pt x="26" y="153"/>
                </a:lnTo>
                <a:lnTo>
                  <a:pt x="0" y="85"/>
                </a:lnTo>
                <a:lnTo>
                  <a:pt x="13" y="51"/>
                </a:lnTo>
                <a:lnTo>
                  <a:pt x="46" y="23"/>
                </a:lnTo>
                <a:lnTo>
                  <a:pt x="94" y="4"/>
                </a:lnTo>
                <a:lnTo>
                  <a:pt x="159" y="0"/>
                </a:lnTo>
                <a:lnTo>
                  <a:pt x="15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未知"/>
          <p:cNvSpPr/>
          <p:nvPr/>
        </p:nvSpPr>
        <p:spPr>
          <a:xfrm>
            <a:off x="6191280" y="6318360"/>
            <a:ext cx="1827360" cy="339480"/>
          </a:xfrm>
          <a:custGeom>
            <a:avLst/>
            <a:gdLst/>
            <a:ahLst/>
            <a:rect l="l" t="t" r="r" b="b"/>
            <a:pathLst>
              <a:path w="1151" h="214">
                <a:moveTo>
                  <a:pt x="74" y="45"/>
                </a:moveTo>
                <a:lnTo>
                  <a:pt x="360" y="26"/>
                </a:lnTo>
                <a:lnTo>
                  <a:pt x="496" y="9"/>
                </a:lnTo>
                <a:lnTo>
                  <a:pt x="649" y="0"/>
                </a:lnTo>
                <a:lnTo>
                  <a:pt x="863" y="11"/>
                </a:lnTo>
                <a:lnTo>
                  <a:pt x="1070" y="47"/>
                </a:lnTo>
                <a:lnTo>
                  <a:pt x="1122" y="66"/>
                </a:lnTo>
                <a:lnTo>
                  <a:pt x="1148" y="92"/>
                </a:lnTo>
                <a:lnTo>
                  <a:pt x="1151" y="154"/>
                </a:lnTo>
                <a:lnTo>
                  <a:pt x="1129" y="184"/>
                </a:lnTo>
                <a:lnTo>
                  <a:pt x="1093" y="203"/>
                </a:lnTo>
                <a:lnTo>
                  <a:pt x="1048" y="214"/>
                </a:lnTo>
                <a:lnTo>
                  <a:pt x="989" y="209"/>
                </a:lnTo>
                <a:lnTo>
                  <a:pt x="820" y="186"/>
                </a:lnTo>
                <a:lnTo>
                  <a:pt x="645" y="182"/>
                </a:lnTo>
                <a:lnTo>
                  <a:pt x="357" y="162"/>
                </a:lnTo>
                <a:lnTo>
                  <a:pt x="220" y="148"/>
                </a:lnTo>
                <a:lnTo>
                  <a:pt x="68" y="137"/>
                </a:lnTo>
                <a:lnTo>
                  <a:pt x="16" y="122"/>
                </a:lnTo>
                <a:lnTo>
                  <a:pt x="0" y="88"/>
                </a:lnTo>
                <a:lnTo>
                  <a:pt x="19" y="58"/>
                </a:lnTo>
                <a:lnTo>
                  <a:pt x="74" y="45"/>
                </a:lnTo>
                <a:lnTo>
                  <a:pt x="74" y="4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未知"/>
          <p:cNvSpPr/>
          <p:nvPr/>
        </p:nvSpPr>
        <p:spPr>
          <a:xfrm>
            <a:off x="9445680" y="1111320"/>
            <a:ext cx="530280" cy="1120680"/>
          </a:xfrm>
          <a:custGeom>
            <a:avLst/>
            <a:gdLst/>
            <a:ahLst/>
            <a:rect l="l" t="t" r="r" b="b"/>
            <a:pathLst>
              <a:path w="334" h="706">
                <a:moveTo>
                  <a:pt x="334" y="108"/>
                </a:moveTo>
                <a:lnTo>
                  <a:pt x="311" y="241"/>
                </a:lnTo>
                <a:lnTo>
                  <a:pt x="285" y="360"/>
                </a:lnTo>
                <a:lnTo>
                  <a:pt x="272" y="612"/>
                </a:lnTo>
                <a:lnTo>
                  <a:pt x="269" y="648"/>
                </a:lnTo>
                <a:lnTo>
                  <a:pt x="243" y="678"/>
                </a:lnTo>
                <a:lnTo>
                  <a:pt x="204" y="697"/>
                </a:lnTo>
                <a:lnTo>
                  <a:pt x="159" y="706"/>
                </a:lnTo>
                <a:lnTo>
                  <a:pt x="68" y="691"/>
                </a:lnTo>
                <a:lnTo>
                  <a:pt x="16" y="629"/>
                </a:lnTo>
                <a:lnTo>
                  <a:pt x="0" y="362"/>
                </a:lnTo>
                <a:lnTo>
                  <a:pt x="23" y="96"/>
                </a:lnTo>
                <a:lnTo>
                  <a:pt x="42" y="51"/>
                </a:lnTo>
                <a:lnTo>
                  <a:pt x="78" y="21"/>
                </a:lnTo>
                <a:lnTo>
                  <a:pt x="130" y="4"/>
                </a:lnTo>
                <a:lnTo>
                  <a:pt x="188" y="0"/>
                </a:lnTo>
                <a:lnTo>
                  <a:pt x="292" y="29"/>
                </a:lnTo>
                <a:lnTo>
                  <a:pt x="334" y="108"/>
                </a:lnTo>
                <a:lnTo>
                  <a:pt x="334" y="1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未知"/>
          <p:cNvSpPr/>
          <p:nvPr/>
        </p:nvSpPr>
        <p:spPr>
          <a:xfrm>
            <a:off x="9502920" y="2719440"/>
            <a:ext cx="442800" cy="1276200"/>
          </a:xfrm>
          <a:custGeom>
            <a:avLst/>
            <a:gdLst/>
            <a:ahLst/>
            <a:rect l="l" t="t" r="r" b="b"/>
            <a:pathLst>
              <a:path w="279" h="804">
                <a:moveTo>
                  <a:pt x="243" y="79"/>
                </a:moveTo>
                <a:lnTo>
                  <a:pt x="279" y="723"/>
                </a:lnTo>
                <a:lnTo>
                  <a:pt x="262" y="759"/>
                </a:lnTo>
                <a:lnTo>
                  <a:pt x="233" y="785"/>
                </a:lnTo>
                <a:lnTo>
                  <a:pt x="191" y="800"/>
                </a:lnTo>
                <a:lnTo>
                  <a:pt x="142" y="804"/>
                </a:lnTo>
                <a:lnTo>
                  <a:pt x="55" y="781"/>
                </a:lnTo>
                <a:lnTo>
                  <a:pt x="19" y="714"/>
                </a:lnTo>
                <a:lnTo>
                  <a:pt x="26" y="546"/>
                </a:lnTo>
                <a:lnTo>
                  <a:pt x="19" y="399"/>
                </a:lnTo>
                <a:lnTo>
                  <a:pt x="0" y="81"/>
                </a:lnTo>
                <a:lnTo>
                  <a:pt x="9" y="47"/>
                </a:lnTo>
                <a:lnTo>
                  <a:pt x="35" y="21"/>
                </a:lnTo>
                <a:lnTo>
                  <a:pt x="74" y="4"/>
                </a:lnTo>
                <a:lnTo>
                  <a:pt x="120" y="0"/>
                </a:lnTo>
                <a:lnTo>
                  <a:pt x="204" y="19"/>
                </a:lnTo>
                <a:lnTo>
                  <a:pt x="243" y="79"/>
                </a:lnTo>
                <a:lnTo>
                  <a:pt x="243" y="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未知"/>
          <p:cNvSpPr/>
          <p:nvPr/>
        </p:nvSpPr>
        <p:spPr>
          <a:xfrm>
            <a:off x="9408960" y="4381560"/>
            <a:ext cx="530280" cy="976320"/>
          </a:xfrm>
          <a:custGeom>
            <a:avLst/>
            <a:gdLst/>
            <a:ahLst/>
            <a:rect l="l" t="t" r="r" b="b"/>
            <a:pathLst>
              <a:path w="334" h="615">
                <a:moveTo>
                  <a:pt x="256" y="71"/>
                </a:moveTo>
                <a:lnTo>
                  <a:pt x="334" y="542"/>
                </a:lnTo>
                <a:lnTo>
                  <a:pt x="308" y="580"/>
                </a:lnTo>
                <a:lnTo>
                  <a:pt x="289" y="595"/>
                </a:lnTo>
                <a:lnTo>
                  <a:pt x="266" y="606"/>
                </a:lnTo>
                <a:lnTo>
                  <a:pt x="159" y="615"/>
                </a:lnTo>
                <a:lnTo>
                  <a:pt x="68" y="578"/>
                </a:lnTo>
                <a:lnTo>
                  <a:pt x="49" y="544"/>
                </a:lnTo>
                <a:lnTo>
                  <a:pt x="49" y="501"/>
                </a:lnTo>
                <a:lnTo>
                  <a:pt x="68" y="395"/>
                </a:lnTo>
                <a:lnTo>
                  <a:pt x="59" y="299"/>
                </a:lnTo>
                <a:lnTo>
                  <a:pt x="33" y="205"/>
                </a:lnTo>
                <a:lnTo>
                  <a:pt x="0" y="96"/>
                </a:lnTo>
                <a:lnTo>
                  <a:pt x="3" y="60"/>
                </a:lnTo>
                <a:lnTo>
                  <a:pt x="26" y="30"/>
                </a:lnTo>
                <a:lnTo>
                  <a:pt x="62" y="11"/>
                </a:lnTo>
                <a:lnTo>
                  <a:pt x="107" y="0"/>
                </a:lnTo>
                <a:lnTo>
                  <a:pt x="201" y="11"/>
                </a:lnTo>
                <a:lnTo>
                  <a:pt x="256" y="71"/>
                </a:lnTo>
                <a:lnTo>
                  <a:pt x="256" y="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未知"/>
          <p:cNvSpPr/>
          <p:nvPr/>
        </p:nvSpPr>
        <p:spPr>
          <a:xfrm>
            <a:off x="6684840" y="-39600"/>
            <a:ext cx="1622520" cy="287280"/>
          </a:xfrm>
          <a:custGeom>
            <a:avLst/>
            <a:gdLst/>
            <a:ahLst/>
            <a:rect l="l" t="t" r="r" b="b"/>
            <a:pathLst>
              <a:path w="1022" h="184">
                <a:moveTo>
                  <a:pt x="88" y="49"/>
                </a:moveTo>
                <a:lnTo>
                  <a:pt x="484" y="26"/>
                </a:lnTo>
                <a:lnTo>
                  <a:pt x="672" y="9"/>
                </a:lnTo>
                <a:lnTo>
                  <a:pt x="883" y="0"/>
                </a:lnTo>
                <a:lnTo>
                  <a:pt x="944" y="9"/>
                </a:lnTo>
                <a:lnTo>
                  <a:pt x="986" y="30"/>
                </a:lnTo>
                <a:lnTo>
                  <a:pt x="1022" y="92"/>
                </a:lnTo>
                <a:lnTo>
                  <a:pt x="1012" y="126"/>
                </a:lnTo>
                <a:lnTo>
                  <a:pt x="986" y="154"/>
                </a:lnTo>
                <a:lnTo>
                  <a:pt x="944" y="175"/>
                </a:lnTo>
                <a:lnTo>
                  <a:pt x="883" y="184"/>
                </a:lnTo>
                <a:lnTo>
                  <a:pt x="88" y="164"/>
                </a:lnTo>
                <a:lnTo>
                  <a:pt x="23" y="145"/>
                </a:lnTo>
                <a:lnTo>
                  <a:pt x="0" y="107"/>
                </a:lnTo>
                <a:lnTo>
                  <a:pt x="23" y="66"/>
                </a:lnTo>
                <a:lnTo>
                  <a:pt x="49" y="54"/>
                </a:lnTo>
                <a:lnTo>
                  <a:pt x="88" y="49"/>
                </a:lnTo>
                <a:lnTo>
                  <a:pt x="88" y="4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未知"/>
          <p:cNvSpPr/>
          <p:nvPr/>
        </p:nvSpPr>
        <p:spPr>
          <a:xfrm>
            <a:off x="1468440" y="23760"/>
            <a:ext cx="1916280" cy="349200"/>
          </a:xfrm>
          <a:custGeom>
            <a:avLst/>
            <a:gdLst/>
            <a:ahLst/>
            <a:rect l="l" t="t" r="r" b="b"/>
            <a:pathLst>
              <a:path w="1207" h="220">
                <a:moveTo>
                  <a:pt x="114" y="40"/>
                </a:moveTo>
                <a:lnTo>
                  <a:pt x="377" y="13"/>
                </a:lnTo>
                <a:lnTo>
                  <a:pt x="613" y="0"/>
                </a:lnTo>
                <a:lnTo>
                  <a:pt x="847" y="4"/>
                </a:lnTo>
                <a:lnTo>
                  <a:pt x="1110" y="34"/>
                </a:lnTo>
                <a:lnTo>
                  <a:pt x="1162" y="49"/>
                </a:lnTo>
                <a:lnTo>
                  <a:pt x="1194" y="72"/>
                </a:lnTo>
                <a:lnTo>
                  <a:pt x="1207" y="134"/>
                </a:lnTo>
                <a:lnTo>
                  <a:pt x="1188" y="164"/>
                </a:lnTo>
                <a:lnTo>
                  <a:pt x="1155" y="185"/>
                </a:lnTo>
                <a:lnTo>
                  <a:pt x="1110" y="200"/>
                </a:lnTo>
                <a:lnTo>
                  <a:pt x="1055" y="198"/>
                </a:lnTo>
                <a:lnTo>
                  <a:pt x="818" y="177"/>
                </a:lnTo>
                <a:lnTo>
                  <a:pt x="607" y="177"/>
                </a:lnTo>
                <a:lnTo>
                  <a:pt x="162" y="220"/>
                </a:lnTo>
                <a:lnTo>
                  <a:pt x="101" y="220"/>
                </a:lnTo>
                <a:lnTo>
                  <a:pt x="52" y="205"/>
                </a:lnTo>
                <a:lnTo>
                  <a:pt x="4" y="147"/>
                </a:lnTo>
                <a:lnTo>
                  <a:pt x="0" y="130"/>
                </a:lnTo>
                <a:lnTo>
                  <a:pt x="4" y="113"/>
                </a:lnTo>
                <a:lnTo>
                  <a:pt x="20" y="81"/>
                </a:lnTo>
                <a:lnTo>
                  <a:pt x="59" y="55"/>
                </a:lnTo>
                <a:lnTo>
                  <a:pt x="114" y="40"/>
                </a:lnTo>
                <a:lnTo>
                  <a:pt x="114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未知"/>
          <p:cNvSpPr/>
          <p:nvPr/>
        </p:nvSpPr>
        <p:spPr>
          <a:xfrm>
            <a:off x="3971880" y="33480"/>
            <a:ext cx="1905120" cy="301320"/>
          </a:xfrm>
          <a:custGeom>
            <a:avLst/>
            <a:gdLst/>
            <a:ahLst/>
            <a:rect l="l" t="t" r="r" b="b"/>
            <a:pathLst>
              <a:path w="1200" h="190">
                <a:moveTo>
                  <a:pt x="130" y="0"/>
                </a:moveTo>
                <a:lnTo>
                  <a:pt x="600" y="11"/>
                </a:lnTo>
                <a:lnTo>
                  <a:pt x="1070" y="22"/>
                </a:lnTo>
                <a:lnTo>
                  <a:pt x="1125" y="28"/>
                </a:lnTo>
                <a:lnTo>
                  <a:pt x="1168" y="47"/>
                </a:lnTo>
                <a:lnTo>
                  <a:pt x="1200" y="107"/>
                </a:lnTo>
                <a:lnTo>
                  <a:pt x="1190" y="137"/>
                </a:lnTo>
                <a:lnTo>
                  <a:pt x="1168" y="165"/>
                </a:lnTo>
                <a:lnTo>
                  <a:pt x="1125" y="184"/>
                </a:lnTo>
                <a:lnTo>
                  <a:pt x="1070" y="190"/>
                </a:lnTo>
                <a:lnTo>
                  <a:pt x="600" y="179"/>
                </a:lnTo>
                <a:lnTo>
                  <a:pt x="130" y="169"/>
                </a:lnTo>
                <a:lnTo>
                  <a:pt x="71" y="162"/>
                </a:lnTo>
                <a:lnTo>
                  <a:pt x="32" y="143"/>
                </a:lnTo>
                <a:lnTo>
                  <a:pt x="0" y="83"/>
                </a:lnTo>
                <a:lnTo>
                  <a:pt x="6" y="54"/>
                </a:lnTo>
                <a:lnTo>
                  <a:pt x="32" y="26"/>
                </a:lnTo>
                <a:lnTo>
                  <a:pt x="71" y="7"/>
                </a:lnTo>
                <a:lnTo>
                  <a:pt x="130" y="0"/>
                </a:lnTo>
                <a:lnTo>
                  <a:pt x="13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未知"/>
          <p:cNvSpPr/>
          <p:nvPr/>
        </p:nvSpPr>
        <p:spPr>
          <a:xfrm>
            <a:off x="-700200" y="1019160"/>
            <a:ext cx="520920" cy="1494000"/>
          </a:xfrm>
          <a:custGeom>
            <a:avLst/>
            <a:gdLst/>
            <a:ahLst/>
            <a:rect l="l" t="t" r="r" b="b"/>
            <a:pathLst>
              <a:path w="328" h="941">
                <a:moveTo>
                  <a:pt x="328" y="96"/>
                </a:moveTo>
                <a:lnTo>
                  <a:pt x="296" y="303"/>
                </a:lnTo>
                <a:lnTo>
                  <a:pt x="273" y="397"/>
                </a:lnTo>
                <a:lnTo>
                  <a:pt x="250" y="486"/>
                </a:lnTo>
                <a:lnTo>
                  <a:pt x="192" y="877"/>
                </a:lnTo>
                <a:lnTo>
                  <a:pt x="182" y="904"/>
                </a:lnTo>
                <a:lnTo>
                  <a:pt x="163" y="924"/>
                </a:lnTo>
                <a:lnTo>
                  <a:pt x="94" y="941"/>
                </a:lnTo>
                <a:lnTo>
                  <a:pt x="30" y="924"/>
                </a:lnTo>
                <a:lnTo>
                  <a:pt x="0" y="877"/>
                </a:lnTo>
                <a:lnTo>
                  <a:pt x="17" y="482"/>
                </a:lnTo>
                <a:lnTo>
                  <a:pt x="52" y="85"/>
                </a:lnTo>
                <a:lnTo>
                  <a:pt x="65" y="47"/>
                </a:lnTo>
                <a:lnTo>
                  <a:pt x="101" y="19"/>
                </a:lnTo>
                <a:lnTo>
                  <a:pt x="146" y="4"/>
                </a:lnTo>
                <a:lnTo>
                  <a:pt x="198" y="0"/>
                </a:lnTo>
                <a:lnTo>
                  <a:pt x="289" y="26"/>
                </a:lnTo>
                <a:lnTo>
                  <a:pt x="328" y="96"/>
                </a:lnTo>
                <a:lnTo>
                  <a:pt x="328" y="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未知"/>
          <p:cNvSpPr/>
          <p:nvPr/>
        </p:nvSpPr>
        <p:spPr>
          <a:xfrm>
            <a:off x="-1312920" y="5567400"/>
            <a:ext cx="1803600" cy="1150920"/>
          </a:xfrm>
          <a:custGeom>
            <a:avLst/>
            <a:gdLst/>
            <a:ahLst/>
            <a:rect l="l" t="t" r="r" b="b"/>
            <a:pathLst>
              <a:path w="1139" h="725">
                <a:moveTo>
                  <a:pt x="30" y="307"/>
                </a:moveTo>
                <a:lnTo>
                  <a:pt x="43" y="288"/>
                </a:lnTo>
                <a:lnTo>
                  <a:pt x="75" y="273"/>
                </a:lnTo>
                <a:lnTo>
                  <a:pt x="182" y="249"/>
                </a:lnTo>
                <a:lnTo>
                  <a:pt x="396" y="228"/>
                </a:lnTo>
                <a:lnTo>
                  <a:pt x="422" y="145"/>
                </a:lnTo>
                <a:lnTo>
                  <a:pt x="445" y="74"/>
                </a:lnTo>
                <a:lnTo>
                  <a:pt x="471" y="45"/>
                </a:lnTo>
                <a:lnTo>
                  <a:pt x="493" y="23"/>
                </a:lnTo>
                <a:lnTo>
                  <a:pt x="536" y="0"/>
                </a:lnTo>
                <a:lnTo>
                  <a:pt x="571" y="0"/>
                </a:lnTo>
                <a:lnTo>
                  <a:pt x="604" y="21"/>
                </a:lnTo>
                <a:lnTo>
                  <a:pt x="665" y="102"/>
                </a:lnTo>
                <a:lnTo>
                  <a:pt x="704" y="153"/>
                </a:lnTo>
                <a:lnTo>
                  <a:pt x="746" y="205"/>
                </a:lnTo>
                <a:lnTo>
                  <a:pt x="876" y="188"/>
                </a:lnTo>
                <a:lnTo>
                  <a:pt x="987" y="175"/>
                </a:lnTo>
                <a:lnTo>
                  <a:pt x="1123" y="175"/>
                </a:lnTo>
                <a:lnTo>
                  <a:pt x="1139" y="192"/>
                </a:lnTo>
                <a:lnTo>
                  <a:pt x="1110" y="228"/>
                </a:lnTo>
                <a:lnTo>
                  <a:pt x="1074" y="254"/>
                </a:lnTo>
                <a:lnTo>
                  <a:pt x="1029" y="286"/>
                </a:lnTo>
                <a:lnTo>
                  <a:pt x="1003" y="305"/>
                </a:lnTo>
                <a:lnTo>
                  <a:pt x="970" y="324"/>
                </a:lnTo>
                <a:lnTo>
                  <a:pt x="935" y="345"/>
                </a:lnTo>
                <a:lnTo>
                  <a:pt x="896" y="369"/>
                </a:lnTo>
                <a:lnTo>
                  <a:pt x="944" y="435"/>
                </a:lnTo>
                <a:lnTo>
                  <a:pt x="987" y="507"/>
                </a:lnTo>
                <a:lnTo>
                  <a:pt x="1029" y="655"/>
                </a:lnTo>
                <a:lnTo>
                  <a:pt x="1016" y="708"/>
                </a:lnTo>
                <a:lnTo>
                  <a:pt x="999" y="721"/>
                </a:lnTo>
                <a:lnTo>
                  <a:pt x="974" y="725"/>
                </a:lnTo>
                <a:lnTo>
                  <a:pt x="828" y="682"/>
                </a:lnTo>
                <a:lnTo>
                  <a:pt x="785" y="663"/>
                </a:lnTo>
                <a:lnTo>
                  <a:pt x="743" y="642"/>
                </a:lnTo>
                <a:lnTo>
                  <a:pt x="701" y="618"/>
                </a:lnTo>
                <a:lnTo>
                  <a:pt x="662" y="597"/>
                </a:lnTo>
                <a:lnTo>
                  <a:pt x="626" y="578"/>
                </a:lnTo>
                <a:lnTo>
                  <a:pt x="594" y="561"/>
                </a:lnTo>
                <a:lnTo>
                  <a:pt x="545" y="537"/>
                </a:lnTo>
                <a:lnTo>
                  <a:pt x="497" y="563"/>
                </a:lnTo>
                <a:lnTo>
                  <a:pt x="448" y="586"/>
                </a:lnTo>
                <a:lnTo>
                  <a:pt x="403" y="610"/>
                </a:lnTo>
                <a:lnTo>
                  <a:pt x="360" y="629"/>
                </a:lnTo>
                <a:lnTo>
                  <a:pt x="325" y="648"/>
                </a:lnTo>
                <a:lnTo>
                  <a:pt x="292" y="663"/>
                </a:lnTo>
                <a:lnTo>
                  <a:pt x="240" y="678"/>
                </a:lnTo>
                <a:lnTo>
                  <a:pt x="211" y="672"/>
                </a:lnTo>
                <a:lnTo>
                  <a:pt x="205" y="635"/>
                </a:lnTo>
                <a:lnTo>
                  <a:pt x="227" y="563"/>
                </a:lnTo>
                <a:lnTo>
                  <a:pt x="250" y="512"/>
                </a:lnTo>
                <a:lnTo>
                  <a:pt x="279" y="450"/>
                </a:lnTo>
                <a:lnTo>
                  <a:pt x="208" y="431"/>
                </a:lnTo>
                <a:lnTo>
                  <a:pt x="91" y="394"/>
                </a:lnTo>
                <a:lnTo>
                  <a:pt x="10" y="350"/>
                </a:lnTo>
                <a:lnTo>
                  <a:pt x="0" y="328"/>
                </a:lnTo>
                <a:lnTo>
                  <a:pt x="30" y="307"/>
                </a:lnTo>
                <a:lnTo>
                  <a:pt x="30" y="30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未知"/>
          <p:cNvSpPr/>
          <p:nvPr/>
        </p:nvSpPr>
        <p:spPr>
          <a:xfrm>
            <a:off x="8564400" y="-306360"/>
            <a:ext cx="1803600" cy="1146240"/>
          </a:xfrm>
          <a:custGeom>
            <a:avLst/>
            <a:gdLst/>
            <a:ahLst/>
            <a:rect l="l" t="t" r="r" b="b"/>
            <a:pathLst>
              <a:path w="1136" h="725">
                <a:moveTo>
                  <a:pt x="29" y="307"/>
                </a:moveTo>
                <a:lnTo>
                  <a:pt x="39" y="290"/>
                </a:lnTo>
                <a:lnTo>
                  <a:pt x="72" y="275"/>
                </a:lnTo>
                <a:lnTo>
                  <a:pt x="182" y="251"/>
                </a:lnTo>
                <a:lnTo>
                  <a:pt x="393" y="230"/>
                </a:lnTo>
                <a:lnTo>
                  <a:pt x="419" y="147"/>
                </a:lnTo>
                <a:lnTo>
                  <a:pt x="441" y="77"/>
                </a:lnTo>
                <a:lnTo>
                  <a:pt x="467" y="45"/>
                </a:lnTo>
                <a:lnTo>
                  <a:pt x="490" y="23"/>
                </a:lnTo>
                <a:lnTo>
                  <a:pt x="532" y="0"/>
                </a:lnTo>
                <a:lnTo>
                  <a:pt x="568" y="2"/>
                </a:lnTo>
                <a:lnTo>
                  <a:pt x="600" y="21"/>
                </a:lnTo>
                <a:lnTo>
                  <a:pt x="665" y="102"/>
                </a:lnTo>
                <a:lnTo>
                  <a:pt x="701" y="153"/>
                </a:lnTo>
                <a:lnTo>
                  <a:pt x="743" y="207"/>
                </a:lnTo>
                <a:lnTo>
                  <a:pt x="873" y="190"/>
                </a:lnTo>
                <a:lnTo>
                  <a:pt x="983" y="177"/>
                </a:lnTo>
                <a:lnTo>
                  <a:pt x="1119" y="175"/>
                </a:lnTo>
                <a:lnTo>
                  <a:pt x="1136" y="194"/>
                </a:lnTo>
                <a:lnTo>
                  <a:pt x="1106" y="230"/>
                </a:lnTo>
                <a:lnTo>
                  <a:pt x="1074" y="256"/>
                </a:lnTo>
                <a:lnTo>
                  <a:pt x="1028" y="288"/>
                </a:lnTo>
                <a:lnTo>
                  <a:pt x="999" y="305"/>
                </a:lnTo>
                <a:lnTo>
                  <a:pt x="967" y="324"/>
                </a:lnTo>
                <a:lnTo>
                  <a:pt x="931" y="345"/>
                </a:lnTo>
                <a:lnTo>
                  <a:pt x="892" y="369"/>
                </a:lnTo>
                <a:lnTo>
                  <a:pt x="944" y="437"/>
                </a:lnTo>
                <a:lnTo>
                  <a:pt x="983" y="507"/>
                </a:lnTo>
                <a:lnTo>
                  <a:pt x="1025" y="655"/>
                </a:lnTo>
                <a:lnTo>
                  <a:pt x="1015" y="708"/>
                </a:lnTo>
                <a:lnTo>
                  <a:pt x="996" y="721"/>
                </a:lnTo>
                <a:lnTo>
                  <a:pt x="970" y="725"/>
                </a:lnTo>
                <a:lnTo>
                  <a:pt x="824" y="682"/>
                </a:lnTo>
                <a:lnTo>
                  <a:pt x="782" y="663"/>
                </a:lnTo>
                <a:lnTo>
                  <a:pt x="740" y="642"/>
                </a:lnTo>
                <a:lnTo>
                  <a:pt x="701" y="620"/>
                </a:lnTo>
                <a:lnTo>
                  <a:pt x="659" y="599"/>
                </a:lnTo>
                <a:lnTo>
                  <a:pt x="623" y="578"/>
                </a:lnTo>
                <a:lnTo>
                  <a:pt x="591" y="561"/>
                </a:lnTo>
                <a:lnTo>
                  <a:pt x="545" y="539"/>
                </a:lnTo>
                <a:lnTo>
                  <a:pt x="493" y="563"/>
                </a:lnTo>
                <a:lnTo>
                  <a:pt x="445" y="586"/>
                </a:lnTo>
                <a:lnTo>
                  <a:pt x="399" y="610"/>
                </a:lnTo>
                <a:lnTo>
                  <a:pt x="360" y="631"/>
                </a:lnTo>
                <a:lnTo>
                  <a:pt x="321" y="648"/>
                </a:lnTo>
                <a:lnTo>
                  <a:pt x="289" y="663"/>
                </a:lnTo>
                <a:lnTo>
                  <a:pt x="237" y="680"/>
                </a:lnTo>
                <a:lnTo>
                  <a:pt x="208" y="672"/>
                </a:lnTo>
                <a:lnTo>
                  <a:pt x="201" y="635"/>
                </a:lnTo>
                <a:lnTo>
                  <a:pt x="224" y="563"/>
                </a:lnTo>
                <a:lnTo>
                  <a:pt x="247" y="514"/>
                </a:lnTo>
                <a:lnTo>
                  <a:pt x="276" y="452"/>
                </a:lnTo>
                <a:lnTo>
                  <a:pt x="205" y="431"/>
                </a:lnTo>
                <a:lnTo>
                  <a:pt x="91" y="394"/>
                </a:lnTo>
                <a:lnTo>
                  <a:pt x="7" y="352"/>
                </a:lnTo>
                <a:lnTo>
                  <a:pt x="0" y="328"/>
                </a:lnTo>
                <a:lnTo>
                  <a:pt x="29" y="307"/>
                </a:lnTo>
                <a:lnTo>
                  <a:pt x="29" y="30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8704440" y="5668920"/>
            <a:ext cx="1801800" cy="1150920"/>
          </a:xfrm>
          <a:custGeom>
            <a:avLst/>
            <a:gdLst/>
            <a:ahLst/>
            <a:rect l="l" t="t" r="r" b="b"/>
            <a:pathLst>
              <a:path w="1135" h="725">
                <a:moveTo>
                  <a:pt x="29" y="307"/>
                </a:moveTo>
                <a:lnTo>
                  <a:pt x="39" y="290"/>
                </a:lnTo>
                <a:lnTo>
                  <a:pt x="71" y="275"/>
                </a:lnTo>
                <a:lnTo>
                  <a:pt x="181" y="251"/>
                </a:lnTo>
                <a:lnTo>
                  <a:pt x="396" y="230"/>
                </a:lnTo>
                <a:lnTo>
                  <a:pt x="421" y="147"/>
                </a:lnTo>
                <a:lnTo>
                  <a:pt x="441" y="77"/>
                </a:lnTo>
                <a:lnTo>
                  <a:pt x="467" y="45"/>
                </a:lnTo>
                <a:lnTo>
                  <a:pt x="493" y="23"/>
                </a:lnTo>
                <a:lnTo>
                  <a:pt x="535" y="0"/>
                </a:lnTo>
                <a:lnTo>
                  <a:pt x="571" y="2"/>
                </a:lnTo>
                <a:lnTo>
                  <a:pt x="600" y="21"/>
                </a:lnTo>
                <a:lnTo>
                  <a:pt x="665" y="104"/>
                </a:lnTo>
                <a:lnTo>
                  <a:pt x="700" y="155"/>
                </a:lnTo>
                <a:lnTo>
                  <a:pt x="746" y="207"/>
                </a:lnTo>
                <a:lnTo>
                  <a:pt x="876" y="190"/>
                </a:lnTo>
                <a:lnTo>
                  <a:pt x="986" y="177"/>
                </a:lnTo>
                <a:lnTo>
                  <a:pt x="1122" y="175"/>
                </a:lnTo>
                <a:lnTo>
                  <a:pt x="1135" y="194"/>
                </a:lnTo>
                <a:lnTo>
                  <a:pt x="1106" y="230"/>
                </a:lnTo>
                <a:lnTo>
                  <a:pt x="1073" y="256"/>
                </a:lnTo>
                <a:lnTo>
                  <a:pt x="1028" y="288"/>
                </a:lnTo>
                <a:lnTo>
                  <a:pt x="999" y="305"/>
                </a:lnTo>
                <a:lnTo>
                  <a:pt x="966" y="324"/>
                </a:lnTo>
                <a:lnTo>
                  <a:pt x="934" y="345"/>
                </a:lnTo>
                <a:lnTo>
                  <a:pt x="892" y="369"/>
                </a:lnTo>
                <a:lnTo>
                  <a:pt x="944" y="437"/>
                </a:lnTo>
                <a:lnTo>
                  <a:pt x="983" y="507"/>
                </a:lnTo>
                <a:lnTo>
                  <a:pt x="1028" y="657"/>
                </a:lnTo>
                <a:lnTo>
                  <a:pt x="1015" y="708"/>
                </a:lnTo>
                <a:lnTo>
                  <a:pt x="996" y="721"/>
                </a:lnTo>
                <a:lnTo>
                  <a:pt x="973" y="725"/>
                </a:lnTo>
                <a:lnTo>
                  <a:pt x="827" y="682"/>
                </a:lnTo>
                <a:lnTo>
                  <a:pt x="785" y="663"/>
                </a:lnTo>
                <a:lnTo>
                  <a:pt x="743" y="642"/>
                </a:lnTo>
                <a:lnTo>
                  <a:pt x="700" y="621"/>
                </a:lnTo>
                <a:lnTo>
                  <a:pt x="662" y="599"/>
                </a:lnTo>
                <a:lnTo>
                  <a:pt x="623" y="578"/>
                </a:lnTo>
                <a:lnTo>
                  <a:pt x="593" y="561"/>
                </a:lnTo>
                <a:lnTo>
                  <a:pt x="545" y="539"/>
                </a:lnTo>
                <a:lnTo>
                  <a:pt x="493" y="563"/>
                </a:lnTo>
                <a:lnTo>
                  <a:pt x="444" y="589"/>
                </a:lnTo>
                <a:lnTo>
                  <a:pt x="402" y="610"/>
                </a:lnTo>
                <a:lnTo>
                  <a:pt x="360" y="631"/>
                </a:lnTo>
                <a:lnTo>
                  <a:pt x="321" y="650"/>
                </a:lnTo>
                <a:lnTo>
                  <a:pt x="288" y="663"/>
                </a:lnTo>
                <a:lnTo>
                  <a:pt x="237" y="680"/>
                </a:lnTo>
                <a:lnTo>
                  <a:pt x="207" y="672"/>
                </a:lnTo>
                <a:lnTo>
                  <a:pt x="204" y="635"/>
                </a:lnTo>
                <a:lnTo>
                  <a:pt x="227" y="565"/>
                </a:lnTo>
                <a:lnTo>
                  <a:pt x="246" y="514"/>
                </a:lnTo>
                <a:lnTo>
                  <a:pt x="279" y="452"/>
                </a:lnTo>
                <a:lnTo>
                  <a:pt x="204" y="431"/>
                </a:lnTo>
                <a:lnTo>
                  <a:pt x="91" y="394"/>
                </a:lnTo>
                <a:lnTo>
                  <a:pt x="6" y="352"/>
                </a:lnTo>
                <a:lnTo>
                  <a:pt x="0" y="328"/>
                </a:lnTo>
                <a:lnTo>
                  <a:pt x="29" y="307"/>
                </a:lnTo>
                <a:lnTo>
                  <a:pt x="29" y="30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未知"/>
          <p:cNvSpPr/>
          <p:nvPr/>
        </p:nvSpPr>
        <p:spPr>
          <a:xfrm>
            <a:off x="-874800" y="-263520"/>
            <a:ext cx="1803600" cy="1147680"/>
          </a:xfrm>
          <a:custGeom>
            <a:avLst/>
            <a:gdLst/>
            <a:ahLst/>
            <a:rect l="l" t="t" r="r" b="b"/>
            <a:pathLst>
              <a:path w="1139" h="726">
                <a:moveTo>
                  <a:pt x="29" y="308"/>
                </a:moveTo>
                <a:lnTo>
                  <a:pt x="42" y="288"/>
                </a:lnTo>
                <a:lnTo>
                  <a:pt x="75" y="273"/>
                </a:lnTo>
                <a:lnTo>
                  <a:pt x="182" y="250"/>
                </a:lnTo>
                <a:lnTo>
                  <a:pt x="396" y="229"/>
                </a:lnTo>
                <a:lnTo>
                  <a:pt x="422" y="146"/>
                </a:lnTo>
                <a:lnTo>
                  <a:pt x="445" y="75"/>
                </a:lnTo>
                <a:lnTo>
                  <a:pt x="470" y="45"/>
                </a:lnTo>
                <a:lnTo>
                  <a:pt x="493" y="24"/>
                </a:lnTo>
                <a:lnTo>
                  <a:pt x="535" y="0"/>
                </a:lnTo>
                <a:lnTo>
                  <a:pt x="571" y="0"/>
                </a:lnTo>
                <a:lnTo>
                  <a:pt x="603" y="22"/>
                </a:lnTo>
                <a:lnTo>
                  <a:pt x="665" y="103"/>
                </a:lnTo>
                <a:lnTo>
                  <a:pt x="704" y="154"/>
                </a:lnTo>
                <a:lnTo>
                  <a:pt x="746" y="205"/>
                </a:lnTo>
                <a:lnTo>
                  <a:pt x="876" y="190"/>
                </a:lnTo>
                <a:lnTo>
                  <a:pt x="986" y="175"/>
                </a:lnTo>
                <a:lnTo>
                  <a:pt x="1122" y="175"/>
                </a:lnTo>
                <a:lnTo>
                  <a:pt x="1139" y="192"/>
                </a:lnTo>
                <a:lnTo>
                  <a:pt x="1109" y="229"/>
                </a:lnTo>
                <a:lnTo>
                  <a:pt x="1077" y="254"/>
                </a:lnTo>
                <a:lnTo>
                  <a:pt x="1028" y="286"/>
                </a:lnTo>
                <a:lnTo>
                  <a:pt x="1002" y="305"/>
                </a:lnTo>
                <a:lnTo>
                  <a:pt x="970" y="325"/>
                </a:lnTo>
                <a:lnTo>
                  <a:pt x="934" y="346"/>
                </a:lnTo>
                <a:lnTo>
                  <a:pt x="895" y="367"/>
                </a:lnTo>
                <a:lnTo>
                  <a:pt x="944" y="436"/>
                </a:lnTo>
                <a:lnTo>
                  <a:pt x="986" y="508"/>
                </a:lnTo>
                <a:lnTo>
                  <a:pt x="1028" y="655"/>
                </a:lnTo>
                <a:lnTo>
                  <a:pt x="1015" y="709"/>
                </a:lnTo>
                <a:lnTo>
                  <a:pt x="999" y="721"/>
                </a:lnTo>
                <a:lnTo>
                  <a:pt x="973" y="726"/>
                </a:lnTo>
                <a:lnTo>
                  <a:pt x="827" y="683"/>
                </a:lnTo>
                <a:lnTo>
                  <a:pt x="785" y="664"/>
                </a:lnTo>
                <a:lnTo>
                  <a:pt x="743" y="643"/>
                </a:lnTo>
                <a:lnTo>
                  <a:pt x="701" y="619"/>
                </a:lnTo>
                <a:lnTo>
                  <a:pt x="662" y="598"/>
                </a:lnTo>
                <a:lnTo>
                  <a:pt x="626" y="579"/>
                </a:lnTo>
                <a:lnTo>
                  <a:pt x="594" y="561"/>
                </a:lnTo>
                <a:lnTo>
                  <a:pt x="545" y="538"/>
                </a:lnTo>
                <a:lnTo>
                  <a:pt x="496" y="564"/>
                </a:lnTo>
                <a:lnTo>
                  <a:pt x="448" y="587"/>
                </a:lnTo>
                <a:lnTo>
                  <a:pt x="402" y="611"/>
                </a:lnTo>
                <a:lnTo>
                  <a:pt x="360" y="632"/>
                </a:lnTo>
                <a:lnTo>
                  <a:pt x="325" y="649"/>
                </a:lnTo>
                <a:lnTo>
                  <a:pt x="292" y="664"/>
                </a:lnTo>
                <a:lnTo>
                  <a:pt x="240" y="679"/>
                </a:lnTo>
                <a:lnTo>
                  <a:pt x="211" y="672"/>
                </a:lnTo>
                <a:lnTo>
                  <a:pt x="204" y="636"/>
                </a:lnTo>
                <a:lnTo>
                  <a:pt x="227" y="564"/>
                </a:lnTo>
                <a:lnTo>
                  <a:pt x="250" y="512"/>
                </a:lnTo>
                <a:lnTo>
                  <a:pt x="279" y="451"/>
                </a:lnTo>
                <a:lnTo>
                  <a:pt x="208" y="431"/>
                </a:lnTo>
                <a:lnTo>
                  <a:pt x="91" y="395"/>
                </a:lnTo>
                <a:lnTo>
                  <a:pt x="10" y="350"/>
                </a:lnTo>
                <a:lnTo>
                  <a:pt x="0" y="329"/>
                </a:lnTo>
                <a:lnTo>
                  <a:pt x="29" y="308"/>
                </a:lnTo>
                <a:lnTo>
                  <a:pt x="29" y="3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未知"/>
          <p:cNvSpPr/>
          <p:nvPr/>
        </p:nvSpPr>
        <p:spPr>
          <a:xfrm>
            <a:off x="-673200" y="2770200"/>
            <a:ext cx="523800" cy="974880"/>
          </a:xfrm>
          <a:custGeom>
            <a:avLst/>
            <a:gdLst/>
            <a:ahLst/>
            <a:rect l="l" t="t" r="r" b="b"/>
            <a:pathLst>
              <a:path w="330" h="614">
                <a:moveTo>
                  <a:pt x="253" y="70"/>
                </a:moveTo>
                <a:lnTo>
                  <a:pt x="330" y="542"/>
                </a:lnTo>
                <a:lnTo>
                  <a:pt x="305" y="580"/>
                </a:lnTo>
                <a:lnTo>
                  <a:pt x="285" y="595"/>
                </a:lnTo>
                <a:lnTo>
                  <a:pt x="262" y="606"/>
                </a:lnTo>
                <a:lnTo>
                  <a:pt x="159" y="614"/>
                </a:lnTo>
                <a:lnTo>
                  <a:pt x="68" y="578"/>
                </a:lnTo>
                <a:lnTo>
                  <a:pt x="45" y="544"/>
                </a:lnTo>
                <a:lnTo>
                  <a:pt x="48" y="501"/>
                </a:lnTo>
                <a:lnTo>
                  <a:pt x="68" y="394"/>
                </a:lnTo>
                <a:lnTo>
                  <a:pt x="58" y="298"/>
                </a:lnTo>
                <a:lnTo>
                  <a:pt x="29" y="205"/>
                </a:lnTo>
                <a:lnTo>
                  <a:pt x="0" y="96"/>
                </a:lnTo>
                <a:lnTo>
                  <a:pt x="0" y="60"/>
                </a:lnTo>
                <a:lnTo>
                  <a:pt x="22" y="30"/>
                </a:lnTo>
                <a:lnTo>
                  <a:pt x="61" y="11"/>
                </a:lnTo>
                <a:lnTo>
                  <a:pt x="107" y="0"/>
                </a:lnTo>
                <a:lnTo>
                  <a:pt x="198" y="11"/>
                </a:lnTo>
                <a:lnTo>
                  <a:pt x="253" y="70"/>
                </a:lnTo>
                <a:lnTo>
                  <a:pt x="253" y="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4"/>
          <p:cNvSpPr/>
          <p:nvPr/>
        </p:nvSpPr>
        <p:spPr>
          <a:xfrm>
            <a:off x="1237680" y="2286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收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5"/>
          <p:cNvSpPr/>
          <p:nvPr/>
        </p:nvSpPr>
        <p:spPr>
          <a:xfrm>
            <a:off x="2819520" y="20574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扩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6"/>
          <p:cNvSpPr/>
          <p:nvPr/>
        </p:nvSpPr>
        <p:spPr>
          <a:xfrm>
            <a:off x="3875400" y="1752480"/>
            <a:ext cx="16426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扩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7"/>
          <p:cNvSpPr/>
          <p:nvPr/>
        </p:nvSpPr>
        <p:spPr>
          <a:xfrm>
            <a:off x="6019920" y="18288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下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8"/>
          <p:cNvSpPr/>
          <p:nvPr/>
        </p:nvSpPr>
        <p:spPr>
          <a:xfrm>
            <a:off x="1143000" y="50292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舒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9"/>
          <p:cNvSpPr/>
          <p:nvPr/>
        </p:nvSpPr>
        <p:spPr>
          <a:xfrm>
            <a:off x="2819520" y="518148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收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0"/>
          <p:cNvSpPr/>
          <p:nvPr/>
        </p:nvSpPr>
        <p:spPr>
          <a:xfrm>
            <a:off x="4652640" y="4495680"/>
            <a:ext cx="911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收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1"/>
          <p:cNvSpPr/>
          <p:nvPr/>
        </p:nvSpPr>
        <p:spPr>
          <a:xfrm>
            <a:off x="5867280" y="4876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升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0" y="762120"/>
          <a:ext cx="9144000" cy="5310000"/>
        </p:xfrm>
        <a:graphic>
          <a:graphicData uri="http://schemas.openxmlformats.org/drawingml/2006/table">
            <a:tbl>
              <a:tblPr/>
              <a:tblGrid>
                <a:gridCol w="1308240"/>
                <a:gridCol w="1304640"/>
                <a:gridCol w="1306800"/>
                <a:gridCol w="1304640"/>
                <a:gridCol w="1308240"/>
                <a:gridCol w="1305000"/>
                <a:gridCol w="1306440"/>
              </a:tblGrid>
              <a:tr h="19695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呼吸运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肋间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肌、膈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胸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胸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容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肺内气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气流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18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86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呼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Text Box 36"/>
          <p:cNvSpPr/>
          <p:nvPr/>
        </p:nvSpPr>
        <p:spPr>
          <a:xfrm>
            <a:off x="2743200" y="28954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横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扩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下径增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7"/>
          <p:cNvSpPr/>
          <p:nvPr/>
        </p:nvSpPr>
        <p:spPr>
          <a:xfrm>
            <a:off x="2743200" y="457524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横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下径缩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8"/>
          <p:cNvSpPr/>
          <p:nvPr/>
        </p:nvSpPr>
        <p:spPr>
          <a:xfrm>
            <a:off x="365040" y="314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9"/>
          <p:cNvSpPr/>
          <p:nvPr/>
        </p:nvSpPr>
        <p:spPr>
          <a:xfrm>
            <a:off x="228600" y="3276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吸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0"/>
          <p:cNvSpPr/>
          <p:nvPr/>
        </p:nvSpPr>
        <p:spPr>
          <a:xfrm>
            <a:off x="1523880" y="33526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1"/>
          <p:cNvSpPr/>
          <p:nvPr/>
        </p:nvSpPr>
        <p:spPr>
          <a:xfrm>
            <a:off x="4114800" y="3276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扩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2"/>
          <p:cNvSpPr/>
          <p:nvPr/>
        </p:nvSpPr>
        <p:spPr>
          <a:xfrm>
            <a:off x="5410080" y="3276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扩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3"/>
          <p:cNvSpPr/>
          <p:nvPr/>
        </p:nvSpPr>
        <p:spPr>
          <a:xfrm>
            <a:off x="6934320" y="327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4"/>
          <p:cNvSpPr/>
          <p:nvPr/>
        </p:nvSpPr>
        <p:spPr>
          <a:xfrm>
            <a:off x="6705720" y="32767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5"/>
          <p:cNvSpPr/>
          <p:nvPr/>
        </p:nvSpPr>
        <p:spPr>
          <a:xfrm>
            <a:off x="7888320" y="2971800"/>
            <a:ext cx="15606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界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入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6"/>
          <p:cNvSpPr/>
          <p:nvPr/>
        </p:nvSpPr>
        <p:spPr>
          <a:xfrm>
            <a:off x="1729800" y="4921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舒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7"/>
          <p:cNvSpPr/>
          <p:nvPr/>
        </p:nvSpPr>
        <p:spPr>
          <a:xfrm>
            <a:off x="4022640" y="48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8"/>
          <p:cNvSpPr/>
          <p:nvPr/>
        </p:nvSpPr>
        <p:spPr>
          <a:xfrm>
            <a:off x="4038480" y="4952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缩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9"/>
          <p:cNvSpPr/>
          <p:nvPr/>
        </p:nvSpPr>
        <p:spPr>
          <a:xfrm>
            <a:off x="5410080" y="4952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0"/>
          <p:cNvSpPr/>
          <p:nvPr/>
        </p:nvSpPr>
        <p:spPr>
          <a:xfrm>
            <a:off x="6781680" y="4876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1"/>
          <p:cNvSpPr/>
          <p:nvPr/>
        </p:nvSpPr>
        <p:spPr>
          <a:xfrm>
            <a:off x="7985160" y="4821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2"/>
          <p:cNvSpPr/>
          <p:nvPr/>
        </p:nvSpPr>
        <p:spPr>
          <a:xfrm>
            <a:off x="8146440" y="4648320"/>
            <a:ext cx="6073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914400" y="161604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会游泳的同学说说，刚下水时，如果水超过胸部。你有什么感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古代有些女子将胸部和腰部束得很紧，以保持苗条的身材，但是呼吸受到影响，体质下降。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华文行楷"/>
              </a:rPr>
              <a:t>肺的位置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pi"/>
          <p:cNvPicPr/>
          <p:nvPr/>
        </p:nvPicPr>
        <p:blipFill>
          <a:blip r:embed="rId2"/>
          <a:stretch/>
        </p:blipFill>
        <p:spPr>
          <a:xfrm>
            <a:off x="324000" y="1700280"/>
            <a:ext cx="4103640" cy="48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8" name="Text Box 4"/>
          <p:cNvSpPr/>
          <p:nvPr/>
        </p:nvSpPr>
        <p:spPr>
          <a:xfrm>
            <a:off x="2895480" y="24559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166760" y="3321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Smbm007d"/>
          <p:cNvPicPr/>
          <p:nvPr/>
        </p:nvPicPr>
        <p:blipFill>
          <a:blip r:embed="rId3"/>
          <a:stretch/>
        </p:blipFill>
        <p:spPr>
          <a:xfrm>
            <a:off x="4788000" y="1628640"/>
            <a:ext cx="4176720" cy="489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Text Box 7"/>
          <p:cNvSpPr/>
          <p:nvPr/>
        </p:nvSpPr>
        <p:spPr>
          <a:xfrm>
            <a:off x="5932440" y="1844640"/>
            <a:ext cx="2466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位于胸腔内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左右各一个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左右支气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别进入左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右两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1454400" y="2133720"/>
            <a:ext cx="593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气体到达肺部以后发生什么变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是如何到达全身各处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914400" y="10666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隶书"/>
              </a:rPr>
              <a:t>妈妈在厨房里炒菜，我们在外面就能闻到炒菜的香味，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914400" y="312408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外面能闻到炒菜的香味，是菜的香味从厨房里飘到外面的缘故，说明了香味能由近及远地飘，即由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浓度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地方向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浓度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地方扩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143000" y="1447920"/>
            <a:ext cx="71578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4200" spc="-1" strike="noStrike">
                <a:solidFill>
                  <a:srgbClr val="333399"/>
                </a:solidFill>
                <a:latin typeface="Times New Roman"/>
                <a:ea typeface="华文隶书"/>
              </a:rPr>
              <a:t>人体内的气体交换是通过气体的</a:t>
            </a:r>
            <a:r>
              <a:rPr b="1" lang="zh-CN" sz="42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扩散作用</a:t>
            </a:r>
            <a:r>
              <a:rPr b="1" lang="zh-CN" sz="4200" spc="-1" strike="noStrike">
                <a:solidFill>
                  <a:srgbClr val="333399"/>
                </a:solidFill>
                <a:latin typeface="Times New Roman"/>
                <a:ea typeface="华文隶书"/>
              </a:rPr>
              <a:t>来实现的。氧气和二氧化碳总是由</a:t>
            </a:r>
            <a:r>
              <a:rPr b="1" lang="zh-CN" sz="42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多</a:t>
            </a:r>
            <a:r>
              <a:rPr b="1" lang="zh-CN" sz="4200" spc="-1" strike="noStrike">
                <a:solidFill>
                  <a:srgbClr val="333399"/>
                </a:solidFill>
                <a:latin typeface="Times New Roman"/>
                <a:ea typeface="华文隶书"/>
              </a:rPr>
              <a:t>的地方向</a:t>
            </a:r>
            <a:r>
              <a:rPr b="1" lang="zh-CN" sz="42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少</a:t>
            </a:r>
            <a:r>
              <a:rPr b="1" lang="zh-CN" sz="4200" spc="-1" strike="noStrike">
                <a:solidFill>
                  <a:srgbClr val="333399"/>
                </a:solidFill>
                <a:latin typeface="Times New Roman"/>
                <a:ea typeface="华文隶书"/>
              </a:rPr>
              <a:t>的地方扩散，直到平衡为止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2"/>
          <p:cNvSpPr txBox="1"/>
          <p:nvPr/>
        </p:nvSpPr>
        <p:spPr>
          <a:xfrm>
            <a:off x="3492360" y="333360"/>
            <a:ext cx="223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中宋"/>
              </a:rPr>
              <a:t>探究</a:t>
            </a:r>
            <a:endParaRPr b="0" lang="en-US" sz="1800" spc="-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2831760" y="12682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Comic Sans MS"/>
                <a:ea typeface="华文中宋"/>
              </a:rPr>
              <a:t>呼吸时二氧化碳体积分数的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10-4-1向石灰水中吹气"/>
          <p:cNvPicPr/>
          <p:nvPr/>
        </p:nvPicPr>
        <p:blipFill>
          <a:blip r:embed="rId1"/>
          <a:stretch/>
        </p:blipFill>
        <p:spPr>
          <a:xfrm>
            <a:off x="2627280" y="2060640"/>
            <a:ext cx="4127400" cy="47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395280" y="836640"/>
          <a:ext cx="8497800" cy="6460920"/>
        </p:xfrm>
        <a:graphic>
          <a:graphicData uri="http://schemas.openxmlformats.org/drawingml/2006/table">
            <a:tbl>
              <a:tblPr/>
              <a:tblGrid>
                <a:gridCol w="1800360"/>
                <a:gridCol w="6697440"/>
              </a:tblGrid>
              <a:tr h="9252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探究的问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作出的假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实验设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41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实验装置</a:t>
                      </a:r>
                      <a:br>
                        <a:rPr sz="2800"/>
                      </a:br>
                      <a:r>
                        <a:rPr b="1" lang="zh-CN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示意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WordArt 19"/>
          <p:cNvSpPr txBox="1"/>
          <p:nvPr/>
        </p:nvSpPr>
        <p:spPr>
          <a:xfrm>
            <a:off x="2556000" y="189000"/>
            <a:ext cx="34560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行楷"/>
              </a:rPr>
              <a:t>探究计划表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2340000" y="90792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人体呼吸时二氧化碳的体积分数有变化吗</a:t>
            </a: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2209680" y="1905120"/>
            <a:ext cx="67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呼出气体比吸入气体中的二氧化碳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2133720" y="2819520"/>
            <a:ext cx="64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将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澄清的石灰水</a:t>
            </a: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倒入两个烧杯，标号</a:t>
            </a: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。</a:t>
            </a:r>
            <a:br>
              <a:rPr sz="2400"/>
            </a:b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用塑料管向</a:t>
            </a: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号烧杯的石灰水里吹气。</a:t>
            </a:r>
            <a:br>
              <a:rPr sz="2400"/>
            </a:b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将塑料管插入</a:t>
            </a: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号烧杯的石灰水中，再将洗耳</a:t>
            </a:r>
            <a:br>
              <a:rPr sz="2400"/>
            </a:b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  球的吹嘴对准塑料管的管口，然后用手挤压</a:t>
            </a:r>
            <a:br>
              <a:rPr sz="2400"/>
            </a:b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  洗耳球，将空气吹入石灰水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3" descr="10-4-1向石灰水中吹气"/>
          <p:cNvPicPr/>
          <p:nvPr/>
        </p:nvPicPr>
        <p:blipFill>
          <a:blip r:embed="rId1"/>
          <a:stretch/>
        </p:blipFill>
        <p:spPr>
          <a:xfrm>
            <a:off x="2514600" y="4876920"/>
            <a:ext cx="1647720" cy="1915920"/>
          </a:xfrm>
          <a:prstGeom prst="rect">
            <a:avLst/>
          </a:prstGeom>
          <a:ln w="0">
            <a:noFill/>
          </a:ln>
        </p:spPr>
      </p:pic>
      <p:pic>
        <p:nvPicPr>
          <p:cNvPr id="316" name="Object 24" descr=""/>
          <p:cNvPicPr/>
          <p:nvPr/>
        </p:nvPicPr>
        <p:blipFill>
          <a:blip r:embed="rId2"/>
          <a:stretch/>
        </p:blipFill>
        <p:spPr>
          <a:xfrm>
            <a:off x="5410080" y="5257800"/>
            <a:ext cx="1443240" cy="1744560"/>
          </a:xfrm>
          <a:prstGeom prst="rect">
            <a:avLst/>
          </a:prstGeom>
          <a:ln w="0">
            <a:noFill/>
          </a:ln>
        </p:spPr>
      </p:pic>
      <p:pic>
        <p:nvPicPr>
          <p:cNvPr id="317" name="Object 25" descr=""/>
          <p:cNvPicPr/>
          <p:nvPr/>
        </p:nvPicPr>
        <p:blipFill>
          <a:blip r:embed="rId3"/>
          <a:stretch/>
        </p:blipFill>
        <p:spPr>
          <a:xfrm>
            <a:off x="6629400" y="4495680"/>
            <a:ext cx="1469880" cy="919440"/>
          </a:xfrm>
          <a:prstGeom prst="rect">
            <a:avLst/>
          </a:prstGeom>
          <a:ln w="0">
            <a:noFill/>
          </a:ln>
        </p:spPr>
      </p:pic>
      <p:sp>
        <p:nvSpPr>
          <p:cNvPr id="318" name="Oval 26"/>
          <p:cNvSpPr/>
          <p:nvPr/>
        </p:nvSpPr>
        <p:spPr>
          <a:xfrm>
            <a:off x="4211640" y="5950080"/>
            <a:ext cx="504720" cy="5047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7"/>
          <p:cNvSpPr/>
          <p:nvPr/>
        </p:nvSpPr>
        <p:spPr>
          <a:xfrm>
            <a:off x="6588000" y="5950080"/>
            <a:ext cx="505080" cy="5047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"/>
                            </p:stCondLst>
                            <p:childTnLst>
                              <p:par>
                                <p:cTn id="5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1279440" y="6015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384560" y="0"/>
            <a:ext cx="445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隶书"/>
                <a:ea typeface="华文隶书"/>
              </a:rPr>
              <a:t>请大家阅读</a:t>
            </a:r>
            <a:r>
              <a:rPr b="1" lang="zh-CN" sz="4400" spc="-1" strike="noStrike">
                <a:solidFill>
                  <a:srgbClr val="ff3300"/>
                </a:solidFill>
                <a:latin typeface="华文隶书"/>
                <a:ea typeface="华文隶书"/>
              </a:rPr>
              <a:t>P50</a:t>
            </a:r>
            <a:r>
              <a:rPr b="1" lang="zh-CN" sz="4400" spc="-1" strike="noStrike">
                <a:solidFill>
                  <a:srgbClr val="ff3300"/>
                </a:solidFill>
                <a:latin typeface="华文隶书"/>
                <a:ea typeface="华文隶书"/>
              </a:rPr>
              <a:t>资料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304920" y="9907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 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瓶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瓶中石灰水的浑浊程度不同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304920" y="1981080"/>
            <a:ext cx="8534160" cy="100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Times New Roman"/>
              </a:rPr>
              <a:t>      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瓶中石灰水的浑浊程度大，说明呼出的气体中二氧化碳的含量较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瓶中石灰水的浑浊程度小，说明空气中二氧化碳的含量较少</a:t>
            </a:r>
            <a:r>
              <a:rPr b="1" lang="zh-CN" sz="3000" spc="-1" strike="noStrike">
                <a:solidFill>
                  <a:srgbClr val="ff6600"/>
                </a:solidFill>
                <a:latin typeface="Times New Roman"/>
              </a:rPr>
              <a:t>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3239280" y="3886200"/>
            <a:ext cx="15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在实验装置中，为什么要设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533520" y="4419720"/>
            <a:ext cx="137160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对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441360" y="5257800"/>
            <a:ext cx="809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人体呼出的气体和环境中的气体有什么差别？为什么会有这样的差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609480" y="609480"/>
          <a:ext cx="8305920" cy="5334120"/>
        </p:xfrm>
        <a:graphic>
          <a:graphicData uri="http://schemas.openxmlformats.org/drawingml/2006/table">
            <a:tbl>
              <a:tblPr/>
              <a:tblGrid>
                <a:gridCol w="2236680"/>
                <a:gridCol w="3162240"/>
                <a:gridCol w="2907000"/>
              </a:tblGrid>
              <a:tr h="852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气体成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环境中的气体（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呼出的气体（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氮      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氧      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         </a:t>
                      </a: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氧化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</a:t>
                      </a: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其他气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5715000"/>
            <a:ext cx="955800" cy="9558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/>
          <p:cNvSpPr/>
          <p:nvPr/>
        </p:nvSpPr>
        <p:spPr>
          <a:xfrm>
            <a:off x="1066680" y="1295280"/>
            <a:ext cx="7391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通过实验可见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呼出的气体中，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氧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含量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减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二氧化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含量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增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并且这一变化是在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肺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发生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147600"/>
            <a:ext cx="91440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肺泡解剖图 </a:t>
            </a: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2679840" y="350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ANLU000P"/>
          <p:cNvPicPr/>
          <p:nvPr/>
        </p:nvPicPr>
        <p:blipFill>
          <a:blip r:embed="rId1"/>
          <a:stretch/>
        </p:blipFill>
        <p:spPr>
          <a:xfrm>
            <a:off x="304920" y="762120"/>
            <a:ext cx="8458200" cy="4647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33" name="Rectangle 5"/>
          <p:cNvSpPr/>
          <p:nvPr/>
        </p:nvSpPr>
        <p:spPr>
          <a:xfrm>
            <a:off x="0" y="543888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左右支气管进入左、右两肺，形成树枝状的分支，在分支的末端，形成了许多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肺泡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4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464832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3"/>
          <p:cNvSpPr/>
          <p:nvPr/>
        </p:nvSpPr>
        <p:spPr>
          <a:xfrm>
            <a:off x="3781440" y="33336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0" y="4648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肺泡外面包绕着许多毛细血管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肺泡和毛细血管的壁都很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都只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一层上皮细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构成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适于气体在肺泡与血液之间进行交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05120" y="-73080"/>
            <a:ext cx="91440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肺泡解剖图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ei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295280" y="76320"/>
            <a:ext cx="6705720" cy="6705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whoosh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" dur="1" fill="hold"/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Object 2" descr=""/>
          <p:cNvPicPr/>
          <p:nvPr/>
        </p:nvPicPr>
        <p:blipFill>
          <a:blip r:embed="rId1"/>
          <a:stretch/>
        </p:blipFill>
        <p:spPr>
          <a:xfrm>
            <a:off x="684360" y="0"/>
            <a:ext cx="7596000" cy="4503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3"/>
          <p:cNvSpPr/>
          <p:nvPr/>
        </p:nvSpPr>
        <p:spPr>
          <a:xfrm>
            <a:off x="539640" y="2060640"/>
            <a:ext cx="5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00d6"/>
                </a:solidFill>
                <a:latin typeface="Arial"/>
              </a:rPr>
              <a:t>肺动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7956720" y="1989000"/>
            <a:ext cx="57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肺静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3276720" y="4292640"/>
            <a:ext cx="23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毛细血管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042920" y="4149720"/>
            <a:ext cx="1513080" cy="5205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静脉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6588000" y="4076640"/>
            <a:ext cx="15130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动脉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8"/>
          <p:cNvSpPr/>
          <p:nvPr/>
        </p:nvSpPr>
        <p:spPr>
          <a:xfrm>
            <a:off x="4572000" y="2421000"/>
            <a:ext cx="71928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9"/>
          <p:cNvSpPr/>
          <p:nvPr/>
        </p:nvSpPr>
        <p:spPr>
          <a:xfrm>
            <a:off x="2843280" y="2997360"/>
            <a:ext cx="792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5796000" y="6021360"/>
            <a:ext cx="30956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肺泡里的气体交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1"/>
          <p:cNvSpPr/>
          <p:nvPr/>
        </p:nvSpPr>
        <p:spPr>
          <a:xfrm>
            <a:off x="3124080" y="594360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16123" y="7301"/>
                </a:moveTo>
                <a:lnTo>
                  <a:pt x="17037" y="7301"/>
                </a:lnTo>
                <a:lnTo>
                  <a:pt x="17420" y="7667"/>
                </a:lnTo>
                <a:lnTo>
                  <a:pt x="26628" y="7667"/>
                </a:lnTo>
                <a:lnTo>
                  <a:pt x="27185" y="8224"/>
                </a:lnTo>
                <a:lnTo>
                  <a:pt x="27185" y="8772"/>
                </a:lnTo>
                <a:lnTo>
                  <a:pt x="29030" y="8772"/>
                </a:lnTo>
                <a:lnTo>
                  <a:pt x="29396" y="8224"/>
                </a:lnTo>
                <a:lnTo>
                  <a:pt x="30136" y="8224"/>
                </a:lnTo>
                <a:lnTo>
                  <a:pt x="30136" y="13376"/>
                </a:lnTo>
                <a:lnTo>
                  <a:pt x="29396" y="13376"/>
                </a:lnTo>
                <a:lnTo>
                  <a:pt x="29030" y="12828"/>
                </a:lnTo>
                <a:lnTo>
                  <a:pt x="27185" y="12828"/>
                </a:lnTo>
                <a:lnTo>
                  <a:pt x="27185" y="14107"/>
                </a:lnTo>
                <a:lnTo>
                  <a:pt x="17602" y="14107"/>
                </a:lnTo>
                <a:lnTo>
                  <a:pt x="17602" y="9877"/>
                </a:lnTo>
                <a:lnTo>
                  <a:pt x="17420" y="9877"/>
                </a:lnTo>
                <a:lnTo>
                  <a:pt x="17037" y="10243"/>
                </a:lnTo>
                <a:lnTo>
                  <a:pt x="16123" y="1024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Object 2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812000" cy="347652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7164360" y="3500280"/>
            <a:ext cx="936720" cy="360"/>
            <a:chOff x="7164360" y="3500280"/>
            <a:chExt cx="936720" cy="360"/>
          </a:xfrm>
        </p:grpSpPr>
        <p:sp>
          <p:nvSpPr>
            <p:cNvPr id="350" name="Line 3"/>
            <p:cNvSpPr/>
            <p:nvPr/>
          </p:nvSpPr>
          <p:spPr>
            <a:xfrm>
              <a:off x="7164360" y="3500280"/>
              <a:ext cx="93672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7164360" y="3500280"/>
              <a:ext cx="9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755640" y="3573360"/>
            <a:ext cx="936720" cy="360"/>
            <a:chOff x="755640" y="3573360"/>
            <a:chExt cx="936720" cy="360"/>
          </a:xfrm>
        </p:grpSpPr>
        <p:sp>
          <p:nvSpPr>
            <p:cNvPr id="353" name="Line 4"/>
            <p:cNvSpPr/>
            <p:nvPr/>
          </p:nvSpPr>
          <p:spPr>
            <a:xfrm>
              <a:off x="755640" y="3573360"/>
              <a:ext cx="93672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755640" y="3573360"/>
              <a:ext cx="9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 Box 5"/>
          <p:cNvSpPr/>
          <p:nvPr/>
        </p:nvSpPr>
        <p:spPr>
          <a:xfrm>
            <a:off x="6732720" y="4076640"/>
            <a:ext cx="1512720" cy="5205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静脉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611280" y="4149720"/>
            <a:ext cx="15127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动脉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276720" y="2565360"/>
            <a:ext cx="718920" cy="1008000"/>
            <a:chOff x="3276720" y="2565360"/>
            <a:chExt cx="718920" cy="1008000"/>
          </a:xfrm>
        </p:grpSpPr>
        <p:sp>
          <p:nvSpPr>
            <p:cNvPr id="358" name="Line 7"/>
            <p:cNvSpPr/>
            <p:nvPr/>
          </p:nvSpPr>
          <p:spPr>
            <a:xfrm>
              <a:off x="3276720" y="2565360"/>
              <a:ext cx="718920" cy="10080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3276720" y="2565360"/>
              <a:ext cx="71892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787640" y="2637000"/>
            <a:ext cx="864000" cy="1008000"/>
            <a:chOff x="4787640" y="2637000"/>
            <a:chExt cx="864000" cy="1008000"/>
          </a:xfrm>
        </p:grpSpPr>
        <p:sp>
          <p:nvSpPr>
            <p:cNvPr id="361" name="Line 8"/>
            <p:cNvSpPr/>
            <p:nvPr/>
          </p:nvSpPr>
          <p:spPr>
            <a:xfrm flipV="1">
              <a:off x="4788000" y="2637000"/>
              <a:ext cx="863640" cy="10080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 rot="10800000">
              <a:off x="4787640" y="2637000"/>
              <a:ext cx="86364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Oval 9"/>
          <p:cNvSpPr/>
          <p:nvPr/>
        </p:nvSpPr>
        <p:spPr>
          <a:xfrm>
            <a:off x="4500720" y="2565360"/>
            <a:ext cx="792000" cy="7923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2700360" y="1916280"/>
            <a:ext cx="719280" cy="7189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7164360" y="2492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00d6"/>
                </a:solidFill>
                <a:latin typeface="Arial"/>
              </a:rPr>
              <a:t>静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539640" y="2565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动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3348000" y="515772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细胞周围的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毛细血管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179280" y="189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组织里的气体交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5"/>
          <p:cNvSpPr/>
          <p:nvPr/>
        </p:nvSpPr>
        <p:spPr>
          <a:xfrm>
            <a:off x="6934320" y="556272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7301"/>
                </a:moveTo>
                <a:lnTo>
                  <a:pt x="10702" y="7301"/>
                </a:lnTo>
                <a:lnTo>
                  <a:pt x="11085" y="7667"/>
                </a:lnTo>
                <a:lnTo>
                  <a:pt x="20294" y="7667"/>
                </a:lnTo>
                <a:lnTo>
                  <a:pt x="20851" y="8224"/>
                </a:lnTo>
                <a:lnTo>
                  <a:pt x="20851" y="8772"/>
                </a:lnTo>
                <a:lnTo>
                  <a:pt x="22696" y="8772"/>
                </a:lnTo>
                <a:lnTo>
                  <a:pt x="23062" y="8224"/>
                </a:lnTo>
                <a:lnTo>
                  <a:pt x="23801" y="8224"/>
                </a:lnTo>
                <a:lnTo>
                  <a:pt x="23801" y="13376"/>
                </a:lnTo>
                <a:lnTo>
                  <a:pt x="23062" y="13376"/>
                </a:lnTo>
                <a:lnTo>
                  <a:pt x="22696" y="12828"/>
                </a:lnTo>
                <a:lnTo>
                  <a:pt x="20851" y="12828"/>
                </a:lnTo>
                <a:lnTo>
                  <a:pt x="20851" y="14107"/>
                </a:lnTo>
                <a:lnTo>
                  <a:pt x="11268" y="14107"/>
                </a:lnTo>
                <a:lnTo>
                  <a:pt x="11268" y="9877"/>
                </a:lnTo>
                <a:lnTo>
                  <a:pt x="11085" y="9877"/>
                </a:lnTo>
                <a:lnTo>
                  <a:pt x="10702" y="10243"/>
                </a:lnTo>
                <a:lnTo>
                  <a:pt x="9788" y="1024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10-4-2人体内气体交换示意图"/>
          <p:cNvPicPr/>
          <p:nvPr/>
        </p:nvPicPr>
        <p:blipFill>
          <a:blip r:embed="rId1"/>
          <a:stretch/>
        </p:blipFill>
        <p:spPr>
          <a:xfrm>
            <a:off x="324000" y="189000"/>
            <a:ext cx="3700440" cy="6408720"/>
          </a:xfrm>
          <a:prstGeom prst="rect">
            <a:avLst/>
          </a:prstGeom>
          <a:ln w="0">
            <a:noFill/>
          </a:ln>
        </p:spPr>
      </p:pic>
      <p:grpSp>
        <p:nvGrpSpPr>
          <p:cNvPr id="371" name=""/>
          <p:cNvGrpSpPr/>
          <p:nvPr/>
        </p:nvGrpSpPr>
        <p:grpSpPr>
          <a:xfrm>
            <a:off x="2448000" y="1484280"/>
            <a:ext cx="2303280" cy="360"/>
            <a:chOff x="2448000" y="1484280"/>
            <a:chExt cx="2303280" cy="360"/>
          </a:xfrm>
        </p:grpSpPr>
        <p:sp>
          <p:nvSpPr>
            <p:cNvPr id="372" name="Line 3"/>
            <p:cNvSpPr/>
            <p:nvPr/>
          </p:nvSpPr>
          <p:spPr>
            <a:xfrm>
              <a:off x="2448000" y="1484280"/>
              <a:ext cx="2303280" cy="0"/>
            </a:xfrm>
            <a:prstGeom prst="line">
              <a:avLst/>
            </a:prstGeom>
            <a:ln w="2844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2448000" y="1484280"/>
              <a:ext cx="23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411280" y="6237360"/>
            <a:ext cx="2340000" cy="360"/>
            <a:chOff x="2411280" y="6237360"/>
            <a:chExt cx="2340000" cy="360"/>
          </a:xfrm>
        </p:grpSpPr>
        <p:sp>
          <p:nvSpPr>
            <p:cNvPr id="375" name="Line 4"/>
            <p:cNvSpPr/>
            <p:nvPr/>
          </p:nvSpPr>
          <p:spPr>
            <a:xfrm>
              <a:off x="2411280" y="6237360"/>
              <a:ext cx="2340000" cy="0"/>
            </a:xfrm>
            <a:prstGeom prst="line">
              <a:avLst/>
            </a:prstGeom>
            <a:ln w="2844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2411280" y="6237360"/>
              <a:ext cx="234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5"/>
          <p:cNvSpPr/>
          <p:nvPr/>
        </p:nvSpPr>
        <p:spPr>
          <a:xfrm>
            <a:off x="5466600" y="1197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Comic Sans MS"/>
                <a:ea typeface="华文中宋"/>
              </a:rPr>
              <a:t>肺泡的气体交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466600" y="59500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Comic Sans MS"/>
                <a:ea typeface="华文中宋"/>
              </a:rPr>
              <a:t>组织的气体交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5362920" y="198900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800d6"/>
                </a:solidFill>
                <a:latin typeface="Comic Sans MS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3800d6"/>
                </a:solidFill>
                <a:latin typeface="Comic Sans MS"/>
                <a:ea typeface="华文中宋"/>
              </a:rPr>
              <a:t>静脉血</a:t>
            </a:r>
            <a:r>
              <a:rPr b="0" lang="en-US" sz="2800" spc="-1" strike="noStrike">
                <a:solidFill>
                  <a:srgbClr val="3800d6"/>
                </a:solidFill>
                <a:latin typeface="Comic Sans MS"/>
                <a:ea typeface="华文中宋"/>
              </a:rPr>
              <a:t>→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  <a:ea typeface="华文中宋"/>
              </a:rPr>
              <a:t>动脉血</a:t>
            </a:r>
            <a:r>
              <a:rPr b="0" lang="zh-CN" sz="2800" spc="-1" strike="noStrike">
                <a:solidFill>
                  <a:srgbClr val="3800d6"/>
                </a:solidFill>
                <a:latin typeface="Comic Sans MS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5291640" y="537372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800d6"/>
                </a:solidFill>
                <a:latin typeface="Comic Sans MS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  <a:ea typeface="华文中宋"/>
              </a:rPr>
              <a:t>动脉血</a:t>
            </a:r>
            <a:r>
              <a:rPr b="0" lang="en-US" sz="2800" spc="-1" strike="noStrike">
                <a:solidFill>
                  <a:srgbClr val="3800d6"/>
                </a:solidFill>
                <a:latin typeface="Comic Sans MS"/>
                <a:ea typeface="华文中宋"/>
              </a:rPr>
              <a:t>→</a:t>
            </a:r>
            <a:r>
              <a:rPr b="0" lang="zh-CN" sz="2800" spc="-1" strike="noStrike">
                <a:solidFill>
                  <a:srgbClr val="3800d6"/>
                </a:solidFill>
                <a:latin typeface="Comic Sans MS"/>
                <a:ea typeface="华文中宋"/>
              </a:rPr>
              <a:t>静脉血</a:t>
            </a:r>
            <a:r>
              <a:rPr b="0" lang="zh-CN" sz="2800" spc="-1" strike="noStrike">
                <a:solidFill>
                  <a:srgbClr val="3800d6"/>
                </a:solidFill>
                <a:latin typeface="Comic Sans MS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0" y="41148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吸气时，肺泡扩张，氧气进入血液，同时，血液中的二氧化碳进入肺泡，随呼气过程排出体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44280" y="56386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进入血液中的氧气通过血液循环输送到全身各处的组织细胞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" descr="http://www.pep.com.cn/images/20021201/import84099_3.jpg"/>
          <p:cNvPicPr/>
          <p:nvPr/>
        </p:nvPicPr>
        <p:blipFill>
          <a:blip r:embed="rId1"/>
          <a:stretch/>
        </p:blipFill>
        <p:spPr>
          <a:xfrm>
            <a:off x="152280" y="0"/>
            <a:ext cx="8763120" cy="42228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1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9600" y="228600"/>
            <a:ext cx="530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732600" y="11764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结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1067760" y="2363760"/>
            <a:ext cx="64670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肺泡与血液的气体交换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5400" spc="-1" strike="noStrike">
                <a:solidFill>
                  <a:srgbClr val="3333ff"/>
                </a:solidFill>
                <a:latin typeface="华文行楷"/>
                <a:ea typeface="华文行楷"/>
              </a:rPr>
              <a:t>肺泡</a:t>
            </a:r>
            <a:r>
              <a:rPr b="1" lang="zh-CN" sz="3200" spc="-1" strike="noStrike">
                <a:solidFill>
                  <a:srgbClr val="3333ff"/>
                </a:solidFill>
                <a:latin typeface="华文行楷"/>
                <a:ea typeface="华文行楷"/>
              </a:rPr>
              <a:t>                             </a:t>
            </a:r>
            <a:r>
              <a:rPr b="1" lang="zh-CN" sz="5400" spc="-1" strike="noStrike">
                <a:solidFill>
                  <a:srgbClr val="3333ff"/>
                </a:solidFill>
                <a:latin typeface="华文行楷"/>
                <a:ea typeface="华文行楷"/>
              </a:rPr>
              <a:t>血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33920" y="3962520"/>
            <a:ext cx="2743200" cy="360"/>
            <a:chOff x="3733920" y="3962520"/>
            <a:chExt cx="2743200" cy="360"/>
          </a:xfrm>
        </p:grpSpPr>
        <p:sp>
          <p:nvSpPr>
            <p:cNvPr id="388" name="Line 4"/>
            <p:cNvSpPr/>
            <p:nvPr/>
          </p:nvSpPr>
          <p:spPr>
            <a:xfrm>
              <a:off x="3733920" y="3962520"/>
              <a:ext cx="2743200" cy="0"/>
            </a:xfrm>
            <a:prstGeom prst="line">
              <a:avLst/>
            </a:prstGeom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3733920" y="3962520"/>
              <a:ext cx="274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3657600" y="4267080"/>
            <a:ext cx="2666880" cy="360"/>
            <a:chOff x="3657600" y="4267080"/>
            <a:chExt cx="2666880" cy="360"/>
          </a:xfrm>
        </p:grpSpPr>
        <p:sp>
          <p:nvSpPr>
            <p:cNvPr id="391" name="Line 5"/>
            <p:cNvSpPr/>
            <p:nvPr/>
          </p:nvSpPr>
          <p:spPr>
            <a:xfrm flipH="1">
              <a:off x="3657600" y="4267080"/>
              <a:ext cx="2666880" cy="0"/>
            </a:xfrm>
            <a:prstGeom prst="line">
              <a:avLst/>
            </a:prstGeom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>
              <a:off x="3657600" y="4267080"/>
              <a:ext cx="2666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Text Box 6"/>
          <p:cNvSpPr/>
          <p:nvPr/>
        </p:nvSpPr>
        <p:spPr>
          <a:xfrm>
            <a:off x="4644720" y="31240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华文行楷"/>
                <a:ea typeface="华文行楷"/>
              </a:rPr>
              <a:t>氧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4370400" y="4419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华文行楷"/>
                <a:ea typeface="华文行楷"/>
              </a:rPr>
              <a:t>二氧化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呼吸全过程"/>
          <p:cNvPicPr/>
          <p:nvPr/>
        </p:nvPicPr>
        <p:blipFill>
          <a:blip r:embed="rId1"/>
          <a:srcRect l="0" t="0" r="0" b="33748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3"/>
          <p:cNvSpPr/>
          <p:nvPr/>
        </p:nvSpPr>
        <p:spPr>
          <a:xfrm>
            <a:off x="457200" y="493704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肺与外界的气体交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2362320" y="493704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肺泡与血液的气体交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4648320" y="493704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气体在血液中的运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6705720" y="493704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血液与组织细胞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气体交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04920" y="1752480"/>
            <a:ext cx="685800" cy="1371600"/>
          </a:xfrm>
          <a:prstGeom prst="rect">
            <a:avLst/>
          </a:prstGeom>
          <a:solidFill>
            <a:srgbClr val="d5d5ff"/>
          </a:solidFill>
          <a:ln w="9360">
            <a:solidFill>
              <a:srgbClr val="d5d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232920" y="1270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外界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2362320" y="1676520"/>
            <a:ext cx="457200" cy="1143000"/>
          </a:xfrm>
          <a:prstGeom prst="rect">
            <a:avLst/>
          </a:prstGeom>
          <a:solidFill>
            <a:srgbClr val="d5d5ff"/>
          </a:solidFill>
          <a:ln w="9360">
            <a:solidFill>
              <a:srgbClr val="d5d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3581280" y="457200"/>
            <a:ext cx="838440" cy="3276720"/>
          </a:xfrm>
          <a:prstGeom prst="rect">
            <a:avLst/>
          </a:prstGeom>
          <a:solidFill>
            <a:srgbClr val="d5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1"/>
          <p:cNvSpPr/>
          <p:nvPr/>
        </p:nvSpPr>
        <p:spPr>
          <a:xfrm>
            <a:off x="3173760" y="304920"/>
            <a:ext cx="1155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肺部的毛细血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2"/>
          <p:cNvSpPr/>
          <p:nvPr/>
        </p:nvSpPr>
        <p:spPr>
          <a:xfrm>
            <a:off x="4952880" y="1523880"/>
            <a:ext cx="914400" cy="1752840"/>
          </a:xfrm>
          <a:prstGeom prst="rect">
            <a:avLst/>
          </a:prstGeom>
          <a:solidFill>
            <a:srgbClr val="d5d5ff"/>
          </a:solidFill>
          <a:ln w="9360">
            <a:solidFill>
              <a:srgbClr val="d5d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血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循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3"/>
          <p:cNvSpPr/>
          <p:nvPr/>
        </p:nvSpPr>
        <p:spPr>
          <a:xfrm>
            <a:off x="6400800" y="380880"/>
            <a:ext cx="914400" cy="3276720"/>
          </a:xfrm>
          <a:prstGeom prst="rect">
            <a:avLst/>
          </a:prstGeom>
          <a:solidFill>
            <a:srgbClr val="d5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4"/>
          <p:cNvSpPr/>
          <p:nvPr/>
        </p:nvSpPr>
        <p:spPr>
          <a:xfrm>
            <a:off x="6055200" y="380880"/>
            <a:ext cx="11552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的毛细血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8001000" y="1143000"/>
            <a:ext cx="838080" cy="2514600"/>
          </a:xfrm>
          <a:prstGeom prst="rect">
            <a:avLst/>
          </a:prstGeom>
          <a:solidFill>
            <a:srgbClr val="d5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6"/>
          <p:cNvSpPr/>
          <p:nvPr/>
        </p:nvSpPr>
        <p:spPr>
          <a:xfrm>
            <a:off x="2971800" y="1371600"/>
            <a:ext cx="533520" cy="838080"/>
          </a:xfrm>
          <a:prstGeom prst="rect">
            <a:avLst/>
          </a:prstGeom>
          <a:solidFill>
            <a:srgbClr val="d5d5ff"/>
          </a:solidFill>
          <a:ln w="9360">
            <a:solidFill>
              <a:srgbClr val="d5d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7"/>
          <p:cNvSpPr/>
          <p:nvPr/>
        </p:nvSpPr>
        <p:spPr>
          <a:xfrm>
            <a:off x="7391520" y="1371600"/>
            <a:ext cx="533160" cy="838080"/>
          </a:xfrm>
          <a:prstGeom prst="rect">
            <a:avLst/>
          </a:prstGeom>
          <a:solidFill>
            <a:srgbClr val="d5d5ff"/>
          </a:solidFill>
          <a:ln w="9360">
            <a:solidFill>
              <a:srgbClr val="d5d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8"/>
          <p:cNvSpPr/>
          <p:nvPr/>
        </p:nvSpPr>
        <p:spPr>
          <a:xfrm>
            <a:off x="2971800" y="2743200"/>
            <a:ext cx="533520" cy="1066680"/>
          </a:xfrm>
          <a:prstGeom prst="rect">
            <a:avLst/>
          </a:prstGeom>
          <a:solidFill>
            <a:srgbClr val="d5d5ff"/>
          </a:solidFill>
          <a:ln w="9360">
            <a:solidFill>
              <a:srgbClr val="d5d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化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9"/>
          <p:cNvSpPr/>
          <p:nvPr/>
        </p:nvSpPr>
        <p:spPr>
          <a:xfrm>
            <a:off x="7315200" y="2666880"/>
            <a:ext cx="533520" cy="1067040"/>
          </a:xfrm>
          <a:prstGeom prst="rect">
            <a:avLst/>
          </a:prstGeom>
          <a:solidFill>
            <a:srgbClr val="d5d5ff"/>
          </a:solidFill>
          <a:ln w="9360">
            <a:solidFill>
              <a:srgbClr val="d5d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化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0"/>
          <p:cNvSpPr/>
          <p:nvPr/>
        </p:nvSpPr>
        <p:spPr>
          <a:xfrm>
            <a:off x="1523880" y="2133720"/>
            <a:ext cx="762120" cy="685800"/>
          </a:xfrm>
          <a:prstGeom prst="rect">
            <a:avLst/>
          </a:prstGeom>
          <a:solidFill>
            <a:srgbClr val="d5d5ff"/>
          </a:solidFill>
          <a:ln w="9360">
            <a:solidFill>
              <a:srgbClr val="d5d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呼吸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Pict0004"/>
          <p:cNvPicPr/>
          <p:nvPr/>
        </p:nvPicPr>
        <p:blipFill>
          <a:blip r:embed="rId1"/>
          <a:stretch/>
        </p:blipFill>
        <p:spPr>
          <a:xfrm>
            <a:off x="0" y="1066680"/>
            <a:ext cx="3048120" cy="4724640"/>
          </a:xfrm>
          <a:prstGeom prst="rect">
            <a:avLst/>
          </a:prstGeom>
          <a:ln w="0">
            <a:noFill/>
          </a:ln>
        </p:spPr>
      </p:pic>
      <p:sp>
        <p:nvSpPr>
          <p:cNvPr id="415" name="未知"/>
          <p:cNvSpPr/>
          <p:nvPr/>
        </p:nvSpPr>
        <p:spPr>
          <a:xfrm>
            <a:off x="7937640" y="1820880"/>
            <a:ext cx="564840" cy="743040"/>
          </a:xfrm>
          <a:custGeom>
            <a:avLst/>
            <a:gdLst/>
            <a:ahLst/>
            <a:rect l="l" t="t" r="r" b="b"/>
            <a:pathLst>
              <a:path w="296" h="248">
                <a:moveTo>
                  <a:pt x="56" y="0"/>
                </a:moveTo>
                <a:cubicBezTo>
                  <a:pt x="36" y="32"/>
                  <a:pt x="16" y="64"/>
                  <a:pt x="8" y="96"/>
                </a:cubicBezTo>
                <a:cubicBezTo>
                  <a:pt x="0" y="128"/>
                  <a:pt x="0" y="168"/>
                  <a:pt x="8" y="192"/>
                </a:cubicBezTo>
                <a:cubicBezTo>
                  <a:pt x="16" y="216"/>
                  <a:pt x="24" y="232"/>
                  <a:pt x="56" y="240"/>
                </a:cubicBezTo>
                <a:cubicBezTo>
                  <a:pt x="88" y="248"/>
                  <a:pt x="160" y="240"/>
                  <a:pt x="200" y="240"/>
                </a:cubicBezTo>
                <a:cubicBezTo>
                  <a:pt x="240" y="240"/>
                  <a:pt x="280" y="240"/>
                  <a:pt x="296" y="24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未知"/>
          <p:cNvSpPr/>
          <p:nvPr/>
        </p:nvSpPr>
        <p:spPr>
          <a:xfrm>
            <a:off x="8182080" y="380880"/>
            <a:ext cx="320400" cy="336600"/>
          </a:xfrm>
          <a:custGeom>
            <a:avLst/>
            <a:gdLst/>
            <a:ahLst/>
            <a:rect l="l" t="t" r="r" b="b"/>
            <a:pathLst>
              <a:path w="168" h="112">
                <a:moveTo>
                  <a:pt x="24" y="0"/>
                </a:moveTo>
                <a:cubicBezTo>
                  <a:pt x="12" y="40"/>
                  <a:pt x="0" y="80"/>
                  <a:pt x="24" y="96"/>
                </a:cubicBezTo>
                <a:cubicBezTo>
                  <a:pt x="48" y="112"/>
                  <a:pt x="108" y="104"/>
                  <a:pt x="168" y="9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3048120" y="2743200"/>
            <a:ext cx="54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843520" y="1531440"/>
            <a:ext cx="1192320" cy="289080"/>
            <a:chOff x="5843520" y="1531440"/>
            <a:chExt cx="1192320" cy="289080"/>
          </a:xfrm>
        </p:grpSpPr>
        <p:sp>
          <p:nvSpPr>
            <p:cNvPr id="419" name="Line 6"/>
            <p:cNvSpPr/>
            <p:nvPr/>
          </p:nvSpPr>
          <p:spPr>
            <a:xfrm flipV="1">
              <a:off x="5843520" y="1531440"/>
              <a:ext cx="1192320" cy="28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 rot="10800000">
              <a:off x="5843520" y="1531440"/>
              <a:ext cx="1192320" cy="2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7"/>
          <p:cNvGrpSpPr/>
          <p:nvPr/>
        </p:nvGrpSpPr>
        <p:grpSpPr>
          <a:xfrm>
            <a:off x="3809880" y="685800"/>
            <a:ext cx="5029200" cy="4724280"/>
            <a:chOff x="3809880" y="685800"/>
            <a:chExt cx="5029200" cy="4724280"/>
          </a:xfrm>
        </p:grpSpPr>
        <p:grpSp>
          <p:nvGrpSpPr>
            <p:cNvPr id="422" name="Group 8"/>
            <p:cNvGrpSpPr/>
            <p:nvPr/>
          </p:nvGrpSpPr>
          <p:grpSpPr>
            <a:xfrm>
              <a:off x="4190760" y="838080"/>
              <a:ext cx="4648320" cy="3644640"/>
              <a:chOff x="4190760" y="838080"/>
              <a:chExt cx="4648320" cy="3644640"/>
            </a:xfrm>
          </p:grpSpPr>
          <p:sp>
            <p:nvSpPr>
              <p:cNvPr id="423" name="Text Box 9"/>
              <p:cNvSpPr/>
              <p:nvPr/>
            </p:nvSpPr>
            <p:spPr>
              <a:xfrm>
                <a:off x="4190760" y="838080"/>
                <a:ext cx="430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ff"/>
                    </a:solidFill>
                    <a:latin typeface="Times New Roman"/>
                  </a:rPr>
                  <a:t>1.</a:t>
                </a:r>
                <a:r>
                  <a:rPr b="1" lang="zh-CN" sz="2800" spc="-1" strike="noStrike">
                    <a:solidFill>
                      <a:srgbClr val="3333ff"/>
                    </a:solidFill>
                    <a:latin typeface="Times New Roman"/>
                  </a:rPr>
                  <a:t>肺泡数目多，面积大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10"/>
              <p:cNvSpPr/>
              <p:nvPr/>
            </p:nvSpPr>
            <p:spPr>
              <a:xfrm>
                <a:off x="4267080" y="2590560"/>
                <a:ext cx="3574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ff"/>
                    </a:solidFill>
                    <a:latin typeface="Times New Roman"/>
                  </a:rPr>
                  <a:t>2.</a:t>
                </a:r>
                <a:r>
                  <a:rPr b="1" lang="zh-CN" sz="2800" spc="-1" strike="noStrike">
                    <a:solidFill>
                      <a:srgbClr val="3333ff"/>
                    </a:solidFill>
                    <a:latin typeface="Times New Roman"/>
                  </a:rPr>
                  <a:t>肺泡壁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 Box 11"/>
              <p:cNvSpPr/>
              <p:nvPr/>
            </p:nvSpPr>
            <p:spPr>
              <a:xfrm>
                <a:off x="8229240" y="1752480"/>
                <a:ext cx="609840" cy="1800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有利于气体交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12"/>
              <p:cNvSpPr/>
              <p:nvPr/>
            </p:nvSpPr>
            <p:spPr>
              <a:xfrm>
                <a:off x="4190760" y="3962160"/>
                <a:ext cx="3352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ff"/>
                    </a:solidFill>
                    <a:latin typeface="Times New Roman"/>
                  </a:rPr>
                  <a:t>3.</a:t>
                </a:r>
                <a:r>
                  <a:rPr b="1" lang="zh-CN" sz="2800" spc="-1" strike="noStrike">
                    <a:solidFill>
                      <a:srgbClr val="3333ff"/>
                    </a:solidFill>
                    <a:latin typeface="Times New Roman"/>
                  </a:rPr>
                  <a:t>肺泡壁与毛细血管壁紧贴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7" name="Picture 13" descr="Pict0003"/>
            <p:cNvPicPr/>
            <p:nvPr/>
          </p:nvPicPr>
          <p:blipFill>
            <a:blip r:embed="rId2"/>
            <a:stretch/>
          </p:blipFill>
          <p:spPr>
            <a:xfrm>
              <a:off x="3809880" y="685800"/>
              <a:ext cx="277920" cy="47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14" descr="Pict0003"/>
            <p:cNvPicPr/>
            <p:nvPr/>
          </p:nvPicPr>
          <p:blipFill>
            <a:blip r:embed="rId3"/>
            <a:stretch/>
          </p:blipFill>
          <p:spPr>
            <a:xfrm>
              <a:off x="7772400" y="838080"/>
              <a:ext cx="276120" cy="434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课堂练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84000" y="1413000"/>
            <a:ext cx="845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气体从外界进入人体内的路线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鼻腔   咽    喉   气管   支气管   肺泡   肺泡外毛细血管     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鼻腔   气管   支气管  肺泡   肺泡外毛细血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鼻腔   咽    喉   气管   支气管  肺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鼻腔   咽    喉   气管   支气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4500720" y="4869000"/>
            <a:ext cx="934920" cy="72720"/>
            <a:chOff x="4500720" y="4869000"/>
            <a:chExt cx="934920" cy="72720"/>
          </a:xfrm>
        </p:grpSpPr>
        <p:sp>
          <p:nvSpPr>
            <p:cNvPr id="432" name="Line 4"/>
            <p:cNvSpPr/>
            <p:nvPr/>
          </p:nvSpPr>
          <p:spPr>
            <a:xfrm>
              <a:off x="4500720" y="4869000"/>
              <a:ext cx="934920" cy="72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 txBox="1"/>
            <p:nvPr/>
          </p:nvSpPr>
          <p:spPr>
            <a:xfrm>
              <a:off x="4500720" y="4869000"/>
              <a:ext cx="934920" cy="7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484360" y="2421000"/>
            <a:ext cx="360360" cy="360"/>
            <a:chOff x="2484360" y="2421000"/>
            <a:chExt cx="360360" cy="360"/>
          </a:xfrm>
        </p:grpSpPr>
        <p:sp>
          <p:nvSpPr>
            <p:cNvPr id="435" name="Line 5"/>
            <p:cNvSpPr/>
            <p:nvPr/>
          </p:nvSpPr>
          <p:spPr>
            <a:xfrm>
              <a:off x="2484360" y="2421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2484360" y="242100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8459640" y="2421000"/>
            <a:ext cx="360360" cy="360"/>
            <a:chOff x="8459640" y="2421000"/>
            <a:chExt cx="360360" cy="360"/>
          </a:xfrm>
        </p:grpSpPr>
        <p:sp>
          <p:nvSpPr>
            <p:cNvPr id="438" name="Line 6"/>
            <p:cNvSpPr/>
            <p:nvPr/>
          </p:nvSpPr>
          <p:spPr>
            <a:xfrm>
              <a:off x="8459640" y="2421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 txBox="1"/>
            <p:nvPr/>
          </p:nvSpPr>
          <p:spPr>
            <a:xfrm>
              <a:off x="8459640" y="242100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348000" y="2421000"/>
            <a:ext cx="360360" cy="360"/>
            <a:chOff x="3348000" y="2421000"/>
            <a:chExt cx="360360" cy="360"/>
          </a:xfrm>
        </p:grpSpPr>
        <p:sp>
          <p:nvSpPr>
            <p:cNvPr id="441" name="Line 7"/>
            <p:cNvSpPr/>
            <p:nvPr/>
          </p:nvSpPr>
          <p:spPr>
            <a:xfrm>
              <a:off x="3348000" y="2421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 txBox="1"/>
            <p:nvPr/>
          </p:nvSpPr>
          <p:spPr>
            <a:xfrm>
              <a:off x="3348000" y="242100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211640" y="2421000"/>
            <a:ext cx="360360" cy="360"/>
            <a:chOff x="4211640" y="2421000"/>
            <a:chExt cx="360360" cy="360"/>
          </a:xfrm>
        </p:grpSpPr>
        <p:sp>
          <p:nvSpPr>
            <p:cNvPr id="444" name="Line 8"/>
            <p:cNvSpPr/>
            <p:nvPr/>
          </p:nvSpPr>
          <p:spPr>
            <a:xfrm>
              <a:off x="4211640" y="2421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4211640" y="242100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5435640" y="2421000"/>
            <a:ext cx="360360" cy="360"/>
            <a:chOff x="5435640" y="2421000"/>
            <a:chExt cx="360360" cy="360"/>
          </a:xfrm>
        </p:grpSpPr>
        <p:sp>
          <p:nvSpPr>
            <p:cNvPr id="447" name="Line 9"/>
            <p:cNvSpPr/>
            <p:nvPr/>
          </p:nvSpPr>
          <p:spPr>
            <a:xfrm>
              <a:off x="5435640" y="2421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5435640" y="242100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7164360" y="2421000"/>
            <a:ext cx="360360" cy="360"/>
            <a:chOff x="7164360" y="2421000"/>
            <a:chExt cx="360360" cy="360"/>
          </a:xfrm>
        </p:grpSpPr>
        <p:sp>
          <p:nvSpPr>
            <p:cNvPr id="450" name="Line 10"/>
            <p:cNvSpPr/>
            <p:nvPr/>
          </p:nvSpPr>
          <p:spPr>
            <a:xfrm>
              <a:off x="7164360" y="2421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 txBox="1"/>
            <p:nvPr/>
          </p:nvSpPr>
          <p:spPr>
            <a:xfrm>
              <a:off x="7164360" y="242100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3780000" y="3500280"/>
            <a:ext cx="360360" cy="360"/>
            <a:chOff x="3780000" y="3500280"/>
            <a:chExt cx="360360" cy="360"/>
          </a:xfrm>
        </p:grpSpPr>
        <p:sp>
          <p:nvSpPr>
            <p:cNvPr id="453" name="Line 11"/>
            <p:cNvSpPr/>
            <p:nvPr/>
          </p:nvSpPr>
          <p:spPr>
            <a:xfrm>
              <a:off x="3780000" y="3500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3780000" y="350028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484360" y="3500280"/>
            <a:ext cx="360360" cy="360"/>
            <a:chOff x="2484360" y="3500280"/>
            <a:chExt cx="360360" cy="360"/>
          </a:xfrm>
        </p:grpSpPr>
        <p:sp>
          <p:nvSpPr>
            <p:cNvPr id="456" name="Line 12"/>
            <p:cNvSpPr/>
            <p:nvPr/>
          </p:nvSpPr>
          <p:spPr>
            <a:xfrm>
              <a:off x="2484360" y="3500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>
              <a:off x="2484360" y="350028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364000" y="3500280"/>
            <a:ext cx="360360" cy="360"/>
            <a:chOff x="5364000" y="3500280"/>
            <a:chExt cx="360360" cy="360"/>
          </a:xfrm>
        </p:grpSpPr>
        <p:sp>
          <p:nvSpPr>
            <p:cNvPr id="459" name="Line 13"/>
            <p:cNvSpPr/>
            <p:nvPr/>
          </p:nvSpPr>
          <p:spPr>
            <a:xfrm>
              <a:off x="5364000" y="3500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 txBox="1"/>
            <p:nvPr/>
          </p:nvSpPr>
          <p:spPr>
            <a:xfrm>
              <a:off x="5364000" y="350028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516720" y="3500280"/>
            <a:ext cx="360360" cy="360"/>
            <a:chOff x="6516720" y="3500280"/>
            <a:chExt cx="360360" cy="360"/>
          </a:xfrm>
        </p:grpSpPr>
        <p:sp>
          <p:nvSpPr>
            <p:cNvPr id="462" name="Line 14"/>
            <p:cNvSpPr/>
            <p:nvPr/>
          </p:nvSpPr>
          <p:spPr>
            <a:xfrm>
              <a:off x="6516720" y="3500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 txBox="1"/>
            <p:nvPr/>
          </p:nvSpPr>
          <p:spPr>
            <a:xfrm>
              <a:off x="6516720" y="350028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411280" y="4724280"/>
            <a:ext cx="360360" cy="360"/>
            <a:chOff x="2411280" y="4724280"/>
            <a:chExt cx="360360" cy="360"/>
          </a:xfrm>
        </p:grpSpPr>
        <p:sp>
          <p:nvSpPr>
            <p:cNvPr id="465" name="Line 15"/>
            <p:cNvSpPr/>
            <p:nvPr/>
          </p:nvSpPr>
          <p:spPr>
            <a:xfrm>
              <a:off x="2411280" y="4724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 txBox="1"/>
            <p:nvPr/>
          </p:nvSpPr>
          <p:spPr>
            <a:xfrm>
              <a:off x="2411280" y="472428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3276720" y="4724280"/>
            <a:ext cx="360360" cy="360"/>
            <a:chOff x="3276720" y="4724280"/>
            <a:chExt cx="360360" cy="360"/>
          </a:xfrm>
        </p:grpSpPr>
        <p:sp>
          <p:nvSpPr>
            <p:cNvPr id="468" name="Line 16"/>
            <p:cNvSpPr/>
            <p:nvPr/>
          </p:nvSpPr>
          <p:spPr>
            <a:xfrm>
              <a:off x="3276720" y="4724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3276720" y="472428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211640" y="4724280"/>
            <a:ext cx="360360" cy="360"/>
            <a:chOff x="4211640" y="4724280"/>
            <a:chExt cx="360360" cy="360"/>
          </a:xfrm>
        </p:grpSpPr>
        <p:sp>
          <p:nvSpPr>
            <p:cNvPr id="471" name="Line 17"/>
            <p:cNvSpPr/>
            <p:nvPr/>
          </p:nvSpPr>
          <p:spPr>
            <a:xfrm>
              <a:off x="4211640" y="4724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>
              <a:off x="4211640" y="472428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435640" y="4724280"/>
            <a:ext cx="360360" cy="360"/>
            <a:chOff x="5435640" y="4724280"/>
            <a:chExt cx="360360" cy="360"/>
          </a:xfrm>
        </p:grpSpPr>
        <p:sp>
          <p:nvSpPr>
            <p:cNvPr id="474" name="Line 18"/>
            <p:cNvSpPr/>
            <p:nvPr/>
          </p:nvSpPr>
          <p:spPr>
            <a:xfrm>
              <a:off x="5435640" y="4724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5435640" y="472428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7093080" y="4724280"/>
            <a:ext cx="360360" cy="360"/>
            <a:chOff x="7093080" y="4724280"/>
            <a:chExt cx="360360" cy="360"/>
          </a:xfrm>
        </p:grpSpPr>
        <p:sp>
          <p:nvSpPr>
            <p:cNvPr id="477" name="Line 19"/>
            <p:cNvSpPr/>
            <p:nvPr/>
          </p:nvSpPr>
          <p:spPr>
            <a:xfrm>
              <a:off x="7093080" y="4724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 txBox="1"/>
            <p:nvPr/>
          </p:nvSpPr>
          <p:spPr>
            <a:xfrm>
              <a:off x="7093080" y="472428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411280" y="5373720"/>
            <a:ext cx="360360" cy="360"/>
            <a:chOff x="2411280" y="5373720"/>
            <a:chExt cx="360360" cy="360"/>
          </a:xfrm>
        </p:grpSpPr>
        <p:sp>
          <p:nvSpPr>
            <p:cNvPr id="480" name="Line 20"/>
            <p:cNvSpPr/>
            <p:nvPr/>
          </p:nvSpPr>
          <p:spPr>
            <a:xfrm>
              <a:off x="2411280" y="5373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 txBox="1"/>
            <p:nvPr/>
          </p:nvSpPr>
          <p:spPr>
            <a:xfrm>
              <a:off x="2411280" y="537372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3276720" y="5373720"/>
            <a:ext cx="360360" cy="360"/>
            <a:chOff x="3276720" y="5373720"/>
            <a:chExt cx="360360" cy="360"/>
          </a:xfrm>
        </p:grpSpPr>
        <p:sp>
          <p:nvSpPr>
            <p:cNvPr id="483" name="Line 21"/>
            <p:cNvSpPr/>
            <p:nvPr/>
          </p:nvSpPr>
          <p:spPr>
            <a:xfrm>
              <a:off x="3276720" y="5373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 txBox="1"/>
            <p:nvPr/>
          </p:nvSpPr>
          <p:spPr>
            <a:xfrm>
              <a:off x="3276720" y="537372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4140360" y="5373720"/>
            <a:ext cx="360360" cy="360"/>
            <a:chOff x="4140360" y="5373720"/>
            <a:chExt cx="360360" cy="360"/>
          </a:xfrm>
        </p:grpSpPr>
        <p:sp>
          <p:nvSpPr>
            <p:cNvPr id="486" name="Line 22"/>
            <p:cNvSpPr/>
            <p:nvPr/>
          </p:nvSpPr>
          <p:spPr>
            <a:xfrm>
              <a:off x="4140360" y="5373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 txBox="1"/>
            <p:nvPr/>
          </p:nvSpPr>
          <p:spPr>
            <a:xfrm>
              <a:off x="4140360" y="537372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435640" y="5373720"/>
            <a:ext cx="360360" cy="360"/>
            <a:chOff x="5435640" y="5373720"/>
            <a:chExt cx="360360" cy="360"/>
          </a:xfrm>
        </p:grpSpPr>
        <p:sp>
          <p:nvSpPr>
            <p:cNvPr id="489" name="Line 23"/>
            <p:cNvSpPr/>
            <p:nvPr/>
          </p:nvSpPr>
          <p:spPr>
            <a:xfrm>
              <a:off x="5435640" y="5373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 txBox="1"/>
            <p:nvPr/>
          </p:nvSpPr>
          <p:spPr>
            <a:xfrm>
              <a:off x="5435640" y="537372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Text Box 24"/>
          <p:cNvSpPr/>
          <p:nvPr/>
        </p:nvSpPr>
        <p:spPr>
          <a:xfrm>
            <a:off x="7956720" y="14842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S UI Gothic"/>
                <a:ea typeface="MS UI Gothic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250920" y="33336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年人平静吸气时，肋间外肌和膈肌等呼吸肌活动情况及胸廓变化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肌收缩，肋骨上升，膈顶下降，胸廓扩大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肌收缩，肋骨上升，膈顶上升，胸廓扩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肌舒张，肋骨下降，膈顶下降，胸廓缩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肌收缩，肋骨下降，膈顶上升，胸廓扩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4716360" y="83664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395280" y="357336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250920" y="35733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泡外包绕着丰富的毛细血管，是有利于（  ）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与外界进行气体交换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泡与血液进行气体交换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体在血液中的运输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体的过滤、温暖和湿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7935840" y="3357720"/>
            <a:ext cx="884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8317080" y="364500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8199"/>
          <p:cNvSpPr/>
          <p:nvPr/>
        </p:nvSpPr>
        <p:spPr>
          <a:xfrm>
            <a:off x="1538280" y="6102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56908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人呼出的气体中含量最多的气体是（      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氧气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二氧化碳    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氮气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氧化碳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肺泡内的气体进入血液，需要经过几层细胞（     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层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二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三层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四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7620120" y="13716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685800" y="3733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5" descr="查看更多精彩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5300640"/>
            <a:ext cx="15112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00201"/>
          <p:cNvPicPr/>
          <p:nvPr/>
        </p:nvPicPr>
        <p:blipFill>
          <a:blip r:embed="rId1"/>
          <a:stretch/>
        </p:blipFill>
        <p:spPr>
          <a:xfrm>
            <a:off x="1371600" y="0"/>
            <a:ext cx="6291360" cy="50292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3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905120" y="50292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990720" y="5149800"/>
            <a:ext cx="73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胸廓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是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骨骼和肌肉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构成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胸腔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是胸廓包围的空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0" y="3049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304920" y="304920"/>
            <a:ext cx="861048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、下图是某人一次平静吸气时，肺内气压的变化曲线。请分析回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曲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段表示的是吸气过程还是呼气过程？此时肺内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外界大气压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曲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段变化中，胸廓容积是怎样变化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219320" y="2438280"/>
            <a:ext cx="5486400" cy="360"/>
            <a:chOff x="1219320" y="2438280"/>
            <a:chExt cx="5486400" cy="360"/>
          </a:xfrm>
        </p:grpSpPr>
        <p:sp>
          <p:nvSpPr>
            <p:cNvPr id="506" name="Line 4"/>
            <p:cNvSpPr/>
            <p:nvPr/>
          </p:nvSpPr>
          <p:spPr>
            <a:xfrm>
              <a:off x="1219320" y="24382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>
              <a:off x="1219320" y="2438280"/>
              <a:ext cx="5486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752120" y="685800"/>
            <a:ext cx="360" cy="2819520"/>
            <a:chOff x="1752120" y="685800"/>
            <a:chExt cx="360" cy="2819520"/>
          </a:xfrm>
        </p:grpSpPr>
        <p:sp>
          <p:nvSpPr>
            <p:cNvPr id="509" name="Line 5"/>
            <p:cNvSpPr/>
            <p:nvPr/>
          </p:nvSpPr>
          <p:spPr>
            <a:xfrm flipV="1">
              <a:off x="1752480" y="685800"/>
              <a:ext cx="0" cy="2819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 rot="10800000">
              <a:off x="1752120" y="685800"/>
              <a:ext cx="360" cy="281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未知"/>
          <p:cNvSpPr/>
          <p:nvPr/>
        </p:nvSpPr>
        <p:spPr>
          <a:xfrm>
            <a:off x="1752480" y="1447920"/>
            <a:ext cx="1905120" cy="1066680"/>
          </a:xfrm>
          <a:custGeom>
            <a:avLst/>
            <a:gdLst/>
            <a:ahLst/>
            <a:rect l="l" t="t" r="r" b="b"/>
            <a:pathLst>
              <a:path w="1248" h="680">
                <a:moveTo>
                  <a:pt x="0" y="632"/>
                </a:moveTo>
                <a:cubicBezTo>
                  <a:pt x="232" y="316"/>
                  <a:pt x="464" y="0"/>
                  <a:pt x="672" y="8"/>
                </a:cubicBezTo>
                <a:cubicBezTo>
                  <a:pt x="880" y="16"/>
                  <a:pt x="1152" y="576"/>
                  <a:pt x="1248" y="6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未知"/>
          <p:cNvSpPr/>
          <p:nvPr/>
        </p:nvSpPr>
        <p:spPr>
          <a:xfrm>
            <a:off x="3657600" y="2514600"/>
            <a:ext cx="175248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0"/>
                </a:moveTo>
                <a:cubicBezTo>
                  <a:pt x="172" y="360"/>
                  <a:pt x="344" y="720"/>
                  <a:pt x="528" y="720"/>
                </a:cubicBezTo>
                <a:cubicBezTo>
                  <a:pt x="712" y="720"/>
                  <a:pt x="1008" y="120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"/>
          <p:cNvSpPr/>
          <p:nvPr/>
        </p:nvSpPr>
        <p:spPr>
          <a:xfrm>
            <a:off x="1752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3276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0"/>
          <p:cNvSpPr/>
          <p:nvPr/>
        </p:nvSpPr>
        <p:spPr>
          <a:xfrm>
            <a:off x="5335920" y="2362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1"/>
          <p:cNvSpPr/>
          <p:nvPr/>
        </p:nvSpPr>
        <p:spPr>
          <a:xfrm>
            <a:off x="56386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2"/>
          <p:cNvSpPr/>
          <p:nvPr/>
        </p:nvSpPr>
        <p:spPr>
          <a:xfrm>
            <a:off x="228600" y="2209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气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1028880" y="2590920"/>
            <a:ext cx="549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4"/>
          <p:cNvSpPr/>
          <p:nvPr/>
        </p:nvSpPr>
        <p:spPr>
          <a:xfrm>
            <a:off x="1219320" y="8380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肺内气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5"/>
          <p:cNvSpPr/>
          <p:nvPr/>
        </p:nvSpPr>
        <p:spPr>
          <a:xfrm>
            <a:off x="457200" y="5029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曲线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段表示的是呼气过程，此时肺内压大于外界大气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6"/>
          <p:cNvSpPr/>
          <p:nvPr/>
        </p:nvSpPr>
        <p:spPr>
          <a:xfrm>
            <a:off x="685800" y="6095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曲线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BC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段变化中，胸廓容积增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6BFA-CBBC-446B-9C96-81D0575F799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228600" y="533520"/>
            <a:ext cx="8686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图中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点表示的意义是什么？此时肺内压与大气压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请说明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段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段中，呼吸肌的收缩和舒张情况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段，呼吸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段，呼吸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57200" y="1447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华文新魏"/>
                <a:ea typeface="华文新魏"/>
              </a:rPr>
              <a:t>图中</a:t>
            </a:r>
            <a:r>
              <a:rPr b="1" lang="zh-CN" sz="2400" spc="-1" strike="noStrike">
                <a:solidFill>
                  <a:srgbClr val="6600cc"/>
                </a:solidFill>
                <a:latin typeface="华文新魏"/>
                <a:ea typeface="华文新魏"/>
              </a:rPr>
              <a:t>B</a:t>
            </a:r>
            <a:r>
              <a:rPr b="1" lang="zh-CN" sz="2400" spc="-1" strike="noStrike">
                <a:solidFill>
                  <a:srgbClr val="6600cc"/>
                </a:solidFill>
                <a:latin typeface="华文新魏"/>
                <a:ea typeface="华文新魏"/>
              </a:rPr>
              <a:t>点表示呼气结束的瞬间，此时肺内压等于大气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1981080" y="243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  <a:ea typeface="华文新魏"/>
              </a:rPr>
              <a:t>舒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5334120" y="2438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  <a:ea typeface="华文新魏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708660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leji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523880" y="1447920"/>
            <a:ext cx="624852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zh-CN" sz="4400" spc="-1" strike="noStrike" u="sng">
                <a:solidFill>
                  <a:srgbClr val="ff00ff"/>
                </a:solidFill>
                <a:uFillTx/>
                <a:latin typeface="隶书"/>
                <a:ea typeface="隶书"/>
              </a:rPr>
              <a:t>肺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是呼吸系统的主要器官，肺有节奏地吸气和呼气，每分钟大约呼吸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16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33520" y="1905120"/>
            <a:ext cx="6035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现在请同学们用手按住胸部两侧，深深地吸气，你会感觉到肋骨如何运动？胸廓如何运动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u=2557160908,2021867094&amp;fm=51&amp;gp=0"/>
          <p:cNvPicPr/>
          <p:nvPr/>
        </p:nvPicPr>
        <p:blipFill>
          <a:blip r:embed="rId1"/>
          <a:stretch/>
        </p:blipFill>
        <p:spPr>
          <a:xfrm>
            <a:off x="6705720" y="1522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1676520" y="304920"/>
            <a:ext cx="2895480" cy="2399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小游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结论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666880" y="1523880"/>
            <a:ext cx="624852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ff"/>
                </a:solidFill>
                <a:latin typeface="Times New Roman"/>
                <a:ea typeface="华文行楷"/>
              </a:rPr>
              <a:t>       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吸气时，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肋骨向</a:t>
            </a:r>
            <a:r>
              <a:rPr b="1" lang="zh-CN" sz="66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上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向</a:t>
            </a:r>
            <a:r>
              <a:rPr b="1" lang="zh-CN" sz="66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外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运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380880" y="4267080"/>
            <a:ext cx="2284560" cy="2286000"/>
            <a:chOff x="380880" y="4267080"/>
            <a:chExt cx="2284560" cy="2286000"/>
          </a:xfrm>
        </p:grpSpPr>
        <p:sp>
          <p:nvSpPr>
            <p:cNvPr id="105" name="未知"/>
            <p:cNvSpPr/>
            <p:nvPr/>
          </p:nvSpPr>
          <p:spPr>
            <a:xfrm>
              <a:off x="476280" y="4267080"/>
              <a:ext cx="2189160" cy="2286000"/>
            </a:xfrm>
            <a:custGeom>
              <a:avLst/>
              <a:gdLst/>
              <a:ahLst/>
              <a:rect l="l" t="t" r="r" b="b"/>
              <a:pathLst>
                <a:path w="2757" h="2880">
                  <a:moveTo>
                    <a:pt x="1186" y="874"/>
                  </a:moveTo>
                  <a:lnTo>
                    <a:pt x="1188" y="891"/>
                  </a:lnTo>
                  <a:lnTo>
                    <a:pt x="1192" y="905"/>
                  </a:lnTo>
                  <a:lnTo>
                    <a:pt x="1202" y="916"/>
                  </a:lnTo>
                  <a:lnTo>
                    <a:pt x="1211" y="929"/>
                  </a:lnTo>
                  <a:lnTo>
                    <a:pt x="1219" y="941"/>
                  </a:lnTo>
                  <a:lnTo>
                    <a:pt x="1225" y="954"/>
                  </a:lnTo>
                  <a:lnTo>
                    <a:pt x="1228" y="969"/>
                  </a:lnTo>
                  <a:lnTo>
                    <a:pt x="1225" y="988"/>
                  </a:lnTo>
                  <a:lnTo>
                    <a:pt x="1222" y="999"/>
                  </a:lnTo>
                  <a:lnTo>
                    <a:pt x="1216" y="1007"/>
                  </a:lnTo>
                  <a:lnTo>
                    <a:pt x="1206" y="1013"/>
                  </a:lnTo>
                  <a:lnTo>
                    <a:pt x="1194" y="1016"/>
                  </a:lnTo>
                  <a:lnTo>
                    <a:pt x="1180" y="1018"/>
                  </a:lnTo>
                  <a:lnTo>
                    <a:pt x="1166" y="1019"/>
                  </a:lnTo>
                  <a:lnTo>
                    <a:pt x="1153" y="1021"/>
                  </a:lnTo>
                  <a:lnTo>
                    <a:pt x="1141" y="1022"/>
                  </a:lnTo>
                  <a:lnTo>
                    <a:pt x="1138" y="1053"/>
                  </a:lnTo>
                  <a:lnTo>
                    <a:pt x="1144" y="1083"/>
                  </a:lnTo>
                  <a:lnTo>
                    <a:pt x="1149" y="1110"/>
                  </a:lnTo>
                  <a:lnTo>
                    <a:pt x="1144" y="1136"/>
                  </a:lnTo>
                  <a:lnTo>
                    <a:pt x="1138" y="1152"/>
                  </a:lnTo>
                  <a:lnTo>
                    <a:pt x="1138" y="1166"/>
                  </a:lnTo>
                  <a:lnTo>
                    <a:pt x="1142" y="1175"/>
                  </a:lnTo>
                  <a:lnTo>
                    <a:pt x="1152" y="1183"/>
                  </a:lnTo>
                  <a:lnTo>
                    <a:pt x="1161" y="1191"/>
                  </a:lnTo>
                  <a:lnTo>
                    <a:pt x="1174" y="1196"/>
                  </a:lnTo>
                  <a:lnTo>
                    <a:pt x="1184" y="1200"/>
                  </a:lnTo>
                  <a:lnTo>
                    <a:pt x="1195" y="1206"/>
                  </a:lnTo>
                  <a:lnTo>
                    <a:pt x="1206" y="1219"/>
                  </a:lnTo>
                  <a:lnTo>
                    <a:pt x="1211" y="1235"/>
                  </a:lnTo>
                  <a:lnTo>
                    <a:pt x="1214" y="1253"/>
                  </a:lnTo>
                  <a:lnTo>
                    <a:pt x="1216" y="1274"/>
                  </a:lnTo>
                  <a:lnTo>
                    <a:pt x="1219" y="1291"/>
                  </a:lnTo>
                  <a:lnTo>
                    <a:pt x="1227" y="1306"/>
                  </a:lnTo>
                  <a:lnTo>
                    <a:pt x="1241" y="1316"/>
                  </a:lnTo>
                  <a:lnTo>
                    <a:pt x="1261" y="1317"/>
                  </a:lnTo>
                  <a:lnTo>
                    <a:pt x="1283" y="1200"/>
                  </a:lnTo>
                  <a:lnTo>
                    <a:pt x="1277" y="1181"/>
                  </a:lnTo>
                  <a:lnTo>
                    <a:pt x="1280" y="1164"/>
                  </a:lnTo>
                  <a:lnTo>
                    <a:pt x="1289" y="1149"/>
                  </a:lnTo>
                  <a:lnTo>
                    <a:pt x="1298" y="1135"/>
                  </a:lnTo>
                  <a:lnTo>
                    <a:pt x="1308" y="1121"/>
                  </a:lnTo>
                  <a:lnTo>
                    <a:pt x="1311" y="1108"/>
                  </a:lnTo>
                  <a:lnTo>
                    <a:pt x="1305" y="1096"/>
                  </a:lnTo>
                  <a:lnTo>
                    <a:pt x="1286" y="1082"/>
                  </a:lnTo>
                  <a:lnTo>
                    <a:pt x="1278" y="1055"/>
                  </a:lnTo>
                  <a:lnTo>
                    <a:pt x="1269" y="1027"/>
                  </a:lnTo>
                  <a:lnTo>
                    <a:pt x="1261" y="999"/>
                  </a:lnTo>
                  <a:lnTo>
                    <a:pt x="1255" y="968"/>
                  </a:lnTo>
                  <a:lnTo>
                    <a:pt x="1252" y="938"/>
                  </a:lnTo>
                  <a:lnTo>
                    <a:pt x="1253" y="910"/>
                  </a:lnTo>
                  <a:lnTo>
                    <a:pt x="1263" y="883"/>
                  </a:lnTo>
                  <a:lnTo>
                    <a:pt x="1280" y="858"/>
                  </a:lnTo>
                  <a:lnTo>
                    <a:pt x="1298" y="874"/>
                  </a:lnTo>
                  <a:lnTo>
                    <a:pt x="1306" y="858"/>
                  </a:lnTo>
                  <a:lnTo>
                    <a:pt x="1320" y="849"/>
                  </a:lnTo>
                  <a:lnTo>
                    <a:pt x="1333" y="840"/>
                  </a:lnTo>
                  <a:lnTo>
                    <a:pt x="1341" y="826"/>
                  </a:lnTo>
                  <a:lnTo>
                    <a:pt x="1320" y="829"/>
                  </a:lnTo>
                  <a:lnTo>
                    <a:pt x="1300" y="832"/>
                  </a:lnTo>
                  <a:lnTo>
                    <a:pt x="1281" y="836"/>
                  </a:lnTo>
                  <a:lnTo>
                    <a:pt x="1263" y="843"/>
                  </a:lnTo>
                  <a:lnTo>
                    <a:pt x="1244" y="849"/>
                  </a:lnTo>
                  <a:lnTo>
                    <a:pt x="1224" y="857"/>
                  </a:lnTo>
                  <a:lnTo>
                    <a:pt x="1205" y="865"/>
                  </a:lnTo>
                  <a:lnTo>
                    <a:pt x="1186" y="874"/>
                  </a:lnTo>
                  <a:lnTo>
                    <a:pt x="1105" y="771"/>
                  </a:lnTo>
                  <a:lnTo>
                    <a:pt x="1130" y="771"/>
                  </a:lnTo>
                  <a:lnTo>
                    <a:pt x="1156" y="766"/>
                  </a:lnTo>
                  <a:lnTo>
                    <a:pt x="1181" y="758"/>
                  </a:lnTo>
                  <a:lnTo>
                    <a:pt x="1208" y="747"/>
                  </a:lnTo>
                  <a:lnTo>
                    <a:pt x="1233" y="735"/>
                  </a:lnTo>
                  <a:lnTo>
                    <a:pt x="1259" y="724"/>
                  </a:lnTo>
                  <a:lnTo>
                    <a:pt x="1286" y="713"/>
                  </a:lnTo>
                  <a:lnTo>
                    <a:pt x="1312" y="704"/>
                  </a:lnTo>
                  <a:lnTo>
                    <a:pt x="1316" y="691"/>
                  </a:lnTo>
                  <a:lnTo>
                    <a:pt x="1322" y="679"/>
                  </a:lnTo>
                  <a:lnTo>
                    <a:pt x="1328" y="668"/>
                  </a:lnTo>
                  <a:lnTo>
                    <a:pt x="1337" y="657"/>
                  </a:lnTo>
                  <a:lnTo>
                    <a:pt x="1347" y="646"/>
                  </a:lnTo>
                  <a:lnTo>
                    <a:pt x="1358" y="637"/>
                  </a:lnTo>
                  <a:lnTo>
                    <a:pt x="1369" y="627"/>
                  </a:lnTo>
                  <a:lnTo>
                    <a:pt x="1380" y="619"/>
                  </a:lnTo>
                  <a:lnTo>
                    <a:pt x="1394" y="616"/>
                  </a:lnTo>
                  <a:lnTo>
                    <a:pt x="1409" y="613"/>
                  </a:lnTo>
                  <a:lnTo>
                    <a:pt x="1426" y="612"/>
                  </a:lnTo>
                  <a:lnTo>
                    <a:pt x="1444" y="608"/>
                  </a:lnTo>
                  <a:lnTo>
                    <a:pt x="1461" y="602"/>
                  </a:lnTo>
                  <a:lnTo>
                    <a:pt x="1476" y="594"/>
                  </a:lnTo>
                  <a:lnTo>
                    <a:pt x="1489" y="582"/>
                  </a:lnTo>
                  <a:lnTo>
                    <a:pt x="1498" y="565"/>
                  </a:lnTo>
                  <a:lnTo>
                    <a:pt x="1568" y="796"/>
                  </a:lnTo>
                  <a:lnTo>
                    <a:pt x="1523" y="836"/>
                  </a:lnTo>
                  <a:lnTo>
                    <a:pt x="1520" y="863"/>
                  </a:lnTo>
                  <a:lnTo>
                    <a:pt x="1517" y="890"/>
                  </a:lnTo>
                  <a:lnTo>
                    <a:pt x="1511" y="918"/>
                  </a:lnTo>
                  <a:lnTo>
                    <a:pt x="1506" y="946"/>
                  </a:lnTo>
                  <a:lnTo>
                    <a:pt x="1498" y="974"/>
                  </a:lnTo>
                  <a:lnTo>
                    <a:pt x="1492" y="999"/>
                  </a:lnTo>
                  <a:lnTo>
                    <a:pt x="1483" y="1024"/>
                  </a:lnTo>
                  <a:lnTo>
                    <a:pt x="1475" y="1046"/>
                  </a:lnTo>
                  <a:lnTo>
                    <a:pt x="1470" y="1075"/>
                  </a:lnTo>
                  <a:lnTo>
                    <a:pt x="1476" y="1097"/>
                  </a:lnTo>
                  <a:lnTo>
                    <a:pt x="1492" y="1111"/>
                  </a:lnTo>
                  <a:lnTo>
                    <a:pt x="1512" y="1121"/>
                  </a:lnTo>
                  <a:lnTo>
                    <a:pt x="1536" y="1128"/>
                  </a:lnTo>
                  <a:lnTo>
                    <a:pt x="1561" y="1135"/>
                  </a:lnTo>
                  <a:lnTo>
                    <a:pt x="1584" y="1142"/>
                  </a:lnTo>
                  <a:lnTo>
                    <a:pt x="1601" y="1155"/>
                  </a:lnTo>
                  <a:lnTo>
                    <a:pt x="1595" y="1217"/>
                  </a:lnTo>
                  <a:lnTo>
                    <a:pt x="1585" y="1281"/>
                  </a:lnTo>
                  <a:lnTo>
                    <a:pt x="1573" y="1344"/>
                  </a:lnTo>
                  <a:lnTo>
                    <a:pt x="1557" y="1405"/>
                  </a:lnTo>
                  <a:lnTo>
                    <a:pt x="1537" y="1462"/>
                  </a:lnTo>
                  <a:lnTo>
                    <a:pt x="1514" y="1517"/>
                  </a:lnTo>
                  <a:lnTo>
                    <a:pt x="1487" y="1567"/>
                  </a:lnTo>
                  <a:lnTo>
                    <a:pt x="1456" y="1611"/>
                  </a:lnTo>
                  <a:lnTo>
                    <a:pt x="1461" y="1628"/>
                  </a:lnTo>
                  <a:lnTo>
                    <a:pt x="1470" y="1639"/>
                  </a:lnTo>
                  <a:lnTo>
                    <a:pt x="1479" y="1648"/>
                  </a:lnTo>
                  <a:lnTo>
                    <a:pt x="1492" y="1658"/>
                  </a:lnTo>
                  <a:lnTo>
                    <a:pt x="1509" y="1656"/>
                  </a:lnTo>
                  <a:lnTo>
                    <a:pt x="1526" y="1655"/>
                  </a:lnTo>
                  <a:lnTo>
                    <a:pt x="1540" y="1651"/>
                  </a:lnTo>
                  <a:lnTo>
                    <a:pt x="1554" y="1647"/>
                  </a:lnTo>
                  <a:lnTo>
                    <a:pt x="1565" y="1642"/>
                  </a:lnTo>
                  <a:lnTo>
                    <a:pt x="1575" y="1636"/>
                  </a:lnTo>
                  <a:lnTo>
                    <a:pt x="1582" y="1626"/>
                  </a:lnTo>
                  <a:lnTo>
                    <a:pt x="1589" y="1617"/>
                  </a:lnTo>
                  <a:lnTo>
                    <a:pt x="1601" y="1575"/>
                  </a:lnTo>
                  <a:lnTo>
                    <a:pt x="1620" y="1495"/>
                  </a:lnTo>
                  <a:lnTo>
                    <a:pt x="1643" y="1388"/>
                  </a:lnTo>
                  <a:lnTo>
                    <a:pt x="1671" y="1261"/>
                  </a:lnTo>
                  <a:lnTo>
                    <a:pt x="1698" y="1127"/>
                  </a:lnTo>
                  <a:lnTo>
                    <a:pt x="1726" y="994"/>
                  </a:lnTo>
                  <a:lnTo>
                    <a:pt x="1751" y="872"/>
                  </a:lnTo>
                  <a:lnTo>
                    <a:pt x="1771" y="771"/>
                  </a:lnTo>
                  <a:lnTo>
                    <a:pt x="1763" y="758"/>
                  </a:lnTo>
                  <a:lnTo>
                    <a:pt x="1756" y="746"/>
                  </a:lnTo>
                  <a:lnTo>
                    <a:pt x="1743" y="738"/>
                  </a:lnTo>
                  <a:lnTo>
                    <a:pt x="1726" y="740"/>
                  </a:lnTo>
                  <a:lnTo>
                    <a:pt x="1707" y="747"/>
                  </a:lnTo>
                  <a:lnTo>
                    <a:pt x="1688" y="757"/>
                  </a:lnTo>
                  <a:lnTo>
                    <a:pt x="1670" y="765"/>
                  </a:lnTo>
                  <a:lnTo>
                    <a:pt x="1649" y="772"/>
                  </a:lnTo>
                  <a:lnTo>
                    <a:pt x="1629" y="780"/>
                  </a:lnTo>
                  <a:lnTo>
                    <a:pt x="1607" y="786"/>
                  </a:lnTo>
                  <a:lnTo>
                    <a:pt x="1589" y="793"/>
                  </a:lnTo>
                  <a:lnTo>
                    <a:pt x="1568" y="796"/>
                  </a:lnTo>
                  <a:lnTo>
                    <a:pt x="1498" y="565"/>
                  </a:lnTo>
                  <a:lnTo>
                    <a:pt x="1985" y="368"/>
                  </a:lnTo>
                  <a:lnTo>
                    <a:pt x="1982" y="352"/>
                  </a:lnTo>
                  <a:lnTo>
                    <a:pt x="1980" y="337"/>
                  </a:lnTo>
                  <a:lnTo>
                    <a:pt x="1982" y="321"/>
                  </a:lnTo>
                  <a:lnTo>
                    <a:pt x="1986" y="307"/>
                  </a:lnTo>
                  <a:lnTo>
                    <a:pt x="1994" y="295"/>
                  </a:lnTo>
                  <a:lnTo>
                    <a:pt x="2005" y="284"/>
                  </a:lnTo>
                  <a:lnTo>
                    <a:pt x="2018" y="276"/>
                  </a:lnTo>
                  <a:lnTo>
                    <a:pt x="2033" y="271"/>
                  </a:lnTo>
                  <a:lnTo>
                    <a:pt x="2061" y="260"/>
                  </a:lnTo>
                  <a:lnTo>
                    <a:pt x="2088" y="248"/>
                  </a:lnTo>
                  <a:lnTo>
                    <a:pt x="2116" y="237"/>
                  </a:lnTo>
                  <a:lnTo>
                    <a:pt x="2144" y="224"/>
                  </a:lnTo>
                  <a:lnTo>
                    <a:pt x="2174" y="214"/>
                  </a:lnTo>
                  <a:lnTo>
                    <a:pt x="2202" y="203"/>
                  </a:lnTo>
                  <a:lnTo>
                    <a:pt x="2230" y="190"/>
                  </a:lnTo>
                  <a:lnTo>
                    <a:pt x="2260" y="179"/>
                  </a:lnTo>
                  <a:lnTo>
                    <a:pt x="2288" y="168"/>
                  </a:lnTo>
                  <a:lnTo>
                    <a:pt x="2316" y="157"/>
                  </a:lnTo>
                  <a:lnTo>
                    <a:pt x="2344" y="148"/>
                  </a:lnTo>
                  <a:lnTo>
                    <a:pt x="2373" y="137"/>
                  </a:lnTo>
                  <a:lnTo>
                    <a:pt x="2402" y="126"/>
                  </a:lnTo>
                  <a:lnTo>
                    <a:pt x="2430" y="117"/>
                  </a:lnTo>
                  <a:lnTo>
                    <a:pt x="2456" y="106"/>
                  </a:lnTo>
                  <a:lnTo>
                    <a:pt x="2484" y="96"/>
                  </a:lnTo>
                  <a:lnTo>
                    <a:pt x="2483" y="84"/>
                  </a:lnTo>
                  <a:lnTo>
                    <a:pt x="2483" y="73"/>
                  </a:lnTo>
                  <a:lnTo>
                    <a:pt x="2486" y="65"/>
                  </a:lnTo>
                  <a:lnTo>
                    <a:pt x="2489" y="57"/>
                  </a:lnTo>
                  <a:lnTo>
                    <a:pt x="2501" y="51"/>
                  </a:lnTo>
                  <a:lnTo>
                    <a:pt x="2517" y="45"/>
                  </a:lnTo>
                  <a:lnTo>
                    <a:pt x="2533" y="37"/>
                  </a:lnTo>
                  <a:lnTo>
                    <a:pt x="2548" y="31"/>
                  </a:lnTo>
                  <a:lnTo>
                    <a:pt x="2562" y="25"/>
                  </a:lnTo>
                  <a:lnTo>
                    <a:pt x="2573" y="20"/>
                  </a:lnTo>
                  <a:lnTo>
                    <a:pt x="2581" y="17"/>
                  </a:lnTo>
                  <a:lnTo>
                    <a:pt x="2584" y="15"/>
                  </a:lnTo>
                  <a:lnTo>
                    <a:pt x="2637" y="50"/>
                  </a:lnTo>
                  <a:lnTo>
                    <a:pt x="2679" y="101"/>
                  </a:lnTo>
                  <a:lnTo>
                    <a:pt x="2712" y="164"/>
                  </a:lnTo>
                  <a:lnTo>
                    <a:pt x="2735" y="231"/>
                  </a:lnTo>
                  <a:lnTo>
                    <a:pt x="2749" y="298"/>
                  </a:lnTo>
                  <a:lnTo>
                    <a:pt x="2757" y="360"/>
                  </a:lnTo>
                  <a:lnTo>
                    <a:pt x="2756" y="410"/>
                  </a:lnTo>
                  <a:lnTo>
                    <a:pt x="2749" y="445"/>
                  </a:lnTo>
                  <a:lnTo>
                    <a:pt x="2734" y="449"/>
                  </a:lnTo>
                  <a:lnTo>
                    <a:pt x="2718" y="455"/>
                  </a:lnTo>
                  <a:lnTo>
                    <a:pt x="2703" y="462"/>
                  </a:lnTo>
                  <a:lnTo>
                    <a:pt x="2689" y="468"/>
                  </a:lnTo>
                  <a:lnTo>
                    <a:pt x="2673" y="471"/>
                  </a:lnTo>
                  <a:lnTo>
                    <a:pt x="2657" y="473"/>
                  </a:lnTo>
                  <a:lnTo>
                    <a:pt x="2642" y="470"/>
                  </a:lnTo>
                  <a:lnTo>
                    <a:pt x="2626" y="462"/>
                  </a:lnTo>
                  <a:lnTo>
                    <a:pt x="2597" y="474"/>
                  </a:lnTo>
                  <a:lnTo>
                    <a:pt x="2567" y="487"/>
                  </a:lnTo>
                  <a:lnTo>
                    <a:pt x="2536" y="498"/>
                  </a:lnTo>
                  <a:lnTo>
                    <a:pt x="2505" y="509"/>
                  </a:lnTo>
                  <a:lnTo>
                    <a:pt x="2473" y="520"/>
                  </a:lnTo>
                  <a:lnTo>
                    <a:pt x="2442" y="530"/>
                  </a:lnTo>
                  <a:lnTo>
                    <a:pt x="2411" y="541"/>
                  </a:lnTo>
                  <a:lnTo>
                    <a:pt x="2380" y="552"/>
                  </a:lnTo>
                  <a:lnTo>
                    <a:pt x="2347" y="563"/>
                  </a:lnTo>
                  <a:lnTo>
                    <a:pt x="2316" y="574"/>
                  </a:lnTo>
                  <a:lnTo>
                    <a:pt x="2285" y="585"/>
                  </a:lnTo>
                  <a:lnTo>
                    <a:pt x="2253" y="596"/>
                  </a:lnTo>
                  <a:lnTo>
                    <a:pt x="2222" y="608"/>
                  </a:lnTo>
                  <a:lnTo>
                    <a:pt x="2191" y="619"/>
                  </a:lnTo>
                  <a:lnTo>
                    <a:pt x="2160" y="633"/>
                  </a:lnTo>
                  <a:lnTo>
                    <a:pt x="2130" y="646"/>
                  </a:lnTo>
                  <a:lnTo>
                    <a:pt x="2113" y="644"/>
                  </a:lnTo>
                  <a:lnTo>
                    <a:pt x="2097" y="640"/>
                  </a:lnTo>
                  <a:lnTo>
                    <a:pt x="2082" y="632"/>
                  </a:lnTo>
                  <a:lnTo>
                    <a:pt x="2068" y="624"/>
                  </a:lnTo>
                  <a:lnTo>
                    <a:pt x="2055" y="618"/>
                  </a:lnTo>
                  <a:lnTo>
                    <a:pt x="2041" y="616"/>
                  </a:lnTo>
                  <a:lnTo>
                    <a:pt x="2027" y="621"/>
                  </a:lnTo>
                  <a:lnTo>
                    <a:pt x="2013" y="635"/>
                  </a:lnTo>
                  <a:lnTo>
                    <a:pt x="2002" y="649"/>
                  </a:lnTo>
                  <a:lnTo>
                    <a:pt x="1996" y="663"/>
                  </a:lnTo>
                  <a:lnTo>
                    <a:pt x="1993" y="679"/>
                  </a:lnTo>
                  <a:lnTo>
                    <a:pt x="1990" y="696"/>
                  </a:lnTo>
                  <a:lnTo>
                    <a:pt x="1986" y="712"/>
                  </a:lnTo>
                  <a:lnTo>
                    <a:pt x="1982" y="727"/>
                  </a:lnTo>
                  <a:lnTo>
                    <a:pt x="1972" y="741"/>
                  </a:lnTo>
                  <a:lnTo>
                    <a:pt x="1958" y="752"/>
                  </a:lnTo>
                  <a:lnTo>
                    <a:pt x="1966" y="807"/>
                  </a:lnTo>
                  <a:lnTo>
                    <a:pt x="1990" y="916"/>
                  </a:lnTo>
                  <a:lnTo>
                    <a:pt x="2022" y="1058"/>
                  </a:lnTo>
                  <a:lnTo>
                    <a:pt x="2061" y="1219"/>
                  </a:lnTo>
                  <a:lnTo>
                    <a:pt x="2102" y="1380"/>
                  </a:lnTo>
                  <a:lnTo>
                    <a:pt x="2138" y="1523"/>
                  </a:lnTo>
                  <a:lnTo>
                    <a:pt x="2164" y="1630"/>
                  </a:lnTo>
                  <a:lnTo>
                    <a:pt x="2178" y="1683"/>
                  </a:lnTo>
                  <a:lnTo>
                    <a:pt x="2052" y="1712"/>
                  </a:lnTo>
                  <a:lnTo>
                    <a:pt x="2029" y="1614"/>
                  </a:lnTo>
                  <a:lnTo>
                    <a:pt x="2007" y="1517"/>
                  </a:lnTo>
                  <a:lnTo>
                    <a:pt x="1985" y="1422"/>
                  </a:lnTo>
                  <a:lnTo>
                    <a:pt x="1963" y="1327"/>
                  </a:lnTo>
                  <a:lnTo>
                    <a:pt x="1940" y="1231"/>
                  </a:lnTo>
                  <a:lnTo>
                    <a:pt x="1915" y="1138"/>
                  </a:lnTo>
                  <a:lnTo>
                    <a:pt x="1888" y="1046"/>
                  </a:lnTo>
                  <a:lnTo>
                    <a:pt x="1859" y="952"/>
                  </a:lnTo>
                  <a:lnTo>
                    <a:pt x="1841" y="1035"/>
                  </a:lnTo>
                  <a:lnTo>
                    <a:pt x="1824" y="1116"/>
                  </a:lnTo>
                  <a:lnTo>
                    <a:pt x="1805" y="1196"/>
                  </a:lnTo>
                  <a:lnTo>
                    <a:pt x="1788" y="1277"/>
                  </a:lnTo>
                  <a:lnTo>
                    <a:pt x="1771" y="1356"/>
                  </a:lnTo>
                  <a:lnTo>
                    <a:pt x="1754" y="1436"/>
                  </a:lnTo>
                  <a:lnTo>
                    <a:pt x="1738" y="1516"/>
                  </a:lnTo>
                  <a:lnTo>
                    <a:pt x="1723" y="1597"/>
                  </a:lnTo>
                  <a:lnTo>
                    <a:pt x="1734" y="1597"/>
                  </a:lnTo>
                  <a:lnTo>
                    <a:pt x="1743" y="1597"/>
                  </a:lnTo>
                  <a:lnTo>
                    <a:pt x="1754" y="1598"/>
                  </a:lnTo>
                  <a:lnTo>
                    <a:pt x="1765" y="1600"/>
                  </a:lnTo>
                  <a:lnTo>
                    <a:pt x="1776" y="1601"/>
                  </a:lnTo>
                  <a:lnTo>
                    <a:pt x="1787" y="1605"/>
                  </a:lnTo>
                  <a:lnTo>
                    <a:pt x="1796" y="1608"/>
                  </a:lnTo>
                  <a:lnTo>
                    <a:pt x="1807" y="1611"/>
                  </a:lnTo>
                  <a:lnTo>
                    <a:pt x="1824" y="1619"/>
                  </a:lnTo>
                  <a:lnTo>
                    <a:pt x="1845" y="1630"/>
                  </a:lnTo>
                  <a:lnTo>
                    <a:pt x="1866" y="1642"/>
                  </a:lnTo>
                  <a:lnTo>
                    <a:pt x="1890" y="1658"/>
                  </a:lnTo>
                  <a:lnTo>
                    <a:pt x="1910" y="1673"/>
                  </a:lnTo>
                  <a:lnTo>
                    <a:pt x="1929" y="1692"/>
                  </a:lnTo>
                  <a:lnTo>
                    <a:pt x="1943" y="1709"/>
                  </a:lnTo>
                  <a:lnTo>
                    <a:pt x="1952" y="1726"/>
                  </a:lnTo>
                  <a:lnTo>
                    <a:pt x="1965" y="1722"/>
                  </a:lnTo>
                  <a:lnTo>
                    <a:pt x="1977" y="1720"/>
                  </a:lnTo>
                  <a:lnTo>
                    <a:pt x="1990" y="1719"/>
                  </a:lnTo>
                  <a:lnTo>
                    <a:pt x="2004" y="1719"/>
                  </a:lnTo>
                  <a:lnTo>
                    <a:pt x="2016" y="1719"/>
                  </a:lnTo>
                  <a:lnTo>
                    <a:pt x="2029" y="1719"/>
                  </a:lnTo>
                  <a:lnTo>
                    <a:pt x="2041" y="1715"/>
                  </a:lnTo>
                  <a:lnTo>
                    <a:pt x="2052" y="1712"/>
                  </a:lnTo>
                  <a:lnTo>
                    <a:pt x="2178" y="1683"/>
                  </a:lnTo>
                  <a:lnTo>
                    <a:pt x="2178" y="1697"/>
                  </a:lnTo>
                  <a:lnTo>
                    <a:pt x="2182" y="1708"/>
                  </a:lnTo>
                  <a:lnTo>
                    <a:pt x="2188" y="1717"/>
                  </a:lnTo>
                  <a:lnTo>
                    <a:pt x="2200" y="1719"/>
                  </a:lnTo>
                  <a:lnTo>
                    <a:pt x="2217" y="1715"/>
                  </a:lnTo>
                  <a:lnTo>
                    <a:pt x="2231" y="1715"/>
                  </a:lnTo>
                  <a:lnTo>
                    <a:pt x="2244" y="1719"/>
                  </a:lnTo>
                  <a:lnTo>
                    <a:pt x="2255" y="1726"/>
                  </a:lnTo>
                  <a:lnTo>
                    <a:pt x="2264" y="1734"/>
                  </a:lnTo>
                  <a:lnTo>
                    <a:pt x="2272" y="1745"/>
                  </a:lnTo>
                  <a:lnTo>
                    <a:pt x="2278" y="1756"/>
                  </a:lnTo>
                  <a:lnTo>
                    <a:pt x="2285" y="1767"/>
                  </a:lnTo>
                  <a:lnTo>
                    <a:pt x="2285" y="1783"/>
                  </a:lnTo>
                  <a:lnTo>
                    <a:pt x="2291" y="1795"/>
                  </a:lnTo>
                  <a:lnTo>
                    <a:pt x="2300" y="1803"/>
                  </a:lnTo>
                  <a:lnTo>
                    <a:pt x="2313" y="1808"/>
                  </a:lnTo>
                  <a:lnTo>
                    <a:pt x="2325" y="1814"/>
                  </a:lnTo>
                  <a:lnTo>
                    <a:pt x="2338" y="1820"/>
                  </a:lnTo>
                  <a:lnTo>
                    <a:pt x="2347" y="1829"/>
                  </a:lnTo>
                  <a:lnTo>
                    <a:pt x="2352" y="1842"/>
                  </a:lnTo>
                  <a:lnTo>
                    <a:pt x="2350" y="1856"/>
                  </a:lnTo>
                  <a:lnTo>
                    <a:pt x="2352" y="1865"/>
                  </a:lnTo>
                  <a:lnTo>
                    <a:pt x="2359" y="1873"/>
                  </a:lnTo>
                  <a:lnTo>
                    <a:pt x="2367" y="1879"/>
                  </a:lnTo>
                  <a:lnTo>
                    <a:pt x="2378" y="1882"/>
                  </a:lnTo>
                  <a:lnTo>
                    <a:pt x="2391" y="1887"/>
                  </a:lnTo>
                  <a:lnTo>
                    <a:pt x="2402" y="1890"/>
                  </a:lnTo>
                  <a:lnTo>
                    <a:pt x="2411" y="1893"/>
                  </a:lnTo>
                  <a:lnTo>
                    <a:pt x="2430" y="1989"/>
                  </a:lnTo>
                  <a:lnTo>
                    <a:pt x="2453" y="2084"/>
                  </a:lnTo>
                  <a:lnTo>
                    <a:pt x="2478" y="2178"/>
                  </a:lnTo>
                  <a:lnTo>
                    <a:pt x="2505" y="2273"/>
                  </a:lnTo>
                  <a:lnTo>
                    <a:pt x="2531" y="2368"/>
                  </a:lnTo>
                  <a:lnTo>
                    <a:pt x="2556" y="2460"/>
                  </a:lnTo>
                  <a:lnTo>
                    <a:pt x="2578" y="2552"/>
                  </a:lnTo>
                  <a:lnTo>
                    <a:pt x="2597" y="2641"/>
                  </a:lnTo>
                  <a:lnTo>
                    <a:pt x="2607" y="2647"/>
                  </a:lnTo>
                  <a:lnTo>
                    <a:pt x="2609" y="2657"/>
                  </a:lnTo>
                  <a:lnTo>
                    <a:pt x="2609" y="2668"/>
                  </a:lnTo>
                  <a:lnTo>
                    <a:pt x="2607" y="2677"/>
                  </a:lnTo>
                  <a:lnTo>
                    <a:pt x="2572" y="2676"/>
                  </a:lnTo>
                  <a:lnTo>
                    <a:pt x="2537" y="2676"/>
                  </a:lnTo>
                  <a:lnTo>
                    <a:pt x="2503" y="2677"/>
                  </a:lnTo>
                  <a:lnTo>
                    <a:pt x="2469" y="2682"/>
                  </a:lnTo>
                  <a:lnTo>
                    <a:pt x="2434" y="2686"/>
                  </a:lnTo>
                  <a:lnTo>
                    <a:pt x="2400" y="2691"/>
                  </a:lnTo>
                  <a:lnTo>
                    <a:pt x="2367" y="2697"/>
                  </a:lnTo>
                  <a:lnTo>
                    <a:pt x="2334" y="2705"/>
                  </a:lnTo>
                  <a:lnTo>
                    <a:pt x="2300" y="2711"/>
                  </a:lnTo>
                  <a:lnTo>
                    <a:pt x="2267" y="2718"/>
                  </a:lnTo>
                  <a:lnTo>
                    <a:pt x="2233" y="2724"/>
                  </a:lnTo>
                  <a:lnTo>
                    <a:pt x="2200" y="2729"/>
                  </a:lnTo>
                  <a:lnTo>
                    <a:pt x="2166" y="2733"/>
                  </a:lnTo>
                  <a:lnTo>
                    <a:pt x="2133" y="2735"/>
                  </a:lnTo>
                  <a:lnTo>
                    <a:pt x="2099" y="2736"/>
                  </a:lnTo>
                  <a:lnTo>
                    <a:pt x="2065" y="2735"/>
                  </a:lnTo>
                  <a:lnTo>
                    <a:pt x="2054" y="2724"/>
                  </a:lnTo>
                  <a:lnTo>
                    <a:pt x="2052" y="2713"/>
                  </a:lnTo>
                  <a:lnTo>
                    <a:pt x="2055" y="2701"/>
                  </a:lnTo>
                  <a:lnTo>
                    <a:pt x="2061" y="2690"/>
                  </a:lnTo>
                  <a:lnTo>
                    <a:pt x="2065" y="2679"/>
                  </a:lnTo>
                  <a:lnTo>
                    <a:pt x="2066" y="2668"/>
                  </a:lnTo>
                  <a:lnTo>
                    <a:pt x="2060" y="2660"/>
                  </a:lnTo>
                  <a:lnTo>
                    <a:pt x="2043" y="2654"/>
                  </a:lnTo>
                  <a:lnTo>
                    <a:pt x="2029" y="2655"/>
                  </a:lnTo>
                  <a:lnTo>
                    <a:pt x="2019" y="2665"/>
                  </a:lnTo>
                  <a:lnTo>
                    <a:pt x="2013" y="2677"/>
                  </a:lnTo>
                  <a:lnTo>
                    <a:pt x="2007" y="2690"/>
                  </a:lnTo>
                  <a:lnTo>
                    <a:pt x="2015" y="2705"/>
                  </a:lnTo>
                  <a:lnTo>
                    <a:pt x="2022" y="2722"/>
                  </a:lnTo>
                  <a:lnTo>
                    <a:pt x="2029" y="2741"/>
                  </a:lnTo>
                  <a:lnTo>
                    <a:pt x="2035" y="2758"/>
                  </a:lnTo>
                  <a:lnTo>
                    <a:pt x="2041" y="2777"/>
                  </a:lnTo>
                  <a:lnTo>
                    <a:pt x="2047" y="2796"/>
                  </a:lnTo>
                  <a:lnTo>
                    <a:pt x="2052" y="2813"/>
                  </a:lnTo>
                  <a:lnTo>
                    <a:pt x="2058" y="2829"/>
                  </a:lnTo>
                  <a:lnTo>
                    <a:pt x="2036" y="2844"/>
                  </a:lnTo>
                  <a:lnTo>
                    <a:pt x="1601" y="2844"/>
                  </a:lnTo>
                  <a:lnTo>
                    <a:pt x="1598" y="2822"/>
                  </a:lnTo>
                  <a:lnTo>
                    <a:pt x="1600" y="2797"/>
                  </a:lnTo>
                  <a:lnTo>
                    <a:pt x="1604" y="2771"/>
                  </a:lnTo>
                  <a:lnTo>
                    <a:pt x="1614" y="2751"/>
                  </a:lnTo>
                  <a:lnTo>
                    <a:pt x="1617" y="2755"/>
                  </a:lnTo>
                  <a:lnTo>
                    <a:pt x="1614" y="2732"/>
                  </a:lnTo>
                  <a:lnTo>
                    <a:pt x="1593" y="2724"/>
                  </a:lnTo>
                  <a:lnTo>
                    <a:pt x="1578" y="2724"/>
                  </a:lnTo>
                  <a:lnTo>
                    <a:pt x="1565" y="2732"/>
                  </a:lnTo>
                  <a:lnTo>
                    <a:pt x="1556" y="2743"/>
                  </a:lnTo>
                  <a:lnTo>
                    <a:pt x="1545" y="2757"/>
                  </a:lnTo>
                  <a:lnTo>
                    <a:pt x="1534" y="2768"/>
                  </a:lnTo>
                  <a:lnTo>
                    <a:pt x="1522" y="2775"/>
                  </a:lnTo>
                  <a:lnTo>
                    <a:pt x="1504" y="2777"/>
                  </a:lnTo>
                  <a:lnTo>
                    <a:pt x="1486" y="2783"/>
                  </a:lnTo>
                  <a:lnTo>
                    <a:pt x="1467" y="2791"/>
                  </a:lnTo>
                  <a:lnTo>
                    <a:pt x="1450" y="2799"/>
                  </a:lnTo>
                  <a:lnTo>
                    <a:pt x="1431" y="2810"/>
                  </a:lnTo>
                  <a:lnTo>
                    <a:pt x="1414" y="2819"/>
                  </a:lnTo>
                  <a:lnTo>
                    <a:pt x="1395" y="2830"/>
                  </a:lnTo>
                  <a:lnTo>
                    <a:pt x="1376" y="2841"/>
                  </a:lnTo>
                  <a:lnTo>
                    <a:pt x="1359" y="2850"/>
                  </a:lnTo>
                  <a:lnTo>
                    <a:pt x="1341" y="2860"/>
                  </a:lnTo>
                  <a:lnTo>
                    <a:pt x="1320" y="2868"/>
                  </a:lnTo>
                  <a:lnTo>
                    <a:pt x="1302" y="2874"/>
                  </a:lnTo>
                  <a:lnTo>
                    <a:pt x="1281" y="2877"/>
                  </a:lnTo>
                  <a:lnTo>
                    <a:pt x="1261" y="2880"/>
                  </a:lnTo>
                  <a:lnTo>
                    <a:pt x="1241" y="2879"/>
                  </a:lnTo>
                  <a:lnTo>
                    <a:pt x="1219" y="2875"/>
                  </a:lnTo>
                  <a:lnTo>
                    <a:pt x="1195" y="2868"/>
                  </a:lnTo>
                  <a:lnTo>
                    <a:pt x="1200" y="2852"/>
                  </a:lnTo>
                  <a:lnTo>
                    <a:pt x="1199" y="2838"/>
                  </a:lnTo>
                  <a:lnTo>
                    <a:pt x="1194" y="2827"/>
                  </a:lnTo>
                  <a:lnTo>
                    <a:pt x="1186" y="2818"/>
                  </a:lnTo>
                  <a:lnTo>
                    <a:pt x="1177" y="2808"/>
                  </a:lnTo>
                  <a:lnTo>
                    <a:pt x="1170" y="2799"/>
                  </a:lnTo>
                  <a:lnTo>
                    <a:pt x="1167" y="2786"/>
                  </a:lnTo>
                  <a:lnTo>
                    <a:pt x="1170" y="2771"/>
                  </a:lnTo>
                  <a:lnTo>
                    <a:pt x="1161" y="2765"/>
                  </a:lnTo>
                  <a:lnTo>
                    <a:pt x="1152" y="2765"/>
                  </a:lnTo>
                  <a:lnTo>
                    <a:pt x="1141" y="2769"/>
                  </a:lnTo>
                  <a:lnTo>
                    <a:pt x="1131" y="2771"/>
                  </a:lnTo>
                  <a:lnTo>
                    <a:pt x="1111" y="2716"/>
                  </a:lnTo>
                  <a:lnTo>
                    <a:pt x="1099" y="2713"/>
                  </a:lnTo>
                  <a:lnTo>
                    <a:pt x="1088" y="2715"/>
                  </a:lnTo>
                  <a:lnTo>
                    <a:pt x="1080" y="2718"/>
                  </a:lnTo>
                  <a:lnTo>
                    <a:pt x="1072" y="2724"/>
                  </a:lnTo>
                  <a:lnTo>
                    <a:pt x="1064" y="2730"/>
                  </a:lnTo>
                  <a:lnTo>
                    <a:pt x="1055" y="2735"/>
                  </a:lnTo>
                  <a:lnTo>
                    <a:pt x="1044" y="2736"/>
                  </a:lnTo>
                  <a:lnTo>
                    <a:pt x="1032" y="2732"/>
                  </a:lnTo>
                  <a:lnTo>
                    <a:pt x="1024" y="2716"/>
                  </a:lnTo>
                  <a:lnTo>
                    <a:pt x="1022" y="2702"/>
                  </a:lnTo>
                  <a:lnTo>
                    <a:pt x="1024" y="2688"/>
                  </a:lnTo>
                  <a:lnTo>
                    <a:pt x="1028" y="2676"/>
                  </a:lnTo>
                  <a:lnTo>
                    <a:pt x="1033" y="2662"/>
                  </a:lnTo>
                  <a:lnTo>
                    <a:pt x="1036" y="2649"/>
                  </a:lnTo>
                  <a:lnTo>
                    <a:pt x="1036" y="2633"/>
                  </a:lnTo>
                  <a:lnTo>
                    <a:pt x="1032" y="2616"/>
                  </a:lnTo>
                  <a:lnTo>
                    <a:pt x="1013" y="2598"/>
                  </a:lnTo>
                  <a:lnTo>
                    <a:pt x="996" y="2577"/>
                  </a:lnTo>
                  <a:lnTo>
                    <a:pt x="979" y="2557"/>
                  </a:lnTo>
                  <a:lnTo>
                    <a:pt x="960" y="2537"/>
                  </a:lnTo>
                  <a:lnTo>
                    <a:pt x="941" y="2518"/>
                  </a:lnTo>
                  <a:lnTo>
                    <a:pt x="922" y="2498"/>
                  </a:lnTo>
                  <a:lnTo>
                    <a:pt x="904" y="2480"/>
                  </a:lnTo>
                  <a:lnTo>
                    <a:pt x="883" y="2463"/>
                  </a:lnTo>
                  <a:lnTo>
                    <a:pt x="885" y="2476"/>
                  </a:lnTo>
                  <a:lnTo>
                    <a:pt x="891" y="2488"/>
                  </a:lnTo>
                  <a:lnTo>
                    <a:pt x="897" y="2501"/>
                  </a:lnTo>
                  <a:lnTo>
                    <a:pt x="893" y="2512"/>
                  </a:lnTo>
                  <a:lnTo>
                    <a:pt x="885" y="2518"/>
                  </a:lnTo>
                  <a:lnTo>
                    <a:pt x="876" y="2524"/>
                  </a:lnTo>
                  <a:lnTo>
                    <a:pt x="865" y="2530"/>
                  </a:lnTo>
                  <a:lnTo>
                    <a:pt x="855" y="2537"/>
                  </a:lnTo>
                  <a:lnTo>
                    <a:pt x="846" y="2544"/>
                  </a:lnTo>
                  <a:lnTo>
                    <a:pt x="840" y="2554"/>
                  </a:lnTo>
                  <a:lnTo>
                    <a:pt x="835" y="2565"/>
                  </a:lnTo>
                  <a:lnTo>
                    <a:pt x="835" y="2577"/>
                  </a:lnTo>
                  <a:lnTo>
                    <a:pt x="827" y="2637"/>
                  </a:lnTo>
                  <a:lnTo>
                    <a:pt x="830" y="2704"/>
                  </a:lnTo>
                  <a:lnTo>
                    <a:pt x="835" y="2774"/>
                  </a:lnTo>
                  <a:lnTo>
                    <a:pt x="835" y="2844"/>
                  </a:lnTo>
                  <a:lnTo>
                    <a:pt x="812" y="2846"/>
                  </a:lnTo>
                  <a:lnTo>
                    <a:pt x="787" y="2847"/>
                  </a:lnTo>
                  <a:lnTo>
                    <a:pt x="763" y="2847"/>
                  </a:lnTo>
                  <a:lnTo>
                    <a:pt x="738" y="2849"/>
                  </a:lnTo>
                  <a:lnTo>
                    <a:pt x="715" y="2849"/>
                  </a:lnTo>
                  <a:lnTo>
                    <a:pt x="695" y="2849"/>
                  </a:lnTo>
                  <a:lnTo>
                    <a:pt x="677" y="2849"/>
                  </a:lnTo>
                  <a:lnTo>
                    <a:pt x="663" y="2847"/>
                  </a:lnTo>
                  <a:lnTo>
                    <a:pt x="662" y="2818"/>
                  </a:lnTo>
                  <a:lnTo>
                    <a:pt x="656" y="2788"/>
                  </a:lnTo>
                  <a:lnTo>
                    <a:pt x="648" y="2761"/>
                  </a:lnTo>
                  <a:lnTo>
                    <a:pt x="637" y="2736"/>
                  </a:lnTo>
                  <a:lnTo>
                    <a:pt x="621" y="2713"/>
                  </a:lnTo>
                  <a:lnTo>
                    <a:pt x="604" y="2693"/>
                  </a:lnTo>
                  <a:lnTo>
                    <a:pt x="585" y="2674"/>
                  </a:lnTo>
                  <a:lnTo>
                    <a:pt x="563" y="2658"/>
                  </a:lnTo>
                  <a:lnTo>
                    <a:pt x="545" y="2649"/>
                  </a:lnTo>
                  <a:lnTo>
                    <a:pt x="526" y="2646"/>
                  </a:lnTo>
                  <a:lnTo>
                    <a:pt x="507" y="2649"/>
                  </a:lnTo>
                  <a:lnTo>
                    <a:pt x="487" y="2654"/>
                  </a:lnTo>
                  <a:lnTo>
                    <a:pt x="468" y="2662"/>
                  </a:lnTo>
                  <a:lnTo>
                    <a:pt x="451" y="2672"/>
                  </a:lnTo>
                  <a:lnTo>
                    <a:pt x="434" y="2683"/>
                  </a:lnTo>
                  <a:lnTo>
                    <a:pt x="418" y="2693"/>
                  </a:lnTo>
                  <a:lnTo>
                    <a:pt x="401" y="2713"/>
                  </a:lnTo>
                  <a:lnTo>
                    <a:pt x="386" y="2735"/>
                  </a:lnTo>
                  <a:lnTo>
                    <a:pt x="375" y="2757"/>
                  </a:lnTo>
                  <a:lnTo>
                    <a:pt x="365" y="2780"/>
                  </a:lnTo>
                  <a:lnTo>
                    <a:pt x="358" y="2802"/>
                  </a:lnTo>
                  <a:lnTo>
                    <a:pt x="353" y="2821"/>
                  </a:lnTo>
                  <a:lnTo>
                    <a:pt x="350" y="2836"/>
                  </a:lnTo>
                  <a:lnTo>
                    <a:pt x="348" y="2847"/>
                  </a:lnTo>
                  <a:lnTo>
                    <a:pt x="329" y="2855"/>
                  </a:lnTo>
                  <a:lnTo>
                    <a:pt x="309" y="2860"/>
                  </a:lnTo>
                  <a:lnTo>
                    <a:pt x="287" y="2864"/>
                  </a:lnTo>
                  <a:lnTo>
                    <a:pt x="265" y="2864"/>
                  </a:lnTo>
                  <a:lnTo>
                    <a:pt x="242" y="2864"/>
                  </a:lnTo>
                  <a:lnTo>
                    <a:pt x="222" y="2860"/>
                  </a:lnTo>
                  <a:lnTo>
                    <a:pt x="202" y="2852"/>
                  </a:lnTo>
                  <a:lnTo>
                    <a:pt x="186" y="2841"/>
                  </a:lnTo>
                  <a:lnTo>
                    <a:pt x="194" y="2765"/>
                  </a:lnTo>
                  <a:lnTo>
                    <a:pt x="195" y="2663"/>
                  </a:lnTo>
                  <a:lnTo>
                    <a:pt x="187" y="2571"/>
                  </a:lnTo>
                  <a:lnTo>
                    <a:pt x="167" y="2526"/>
                  </a:lnTo>
                  <a:lnTo>
                    <a:pt x="156" y="2527"/>
                  </a:lnTo>
                  <a:lnTo>
                    <a:pt x="145" y="2529"/>
                  </a:lnTo>
                  <a:lnTo>
                    <a:pt x="136" y="2529"/>
                  </a:lnTo>
                  <a:lnTo>
                    <a:pt x="125" y="2527"/>
                  </a:lnTo>
                  <a:lnTo>
                    <a:pt x="116" y="2526"/>
                  </a:lnTo>
                  <a:lnTo>
                    <a:pt x="106" y="2523"/>
                  </a:lnTo>
                  <a:lnTo>
                    <a:pt x="95" y="2518"/>
                  </a:lnTo>
                  <a:lnTo>
                    <a:pt x="86" y="2512"/>
                  </a:lnTo>
                  <a:lnTo>
                    <a:pt x="72" y="2491"/>
                  </a:lnTo>
                  <a:lnTo>
                    <a:pt x="72" y="2466"/>
                  </a:lnTo>
                  <a:lnTo>
                    <a:pt x="83" y="2440"/>
                  </a:lnTo>
                  <a:lnTo>
                    <a:pt x="95" y="2415"/>
                  </a:lnTo>
                  <a:lnTo>
                    <a:pt x="102" y="2402"/>
                  </a:lnTo>
                  <a:lnTo>
                    <a:pt x="111" y="2393"/>
                  </a:lnTo>
                  <a:lnTo>
                    <a:pt x="122" y="2385"/>
                  </a:lnTo>
                  <a:lnTo>
                    <a:pt x="134" y="2379"/>
                  </a:lnTo>
                  <a:lnTo>
                    <a:pt x="147" y="2373"/>
                  </a:lnTo>
                  <a:lnTo>
                    <a:pt x="158" y="2365"/>
                  </a:lnTo>
                  <a:lnTo>
                    <a:pt x="169" y="2357"/>
                  </a:lnTo>
                  <a:lnTo>
                    <a:pt x="177" y="2348"/>
                  </a:lnTo>
                  <a:lnTo>
                    <a:pt x="136" y="2309"/>
                  </a:lnTo>
                  <a:lnTo>
                    <a:pt x="100" y="2265"/>
                  </a:lnTo>
                  <a:lnTo>
                    <a:pt x="67" y="2220"/>
                  </a:lnTo>
                  <a:lnTo>
                    <a:pt x="41" y="2168"/>
                  </a:lnTo>
                  <a:lnTo>
                    <a:pt x="21" y="2115"/>
                  </a:lnTo>
                  <a:lnTo>
                    <a:pt x="6" y="2059"/>
                  </a:lnTo>
                  <a:lnTo>
                    <a:pt x="0" y="1998"/>
                  </a:lnTo>
                  <a:lnTo>
                    <a:pt x="2" y="1934"/>
                  </a:lnTo>
                  <a:lnTo>
                    <a:pt x="5" y="1934"/>
                  </a:lnTo>
                  <a:lnTo>
                    <a:pt x="11" y="1900"/>
                  </a:lnTo>
                  <a:lnTo>
                    <a:pt x="19" y="1865"/>
                  </a:lnTo>
                  <a:lnTo>
                    <a:pt x="27" y="1831"/>
                  </a:lnTo>
                  <a:lnTo>
                    <a:pt x="36" y="1795"/>
                  </a:lnTo>
                  <a:lnTo>
                    <a:pt x="49" y="1761"/>
                  </a:lnTo>
                  <a:lnTo>
                    <a:pt x="61" y="1725"/>
                  </a:lnTo>
                  <a:lnTo>
                    <a:pt x="74" y="1690"/>
                  </a:lnTo>
                  <a:lnTo>
                    <a:pt x="89" y="1656"/>
                  </a:lnTo>
                  <a:lnTo>
                    <a:pt x="106" y="1623"/>
                  </a:lnTo>
                  <a:lnTo>
                    <a:pt x="125" y="1591"/>
                  </a:lnTo>
                  <a:lnTo>
                    <a:pt x="145" y="1559"/>
                  </a:lnTo>
                  <a:lnTo>
                    <a:pt x="167" y="1530"/>
                  </a:lnTo>
                  <a:lnTo>
                    <a:pt x="189" y="1502"/>
                  </a:lnTo>
                  <a:lnTo>
                    <a:pt x="214" y="1473"/>
                  </a:lnTo>
                  <a:lnTo>
                    <a:pt x="242" y="1450"/>
                  </a:lnTo>
                  <a:lnTo>
                    <a:pt x="270" y="1427"/>
                  </a:lnTo>
                  <a:lnTo>
                    <a:pt x="280" y="1417"/>
                  </a:lnTo>
                  <a:lnTo>
                    <a:pt x="301" y="1403"/>
                  </a:lnTo>
                  <a:lnTo>
                    <a:pt x="331" y="1381"/>
                  </a:lnTo>
                  <a:lnTo>
                    <a:pt x="365" y="1356"/>
                  </a:lnTo>
                  <a:lnTo>
                    <a:pt x="400" y="1328"/>
                  </a:lnTo>
                  <a:lnTo>
                    <a:pt x="431" y="1300"/>
                  </a:lnTo>
                  <a:lnTo>
                    <a:pt x="454" y="1272"/>
                  </a:lnTo>
                  <a:lnTo>
                    <a:pt x="467" y="1245"/>
                  </a:lnTo>
                  <a:lnTo>
                    <a:pt x="409" y="1213"/>
                  </a:lnTo>
                  <a:lnTo>
                    <a:pt x="395" y="1217"/>
                  </a:lnTo>
                  <a:lnTo>
                    <a:pt x="381" y="1220"/>
                  </a:lnTo>
                  <a:lnTo>
                    <a:pt x="365" y="1220"/>
                  </a:lnTo>
                  <a:lnTo>
                    <a:pt x="350" y="1220"/>
                  </a:lnTo>
                  <a:lnTo>
                    <a:pt x="334" y="1217"/>
                  </a:lnTo>
                  <a:lnTo>
                    <a:pt x="320" y="1214"/>
                  </a:lnTo>
                  <a:lnTo>
                    <a:pt x="308" y="1208"/>
                  </a:lnTo>
                  <a:lnTo>
                    <a:pt x="295" y="1200"/>
                  </a:lnTo>
                  <a:lnTo>
                    <a:pt x="287" y="1188"/>
                  </a:lnTo>
                  <a:lnTo>
                    <a:pt x="278" y="1175"/>
                  </a:lnTo>
                  <a:lnTo>
                    <a:pt x="270" y="1164"/>
                  </a:lnTo>
                  <a:lnTo>
                    <a:pt x="264" y="1153"/>
                  </a:lnTo>
                  <a:lnTo>
                    <a:pt x="259" y="1141"/>
                  </a:lnTo>
                  <a:lnTo>
                    <a:pt x="256" y="1128"/>
                  </a:lnTo>
                  <a:lnTo>
                    <a:pt x="255" y="1114"/>
                  </a:lnTo>
                  <a:lnTo>
                    <a:pt x="258" y="1097"/>
                  </a:lnTo>
                  <a:lnTo>
                    <a:pt x="259" y="1082"/>
                  </a:lnTo>
                  <a:lnTo>
                    <a:pt x="265" y="1069"/>
                  </a:lnTo>
                  <a:lnTo>
                    <a:pt x="273" y="1058"/>
                  </a:lnTo>
                  <a:lnTo>
                    <a:pt x="284" y="1047"/>
                  </a:lnTo>
                  <a:lnTo>
                    <a:pt x="295" y="1038"/>
                  </a:lnTo>
                  <a:lnTo>
                    <a:pt x="306" y="1030"/>
                  </a:lnTo>
                  <a:lnTo>
                    <a:pt x="317" y="1021"/>
                  </a:lnTo>
                  <a:lnTo>
                    <a:pt x="328" y="1010"/>
                  </a:lnTo>
                  <a:lnTo>
                    <a:pt x="343" y="1014"/>
                  </a:lnTo>
                  <a:lnTo>
                    <a:pt x="358" y="1013"/>
                  </a:lnTo>
                  <a:lnTo>
                    <a:pt x="373" y="1010"/>
                  </a:lnTo>
                  <a:lnTo>
                    <a:pt x="387" y="1003"/>
                  </a:lnTo>
                  <a:lnTo>
                    <a:pt x="401" y="997"/>
                  </a:lnTo>
                  <a:lnTo>
                    <a:pt x="417" y="993"/>
                  </a:lnTo>
                  <a:lnTo>
                    <a:pt x="431" y="991"/>
                  </a:lnTo>
                  <a:lnTo>
                    <a:pt x="448" y="994"/>
                  </a:lnTo>
                  <a:lnTo>
                    <a:pt x="443" y="960"/>
                  </a:lnTo>
                  <a:lnTo>
                    <a:pt x="439" y="921"/>
                  </a:lnTo>
                  <a:lnTo>
                    <a:pt x="440" y="883"/>
                  </a:lnTo>
                  <a:lnTo>
                    <a:pt x="454" y="849"/>
                  </a:lnTo>
                  <a:lnTo>
                    <a:pt x="440" y="783"/>
                  </a:lnTo>
                  <a:lnTo>
                    <a:pt x="417" y="682"/>
                  </a:lnTo>
                  <a:lnTo>
                    <a:pt x="387" y="555"/>
                  </a:lnTo>
                  <a:lnTo>
                    <a:pt x="353" y="418"/>
                  </a:lnTo>
                  <a:lnTo>
                    <a:pt x="320" y="281"/>
                  </a:lnTo>
                  <a:lnTo>
                    <a:pt x="290" y="157"/>
                  </a:lnTo>
                  <a:lnTo>
                    <a:pt x="269" y="59"/>
                  </a:lnTo>
                  <a:lnTo>
                    <a:pt x="258" y="0"/>
                  </a:lnTo>
                  <a:lnTo>
                    <a:pt x="267" y="1"/>
                  </a:lnTo>
                  <a:lnTo>
                    <a:pt x="286" y="12"/>
                  </a:lnTo>
                  <a:lnTo>
                    <a:pt x="314" y="31"/>
                  </a:lnTo>
                  <a:lnTo>
                    <a:pt x="350" y="56"/>
                  </a:lnTo>
                  <a:lnTo>
                    <a:pt x="392" y="87"/>
                  </a:lnTo>
                  <a:lnTo>
                    <a:pt x="440" y="125"/>
                  </a:lnTo>
                  <a:lnTo>
                    <a:pt x="493" y="165"/>
                  </a:lnTo>
                  <a:lnTo>
                    <a:pt x="549" y="209"/>
                  </a:lnTo>
                  <a:lnTo>
                    <a:pt x="609" y="256"/>
                  </a:lnTo>
                  <a:lnTo>
                    <a:pt x="670" y="304"/>
                  </a:lnTo>
                  <a:lnTo>
                    <a:pt x="729" y="354"/>
                  </a:lnTo>
                  <a:lnTo>
                    <a:pt x="788" y="402"/>
                  </a:lnTo>
                  <a:lnTo>
                    <a:pt x="846" y="449"/>
                  </a:lnTo>
                  <a:lnTo>
                    <a:pt x="901" y="495"/>
                  </a:lnTo>
                  <a:lnTo>
                    <a:pt x="950" y="537"/>
                  </a:lnTo>
                  <a:lnTo>
                    <a:pt x="996" y="574"/>
                  </a:lnTo>
                  <a:lnTo>
                    <a:pt x="1007" y="593"/>
                  </a:lnTo>
                  <a:lnTo>
                    <a:pt x="1021" y="610"/>
                  </a:lnTo>
                  <a:lnTo>
                    <a:pt x="1036" y="626"/>
                  </a:lnTo>
                  <a:lnTo>
                    <a:pt x="1053" y="641"/>
                  </a:lnTo>
                  <a:lnTo>
                    <a:pt x="1071" y="655"/>
                  </a:lnTo>
                  <a:lnTo>
                    <a:pt x="1089" y="668"/>
                  </a:lnTo>
                  <a:lnTo>
                    <a:pt x="1108" y="680"/>
                  </a:lnTo>
                  <a:lnTo>
                    <a:pt x="1125" y="691"/>
                  </a:lnTo>
                  <a:lnTo>
                    <a:pt x="1125" y="713"/>
                  </a:lnTo>
                  <a:lnTo>
                    <a:pt x="1122" y="733"/>
                  </a:lnTo>
                  <a:lnTo>
                    <a:pt x="1116" y="752"/>
                  </a:lnTo>
                  <a:lnTo>
                    <a:pt x="1105" y="771"/>
                  </a:lnTo>
                  <a:lnTo>
                    <a:pt x="1186" y="87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1498320" y="4292640"/>
              <a:ext cx="276480" cy="263520"/>
            </a:xfrm>
            <a:custGeom>
              <a:avLst/>
              <a:gdLst/>
              <a:ahLst/>
              <a:rect l="l" t="t" r="r" b="b"/>
              <a:pathLst>
                <a:path w="348" h="331">
                  <a:moveTo>
                    <a:pt x="186" y="66"/>
                  </a:moveTo>
                  <a:lnTo>
                    <a:pt x="288" y="10"/>
                  </a:lnTo>
                  <a:lnTo>
                    <a:pt x="266" y="142"/>
                  </a:lnTo>
                  <a:lnTo>
                    <a:pt x="348" y="214"/>
                  </a:lnTo>
                  <a:lnTo>
                    <a:pt x="213" y="217"/>
                  </a:lnTo>
                  <a:lnTo>
                    <a:pt x="149" y="331"/>
                  </a:lnTo>
                  <a:lnTo>
                    <a:pt x="108" y="222"/>
                  </a:lnTo>
                  <a:lnTo>
                    <a:pt x="0" y="202"/>
                  </a:lnTo>
                  <a:lnTo>
                    <a:pt x="80" y="128"/>
                  </a:lnTo>
                  <a:lnTo>
                    <a:pt x="74" y="0"/>
                  </a:lnTo>
                  <a:lnTo>
                    <a:pt x="186" y="66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2508120" y="4316400"/>
              <a:ext cx="128520" cy="284040"/>
            </a:xfrm>
            <a:custGeom>
              <a:avLst/>
              <a:gdLst/>
              <a:ahLst/>
              <a:rect l="l" t="t" r="r" b="b"/>
              <a:pathLst>
                <a:path w="164" h="358">
                  <a:moveTo>
                    <a:pt x="164" y="345"/>
                  </a:moveTo>
                  <a:lnTo>
                    <a:pt x="156" y="350"/>
                  </a:lnTo>
                  <a:lnTo>
                    <a:pt x="145" y="353"/>
                  </a:lnTo>
                  <a:lnTo>
                    <a:pt x="134" y="356"/>
                  </a:lnTo>
                  <a:lnTo>
                    <a:pt x="125" y="358"/>
                  </a:lnTo>
                  <a:lnTo>
                    <a:pt x="123" y="325"/>
                  </a:lnTo>
                  <a:lnTo>
                    <a:pt x="117" y="283"/>
                  </a:lnTo>
                  <a:lnTo>
                    <a:pt x="109" y="236"/>
                  </a:lnTo>
                  <a:lnTo>
                    <a:pt x="97" y="184"/>
                  </a:lnTo>
                  <a:lnTo>
                    <a:pt x="80" y="134"/>
                  </a:lnTo>
                  <a:lnTo>
                    <a:pt x="58" y="87"/>
                  </a:lnTo>
                  <a:lnTo>
                    <a:pt x="31" y="45"/>
                  </a:lnTo>
                  <a:lnTo>
                    <a:pt x="0" y="13"/>
                  </a:lnTo>
                  <a:lnTo>
                    <a:pt x="5" y="3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34" y="2"/>
                  </a:lnTo>
                  <a:lnTo>
                    <a:pt x="69" y="39"/>
                  </a:lnTo>
                  <a:lnTo>
                    <a:pt x="98" y="81"/>
                  </a:lnTo>
                  <a:lnTo>
                    <a:pt x="120" y="130"/>
                  </a:lnTo>
                  <a:lnTo>
                    <a:pt x="139" y="178"/>
                  </a:lnTo>
                  <a:lnTo>
                    <a:pt x="151" y="226"/>
                  </a:lnTo>
                  <a:lnTo>
                    <a:pt x="159" y="272"/>
                  </a:lnTo>
                  <a:lnTo>
                    <a:pt x="164" y="312"/>
                  </a:lnTo>
                  <a:lnTo>
                    <a:pt x="164" y="34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728640" y="4324320"/>
              <a:ext cx="479160" cy="560160"/>
            </a:xfrm>
            <a:custGeom>
              <a:avLst/>
              <a:gdLst/>
              <a:ahLst/>
              <a:rect l="l" t="t" r="r" b="b"/>
              <a:pathLst>
                <a:path w="603" h="706">
                  <a:moveTo>
                    <a:pt x="603" y="488"/>
                  </a:moveTo>
                  <a:lnTo>
                    <a:pt x="588" y="505"/>
                  </a:lnTo>
                  <a:lnTo>
                    <a:pt x="572" y="522"/>
                  </a:lnTo>
                  <a:lnTo>
                    <a:pt x="555" y="537"/>
                  </a:lnTo>
                  <a:lnTo>
                    <a:pt x="536" y="553"/>
                  </a:lnTo>
                  <a:lnTo>
                    <a:pt x="518" y="567"/>
                  </a:lnTo>
                  <a:lnTo>
                    <a:pt x="497" y="581"/>
                  </a:lnTo>
                  <a:lnTo>
                    <a:pt x="475" y="595"/>
                  </a:lnTo>
                  <a:lnTo>
                    <a:pt x="455" y="608"/>
                  </a:lnTo>
                  <a:lnTo>
                    <a:pt x="433" y="620"/>
                  </a:lnTo>
                  <a:lnTo>
                    <a:pt x="410" y="633"/>
                  </a:lnTo>
                  <a:lnTo>
                    <a:pt x="388" y="645"/>
                  </a:lnTo>
                  <a:lnTo>
                    <a:pt x="365" y="658"/>
                  </a:lnTo>
                  <a:lnTo>
                    <a:pt x="341" y="669"/>
                  </a:lnTo>
                  <a:lnTo>
                    <a:pt x="318" y="681"/>
                  </a:lnTo>
                  <a:lnTo>
                    <a:pt x="294" y="694"/>
                  </a:lnTo>
                  <a:lnTo>
                    <a:pt x="271" y="706"/>
                  </a:lnTo>
                  <a:lnTo>
                    <a:pt x="260" y="705"/>
                  </a:lnTo>
                  <a:lnTo>
                    <a:pt x="254" y="698"/>
                  </a:lnTo>
                  <a:lnTo>
                    <a:pt x="251" y="690"/>
                  </a:lnTo>
                  <a:lnTo>
                    <a:pt x="251" y="681"/>
                  </a:lnTo>
                  <a:lnTo>
                    <a:pt x="235" y="639"/>
                  </a:lnTo>
                  <a:lnTo>
                    <a:pt x="220" y="597"/>
                  </a:lnTo>
                  <a:lnTo>
                    <a:pt x="204" y="555"/>
                  </a:lnTo>
                  <a:lnTo>
                    <a:pt x="188" y="513"/>
                  </a:lnTo>
                  <a:lnTo>
                    <a:pt x="173" y="472"/>
                  </a:lnTo>
                  <a:lnTo>
                    <a:pt x="157" y="430"/>
                  </a:lnTo>
                  <a:lnTo>
                    <a:pt x="142" y="388"/>
                  </a:lnTo>
                  <a:lnTo>
                    <a:pt x="126" y="345"/>
                  </a:lnTo>
                  <a:lnTo>
                    <a:pt x="109" y="303"/>
                  </a:lnTo>
                  <a:lnTo>
                    <a:pt x="93" y="261"/>
                  </a:lnTo>
                  <a:lnTo>
                    <a:pt x="78" y="219"/>
                  </a:lnTo>
                  <a:lnTo>
                    <a:pt x="62" y="177"/>
                  </a:lnTo>
                  <a:lnTo>
                    <a:pt x="46" y="135"/>
                  </a:lnTo>
                  <a:lnTo>
                    <a:pt x="31" y="93"/>
                  </a:lnTo>
                  <a:lnTo>
                    <a:pt x="15" y="52"/>
                  </a:lnTo>
                  <a:lnTo>
                    <a:pt x="0" y="10"/>
                  </a:lnTo>
                  <a:lnTo>
                    <a:pt x="9" y="0"/>
                  </a:lnTo>
                  <a:lnTo>
                    <a:pt x="45" y="32"/>
                  </a:lnTo>
                  <a:lnTo>
                    <a:pt x="82" y="63"/>
                  </a:lnTo>
                  <a:lnTo>
                    <a:pt x="118" y="93"/>
                  </a:lnTo>
                  <a:lnTo>
                    <a:pt x="156" y="122"/>
                  </a:lnTo>
                  <a:lnTo>
                    <a:pt x="191" y="152"/>
                  </a:lnTo>
                  <a:lnTo>
                    <a:pt x="229" y="182"/>
                  </a:lnTo>
                  <a:lnTo>
                    <a:pt x="266" y="211"/>
                  </a:lnTo>
                  <a:lnTo>
                    <a:pt x="304" y="241"/>
                  </a:lnTo>
                  <a:lnTo>
                    <a:pt x="341" y="271"/>
                  </a:lnTo>
                  <a:lnTo>
                    <a:pt x="377" y="300"/>
                  </a:lnTo>
                  <a:lnTo>
                    <a:pt x="415" y="331"/>
                  </a:lnTo>
                  <a:lnTo>
                    <a:pt x="452" y="361"/>
                  </a:lnTo>
                  <a:lnTo>
                    <a:pt x="491" y="392"/>
                  </a:lnTo>
                  <a:lnTo>
                    <a:pt x="528" y="424"/>
                  </a:lnTo>
                  <a:lnTo>
                    <a:pt x="566" y="455"/>
                  </a:lnTo>
                  <a:lnTo>
                    <a:pt x="603" y="488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1544400" y="4333680"/>
              <a:ext cx="168480" cy="160560"/>
            </a:xfrm>
            <a:custGeom>
              <a:avLst/>
              <a:gdLst/>
              <a:ahLst/>
              <a:rect l="l" t="t" r="r" b="b"/>
              <a:pathLst>
                <a:path w="214" h="203">
                  <a:moveTo>
                    <a:pt x="191" y="11"/>
                  </a:moveTo>
                  <a:lnTo>
                    <a:pt x="169" y="87"/>
                  </a:lnTo>
                  <a:lnTo>
                    <a:pt x="214" y="136"/>
                  </a:lnTo>
                  <a:lnTo>
                    <a:pt x="136" y="139"/>
                  </a:lnTo>
                  <a:lnTo>
                    <a:pt x="94" y="203"/>
                  </a:lnTo>
                  <a:lnTo>
                    <a:pt x="83" y="136"/>
                  </a:lnTo>
                  <a:lnTo>
                    <a:pt x="0" y="130"/>
                  </a:lnTo>
                  <a:lnTo>
                    <a:pt x="63" y="84"/>
                  </a:lnTo>
                  <a:lnTo>
                    <a:pt x="50" y="0"/>
                  </a:lnTo>
                  <a:lnTo>
                    <a:pt x="125" y="55"/>
                  </a:lnTo>
                  <a:lnTo>
                    <a:pt x="191" y="11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2114280" y="4348080"/>
              <a:ext cx="466920" cy="366840"/>
            </a:xfrm>
            <a:custGeom>
              <a:avLst/>
              <a:gdLst/>
              <a:ahLst/>
              <a:rect l="l" t="t" r="r" b="b"/>
              <a:pathLst>
                <a:path w="588" h="462">
                  <a:moveTo>
                    <a:pt x="588" y="307"/>
                  </a:moveTo>
                  <a:lnTo>
                    <a:pt x="578" y="312"/>
                  </a:lnTo>
                  <a:lnTo>
                    <a:pt x="567" y="309"/>
                  </a:lnTo>
                  <a:lnTo>
                    <a:pt x="557" y="303"/>
                  </a:lnTo>
                  <a:lnTo>
                    <a:pt x="549" y="296"/>
                  </a:lnTo>
                  <a:lnTo>
                    <a:pt x="521" y="307"/>
                  </a:lnTo>
                  <a:lnTo>
                    <a:pt x="493" y="320"/>
                  </a:lnTo>
                  <a:lnTo>
                    <a:pt x="463" y="331"/>
                  </a:lnTo>
                  <a:lnTo>
                    <a:pt x="435" y="342"/>
                  </a:lnTo>
                  <a:lnTo>
                    <a:pt x="405" y="351"/>
                  </a:lnTo>
                  <a:lnTo>
                    <a:pt x="376" y="362"/>
                  </a:lnTo>
                  <a:lnTo>
                    <a:pt x="346" y="371"/>
                  </a:lnTo>
                  <a:lnTo>
                    <a:pt x="316" y="382"/>
                  </a:lnTo>
                  <a:lnTo>
                    <a:pt x="287" y="392"/>
                  </a:lnTo>
                  <a:lnTo>
                    <a:pt x="257" y="402"/>
                  </a:lnTo>
                  <a:lnTo>
                    <a:pt x="227" y="412"/>
                  </a:lnTo>
                  <a:lnTo>
                    <a:pt x="199" y="421"/>
                  </a:lnTo>
                  <a:lnTo>
                    <a:pt x="171" y="432"/>
                  </a:lnTo>
                  <a:lnTo>
                    <a:pt x="143" y="441"/>
                  </a:lnTo>
                  <a:lnTo>
                    <a:pt x="117" y="451"/>
                  </a:lnTo>
                  <a:lnTo>
                    <a:pt x="90" y="462"/>
                  </a:lnTo>
                  <a:lnTo>
                    <a:pt x="88" y="423"/>
                  </a:lnTo>
                  <a:lnTo>
                    <a:pt x="82" y="385"/>
                  </a:lnTo>
                  <a:lnTo>
                    <a:pt x="74" y="349"/>
                  </a:lnTo>
                  <a:lnTo>
                    <a:pt x="63" y="315"/>
                  </a:lnTo>
                  <a:lnTo>
                    <a:pt x="51" y="282"/>
                  </a:lnTo>
                  <a:lnTo>
                    <a:pt x="35" y="251"/>
                  </a:lnTo>
                  <a:lnTo>
                    <a:pt x="18" y="221"/>
                  </a:lnTo>
                  <a:lnTo>
                    <a:pt x="0" y="193"/>
                  </a:lnTo>
                  <a:lnTo>
                    <a:pt x="464" y="0"/>
                  </a:lnTo>
                  <a:lnTo>
                    <a:pt x="493" y="28"/>
                  </a:lnTo>
                  <a:lnTo>
                    <a:pt x="516" y="61"/>
                  </a:lnTo>
                  <a:lnTo>
                    <a:pt x="538" y="98"/>
                  </a:lnTo>
                  <a:lnTo>
                    <a:pt x="555" y="137"/>
                  </a:lnTo>
                  <a:lnTo>
                    <a:pt x="569" y="179"/>
                  </a:lnTo>
                  <a:lnTo>
                    <a:pt x="578" y="221"/>
                  </a:lnTo>
                  <a:lnTo>
                    <a:pt x="585" y="265"/>
                  </a:lnTo>
                  <a:lnTo>
                    <a:pt x="588" y="307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846000" y="4518000"/>
              <a:ext cx="174600" cy="215640"/>
            </a:xfrm>
            <a:custGeom>
              <a:avLst/>
              <a:gdLst/>
              <a:ahLst/>
              <a:rect l="l" t="t" r="r" b="b"/>
              <a:pathLst>
                <a:path w="222" h="271">
                  <a:moveTo>
                    <a:pt x="148" y="95"/>
                  </a:moveTo>
                  <a:lnTo>
                    <a:pt x="222" y="115"/>
                  </a:lnTo>
                  <a:lnTo>
                    <a:pt x="178" y="154"/>
                  </a:lnTo>
                  <a:lnTo>
                    <a:pt x="219" y="251"/>
                  </a:lnTo>
                  <a:lnTo>
                    <a:pt x="144" y="201"/>
                  </a:lnTo>
                  <a:lnTo>
                    <a:pt x="75" y="271"/>
                  </a:lnTo>
                  <a:lnTo>
                    <a:pt x="81" y="165"/>
                  </a:lnTo>
                  <a:lnTo>
                    <a:pt x="0" y="120"/>
                  </a:lnTo>
                  <a:lnTo>
                    <a:pt x="81" y="92"/>
                  </a:lnTo>
                  <a:lnTo>
                    <a:pt x="95" y="0"/>
                  </a:lnTo>
                  <a:lnTo>
                    <a:pt x="148" y="95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2066760" y="4525920"/>
              <a:ext cx="93600" cy="228600"/>
            </a:xfrm>
            <a:custGeom>
              <a:avLst/>
              <a:gdLst/>
              <a:ahLst/>
              <a:rect l="l" t="t" r="r" b="b"/>
              <a:pathLst>
                <a:path w="118" h="287">
                  <a:moveTo>
                    <a:pt x="109" y="287"/>
                  </a:moveTo>
                  <a:lnTo>
                    <a:pt x="101" y="287"/>
                  </a:lnTo>
                  <a:lnTo>
                    <a:pt x="96" y="284"/>
                  </a:lnTo>
                  <a:lnTo>
                    <a:pt x="92" y="279"/>
                  </a:lnTo>
                  <a:lnTo>
                    <a:pt x="87" y="275"/>
                  </a:lnTo>
                  <a:lnTo>
                    <a:pt x="96" y="239"/>
                  </a:lnTo>
                  <a:lnTo>
                    <a:pt x="96" y="200"/>
                  </a:lnTo>
                  <a:lnTo>
                    <a:pt x="87" y="159"/>
                  </a:lnTo>
                  <a:lnTo>
                    <a:pt x="73" y="120"/>
                  </a:lnTo>
                  <a:lnTo>
                    <a:pt x="54" y="86"/>
                  </a:lnTo>
                  <a:lnTo>
                    <a:pt x="37" y="58"/>
                  </a:lnTo>
                  <a:lnTo>
                    <a:pt x="21" y="37"/>
                  </a:lnTo>
                  <a:lnTo>
                    <a:pt x="11" y="30"/>
                  </a:lnTo>
                  <a:lnTo>
                    <a:pt x="3" y="26"/>
                  </a:lnTo>
                  <a:lnTo>
                    <a:pt x="0" y="22"/>
                  </a:lnTo>
                  <a:lnTo>
                    <a:pt x="4" y="12"/>
                  </a:lnTo>
                  <a:lnTo>
                    <a:pt x="15" y="0"/>
                  </a:lnTo>
                  <a:lnTo>
                    <a:pt x="43" y="23"/>
                  </a:lnTo>
                  <a:lnTo>
                    <a:pt x="68" y="55"/>
                  </a:lnTo>
                  <a:lnTo>
                    <a:pt x="89" y="89"/>
                  </a:lnTo>
                  <a:lnTo>
                    <a:pt x="104" y="126"/>
                  </a:lnTo>
                  <a:lnTo>
                    <a:pt x="115" y="167"/>
                  </a:lnTo>
                  <a:lnTo>
                    <a:pt x="118" y="209"/>
                  </a:lnTo>
                  <a:lnTo>
                    <a:pt x="117" y="248"/>
                  </a:lnTo>
                  <a:lnTo>
                    <a:pt x="109" y="287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380880" y="4530600"/>
              <a:ext cx="360360" cy="368280"/>
            </a:xfrm>
            <a:custGeom>
              <a:avLst/>
              <a:gdLst/>
              <a:ahLst/>
              <a:rect l="l" t="t" r="r" b="b"/>
              <a:pathLst>
                <a:path w="454" h="464">
                  <a:moveTo>
                    <a:pt x="128" y="3"/>
                  </a:moveTo>
                  <a:lnTo>
                    <a:pt x="111" y="42"/>
                  </a:lnTo>
                  <a:lnTo>
                    <a:pt x="100" y="83"/>
                  </a:lnTo>
                  <a:lnTo>
                    <a:pt x="95" y="127"/>
                  </a:lnTo>
                  <a:lnTo>
                    <a:pt x="103" y="172"/>
                  </a:lnTo>
                  <a:lnTo>
                    <a:pt x="114" y="200"/>
                  </a:lnTo>
                  <a:lnTo>
                    <a:pt x="130" y="228"/>
                  </a:lnTo>
                  <a:lnTo>
                    <a:pt x="147" y="253"/>
                  </a:lnTo>
                  <a:lnTo>
                    <a:pt x="169" y="276"/>
                  </a:lnTo>
                  <a:lnTo>
                    <a:pt x="192" y="298"/>
                  </a:lnTo>
                  <a:lnTo>
                    <a:pt x="217" y="316"/>
                  </a:lnTo>
                  <a:lnTo>
                    <a:pt x="245" y="330"/>
                  </a:lnTo>
                  <a:lnTo>
                    <a:pt x="275" y="339"/>
                  </a:lnTo>
                  <a:lnTo>
                    <a:pt x="295" y="341"/>
                  </a:lnTo>
                  <a:lnTo>
                    <a:pt x="317" y="342"/>
                  </a:lnTo>
                  <a:lnTo>
                    <a:pt x="339" y="341"/>
                  </a:lnTo>
                  <a:lnTo>
                    <a:pt x="361" y="339"/>
                  </a:lnTo>
                  <a:lnTo>
                    <a:pt x="381" y="334"/>
                  </a:lnTo>
                  <a:lnTo>
                    <a:pt x="400" y="328"/>
                  </a:lnTo>
                  <a:lnTo>
                    <a:pt x="418" y="320"/>
                  </a:lnTo>
                  <a:lnTo>
                    <a:pt x="435" y="309"/>
                  </a:lnTo>
                  <a:lnTo>
                    <a:pt x="454" y="314"/>
                  </a:lnTo>
                  <a:lnTo>
                    <a:pt x="442" y="344"/>
                  </a:lnTo>
                  <a:lnTo>
                    <a:pt x="424" y="370"/>
                  </a:lnTo>
                  <a:lnTo>
                    <a:pt x="403" y="394"/>
                  </a:lnTo>
                  <a:lnTo>
                    <a:pt x="376" y="414"/>
                  </a:lnTo>
                  <a:lnTo>
                    <a:pt x="348" y="431"/>
                  </a:lnTo>
                  <a:lnTo>
                    <a:pt x="318" y="445"/>
                  </a:lnTo>
                  <a:lnTo>
                    <a:pt x="286" y="456"/>
                  </a:lnTo>
                  <a:lnTo>
                    <a:pt x="254" y="462"/>
                  </a:lnTo>
                  <a:lnTo>
                    <a:pt x="223" y="464"/>
                  </a:lnTo>
                  <a:lnTo>
                    <a:pt x="187" y="458"/>
                  </a:lnTo>
                  <a:lnTo>
                    <a:pt x="150" y="445"/>
                  </a:lnTo>
                  <a:lnTo>
                    <a:pt x="112" y="428"/>
                  </a:lnTo>
                  <a:lnTo>
                    <a:pt x="78" y="403"/>
                  </a:lnTo>
                  <a:lnTo>
                    <a:pt x="47" y="372"/>
                  </a:lnTo>
                  <a:lnTo>
                    <a:pt x="23" y="334"/>
                  </a:lnTo>
                  <a:lnTo>
                    <a:pt x="6" y="291"/>
                  </a:lnTo>
                  <a:lnTo>
                    <a:pt x="2" y="269"/>
                  </a:lnTo>
                  <a:lnTo>
                    <a:pt x="0" y="245"/>
                  </a:lnTo>
                  <a:lnTo>
                    <a:pt x="0" y="220"/>
                  </a:lnTo>
                  <a:lnTo>
                    <a:pt x="3" y="194"/>
                  </a:lnTo>
                  <a:lnTo>
                    <a:pt x="9" y="167"/>
                  </a:lnTo>
                  <a:lnTo>
                    <a:pt x="19" y="139"/>
                  </a:lnTo>
                  <a:lnTo>
                    <a:pt x="30" y="109"/>
                  </a:lnTo>
                  <a:lnTo>
                    <a:pt x="45" y="78"/>
                  </a:lnTo>
                  <a:lnTo>
                    <a:pt x="52" y="66"/>
                  </a:lnTo>
                  <a:lnTo>
                    <a:pt x="59" y="52"/>
                  </a:lnTo>
                  <a:lnTo>
                    <a:pt x="67" y="36"/>
                  </a:lnTo>
                  <a:lnTo>
                    <a:pt x="78" y="24"/>
                  </a:lnTo>
                  <a:lnTo>
                    <a:pt x="87" y="13"/>
                  </a:lnTo>
                  <a:lnTo>
                    <a:pt x="100" y="3"/>
                  </a:lnTo>
                  <a:lnTo>
                    <a:pt x="114" y="0"/>
                  </a:lnTo>
                  <a:lnTo>
                    <a:pt x="128" y="3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1693800" y="4579920"/>
              <a:ext cx="425520" cy="274680"/>
            </a:xfrm>
            <a:custGeom>
              <a:avLst/>
              <a:gdLst/>
              <a:ahLst/>
              <a:rect l="l" t="t" r="r" b="b"/>
              <a:pathLst>
                <a:path w="535" h="347">
                  <a:moveTo>
                    <a:pt x="527" y="169"/>
                  </a:moveTo>
                  <a:lnTo>
                    <a:pt x="504" y="184"/>
                  </a:lnTo>
                  <a:lnTo>
                    <a:pt x="482" y="189"/>
                  </a:lnTo>
                  <a:lnTo>
                    <a:pt x="460" y="186"/>
                  </a:lnTo>
                  <a:lnTo>
                    <a:pt x="442" y="176"/>
                  </a:lnTo>
                  <a:lnTo>
                    <a:pt x="421" y="164"/>
                  </a:lnTo>
                  <a:lnTo>
                    <a:pt x="401" y="151"/>
                  </a:lnTo>
                  <a:lnTo>
                    <a:pt x="381" y="141"/>
                  </a:lnTo>
                  <a:lnTo>
                    <a:pt x="357" y="136"/>
                  </a:lnTo>
                  <a:lnTo>
                    <a:pt x="334" y="133"/>
                  </a:lnTo>
                  <a:lnTo>
                    <a:pt x="304" y="136"/>
                  </a:lnTo>
                  <a:lnTo>
                    <a:pt x="273" y="144"/>
                  </a:lnTo>
                  <a:lnTo>
                    <a:pt x="243" y="159"/>
                  </a:lnTo>
                  <a:lnTo>
                    <a:pt x="217" y="183"/>
                  </a:lnTo>
                  <a:lnTo>
                    <a:pt x="197" y="214"/>
                  </a:lnTo>
                  <a:lnTo>
                    <a:pt x="186" y="256"/>
                  </a:lnTo>
                  <a:lnTo>
                    <a:pt x="186" y="309"/>
                  </a:lnTo>
                  <a:lnTo>
                    <a:pt x="175" y="314"/>
                  </a:lnTo>
                  <a:lnTo>
                    <a:pt x="161" y="319"/>
                  </a:lnTo>
                  <a:lnTo>
                    <a:pt x="144" y="325"/>
                  </a:lnTo>
                  <a:lnTo>
                    <a:pt x="125" y="331"/>
                  </a:lnTo>
                  <a:lnTo>
                    <a:pt x="106" y="337"/>
                  </a:lnTo>
                  <a:lnTo>
                    <a:pt x="89" y="342"/>
                  </a:lnTo>
                  <a:lnTo>
                    <a:pt x="73" y="345"/>
                  </a:lnTo>
                  <a:lnTo>
                    <a:pt x="61" y="347"/>
                  </a:lnTo>
                  <a:lnTo>
                    <a:pt x="56" y="328"/>
                  </a:lnTo>
                  <a:lnTo>
                    <a:pt x="50" y="309"/>
                  </a:lnTo>
                  <a:lnTo>
                    <a:pt x="44" y="290"/>
                  </a:lnTo>
                  <a:lnTo>
                    <a:pt x="36" y="272"/>
                  </a:lnTo>
                  <a:lnTo>
                    <a:pt x="28" y="255"/>
                  </a:lnTo>
                  <a:lnTo>
                    <a:pt x="20" y="236"/>
                  </a:lnTo>
                  <a:lnTo>
                    <a:pt x="11" y="217"/>
                  </a:lnTo>
                  <a:lnTo>
                    <a:pt x="0" y="197"/>
                  </a:lnTo>
                  <a:lnTo>
                    <a:pt x="27" y="186"/>
                  </a:lnTo>
                  <a:lnTo>
                    <a:pt x="55" y="173"/>
                  </a:lnTo>
                  <a:lnTo>
                    <a:pt x="84" y="162"/>
                  </a:lnTo>
                  <a:lnTo>
                    <a:pt x="112" y="150"/>
                  </a:lnTo>
                  <a:lnTo>
                    <a:pt x="142" y="137"/>
                  </a:lnTo>
                  <a:lnTo>
                    <a:pt x="172" y="127"/>
                  </a:lnTo>
                  <a:lnTo>
                    <a:pt x="203" y="114"/>
                  </a:lnTo>
                  <a:lnTo>
                    <a:pt x="232" y="102"/>
                  </a:lnTo>
                  <a:lnTo>
                    <a:pt x="262" y="89"/>
                  </a:lnTo>
                  <a:lnTo>
                    <a:pt x="292" y="77"/>
                  </a:lnTo>
                  <a:lnTo>
                    <a:pt x="321" y="64"/>
                  </a:lnTo>
                  <a:lnTo>
                    <a:pt x="351" y="52"/>
                  </a:lnTo>
                  <a:lnTo>
                    <a:pt x="381" y="39"/>
                  </a:lnTo>
                  <a:lnTo>
                    <a:pt x="409" y="25"/>
                  </a:lnTo>
                  <a:lnTo>
                    <a:pt x="437" y="13"/>
                  </a:lnTo>
                  <a:lnTo>
                    <a:pt x="463" y="0"/>
                  </a:lnTo>
                  <a:lnTo>
                    <a:pt x="485" y="16"/>
                  </a:lnTo>
                  <a:lnTo>
                    <a:pt x="502" y="39"/>
                  </a:lnTo>
                  <a:lnTo>
                    <a:pt x="516" y="66"/>
                  </a:lnTo>
                  <a:lnTo>
                    <a:pt x="526" y="94"/>
                  </a:lnTo>
                  <a:lnTo>
                    <a:pt x="532" y="120"/>
                  </a:lnTo>
                  <a:lnTo>
                    <a:pt x="535" y="144"/>
                  </a:lnTo>
                  <a:lnTo>
                    <a:pt x="534" y="161"/>
                  </a:lnTo>
                  <a:lnTo>
                    <a:pt x="527" y="169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407880" y="4614840"/>
              <a:ext cx="268200" cy="252360"/>
            </a:xfrm>
            <a:custGeom>
              <a:avLst/>
              <a:gdLst/>
              <a:ahLst/>
              <a:rect l="l" t="t" r="r" b="b"/>
              <a:pathLst>
                <a:path w="337" h="319">
                  <a:moveTo>
                    <a:pt x="337" y="275"/>
                  </a:moveTo>
                  <a:lnTo>
                    <a:pt x="316" y="288"/>
                  </a:lnTo>
                  <a:lnTo>
                    <a:pt x="292" y="300"/>
                  </a:lnTo>
                  <a:lnTo>
                    <a:pt x="266" y="309"/>
                  </a:lnTo>
                  <a:lnTo>
                    <a:pt x="236" y="316"/>
                  </a:lnTo>
                  <a:lnTo>
                    <a:pt x="206" y="319"/>
                  </a:lnTo>
                  <a:lnTo>
                    <a:pt x="177" y="319"/>
                  </a:lnTo>
                  <a:lnTo>
                    <a:pt x="146" y="314"/>
                  </a:lnTo>
                  <a:lnTo>
                    <a:pt x="114" y="305"/>
                  </a:lnTo>
                  <a:lnTo>
                    <a:pt x="92" y="291"/>
                  </a:lnTo>
                  <a:lnTo>
                    <a:pt x="66" y="270"/>
                  </a:lnTo>
                  <a:lnTo>
                    <a:pt x="41" y="244"/>
                  </a:lnTo>
                  <a:lnTo>
                    <a:pt x="19" y="211"/>
                  </a:lnTo>
                  <a:lnTo>
                    <a:pt x="4" y="172"/>
                  </a:lnTo>
                  <a:lnTo>
                    <a:pt x="0" y="124"/>
                  </a:lnTo>
                  <a:lnTo>
                    <a:pt x="10" y="67"/>
                  </a:lnTo>
                  <a:lnTo>
                    <a:pt x="36" y="0"/>
                  </a:lnTo>
                  <a:lnTo>
                    <a:pt x="35" y="24"/>
                  </a:lnTo>
                  <a:lnTo>
                    <a:pt x="36" y="47"/>
                  </a:lnTo>
                  <a:lnTo>
                    <a:pt x="41" y="72"/>
                  </a:lnTo>
                  <a:lnTo>
                    <a:pt x="47" y="96"/>
                  </a:lnTo>
                  <a:lnTo>
                    <a:pt x="57" y="121"/>
                  </a:lnTo>
                  <a:lnTo>
                    <a:pt x="69" y="144"/>
                  </a:lnTo>
                  <a:lnTo>
                    <a:pt x="85" y="167"/>
                  </a:lnTo>
                  <a:lnTo>
                    <a:pt x="102" y="189"/>
                  </a:lnTo>
                  <a:lnTo>
                    <a:pt x="122" y="208"/>
                  </a:lnTo>
                  <a:lnTo>
                    <a:pt x="144" y="227"/>
                  </a:lnTo>
                  <a:lnTo>
                    <a:pt x="169" y="242"/>
                  </a:lnTo>
                  <a:lnTo>
                    <a:pt x="199" y="256"/>
                  </a:lnTo>
                  <a:lnTo>
                    <a:pt x="228" y="266"/>
                  </a:lnTo>
                  <a:lnTo>
                    <a:pt x="263" y="272"/>
                  </a:lnTo>
                  <a:lnTo>
                    <a:pt x="298" y="277"/>
                  </a:lnTo>
                  <a:lnTo>
                    <a:pt x="337" y="27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1876320" y="4714920"/>
              <a:ext cx="158760" cy="147600"/>
            </a:xfrm>
            <a:custGeom>
              <a:avLst/>
              <a:gdLst/>
              <a:ahLst/>
              <a:rect l="l" t="t" r="r" b="b"/>
              <a:pathLst>
                <a:path w="198" h="186">
                  <a:moveTo>
                    <a:pt x="193" y="41"/>
                  </a:moveTo>
                  <a:lnTo>
                    <a:pt x="198" y="66"/>
                  </a:lnTo>
                  <a:lnTo>
                    <a:pt x="197" y="103"/>
                  </a:lnTo>
                  <a:lnTo>
                    <a:pt x="189" y="141"/>
                  </a:lnTo>
                  <a:lnTo>
                    <a:pt x="175" y="166"/>
                  </a:lnTo>
                  <a:lnTo>
                    <a:pt x="161" y="175"/>
                  </a:lnTo>
                  <a:lnTo>
                    <a:pt x="147" y="180"/>
                  </a:lnTo>
                  <a:lnTo>
                    <a:pt x="133" y="184"/>
                  </a:lnTo>
                  <a:lnTo>
                    <a:pt x="117" y="186"/>
                  </a:lnTo>
                  <a:lnTo>
                    <a:pt x="103" y="186"/>
                  </a:lnTo>
                  <a:lnTo>
                    <a:pt x="87" y="184"/>
                  </a:lnTo>
                  <a:lnTo>
                    <a:pt x="72" y="181"/>
                  </a:lnTo>
                  <a:lnTo>
                    <a:pt x="58" y="177"/>
                  </a:lnTo>
                  <a:lnTo>
                    <a:pt x="48" y="169"/>
                  </a:lnTo>
                  <a:lnTo>
                    <a:pt x="39" y="161"/>
                  </a:lnTo>
                  <a:lnTo>
                    <a:pt x="30" y="152"/>
                  </a:lnTo>
                  <a:lnTo>
                    <a:pt x="20" y="142"/>
                  </a:lnTo>
                  <a:lnTo>
                    <a:pt x="12" y="131"/>
                  </a:lnTo>
                  <a:lnTo>
                    <a:pt x="6" y="119"/>
                  </a:lnTo>
                  <a:lnTo>
                    <a:pt x="3" y="108"/>
                  </a:lnTo>
                  <a:lnTo>
                    <a:pt x="0" y="95"/>
                  </a:lnTo>
                  <a:lnTo>
                    <a:pt x="1" y="70"/>
                  </a:lnTo>
                  <a:lnTo>
                    <a:pt x="9" y="49"/>
                  </a:lnTo>
                  <a:lnTo>
                    <a:pt x="20" y="31"/>
                  </a:lnTo>
                  <a:lnTo>
                    <a:pt x="36" y="17"/>
                  </a:lnTo>
                  <a:lnTo>
                    <a:pt x="55" y="10"/>
                  </a:lnTo>
                  <a:lnTo>
                    <a:pt x="76" y="3"/>
                  </a:lnTo>
                  <a:lnTo>
                    <a:pt x="98" y="0"/>
                  </a:lnTo>
                  <a:lnTo>
                    <a:pt x="120" y="0"/>
                  </a:lnTo>
                  <a:lnTo>
                    <a:pt x="142" y="5"/>
                  </a:lnTo>
                  <a:lnTo>
                    <a:pt x="162" y="11"/>
                  </a:lnTo>
                  <a:lnTo>
                    <a:pt x="179" y="24"/>
                  </a:lnTo>
                  <a:lnTo>
                    <a:pt x="193" y="41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15680" y="4727520"/>
              <a:ext cx="754200" cy="766800"/>
            </a:xfrm>
            <a:custGeom>
              <a:avLst/>
              <a:gdLst/>
              <a:ahLst/>
              <a:rect l="l" t="t" r="r" b="b"/>
              <a:pathLst>
                <a:path w="949" h="965">
                  <a:moveTo>
                    <a:pt x="764" y="111"/>
                  </a:moveTo>
                  <a:lnTo>
                    <a:pt x="764" y="124"/>
                  </a:lnTo>
                  <a:lnTo>
                    <a:pt x="749" y="124"/>
                  </a:lnTo>
                  <a:lnTo>
                    <a:pt x="735" y="122"/>
                  </a:lnTo>
                  <a:lnTo>
                    <a:pt x="721" y="121"/>
                  </a:lnTo>
                  <a:lnTo>
                    <a:pt x="707" y="119"/>
                  </a:lnTo>
                  <a:lnTo>
                    <a:pt x="694" y="121"/>
                  </a:lnTo>
                  <a:lnTo>
                    <a:pt x="682" y="124"/>
                  </a:lnTo>
                  <a:lnTo>
                    <a:pt x="669" y="130"/>
                  </a:lnTo>
                  <a:lnTo>
                    <a:pt x="657" y="142"/>
                  </a:lnTo>
                  <a:lnTo>
                    <a:pt x="655" y="155"/>
                  </a:lnTo>
                  <a:lnTo>
                    <a:pt x="651" y="167"/>
                  </a:lnTo>
                  <a:lnTo>
                    <a:pt x="644" y="178"/>
                  </a:lnTo>
                  <a:lnTo>
                    <a:pt x="638" y="189"/>
                  </a:lnTo>
                  <a:lnTo>
                    <a:pt x="633" y="200"/>
                  </a:lnTo>
                  <a:lnTo>
                    <a:pt x="632" y="210"/>
                  </a:lnTo>
                  <a:lnTo>
                    <a:pt x="637" y="219"/>
                  </a:lnTo>
                  <a:lnTo>
                    <a:pt x="647" y="227"/>
                  </a:lnTo>
                  <a:lnTo>
                    <a:pt x="654" y="206"/>
                  </a:lnTo>
                  <a:lnTo>
                    <a:pt x="663" y="192"/>
                  </a:lnTo>
                  <a:lnTo>
                    <a:pt x="679" y="186"/>
                  </a:lnTo>
                  <a:lnTo>
                    <a:pt x="696" y="183"/>
                  </a:lnTo>
                  <a:lnTo>
                    <a:pt x="715" y="185"/>
                  </a:lnTo>
                  <a:lnTo>
                    <a:pt x="733" y="188"/>
                  </a:lnTo>
                  <a:lnTo>
                    <a:pt x="750" y="192"/>
                  </a:lnTo>
                  <a:lnTo>
                    <a:pt x="764" y="197"/>
                  </a:lnTo>
                  <a:lnTo>
                    <a:pt x="771" y="211"/>
                  </a:lnTo>
                  <a:lnTo>
                    <a:pt x="771" y="233"/>
                  </a:lnTo>
                  <a:lnTo>
                    <a:pt x="771" y="256"/>
                  </a:lnTo>
                  <a:lnTo>
                    <a:pt x="780" y="275"/>
                  </a:lnTo>
                  <a:lnTo>
                    <a:pt x="786" y="283"/>
                  </a:lnTo>
                  <a:lnTo>
                    <a:pt x="793" y="292"/>
                  </a:lnTo>
                  <a:lnTo>
                    <a:pt x="800" y="303"/>
                  </a:lnTo>
                  <a:lnTo>
                    <a:pt x="808" y="314"/>
                  </a:lnTo>
                  <a:lnTo>
                    <a:pt x="818" y="322"/>
                  </a:lnTo>
                  <a:lnTo>
                    <a:pt x="827" y="328"/>
                  </a:lnTo>
                  <a:lnTo>
                    <a:pt x="838" y="330"/>
                  </a:lnTo>
                  <a:lnTo>
                    <a:pt x="850" y="327"/>
                  </a:lnTo>
                  <a:lnTo>
                    <a:pt x="860" y="330"/>
                  </a:lnTo>
                  <a:lnTo>
                    <a:pt x="867" y="338"/>
                  </a:lnTo>
                  <a:lnTo>
                    <a:pt x="875" y="345"/>
                  </a:lnTo>
                  <a:lnTo>
                    <a:pt x="881" y="355"/>
                  </a:lnTo>
                  <a:lnTo>
                    <a:pt x="886" y="367"/>
                  </a:lnTo>
                  <a:lnTo>
                    <a:pt x="891" y="378"/>
                  </a:lnTo>
                  <a:lnTo>
                    <a:pt x="896" y="391"/>
                  </a:lnTo>
                  <a:lnTo>
                    <a:pt x="899" y="402"/>
                  </a:lnTo>
                  <a:lnTo>
                    <a:pt x="891" y="408"/>
                  </a:lnTo>
                  <a:lnTo>
                    <a:pt x="881" y="411"/>
                  </a:lnTo>
                  <a:lnTo>
                    <a:pt x="869" y="413"/>
                  </a:lnTo>
                  <a:lnTo>
                    <a:pt x="857" y="413"/>
                  </a:lnTo>
                  <a:lnTo>
                    <a:pt x="844" y="411"/>
                  </a:lnTo>
                  <a:lnTo>
                    <a:pt x="832" y="411"/>
                  </a:lnTo>
                  <a:lnTo>
                    <a:pt x="821" y="411"/>
                  </a:lnTo>
                  <a:lnTo>
                    <a:pt x="813" y="411"/>
                  </a:lnTo>
                  <a:lnTo>
                    <a:pt x="808" y="436"/>
                  </a:lnTo>
                  <a:lnTo>
                    <a:pt x="810" y="463"/>
                  </a:lnTo>
                  <a:lnTo>
                    <a:pt x="807" y="486"/>
                  </a:lnTo>
                  <a:lnTo>
                    <a:pt x="789" y="505"/>
                  </a:lnTo>
                  <a:lnTo>
                    <a:pt x="777" y="502"/>
                  </a:lnTo>
                  <a:lnTo>
                    <a:pt x="764" y="498"/>
                  </a:lnTo>
                  <a:lnTo>
                    <a:pt x="754" y="502"/>
                  </a:lnTo>
                  <a:lnTo>
                    <a:pt x="747" y="517"/>
                  </a:lnTo>
                  <a:lnTo>
                    <a:pt x="747" y="523"/>
                  </a:lnTo>
                  <a:lnTo>
                    <a:pt x="754" y="528"/>
                  </a:lnTo>
                  <a:lnTo>
                    <a:pt x="761" y="531"/>
                  </a:lnTo>
                  <a:lnTo>
                    <a:pt x="768" y="536"/>
                  </a:lnTo>
                  <a:lnTo>
                    <a:pt x="779" y="533"/>
                  </a:lnTo>
                  <a:lnTo>
                    <a:pt x="788" y="531"/>
                  </a:lnTo>
                  <a:lnTo>
                    <a:pt x="797" y="533"/>
                  </a:lnTo>
                  <a:lnTo>
                    <a:pt x="808" y="536"/>
                  </a:lnTo>
                  <a:lnTo>
                    <a:pt x="808" y="559"/>
                  </a:lnTo>
                  <a:lnTo>
                    <a:pt x="800" y="580"/>
                  </a:lnTo>
                  <a:lnTo>
                    <a:pt x="797" y="598"/>
                  </a:lnTo>
                  <a:lnTo>
                    <a:pt x="808" y="617"/>
                  </a:lnTo>
                  <a:lnTo>
                    <a:pt x="818" y="625"/>
                  </a:lnTo>
                  <a:lnTo>
                    <a:pt x="828" y="631"/>
                  </a:lnTo>
                  <a:lnTo>
                    <a:pt x="839" y="637"/>
                  </a:lnTo>
                  <a:lnTo>
                    <a:pt x="850" y="640"/>
                  </a:lnTo>
                  <a:lnTo>
                    <a:pt x="861" y="647"/>
                  </a:lnTo>
                  <a:lnTo>
                    <a:pt x="869" y="653"/>
                  </a:lnTo>
                  <a:lnTo>
                    <a:pt x="875" y="662"/>
                  </a:lnTo>
                  <a:lnTo>
                    <a:pt x="880" y="675"/>
                  </a:lnTo>
                  <a:lnTo>
                    <a:pt x="880" y="703"/>
                  </a:lnTo>
                  <a:lnTo>
                    <a:pt x="881" y="723"/>
                  </a:lnTo>
                  <a:lnTo>
                    <a:pt x="877" y="744"/>
                  </a:lnTo>
                  <a:lnTo>
                    <a:pt x="867" y="769"/>
                  </a:lnTo>
                  <a:lnTo>
                    <a:pt x="860" y="770"/>
                  </a:lnTo>
                  <a:lnTo>
                    <a:pt x="853" y="769"/>
                  </a:lnTo>
                  <a:lnTo>
                    <a:pt x="846" y="769"/>
                  </a:lnTo>
                  <a:lnTo>
                    <a:pt x="839" y="767"/>
                  </a:lnTo>
                  <a:lnTo>
                    <a:pt x="833" y="767"/>
                  </a:lnTo>
                  <a:lnTo>
                    <a:pt x="828" y="769"/>
                  </a:lnTo>
                  <a:lnTo>
                    <a:pt x="824" y="773"/>
                  </a:lnTo>
                  <a:lnTo>
                    <a:pt x="819" y="781"/>
                  </a:lnTo>
                  <a:lnTo>
                    <a:pt x="821" y="786"/>
                  </a:lnTo>
                  <a:lnTo>
                    <a:pt x="825" y="792"/>
                  </a:lnTo>
                  <a:lnTo>
                    <a:pt x="830" y="797"/>
                  </a:lnTo>
                  <a:lnTo>
                    <a:pt x="836" y="800"/>
                  </a:lnTo>
                  <a:lnTo>
                    <a:pt x="844" y="803"/>
                  </a:lnTo>
                  <a:lnTo>
                    <a:pt x="852" y="803"/>
                  </a:lnTo>
                  <a:lnTo>
                    <a:pt x="860" y="800"/>
                  </a:lnTo>
                  <a:lnTo>
                    <a:pt x="867" y="795"/>
                  </a:lnTo>
                  <a:lnTo>
                    <a:pt x="875" y="790"/>
                  </a:lnTo>
                  <a:lnTo>
                    <a:pt x="881" y="783"/>
                  </a:lnTo>
                  <a:lnTo>
                    <a:pt x="886" y="776"/>
                  </a:lnTo>
                  <a:lnTo>
                    <a:pt x="892" y="769"/>
                  </a:lnTo>
                  <a:lnTo>
                    <a:pt x="899" y="762"/>
                  </a:lnTo>
                  <a:lnTo>
                    <a:pt x="906" y="758"/>
                  </a:lnTo>
                  <a:lnTo>
                    <a:pt x="916" y="758"/>
                  </a:lnTo>
                  <a:lnTo>
                    <a:pt x="928" y="762"/>
                  </a:lnTo>
                  <a:lnTo>
                    <a:pt x="942" y="786"/>
                  </a:lnTo>
                  <a:lnTo>
                    <a:pt x="947" y="814"/>
                  </a:lnTo>
                  <a:lnTo>
                    <a:pt x="949" y="845"/>
                  </a:lnTo>
                  <a:lnTo>
                    <a:pt x="947" y="875"/>
                  </a:lnTo>
                  <a:lnTo>
                    <a:pt x="939" y="893"/>
                  </a:lnTo>
                  <a:lnTo>
                    <a:pt x="927" y="909"/>
                  </a:lnTo>
                  <a:lnTo>
                    <a:pt x="911" y="922"/>
                  </a:lnTo>
                  <a:lnTo>
                    <a:pt x="894" y="932"/>
                  </a:lnTo>
                  <a:lnTo>
                    <a:pt x="875" y="942"/>
                  </a:lnTo>
                  <a:lnTo>
                    <a:pt x="857" y="950"/>
                  </a:lnTo>
                  <a:lnTo>
                    <a:pt x="836" y="957"/>
                  </a:lnTo>
                  <a:lnTo>
                    <a:pt x="819" y="965"/>
                  </a:lnTo>
                  <a:lnTo>
                    <a:pt x="799" y="937"/>
                  </a:lnTo>
                  <a:lnTo>
                    <a:pt x="774" y="915"/>
                  </a:lnTo>
                  <a:lnTo>
                    <a:pt x="746" y="897"/>
                  </a:lnTo>
                  <a:lnTo>
                    <a:pt x="718" y="878"/>
                  </a:lnTo>
                  <a:lnTo>
                    <a:pt x="694" y="858"/>
                  </a:lnTo>
                  <a:lnTo>
                    <a:pt x="677" y="833"/>
                  </a:lnTo>
                  <a:lnTo>
                    <a:pt x="671" y="800"/>
                  </a:lnTo>
                  <a:lnTo>
                    <a:pt x="677" y="756"/>
                  </a:lnTo>
                  <a:lnTo>
                    <a:pt x="661" y="754"/>
                  </a:lnTo>
                  <a:lnTo>
                    <a:pt x="652" y="762"/>
                  </a:lnTo>
                  <a:lnTo>
                    <a:pt x="644" y="775"/>
                  </a:lnTo>
                  <a:lnTo>
                    <a:pt x="635" y="789"/>
                  </a:lnTo>
                  <a:lnTo>
                    <a:pt x="635" y="820"/>
                  </a:lnTo>
                  <a:lnTo>
                    <a:pt x="622" y="811"/>
                  </a:lnTo>
                  <a:lnTo>
                    <a:pt x="612" y="798"/>
                  </a:lnTo>
                  <a:lnTo>
                    <a:pt x="601" y="786"/>
                  </a:lnTo>
                  <a:lnTo>
                    <a:pt x="591" y="770"/>
                  </a:lnTo>
                  <a:lnTo>
                    <a:pt x="583" y="754"/>
                  </a:lnTo>
                  <a:lnTo>
                    <a:pt x="576" y="737"/>
                  </a:lnTo>
                  <a:lnTo>
                    <a:pt x="568" y="720"/>
                  </a:lnTo>
                  <a:lnTo>
                    <a:pt x="560" y="705"/>
                  </a:lnTo>
                  <a:lnTo>
                    <a:pt x="565" y="686"/>
                  </a:lnTo>
                  <a:lnTo>
                    <a:pt x="576" y="672"/>
                  </a:lnTo>
                  <a:lnTo>
                    <a:pt x="588" y="658"/>
                  </a:lnTo>
                  <a:lnTo>
                    <a:pt x="596" y="644"/>
                  </a:lnTo>
                  <a:lnTo>
                    <a:pt x="605" y="644"/>
                  </a:lnTo>
                  <a:lnTo>
                    <a:pt x="615" y="645"/>
                  </a:lnTo>
                  <a:lnTo>
                    <a:pt x="624" y="642"/>
                  </a:lnTo>
                  <a:lnTo>
                    <a:pt x="629" y="633"/>
                  </a:lnTo>
                  <a:lnTo>
                    <a:pt x="627" y="622"/>
                  </a:lnTo>
                  <a:lnTo>
                    <a:pt x="622" y="612"/>
                  </a:lnTo>
                  <a:lnTo>
                    <a:pt x="613" y="606"/>
                  </a:lnTo>
                  <a:lnTo>
                    <a:pt x="599" y="598"/>
                  </a:lnTo>
                  <a:lnTo>
                    <a:pt x="587" y="601"/>
                  </a:lnTo>
                  <a:lnTo>
                    <a:pt x="576" y="608"/>
                  </a:lnTo>
                  <a:lnTo>
                    <a:pt x="566" y="617"/>
                  </a:lnTo>
                  <a:lnTo>
                    <a:pt x="559" y="626"/>
                  </a:lnTo>
                  <a:lnTo>
                    <a:pt x="551" y="634"/>
                  </a:lnTo>
                  <a:lnTo>
                    <a:pt x="540" y="640"/>
                  </a:lnTo>
                  <a:lnTo>
                    <a:pt x="527" y="640"/>
                  </a:lnTo>
                  <a:lnTo>
                    <a:pt x="512" y="636"/>
                  </a:lnTo>
                  <a:lnTo>
                    <a:pt x="502" y="626"/>
                  </a:lnTo>
                  <a:lnTo>
                    <a:pt x="493" y="614"/>
                  </a:lnTo>
                  <a:lnTo>
                    <a:pt x="485" y="601"/>
                  </a:lnTo>
                  <a:lnTo>
                    <a:pt x="479" y="587"/>
                  </a:lnTo>
                  <a:lnTo>
                    <a:pt x="474" y="572"/>
                  </a:lnTo>
                  <a:lnTo>
                    <a:pt x="470" y="558"/>
                  </a:lnTo>
                  <a:lnTo>
                    <a:pt x="466" y="542"/>
                  </a:lnTo>
                  <a:lnTo>
                    <a:pt x="463" y="530"/>
                  </a:lnTo>
                  <a:lnTo>
                    <a:pt x="471" y="517"/>
                  </a:lnTo>
                  <a:lnTo>
                    <a:pt x="484" y="506"/>
                  </a:lnTo>
                  <a:lnTo>
                    <a:pt x="490" y="492"/>
                  </a:lnTo>
                  <a:lnTo>
                    <a:pt x="484" y="478"/>
                  </a:lnTo>
                  <a:lnTo>
                    <a:pt x="471" y="484"/>
                  </a:lnTo>
                  <a:lnTo>
                    <a:pt x="462" y="491"/>
                  </a:lnTo>
                  <a:lnTo>
                    <a:pt x="454" y="500"/>
                  </a:lnTo>
                  <a:lnTo>
                    <a:pt x="446" y="509"/>
                  </a:lnTo>
                  <a:lnTo>
                    <a:pt x="440" y="520"/>
                  </a:lnTo>
                  <a:lnTo>
                    <a:pt x="434" y="531"/>
                  </a:lnTo>
                  <a:lnTo>
                    <a:pt x="426" y="541"/>
                  </a:lnTo>
                  <a:lnTo>
                    <a:pt x="418" y="550"/>
                  </a:lnTo>
                  <a:lnTo>
                    <a:pt x="415" y="570"/>
                  </a:lnTo>
                  <a:lnTo>
                    <a:pt x="417" y="589"/>
                  </a:lnTo>
                  <a:lnTo>
                    <a:pt x="420" y="606"/>
                  </a:lnTo>
                  <a:lnTo>
                    <a:pt x="427" y="622"/>
                  </a:lnTo>
                  <a:lnTo>
                    <a:pt x="437" y="637"/>
                  </a:lnTo>
                  <a:lnTo>
                    <a:pt x="449" y="651"/>
                  </a:lnTo>
                  <a:lnTo>
                    <a:pt x="462" y="664"/>
                  </a:lnTo>
                  <a:lnTo>
                    <a:pt x="477" y="675"/>
                  </a:lnTo>
                  <a:lnTo>
                    <a:pt x="485" y="676"/>
                  </a:lnTo>
                  <a:lnTo>
                    <a:pt x="495" y="676"/>
                  </a:lnTo>
                  <a:lnTo>
                    <a:pt x="502" y="678"/>
                  </a:lnTo>
                  <a:lnTo>
                    <a:pt x="510" y="681"/>
                  </a:lnTo>
                  <a:lnTo>
                    <a:pt x="516" y="684"/>
                  </a:lnTo>
                  <a:lnTo>
                    <a:pt x="523" y="689"/>
                  </a:lnTo>
                  <a:lnTo>
                    <a:pt x="527" y="695"/>
                  </a:lnTo>
                  <a:lnTo>
                    <a:pt x="532" y="705"/>
                  </a:lnTo>
                  <a:lnTo>
                    <a:pt x="509" y="698"/>
                  </a:lnTo>
                  <a:lnTo>
                    <a:pt x="487" y="689"/>
                  </a:lnTo>
                  <a:lnTo>
                    <a:pt x="466" y="680"/>
                  </a:lnTo>
                  <a:lnTo>
                    <a:pt x="446" y="667"/>
                  </a:lnTo>
                  <a:lnTo>
                    <a:pt x="424" y="656"/>
                  </a:lnTo>
                  <a:lnTo>
                    <a:pt x="404" y="644"/>
                  </a:lnTo>
                  <a:lnTo>
                    <a:pt x="382" y="634"/>
                  </a:lnTo>
                  <a:lnTo>
                    <a:pt x="360" y="626"/>
                  </a:lnTo>
                  <a:lnTo>
                    <a:pt x="359" y="600"/>
                  </a:lnTo>
                  <a:lnTo>
                    <a:pt x="360" y="562"/>
                  </a:lnTo>
                  <a:lnTo>
                    <a:pt x="359" y="528"/>
                  </a:lnTo>
                  <a:lnTo>
                    <a:pt x="345" y="505"/>
                  </a:lnTo>
                  <a:lnTo>
                    <a:pt x="331" y="508"/>
                  </a:lnTo>
                  <a:lnTo>
                    <a:pt x="323" y="514"/>
                  </a:lnTo>
                  <a:lnTo>
                    <a:pt x="321" y="522"/>
                  </a:lnTo>
                  <a:lnTo>
                    <a:pt x="324" y="530"/>
                  </a:lnTo>
                  <a:lnTo>
                    <a:pt x="328" y="539"/>
                  </a:lnTo>
                  <a:lnTo>
                    <a:pt x="332" y="548"/>
                  </a:lnTo>
                  <a:lnTo>
                    <a:pt x="332" y="559"/>
                  </a:lnTo>
                  <a:lnTo>
                    <a:pt x="328" y="569"/>
                  </a:lnTo>
                  <a:lnTo>
                    <a:pt x="323" y="581"/>
                  </a:lnTo>
                  <a:lnTo>
                    <a:pt x="320" y="597"/>
                  </a:lnTo>
                  <a:lnTo>
                    <a:pt x="314" y="611"/>
                  </a:lnTo>
                  <a:lnTo>
                    <a:pt x="300" y="617"/>
                  </a:lnTo>
                  <a:lnTo>
                    <a:pt x="295" y="603"/>
                  </a:lnTo>
                  <a:lnTo>
                    <a:pt x="296" y="586"/>
                  </a:lnTo>
                  <a:lnTo>
                    <a:pt x="293" y="572"/>
                  </a:lnTo>
                  <a:lnTo>
                    <a:pt x="279" y="562"/>
                  </a:lnTo>
                  <a:lnTo>
                    <a:pt x="271" y="573"/>
                  </a:lnTo>
                  <a:lnTo>
                    <a:pt x="265" y="586"/>
                  </a:lnTo>
                  <a:lnTo>
                    <a:pt x="262" y="601"/>
                  </a:lnTo>
                  <a:lnTo>
                    <a:pt x="259" y="616"/>
                  </a:lnTo>
                  <a:lnTo>
                    <a:pt x="254" y="628"/>
                  </a:lnTo>
                  <a:lnTo>
                    <a:pt x="245" y="637"/>
                  </a:lnTo>
                  <a:lnTo>
                    <a:pt x="232" y="642"/>
                  </a:lnTo>
                  <a:lnTo>
                    <a:pt x="212" y="640"/>
                  </a:lnTo>
                  <a:lnTo>
                    <a:pt x="200" y="631"/>
                  </a:lnTo>
                  <a:lnTo>
                    <a:pt x="187" y="623"/>
                  </a:lnTo>
                  <a:lnTo>
                    <a:pt x="175" y="614"/>
                  </a:lnTo>
                  <a:lnTo>
                    <a:pt x="164" y="605"/>
                  </a:lnTo>
                  <a:lnTo>
                    <a:pt x="154" y="594"/>
                  </a:lnTo>
                  <a:lnTo>
                    <a:pt x="148" y="580"/>
                  </a:lnTo>
                  <a:lnTo>
                    <a:pt x="145" y="564"/>
                  </a:lnTo>
                  <a:lnTo>
                    <a:pt x="145" y="547"/>
                  </a:lnTo>
                  <a:lnTo>
                    <a:pt x="150" y="531"/>
                  </a:lnTo>
                  <a:lnTo>
                    <a:pt x="159" y="517"/>
                  </a:lnTo>
                  <a:lnTo>
                    <a:pt x="165" y="503"/>
                  </a:lnTo>
                  <a:lnTo>
                    <a:pt x="161" y="484"/>
                  </a:lnTo>
                  <a:lnTo>
                    <a:pt x="147" y="491"/>
                  </a:lnTo>
                  <a:lnTo>
                    <a:pt x="134" y="498"/>
                  </a:lnTo>
                  <a:lnTo>
                    <a:pt x="123" y="509"/>
                  </a:lnTo>
                  <a:lnTo>
                    <a:pt x="114" y="520"/>
                  </a:lnTo>
                  <a:lnTo>
                    <a:pt x="104" y="533"/>
                  </a:lnTo>
                  <a:lnTo>
                    <a:pt x="98" y="547"/>
                  </a:lnTo>
                  <a:lnTo>
                    <a:pt x="92" y="561"/>
                  </a:lnTo>
                  <a:lnTo>
                    <a:pt x="89" y="575"/>
                  </a:lnTo>
                  <a:lnTo>
                    <a:pt x="95" y="578"/>
                  </a:lnTo>
                  <a:lnTo>
                    <a:pt x="97" y="584"/>
                  </a:lnTo>
                  <a:lnTo>
                    <a:pt x="97" y="591"/>
                  </a:lnTo>
                  <a:lnTo>
                    <a:pt x="97" y="598"/>
                  </a:lnTo>
                  <a:lnTo>
                    <a:pt x="80" y="600"/>
                  </a:lnTo>
                  <a:lnTo>
                    <a:pt x="64" y="598"/>
                  </a:lnTo>
                  <a:lnTo>
                    <a:pt x="50" y="591"/>
                  </a:lnTo>
                  <a:lnTo>
                    <a:pt x="39" y="581"/>
                  </a:lnTo>
                  <a:lnTo>
                    <a:pt x="28" y="570"/>
                  </a:lnTo>
                  <a:lnTo>
                    <a:pt x="17" y="559"/>
                  </a:lnTo>
                  <a:lnTo>
                    <a:pt x="8" y="547"/>
                  </a:lnTo>
                  <a:lnTo>
                    <a:pt x="0" y="536"/>
                  </a:lnTo>
                  <a:lnTo>
                    <a:pt x="6" y="484"/>
                  </a:lnTo>
                  <a:lnTo>
                    <a:pt x="16" y="481"/>
                  </a:lnTo>
                  <a:lnTo>
                    <a:pt x="22" y="481"/>
                  </a:lnTo>
                  <a:lnTo>
                    <a:pt x="26" y="486"/>
                  </a:lnTo>
                  <a:lnTo>
                    <a:pt x="28" y="494"/>
                  </a:lnTo>
                  <a:lnTo>
                    <a:pt x="31" y="500"/>
                  </a:lnTo>
                  <a:lnTo>
                    <a:pt x="36" y="505"/>
                  </a:lnTo>
                  <a:lnTo>
                    <a:pt x="44" y="508"/>
                  </a:lnTo>
                  <a:lnTo>
                    <a:pt x="55" y="505"/>
                  </a:lnTo>
                  <a:lnTo>
                    <a:pt x="53" y="492"/>
                  </a:lnTo>
                  <a:lnTo>
                    <a:pt x="56" y="481"/>
                  </a:lnTo>
                  <a:lnTo>
                    <a:pt x="61" y="472"/>
                  </a:lnTo>
                  <a:lnTo>
                    <a:pt x="67" y="463"/>
                  </a:lnTo>
                  <a:lnTo>
                    <a:pt x="75" y="456"/>
                  </a:lnTo>
                  <a:lnTo>
                    <a:pt x="84" y="450"/>
                  </a:lnTo>
                  <a:lnTo>
                    <a:pt x="95" y="445"/>
                  </a:lnTo>
                  <a:lnTo>
                    <a:pt x="106" y="442"/>
                  </a:lnTo>
                  <a:lnTo>
                    <a:pt x="120" y="456"/>
                  </a:lnTo>
                  <a:lnTo>
                    <a:pt x="133" y="459"/>
                  </a:lnTo>
                  <a:lnTo>
                    <a:pt x="143" y="455"/>
                  </a:lnTo>
                  <a:lnTo>
                    <a:pt x="154" y="447"/>
                  </a:lnTo>
                  <a:lnTo>
                    <a:pt x="165" y="438"/>
                  </a:lnTo>
                  <a:lnTo>
                    <a:pt x="178" y="433"/>
                  </a:lnTo>
                  <a:lnTo>
                    <a:pt x="190" y="433"/>
                  </a:lnTo>
                  <a:lnTo>
                    <a:pt x="206" y="445"/>
                  </a:lnTo>
                  <a:lnTo>
                    <a:pt x="242" y="439"/>
                  </a:lnTo>
                  <a:lnTo>
                    <a:pt x="237" y="413"/>
                  </a:lnTo>
                  <a:lnTo>
                    <a:pt x="228" y="388"/>
                  </a:lnTo>
                  <a:lnTo>
                    <a:pt x="220" y="359"/>
                  </a:lnTo>
                  <a:lnTo>
                    <a:pt x="221" y="327"/>
                  </a:lnTo>
                  <a:lnTo>
                    <a:pt x="214" y="310"/>
                  </a:lnTo>
                  <a:lnTo>
                    <a:pt x="215" y="291"/>
                  </a:lnTo>
                  <a:lnTo>
                    <a:pt x="223" y="267"/>
                  </a:lnTo>
                  <a:lnTo>
                    <a:pt x="231" y="246"/>
                  </a:lnTo>
                  <a:lnTo>
                    <a:pt x="262" y="236"/>
                  </a:lnTo>
                  <a:lnTo>
                    <a:pt x="293" y="225"/>
                  </a:lnTo>
                  <a:lnTo>
                    <a:pt x="323" y="213"/>
                  </a:lnTo>
                  <a:lnTo>
                    <a:pt x="351" y="200"/>
                  </a:lnTo>
                  <a:lnTo>
                    <a:pt x="379" y="186"/>
                  </a:lnTo>
                  <a:lnTo>
                    <a:pt x="407" y="171"/>
                  </a:lnTo>
                  <a:lnTo>
                    <a:pt x="434" y="155"/>
                  </a:lnTo>
                  <a:lnTo>
                    <a:pt x="460" y="139"/>
                  </a:lnTo>
                  <a:lnTo>
                    <a:pt x="485" y="122"/>
                  </a:lnTo>
                  <a:lnTo>
                    <a:pt x="510" y="105"/>
                  </a:lnTo>
                  <a:lnTo>
                    <a:pt x="535" y="88"/>
                  </a:lnTo>
                  <a:lnTo>
                    <a:pt x="559" y="71"/>
                  </a:lnTo>
                  <a:lnTo>
                    <a:pt x="582" y="52"/>
                  </a:lnTo>
                  <a:lnTo>
                    <a:pt x="604" y="35"/>
                  </a:lnTo>
                  <a:lnTo>
                    <a:pt x="626" y="18"/>
                  </a:lnTo>
                  <a:lnTo>
                    <a:pt x="647" y="0"/>
                  </a:lnTo>
                  <a:lnTo>
                    <a:pt x="663" y="13"/>
                  </a:lnTo>
                  <a:lnTo>
                    <a:pt x="677" y="28"/>
                  </a:lnTo>
                  <a:lnTo>
                    <a:pt x="688" y="44"/>
                  </a:lnTo>
                  <a:lnTo>
                    <a:pt x="701" y="60"/>
                  </a:lnTo>
                  <a:lnTo>
                    <a:pt x="713" y="74"/>
                  </a:lnTo>
                  <a:lnTo>
                    <a:pt x="727" y="89"/>
                  </a:lnTo>
                  <a:lnTo>
                    <a:pt x="744" y="102"/>
                  </a:lnTo>
                  <a:lnTo>
                    <a:pt x="764" y="111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1915920" y="4746600"/>
              <a:ext cx="82800" cy="75960"/>
            </a:xfrm>
            <a:custGeom>
              <a:avLst/>
              <a:gdLst/>
              <a:ahLst/>
              <a:rect l="l" t="t" r="r" b="b"/>
              <a:pathLst>
                <a:path w="105" h="97">
                  <a:moveTo>
                    <a:pt x="103" y="37"/>
                  </a:moveTo>
                  <a:lnTo>
                    <a:pt x="105" y="51"/>
                  </a:lnTo>
                  <a:lnTo>
                    <a:pt x="102" y="64"/>
                  </a:lnTo>
                  <a:lnTo>
                    <a:pt x="99" y="75"/>
                  </a:lnTo>
                  <a:lnTo>
                    <a:pt x="92" y="83"/>
                  </a:lnTo>
                  <a:lnTo>
                    <a:pt x="83" y="90"/>
                  </a:lnTo>
                  <a:lnTo>
                    <a:pt x="74" y="95"/>
                  </a:lnTo>
                  <a:lnTo>
                    <a:pt x="63" y="97"/>
                  </a:lnTo>
                  <a:lnTo>
                    <a:pt x="52" y="97"/>
                  </a:lnTo>
                  <a:lnTo>
                    <a:pt x="42" y="95"/>
                  </a:lnTo>
                  <a:lnTo>
                    <a:pt x="33" y="92"/>
                  </a:lnTo>
                  <a:lnTo>
                    <a:pt x="25" y="89"/>
                  </a:lnTo>
                  <a:lnTo>
                    <a:pt x="17" y="84"/>
                  </a:lnTo>
                  <a:lnTo>
                    <a:pt x="11" y="78"/>
                  </a:lnTo>
                  <a:lnTo>
                    <a:pt x="7" y="72"/>
                  </a:lnTo>
                  <a:lnTo>
                    <a:pt x="3" y="62"/>
                  </a:lnTo>
                  <a:lnTo>
                    <a:pt x="0" y="51"/>
                  </a:lnTo>
                  <a:lnTo>
                    <a:pt x="3" y="31"/>
                  </a:lnTo>
                  <a:lnTo>
                    <a:pt x="14" y="17"/>
                  </a:lnTo>
                  <a:lnTo>
                    <a:pt x="28" y="6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4" y="3"/>
                  </a:lnTo>
                  <a:lnTo>
                    <a:pt x="81" y="6"/>
                  </a:lnTo>
                  <a:lnTo>
                    <a:pt x="89" y="12"/>
                  </a:lnTo>
                  <a:lnTo>
                    <a:pt x="95" y="19"/>
                  </a:lnTo>
                  <a:lnTo>
                    <a:pt x="100" y="28"/>
                  </a:lnTo>
                  <a:lnTo>
                    <a:pt x="103" y="37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1492200" y="4867200"/>
              <a:ext cx="187200" cy="330120"/>
            </a:xfrm>
            <a:custGeom>
              <a:avLst/>
              <a:gdLst/>
              <a:ahLst/>
              <a:rect l="l" t="t" r="r" b="b"/>
              <a:pathLst>
                <a:path w="237" h="417">
                  <a:moveTo>
                    <a:pt x="237" y="3"/>
                  </a:moveTo>
                  <a:lnTo>
                    <a:pt x="201" y="0"/>
                  </a:lnTo>
                  <a:lnTo>
                    <a:pt x="174" y="10"/>
                  </a:lnTo>
                  <a:lnTo>
                    <a:pt x="157" y="31"/>
                  </a:lnTo>
                  <a:lnTo>
                    <a:pt x="146" y="58"/>
                  </a:lnTo>
                  <a:lnTo>
                    <a:pt x="134" y="88"/>
                  </a:lnTo>
                  <a:lnTo>
                    <a:pt x="121" y="113"/>
                  </a:lnTo>
                  <a:lnTo>
                    <a:pt x="104" y="133"/>
                  </a:lnTo>
                  <a:lnTo>
                    <a:pt x="78" y="142"/>
                  </a:lnTo>
                  <a:lnTo>
                    <a:pt x="82" y="125"/>
                  </a:lnTo>
                  <a:lnTo>
                    <a:pt x="92" y="111"/>
                  </a:lnTo>
                  <a:lnTo>
                    <a:pt x="103" y="97"/>
                  </a:lnTo>
                  <a:lnTo>
                    <a:pt x="115" y="85"/>
                  </a:lnTo>
                  <a:lnTo>
                    <a:pt x="126" y="72"/>
                  </a:lnTo>
                  <a:lnTo>
                    <a:pt x="134" y="56"/>
                  </a:lnTo>
                  <a:lnTo>
                    <a:pt x="137" y="36"/>
                  </a:lnTo>
                  <a:lnTo>
                    <a:pt x="134" y="13"/>
                  </a:lnTo>
                  <a:lnTo>
                    <a:pt x="115" y="36"/>
                  </a:lnTo>
                  <a:lnTo>
                    <a:pt x="95" y="60"/>
                  </a:lnTo>
                  <a:lnTo>
                    <a:pt x="75" y="83"/>
                  </a:lnTo>
                  <a:lnTo>
                    <a:pt x="56" y="108"/>
                  </a:lnTo>
                  <a:lnTo>
                    <a:pt x="39" y="135"/>
                  </a:lnTo>
                  <a:lnTo>
                    <a:pt x="23" y="161"/>
                  </a:lnTo>
                  <a:lnTo>
                    <a:pt x="9" y="189"/>
                  </a:lnTo>
                  <a:lnTo>
                    <a:pt x="0" y="219"/>
                  </a:lnTo>
                  <a:lnTo>
                    <a:pt x="7" y="244"/>
                  </a:lnTo>
                  <a:lnTo>
                    <a:pt x="18" y="266"/>
                  </a:lnTo>
                  <a:lnTo>
                    <a:pt x="31" y="286"/>
                  </a:lnTo>
                  <a:lnTo>
                    <a:pt x="42" y="303"/>
                  </a:lnTo>
                  <a:lnTo>
                    <a:pt x="53" y="322"/>
                  </a:lnTo>
                  <a:lnTo>
                    <a:pt x="62" y="342"/>
                  </a:lnTo>
                  <a:lnTo>
                    <a:pt x="68" y="366"/>
                  </a:lnTo>
                  <a:lnTo>
                    <a:pt x="70" y="394"/>
                  </a:lnTo>
                  <a:lnTo>
                    <a:pt x="81" y="400"/>
                  </a:lnTo>
                  <a:lnTo>
                    <a:pt x="93" y="405"/>
                  </a:lnTo>
                  <a:lnTo>
                    <a:pt x="106" y="411"/>
                  </a:lnTo>
                  <a:lnTo>
                    <a:pt x="120" y="414"/>
                  </a:lnTo>
                  <a:lnTo>
                    <a:pt x="132" y="417"/>
                  </a:lnTo>
                  <a:lnTo>
                    <a:pt x="145" y="417"/>
                  </a:lnTo>
                  <a:lnTo>
                    <a:pt x="156" y="416"/>
                  </a:lnTo>
                  <a:lnTo>
                    <a:pt x="165" y="412"/>
                  </a:lnTo>
                  <a:lnTo>
                    <a:pt x="167" y="381"/>
                  </a:lnTo>
                  <a:lnTo>
                    <a:pt x="164" y="350"/>
                  </a:lnTo>
                  <a:lnTo>
                    <a:pt x="159" y="320"/>
                  </a:lnTo>
                  <a:lnTo>
                    <a:pt x="156" y="294"/>
                  </a:lnTo>
                  <a:lnTo>
                    <a:pt x="170" y="266"/>
                  </a:lnTo>
                  <a:lnTo>
                    <a:pt x="181" y="239"/>
                  </a:lnTo>
                  <a:lnTo>
                    <a:pt x="188" y="211"/>
                  </a:lnTo>
                  <a:lnTo>
                    <a:pt x="195" y="183"/>
                  </a:lnTo>
                  <a:lnTo>
                    <a:pt x="201" y="155"/>
                  </a:lnTo>
                  <a:lnTo>
                    <a:pt x="206" y="125"/>
                  </a:lnTo>
                  <a:lnTo>
                    <a:pt x="212" y="94"/>
                  </a:lnTo>
                  <a:lnTo>
                    <a:pt x="218" y="61"/>
                  </a:lnTo>
                  <a:lnTo>
                    <a:pt x="237" y="3"/>
                  </a:lnTo>
                  <a:lnTo>
                    <a:pt x="237" y="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1595160" y="4768560"/>
              <a:ext cx="12960" cy="241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4" y="23"/>
                  </a:moveTo>
                  <a:lnTo>
                    <a:pt x="8" y="30"/>
                  </a:lnTo>
                  <a:lnTo>
                    <a:pt x="0" y="23"/>
                  </a:lnTo>
                  <a:lnTo>
                    <a:pt x="3" y="16"/>
                  </a:lnTo>
                  <a:lnTo>
                    <a:pt x="10" y="8"/>
                  </a:lnTo>
                  <a:lnTo>
                    <a:pt x="8" y="0"/>
                  </a:lnTo>
                  <a:lnTo>
                    <a:pt x="14" y="3"/>
                  </a:lnTo>
                  <a:lnTo>
                    <a:pt x="17" y="9"/>
                  </a:lnTo>
                  <a:lnTo>
                    <a:pt x="17" y="17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1942920" y="4770360"/>
              <a:ext cx="31680" cy="316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9" y="41"/>
                  </a:moveTo>
                  <a:lnTo>
                    <a:pt x="18" y="41"/>
                  </a:lnTo>
                  <a:lnTo>
                    <a:pt x="7" y="35"/>
                  </a:lnTo>
                  <a:lnTo>
                    <a:pt x="0" y="24"/>
                  </a:lnTo>
                  <a:lnTo>
                    <a:pt x="0" y="13"/>
                  </a:lnTo>
                  <a:lnTo>
                    <a:pt x="6" y="5"/>
                  </a:lnTo>
                  <a:lnTo>
                    <a:pt x="18" y="0"/>
                  </a:lnTo>
                  <a:lnTo>
                    <a:pt x="29" y="2"/>
                  </a:lnTo>
                  <a:lnTo>
                    <a:pt x="37" y="8"/>
                  </a:lnTo>
                  <a:lnTo>
                    <a:pt x="40" y="18"/>
                  </a:lnTo>
                  <a:lnTo>
                    <a:pt x="40" y="27"/>
                  </a:lnTo>
                  <a:lnTo>
                    <a:pt x="37" y="35"/>
                  </a:lnTo>
                  <a:lnTo>
                    <a:pt x="29" y="41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1547640" y="4782960"/>
              <a:ext cx="23760" cy="2700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26"/>
                  </a:moveTo>
                  <a:lnTo>
                    <a:pt x="23" y="29"/>
                  </a:lnTo>
                  <a:lnTo>
                    <a:pt x="17" y="31"/>
                  </a:lnTo>
                  <a:lnTo>
                    <a:pt x="9" y="32"/>
                  </a:lnTo>
                  <a:lnTo>
                    <a:pt x="0" y="32"/>
                  </a:lnTo>
                  <a:lnTo>
                    <a:pt x="20" y="1"/>
                  </a:lnTo>
                  <a:lnTo>
                    <a:pt x="28" y="0"/>
                  </a:lnTo>
                  <a:lnTo>
                    <a:pt x="30" y="6"/>
                  </a:lnTo>
                  <a:lnTo>
                    <a:pt x="30" y="17"/>
                  </a:lnTo>
                  <a:lnTo>
                    <a:pt x="30" y="2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1380960" y="4798800"/>
              <a:ext cx="289080" cy="142920"/>
            </a:xfrm>
            <a:custGeom>
              <a:avLst/>
              <a:gdLst/>
              <a:ahLst/>
              <a:rect l="l" t="t" r="r" b="b"/>
              <a:pathLst>
                <a:path w="365" h="179">
                  <a:moveTo>
                    <a:pt x="365" y="48"/>
                  </a:moveTo>
                  <a:lnTo>
                    <a:pt x="362" y="55"/>
                  </a:lnTo>
                  <a:lnTo>
                    <a:pt x="356" y="55"/>
                  </a:lnTo>
                  <a:lnTo>
                    <a:pt x="350" y="51"/>
                  </a:lnTo>
                  <a:lnTo>
                    <a:pt x="342" y="48"/>
                  </a:lnTo>
                  <a:lnTo>
                    <a:pt x="329" y="58"/>
                  </a:lnTo>
                  <a:lnTo>
                    <a:pt x="315" y="61"/>
                  </a:lnTo>
                  <a:lnTo>
                    <a:pt x="298" y="61"/>
                  </a:lnTo>
                  <a:lnTo>
                    <a:pt x="283" y="61"/>
                  </a:lnTo>
                  <a:lnTo>
                    <a:pt x="267" y="62"/>
                  </a:lnTo>
                  <a:lnTo>
                    <a:pt x="253" y="67"/>
                  </a:lnTo>
                  <a:lnTo>
                    <a:pt x="245" y="78"/>
                  </a:lnTo>
                  <a:lnTo>
                    <a:pt x="241" y="97"/>
                  </a:lnTo>
                  <a:lnTo>
                    <a:pt x="216" y="100"/>
                  </a:lnTo>
                  <a:lnTo>
                    <a:pt x="189" y="108"/>
                  </a:lnTo>
                  <a:lnTo>
                    <a:pt x="161" y="119"/>
                  </a:lnTo>
                  <a:lnTo>
                    <a:pt x="134" y="133"/>
                  </a:lnTo>
                  <a:lnTo>
                    <a:pt x="106" y="147"/>
                  </a:lnTo>
                  <a:lnTo>
                    <a:pt x="78" y="159"/>
                  </a:lnTo>
                  <a:lnTo>
                    <a:pt x="49" y="172"/>
                  </a:lnTo>
                  <a:lnTo>
                    <a:pt x="21" y="179"/>
                  </a:lnTo>
                  <a:lnTo>
                    <a:pt x="14" y="169"/>
                  </a:lnTo>
                  <a:lnTo>
                    <a:pt x="6" y="158"/>
                  </a:lnTo>
                  <a:lnTo>
                    <a:pt x="0" y="145"/>
                  </a:lnTo>
                  <a:lnTo>
                    <a:pt x="5" y="130"/>
                  </a:lnTo>
                  <a:lnTo>
                    <a:pt x="320" y="0"/>
                  </a:lnTo>
                  <a:lnTo>
                    <a:pt x="339" y="3"/>
                  </a:lnTo>
                  <a:lnTo>
                    <a:pt x="351" y="14"/>
                  </a:lnTo>
                  <a:lnTo>
                    <a:pt x="359" y="31"/>
                  </a:lnTo>
                  <a:lnTo>
                    <a:pt x="365" y="48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1065240" y="4822560"/>
              <a:ext cx="90360" cy="100080"/>
            </a:xfrm>
            <a:custGeom>
              <a:avLst/>
              <a:gdLst/>
              <a:ahLst/>
              <a:rect l="l" t="t" r="r" b="b"/>
              <a:pathLst>
                <a:path w="116" h="125">
                  <a:moveTo>
                    <a:pt x="116" y="18"/>
                  </a:moveTo>
                  <a:lnTo>
                    <a:pt x="111" y="34"/>
                  </a:lnTo>
                  <a:lnTo>
                    <a:pt x="103" y="48"/>
                  </a:lnTo>
                  <a:lnTo>
                    <a:pt x="96" y="64"/>
                  </a:lnTo>
                  <a:lnTo>
                    <a:pt x="88" y="79"/>
                  </a:lnTo>
                  <a:lnTo>
                    <a:pt x="77" y="93"/>
                  </a:lnTo>
                  <a:lnTo>
                    <a:pt x="66" y="106"/>
                  </a:lnTo>
                  <a:lnTo>
                    <a:pt x="53" y="117"/>
                  </a:lnTo>
                  <a:lnTo>
                    <a:pt x="39" y="125"/>
                  </a:lnTo>
                  <a:lnTo>
                    <a:pt x="33" y="120"/>
                  </a:lnTo>
                  <a:lnTo>
                    <a:pt x="25" y="118"/>
                  </a:lnTo>
                  <a:lnTo>
                    <a:pt x="18" y="115"/>
                  </a:lnTo>
                  <a:lnTo>
                    <a:pt x="10" y="112"/>
                  </a:lnTo>
                  <a:lnTo>
                    <a:pt x="5" y="109"/>
                  </a:lnTo>
                  <a:lnTo>
                    <a:pt x="2" y="104"/>
                  </a:lnTo>
                  <a:lnTo>
                    <a:pt x="0" y="96"/>
                  </a:lnTo>
                  <a:lnTo>
                    <a:pt x="3" y="87"/>
                  </a:lnTo>
                  <a:lnTo>
                    <a:pt x="16" y="95"/>
                  </a:lnTo>
                  <a:lnTo>
                    <a:pt x="28" y="96"/>
                  </a:lnTo>
                  <a:lnTo>
                    <a:pt x="39" y="96"/>
                  </a:lnTo>
                  <a:lnTo>
                    <a:pt x="49" y="93"/>
                  </a:lnTo>
                  <a:lnTo>
                    <a:pt x="58" y="87"/>
                  </a:lnTo>
                  <a:lnTo>
                    <a:pt x="67" y="79"/>
                  </a:lnTo>
                  <a:lnTo>
                    <a:pt x="75" y="70"/>
                  </a:lnTo>
                  <a:lnTo>
                    <a:pt x="85" y="60"/>
                  </a:lnTo>
                  <a:lnTo>
                    <a:pt x="83" y="40"/>
                  </a:lnTo>
                  <a:lnTo>
                    <a:pt x="82" y="28"/>
                  </a:lnTo>
                  <a:lnTo>
                    <a:pt x="85" y="15"/>
                  </a:lnTo>
                  <a:lnTo>
                    <a:pt x="97" y="0"/>
                  </a:lnTo>
                  <a:lnTo>
                    <a:pt x="103" y="3"/>
                  </a:lnTo>
                  <a:lnTo>
                    <a:pt x="110" y="7"/>
                  </a:lnTo>
                  <a:lnTo>
                    <a:pt x="114" y="14"/>
                  </a:lnTo>
                  <a:lnTo>
                    <a:pt x="116" y="18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1770120" y="4884480"/>
              <a:ext cx="414000" cy="746280"/>
            </a:xfrm>
            <a:custGeom>
              <a:avLst/>
              <a:gdLst/>
              <a:ahLst/>
              <a:rect l="l" t="t" r="r" b="b"/>
              <a:pathLst>
                <a:path w="523" h="940">
                  <a:moveTo>
                    <a:pt x="286" y="0"/>
                  </a:moveTo>
                  <a:lnTo>
                    <a:pt x="315" y="115"/>
                  </a:lnTo>
                  <a:lnTo>
                    <a:pt x="347" y="234"/>
                  </a:lnTo>
                  <a:lnTo>
                    <a:pt x="378" y="353"/>
                  </a:lnTo>
                  <a:lnTo>
                    <a:pt x="409" y="473"/>
                  </a:lnTo>
                  <a:lnTo>
                    <a:pt x="440" y="591"/>
                  </a:lnTo>
                  <a:lnTo>
                    <a:pt x="471" y="708"/>
                  </a:lnTo>
                  <a:lnTo>
                    <a:pt x="498" y="821"/>
                  </a:lnTo>
                  <a:lnTo>
                    <a:pt x="523" y="930"/>
                  </a:lnTo>
                  <a:lnTo>
                    <a:pt x="515" y="935"/>
                  </a:lnTo>
                  <a:lnTo>
                    <a:pt x="509" y="936"/>
                  </a:lnTo>
                  <a:lnTo>
                    <a:pt x="501" y="940"/>
                  </a:lnTo>
                  <a:lnTo>
                    <a:pt x="493" y="940"/>
                  </a:lnTo>
                  <a:lnTo>
                    <a:pt x="485" y="940"/>
                  </a:lnTo>
                  <a:lnTo>
                    <a:pt x="478" y="936"/>
                  </a:lnTo>
                  <a:lnTo>
                    <a:pt x="471" y="935"/>
                  </a:lnTo>
                  <a:lnTo>
                    <a:pt x="465" y="930"/>
                  </a:lnTo>
                  <a:lnTo>
                    <a:pt x="453" y="890"/>
                  </a:lnTo>
                  <a:lnTo>
                    <a:pt x="431" y="810"/>
                  </a:lnTo>
                  <a:lnTo>
                    <a:pt x="404" y="701"/>
                  </a:lnTo>
                  <a:lnTo>
                    <a:pt x="373" y="574"/>
                  </a:lnTo>
                  <a:lnTo>
                    <a:pt x="339" y="438"/>
                  </a:lnTo>
                  <a:lnTo>
                    <a:pt x="304" y="306"/>
                  </a:lnTo>
                  <a:lnTo>
                    <a:pt x="272" y="185"/>
                  </a:lnTo>
                  <a:lnTo>
                    <a:pt x="242" y="89"/>
                  </a:lnTo>
                  <a:lnTo>
                    <a:pt x="228" y="86"/>
                  </a:lnTo>
                  <a:lnTo>
                    <a:pt x="219" y="93"/>
                  </a:lnTo>
                  <a:lnTo>
                    <a:pt x="209" y="107"/>
                  </a:lnTo>
                  <a:lnTo>
                    <a:pt x="200" y="118"/>
                  </a:lnTo>
                  <a:lnTo>
                    <a:pt x="183" y="212"/>
                  </a:lnTo>
                  <a:lnTo>
                    <a:pt x="166" y="301"/>
                  </a:lnTo>
                  <a:lnTo>
                    <a:pt x="148" y="388"/>
                  </a:lnTo>
                  <a:lnTo>
                    <a:pt x="131" y="476"/>
                  </a:lnTo>
                  <a:lnTo>
                    <a:pt x="114" y="562"/>
                  </a:lnTo>
                  <a:lnTo>
                    <a:pt x="97" y="648"/>
                  </a:lnTo>
                  <a:lnTo>
                    <a:pt x="78" y="737"/>
                  </a:lnTo>
                  <a:lnTo>
                    <a:pt x="59" y="829"/>
                  </a:lnTo>
                  <a:lnTo>
                    <a:pt x="52" y="830"/>
                  </a:lnTo>
                  <a:lnTo>
                    <a:pt x="44" y="833"/>
                  </a:lnTo>
                  <a:lnTo>
                    <a:pt x="36" y="835"/>
                  </a:lnTo>
                  <a:lnTo>
                    <a:pt x="28" y="838"/>
                  </a:lnTo>
                  <a:lnTo>
                    <a:pt x="20" y="840"/>
                  </a:lnTo>
                  <a:lnTo>
                    <a:pt x="13" y="840"/>
                  </a:lnTo>
                  <a:lnTo>
                    <a:pt x="6" y="840"/>
                  </a:lnTo>
                  <a:lnTo>
                    <a:pt x="0" y="836"/>
                  </a:lnTo>
                  <a:lnTo>
                    <a:pt x="6" y="805"/>
                  </a:lnTo>
                  <a:lnTo>
                    <a:pt x="24" y="723"/>
                  </a:lnTo>
                  <a:lnTo>
                    <a:pt x="49" y="602"/>
                  </a:lnTo>
                  <a:lnTo>
                    <a:pt x="80" y="462"/>
                  </a:lnTo>
                  <a:lnTo>
                    <a:pt x="111" y="317"/>
                  </a:lnTo>
                  <a:lnTo>
                    <a:pt x="141" y="179"/>
                  </a:lnTo>
                  <a:lnTo>
                    <a:pt x="166" y="70"/>
                  </a:lnTo>
                  <a:lnTo>
                    <a:pt x="183" y="0"/>
                  </a:lnTo>
                  <a:lnTo>
                    <a:pt x="197" y="7"/>
                  </a:lnTo>
                  <a:lnTo>
                    <a:pt x="212" y="11"/>
                  </a:lnTo>
                  <a:lnTo>
                    <a:pt x="226" y="14"/>
                  </a:lnTo>
                  <a:lnTo>
                    <a:pt x="242" y="14"/>
                  </a:lnTo>
                  <a:lnTo>
                    <a:pt x="255" y="11"/>
                  </a:lnTo>
                  <a:lnTo>
                    <a:pt x="267" y="7"/>
                  </a:lnTo>
                  <a:lnTo>
                    <a:pt x="276" y="4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949320" y="4913280"/>
              <a:ext cx="150840" cy="196920"/>
            </a:xfrm>
            <a:custGeom>
              <a:avLst/>
              <a:gdLst/>
              <a:ahLst/>
              <a:rect l="l" t="t" r="r" b="b"/>
              <a:pathLst>
                <a:path w="191" h="250">
                  <a:moveTo>
                    <a:pt x="167" y="72"/>
                  </a:moveTo>
                  <a:lnTo>
                    <a:pt x="167" y="94"/>
                  </a:lnTo>
                  <a:lnTo>
                    <a:pt x="164" y="92"/>
                  </a:lnTo>
                  <a:lnTo>
                    <a:pt x="161" y="94"/>
                  </a:lnTo>
                  <a:lnTo>
                    <a:pt x="159" y="97"/>
                  </a:lnTo>
                  <a:lnTo>
                    <a:pt x="158" y="100"/>
                  </a:lnTo>
                  <a:lnTo>
                    <a:pt x="150" y="89"/>
                  </a:lnTo>
                  <a:lnTo>
                    <a:pt x="144" y="77"/>
                  </a:lnTo>
                  <a:lnTo>
                    <a:pt x="134" y="64"/>
                  </a:lnTo>
                  <a:lnTo>
                    <a:pt x="125" y="52"/>
                  </a:lnTo>
                  <a:lnTo>
                    <a:pt x="116" y="41"/>
                  </a:lnTo>
                  <a:lnTo>
                    <a:pt x="103" y="31"/>
                  </a:lnTo>
                  <a:lnTo>
                    <a:pt x="89" y="23"/>
                  </a:lnTo>
                  <a:lnTo>
                    <a:pt x="74" y="19"/>
                  </a:lnTo>
                  <a:lnTo>
                    <a:pt x="63" y="23"/>
                  </a:lnTo>
                  <a:lnTo>
                    <a:pt x="53" y="30"/>
                  </a:lnTo>
                  <a:lnTo>
                    <a:pt x="46" y="36"/>
                  </a:lnTo>
                  <a:lnTo>
                    <a:pt x="38" y="44"/>
                  </a:lnTo>
                  <a:lnTo>
                    <a:pt x="31" y="53"/>
                  </a:lnTo>
                  <a:lnTo>
                    <a:pt x="25" y="62"/>
                  </a:lnTo>
                  <a:lnTo>
                    <a:pt x="21" y="73"/>
                  </a:lnTo>
                  <a:lnTo>
                    <a:pt x="16" y="84"/>
                  </a:lnTo>
                  <a:lnTo>
                    <a:pt x="25" y="106"/>
                  </a:lnTo>
                  <a:lnTo>
                    <a:pt x="36" y="128"/>
                  </a:lnTo>
                  <a:lnTo>
                    <a:pt x="47" y="148"/>
                  </a:lnTo>
                  <a:lnTo>
                    <a:pt x="61" y="169"/>
                  </a:lnTo>
                  <a:lnTo>
                    <a:pt x="75" y="186"/>
                  </a:lnTo>
                  <a:lnTo>
                    <a:pt x="92" y="203"/>
                  </a:lnTo>
                  <a:lnTo>
                    <a:pt x="111" y="215"/>
                  </a:lnTo>
                  <a:lnTo>
                    <a:pt x="131" y="226"/>
                  </a:lnTo>
                  <a:lnTo>
                    <a:pt x="145" y="228"/>
                  </a:lnTo>
                  <a:lnTo>
                    <a:pt x="155" y="223"/>
                  </a:lnTo>
                  <a:lnTo>
                    <a:pt x="161" y="217"/>
                  </a:lnTo>
                  <a:lnTo>
                    <a:pt x="164" y="208"/>
                  </a:lnTo>
                  <a:lnTo>
                    <a:pt x="167" y="198"/>
                  </a:lnTo>
                  <a:lnTo>
                    <a:pt x="169" y="189"/>
                  </a:lnTo>
                  <a:lnTo>
                    <a:pt x="173" y="180"/>
                  </a:lnTo>
                  <a:lnTo>
                    <a:pt x="180" y="172"/>
                  </a:lnTo>
                  <a:lnTo>
                    <a:pt x="191" y="190"/>
                  </a:lnTo>
                  <a:lnTo>
                    <a:pt x="186" y="209"/>
                  </a:lnTo>
                  <a:lnTo>
                    <a:pt x="175" y="230"/>
                  </a:lnTo>
                  <a:lnTo>
                    <a:pt x="167" y="248"/>
                  </a:lnTo>
                  <a:lnTo>
                    <a:pt x="145" y="250"/>
                  </a:lnTo>
                  <a:lnTo>
                    <a:pt x="125" y="245"/>
                  </a:lnTo>
                  <a:lnTo>
                    <a:pt x="108" y="237"/>
                  </a:lnTo>
                  <a:lnTo>
                    <a:pt x="92" y="225"/>
                  </a:lnTo>
                  <a:lnTo>
                    <a:pt x="77" y="211"/>
                  </a:lnTo>
                  <a:lnTo>
                    <a:pt x="63" y="198"/>
                  </a:lnTo>
                  <a:lnTo>
                    <a:pt x="47" y="184"/>
                  </a:lnTo>
                  <a:lnTo>
                    <a:pt x="31" y="175"/>
                  </a:lnTo>
                  <a:lnTo>
                    <a:pt x="22" y="156"/>
                  </a:lnTo>
                  <a:lnTo>
                    <a:pt x="14" y="137"/>
                  </a:lnTo>
                  <a:lnTo>
                    <a:pt x="7" y="119"/>
                  </a:lnTo>
                  <a:lnTo>
                    <a:pt x="2" y="98"/>
                  </a:lnTo>
                  <a:lnTo>
                    <a:pt x="0" y="80"/>
                  </a:lnTo>
                  <a:lnTo>
                    <a:pt x="2" y="61"/>
                  </a:lnTo>
                  <a:lnTo>
                    <a:pt x="10" y="42"/>
                  </a:lnTo>
                  <a:lnTo>
                    <a:pt x="22" y="23"/>
                  </a:lnTo>
                  <a:lnTo>
                    <a:pt x="35" y="17"/>
                  </a:lnTo>
                  <a:lnTo>
                    <a:pt x="47" y="13"/>
                  </a:lnTo>
                  <a:lnTo>
                    <a:pt x="60" y="6"/>
                  </a:lnTo>
                  <a:lnTo>
                    <a:pt x="70" y="3"/>
                  </a:lnTo>
                  <a:lnTo>
                    <a:pt x="83" y="0"/>
                  </a:lnTo>
                  <a:lnTo>
                    <a:pt x="95" y="2"/>
                  </a:lnTo>
                  <a:lnTo>
                    <a:pt x="108" y="6"/>
                  </a:lnTo>
                  <a:lnTo>
                    <a:pt x="122" y="16"/>
                  </a:lnTo>
                  <a:lnTo>
                    <a:pt x="133" y="31"/>
                  </a:lnTo>
                  <a:lnTo>
                    <a:pt x="142" y="48"/>
                  </a:lnTo>
                  <a:lnTo>
                    <a:pt x="153" y="64"/>
                  </a:lnTo>
                  <a:lnTo>
                    <a:pt x="167" y="72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1350720" y="4910040"/>
              <a:ext cx="32040" cy="57240"/>
            </a:xfrm>
            <a:custGeom>
              <a:avLst/>
              <a:gdLst/>
              <a:ahLst/>
              <a:rect l="l" t="t" r="r" b="b"/>
              <a:pathLst>
                <a:path w="40" h="72">
                  <a:moveTo>
                    <a:pt x="31" y="72"/>
                  </a:moveTo>
                  <a:lnTo>
                    <a:pt x="15" y="61"/>
                  </a:lnTo>
                  <a:lnTo>
                    <a:pt x="6" y="44"/>
                  </a:lnTo>
                  <a:lnTo>
                    <a:pt x="0" y="22"/>
                  </a:lnTo>
                  <a:lnTo>
                    <a:pt x="3" y="0"/>
                  </a:lnTo>
                  <a:lnTo>
                    <a:pt x="12" y="8"/>
                  </a:lnTo>
                  <a:lnTo>
                    <a:pt x="22" y="19"/>
                  </a:lnTo>
                  <a:lnTo>
                    <a:pt x="29" y="31"/>
                  </a:lnTo>
                  <a:lnTo>
                    <a:pt x="36" y="44"/>
                  </a:lnTo>
                  <a:lnTo>
                    <a:pt x="39" y="56"/>
                  </a:lnTo>
                  <a:lnTo>
                    <a:pt x="40" y="65"/>
                  </a:lnTo>
                  <a:lnTo>
                    <a:pt x="37" y="70"/>
                  </a:lnTo>
                  <a:lnTo>
                    <a:pt x="31" y="72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1093680" y="4922640"/>
              <a:ext cx="60480" cy="54000"/>
            </a:xfrm>
            <a:custGeom>
              <a:avLst/>
              <a:gdLst/>
              <a:ahLst/>
              <a:rect l="l" t="t" r="r" b="b"/>
              <a:pathLst>
                <a:path w="77" h="68">
                  <a:moveTo>
                    <a:pt x="77" y="29"/>
                  </a:moveTo>
                  <a:lnTo>
                    <a:pt x="70" y="43"/>
                  </a:lnTo>
                  <a:lnTo>
                    <a:pt x="61" y="54"/>
                  </a:lnTo>
                  <a:lnTo>
                    <a:pt x="49" y="62"/>
                  </a:lnTo>
                  <a:lnTo>
                    <a:pt x="35" y="68"/>
                  </a:lnTo>
                  <a:lnTo>
                    <a:pt x="16" y="65"/>
                  </a:lnTo>
                  <a:lnTo>
                    <a:pt x="22" y="53"/>
                  </a:lnTo>
                  <a:lnTo>
                    <a:pt x="33" y="45"/>
                  </a:lnTo>
                  <a:lnTo>
                    <a:pt x="46" y="39"/>
                  </a:lnTo>
                  <a:lnTo>
                    <a:pt x="58" y="29"/>
                  </a:lnTo>
                  <a:lnTo>
                    <a:pt x="53" y="26"/>
                  </a:lnTo>
                  <a:lnTo>
                    <a:pt x="49" y="24"/>
                  </a:lnTo>
                  <a:lnTo>
                    <a:pt x="41" y="26"/>
                  </a:lnTo>
                  <a:lnTo>
                    <a:pt x="35" y="28"/>
                  </a:lnTo>
                  <a:lnTo>
                    <a:pt x="27" y="29"/>
                  </a:lnTo>
                  <a:lnTo>
                    <a:pt x="19" y="31"/>
                  </a:lnTo>
                  <a:lnTo>
                    <a:pt x="11" y="29"/>
                  </a:lnTo>
                  <a:lnTo>
                    <a:pt x="3" y="26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5" y="7"/>
                  </a:lnTo>
                  <a:lnTo>
                    <a:pt x="11" y="7"/>
                  </a:lnTo>
                  <a:lnTo>
                    <a:pt x="19" y="7"/>
                  </a:lnTo>
                  <a:lnTo>
                    <a:pt x="25" y="6"/>
                  </a:lnTo>
                  <a:lnTo>
                    <a:pt x="33" y="4"/>
                  </a:lnTo>
                  <a:lnTo>
                    <a:pt x="38" y="0"/>
                  </a:lnTo>
                  <a:lnTo>
                    <a:pt x="52" y="1"/>
                  </a:lnTo>
                  <a:lnTo>
                    <a:pt x="58" y="14"/>
                  </a:lnTo>
                  <a:lnTo>
                    <a:pt x="63" y="26"/>
                  </a:lnTo>
                  <a:lnTo>
                    <a:pt x="77" y="29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985680" y="4948200"/>
              <a:ext cx="71640" cy="10800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85" y="46"/>
                  </a:moveTo>
                  <a:lnTo>
                    <a:pt x="90" y="69"/>
                  </a:lnTo>
                  <a:lnTo>
                    <a:pt x="82" y="89"/>
                  </a:lnTo>
                  <a:lnTo>
                    <a:pt x="74" y="106"/>
                  </a:lnTo>
                  <a:lnTo>
                    <a:pt x="76" y="124"/>
                  </a:lnTo>
                  <a:lnTo>
                    <a:pt x="76" y="136"/>
                  </a:lnTo>
                  <a:lnTo>
                    <a:pt x="63" y="136"/>
                  </a:lnTo>
                  <a:lnTo>
                    <a:pt x="56" y="127"/>
                  </a:lnTo>
                  <a:lnTo>
                    <a:pt x="51" y="117"/>
                  </a:lnTo>
                  <a:lnTo>
                    <a:pt x="45" y="110"/>
                  </a:lnTo>
                  <a:lnTo>
                    <a:pt x="48" y="81"/>
                  </a:lnTo>
                  <a:lnTo>
                    <a:pt x="56" y="56"/>
                  </a:lnTo>
                  <a:lnTo>
                    <a:pt x="54" y="36"/>
                  </a:lnTo>
                  <a:lnTo>
                    <a:pt x="34" y="16"/>
                  </a:lnTo>
                  <a:lnTo>
                    <a:pt x="0" y="36"/>
                  </a:lnTo>
                  <a:lnTo>
                    <a:pt x="3" y="16"/>
                  </a:lnTo>
                  <a:lnTo>
                    <a:pt x="14" y="3"/>
                  </a:lnTo>
                  <a:lnTo>
                    <a:pt x="26" y="0"/>
                  </a:lnTo>
                  <a:lnTo>
                    <a:pt x="43" y="3"/>
                  </a:lnTo>
                  <a:lnTo>
                    <a:pt x="59" y="10"/>
                  </a:lnTo>
                  <a:lnTo>
                    <a:pt x="71" y="21"/>
                  </a:lnTo>
                  <a:lnTo>
                    <a:pt x="82" y="33"/>
                  </a:lnTo>
                  <a:lnTo>
                    <a:pt x="85" y="46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1295280" y="4960800"/>
              <a:ext cx="23760" cy="3636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31" y="37"/>
                  </a:moveTo>
                  <a:lnTo>
                    <a:pt x="29" y="42"/>
                  </a:lnTo>
                  <a:lnTo>
                    <a:pt x="26" y="45"/>
                  </a:lnTo>
                  <a:lnTo>
                    <a:pt x="21" y="45"/>
                  </a:lnTo>
                  <a:lnTo>
                    <a:pt x="15" y="42"/>
                  </a:lnTo>
                  <a:lnTo>
                    <a:pt x="9" y="36"/>
                  </a:lnTo>
                  <a:lnTo>
                    <a:pt x="4" y="26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1" y="6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23" y="12"/>
                  </a:lnTo>
                  <a:lnTo>
                    <a:pt x="28" y="22"/>
                  </a:lnTo>
                  <a:lnTo>
                    <a:pt x="31" y="30"/>
                  </a:lnTo>
                  <a:lnTo>
                    <a:pt x="31" y="37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1231920" y="4971960"/>
              <a:ext cx="63360" cy="6012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47" y="22"/>
                  </a:moveTo>
                  <a:lnTo>
                    <a:pt x="80" y="28"/>
                  </a:lnTo>
                  <a:lnTo>
                    <a:pt x="70" y="36"/>
                  </a:lnTo>
                  <a:lnTo>
                    <a:pt x="69" y="45"/>
                  </a:lnTo>
                  <a:lnTo>
                    <a:pt x="69" y="55"/>
                  </a:lnTo>
                  <a:lnTo>
                    <a:pt x="70" y="62"/>
                  </a:lnTo>
                  <a:lnTo>
                    <a:pt x="72" y="70"/>
                  </a:lnTo>
                  <a:lnTo>
                    <a:pt x="69" y="75"/>
                  </a:lnTo>
                  <a:lnTo>
                    <a:pt x="62" y="76"/>
                  </a:lnTo>
                  <a:lnTo>
                    <a:pt x="47" y="73"/>
                  </a:lnTo>
                  <a:lnTo>
                    <a:pt x="67" y="48"/>
                  </a:lnTo>
                  <a:lnTo>
                    <a:pt x="58" y="47"/>
                  </a:lnTo>
                  <a:lnTo>
                    <a:pt x="52" y="44"/>
                  </a:lnTo>
                  <a:lnTo>
                    <a:pt x="45" y="37"/>
                  </a:lnTo>
                  <a:lnTo>
                    <a:pt x="41" y="31"/>
                  </a:lnTo>
                  <a:lnTo>
                    <a:pt x="34" y="26"/>
                  </a:lnTo>
                  <a:lnTo>
                    <a:pt x="27" y="23"/>
                  </a:lnTo>
                  <a:lnTo>
                    <a:pt x="16" y="22"/>
                  </a:lnTo>
                  <a:lnTo>
                    <a:pt x="2" y="25"/>
                  </a:lnTo>
                  <a:lnTo>
                    <a:pt x="0" y="11"/>
                  </a:lnTo>
                  <a:lnTo>
                    <a:pt x="9" y="8"/>
                  </a:lnTo>
                  <a:lnTo>
                    <a:pt x="22" y="6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5" y="6"/>
                  </a:lnTo>
                  <a:lnTo>
                    <a:pt x="45" y="14"/>
                  </a:lnTo>
                  <a:lnTo>
                    <a:pt x="47" y="22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1544400" y="4997160"/>
              <a:ext cx="54000" cy="95400"/>
            </a:xfrm>
            <a:custGeom>
              <a:avLst/>
              <a:gdLst/>
              <a:ahLst/>
              <a:rect l="l" t="t" r="r" b="b"/>
              <a:pathLst>
                <a:path w="67" h="120">
                  <a:moveTo>
                    <a:pt x="67" y="49"/>
                  </a:moveTo>
                  <a:lnTo>
                    <a:pt x="65" y="69"/>
                  </a:lnTo>
                  <a:lnTo>
                    <a:pt x="67" y="89"/>
                  </a:lnTo>
                  <a:lnTo>
                    <a:pt x="64" y="108"/>
                  </a:lnTo>
                  <a:lnTo>
                    <a:pt x="50" y="120"/>
                  </a:lnTo>
                  <a:lnTo>
                    <a:pt x="48" y="103"/>
                  </a:lnTo>
                  <a:lnTo>
                    <a:pt x="47" y="86"/>
                  </a:lnTo>
                  <a:lnTo>
                    <a:pt x="43" y="69"/>
                  </a:lnTo>
                  <a:lnTo>
                    <a:pt x="39" y="53"/>
                  </a:lnTo>
                  <a:lnTo>
                    <a:pt x="33" y="38"/>
                  </a:lnTo>
                  <a:lnTo>
                    <a:pt x="25" y="25"/>
                  </a:lnTo>
                  <a:lnTo>
                    <a:pt x="14" y="14"/>
                  </a:lnTo>
                  <a:lnTo>
                    <a:pt x="0" y="6"/>
                  </a:lnTo>
                  <a:lnTo>
                    <a:pt x="9" y="2"/>
                  </a:lnTo>
                  <a:lnTo>
                    <a:pt x="18" y="0"/>
                  </a:lnTo>
                  <a:lnTo>
                    <a:pt x="28" y="5"/>
                  </a:lnTo>
                  <a:lnTo>
                    <a:pt x="37" y="11"/>
                  </a:lnTo>
                  <a:lnTo>
                    <a:pt x="45" y="20"/>
                  </a:lnTo>
                  <a:lnTo>
                    <a:pt x="53" y="30"/>
                  </a:lnTo>
                  <a:lnTo>
                    <a:pt x="61" y="39"/>
                  </a:lnTo>
                  <a:lnTo>
                    <a:pt x="67" y="49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1122120" y="5003640"/>
              <a:ext cx="23760" cy="2700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0" y="32"/>
                  </a:moveTo>
                  <a:lnTo>
                    <a:pt x="0" y="17"/>
                  </a:lnTo>
                  <a:lnTo>
                    <a:pt x="11" y="0"/>
                  </a:lnTo>
                  <a:lnTo>
                    <a:pt x="29" y="20"/>
                  </a:lnTo>
                  <a:lnTo>
                    <a:pt x="20" y="32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1361880" y="5008320"/>
              <a:ext cx="25560" cy="2232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1" y="19"/>
                  </a:moveTo>
                  <a:lnTo>
                    <a:pt x="23" y="24"/>
                  </a:lnTo>
                  <a:lnTo>
                    <a:pt x="17" y="28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1" y="5"/>
                  </a:lnTo>
                  <a:lnTo>
                    <a:pt x="11" y="0"/>
                  </a:lnTo>
                  <a:lnTo>
                    <a:pt x="23" y="5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1260360" y="5022720"/>
              <a:ext cx="81000" cy="155520"/>
            </a:xfrm>
            <a:custGeom>
              <a:avLst/>
              <a:gdLst/>
              <a:ahLst/>
              <a:rect l="l" t="t" r="r" b="b"/>
              <a:pathLst>
                <a:path w="101" h="197">
                  <a:moveTo>
                    <a:pt x="101" y="0"/>
                  </a:moveTo>
                  <a:lnTo>
                    <a:pt x="89" y="19"/>
                  </a:lnTo>
                  <a:lnTo>
                    <a:pt x="75" y="36"/>
                  </a:lnTo>
                  <a:lnTo>
                    <a:pt x="61" y="55"/>
                  </a:lnTo>
                  <a:lnTo>
                    <a:pt x="48" y="72"/>
                  </a:lnTo>
                  <a:lnTo>
                    <a:pt x="37" y="91"/>
                  </a:lnTo>
                  <a:lnTo>
                    <a:pt x="30" y="111"/>
                  </a:lnTo>
                  <a:lnTo>
                    <a:pt x="25" y="133"/>
                  </a:lnTo>
                  <a:lnTo>
                    <a:pt x="23" y="158"/>
                  </a:lnTo>
                  <a:lnTo>
                    <a:pt x="22" y="165"/>
                  </a:lnTo>
                  <a:lnTo>
                    <a:pt x="17" y="181"/>
                  </a:lnTo>
                  <a:lnTo>
                    <a:pt x="11" y="195"/>
                  </a:lnTo>
                  <a:lnTo>
                    <a:pt x="1" y="197"/>
                  </a:lnTo>
                  <a:lnTo>
                    <a:pt x="0" y="165"/>
                  </a:lnTo>
                  <a:lnTo>
                    <a:pt x="5" y="137"/>
                  </a:lnTo>
                  <a:lnTo>
                    <a:pt x="11" y="111"/>
                  </a:lnTo>
                  <a:lnTo>
                    <a:pt x="22" y="87"/>
                  </a:lnTo>
                  <a:lnTo>
                    <a:pt x="36" y="64"/>
                  </a:lnTo>
                  <a:lnTo>
                    <a:pt x="51" y="42"/>
                  </a:lnTo>
                  <a:lnTo>
                    <a:pt x="69" y="22"/>
                  </a:lnTo>
                  <a:lnTo>
                    <a:pt x="86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1681200" y="5556240"/>
              <a:ext cx="331560" cy="166680"/>
            </a:xfrm>
            <a:custGeom>
              <a:avLst/>
              <a:gdLst/>
              <a:ahLst/>
              <a:rect l="l" t="t" r="r" b="b"/>
              <a:pathLst>
                <a:path w="419" h="209">
                  <a:moveTo>
                    <a:pt x="219" y="209"/>
                  </a:moveTo>
                  <a:lnTo>
                    <a:pt x="305" y="175"/>
                  </a:lnTo>
                  <a:lnTo>
                    <a:pt x="303" y="161"/>
                  </a:lnTo>
                  <a:lnTo>
                    <a:pt x="297" y="148"/>
                  </a:lnTo>
                  <a:lnTo>
                    <a:pt x="287" y="137"/>
                  </a:lnTo>
                  <a:lnTo>
                    <a:pt x="278" y="126"/>
                  </a:lnTo>
                  <a:lnTo>
                    <a:pt x="267" y="117"/>
                  </a:lnTo>
                  <a:lnTo>
                    <a:pt x="258" y="108"/>
                  </a:lnTo>
                  <a:lnTo>
                    <a:pt x="252" y="98"/>
                  </a:lnTo>
                  <a:lnTo>
                    <a:pt x="247" y="87"/>
                  </a:lnTo>
                  <a:lnTo>
                    <a:pt x="259" y="89"/>
                  </a:lnTo>
                  <a:lnTo>
                    <a:pt x="270" y="95"/>
                  </a:lnTo>
                  <a:lnTo>
                    <a:pt x="280" y="103"/>
                  </a:lnTo>
                  <a:lnTo>
                    <a:pt x="289" y="114"/>
                  </a:lnTo>
                  <a:lnTo>
                    <a:pt x="298" y="125"/>
                  </a:lnTo>
                  <a:lnTo>
                    <a:pt x="306" y="134"/>
                  </a:lnTo>
                  <a:lnTo>
                    <a:pt x="316" y="143"/>
                  </a:lnTo>
                  <a:lnTo>
                    <a:pt x="325" y="151"/>
                  </a:lnTo>
                  <a:lnTo>
                    <a:pt x="339" y="156"/>
                  </a:lnTo>
                  <a:lnTo>
                    <a:pt x="350" y="154"/>
                  </a:lnTo>
                  <a:lnTo>
                    <a:pt x="358" y="150"/>
                  </a:lnTo>
                  <a:lnTo>
                    <a:pt x="359" y="142"/>
                  </a:lnTo>
                  <a:lnTo>
                    <a:pt x="347" y="131"/>
                  </a:lnTo>
                  <a:lnTo>
                    <a:pt x="331" y="119"/>
                  </a:lnTo>
                  <a:lnTo>
                    <a:pt x="314" y="106"/>
                  </a:lnTo>
                  <a:lnTo>
                    <a:pt x="295" y="94"/>
                  </a:lnTo>
                  <a:lnTo>
                    <a:pt x="277" y="81"/>
                  </a:lnTo>
                  <a:lnTo>
                    <a:pt x="258" y="67"/>
                  </a:lnTo>
                  <a:lnTo>
                    <a:pt x="242" y="53"/>
                  </a:lnTo>
                  <a:lnTo>
                    <a:pt x="228" y="39"/>
                  </a:lnTo>
                  <a:lnTo>
                    <a:pt x="236" y="34"/>
                  </a:lnTo>
                  <a:lnTo>
                    <a:pt x="247" y="33"/>
                  </a:lnTo>
                  <a:lnTo>
                    <a:pt x="258" y="36"/>
                  </a:lnTo>
                  <a:lnTo>
                    <a:pt x="267" y="42"/>
                  </a:lnTo>
                  <a:lnTo>
                    <a:pt x="278" y="50"/>
                  </a:lnTo>
                  <a:lnTo>
                    <a:pt x="289" y="58"/>
                  </a:lnTo>
                  <a:lnTo>
                    <a:pt x="300" y="65"/>
                  </a:lnTo>
                  <a:lnTo>
                    <a:pt x="311" y="73"/>
                  </a:lnTo>
                  <a:lnTo>
                    <a:pt x="322" y="81"/>
                  </a:lnTo>
                  <a:lnTo>
                    <a:pt x="334" y="89"/>
                  </a:lnTo>
                  <a:lnTo>
                    <a:pt x="347" y="98"/>
                  </a:lnTo>
                  <a:lnTo>
                    <a:pt x="359" y="109"/>
                  </a:lnTo>
                  <a:lnTo>
                    <a:pt x="375" y="117"/>
                  </a:lnTo>
                  <a:lnTo>
                    <a:pt x="387" y="123"/>
                  </a:lnTo>
                  <a:lnTo>
                    <a:pt x="398" y="125"/>
                  </a:lnTo>
                  <a:lnTo>
                    <a:pt x="408" y="125"/>
                  </a:lnTo>
                  <a:lnTo>
                    <a:pt x="414" y="122"/>
                  </a:lnTo>
                  <a:lnTo>
                    <a:pt x="417" y="119"/>
                  </a:lnTo>
                  <a:lnTo>
                    <a:pt x="419" y="112"/>
                  </a:lnTo>
                  <a:lnTo>
                    <a:pt x="417" y="106"/>
                  </a:lnTo>
                  <a:lnTo>
                    <a:pt x="408" y="95"/>
                  </a:lnTo>
                  <a:lnTo>
                    <a:pt x="398" y="84"/>
                  </a:lnTo>
                  <a:lnTo>
                    <a:pt x="386" y="73"/>
                  </a:lnTo>
                  <a:lnTo>
                    <a:pt x="375" y="62"/>
                  </a:lnTo>
                  <a:lnTo>
                    <a:pt x="361" y="51"/>
                  </a:lnTo>
                  <a:lnTo>
                    <a:pt x="348" y="42"/>
                  </a:lnTo>
                  <a:lnTo>
                    <a:pt x="334" y="36"/>
                  </a:lnTo>
                  <a:lnTo>
                    <a:pt x="322" y="30"/>
                  </a:lnTo>
                  <a:lnTo>
                    <a:pt x="303" y="19"/>
                  </a:lnTo>
                  <a:lnTo>
                    <a:pt x="284" y="11"/>
                  </a:lnTo>
                  <a:lnTo>
                    <a:pt x="266" y="5"/>
                  </a:lnTo>
                  <a:lnTo>
                    <a:pt x="248" y="1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194" y="1"/>
                  </a:lnTo>
                  <a:lnTo>
                    <a:pt x="177" y="5"/>
                  </a:lnTo>
                  <a:lnTo>
                    <a:pt x="158" y="8"/>
                  </a:lnTo>
                  <a:lnTo>
                    <a:pt x="141" y="12"/>
                  </a:lnTo>
                  <a:lnTo>
                    <a:pt x="124" y="19"/>
                  </a:lnTo>
                  <a:lnTo>
                    <a:pt x="106" y="23"/>
                  </a:lnTo>
                  <a:lnTo>
                    <a:pt x="89" y="30"/>
                  </a:lnTo>
                  <a:lnTo>
                    <a:pt x="72" y="36"/>
                  </a:lnTo>
                  <a:lnTo>
                    <a:pt x="55" y="40"/>
                  </a:lnTo>
                  <a:lnTo>
                    <a:pt x="38" y="45"/>
                  </a:lnTo>
                  <a:lnTo>
                    <a:pt x="25" y="47"/>
                  </a:lnTo>
                  <a:lnTo>
                    <a:pt x="14" y="50"/>
                  </a:lnTo>
                  <a:lnTo>
                    <a:pt x="7" y="55"/>
                  </a:lnTo>
                  <a:lnTo>
                    <a:pt x="0" y="59"/>
                  </a:lnTo>
                  <a:lnTo>
                    <a:pt x="14" y="94"/>
                  </a:lnTo>
                  <a:lnTo>
                    <a:pt x="22" y="128"/>
                  </a:lnTo>
                  <a:lnTo>
                    <a:pt x="27" y="161"/>
                  </a:lnTo>
                  <a:lnTo>
                    <a:pt x="32" y="190"/>
                  </a:lnTo>
                  <a:lnTo>
                    <a:pt x="60" y="201"/>
                  </a:lnTo>
                  <a:lnTo>
                    <a:pt x="86" y="203"/>
                  </a:lnTo>
                  <a:lnTo>
                    <a:pt x="111" y="197"/>
                  </a:lnTo>
                  <a:lnTo>
                    <a:pt x="135" y="186"/>
                  </a:lnTo>
                  <a:lnTo>
                    <a:pt x="161" y="175"/>
                  </a:lnTo>
                  <a:lnTo>
                    <a:pt x="189" y="164"/>
                  </a:lnTo>
                  <a:lnTo>
                    <a:pt x="220" y="156"/>
                  </a:lnTo>
                  <a:lnTo>
                    <a:pt x="256" y="154"/>
                  </a:lnTo>
                  <a:lnTo>
                    <a:pt x="256" y="164"/>
                  </a:lnTo>
                  <a:lnTo>
                    <a:pt x="250" y="168"/>
                  </a:lnTo>
                  <a:lnTo>
                    <a:pt x="241" y="172"/>
                  </a:lnTo>
                  <a:lnTo>
                    <a:pt x="236" y="178"/>
                  </a:lnTo>
                  <a:lnTo>
                    <a:pt x="228" y="179"/>
                  </a:lnTo>
                  <a:lnTo>
                    <a:pt x="219" y="181"/>
                  </a:lnTo>
                  <a:lnTo>
                    <a:pt x="211" y="183"/>
                  </a:lnTo>
                  <a:lnTo>
                    <a:pt x="205" y="186"/>
                  </a:lnTo>
                  <a:lnTo>
                    <a:pt x="197" y="189"/>
                  </a:lnTo>
                  <a:lnTo>
                    <a:pt x="191" y="192"/>
                  </a:lnTo>
                  <a:lnTo>
                    <a:pt x="185" y="195"/>
                  </a:lnTo>
                  <a:lnTo>
                    <a:pt x="178" y="198"/>
                  </a:lnTo>
                  <a:lnTo>
                    <a:pt x="186" y="203"/>
                  </a:lnTo>
                  <a:lnTo>
                    <a:pt x="195" y="206"/>
                  </a:lnTo>
                  <a:lnTo>
                    <a:pt x="206" y="209"/>
                  </a:lnTo>
                  <a:lnTo>
                    <a:pt x="219" y="209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569880" y="5238720"/>
              <a:ext cx="1746000" cy="679320"/>
            </a:xfrm>
            <a:custGeom>
              <a:avLst/>
              <a:gdLst/>
              <a:ahLst/>
              <a:rect l="l" t="t" r="r" b="b"/>
              <a:pathLst>
                <a:path w="2200" h="855">
                  <a:moveTo>
                    <a:pt x="1921" y="524"/>
                  </a:moveTo>
                  <a:lnTo>
                    <a:pt x="1947" y="524"/>
                  </a:lnTo>
                  <a:lnTo>
                    <a:pt x="1975" y="524"/>
                  </a:lnTo>
                  <a:lnTo>
                    <a:pt x="2002" y="523"/>
                  </a:lnTo>
                  <a:lnTo>
                    <a:pt x="2027" y="523"/>
                  </a:lnTo>
                  <a:lnTo>
                    <a:pt x="2053" y="523"/>
                  </a:lnTo>
                  <a:lnTo>
                    <a:pt x="2078" y="526"/>
                  </a:lnTo>
                  <a:lnTo>
                    <a:pt x="2102" y="529"/>
                  </a:lnTo>
                  <a:lnTo>
                    <a:pt x="2126" y="537"/>
                  </a:lnTo>
                  <a:lnTo>
                    <a:pt x="2126" y="573"/>
                  </a:lnTo>
                  <a:lnTo>
                    <a:pt x="2102" y="573"/>
                  </a:lnTo>
                  <a:lnTo>
                    <a:pt x="2077" y="573"/>
                  </a:lnTo>
                  <a:lnTo>
                    <a:pt x="2052" y="574"/>
                  </a:lnTo>
                  <a:lnTo>
                    <a:pt x="2028" y="574"/>
                  </a:lnTo>
                  <a:lnTo>
                    <a:pt x="2005" y="576"/>
                  </a:lnTo>
                  <a:lnTo>
                    <a:pt x="1983" y="577"/>
                  </a:lnTo>
                  <a:lnTo>
                    <a:pt x="1960" y="579"/>
                  </a:lnTo>
                  <a:lnTo>
                    <a:pt x="1938" y="580"/>
                  </a:lnTo>
                  <a:lnTo>
                    <a:pt x="1916" y="582"/>
                  </a:lnTo>
                  <a:lnTo>
                    <a:pt x="1894" y="584"/>
                  </a:lnTo>
                  <a:lnTo>
                    <a:pt x="1872" y="585"/>
                  </a:lnTo>
                  <a:lnTo>
                    <a:pt x="1852" y="587"/>
                  </a:lnTo>
                  <a:lnTo>
                    <a:pt x="1830" y="588"/>
                  </a:lnTo>
                  <a:lnTo>
                    <a:pt x="1810" y="588"/>
                  </a:lnTo>
                  <a:lnTo>
                    <a:pt x="1789" y="590"/>
                  </a:lnTo>
                  <a:lnTo>
                    <a:pt x="1769" y="590"/>
                  </a:lnTo>
                  <a:lnTo>
                    <a:pt x="1768" y="593"/>
                  </a:lnTo>
                  <a:lnTo>
                    <a:pt x="1771" y="598"/>
                  </a:lnTo>
                  <a:lnTo>
                    <a:pt x="1775" y="601"/>
                  </a:lnTo>
                  <a:lnTo>
                    <a:pt x="1785" y="602"/>
                  </a:lnTo>
                  <a:lnTo>
                    <a:pt x="1796" y="605"/>
                  </a:lnTo>
                  <a:lnTo>
                    <a:pt x="1810" y="607"/>
                  </a:lnTo>
                  <a:lnTo>
                    <a:pt x="1828" y="607"/>
                  </a:lnTo>
                  <a:lnTo>
                    <a:pt x="1850" y="607"/>
                  </a:lnTo>
                  <a:lnTo>
                    <a:pt x="2175" y="610"/>
                  </a:lnTo>
                  <a:lnTo>
                    <a:pt x="2189" y="621"/>
                  </a:lnTo>
                  <a:lnTo>
                    <a:pt x="2197" y="633"/>
                  </a:lnTo>
                  <a:lnTo>
                    <a:pt x="2200" y="646"/>
                  </a:lnTo>
                  <a:lnTo>
                    <a:pt x="2198" y="662"/>
                  </a:lnTo>
                  <a:lnTo>
                    <a:pt x="2164" y="663"/>
                  </a:lnTo>
                  <a:lnTo>
                    <a:pt x="2130" y="665"/>
                  </a:lnTo>
                  <a:lnTo>
                    <a:pt x="2095" y="666"/>
                  </a:lnTo>
                  <a:lnTo>
                    <a:pt x="2061" y="666"/>
                  </a:lnTo>
                  <a:lnTo>
                    <a:pt x="2027" y="668"/>
                  </a:lnTo>
                  <a:lnTo>
                    <a:pt x="1992" y="669"/>
                  </a:lnTo>
                  <a:lnTo>
                    <a:pt x="1958" y="669"/>
                  </a:lnTo>
                  <a:lnTo>
                    <a:pt x="1922" y="669"/>
                  </a:lnTo>
                  <a:lnTo>
                    <a:pt x="1888" y="671"/>
                  </a:lnTo>
                  <a:lnTo>
                    <a:pt x="1853" y="671"/>
                  </a:lnTo>
                  <a:lnTo>
                    <a:pt x="1818" y="671"/>
                  </a:lnTo>
                  <a:lnTo>
                    <a:pt x="1783" y="673"/>
                  </a:lnTo>
                  <a:lnTo>
                    <a:pt x="1749" y="673"/>
                  </a:lnTo>
                  <a:lnTo>
                    <a:pt x="1713" y="673"/>
                  </a:lnTo>
                  <a:lnTo>
                    <a:pt x="1679" y="673"/>
                  </a:lnTo>
                  <a:lnTo>
                    <a:pt x="1644" y="673"/>
                  </a:lnTo>
                  <a:lnTo>
                    <a:pt x="1608" y="673"/>
                  </a:lnTo>
                  <a:lnTo>
                    <a:pt x="1574" y="673"/>
                  </a:lnTo>
                  <a:lnTo>
                    <a:pt x="1540" y="673"/>
                  </a:lnTo>
                  <a:lnTo>
                    <a:pt x="1505" y="673"/>
                  </a:lnTo>
                  <a:lnTo>
                    <a:pt x="1471" y="673"/>
                  </a:lnTo>
                  <a:lnTo>
                    <a:pt x="1437" y="673"/>
                  </a:lnTo>
                  <a:lnTo>
                    <a:pt x="1403" y="673"/>
                  </a:lnTo>
                  <a:lnTo>
                    <a:pt x="1368" y="673"/>
                  </a:lnTo>
                  <a:lnTo>
                    <a:pt x="1334" y="673"/>
                  </a:lnTo>
                  <a:lnTo>
                    <a:pt x="1301" y="673"/>
                  </a:lnTo>
                  <a:lnTo>
                    <a:pt x="1267" y="673"/>
                  </a:lnTo>
                  <a:lnTo>
                    <a:pt x="1234" y="673"/>
                  </a:lnTo>
                  <a:lnTo>
                    <a:pt x="1201" y="673"/>
                  </a:lnTo>
                  <a:lnTo>
                    <a:pt x="1168" y="673"/>
                  </a:lnTo>
                  <a:lnTo>
                    <a:pt x="1136" y="673"/>
                  </a:lnTo>
                  <a:lnTo>
                    <a:pt x="1103" y="673"/>
                  </a:lnTo>
                  <a:lnTo>
                    <a:pt x="1087" y="682"/>
                  </a:lnTo>
                  <a:lnTo>
                    <a:pt x="1086" y="702"/>
                  </a:lnTo>
                  <a:lnTo>
                    <a:pt x="1084" y="724"/>
                  </a:lnTo>
                  <a:lnTo>
                    <a:pt x="1067" y="737"/>
                  </a:lnTo>
                  <a:lnTo>
                    <a:pt x="1048" y="724"/>
                  </a:lnTo>
                  <a:lnTo>
                    <a:pt x="1030" y="715"/>
                  </a:lnTo>
                  <a:lnTo>
                    <a:pt x="1008" y="707"/>
                  </a:lnTo>
                  <a:lnTo>
                    <a:pt x="986" y="701"/>
                  </a:lnTo>
                  <a:lnTo>
                    <a:pt x="963" y="696"/>
                  </a:lnTo>
                  <a:lnTo>
                    <a:pt x="939" y="693"/>
                  </a:lnTo>
                  <a:lnTo>
                    <a:pt x="914" y="690"/>
                  </a:lnTo>
                  <a:lnTo>
                    <a:pt x="889" y="690"/>
                  </a:lnTo>
                  <a:lnTo>
                    <a:pt x="864" y="690"/>
                  </a:lnTo>
                  <a:lnTo>
                    <a:pt x="838" y="690"/>
                  </a:lnTo>
                  <a:lnTo>
                    <a:pt x="811" y="691"/>
                  </a:lnTo>
                  <a:lnTo>
                    <a:pt x="786" y="693"/>
                  </a:lnTo>
                  <a:lnTo>
                    <a:pt x="760" y="694"/>
                  </a:lnTo>
                  <a:lnTo>
                    <a:pt x="735" y="696"/>
                  </a:lnTo>
                  <a:lnTo>
                    <a:pt x="710" y="696"/>
                  </a:lnTo>
                  <a:lnTo>
                    <a:pt x="686" y="697"/>
                  </a:lnTo>
                  <a:lnTo>
                    <a:pt x="682" y="687"/>
                  </a:lnTo>
                  <a:lnTo>
                    <a:pt x="669" y="679"/>
                  </a:lnTo>
                  <a:lnTo>
                    <a:pt x="654" y="676"/>
                  </a:lnTo>
                  <a:lnTo>
                    <a:pt x="644" y="673"/>
                  </a:lnTo>
                  <a:lnTo>
                    <a:pt x="650" y="663"/>
                  </a:lnTo>
                  <a:lnTo>
                    <a:pt x="657" y="655"/>
                  </a:lnTo>
                  <a:lnTo>
                    <a:pt x="664" y="648"/>
                  </a:lnTo>
                  <a:lnTo>
                    <a:pt x="674" y="640"/>
                  </a:lnTo>
                  <a:lnTo>
                    <a:pt x="682" y="633"/>
                  </a:lnTo>
                  <a:lnTo>
                    <a:pt x="688" y="624"/>
                  </a:lnTo>
                  <a:lnTo>
                    <a:pt x="693" y="615"/>
                  </a:lnTo>
                  <a:lnTo>
                    <a:pt x="696" y="604"/>
                  </a:lnTo>
                  <a:lnTo>
                    <a:pt x="664" y="598"/>
                  </a:lnTo>
                  <a:lnTo>
                    <a:pt x="672" y="593"/>
                  </a:lnTo>
                  <a:lnTo>
                    <a:pt x="674" y="584"/>
                  </a:lnTo>
                  <a:lnTo>
                    <a:pt x="674" y="573"/>
                  </a:lnTo>
                  <a:lnTo>
                    <a:pt x="674" y="562"/>
                  </a:lnTo>
                  <a:lnTo>
                    <a:pt x="661" y="563"/>
                  </a:lnTo>
                  <a:lnTo>
                    <a:pt x="649" y="568"/>
                  </a:lnTo>
                  <a:lnTo>
                    <a:pt x="640" y="576"/>
                  </a:lnTo>
                  <a:lnTo>
                    <a:pt x="629" y="585"/>
                  </a:lnTo>
                  <a:lnTo>
                    <a:pt x="618" y="594"/>
                  </a:lnTo>
                  <a:lnTo>
                    <a:pt x="608" y="604"/>
                  </a:lnTo>
                  <a:lnTo>
                    <a:pt x="596" y="613"/>
                  </a:lnTo>
                  <a:lnTo>
                    <a:pt x="583" y="621"/>
                  </a:lnTo>
                  <a:lnTo>
                    <a:pt x="568" y="627"/>
                  </a:lnTo>
                  <a:lnTo>
                    <a:pt x="551" y="637"/>
                  </a:lnTo>
                  <a:lnTo>
                    <a:pt x="532" y="648"/>
                  </a:lnTo>
                  <a:lnTo>
                    <a:pt x="510" y="660"/>
                  </a:lnTo>
                  <a:lnTo>
                    <a:pt x="485" y="674"/>
                  </a:lnTo>
                  <a:lnTo>
                    <a:pt x="459" y="688"/>
                  </a:lnTo>
                  <a:lnTo>
                    <a:pt x="429" y="705"/>
                  </a:lnTo>
                  <a:lnTo>
                    <a:pt x="396" y="721"/>
                  </a:lnTo>
                  <a:lnTo>
                    <a:pt x="360" y="740"/>
                  </a:lnTo>
                  <a:lnTo>
                    <a:pt x="321" y="757"/>
                  </a:lnTo>
                  <a:lnTo>
                    <a:pt x="278" y="774"/>
                  </a:lnTo>
                  <a:lnTo>
                    <a:pt x="231" y="793"/>
                  </a:lnTo>
                  <a:lnTo>
                    <a:pt x="181" y="810"/>
                  </a:lnTo>
                  <a:lnTo>
                    <a:pt x="126" y="826"/>
                  </a:lnTo>
                  <a:lnTo>
                    <a:pt x="68" y="841"/>
                  </a:lnTo>
                  <a:lnTo>
                    <a:pt x="6" y="855"/>
                  </a:lnTo>
                  <a:lnTo>
                    <a:pt x="0" y="797"/>
                  </a:lnTo>
                  <a:lnTo>
                    <a:pt x="0" y="741"/>
                  </a:lnTo>
                  <a:lnTo>
                    <a:pt x="4" y="690"/>
                  </a:lnTo>
                  <a:lnTo>
                    <a:pt x="14" y="640"/>
                  </a:lnTo>
                  <a:lnTo>
                    <a:pt x="28" y="593"/>
                  </a:lnTo>
                  <a:lnTo>
                    <a:pt x="47" y="548"/>
                  </a:lnTo>
                  <a:lnTo>
                    <a:pt x="68" y="502"/>
                  </a:lnTo>
                  <a:lnTo>
                    <a:pt x="93" y="459"/>
                  </a:lnTo>
                  <a:lnTo>
                    <a:pt x="103" y="440"/>
                  </a:lnTo>
                  <a:lnTo>
                    <a:pt x="111" y="420"/>
                  </a:lnTo>
                  <a:lnTo>
                    <a:pt x="120" y="398"/>
                  </a:lnTo>
                  <a:lnTo>
                    <a:pt x="132" y="371"/>
                  </a:lnTo>
                  <a:lnTo>
                    <a:pt x="150" y="342"/>
                  </a:lnTo>
                  <a:lnTo>
                    <a:pt x="171" y="309"/>
                  </a:lnTo>
                  <a:lnTo>
                    <a:pt x="200" y="270"/>
                  </a:lnTo>
                  <a:lnTo>
                    <a:pt x="235" y="228"/>
                  </a:lnTo>
                  <a:lnTo>
                    <a:pt x="254" y="203"/>
                  </a:lnTo>
                  <a:lnTo>
                    <a:pt x="276" y="181"/>
                  </a:lnTo>
                  <a:lnTo>
                    <a:pt x="298" y="157"/>
                  </a:lnTo>
                  <a:lnTo>
                    <a:pt x="320" y="135"/>
                  </a:lnTo>
                  <a:lnTo>
                    <a:pt x="340" y="112"/>
                  </a:lnTo>
                  <a:lnTo>
                    <a:pt x="360" y="87"/>
                  </a:lnTo>
                  <a:lnTo>
                    <a:pt x="377" y="62"/>
                  </a:lnTo>
                  <a:lnTo>
                    <a:pt x="393" y="34"/>
                  </a:lnTo>
                  <a:lnTo>
                    <a:pt x="407" y="36"/>
                  </a:lnTo>
                  <a:lnTo>
                    <a:pt x="421" y="32"/>
                  </a:lnTo>
                  <a:lnTo>
                    <a:pt x="434" y="29"/>
                  </a:lnTo>
                  <a:lnTo>
                    <a:pt x="448" y="23"/>
                  </a:lnTo>
                  <a:lnTo>
                    <a:pt x="460" y="18"/>
                  </a:lnTo>
                  <a:lnTo>
                    <a:pt x="473" y="11"/>
                  </a:lnTo>
                  <a:lnTo>
                    <a:pt x="487" y="4"/>
                  </a:lnTo>
                  <a:lnTo>
                    <a:pt x="499" y="0"/>
                  </a:lnTo>
                  <a:lnTo>
                    <a:pt x="532" y="7"/>
                  </a:lnTo>
                  <a:lnTo>
                    <a:pt x="565" y="20"/>
                  </a:lnTo>
                  <a:lnTo>
                    <a:pt x="596" y="32"/>
                  </a:lnTo>
                  <a:lnTo>
                    <a:pt x="627" y="50"/>
                  </a:lnTo>
                  <a:lnTo>
                    <a:pt x="655" y="67"/>
                  </a:lnTo>
                  <a:lnTo>
                    <a:pt x="682" y="85"/>
                  </a:lnTo>
                  <a:lnTo>
                    <a:pt x="708" y="106"/>
                  </a:lnTo>
                  <a:lnTo>
                    <a:pt x="732" y="128"/>
                  </a:lnTo>
                  <a:lnTo>
                    <a:pt x="714" y="123"/>
                  </a:lnTo>
                  <a:lnTo>
                    <a:pt x="697" y="115"/>
                  </a:lnTo>
                  <a:lnTo>
                    <a:pt x="680" y="109"/>
                  </a:lnTo>
                  <a:lnTo>
                    <a:pt x="663" y="103"/>
                  </a:lnTo>
                  <a:lnTo>
                    <a:pt x="646" y="98"/>
                  </a:lnTo>
                  <a:lnTo>
                    <a:pt x="629" y="93"/>
                  </a:lnTo>
                  <a:lnTo>
                    <a:pt x="610" y="92"/>
                  </a:lnTo>
                  <a:lnTo>
                    <a:pt x="590" y="93"/>
                  </a:lnTo>
                  <a:lnTo>
                    <a:pt x="586" y="106"/>
                  </a:lnTo>
                  <a:lnTo>
                    <a:pt x="591" y="117"/>
                  </a:lnTo>
                  <a:lnTo>
                    <a:pt x="604" y="125"/>
                  </a:lnTo>
                  <a:lnTo>
                    <a:pt x="616" y="131"/>
                  </a:lnTo>
                  <a:lnTo>
                    <a:pt x="644" y="137"/>
                  </a:lnTo>
                  <a:lnTo>
                    <a:pt x="672" y="145"/>
                  </a:lnTo>
                  <a:lnTo>
                    <a:pt x="700" y="154"/>
                  </a:lnTo>
                  <a:lnTo>
                    <a:pt x="728" y="165"/>
                  </a:lnTo>
                  <a:lnTo>
                    <a:pt x="755" y="178"/>
                  </a:lnTo>
                  <a:lnTo>
                    <a:pt x="782" y="192"/>
                  </a:lnTo>
                  <a:lnTo>
                    <a:pt x="806" y="206"/>
                  </a:lnTo>
                  <a:lnTo>
                    <a:pt x="831" y="221"/>
                  </a:lnTo>
                  <a:lnTo>
                    <a:pt x="856" y="237"/>
                  </a:lnTo>
                  <a:lnTo>
                    <a:pt x="880" y="254"/>
                  </a:lnTo>
                  <a:lnTo>
                    <a:pt x="905" y="273"/>
                  </a:lnTo>
                  <a:lnTo>
                    <a:pt x="928" y="290"/>
                  </a:lnTo>
                  <a:lnTo>
                    <a:pt x="950" y="309"/>
                  </a:lnTo>
                  <a:lnTo>
                    <a:pt x="972" y="327"/>
                  </a:lnTo>
                  <a:lnTo>
                    <a:pt x="994" y="348"/>
                  </a:lnTo>
                  <a:lnTo>
                    <a:pt x="1016" y="367"/>
                  </a:lnTo>
                  <a:lnTo>
                    <a:pt x="1016" y="381"/>
                  </a:lnTo>
                  <a:lnTo>
                    <a:pt x="987" y="384"/>
                  </a:lnTo>
                  <a:lnTo>
                    <a:pt x="956" y="388"/>
                  </a:lnTo>
                  <a:lnTo>
                    <a:pt x="927" y="391"/>
                  </a:lnTo>
                  <a:lnTo>
                    <a:pt x="895" y="395"/>
                  </a:lnTo>
                  <a:lnTo>
                    <a:pt x="866" y="396"/>
                  </a:lnTo>
                  <a:lnTo>
                    <a:pt x="839" y="399"/>
                  </a:lnTo>
                  <a:lnTo>
                    <a:pt x="813" y="401"/>
                  </a:lnTo>
                  <a:lnTo>
                    <a:pt x="789" y="404"/>
                  </a:lnTo>
                  <a:lnTo>
                    <a:pt x="785" y="410"/>
                  </a:lnTo>
                  <a:lnTo>
                    <a:pt x="782" y="418"/>
                  </a:lnTo>
                  <a:lnTo>
                    <a:pt x="780" y="424"/>
                  </a:lnTo>
                  <a:lnTo>
                    <a:pt x="783" y="431"/>
                  </a:lnTo>
                  <a:lnTo>
                    <a:pt x="803" y="431"/>
                  </a:lnTo>
                  <a:lnTo>
                    <a:pt x="825" y="429"/>
                  </a:lnTo>
                  <a:lnTo>
                    <a:pt x="845" y="429"/>
                  </a:lnTo>
                  <a:lnTo>
                    <a:pt x="867" y="427"/>
                  </a:lnTo>
                  <a:lnTo>
                    <a:pt x="889" y="424"/>
                  </a:lnTo>
                  <a:lnTo>
                    <a:pt x="911" y="423"/>
                  </a:lnTo>
                  <a:lnTo>
                    <a:pt x="933" y="420"/>
                  </a:lnTo>
                  <a:lnTo>
                    <a:pt x="955" y="415"/>
                  </a:lnTo>
                  <a:lnTo>
                    <a:pt x="977" y="410"/>
                  </a:lnTo>
                  <a:lnTo>
                    <a:pt x="997" y="406"/>
                  </a:lnTo>
                  <a:lnTo>
                    <a:pt x="1017" y="399"/>
                  </a:lnTo>
                  <a:lnTo>
                    <a:pt x="1037" y="393"/>
                  </a:lnTo>
                  <a:lnTo>
                    <a:pt x="1058" y="385"/>
                  </a:lnTo>
                  <a:lnTo>
                    <a:pt x="1076" y="376"/>
                  </a:lnTo>
                  <a:lnTo>
                    <a:pt x="1095" y="367"/>
                  </a:lnTo>
                  <a:lnTo>
                    <a:pt x="1112" y="357"/>
                  </a:lnTo>
                  <a:lnTo>
                    <a:pt x="1131" y="360"/>
                  </a:lnTo>
                  <a:lnTo>
                    <a:pt x="1150" y="362"/>
                  </a:lnTo>
                  <a:lnTo>
                    <a:pt x="1170" y="365"/>
                  </a:lnTo>
                  <a:lnTo>
                    <a:pt x="1190" y="368"/>
                  </a:lnTo>
                  <a:lnTo>
                    <a:pt x="1211" y="373"/>
                  </a:lnTo>
                  <a:lnTo>
                    <a:pt x="1231" y="377"/>
                  </a:lnTo>
                  <a:lnTo>
                    <a:pt x="1251" y="384"/>
                  </a:lnTo>
                  <a:lnTo>
                    <a:pt x="1270" y="391"/>
                  </a:lnTo>
                  <a:lnTo>
                    <a:pt x="1289" y="399"/>
                  </a:lnTo>
                  <a:lnTo>
                    <a:pt x="1306" y="409"/>
                  </a:lnTo>
                  <a:lnTo>
                    <a:pt x="1321" y="420"/>
                  </a:lnTo>
                  <a:lnTo>
                    <a:pt x="1337" y="432"/>
                  </a:lnTo>
                  <a:lnTo>
                    <a:pt x="1349" y="446"/>
                  </a:lnTo>
                  <a:lnTo>
                    <a:pt x="1360" y="462"/>
                  </a:lnTo>
                  <a:lnTo>
                    <a:pt x="1368" y="480"/>
                  </a:lnTo>
                  <a:lnTo>
                    <a:pt x="1374" y="501"/>
                  </a:lnTo>
                  <a:lnTo>
                    <a:pt x="1382" y="529"/>
                  </a:lnTo>
                  <a:lnTo>
                    <a:pt x="1393" y="557"/>
                  </a:lnTo>
                  <a:lnTo>
                    <a:pt x="1399" y="587"/>
                  </a:lnTo>
                  <a:lnTo>
                    <a:pt x="1398" y="621"/>
                  </a:lnTo>
                  <a:lnTo>
                    <a:pt x="1345" y="613"/>
                  </a:lnTo>
                  <a:lnTo>
                    <a:pt x="1293" y="605"/>
                  </a:lnTo>
                  <a:lnTo>
                    <a:pt x="1242" y="596"/>
                  </a:lnTo>
                  <a:lnTo>
                    <a:pt x="1190" y="588"/>
                  </a:lnTo>
                  <a:lnTo>
                    <a:pt x="1140" y="579"/>
                  </a:lnTo>
                  <a:lnTo>
                    <a:pt x="1089" y="569"/>
                  </a:lnTo>
                  <a:lnTo>
                    <a:pt x="1039" y="560"/>
                  </a:lnTo>
                  <a:lnTo>
                    <a:pt x="989" y="549"/>
                  </a:lnTo>
                  <a:lnTo>
                    <a:pt x="939" y="538"/>
                  </a:lnTo>
                  <a:lnTo>
                    <a:pt x="891" y="529"/>
                  </a:lnTo>
                  <a:lnTo>
                    <a:pt x="841" y="518"/>
                  </a:lnTo>
                  <a:lnTo>
                    <a:pt x="791" y="505"/>
                  </a:lnTo>
                  <a:lnTo>
                    <a:pt x="741" y="495"/>
                  </a:lnTo>
                  <a:lnTo>
                    <a:pt x="691" y="482"/>
                  </a:lnTo>
                  <a:lnTo>
                    <a:pt x="641" y="468"/>
                  </a:lnTo>
                  <a:lnTo>
                    <a:pt x="590" y="456"/>
                  </a:lnTo>
                  <a:lnTo>
                    <a:pt x="574" y="451"/>
                  </a:lnTo>
                  <a:lnTo>
                    <a:pt x="558" y="441"/>
                  </a:lnTo>
                  <a:lnTo>
                    <a:pt x="543" y="432"/>
                  </a:lnTo>
                  <a:lnTo>
                    <a:pt x="527" y="423"/>
                  </a:lnTo>
                  <a:lnTo>
                    <a:pt x="512" y="415"/>
                  </a:lnTo>
                  <a:lnTo>
                    <a:pt x="494" y="409"/>
                  </a:lnTo>
                  <a:lnTo>
                    <a:pt x="477" y="406"/>
                  </a:lnTo>
                  <a:lnTo>
                    <a:pt x="460" y="407"/>
                  </a:lnTo>
                  <a:lnTo>
                    <a:pt x="485" y="427"/>
                  </a:lnTo>
                  <a:lnTo>
                    <a:pt x="512" y="446"/>
                  </a:lnTo>
                  <a:lnTo>
                    <a:pt x="538" y="463"/>
                  </a:lnTo>
                  <a:lnTo>
                    <a:pt x="566" y="479"/>
                  </a:lnTo>
                  <a:lnTo>
                    <a:pt x="596" y="493"/>
                  </a:lnTo>
                  <a:lnTo>
                    <a:pt x="624" y="504"/>
                  </a:lnTo>
                  <a:lnTo>
                    <a:pt x="654" y="516"/>
                  </a:lnTo>
                  <a:lnTo>
                    <a:pt x="685" y="526"/>
                  </a:lnTo>
                  <a:lnTo>
                    <a:pt x="714" y="535"/>
                  </a:lnTo>
                  <a:lnTo>
                    <a:pt x="746" y="544"/>
                  </a:lnTo>
                  <a:lnTo>
                    <a:pt x="777" y="554"/>
                  </a:lnTo>
                  <a:lnTo>
                    <a:pt x="806" y="563"/>
                  </a:lnTo>
                  <a:lnTo>
                    <a:pt x="838" y="571"/>
                  </a:lnTo>
                  <a:lnTo>
                    <a:pt x="869" y="580"/>
                  </a:lnTo>
                  <a:lnTo>
                    <a:pt x="900" y="590"/>
                  </a:lnTo>
                  <a:lnTo>
                    <a:pt x="931" y="601"/>
                  </a:lnTo>
                  <a:lnTo>
                    <a:pt x="959" y="605"/>
                  </a:lnTo>
                  <a:lnTo>
                    <a:pt x="987" y="612"/>
                  </a:lnTo>
                  <a:lnTo>
                    <a:pt x="1016" y="616"/>
                  </a:lnTo>
                  <a:lnTo>
                    <a:pt x="1045" y="623"/>
                  </a:lnTo>
                  <a:lnTo>
                    <a:pt x="1075" y="627"/>
                  </a:lnTo>
                  <a:lnTo>
                    <a:pt x="1105" y="632"/>
                  </a:lnTo>
                  <a:lnTo>
                    <a:pt x="1136" y="637"/>
                  </a:lnTo>
                  <a:lnTo>
                    <a:pt x="1165" y="641"/>
                  </a:lnTo>
                  <a:lnTo>
                    <a:pt x="1197" y="644"/>
                  </a:lnTo>
                  <a:lnTo>
                    <a:pt x="1228" y="649"/>
                  </a:lnTo>
                  <a:lnTo>
                    <a:pt x="1257" y="651"/>
                  </a:lnTo>
                  <a:lnTo>
                    <a:pt x="1289" y="652"/>
                  </a:lnTo>
                  <a:lnTo>
                    <a:pt x="1320" y="654"/>
                  </a:lnTo>
                  <a:lnTo>
                    <a:pt x="1349" y="654"/>
                  </a:lnTo>
                  <a:lnTo>
                    <a:pt x="1381" y="652"/>
                  </a:lnTo>
                  <a:lnTo>
                    <a:pt x="1410" y="649"/>
                  </a:lnTo>
                  <a:lnTo>
                    <a:pt x="1413" y="641"/>
                  </a:lnTo>
                  <a:lnTo>
                    <a:pt x="1415" y="637"/>
                  </a:lnTo>
                  <a:lnTo>
                    <a:pt x="1418" y="632"/>
                  </a:lnTo>
                  <a:lnTo>
                    <a:pt x="1423" y="630"/>
                  </a:lnTo>
                  <a:lnTo>
                    <a:pt x="1429" y="629"/>
                  </a:lnTo>
                  <a:lnTo>
                    <a:pt x="1437" y="630"/>
                  </a:lnTo>
                  <a:lnTo>
                    <a:pt x="1446" y="632"/>
                  </a:lnTo>
                  <a:lnTo>
                    <a:pt x="1457" y="635"/>
                  </a:lnTo>
                  <a:lnTo>
                    <a:pt x="1470" y="637"/>
                  </a:lnTo>
                  <a:lnTo>
                    <a:pt x="1485" y="637"/>
                  </a:lnTo>
                  <a:lnTo>
                    <a:pt x="1501" y="637"/>
                  </a:lnTo>
                  <a:lnTo>
                    <a:pt x="1520" y="632"/>
                  </a:lnTo>
                  <a:lnTo>
                    <a:pt x="1529" y="629"/>
                  </a:lnTo>
                  <a:lnTo>
                    <a:pt x="1537" y="626"/>
                  </a:lnTo>
                  <a:lnTo>
                    <a:pt x="1543" y="623"/>
                  </a:lnTo>
                  <a:lnTo>
                    <a:pt x="1552" y="616"/>
                  </a:lnTo>
                  <a:lnTo>
                    <a:pt x="1557" y="623"/>
                  </a:lnTo>
                  <a:lnTo>
                    <a:pt x="1565" y="627"/>
                  </a:lnTo>
                  <a:lnTo>
                    <a:pt x="1576" y="632"/>
                  </a:lnTo>
                  <a:lnTo>
                    <a:pt x="1587" y="633"/>
                  </a:lnTo>
                  <a:lnTo>
                    <a:pt x="1598" y="633"/>
                  </a:lnTo>
                  <a:lnTo>
                    <a:pt x="1610" y="633"/>
                  </a:lnTo>
                  <a:lnTo>
                    <a:pt x="1623" y="630"/>
                  </a:lnTo>
                  <a:lnTo>
                    <a:pt x="1635" y="627"/>
                  </a:lnTo>
                  <a:lnTo>
                    <a:pt x="1644" y="623"/>
                  </a:lnTo>
                  <a:lnTo>
                    <a:pt x="1654" y="619"/>
                  </a:lnTo>
                  <a:lnTo>
                    <a:pt x="1666" y="615"/>
                  </a:lnTo>
                  <a:lnTo>
                    <a:pt x="1679" y="610"/>
                  </a:lnTo>
                  <a:lnTo>
                    <a:pt x="1690" y="604"/>
                  </a:lnTo>
                  <a:lnTo>
                    <a:pt x="1702" y="599"/>
                  </a:lnTo>
                  <a:lnTo>
                    <a:pt x="1711" y="594"/>
                  </a:lnTo>
                  <a:lnTo>
                    <a:pt x="1721" y="588"/>
                  </a:lnTo>
                  <a:lnTo>
                    <a:pt x="1733" y="591"/>
                  </a:lnTo>
                  <a:lnTo>
                    <a:pt x="1744" y="590"/>
                  </a:lnTo>
                  <a:lnTo>
                    <a:pt x="1754" y="585"/>
                  </a:lnTo>
                  <a:lnTo>
                    <a:pt x="1763" y="579"/>
                  </a:lnTo>
                  <a:lnTo>
                    <a:pt x="1771" y="571"/>
                  </a:lnTo>
                  <a:lnTo>
                    <a:pt x="1779" y="562"/>
                  </a:lnTo>
                  <a:lnTo>
                    <a:pt x="1783" y="552"/>
                  </a:lnTo>
                  <a:lnTo>
                    <a:pt x="1786" y="543"/>
                  </a:lnTo>
                  <a:lnTo>
                    <a:pt x="1794" y="544"/>
                  </a:lnTo>
                  <a:lnTo>
                    <a:pt x="1804" y="546"/>
                  </a:lnTo>
                  <a:lnTo>
                    <a:pt x="1813" y="546"/>
                  </a:lnTo>
                  <a:lnTo>
                    <a:pt x="1822" y="544"/>
                  </a:lnTo>
                  <a:lnTo>
                    <a:pt x="1832" y="541"/>
                  </a:lnTo>
                  <a:lnTo>
                    <a:pt x="1838" y="535"/>
                  </a:lnTo>
                  <a:lnTo>
                    <a:pt x="1844" y="529"/>
                  </a:lnTo>
                  <a:lnTo>
                    <a:pt x="1847" y="520"/>
                  </a:lnTo>
                  <a:lnTo>
                    <a:pt x="1858" y="520"/>
                  </a:lnTo>
                  <a:lnTo>
                    <a:pt x="1869" y="520"/>
                  </a:lnTo>
                  <a:lnTo>
                    <a:pt x="1880" y="521"/>
                  </a:lnTo>
                  <a:lnTo>
                    <a:pt x="1889" y="521"/>
                  </a:lnTo>
                  <a:lnTo>
                    <a:pt x="1899" y="523"/>
                  </a:lnTo>
                  <a:lnTo>
                    <a:pt x="1906" y="524"/>
                  </a:lnTo>
                  <a:lnTo>
                    <a:pt x="1914" y="524"/>
                  </a:lnTo>
                  <a:lnTo>
                    <a:pt x="1921" y="524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938160" y="5086080"/>
              <a:ext cx="54000" cy="61920"/>
            </a:xfrm>
            <a:custGeom>
              <a:avLst/>
              <a:gdLst/>
              <a:ahLst/>
              <a:rect l="l" t="t" r="r" b="b"/>
              <a:pathLst>
                <a:path w="67" h="78">
                  <a:moveTo>
                    <a:pt x="66" y="17"/>
                  </a:moveTo>
                  <a:lnTo>
                    <a:pt x="42" y="21"/>
                  </a:lnTo>
                  <a:lnTo>
                    <a:pt x="30" y="37"/>
                  </a:lnTo>
                  <a:lnTo>
                    <a:pt x="24" y="57"/>
                  </a:lnTo>
                  <a:lnTo>
                    <a:pt x="21" y="78"/>
                  </a:lnTo>
                  <a:lnTo>
                    <a:pt x="0" y="71"/>
                  </a:lnTo>
                  <a:lnTo>
                    <a:pt x="6" y="53"/>
                  </a:lnTo>
                  <a:lnTo>
                    <a:pt x="14" y="34"/>
                  </a:lnTo>
                  <a:lnTo>
                    <a:pt x="24" y="17"/>
                  </a:lnTo>
                  <a:lnTo>
                    <a:pt x="36" y="1"/>
                  </a:lnTo>
                  <a:lnTo>
                    <a:pt x="47" y="3"/>
                  </a:lnTo>
                  <a:lnTo>
                    <a:pt x="60" y="0"/>
                  </a:lnTo>
                  <a:lnTo>
                    <a:pt x="67" y="3"/>
                  </a:lnTo>
                  <a:lnTo>
                    <a:pt x="66" y="17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1650960" y="5182920"/>
              <a:ext cx="57240" cy="19080"/>
            </a:xfrm>
            <a:custGeom>
              <a:avLst/>
              <a:gdLst/>
              <a:ahLst/>
              <a:rect l="l" t="t" r="r" b="b"/>
              <a:pathLst>
                <a:path w="72" h="25">
                  <a:moveTo>
                    <a:pt x="72" y="11"/>
                  </a:moveTo>
                  <a:lnTo>
                    <a:pt x="65" y="18"/>
                  </a:lnTo>
                  <a:lnTo>
                    <a:pt x="58" y="22"/>
                  </a:lnTo>
                  <a:lnTo>
                    <a:pt x="50" y="24"/>
                  </a:lnTo>
                  <a:lnTo>
                    <a:pt x="41" y="25"/>
                  </a:lnTo>
                  <a:lnTo>
                    <a:pt x="31" y="25"/>
                  </a:lnTo>
                  <a:lnTo>
                    <a:pt x="20" y="25"/>
                  </a:lnTo>
                  <a:lnTo>
                    <a:pt x="9" y="24"/>
                  </a:lnTo>
                  <a:lnTo>
                    <a:pt x="0" y="22"/>
                  </a:lnTo>
                  <a:lnTo>
                    <a:pt x="3" y="2"/>
                  </a:lnTo>
                  <a:lnTo>
                    <a:pt x="12" y="0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48" y="2"/>
                  </a:lnTo>
                  <a:lnTo>
                    <a:pt x="56" y="3"/>
                  </a:lnTo>
                  <a:lnTo>
                    <a:pt x="64" y="7"/>
                  </a:lnTo>
                  <a:lnTo>
                    <a:pt x="72" y="11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1515960" y="5207040"/>
              <a:ext cx="208080" cy="326880"/>
            </a:xfrm>
            <a:custGeom>
              <a:avLst/>
              <a:gdLst/>
              <a:ahLst/>
              <a:rect l="l" t="t" r="r" b="b"/>
              <a:pathLst>
                <a:path w="262" h="410">
                  <a:moveTo>
                    <a:pt x="262" y="18"/>
                  </a:moveTo>
                  <a:lnTo>
                    <a:pt x="252" y="70"/>
                  </a:lnTo>
                  <a:lnTo>
                    <a:pt x="239" y="123"/>
                  </a:lnTo>
                  <a:lnTo>
                    <a:pt x="227" y="174"/>
                  </a:lnTo>
                  <a:lnTo>
                    <a:pt x="213" y="228"/>
                  </a:lnTo>
                  <a:lnTo>
                    <a:pt x="195" y="277"/>
                  </a:lnTo>
                  <a:lnTo>
                    <a:pt x="175" y="324"/>
                  </a:lnTo>
                  <a:lnTo>
                    <a:pt x="152" y="368"/>
                  </a:lnTo>
                  <a:lnTo>
                    <a:pt x="124" y="409"/>
                  </a:lnTo>
                  <a:lnTo>
                    <a:pt x="108" y="410"/>
                  </a:lnTo>
                  <a:lnTo>
                    <a:pt x="92" y="409"/>
                  </a:lnTo>
                  <a:lnTo>
                    <a:pt x="77" y="406"/>
                  </a:lnTo>
                  <a:lnTo>
                    <a:pt x="63" y="399"/>
                  </a:lnTo>
                  <a:lnTo>
                    <a:pt x="47" y="393"/>
                  </a:lnTo>
                  <a:lnTo>
                    <a:pt x="33" y="388"/>
                  </a:lnTo>
                  <a:lnTo>
                    <a:pt x="17" y="384"/>
                  </a:lnTo>
                  <a:lnTo>
                    <a:pt x="0" y="381"/>
                  </a:lnTo>
                  <a:lnTo>
                    <a:pt x="5" y="362"/>
                  </a:lnTo>
                  <a:lnTo>
                    <a:pt x="13" y="343"/>
                  </a:lnTo>
                  <a:lnTo>
                    <a:pt x="22" y="324"/>
                  </a:lnTo>
                  <a:lnTo>
                    <a:pt x="32" y="306"/>
                  </a:lnTo>
                  <a:lnTo>
                    <a:pt x="39" y="285"/>
                  </a:lnTo>
                  <a:lnTo>
                    <a:pt x="44" y="262"/>
                  </a:lnTo>
                  <a:lnTo>
                    <a:pt x="42" y="238"/>
                  </a:lnTo>
                  <a:lnTo>
                    <a:pt x="35" y="212"/>
                  </a:lnTo>
                  <a:lnTo>
                    <a:pt x="27" y="199"/>
                  </a:lnTo>
                  <a:lnTo>
                    <a:pt x="22" y="187"/>
                  </a:lnTo>
                  <a:lnTo>
                    <a:pt x="21" y="174"/>
                  </a:lnTo>
                  <a:lnTo>
                    <a:pt x="21" y="160"/>
                  </a:lnTo>
                  <a:lnTo>
                    <a:pt x="25" y="123"/>
                  </a:lnTo>
                  <a:lnTo>
                    <a:pt x="30" y="70"/>
                  </a:lnTo>
                  <a:lnTo>
                    <a:pt x="36" y="21"/>
                  </a:lnTo>
                  <a:lnTo>
                    <a:pt x="38" y="0"/>
                  </a:lnTo>
                  <a:lnTo>
                    <a:pt x="64" y="7"/>
                  </a:lnTo>
                  <a:lnTo>
                    <a:pt x="92" y="12"/>
                  </a:lnTo>
                  <a:lnTo>
                    <a:pt x="120" y="15"/>
                  </a:lnTo>
                  <a:lnTo>
                    <a:pt x="150" y="15"/>
                  </a:lnTo>
                  <a:lnTo>
                    <a:pt x="180" y="14"/>
                  </a:lnTo>
                  <a:lnTo>
                    <a:pt x="208" y="14"/>
                  </a:lnTo>
                  <a:lnTo>
                    <a:pt x="236" y="15"/>
                  </a:lnTo>
                  <a:lnTo>
                    <a:pt x="262" y="18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1454040" y="5359320"/>
              <a:ext cx="68400" cy="136440"/>
            </a:xfrm>
            <a:custGeom>
              <a:avLst/>
              <a:gdLst/>
              <a:ahLst/>
              <a:rect l="l" t="t" r="r" b="b"/>
              <a:pathLst>
                <a:path w="86" h="173">
                  <a:moveTo>
                    <a:pt x="75" y="136"/>
                  </a:moveTo>
                  <a:lnTo>
                    <a:pt x="69" y="144"/>
                  </a:lnTo>
                  <a:lnTo>
                    <a:pt x="61" y="150"/>
                  </a:lnTo>
                  <a:lnTo>
                    <a:pt x="53" y="156"/>
                  </a:lnTo>
                  <a:lnTo>
                    <a:pt x="46" y="162"/>
                  </a:lnTo>
                  <a:lnTo>
                    <a:pt x="35" y="167"/>
                  </a:lnTo>
                  <a:lnTo>
                    <a:pt x="25" y="172"/>
                  </a:lnTo>
                  <a:lnTo>
                    <a:pt x="13" y="173"/>
                  </a:lnTo>
                  <a:lnTo>
                    <a:pt x="0" y="173"/>
                  </a:lnTo>
                  <a:lnTo>
                    <a:pt x="11" y="155"/>
                  </a:lnTo>
                  <a:lnTo>
                    <a:pt x="22" y="134"/>
                  </a:lnTo>
                  <a:lnTo>
                    <a:pt x="33" y="112"/>
                  </a:lnTo>
                  <a:lnTo>
                    <a:pt x="42" y="91"/>
                  </a:lnTo>
                  <a:lnTo>
                    <a:pt x="50" y="67"/>
                  </a:lnTo>
                  <a:lnTo>
                    <a:pt x="55" y="45"/>
                  </a:lnTo>
                  <a:lnTo>
                    <a:pt x="56" y="22"/>
                  </a:lnTo>
                  <a:lnTo>
                    <a:pt x="55" y="0"/>
                  </a:lnTo>
                  <a:lnTo>
                    <a:pt x="74" y="33"/>
                  </a:lnTo>
                  <a:lnTo>
                    <a:pt x="85" y="64"/>
                  </a:lnTo>
                  <a:lnTo>
                    <a:pt x="86" y="97"/>
                  </a:lnTo>
                  <a:lnTo>
                    <a:pt x="75" y="13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925560" y="5495760"/>
              <a:ext cx="131760" cy="28800"/>
            </a:xfrm>
            <a:custGeom>
              <a:avLst/>
              <a:gdLst/>
              <a:ahLst/>
              <a:rect l="l" t="t" r="r" b="b"/>
              <a:pathLst>
                <a:path w="165" h="36">
                  <a:moveTo>
                    <a:pt x="160" y="3"/>
                  </a:moveTo>
                  <a:lnTo>
                    <a:pt x="165" y="14"/>
                  </a:lnTo>
                  <a:lnTo>
                    <a:pt x="165" y="27"/>
                  </a:lnTo>
                  <a:lnTo>
                    <a:pt x="159" y="35"/>
                  </a:lnTo>
                  <a:lnTo>
                    <a:pt x="148" y="36"/>
                  </a:lnTo>
                  <a:lnTo>
                    <a:pt x="3" y="27"/>
                  </a:lnTo>
                  <a:lnTo>
                    <a:pt x="0" y="19"/>
                  </a:lnTo>
                  <a:lnTo>
                    <a:pt x="1" y="8"/>
                  </a:lnTo>
                  <a:lnTo>
                    <a:pt x="6" y="2"/>
                  </a:lnTo>
                  <a:lnTo>
                    <a:pt x="15" y="0"/>
                  </a:lnTo>
                  <a:lnTo>
                    <a:pt x="160" y="3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1400040" y="5511600"/>
              <a:ext cx="20520" cy="158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5" y="6"/>
                  </a:moveTo>
                  <a:lnTo>
                    <a:pt x="20" y="11"/>
                  </a:lnTo>
                  <a:lnTo>
                    <a:pt x="17" y="17"/>
                  </a:lnTo>
                  <a:lnTo>
                    <a:pt x="11" y="18"/>
                  </a:lnTo>
                  <a:lnTo>
                    <a:pt x="3" y="15"/>
                  </a:lnTo>
                  <a:lnTo>
                    <a:pt x="0" y="3"/>
                  </a:lnTo>
                  <a:lnTo>
                    <a:pt x="6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698400" y="5641920"/>
              <a:ext cx="237960" cy="33120"/>
            </a:xfrm>
            <a:custGeom>
              <a:avLst/>
              <a:gdLst/>
              <a:ahLst/>
              <a:rect l="l" t="t" r="r" b="b"/>
              <a:pathLst>
                <a:path w="299" h="44">
                  <a:moveTo>
                    <a:pt x="299" y="9"/>
                  </a:moveTo>
                  <a:lnTo>
                    <a:pt x="291" y="20"/>
                  </a:lnTo>
                  <a:lnTo>
                    <a:pt x="282" y="27"/>
                  </a:lnTo>
                  <a:lnTo>
                    <a:pt x="269" y="30"/>
                  </a:lnTo>
                  <a:lnTo>
                    <a:pt x="257" y="31"/>
                  </a:lnTo>
                  <a:lnTo>
                    <a:pt x="243" y="33"/>
                  </a:lnTo>
                  <a:lnTo>
                    <a:pt x="229" y="33"/>
                  </a:lnTo>
                  <a:lnTo>
                    <a:pt x="216" y="33"/>
                  </a:lnTo>
                  <a:lnTo>
                    <a:pt x="205" y="36"/>
                  </a:lnTo>
                  <a:lnTo>
                    <a:pt x="191" y="41"/>
                  </a:lnTo>
                  <a:lnTo>
                    <a:pt x="177" y="42"/>
                  </a:lnTo>
                  <a:lnTo>
                    <a:pt x="162" y="44"/>
                  </a:lnTo>
                  <a:lnTo>
                    <a:pt x="145" y="42"/>
                  </a:lnTo>
                  <a:lnTo>
                    <a:pt x="131" y="42"/>
                  </a:lnTo>
                  <a:lnTo>
                    <a:pt x="115" y="39"/>
                  </a:lnTo>
                  <a:lnTo>
                    <a:pt x="103" y="37"/>
                  </a:lnTo>
                  <a:lnTo>
                    <a:pt x="93" y="36"/>
                  </a:lnTo>
                  <a:lnTo>
                    <a:pt x="84" y="36"/>
                  </a:lnTo>
                  <a:lnTo>
                    <a:pt x="71" y="39"/>
                  </a:lnTo>
                  <a:lnTo>
                    <a:pt x="59" y="41"/>
                  </a:lnTo>
                  <a:lnTo>
                    <a:pt x="46" y="42"/>
                  </a:lnTo>
                  <a:lnTo>
                    <a:pt x="34" y="44"/>
                  </a:lnTo>
                  <a:lnTo>
                    <a:pt x="21" y="44"/>
                  </a:lnTo>
                  <a:lnTo>
                    <a:pt x="10" y="41"/>
                  </a:lnTo>
                  <a:lnTo>
                    <a:pt x="0" y="36"/>
                  </a:lnTo>
                  <a:lnTo>
                    <a:pt x="0" y="20"/>
                  </a:lnTo>
                  <a:lnTo>
                    <a:pt x="15" y="17"/>
                  </a:lnTo>
                  <a:lnTo>
                    <a:pt x="32" y="14"/>
                  </a:lnTo>
                  <a:lnTo>
                    <a:pt x="48" y="13"/>
                  </a:lnTo>
                  <a:lnTo>
                    <a:pt x="65" y="13"/>
                  </a:lnTo>
                  <a:lnTo>
                    <a:pt x="81" y="13"/>
                  </a:lnTo>
                  <a:lnTo>
                    <a:pt x="98" y="13"/>
                  </a:lnTo>
                  <a:lnTo>
                    <a:pt x="115" y="14"/>
                  </a:lnTo>
                  <a:lnTo>
                    <a:pt x="132" y="14"/>
                  </a:lnTo>
                  <a:lnTo>
                    <a:pt x="148" y="16"/>
                  </a:lnTo>
                  <a:lnTo>
                    <a:pt x="165" y="16"/>
                  </a:lnTo>
                  <a:lnTo>
                    <a:pt x="182" y="16"/>
                  </a:lnTo>
                  <a:lnTo>
                    <a:pt x="199" y="16"/>
                  </a:lnTo>
                  <a:lnTo>
                    <a:pt x="216" y="13"/>
                  </a:lnTo>
                  <a:lnTo>
                    <a:pt x="234" y="11"/>
                  </a:lnTo>
                  <a:lnTo>
                    <a:pt x="251" y="6"/>
                  </a:lnTo>
                  <a:lnTo>
                    <a:pt x="268" y="0"/>
                  </a:lnTo>
                  <a:lnTo>
                    <a:pt x="299" y="9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606240" y="5654520"/>
              <a:ext cx="412920" cy="130320"/>
            </a:xfrm>
            <a:custGeom>
              <a:avLst/>
              <a:gdLst/>
              <a:ahLst/>
              <a:rect l="l" t="t" r="r" b="b"/>
              <a:pathLst>
                <a:path w="520" h="164">
                  <a:moveTo>
                    <a:pt x="520" y="3"/>
                  </a:moveTo>
                  <a:lnTo>
                    <a:pt x="504" y="20"/>
                  </a:lnTo>
                  <a:lnTo>
                    <a:pt x="482" y="35"/>
                  </a:lnTo>
                  <a:lnTo>
                    <a:pt x="459" y="47"/>
                  </a:lnTo>
                  <a:lnTo>
                    <a:pt x="431" y="56"/>
                  </a:lnTo>
                  <a:lnTo>
                    <a:pt x="403" y="66"/>
                  </a:lnTo>
                  <a:lnTo>
                    <a:pt x="373" y="75"/>
                  </a:lnTo>
                  <a:lnTo>
                    <a:pt x="345" y="83"/>
                  </a:lnTo>
                  <a:lnTo>
                    <a:pt x="318" y="94"/>
                  </a:lnTo>
                  <a:lnTo>
                    <a:pt x="298" y="102"/>
                  </a:lnTo>
                  <a:lnTo>
                    <a:pt x="278" y="108"/>
                  </a:lnTo>
                  <a:lnTo>
                    <a:pt x="258" y="113"/>
                  </a:lnTo>
                  <a:lnTo>
                    <a:pt x="237" y="119"/>
                  </a:lnTo>
                  <a:lnTo>
                    <a:pt x="219" y="124"/>
                  </a:lnTo>
                  <a:lnTo>
                    <a:pt x="200" y="127"/>
                  </a:lnTo>
                  <a:lnTo>
                    <a:pt x="181" y="131"/>
                  </a:lnTo>
                  <a:lnTo>
                    <a:pt x="162" y="134"/>
                  </a:lnTo>
                  <a:lnTo>
                    <a:pt x="144" y="138"/>
                  </a:lnTo>
                  <a:lnTo>
                    <a:pt x="125" y="141"/>
                  </a:lnTo>
                  <a:lnTo>
                    <a:pt x="106" y="144"/>
                  </a:lnTo>
                  <a:lnTo>
                    <a:pt x="87" y="147"/>
                  </a:lnTo>
                  <a:lnTo>
                    <a:pt x="69" y="152"/>
                  </a:lnTo>
                  <a:lnTo>
                    <a:pt x="50" y="155"/>
                  </a:lnTo>
                  <a:lnTo>
                    <a:pt x="31" y="159"/>
                  </a:lnTo>
                  <a:lnTo>
                    <a:pt x="13" y="164"/>
                  </a:lnTo>
                  <a:lnTo>
                    <a:pt x="0" y="149"/>
                  </a:lnTo>
                  <a:lnTo>
                    <a:pt x="31" y="141"/>
                  </a:lnTo>
                  <a:lnTo>
                    <a:pt x="64" y="131"/>
                  </a:lnTo>
                  <a:lnTo>
                    <a:pt x="97" y="124"/>
                  </a:lnTo>
                  <a:lnTo>
                    <a:pt x="128" y="116"/>
                  </a:lnTo>
                  <a:lnTo>
                    <a:pt x="161" y="108"/>
                  </a:lnTo>
                  <a:lnTo>
                    <a:pt x="192" y="100"/>
                  </a:lnTo>
                  <a:lnTo>
                    <a:pt x="223" y="92"/>
                  </a:lnTo>
                  <a:lnTo>
                    <a:pt x="256" y="83"/>
                  </a:lnTo>
                  <a:lnTo>
                    <a:pt x="287" y="75"/>
                  </a:lnTo>
                  <a:lnTo>
                    <a:pt x="318" y="66"/>
                  </a:lnTo>
                  <a:lnTo>
                    <a:pt x="350" y="56"/>
                  </a:lnTo>
                  <a:lnTo>
                    <a:pt x="381" y="47"/>
                  </a:lnTo>
                  <a:lnTo>
                    <a:pt x="410" y="36"/>
                  </a:lnTo>
                  <a:lnTo>
                    <a:pt x="440" y="25"/>
                  </a:lnTo>
                  <a:lnTo>
                    <a:pt x="470" y="13"/>
                  </a:lnTo>
                  <a:lnTo>
                    <a:pt x="499" y="0"/>
                  </a:lnTo>
                  <a:lnTo>
                    <a:pt x="520" y="3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577800" y="5734080"/>
              <a:ext cx="504720" cy="218880"/>
            </a:xfrm>
            <a:custGeom>
              <a:avLst/>
              <a:gdLst/>
              <a:ahLst/>
              <a:rect l="l" t="t" r="r" b="b"/>
              <a:pathLst>
                <a:path w="635" h="276">
                  <a:moveTo>
                    <a:pt x="635" y="0"/>
                  </a:moveTo>
                  <a:lnTo>
                    <a:pt x="601" y="25"/>
                  </a:lnTo>
                  <a:lnTo>
                    <a:pt x="565" y="49"/>
                  </a:lnTo>
                  <a:lnTo>
                    <a:pt x="528" y="72"/>
                  </a:lnTo>
                  <a:lnTo>
                    <a:pt x="492" y="94"/>
                  </a:lnTo>
                  <a:lnTo>
                    <a:pt x="453" y="114"/>
                  </a:lnTo>
                  <a:lnTo>
                    <a:pt x="415" y="134"/>
                  </a:lnTo>
                  <a:lnTo>
                    <a:pt x="376" y="153"/>
                  </a:lnTo>
                  <a:lnTo>
                    <a:pt x="336" y="170"/>
                  </a:lnTo>
                  <a:lnTo>
                    <a:pt x="295" y="187"/>
                  </a:lnTo>
                  <a:lnTo>
                    <a:pt x="255" y="203"/>
                  </a:lnTo>
                  <a:lnTo>
                    <a:pt x="214" y="219"/>
                  </a:lnTo>
                  <a:lnTo>
                    <a:pt x="172" y="231"/>
                  </a:lnTo>
                  <a:lnTo>
                    <a:pt x="130" y="245"/>
                  </a:lnTo>
                  <a:lnTo>
                    <a:pt x="86" y="256"/>
                  </a:lnTo>
                  <a:lnTo>
                    <a:pt x="44" y="267"/>
                  </a:lnTo>
                  <a:lnTo>
                    <a:pt x="0" y="276"/>
                  </a:lnTo>
                  <a:lnTo>
                    <a:pt x="0" y="261"/>
                  </a:lnTo>
                  <a:lnTo>
                    <a:pt x="28" y="261"/>
                  </a:lnTo>
                  <a:lnTo>
                    <a:pt x="55" y="258"/>
                  </a:lnTo>
                  <a:lnTo>
                    <a:pt x="78" y="250"/>
                  </a:lnTo>
                  <a:lnTo>
                    <a:pt x="102" y="242"/>
                  </a:lnTo>
                  <a:lnTo>
                    <a:pt x="127" y="233"/>
                  </a:lnTo>
                  <a:lnTo>
                    <a:pt x="150" y="223"/>
                  </a:lnTo>
                  <a:lnTo>
                    <a:pt x="175" y="216"/>
                  </a:lnTo>
                  <a:lnTo>
                    <a:pt x="203" y="209"/>
                  </a:lnTo>
                  <a:lnTo>
                    <a:pt x="233" y="197"/>
                  </a:lnTo>
                  <a:lnTo>
                    <a:pt x="262" y="184"/>
                  </a:lnTo>
                  <a:lnTo>
                    <a:pt x="292" y="173"/>
                  </a:lnTo>
                  <a:lnTo>
                    <a:pt x="320" y="161"/>
                  </a:lnTo>
                  <a:lnTo>
                    <a:pt x="348" y="148"/>
                  </a:lnTo>
                  <a:lnTo>
                    <a:pt x="376" y="136"/>
                  </a:lnTo>
                  <a:lnTo>
                    <a:pt x="403" y="122"/>
                  </a:lnTo>
                  <a:lnTo>
                    <a:pt x="431" y="109"/>
                  </a:lnTo>
                  <a:lnTo>
                    <a:pt x="457" y="97"/>
                  </a:lnTo>
                  <a:lnTo>
                    <a:pt x="482" y="83"/>
                  </a:lnTo>
                  <a:lnTo>
                    <a:pt x="509" y="70"/>
                  </a:lnTo>
                  <a:lnTo>
                    <a:pt x="534" y="56"/>
                  </a:lnTo>
                  <a:lnTo>
                    <a:pt x="560" y="42"/>
                  </a:lnTo>
                  <a:lnTo>
                    <a:pt x="585" y="28"/>
                  </a:lnTo>
                  <a:lnTo>
                    <a:pt x="610" y="14"/>
                  </a:lnTo>
                  <a:lnTo>
                    <a:pt x="635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581040" y="5788080"/>
              <a:ext cx="839520" cy="506160"/>
            </a:xfrm>
            <a:custGeom>
              <a:avLst/>
              <a:gdLst/>
              <a:ahLst/>
              <a:rect l="l" t="t" r="r" b="b"/>
              <a:pathLst>
                <a:path w="1058" h="639">
                  <a:moveTo>
                    <a:pt x="613" y="16"/>
                  </a:moveTo>
                  <a:lnTo>
                    <a:pt x="599" y="28"/>
                  </a:lnTo>
                  <a:lnTo>
                    <a:pt x="585" y="39"/>
                  </a:lnTo>
                  <a:lnTo>
                    <a:pt x="568" y="50"/>
                  </a:lnTo>
                  <a:lnTo>
                    <a:pt x="551" y="60"/>
                  </a:lnTo>
                  <a:lnTo>
                    <a:pt x="534" y="69"/>
                  </a:lnTo>
                  <a:lnTo>
                    <a:pt x="518" y="80"/>
                  </a:lnTo>
                  <a:lnTo>
                    <a:pt x="504" y="91"/>
                  </a:lnTo>
                  <a:lnTo>
                    <a:pt x="493" y="103"/>
                  </a:lnTo>
                  <a:lnTo>
                    <a:pt x="482" y="110"/>
                  </a:lnTo>
                  <a:lnTo>
                    <a:pt x="470" y="114"/>
                  </a:lnTo>
                  <a:lnTo>
                    <a:pt x="461" y="122"/>
                  </a:lnTo>
                  <a:lnTo>
                    <a:pt x="459" y="136"/>
                  </a:lnTo>
                  <a:lnTo>
                    <a:pt x="459" y="142"/>
                  </a:lnTo>
                  <a:lnTo>
                    <a:pt x="461" y="147"/>
                  </a:lnTo>
                  <a:lnTo>
                    <a:pt x="465" y="152"/>
                  </a:lnTo>
                  <a:lnTo>
                    <a:pt x="472" y="155"/>
                  </a:lnTo>
                  <a:lnTo>
                    <a:pt x="490" y="136"/>
                  </a:lnTo>
                  <a:lnTo>
                    <a:pt x="512" y="119"/>
                  </a:lnTo>
                  <a:lnTo>
                    <a:pt x="534" y="103"/>
                  </a:lnTo>
                  <a:lnTo>
                    <a:pt x="557" y="88"/>
                  </a:lnTo>
                  <a:lnTo>
                    <a:pt x="579" y="74"/>
                  </a:lnTo>
                  <a:lnTo>
                    <a:pt x="601" y="60"/>
                  </a:lnTo>
                  <a:lnTo>
                    <a:pt x="623" y="44"/>
                  </a:lnTo>
                  <a:lnTo>
                    <a:pt x="642" y="27"/>
                  </a:lnTo>
                  <a:lnTo>
                    <a:pt x="648" y="33"/>
                  </a:lnTo>
                  <a:lnTo>
                    <a:pt x="656" y="38"/>
                  </a:lnTo>
                  <a:lnTo>
                    <a:pt x="663" y="41"/>
                  </a:lnTo>
                  <a:lnTo>
                    <a:pt x="673" y="42"/>
                  </a:lnTo>
                  <a:lnTo>
                    <a:pt x="682" y="44"/>
                  </a:lnTo>
                  <a:lnTo>
                    <a:pt x="692" y="42"/>
                  </a:lnTo>
                  <a:lnTo>
                    <a:pt x="701" y="41"/>
                  </a:lnTo>
                  <a:lnTo>
                    <a:pt x="710" y="36"/>
                  </a:lnTo>
                  <a:lnTo>
                    <a:pt x="732" y="36"/>
                  </a:lnTo>
                  <a:lnTo>
                    <a:pt x="752" y="36"/>
                  </a:lnTo>
                  <a:lnTo>
                    <a:pt x="774" y="36"/>
                  </a:lnTo>
                  <a:lnTo>
                    <a:pt x="796" y="36"/>
                  </a:lnTo>
                  <a:lnTo>
                    <a:pt x="818" y="36"/>
                  </a:lnTo>
                  <a:lnTo>
                    <a:pt x="840" y="36"/>
                  </a:lnTo>
                  <a:lnTo>
                    <a:pt x="862" y="36"/>
                  </a:lnTo>
                  <a:lnTo>
                    <a:pt x="883" y="36"/>
                  </a:lnTo>
                  <a:lnTo>
                    <a:pt x="905" y="36"/>
                  </a:lnTo>
                  <a:lnTo>
                    <a:pt x="927" y="38"/>
                  </a:lnTo>
                  <a:lnTo>
                    <a:pt x="949" y="39"/>
                  </a:lnTo>
                  <a:lnTo>
                    <a:pt x="971" y="42"/>
                  </a:lnTo>
                  <a:lnTo>
                    <a:pt x="993" y="46"/>
                  </a:lnTo>
                  <a:lnTo>
                    <a:pt x="1014" y="50"/>
                  </a:lnTo>
                  <a:lnTo>
                    <a:pt x="1036" y="55"/>
                  </a:lnTo>
                  <a:lnTo>
                    <a:pt x="1058" y="61"/>
                  </a:lnTo>
                  <a:lnTo>
                    <a:pt x="1046" y="124"/>
                  </a:lnTo>
                  <a:lnTo>
                    <a:pt x="1029" y="202"/>
                  </a:lnTo>
                  <a:lnTo>
                    <a:pt x="1010" y="291"/>
                  </a:lnTo>
                  <a:lnTo>
                    <a:pt x="991" y="381"/>
                  </a:lnTo>
                  <a:lnTo>
                    <a:pt x="971" y="469"/>
                  </a:lnTo>
                  <a:lnTo>
                    <a:pt x="955" y="545"/>
                  </a:lnTo>
                  <a:lnTo>
                    <a:pt x="941" y="604"/>
                  </a:lnTo>
                  <a:lnTo>
                    <a:pt x="932" y="639"/>
                  </a:lnTo>
                  <a:lnTo>
                    <a:pt x="916" y="639"/>
                  </a:lnTo>
                  <a:lnTo>
                    <a:pt x="899" y="612"/>
                  </a:lnTo>
                  <a:lnTo>
                    <a:pt x="880" y="587"/>
                  </a:lnTo>
                  <a:lnTo>
                    <a:pt x="862" y="562"/>
                  </a:lnTo>
                  <a:lnTo>
                    <a:pt x="841" y="540"/>
                  </a:lnTo>
                  <a:lnTo>
                    <a:pt x="821" y="520"/>
                  </a:lnTo>
                  <a:lnTo>
                    <a:pt x="799" y="500"/>
                  </a:lnTo>
                  <a:lnTo>
                    <a:pt x="776" y="483"/>
                  </a:lnTo>
                  <a:lnTo>
                    <a:pt x="752" y="465"/>
                  </a:lnTo>
                  <a:lnTo>
                    <a:pt x="754" y="455"/>
                  </a:lnTo>
                  <a:lnTo>
                    <a:pt x="752" y="445"/>
                  </a:lnTo>
                  <a:lnTo>
                    <a:pt x="746" y="439"/>
                  </a:lnTo>
                  <a:lnTo>
                    <a:pt x="738" y="436"/>
                  </a:lnTo>
                  <a:lnTo>
                    <a:pt x="727" y="467"/>
                  </a:lnTo>
                  <a:lnTo>
                    <a:pt x="726" y="503"/>
                  </a:lnTo>
                  <a:lnTo>
                    <a:pt x="726" y="540"/>
                  </a:lnTo>
                  <a:lnTo>
                    <a:pt x="726" y="572"/>
                  </a:lnTo>
                  <a:lnTo>
                    <a:pt x="687" y="573"/>
                  </a:lnTo>
                  <a:lnTo>
                    <a:pt x="645" y="573"/>
                  </a:lnTo>
                  <a:lnTo>
                    <a:pt x="603" y="575"/>
                  </a:lnTo>
                  <a:lnTo>
                    <a:pt x="557" y="576"/>
                  </a:lnTo>
                  <a:lnTo>
                    <a:pt x="512" y="578"/>
                  </a:lnTo>
                  <a:lnTo>
                    <a:pt x="467" y="578"/>
                  </a:lnTo>
                  <a:lnTo>
                    <a:pt x="420" y="579"/>
                  </a:lnTo>
                  <a:lnTo>
                    <a:pt x="372" y="579"/>
                  </a:lnTo>
                  <a:lnTo>
                    <a:pt x="325" y="579"/>
                  </a:lnTo>
                  <a:lnTo>
                    <a:pt x="276" y="581"/>
                  </a:lnTo>
                  <a:lnTo>
                    <a:pt x="230" y="581"/>
                  </a:lnTo>
                  <a:lnTo>
                    <a:pt x="183" y="581"/>
                  </a:lnTo>
                  <a:lnTo>
                    <a:pt x="136" y="579"/>
                  </a:lnTo>
                  <a:lnTo>
                    <a:pt x="91" y="579"/>
                  </a:lnTo>
                  <a:lnTo>
                    <a:pt x="47" y="579"/>
                  </a:lnTo>
                  <a:lnTo>
                    <a:pt x="3" y="578"/>
                  </a:lnTo>
                  <a:lnTo>
                    <a:pt x="0" y="556"/>
                  </a:lnTo>
                  <a:lnTo>
                    <a:pt x="2" y="537"/>
                  </a:lnTo>
                  <a:lnTo>
                    <a:pt x="8" y="522"/>
                  </a:lnTo>
                  <a:lnTo>
                    <a:pt x="19" y="508"/>
                  </a:lnTo>
                  <a:lnTo>
                    <a:pt x="33" y="495"/>
                  </a:lnTo>
                  <a:lnTo>
                    <a:pt x="49" y="484"/>
                  </a:lnTo>
                  <a:lnTo>
                    <a:pt x="66" y="473"/>
                  </a:lnTo>
                  <a:lnTo>
                    <a:pt x="81" y="462"/>
                  </a:lnTo>
                  <a:lnTo>
                    <a:pt x="94" y="473"/>
                  </a:lnTo>
                  <a:lnTo>
                    <a:pt x="110" y="483"/>
                  </a:lnTo>
                  <a:lnTo>
                    <a:pt x="130" y="492"/>
                  </a:lnTo>
                  <a:lnTo>
                    <a:pt x="150" y="500"/>
                  </a:lnTo>
                  <a:lnTo>
                    <a:pt x="172" y="506"/>
                  </a:lnTo>
                  <a:lnTo>
                    <a:pt x="195" y="512"/>
                  </a:lnTo>
                  <a:lnTo>
                    <a:pt x="217" y="519"/>
                  </a:lnTo>
                  <a:lnTo>
                    <a:pt x="239" y="523"/>
                  </a:lnTo>
                  <a:lnTo>
                    <a:pt x="269" y="525"/>
                  </a:lnTo>
                  <a:lnTo>
                    <a:pt x="297" y="525"/>
                  </a:lnTo>
                  <a:lnTo>
                    <a:pt x="325" y="523"/>
                  </a:lnTo>
                  <a:lnTo>
                    <a:pt x="353" y="520"/>
                  </a:lnTo>
                  <a:lnTo>
                    <a:pt x="378" y="517"/>
                  </a:lnTo>
                  <a:lnTo>
                    <a:pt x="404" y="514"/>
                  </a:lnTo>
                  <a:lnTo>
                    <a:pt x="431" y="509"/>
                  </a:lnTo>
                  <a:lnTo>
                    <a:pt x="456" y="503"/>
                  </a:lnTo>
                  <a:lnTo>
                    <a:pt x="481" y="497"/>
                  </a:lnTo>
                  <a:lnTo>
                    <a:pt x="507" y="490"/>
                  </a:lnTo>
                  <a:lnTo>
                    <a:pt x="532" y="484"/>
                  </a:lnTo>
                  <a:lnTo>
                    <a:pt x="559" y="478"/>
                  </a:lnTo>
                  <a:lnTo>
                    <a:pt x="585" y="472"/>
                  </a:lnTo>
                  <a:lnTo>
                    <a:pt x="612" y="464"/>
                  </a:lnTo>
                  <a:lnTo>
                    <a:pt x="640" y="458"/>
                  </a:lnTo>
                  <a:lnTo>
                    <a:pt x="668" y="451"/>
                  </a:lnTo>
                  <a:lnTo>
                    <a:pt x="685" y="439"/>
                  </a:lnTo>
                  <a:lnTo>
                    <a:pt x="704" y="430"/>
                  </a:lnTo>
                  <a:lnTo>
                    <a:pt x="724" y="423"/>
                  </a:lnTo>
                  <a:lnTo>
                    <a:pt x="745" y="419"/>
                  </a:lnTo>
                  <a:lnTo>
                    <a:pt x="766" y="412"/>
                  </a:lnTo>
                  <a:lnTo>
                    <a:pt x="788" y="408"/>
                  </a:lnTo>
                  <a:lnTo>
                    <a:pt x="809" y="400"/>
                  </a:lnTo>
                  <a:lnTo>
                    <a:pt x="829" y="391"/>
                  </a:lnTo>
                  <a:lnTo>
                    <a:pt x="849" y="377"/>
                  </a:lnTo>
                  <a:lnTo>
                    <a:pt x="869" y="366"/>
                  </a:lnTo>
                  <a:lnTo>
                    <a:pt x="890" y="358"/>
                  </a:lnTo>
                  <a:lnTo>
                    <a:pt x="910" y="350"/>
                  </a:lnTo>
                  <a:lnTo>
                    <a:pt x="929" y="342"/>
                  </a:lnTo>
                  <a:lnTo>
                    <a:pt x="947" y="334"/>
                  </a:lnTo>
                  <a:lnTo>
                    <a:pt x="966" y="323"/>
                  </a:lnTo>
                  <a:lnTo>
                    <a:pt x="985" y="309"/>
                  </a:lnTo>
                  <a:lnTo>
                    <a:pt x="982" y="300"/>
                  </a:lnTo>
                  <a:lnTo>
                    <a:pt x="975" y="294"/>
                  </a:lnTo>
                  <a:lnTo>
                    <a:pt x="966" y="291"/>
                  </a:lnTo>
                  <a:lnTo>
                    <a:pt x="958" y="291"/>
                  </a:lnTo>
                  <a:lnTo>
                    <a:pt x="910" y="312"/>
                  </a:lnTo>
                  <a:lnTo>
                    <a:pt x="862" y="333"/>
                  </a:lnTo>
                  <a:lnTo>
                    <a:pt x="813" y="352"/>
                  </a:lnTo>
                  <a:lnTo>
                    <a:pt x="765" y="367"/>
                  </a:lnTo>
                  <a:lnTo>
                    <a:pt x="715" y="383"/>
                  </a:lnTo>
                  <a:lnTo>
                    <a:pt x="667" y="395"/>
                  </a:lnTo>
                  <a:lnTo>
                    <a:pt x="618" y="408"/>
                  </a:lnTo>
                  <a:lnTo>
                    <a:pt x="570" y="417"/>
                  </a:lnTo>
                  <a:lnTo>
                    <a:pt x="520" y="426"/>
                  </a:lnTo>
                  <a:lnTo>
                    <a:pt x="470" y="436"/>
                  </a:lnTo>
                  <a:lnTo>
                    <a:pt x="420" y="442"/>
                  </a:lnTo>
                  <a:lnTo>
                    <a:pt x="369" y="448"/>
                  </a:lnTo>
                  <a:lnTo>
                    <a:pt x="317" y="453"/>
                  </a:lnTo>
                  <a:lnTo>
                    <a:pt x="266" y="458"/>
                  </a:lnTo>
                  <a:lnTo>
                    <a:pt x="212" y="462"/>
                  </a:lnTo>
                  <a:lnTo>
                    <a:pt x="158" y="465"/>
                  </a:lnTo>
                  <a:lnTo>
                    <a:pt x="127" y="445"/>
                  </a:lnTo>
                  <a:lnTo>
                    <a:pt x="99" y="422"/>
                  </a:lnTo>
                  <a:lnTo>
                    <a:pt x="75" y="397"/>
                  </a:lnTo>
                  <a:lnTo>
                    <a:pt x="55" y="369"/>
                  </a:lnTo>
                  <a:lnTo>
                    <a:pt x="38" y="337"/>
                  </a:lnTo>
                  <a:lnTo>
                    <a:pt x="24" y="306"/>
                  </a:lnTo>
                  <a:lnTo>
                    <a:pt x="13" y="273"/>
                  </a:lnTo>
                  <a:lnTo>
                    <a:pt x="3" y="239"/>
                  </a:lnTo>
                  <a:lnTo>
                    <a:pt x="44" y="230"/>
                  </a:lnTo>
                  <a:lnTo>
                    <a:pt x="85" y="219"/>
                  </a:lnTo>
                  <a:lnTo>
                    <a:pt x="125" y="208"/>
                  </a:lnTo>
                  <a:lnTo>
                    <a:pt x="166" y="197"/>
                  </a:lnTo>
                  <a:lnTo>
                    <a:pt x="205" y="184"/>
                  </a:lnTo>
                  <a:lnTo>
                    <a:pt x="242" y="170"/>
                  </a:lnTo>
                  <a:lnTo>
                    <a:pt x="281" y="158"/>
                  </a:lnTo>
                  <a:lnTo>
                    <a:pt x="319" y="142"/>
                  </a:lnTo>
                  <a:lnTo>
                    <a:pt x="356" y="127"/>
                  </a:lnTo>
                  <a:lnTo>
                    <a:pt x="392" y="111"/>
                  </a:lnTo>
                  <a:lnTo>
                    <a:pt x="428" y="94"/>
                  </a:lnTo>
                  <a:lnTo>
                    <a:pt x="462" y="77"/>
                  </a:lnTo>
                  <a:lnTo>
                    <a:pt x="498" y="58"/>
                  </a:lnTo>
                  <a:lnTo>
                    <a:pt x="531" y="39"/>
                  </a:lnTo>
                  <a:lnTo>
                    <a:pt x="564" y="21"/>
                  </a:lnTo>
                  <a:lnTo>
                    <a:pt x="596" y="0"/>
                  </a:lnTo>
                  <a:lnTo>
                    <a:pt x="613" y="1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2039760" y="5876640"/>
              <a:ext cx="271440" cy="241560"/>
            </a:xfrm>
            <a:custGeom>
              <a:avLst/>
              <a:gdLst/>
              <a:ahLst/>
              <a:rect l="l" t="t" r="r" b="b"/>
              <a:pathLst>
                <a:path w="342" h="304">
                  <a:moveTo>
                    <a:pt x="174" y="59"/>
                  </a:moveTo>
                  <a:lnTo>
                    <a:pt x="298" y="6"/>
                  </a:lnTo>
                  <a:lnTo>
                    <a:pt x="255" y="109"/>
                  </a:lnTo>
                  <a:lnTo>
                    <a:pt x="342" y="217"/>
                  </a:lnTo>
                  <a:lnTo>
                    <a:pt x="214" y="198"/>
                  </a:lnTo>
                  <a:lnTo>
                    <a:pt x="167" y="304"/>
                  </a:lnTo>
                  <a:lnTo>
                    <a:pt x="114" y="193"/>
                  </a:lnTo>
                  <a:lnTo>
                    <a:pt x="110" y="193"/>
                  </a:lnTo>
                  <a:lnTo>
                    <a:pt x="96" y="190"/>
                  </a:lnTo>
                  <a:lnTo>
                    <a:pt x="77" y="187"/>
                  </a:lnTo>
                  <a:lnTo>
                    <a:pt x="56" y="184"/>
                  </a:lnTo>
                  <a:lnTo>
                    <a:pt x="35" y="179"/>
                  </a:lnTo>
                  <a:lnTo>
                    <a:pt x="17" y="175"/>
                  </a:lnTo>
                  <a:lnTo>
                    <a:pt x="5" y="170"/>
                  </a:lnTo>
                  <a:lnTo>
                    <a:pt x="0" y="165"/>
                  </a:lnTo>
                  <a:lnTo>
                    <a:pt x="96" y="104"/>
                  </a:lnTo>
                  <a:lnTo>
                    <a:pt x="67" y="0"/>
                  </a:lnTo>
                  <a:lnTo>
                    <a:pt x="174" y="59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439640" y="5979960"/>
              <a:ext cx="352440" cy="325440"/>
            </a:xfrm>
            <a:custGeom>
              <a:avLst/>
              <a:gdLst/>
              <a:ahLst/>
              <a:rect l="l" t="t" r="r" b="b"/>
              <a:pathLst>
                <a:path w="443" h="411">
                  <a:moveTo>
                    <a:pt x="348" y="0"/>
                  </a:moveTo>
                  <a:lnTo>
                    <a:pt x="337" y="145"/>
                  </a:lnTo>
                  <a:lnTo>
                    <a:pt x="443" y="231"/>
                  </a:lnTo>
                  <a:lnTo>
                    <a:pt x="300" y="248"/>
                  </a:lnTo>
                  <a:lnTo>
                    <a:pt x="262" y="411"/>
                  </a:lnTo>
                  <a:lnTo>
                    <a:pt x="169" y="269"/>
                  </a:lnTo>
                  <a:lnTo>
                    <a:pt x="0" y="305"/>
                  </a:lnTo>
                  <a:lnTo>
                    <a:pt x="106" y="175"/>
                  </a:lnTo>
                  <a:lnTo>
                    <a:pt x="75" y="36"/>
                  </a:lnTo>
                  <a:lnTo>
                    <a:pt x="209" y="97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87280" y="6107040"/>
              <a:ext cx="141480" cy="47520"/>
            </a:xfrm>
            <a:custGeom>
              <a:avLst/>
              <a:gdLst/>
              <a:ahLst/>
              <a:rect l="l" t="t" r="r" b="b"/>
              <a:pathLst>
                <a:path w="178" h="59">
                  <a:moveTo>
                    <a:pt x="178" y="0"/>
                  </a:moveTo>
                  <a:lnTo>
                    <a:pt x="171" y="11"/>
                  </a:lnTo>
                  <a:lnTo>
                    <a:pt x="161" y="22"/>
                  </a:lnTo>
                  <a:lnTo>
                    <a:pt x="145" y="30"/>
                  </a:lnTo>
                  <a:lnTo>
                    <a:pt x="129" y="38"/>
                  </a:lnTo>
                  <a:lnTo>
                    <a:pt x="111" y="44"/>
                  </a:lnTo>
                  <a:lnTo>
                    <a:pt x="92" y="50"/>
                  </a:lnTo>
                  <a:lnTo>
                    <a:pt x="76" y="55"/>
                  </a:lnTo>
                  <a:lnTo>
                    <a:pt x="61" y="59"/>
                  </a:lnTo>
                  <a:lnTo>
                    <a:pt x="53" y="55"/>
                  </a:lnTo>
                  <a:lnTo>
                    <a:pt x="44" y="53"/>
                  </a:lnTo>
                  <a:lnTo>
                    <a:pt x="34" y="53"/>
                  </a:lnTo>
                  <a:lnTo>
                    <a:pt x="26" y="55"/>
                  </a:lnTo>
                  <a:lnTo>
                    <a:pt x="17" y="53"/>
                  </a:lnTo>
                  <a:lnTo>
                    <a:pt x="11" y="52"/>
                  </a:lnTo>
                  <a:lnTo>
                    <a:pt x="5" y="44"/>
                  </a:lnTo>
                  <a:lnTo>
                    <a:pt x="0" y="33"/>
                  </a:lnTo>
                  <a:lnTo>
                    <a:pt x="9" y="23"/>
                  </a:lnTo>
                  <a:lnTo>
                    <a:pt x="19" y="22"/>
                  </a:lnTo>
                  <a:lnTo>
                    <a:pt x="28" y="22"/>
                  </a:lnTo>
                  <a:lnTo>
                    <a:pt x="40" y="27"/>
                  </a:lnTo>
                  <a:lnTo>
                    <a:pt x="51" y="30"/>
                  </a:lnTo>
                  <a:lnTo>
                    <a:pt x="64" y="33"/>
                  </a:lnTo>
                  <a:lnTo>
                    <a:pt x="76" y="34"/>
                  </a:lnTo>
                  <a:lnTo>
                    <a:pt x="90" y="30"/>
                  </a:lnTo>
                  <a:lnTo>
                    <a:pt x="103" y="30"/>
                  </a:lnTo>
                  <a:lnTo>
                    <a:pt x="115" y="25"/>
                  </a:lnTo>
                  <a:lnTo>
                    <a:pt x="126" y="20"/>
                  </a:lnTo>
                  <a:lnTo>
                    <a:pt x="137" y="14"/>
                  </a:lnTo>
                  <a:lnTo>
                    <a:pt x="148" y="8"/>
                  </a:lnTo>
                  <a:lnTo>
                    <a:pt x="157" y="3"/>
                  </a:lnTo>
                  <a:lnTo>
                    <a:pt x="16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430280" y="6370560"/>
              <a:ext cx="198360" cy="127080"/>
            </a:xfrm>
            <a:custGeom>
              <a:avLst/>
              <a:gdLst/>
              <a:ahLst/>
              <a:rect l="l" t="t" r="r" b="b"/>
              <a:pathLst>
                <a:path w="249" h="161">
                  <a:moveTo>
                    <a:pt x="243" y="22"/>
                  </a:moveTo>
                  <a:lnTo>
                    <a:pt x="234" y="33"/>
                  </a:lnTo>
                  <a:lnTo>
                    <a:pt x="234" y="45"/>
                  </a:lnTo>
                  <a:lnTo>
                    <a:pt x="238" y="59"/>
                  </a:lnTo>
                  <a:lnTo>
                    <a:pt x="243" y="70"/>
                  </a:lnTo>
                  <a:lnTo>
                    <a:pt x="249" y="77"/>
                  </a:lnTo>
                  <a:lnTo>
                    <a:pt x="248" y="86"/>
                  </a:lnTo>
                  <a:lnTo>
                    <a:pt x="242" y="94"/>
                  </a:lnTo>
                  <a:lnTo>
                    <a:pt x="234" y="98"/>
                  </a:lnTo>
                  <a:lnTo>
                    <a:pt x="209" y="112"/>
                  </a:lnTo>
                  <a:lnTo>
                    <a:pt x="182" y="125"/>
                  </a:lnTo>
                  <a:lnTo>
                    <a:pt x="156" y="137"/>
                  </a:lnTo>
                  <a:lnTo>
                    <a:pt x="128" y="148"/>
                  </a:lnTo>
                  <a:lnTo>
                    <a:pt x="100" y="156"/>
                  </a:lnTo>
                  <a:lnTo>
                    <a:pt x="70" y="161"/>
                  </a:lnTo>
                  <a:lnTo>
                    <a:pt x="39" y="159"/>
                  </a:lnTo>
                  <a:lnTo>
                    <a:pt x="6" y="155"/>
                  </a:lnTo>
                  <a:lnTo>
                    <a:pt x="0" y="142"/>
                  </a:lnTo>
                  <a:lnTo>
                    <a:pt x="0" y="130"/>
                  </a:lnTo>
                  <a:lnTo>
                    <a:pt x="1" y="117"/>
                  </a:lnTo>
                  <a:lnTo>
                    <a:pt x="6" y="106"/>
                  </a:lnTo>
                  <a:lnTo>
                    <a:pt x="25" y="91"/>
                  </a:lnTo>
                  <a:lnTo>
                    <a:pt x="43" y="80"/>
                  </a:lnTo>
                  <a:lnTo>
                    <a:pt x="64" y="69"/>
                  </a:lnTo>
                  <a:lnTo>
                    <a:pt x="85" y="59"/>
                  </a:lnTo>
                  <a:lnTo>
                    <a:pt x="106" y="52"/>
                  </a:lnTo>
                  <a:lnTo>
                    <a:pt x="124" y="42"/>
                  </a:lnTo>
                  <a:lnTo>
                    <a:pt x="143" y="31"/>
                  </a:lnTo>
                  <a:lnTo>
                    <a:pt x="159" y="19"/>
                  </a:lnTo>
                  <a:lnTo>
                    <a:pt x="170" y="14"/>
                  </a:lnTo>
                  <a:lnTo>
                    <a:pt x="181" y="9"/>
                  </a:lnTo>
                  <a:lnTo>
                    <a:pt x="192" y="5"/>
                  </a:lnTo>
                  <a:lnTo>
                    <a:pt x="204" y="2"/>
                  </a:lnTo>
                  <a:lnTo>
                    <a:pt x="217" y="0"/>
                  </a:lnTo>
                  <a:lnTo>
                    <a:pt x="227" y="2"/>
                  </a:lnTo>
                  <a:lnTo>
                    <a:pt x="235" y="9"/>
                  </a:lnTo>
                  <a:lnTo>
                    <a:pt x="243" y="22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787400" y="6389640"/>
              <a:ext cx="274680" cy="101520"/>
            </a:xfrm>
            <a:custGeom>
              <a:avLst/>
              <a:gdLst/>
              <a:ahLst/>
              <a:rect l="l" t="t" r="r" b="b"/>
              <a:pathLst>
                <a:path w="344" h="128">
                  <a:moveTo>
                    <a:pt x="344" y="112"/>
                  </a:moveTo>
                  <a:lnTo>
                    <a:pt x="324" y="116"/>
                  </a:lnTo>
                  <a:lnTo>
                    <a:pt x="302" y="119"/>
                  </a:lnTo>
                  <a:lnTo>
                    <a:pt x="282" y="120"/>
                  </a:lnTo>
                  <a:lnTo>
                    <a:pt x="260" y="123"/>
                  </a:lnTo>
                  <a:lnTo>
                    <a:pt x="240" y="125"/>
                  </a:lnTo>
                  <a:lnTo>
                    <a:pt x="220" y="126"/>
                  </a:lnTo>
                  <a:lnTo>
                    <a:pt x="198" y="126"/>
                  </a:lnTo>
                  <a:lnTo>
                    <a:pt x="177" y="128"/>
                  </a:lnTo>
                  <a:lnTo>
                    <a:pt x="156" y="128"/>
                  </a:lnTo>
                  <a:lnTo>
                    <a:pt x="134" y="128"/>
                  </a:lnTo>
                  <a:lnTo>
                    <a:pt x="112" y="128"/>
                  </a:lnTo>
                  <a:lnTo>
                    <a:pt x="90" y="128"/>
                  </a:lnTo>
                  <a:lnTo>
                    <a:pt x="68" y="126"/>
                  </a:lnTo>
                  <a:lnTo>
                    <a:pt x="46" y="125"/>
                  </a:lnTo>
                  <a:lnTo>
                    <a:pt x="23" y="123"/>
                  </a:lnTo>
                  <a:lnTo>
                    <a:pt x="0" y="122"/>
                  </a:lnTo>
                  <a:lnTo>
                    <a:pt x="0" y="81"/>
                  </a:lnTo>
                  <a:lnTo>
                    <a:pt x="6" y="81"/>
                  </a:lnTo>
                  <a:lnTo>
                    <a:pt x="4" y="67"/>
                  </a:lnTo>
                  <a:lnTo>
                    <a:pt x="7" y="56"/>
                  </a:lnTo>
                  <a:lnTo>
                    <a:pt x="14" y="48"/>
                  </a:lnTo>
                  <a:lnTo>
                    <a:pt x="21" y="44"/>
                  </a:lnTo>
                  <a:lnTo>
                    <a:pt x="31" y="41"/>
                  </a:lnTo>
                  <a:lnTo>
                    <a:pt x="42" y="39"/>
                  </a:lnTo>
                  <a:lnTo>
                    <a:pt x="51" y="37"/>
                  </a:lnTo>
                  <a:lnTo>
                    <a:pt x="60" y="36"/>
                  </a:lnTo>
                  <a:lnTo>
                    <a:pt x="78" y="36"/>
                  </a:lnTo>
                  <a:lnTo>
                    <a:pt x="96" y="34"/>
                  </a:lnTo>
                  <a:lnTo>
                    <a:pt x="112" y="33"/>
                  </a:lnTo>
                  <a:lnTo>
                    <a:pt x="129" y="31"/>
                  </a:lnTo>
                  <a:lnTo>
                    <a:pt x="145" y="28"/>
                  </a:lnTo>
                  <a:lnTo>
                    <a:pt x="160" y="27"/>
                  </a:lnTo>
                  <a:lnTo>
                    <a:pt x="176" y="23"/>
                  </a:lnTo>
                  <a:lnTo>
                    <a:pt x="192" y="20"/>
                  </a:lnTo>
                  <a:lnTo>
                    <a:pt x="207" y="17"/>
                  </a:lnTo>
                  <a:lnTo>
                    <a:pt x="223" y="14"/>
                  </a:lnTo>
                  <a:lnTo>
                    <a:pt x="237" y="11"/>
                  </a:lnTo>
                  <a:lnTo>
                    <a:pt x="252" y="8"/>
                  </a:lnTo>
                  <a:lnTo>
                    <a:pt x="268" y="6"/>
                  </a:lnTo>
                  <a:lnTo>
                    <a:pt x="284" y="3"/>
                  </a:lnTo>
                  <a:lnTo>
                    <a:pt x="299" y="2"/>
                  </a:lnTo>
                  <a:lnTo>
                    <a:pt x="315" y="0"/>
                  </a:lnTo>
                  <a:lnTo>
                    <a:pt x="344" y="112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00040" y="6392880"/>
              <a:ext cx="79560" cy="37800"/>
            </a:xfrm>
            <a:custGeom>
              <a:avLst/>
              <a:gdLst/>
              <a:ahLst/>
              <a:rect l="l" t="t" r="r" b="b"/>
              <a:pathLst>
                <a:path w="100" h="49">
                  <a:moveTo>
                    <a:pt x="100" y="0"/>
                  </a:moveTo>
                  <a:lnTo>
                    <a:pt x="92" y="11"/>
                  </a:lnTo>
                  <a:lnTo>
                    <a:pt x="81" y="19"/>
                  </a:lnTo>
                  <a:lnTo>
                    <a:pt x="69" y="25"/>
                  </a:lnTo>
                  <a:lnTo>
                    <a:pt x="55" y="31"/>
                  </a:lnTo>
                  <a:lnTo>
                    <a:pt x="41" y="34"/>
                  </a:lnTo>
                  <a:lnTo>
                    <a:pt x="27" y="39"/>
                  </a:lnTo>
                  <a:lnTo>
                    <a:pt x="13" y="44"/>
                  </a:lnTo>
                  <a:lnTo>
                    <a:pt x="0" y="49"/>
                  </a:lnTo>
                  <a:lnTo>
                    <a:pt x="6" y="34"/>
                  </a:lnTo>
                  <a:lnTo>
                    <a:pt x="16" y="25"/>
                  </a:lnTo>
                  <a:lnTo>
                    <a:pt x="27" y="17"/>
                  </a:lnTo>
                  <a:lnTo>
                    <a:pt x="41" y="13"/>
                  </a:lnTo>
                  <a:lnTo>
                    <a:pt x="55" y="8"/>
                  </a:lnTo>
                  <a:lnTo>
                    <a:pt x="70" y="6"/>
                  </a:lnTo>
                  <a:lnTo>
                    <a:pt x="84" y="3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463400" y="6435720"/>
              <a:ext cx="227160" cy="90360"/>
            </a:xfrm>
            <a:custGeom>
              <a:avLst/>
              <a:gdLst/>
              <a:ahLst/>
              <a:rect l="l" t="t" r="r" b="b"/>
              <a:pathLst>
                <a:path w="285" h="114">
                  <a:moveTo>
                    <a:pt x="285" y="6"/>
                  </a:moveTo>
                  <a:lnTo>
                    <a:pt x="267" y="12"/>
                  </a:lnTo>
                  <a:lnTo>
                    <a:pt x="248" y="19"/>
                  </a:lnTo>
                  <a:lnTo>
                    <a:pt x="231" y="28"/>
                  </a:lnTo>
                  <a:lnTo>
                    <a:pt x="214" y="36"/>
                  </a:lnTo>
                  <a:lnTo>
                    <a:pt x="196" y="47"/>
                  </a:lnTo>
                  <a:lnTo>
                    <a:pt x="179" y="56"/>
                  </a:lnTo>
                  <a:lnTo>
                    <a:pt x="164" y="65"/>
                  </a:lnTo>
                  <a:lnTo>
                    <a:pt x="146" y="75"/>
                  </a:lnTo>
                  <a:lnTo>
                    <a:pt x="129" y="84"/>
                  </a:lnTo>
                  <a:lnTo>
                    <a:pt x="114" y="93"/>
                  </a:lnTo>
                  <a:lnTo>
                    <a:pt x="95" y="101"/>
                  </a:lnTo>
                  <a:lnTo>
                    <a:pt x="78" y="106"/>
                  </a:lnTo>
                  <a:lnTo>
                    <a:pt x="59" y="111"/>
                  </a:lnTo>
                  <a:lnTo>
                    <a:pt x="40" y="114"/>
                  </a:lnTo>
                  <a:lnTo>
                    <a:pt x="20" y="114"/>
                  </a:lnTo>
                  <a:lnTo>
                    <a:pt x="0" y="112"/>
                  </a:lnTo>
                  <a:lnTo>
                    <a:pt x="34" y="109"/>
                  </a:lnTo>
                  <a:lnTo>
                    <a:pt x="65" y="100"/>
                  </a:lnTo>
                  <a:lnTo>
                    <a:pt x="98" y="89"/>
                  </a:lnTo>
                  <a:lnTo>
                    <a:pt x="129" y="73"/>
                  </a:lnTo>
                  <a:lnTo>
                    <a:pt x="159" y="56"/>
                  </a:lnTo>
                  <a:lnTo>
                    <a:pt x="187" y="37"/>
                  </a:lnTo>
                  <a:lnTo>
                    <a:pt x="214" y="19"/>
                  </a:lnTo>
                  <a:lnTo>
                    <a:pt x="240" y="0"/>
                  </a:lnTo>
                  <a:lnTo>
                    <a:pt x="285" y="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55"/>
          <p:cNvSpPr/>
          <p:nvPr/>
        </p:nvSpPr>
        <p:spPr>
          <a:xfrm>
            <a:off x="2666880" y="3746520"/>
            <a:ext cx="6172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ff"/>
                </a:solidFill>
                <a:latin typeface="Times New Roman"/>
                <a:ea typeface="华文行楷"/>
              </a:rPr>
              <a:t> 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呼气时，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肋骨向</a:t>
            </a:r>
            <a:r>
              <a:rPr b="1" lang="zh-CN" sz="66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下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向</a:t>
            </a:r>
            <a:r>
              <a:rPr b="1" lang="zh-CN" sz="66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内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运动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66"/>
                </a:solidFill>
                <a:latin typeface="Times New Roman"/>
                <a:ea typeface="华文彩云"/>
              </a:rPr>
              <a:t> </a:t>
            </a:r>
            <a:r>
              <a:rPr b="1" lang="zh-CN" sz="6600" spc="-1" strike="noStrike">
                <a:solidFill>
                  <a:srgbClr val="663300"/>
                </a:solidFill>
                <a:latin typeface="Times New Roman"/>
                <a:ea typeface="华文彩云"/>
              </a:rPr>
              <a:t>实  验 ：</a:t>
            </a:r>
            <a:r>
              <a:rPr b="1" lang="zh-CN" sz="6600" spc="-1" strike="noStrike">
                <a:solidFill>
                  <a:srgbClr val="1f09a1"/>
                </a:solidFill>
                <a:latin typeface="Times New Roman"/>
              </a:rPr>
              <a:t>测 量 胸 围 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奔跑的松鼠"/>
          <p:cNvPicPr/>
          <p:nvPr/>
        </p:nvPicPr>
        <p:blipFill>
          <a:blip r:embed="rId1"/>
          <a:stretch/>
        </p:blipFill>
        <p:spPr>
          <a:xfrm rot="10800000">
            <a:off x="-360" y="5638320"/>
            <a:ext cx="762120" cy="1219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测量"/>
          <p:cNvPicPr/>
          <p:nvPr/>
        </p:nvPicPr>
        <p:blipFill>
          <a:blip r:embed="rId2"/>
          <a:stretch/>
        </p:blipFill>
        <p:spPr>
          <a:xfrm>
            <a:off x="1066680" y="971640"/>
            <a:ext cx="75438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3:52:1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20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