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C32-F7A8-42FB-9318-E72A310D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0CF-253F-4EE4-BD4E-A541C8D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96A-05BF-48E9-A2F5-A15270A2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0E7-7154-4B63-93DE-FCA43E30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8A2B-0E8A-4506-BDB0-B69E9202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BA55-727B-44B4-B17C-700CEE0A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809C-6941-4514-BB98-DFBE69CC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B92A-03FB-4295-8E81-67A7DDC9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BDAE-3785-4D61-8FC2-4F5C4F3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A317-8FAC-461D-A758-2E21AEAE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F289-E1B0-4E1A-98B0-87E5C62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47B-D09D-4082-BA7C-779A723C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707A-8F1F-4437-854F-E325AA0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D693-987B-4518-8E8A-C554820A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6119-94A9-47F3-93EC-AF4369AC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069E-DBA7-4192-B701-7FE416F4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C567-15CA-4117-B3CC-B308830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A75-600C-4DED-B489-251A92E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023-8BC9-472F-808E-86064177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152-7104-41EC-B5CA-0E34B132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796-4991-44F1-A1F4-EB2A434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633-87D3-4A67-9F30-A72E6F6F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7EB-22AD-4C66-8ED3-C663D7F1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B94-36BE-4A76-9E2F-423DE27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0041-F494-43E4-B20D-C9F2B4A2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78EE-0826-4167-8C04-F8D89C24EE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p.com.cn/pdysh/jszx/tbjxzy/dzkb/pdysh3x/201008/W020090715572144919307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pep.com.cn/pdysh/jszx/tbjxzy/dzkb/pdysh3x/201008/W020090715572144919307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013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85" name="WordArt 7"/>
          <p:cNvSpPr txBox="1"/>
          <p:nvPr/>
        </p:nvSpPr>
        <p:spPr>
          <a:xfrm>
            <a:off x="2068560" y="1125360"/>
            <a:ext cx="648180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享的快乐语文课件</a:t>
            </a:r>
            <a:r>
              <a:rPr b="1" lang="en-US" sz="4000" spc="-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-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0081017143024624_2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411280" y="5943600"/>
            <a:ext cx="4176720" cy="916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丰收的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198"/>
          <p:cNvSpPr/>
          <p:nvPr/>
        </p:nvSpPr>
        <p:spPr>
          <a:xfrm>
            <a:off x="1676520" y="1062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W020080227345729486950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484360" y="57340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读书的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268360" y="5805360"/>
            <a:ext cx="56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全民健身的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71275028584056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u=1172761708,555250542&amp;fm=5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411280" y="594360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火箭发射的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3890828603072106707"/>
          <p:cNvPicPr/>
          <p:nvPr/>
        </p:nvPicPr>
        <p:blipFill>
          <a:blip r:embed="rId1"/>
          <a:stretch/>
        </p:blipFill>
        <p:spPr>
          <a:xfrm>
            <a:off x="1000080" y="571680"/>
            <a:ext cx="714384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8198"/>
          <p:cNvSpPr/>
          <p:nvPr/>
        </p:nvSpPr>
        <p:spPr>
          <a:xfrm>
            <a:off x="1746360" y="1303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6795572_17084766232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B06_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763640" y="476280"/>
            <a:ext cx="691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&lt;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快乐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gt;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的快乐，我的快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分享，共分享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家一起看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们一起上课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多快乐，多快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8AF-E0E0-4D72-93CD-57A0656F1C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B06_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1763640" y="476280"/>
            <a:ext cx="691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&lt;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快乐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gt;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的快乐，我的快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分享，共分享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家一起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xxx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们一起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xxx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多快乐，多快乐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309503_16140509887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042920" y="620640"/>
            <a:ext cx="698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汇报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每组选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代表进行展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进行展示的同学声音要洪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其他同学要认真倾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198"/>
          <p:cNvSpPr/>
          <p:nvPr/>
        </p:nvSpPr>
        <p:spPr>
          <a:xfrm>
            <a:off x="2050920" y="1260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"/>
          <p:cNvPicPr/>
          <p:nvPr/>
        </p:nvPicPr>
        <p:blipFill>
          <a:blip r:embed="rId1"/>
          <a:stretch/>
        </p:blipFill>
        <p:spPr>
          <a:xfrm>
            <a:off x="3203640" y="3141720"/>
            <a:ext cx="2808360" cy="309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5"/>
          <p:cNvPicPr/>
          <p:nvPr/>
        </p:nvPicPr>
        <p:blipFill>
          <a:blip r:embed="rId2"/>
          <a:stretch/>
        </p:blipFill>
        <p:spPr>
          <a:xfrm>
            <a:off x="1258920" y="692280"/>
            <a:ext cx="2665440" cy="252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"/>
          <p:cNvPicPr/>
          <p:nvPr/>
        </p:nvPicPr>
        <p:blipFill>
          <a:blip r:embed="rId3"/>
          <a:stretch/>
        </p:blipFill>
        <p:spPr>
          <a:xfrm>
            <a:off x="5435640" y="692280"/>
            <a:ext cx="2881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008111714241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684360" y="1413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你有一个快乐，拿出来与别人分享，就变成了两个快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W020100824551702413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W0201008245517024139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2556000" y="189000"/>
            <a:ext cx="390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1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5219640" y="189000"/>
            <a:ext cx="39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2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8b527d27e504676b908f9d1a"/>
          <p:cNvPicPr/>
          <p:nvPr/>
        </p:nvPicPr>
        <p:blipFill>
          <a:blip r:embed="rId1"/>
          <a:stretch/>
        </p:blipFill>
        <p:spPr>
          <a:xfrm>
            <a:off x="0" y="0"/>
            <a:ext cx="71438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1875496_4-1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219449876_92865100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411280" y="59436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胜利的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0:0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10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