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4.gif" ContentType="image/gif"/>
  <Override PartName="/ppt/media/image1.jpeg" ContentType="image/jpeg"/>
  <Override PartName="/ppt/media/image7.png" ContentType="image/png"/>
  <Override PartName="/ppt/media/image9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984-23E8-4313-B045-EF07D0F4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77724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60240" y="3702960"/>
            <a:ext cx="77724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57B-2D14-46E4-BAD1-0CF3CCC5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240" y="370296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2920" y="370296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3F0-AB39-468C-949D-D77F25BD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88240" y="113004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15880" y="113004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60240" y="370296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88240" y="370296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15880" y="370296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6AB-AA08-45EE-AA07-9A0AB128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60240" y="113004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91880"/>
            <a:ext cx="7772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0240" y="370296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60240" y="113004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D91-B713-4D2D-B761-A95C3EEB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2920" y="370296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0240" y="3702960"/>
            <a:ext cx="77724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77724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0240" y="3702960"/>
            <a:ext cx="77724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0240" y="370296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2920" y="370296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8240" y="113004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5880" y="113004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60240" y="370296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8240" y="370296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5880" y="370296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15DF-AD58-4653-B737-073901B6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60240" y="113004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C010-D039-45C1-B541-44DD1CAD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4341-03D3-42FC-B891-EE357B58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B7CB-CA49-40F9-836E-DB576499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C686-C7A2-4BF5-B5E4-EEEC7146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B55-0FB3-4360-A596-1A6093CE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191880"/>
            <a:ext cx="7772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2927-B852-4D8A-8354-EB0B69FC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0240" y="370296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D2A1-1F90-40E4-AAE9-FC9FF535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42920" y="370296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7AC2-4602-447E-A716-42A75294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60240" y="3702960"/>
            <a:ext cx="77724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B102-8314-454D-82CD-40408BD3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77724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60240" y="3702960"/>
            <a:ext cx="77724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BF15-47C9-4218-BFDD-A7044BF6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0240" y="370296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42920" y="370296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173D-C674-4C45-8D07-7D9D9031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8240" y="113004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15880" y="113004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60240" y="370296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8240" y="370296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15880" y="370296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49B4-9D4E-4689-A67D-E073CFBC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ECE26-D427-49EA-9460-2B8A4CB7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60240" y="113004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1259E-2359-4544-83FC-61A825CA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87884-10E7-47C4-BA68-8BD9741C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D27-6D5A-4870-B5C9-9AC762C2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F899C-26A6-46E1-992A-33367BB8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B7A53-B4E7-476F-90F4-70EA5DAA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191880"/>
            <a:ext cx="7772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5C6E1-B782-403C-8F19-02638121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60240" y="370296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8D48E-CACB-40D9-85EB-90F200B6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42920" y="370296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13C7C-89E7-46E8-95BB-E8C73CA7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0240" y="3702960"/>
            <a:ext cx="77724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21185-D7BA-4995-ACE7-E49233F3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77724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0240" y="3702960"/>
            <a:ext cx="77724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9C1D4-1BBA-4097-A672-9B07F6FF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0240" y="370296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42920" y="370296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F5009-A259-4CD3-AB5B-D61C5232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88240" y="113004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15880" y="113004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0240" y="370296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88240" y="370296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15880" y="3702960"/>
            <a:ext cx="250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4806-74C4-49BB-BD54-71AF0FD2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905-C5D5-4CF0-8C2A-F4B48D25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91880"/>
            <a:ext cx="7772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3A4-2644-4B26-A55C-A80D3E81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370296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64F-1469-4FA4-9474-E7B57053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2920" y="370296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2F4F-D3DC-43F8-B30B-097D3CA8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024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2920" y="1130040"/>
            <a:ext cx="3792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0240" y="3702960"/>
            <a:ext cx="77724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913-DA52-46BE-AD56-A063A97F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00" y="6173280"/>
            <a:ext cx="790200" cy="635040"/>
            <a:chOff x="468000" y="6173280"/>
            <a:chExt cx="790200" cy="635040"/>
          </a:xfrm>
        </p:grpSpPr>
        <p:sp>
          <p:nvSpPr>
            <p:cNvPr id="1" name="未知"/>
            <p:cNvSpPr/>
            <p:nvPr/>
          </p:nvSpPr>
          <p:spPr>
            <a:xfrm rot="6248400">
              <a:off x="1011600" y="6172560"/>
              <a:ext cx="197640" cy="25488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 rot="6248400">
              <a:off x="758880" y="6513120"/>
              <a:ext cx="337320" cy="21096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 rot="6248400">
              <a:off x="387000" y="6410160"/>
              <a:ext cx="351360" cy="10728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" name="Group 6"/>
          <p:cNvGrpSpPr/>
          <p:nvPr/>
        </p:nvGrpSpPr>
        <p:grpSpPr>
          <a:xfrm>
            <a:off x="1293840" y="0"/>
            <a:ext cx="546840" cy="581400"/>
            <a:chOff x="1293840" y="0"/>
            <a:chExt cx="546840" cy="581400"/>
          </a:xfrm>
        </p:grpSpPr>
        <p:sp>
          <p:nvSpPr>
            <p:cNvPr id="5" name="未知"/>
            <p:cNvSpPr/>
            <p:nvPr/>
          </p:nvSpPr>
          <p:spPr>
            <a:xfrm>
              <a:off x="1293840" y="0"/>
              <a:ext cx="173880" cy="21852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1543680" y="103320"/>
              <a:ext cx="297000" cy="18216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1483920" y="489240"/>
              <a:ext cx="309240" cy="9216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60240" y="113004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4C86-B427-477B-88B5-6BBCE748FDCB}" type="slidenum"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8EAD-178C-4BDF-8F91-87E543437E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468000" y="6173280"/>
            <a:ext cx="790200" cy="635040"/>
            <a:chOff x="468000" y="6173280"/>
            <a:chExt cx="790200" cy="635040"/>
          </a:xfrm>
        </p:grpSpPr>
        <p:sp>
          <p:nvSpPr>
            <p:cNvPr id="129" name="未知"/>
            <p:cNvSpPr/>
            <p:nvPr/>
          </p:nvSpPr>
          <p:spPr>
            <a:xfrm rot="6248400">
              <a:off x="1011600" y="6172560"/>
              <a:ext cx="197640" cy="25488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 rot="6248400">
              <a:off x="758880" y="6513120"/>
              <a:ext cx="337320" cy="21096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 rot="6248400">
              <a:off x="387000" y="6410160"/>
              <a:ext cx="351360" cy="10728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6"/>
          <p:cNvGrpSpPr/>
          <p:nvPr/>
        </p:nvGrpSpPr>
        <p:grpSpPr>
          <a:xfrm>
            <a:off x="1293840" y="0"/>
            <a:ext cx="546840" cy="581400"/>
            <a:chOff x="1293840" y="0"/>
            <a:chExt cx="546840" cy="581400"/>
          </a:xfrm>
        </p:grpSpPr>
        <p:sp>
          <p:nvSpPr>
            <p:cNvPr id="133" name="未知"/>
            <p:cNvSpPr/>
            <p:nvPr/>
          </p:nvSpPr>
          <p:spPr>
            <a:xfrm>
              <a:off x="1293840" y="0"/>
              <a:ext cx="173880" cy="21852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1543680" y="103320"/>
              <a:ext cx="297000" cy="18216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1483920" y="489240"/>
              <a:ext cx="309240" cy="9216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2"/>
          <p:cNvGrpSpPr/>
          <p:nvPr/>
        </p:nvGrpSpPr>
        <p:grpSpPr>
          <a:xfrm>
            <a:off x="5407200" y="63000"/>
            <a:ext cx="3623400" cy="6129720"/>
            <a:chOff x="5407200" y="63000"/>
            <a:chExt cx="3623400" cy="6129720"/>
          </a:xfrm>
        </p:grpSpPr>
        <p:sp>
          <p:nvSpPr>
            <p:cNvPr id="137" name="未知"/>
            <p:cNvSpPr/>
            <p:nvPr/>
          </p:nvSpPr>
          <p:spPr>
            <a:xfrm flipV="1" rot="11970000">
              <a:off x="6580800" y="348480"/>
              <a:ext cx="2117160" cy="23562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b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 flipV="1" rot="11970000">
              <a:off x="7421040" y="1960200"/>
              <a:ext cx="906840" cy="84276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 flipV="1" rot="11970000">
              <a:off x="6825600" y="2592000"/>
              <a:ext cx="439920" cy="3949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b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 flipV="1" rot="11970000">
              <a:off x="7251480" y="673920"/>
              <a:ext cx="388800" cy="5508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 flipV="1" rot="11970000">
              <a:off x="7154640" y="2644920"/>
              <a:ext cx="163440" cy="33156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b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 flipV="1" rot="11970000">
              <a:off x="7140240" y="1242720"/>
              <a:ext cx="190440" cy="1425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 flipV="1" rot="11970000">
              <a:off x="5937480" y="2931120"/>
              <a:ext cx="523800" cy="326736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3"/>
          <p:cNvGrpSpPr/>
          <p:nvPr/>
        </p:nvGrpSpPr>
        <p:grpSpPr>
          <a:xfrm>
            <a:off x="-353880" y="1876320"/>
            <a:ext cx="4636440" cy="5312160"/>
            <a:chOff x="-353880" y="1876320"/>
            <a:chExt cx="4636440" cy="5312160"/>
          </a:xfrm>
        </p:grpSpPr>
        <p:sp>
          <p:nvSpPr>
            <p:cNvPr id="145" name="未知"/>
            <p:cNvSpPr/>
            <p:nvPr/>
          </p:nvSpPr>
          <p:spPr>
            <a:xfrm flipH="1" rot="373800">
              <a:off x="36720" y="310644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 flipH="1" rot="373800">
              <a:off x="187920" y="1981080"/>
              <a:ext cx="2063520" cy="2394000"/>
            </a:xfrm>
            <a:custGeom>
              <a:avLst/>
              <a:gdLst/>
              <a:ahLst/>
              <a:rect l="l" t="t" r="r" b="b"/>
              <a:pathLst>
                <a:path w="217" h="210">
                  <a:moveTo>
                    <a:pt x="46" y="210"/>
                  </a:moveTo>
                  <a:lnTo>
                    <a:pt x="37" y="198"/>
                  </a:lnTo>
                  <a:lnTo>
                    <a:pt x="26" y="181"/>
                  </a:lnTo>
                  <a:lnTo>
                    <a:pt x="15" y="159"/>
                  </a:lnTo>
                  <a:lnTo>
                    <a:pt x="5" y="135"/>
                  </a:lnTo>
                  <a:lnTo>
                    <a:pt x="0" y="109"/>
                  </a:lnTo>
                  <a:lnTo>
                    <a:pt x="1" y="82"/>
                  </a:lnTo>
                  <a:lnTo>
                    <a:pt x="9" y="57"/>
                  </a:lnTo>
                  <a:lnTo>
                    <a:pt x="27" y="35"/>
                  </a:lnTo>
                  <a:lnTo>
                    <a:pt x="45" y="22"/>
                  </a:lnTo>
                  <a:lnTo>
                    <a:pt x="60" y="12"/>
                  </a:lnTo>
                  <a:lnTo>
                    <a:pt x="72" y="7"/>
                  </a:lnTo>
                  <a:lnTo>
                    <a:pt x="81" y="5"/>
                  </a:lnTo>
                  <a:lnTo>
                    <a:pt x="88" y="5"/>
                  </a:lnTo>
                  <a:lnTo>
                    <a:pt x="104" y="0"/>
                  </a:lnTo>
                  <a:lnTo>
                    <a:pt x="148" y="8"/>
                  </a:lnTo>
                  <a:lnTo>
                    <a:pt x="160" y="12"/>
                  </a:lnTo>
                  <a:lnTo>
                    <a:pt x="172" y="15"/>
                  </a:lnTo>
                  <a:lnTo>
                    <a:pt x="182" y="19"/>
                  </a:lnTo>
                  <a:lnTo>
                    <a:pt x="190" y="23"/>
                  </a:lnTo>
                  <a:lnTo>
                    <a:pt x="198" y="27"/>
                  </a:lnTo>
                  <a:lnTo>
                    <a:pt x="205" y="32"/>
                  </a:lnTo>
                  <a:lnTo>
                    <a:pt x="211" y="38"/>
                  </a:lnTo>
                  <a:lnTo>
                    <a:pt x="217" y="45"/>
                  </a:lnTo>
                  <a:lnTo>
                    <a:pt x="205" y="40"/>
                  </a:lnTo>
                  <a:lnTo>
                    <a:pt x="194" y="36"/>
                  </a:lnTo>
                  <a:lnTo>
                    <a:pt x="183" y="33"/>
                  </a:lnTo>
                  <a:lnTo>
                    <a:pt x="172" y="30"/>
                  </a:lnTo>
                  <a:lnTo>
                    <a:pt x="163" y="27"/>
                  </a:lnTo>
                  <a:lnTo>
                    <a:pt x="153" y="26"/>
                  </a:lnTo>
                  <a:lnTo>
                    <a:pt x="143" y="24"/>
                  </a:lnTo>
                  <a:lnTo>
                    <a:pt x="134" y="24"/>
                  </a:lnTo>
                  <a:lnTo>
                    <a:pt x="125" y="24"/>
                  </a:lnTo>
                  <a:lnTo>
                    <a:pt x="116" y="25"/>
                  </a:lnTo>
                  <a:lnTo>
                    <a:pt x="107" y="27"/>
                  </a:lnTo>
                  <a:lnTo>
                    <a:pt x="99" y="29"/>
                  </a:lnTo>
                  <a:lnTo>
                    <a:pt x="91" y="33"/>
                  </a:lnTo>
                  <a:lnTo>
                    <a:pt x="82" y="36"/>
                  </a:lnTo>
                  <a:lnTo>
                    <a:pt x="74" y="41"/>
                  </a:lnTo>
                  <a:lnTo>
                    <a:pt x="66" y="46"/>
                  </a:lnTo>
                  <a:lnTo>
                    <a:pt x="52" y="61"/>
                  </a:lnTo>
                  <a:lnTo>
                    <a:pt x="42" y="80"/>
                  </a:lnTo>
                  <a:lnTo>
                    <a:pt x="37" y="103"/>
                  </a:lnTo>
                  <a:lnTo>
                    <a:pt x="35" y="126"/>
                  </a:lnTo>
                  <a:lnTo>
                    <a:pt x="35" y="151"/>
                  </a:lnTo>
                  <a:lnTo>
                    <a:pt x="38" y="174"/>
                  </a:lnTo>
                  <a:lnTo>
                    <a:pt x="41" y="194"/>
                  </a:lnTo>
                  <a:lnTo>
                    <a:pt x="46" y="21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-353880" y="2852640"/>
              <a:ext cx="1627200" cy="2019240"/>
            </a:xfrm>
            <a:custGeom>
              <a:avLst/>
              <a:gdLst/>
              <a:ahLst/>
              <a:rect l="l" t="t" r="r" b="b"/>
              <a:pathLst>
                <a:path w="942" h="975">
                  <a:moveTo>
                    <a:pt x="232" y="49"/>
                  </a:moveTo>
                  <a:lnTo>
                    <a:pt x="191" y="177"/>
                  </a:lnTo>
                  <a:lnTo>
                    <a:pt x="173" y="337"/>
                  </a:lnTo>
                  <a:lnTo>
                    <a:pt x="186" y="526"/>
                  </a:lnTo>
                  <a:lnTo>
                    <a:pt x="202" y="583"/>
                  </a:lnTo>
                  <a:lnTo>
                    <a:pt x="218" y="629"/>
                  </a:lnTo>
                  <a:lnTo>
                    <a:pt x="241" y="676"/>
                  </a:lnTo>
                  <a:lnTo>
                    <a:pt x="269" y="724"/>
                  </a:lnTo>
                  <a:lnTo>
                    <a:pt x="308" y="767"/>
                  </a:lnTo>
                  <a:lnTo>
                    <a:pt x="343" y="799"/>
                  </a:lnTo>
                  <a:lnTo>
                    <a:pt x="383" y="836"/>
                  </a:lnTo>
                  <a:lnTo>
                    <a:pt x="436" y="864"/>
                  </a:lnTo>
                  <a:lnTo>
                    <a:pt x="489" y="881"/>
                  </a:lnTo>
                  <a:lnTo>
                    <a:pt x="542" y="903"/>
                  </a:lnTo>
                  <a:lnTo>
                    <a:pt x="601" y="915"/>
                  </a:lnTo>
                  <a:lnTo>
                    <a:pt x="667" y="922"/>
                  </a:lnTo>
                  <a:lnTo>
                    <a:pt x="733" y="924"/>
                  </a:lnTo>
                  <a:lnTo>
                    <a:pt x="800" y="915"/>
                  </a:lnTo>
                  <a:lnTo>
                    <a:pt x="873" y="901"/>
                  </a:lnTo>
                  <a:lnTo>
                    <a:pt x="942" y="880"/>
                  </a:lnTo>
                  <a:lnTo>
                    <a:pt x="878" y="912"/>
                  </a:lnTo>
                  <a:lnTo>
                    <a:pt x="814" y="933"/>
                  </a:lnTo>
                  <a:lnTo>
                    <a:pt x="752" y="954"/>
                  </a:lnTo>
                  <a:lnTo>
                    <a:pt x="695" y="964"/>
                  </a:lnTo>
                  <a:lnTo>
                    <a:pt x="639" y="975"/>
                  </a:lnTo>
                  <a:lnTo>
                    <a:pt x="584" y="974"/>
                  </a:lnTo>
                  <a:lnTo>
                    <a:pt x="528" y="974"/>
                  </a:lnTo>
                  <a:lnTo>
                    <a:pt x="474" y="968"/>
                  </a:lnTo>
                  <a:lnTo>
                    <a:pt x="431" y="957"/>
                  </a:lnTo>
                  <a:lnTo>
                    <a:pt x="383" y="941"/>
                  </a:lnTo>
                  <a:lnTo>
                    <a:pt x="340" y="925"/>
                  </a:lnTo>
                  <a:lnTo>
                    <a:pt x="298" y="909"/>
                  </a:lnTo>
                  <a:lnTo>
                    <a:pt x="262" y="889"/>
                  </a:lnTo>
                  <a:lnTo>
                    <a:pt x="225" y="863"/>
                  </a:lnTo>
                  <a:lnTo>
                    <a:pt x="195" y="838"/>
                  </a:lnTo>
                  <a:lnTo>
                    <a:pt x="166" y="813"/>
                  </a:lnTo>
                  <a:lnTo>
                    <a:pt x="87" y="720"/>
                  </a:lnTo>
                  <a:lnTo>
                    <a:pt x="36" y="631"/>
                  </a:lnTo>
                  <a:lnTo>
                    <a:pt x="8" y="535"/>
                  </a:lnTo>
                  <a:lnTo>
                    <a:pt x="0" y="445"/>
                  </a:lnTo>
                  <a:lnTo>
                    <a:pt x="0" y="351"/>
                  </a:lnTo>
                  <a:lnTo>
                    <a:pt x="9" y="263"/>
                  </a:lnTo>
                  <a:lnTo>
                    <a:pt x="14" y="174"/>
                  </a:lnTo>
                  <a:lnTo>
                    <a:pt x="82" y="0"/>
                  </a:lnTo>
                  <a:lnTo>
                    <a:pt x="232" y="49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 flipH="1" rot="373800">
              <a:off x="1427400" y="4532040"/>
              <a:ext cx="561240" cy="7369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 flipH="1" rot="373800">
              <a:off x="1270080" y="4728960"/>
              <a:ext cx="137520" cy="43452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 flipH="1" rot="6686400">
              <a:off x="2314440" y="4907880"/>
              <a:ext cx="1130400" cy="2569320"/>
            </a:xfrm>
            <a:custGeom>
              <a:avLst/>
              <a:gdLst/>
              <a:ahLst/>
              <a:rect l="l" t="t" r="r" b="b"/>
              <a:pathLst>
                <a:path w="207" h="564">
                  <a:moveTo>
                    <a:pt x="12" y="44"/>
                  </a:moveTo>
                  <a:lnTo>
                    <a:pt x="6" y="72"/>
                  </a:lnTo>
                  <a:lnTo>
                    <a:pt x="3" y="99"/>
                  </a:lnTo>
                  <a:lnTo>
                    <a:pt x="0" y="125"/>
                  </a:lnTo>
                  <a:lnTo>
                    <a:pt x="0" y="151"/>
                  </a:lnTo>
                  <a:lnTo>
                    <a:pt x="3" y="180"/>
                  </a:lnTo>
                  <a:lnTo>
                    <a:pt x="7" y="211"/>
                  </a:lnTo>
                  <a:lnTo>
                    <a:pt x="16" y="247"/>
                  </a:lnTo>
                  <a:lnTo>
                    <a:pt x="29" y="287"/>
                  </a:lnTo>
                  <a:lnTo>
                    <a:pt x="43" y="325"/>
                  </a:lnTo>
                  <a:lnTo>
                    <a:pt x="61" y="364"/>
                  </a:lnTo>
                  <a:lnTo>
                    <a:pt x="83" y="406"/>
                  </a:lnTo>
                  <a:lnTo>
                    <a:pt x="106" y="446"/>
                  </a:lnTo>
                  <a:lnTo>
                    <a:pt x="132" y="483"/>
                  </a:lnTo>
                  <a:lnTo>
                    <a:pt x="157" y="516"/>
                  </a:lnTo>
                  <a:lnTo>
                    <a:pt x="182" y="544"/>
                  </a:lnTo>
                  <a:lnTo>
                    <a:pt x="207" y="564"/>
                  </a:lnTo>
                  <a:lnTo>
                    <a:pt x="160" y="501"/>
                  </a:lnTo>
                  <a:lnTo>
                    <a:pt x="127" y="448"/>
                  </a:lnTo>
                  <a:lnTo>
                    <a:pt x="103" y="405"/>
                  </a:lnTo>
                  <a:lnTo>
                    <a:pt x="87" y="368"/>
                  </a:lnTo>
                  <a:lnTo>
                    <a:pt x="75" y="337"/>
                  </a:lnTo>
                  <a:lnTo>
                    <a:pt x="68" y="309"/>
                  </a:lnTo>
                  <a:lnTo>
                    <a:pt x="63" y="285"/>
                  </a:lnTo>
                  <a:lnTo>
                    <a:pt x="56" y="261"/>
                  </a:lnTo>
                  <a:lnTo>
                    <a:pt x="44" y="205"/>
                  </a:lnTo>
                  <a:lnTo>
                    <a:pt x="41" y="140"/>
                  </a:lnTo>
                  <a:lnTo>
                    <a:pt x="43" y="68"/>
                  </a:lnTo>
                  <a:lnTo>
                    <a:pt x="50" y="0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20"/>
          <p:cNvGrpSpPr/>
          <p:nvPr/>
        </p:nvGrpSpPr>
        <p:grpSpPr>
          <a:xfrm>
            <a:off x="4140360" y="1039320"/>
            <a:ext cx="1017360" cy="1261800"/>
            <a:chOff x="4140360" y="1039320"/>
            <a:chExt cx="1017360" cy="1261800"/>
          </a:xfrm>
        </p:grpSpPr>
        <p:sp>
          <p:nvSpPr>
            <p:cNvPr id="152" name="未知"/>
            <p:cNvSpPr/>
            <p:nvPr/>
          </p:nvSpPr>
          <p:spPr>
            <a:xfrm rot="3220200">
              <a:off x="4556520" y="1077480"/>
              <a:ext cx="286920" cy="37944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 rot="3220200">
              <a:off x="4640040" y="1609920"/>
              <a:ext cx="489600" cy="31644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 rot="3220200">
              <a:off x="4100760" y="1967400"/>
              <a:ext cx="510120" cy="16056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24"/>
          <p:cNvGrpSpPr/>
          <p:nvPr/>
        </p:nvGrpSpPr>
        <p:grpSpPr>
          <a:xfrm>
            <a:off x="5643720" y="300960"/>
            <a:ext cx="889560" cy="829080"/>
            <a:chOff x="5643720" y="300960"/>
            <a:chExt cx="889560" cy="829080"/>
          </a:xfrm>
        </p:grpSpPr>
        <p:sp>
          <p:nvSpPr>
            <p:cNvPr id="156" name="未知"/>
            <p:cNvSpPr/>
            <p:nvPr/>
          </p:nvSpPr>
          <p:spPr>
            <a:xfrm rot="14908200">
              <a:off x="5755320" y="799920"/>
              <a:ext cx="178200" cy="36144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 rot="14908200">
              <a:off x="5705640" y="477360"/>
              <a:ext cx="303120" cy="30168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 rot="14908200">
              <a:off x="6245280" y="399600"/>
              <a:ext cx="317160" cy="15300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28"/>
          <p:cNvGrpSpPr/>
          <p:nvPr/>
        </p:nvGrpSpPr>
        <p:grpSpPr>
          <a:xfrm>
            <a:off x="955080" y="5282280"/>
            <a:ext cx="1061280" cy="837360"/>
            <a:chOff x="955080" y="5282280"/>
            <a:chExt cx="1061280" cy="837360"/>
          </a:xfrm>
        </p:grpSpPr>
        <p:sp>
          <p:nvSpPr>
            <p:cNvPr id="160" name="未知"/>
            <p:cNvSpPr/>
            <p:nvPr/>
          </p:nvSpPr>
          <p:spPr>
            <a:xfrm rot="8524800">
              <a:off x="1697760" y="5547600"/>
              <a:ext cx="252360" cy="30168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 rot="8524800">
              <a:off x="1182600" y="5762520"/>
              <a:ext cx="431280" cy="2509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 rot="8524800">
              <a:off x="946440" y="5406480"/>
              <a:ext cx="449280" cy="12708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32"/>
          <p:cNvGrpSpPr/>
          <p:nvPr/>
        </p:nvGrpSpPr>
        <p:grpSpPr>
          <a:xfrm>
            <a:off x="359280" y="433800"/>
            <a:ext cx="1691640" cy="1146240"/>
            <a:chOff x="359280" y="433800"/>
            <a:chExt cx="1691640" cy="1146240"/>
          </a:xfrm>
        </p:grpSpPr>
        <p:sp>
          <p:nvSpPr>
            <p:cNvPr id="164" name="未知"/>
            <p:cNvSpPr/>
            <p:nvPr/>
          </p:nvSpPr>
          <p:spPr>
            <a:xfrm flipH="1" rot="4107000">
              <a:off x="1559160" y="1050840"/>
              <a:ext cx="356760" cy="53136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 flipH="1" rot="4107000">
              <a:off x="1005840" y="576720"/>
              <a:ext cx="609120" cy="443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 flipH="1" rot="4107000">
              <a:off x="262800" y="1092600"/>
              <a:ext cx="635040" cy="22464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36"/>
          <p:cNvGrpSpPr/>
          <p:nvPr/>
        </p:nvGrpSpPr>
        <p:grpSpPr>
          <a:xfrm>
            <a:off x="7396560" y="3696840"/>
            <a:ext cx="1157760" cy="1609200"/>
            <a:chOff x="7396560" y="3696840"/>
            <a:chExt cx="1157760" cy="1609200"/>
          </a:xfrm>
        </p:grpSpPr>
        <p:sp>
          <p:nvSpPr>
            <p:cNvPr id="168" name="未知"/>
            <p:cNvSpPr/>
            <p:nvPr/>
          </p:nvSpPr>
          <p:spPr>
            <a:xfrm flipH="1" rot="10015800">
              <a:off x="7451640" y="4741200"/>
              <a:ext cx="357120" cy="53100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 flipH="1" rot="10015800">
              <a:off x="7901640" y="4438440"/>
              <a:ext cx="610200" cy="44316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 flipH="1" rot="10015800">
              <a:off x="7594560" y="3765600"/>
              <a:ext cx="635760" cy="22464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40"/>
          <p:cNvGrpSpPr/>
          <p:nvPr/>
        </p:nvGrpSpPr>
        <p:grpSpPr>
          <a:xfrm>
            <a:off x="1609200" y="-1595160"/>
            <a:ext cx="3153960" cy="7226280"/>
            <a:chOff x="1609200" y="-1595160"/>
            <a:chExt cx="3153960" cy="7226280"/>
          </a:xfrm>
        </p:grpSpPr>
        <p:sp>
          <p:nvSpPr>
            <p:cNvPr id="172" name="未知"/>
            <p:cNvSpPr/>
            <p:nvPr/>
          </p:nvSpPr>
          <p:spPr>
            <a:xfrm flipV="1" rot="9832800">
              <a:off x="1924920" y="-1296720"/>
              <a:ext cx="2522520" cy="263268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 flipV="1" rot="9832800">
              <a:off x="3425400" y="163080"/>
              <a:ext cx="1081080" cy="93888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 flipV="1" rot="9832800">
              <a:off x="3169440" y="136260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 flipV="1" rot="9832800">
              <a:off x="2395080" y="-677520"/>
              <a:ext cx="463680" cy="61524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 flipV="1" rot="9832800">
              <a:off x="3530160" y="1284840"/>
              <a:ext cx="195480" cy="36900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 flipV="1" rot="9832800">
              <a:off x="2544480" y="25920"/>
              <a:ext cx="226800" cy="1594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 flipV="1" rot="9832800">
              <a:off x="3448800" y="1965960"/>
              <a:ext cx="623880" cy="36496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60240" y="113004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3337-65FD-4CB2-80FF-28228CC12568}" type="slidenum"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第三课  走向自立人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WordArt 3"/>
          <p:cNvSpPr txBox="1"/>
          <p:nvPr/>
        </p:nvSpPr>
        <p:spPr>
          <a:xfrm>
            <a:off x="1187280" y="2133720"/>
            <a:ext cx="684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8160">
                  <a:solidFill>
                    <a:srgbClr val="ff99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告别依赖走向自立课件</a:t>
            </a:r>
            <a:r>
              <a:rPr b="1" lang="en-US" sz="4000" spc="1" strike="noStrike">
                <a:ln w="38160">
                  <a:solidFill>
                    <a:srgbClr val="ff99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38160">
                  <a:solidFill>
                    <a:srgbClr val="ff99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载</a:t>
            </a:r>
            <a:endParaRPr b="1" lang="en-US" sz="4000" spc="1" strike="noStrike">
              <a:ln w="38160">
                <a:solidFill>
                  <a:srgbClr val="ff99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0" y="44956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</a:rPr>
              <a:t>、这个书生即使满腹学问，但能自立吗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0" y="5911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</a:rPr>
              <a:t>、如果你是书生，你会怎么办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7274160" y="914400"/>
            <a:ext cx="1642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进京赶考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6"/>
          <p:cNvGrpSpPr/>
          <p:nvPr/>
        </p:nvGrpSpPr>
        <p:grpSpPr>
          <a:xfrm>
            <a:off x="152280" y="5257800"/>
            <a:ext cx="9315360" cy="685800"/>
            <a:chOff x="152280" y="5257800"/>
            <a:chExt cx="9315360" cy="685800"/>
          </a:xfrm>
        </p:grpSpPr>
        <p:sp>
          <p:nvSpPr>
            <p:cNvPr id="274" name="WordArt 7"/>
            <p:cNvSpPr txBox="1"/>
            <p:nvPr/>
          </p:nvSpPr>
          <p:spPr>
            <a:xfrm>
              <a:off x="152280" y="5257800"/>
              <a:ext cx="5684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1" strike="noStrike">
                  <a:ln w="19080">
                    <a:solidFill>
                      <a:srgbClr val="ff0000"/>
                    </a:solidFill>
                    <a:round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黑体"/>
                </a:rPr>
                <a:t>－－遇事没主见，就不可能自立！</a:t>
              </a:r>
              <a:endParaRPr b="1" lang="en-US" sz="32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5994000" y="5334120"/>
              <a:ext cx="347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自主是自立的前提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花边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0" y="0"/>
            <a:ext cx="304812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ff00"/>
                </a:solidFill>
                <a:latin typeface="华文行楷"/>
                <a:ea typeface="华文行楷"/>
              </a:rPr>
              <a:t>掌握观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2751480" y="83664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二、自立与自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24000" y="1773360"/>
          <a:ext cx="8351640" cy="4392360"/>
        </p:xfrm>
        <a:graphic>
          <a:graphicData uri="http://schemas.openxmlformats.org/drawingml/2006/table">
            <a:tbl>
              <a:tblPr/>
              <a:tblGrid>
                <a:gridCol w="1294920"/>
                <a:gridCol w="7056720"/>
              </a:tblGrid>
              <a:tr h="43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Rectangle 13"/>
          <p:cNvSpPr/>
          <p:nvPr/>
        </p:nvSpPr>
        <p:spPr>
          <a:xfrm>
            <a:off x="304920" y="2895480"/>
            <a:ext cx="124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怎样树立自立意识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1547640" y="2060640"/>
            <a:ext cx="71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告别依赖，一个重要的表现是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独立地生活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要独立生活，就要做到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自己的事情自己负责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只有明确自己的责任，勇于承担自己的责任才能成为真正自立的人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自己的事情自己负责的前提是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自主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自主，就是遇事有主见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15" descr="0369"/>
          <p:cNvPicPr/>
          <p:nvPr/>
        </p:nvPicPr>
        <p:blipFill>
          <a:blip r:embed="rId2"/>
          <a:stretch/>
        </p:blipFill>
        <p:spPr>
          <a:xfrm>
            <a:off x="8028000" y="5734080"/>
            <a:ext cx="1116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BEAR028"/>
          <p:cNvPicPr/>
          <p:nvPr/>
        </p:nvPicPr>
        <p:blipFill>
          <a:blip r:embed="rId1"/>
          <a:stretch/>
        </p:blipFill>
        <p:spPr>
          <a:xfrm>
            <a:off x="0" y="4437000"/>
            <a:ext cx="1455840" cy="2076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0369"/>
          <p:cNvPicPr/>
          <p:nvPr/>
        </p:nvPicPr>
        <p:blipFill>
          <a:blip r:embed="rId2"/>
          <a:stretch/>
        </p:blipFill>
        <p:spPr>
          <a:xfrm>
            <a:off x="7219800" y="4162320"/>
            <a:ext cx="1924200" cy="2695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1044720" y="476280"/>
            <a:ext cx="7777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做肯定回答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做否定回答。对一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，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快算算你 得多少分？看看你的自立指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cc99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4360" y="76464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阅读课本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3~44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页故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思考：（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在以上情景中，你能看出这名中学生犯了哪些错误？缺少什么能力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缺少自立能力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培养自立能力的最好办法是什么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468360" y="4019400"/>
            <a:ext cx="837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最基本的是立足于自己当前的生活、学习中的问题，不逃避，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从小事做起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大胆地投身社会实践，多实践、多锻炼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4" descr="0369"/>
          <p:cNvPicPr/>
          <p:nvPr/>
        </p:nvPicPr>
        <p:blipFill>
          <a:blip r:embed="rId1"/>
          <a:stretch/>
        </p:blipFill>
        <p:spPr>
          <a:xfrm>
            <a:off x="7885080" y="0"/>
            <a:ext cx="1116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0" y="0"/>
            <a:ext cx="304812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ff00"/>
                </a:solidFill>
                <a:latin typeface="华文行楷"/>
                <a:ea typeface="华文行楷"/>
              </a:rPr>
              <a:t>掌握观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878120" y="836640"/>
            <a:ext cx="342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三，多实践  多锻炼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24000" y="1773360"/>
          <a:ext cx="8351640" cy="3600360"/>
        </p:xfrm>
        <a:graphic>
          <a:graphicData uri="http://schemas.openxmlformats.org/drawingml/2006/table">
            <a:tbl>
              <a:tblPr/>
              <a:tblGrid>
                <a:gridCol w="1368000"/>
                <a:gridCol w="6983640"/>
              </a:tblGrid>
              <a:tr h="360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Rectangle 13"/>
          <p:cNvSpPr/>
          <p:nvPr/>
        </p:nvSpPr>
        <p:spPr>
          <a:xfrm>
            <a:off x="324000" y="2708280"/>
            <a:ext cx="15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怎样培养自立能力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1763640" y="2205000"/>
            <a:ext cx="663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最基本的就是立足于自己当前生活、学习中的问题，从小事做起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要培养自立能力，也要大胆地投身社会实践。只有在社会生活中反复锻炼，不断实践，才能逐步提高自立能力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15"/>
          <p:cNvGrpSpPr/>
          <p:nvPr/>
        </p:nvGrpSpPr>
        <p:grpSpPr>
          <a:xfrm>
            <a:off x="503280" y="5535720"/>
            <a:ext cx="8172000" cy="1422000"/>
            <a:chOff x="503280" y="5535720"/>
            <a:chExt cx="8172000" cy="1422000"/>
          </a:xfrm>
        </p:grpSpPr>
        <p:pic>
          <p:nvPicPr>
            <p:cNvPr id="296" name="Picture 16" descr="MOUSE_WITH_A_FLAG"/>
            <p:cNvPicPr/>
            <p:nvPr/>
          </p:nvPicPr>
          <p:blipFill>
            <a:blip r:embed="rId1"/>
            <a:stretch/>
          </p:blipFill>
          <p:spPr>
            <a:xfrm>
              <a:off x="503280" y="5535720"/>
              <a:ext cx="1478880" cy="142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17"/>
            <p:cNvSpPr/>
            <p:nvPr/>
          </p:nvSpPr>
          <p:spPr>
            <a:xfrm>
              <a:off x="1904040" y="5535720"/>
              <a:ext cx="6771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纸上得来终觉浅，绝知此事要躬行。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　　　　　　　　　　　－－陆游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99640" y="836640"/>
            <a:ext cx="853308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Verdana"/>
                <a:ea typeface="华文中宋"/>
              </a:rPr>
              <a:t>        </a:t>
            </a:r>
            <a:br>
              <a:rPr sz="3600"/>
            </a:br>
            <a:r>
              <a:rPr b="1" lang="zh-CN" sz="4000" spc="-1" strike="noStrike">
                <a:solidFill>
                  <a:srgbClr val="006666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006666"/>
                </a:solidFill>
                <a:latin typeface="华文中宋"/>
                <a:ea typeface="华文中宋"/>
              </a:rPr>
              <a:t>、</a:t>
            </a:r>
            <a:r>
              <a:rPr b="1" lang="zh-CN" sz="4000" spc="-1" strike="noStrike">
                <a:solidFill>
                  <a:srgbClr val="006666"/>
                </a:solidFill>
                <a:latin typeface="Verdana"/>
                <a:ea typeface="华文中宋"/>
              </a:rPr>
              <a:t>自立意愿：要告别依赖</a:t>
            </a:r>
            <a:r>
              <a:rPr b="1" lang="zh-CN" sz="3600" spc="-1" strike="noStrike">
                <a:solidFill>
                  <a:srgbClr val="006666"/>
                </a:solidFill>
                <a:latin typeface="Verdana"/>
                <a:ea typeface="华文中宋"/>
              </a:rPr>
              <a:t>。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900000" y="1268280"/>
            <a:ext cx="727236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  <a:ea typeface="华文中宋"/>
              </a:rPr>
              <a:t>，怎样树立自立意识？</a:t>
            </a:r>
            <a:br>
              <a:rPr sz="40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中宋"/>
              </a:rPr>
              <a:t>      独立生活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中宋"/>
              </a:rPr>
              <a:t>      自己的事情自己负责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中宋"/>
              </a:rPr>
              <a:t>      能自主，遇事有主见。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中宋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中宋"/>
              </a:rPr>
              <a:t>，</a:t>
            </a:r>
            <a:r>
              <a:rPr b="1" lang="zh-CN" sz="4000" spc="-1" strike="noStrike">
                <a:solidFill>
                  <a:srgbClr val="006666"/>
                </a:solidFill>
                <a:latin typeface="Times New Roman"/>
                <a:ea typeface="宋体"/>
              </a:rPr>
              <a:t>培养自立能力</a:t>
            </a:r>
            <a:br>
              <a:rPr sz="2800"/>
            </a:b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仿宋_GB2312"/>
              </a:rPr>
              <a:t>       从小事做起</a:t>
            </a:r>
            <a:br>
              <a:rPr sz="3600"/>
            </a:b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仿宋_GB2312"/>
              </a:rPr>
              <a:t>      大胆实践、反复锻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4" descr="BEAR028"/>
          <p:cNvPicPr/>
          <p:nvPr/>
        </p:nvPicPr>
        <p:blipFill>
          <a:blip r:embed="rId1"/>
          <a:stretch/>
        </p:blipFill>
        <p:spPr>
          <a:xfrm>
            <a:off x="0" y="4437000"/>
            <a:ext cx="1455840" cy="20764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5"/>
          <p:cNvSpPr/>
          <p:nvPr/>
        </p:nvSpPr>
        <p:spPr>
          <a:xfrm>
            <a:off x="2599920" y="476280"/>
            <a:ext cx="358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告别依赖   走向自立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招聘会2"/>
          <p:cNvPicPr/>
          <p:nvPr/>
        </p:nvPicPr>
        <p:blipFill>
          <a:blip r:embed="rId1"/>
          <a:stretch/>
        </p:blipFill>
        <p:spPr>
          <a:xfrm>
            <a:off x="0" y="0"/>
            <a:ext cx="3657600" cy="3124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03"/>
          <p:cNvPicPr/>
          <p:nvPr/>
        </p:nvPicPr>
        <p:blipFill>
          <a:blip r:embed="rId2"/>
          <a:stretch/>
        </p:blipFill>
        <p:spPr>
          <a:xfrm>
            <a:off x="0" y="3124080"/>
            <a:ext cx="3657600" cy="373392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4"/>
          <p:cNvSpPr/>
          <p:nvPr/>
        </p:nvSpPr>
        <p:spPr>
          <a:xfrm>
            <a:off x="3809880" y="565200"/>
            <a:ext cx="5334120" cy="8859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黑体"/>
              </a:rPr>
              <a:t>　　在一个招聘会上，曾出现这样一幕：一个老人在各个摊位前忙个不停，填了六十多份各类求职应聘表，并且不断向招聘单位咨询。许多人以为她是来找工作的，一打听才知道，他所做的一切都 是为了</a:t>
            </a:r>
            <a:r>
              <a:rPr b="1" lang="en-US" sz="2600" spc="-1" strike="noStrike">
                <a:solidFill>
                  <a:srgbClr val="0000ff"/>
                </a:solidFill>
                <a:latin typeface="黑体"/>
              </a:rPr>
              <a:t>26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</a:rPr>
              <a:t>岁的儿子 。此时此刻，他的儿子正在家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</a:rPr>
              <a:t>赋闲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</a:rPr>
              <a:t>。他一天到晚除了吃饭睡觉，就是聊天、玩牌、上网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635280" y="465300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如果你是招聘者，你会聘用这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6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岁的年轻人吗？为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241200" y="5661000"/>
            <a:ext cx="8291520" cy="459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不会，因为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他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根本没有自立能力，缺乏责任感，不能适应社会生活，而且根本不愿依靠自己的努力走向自立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招聘单位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需要的是有独立工作能力，刻苦耐劳，勤奋进取的人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WordArt 7"/>
          <p:cNvSpPr txBox="1"/>
          <p:nvPr/>
        </p:nvSpPr>
        <p:spPr>
          <a:xfrm>
            <a:off x="5029200" y="76320"/>
            <a:ext cx="2936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招聘会</a:t>
            </a:r>
            <a:endParaRPr b="1" lang="en-US" sz="3200" spc="1" strike="noStrike">
              <a:ln w="9360">
                <a:solidFill>
                  <a:srgbClr val="ff0000"/>
                </a:solidFill>
                <a:round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308" name="5.MP3" descr=""/>
          <p:cNvPicPr/>
          <p:nvPr/>
        </p:nvPicPr>
        <p:blipFill>
          <a:blip r:embed="rId3"/>
          <a:stretch/>
        </p:blipFill>
        <p:spPr>
          <a:xfrm>
            <a:off x="8415360" y="6129360"/>
            <a:ext cx="728640" cy="728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38113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684360" y="764640"/>
            <a:ext cx="777240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对于老师和父母的管束，同学们有不同的看法：（阅读课本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页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你赞成哪种看法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250920" y="2781360"/>
            <a:ext cx="345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管束得太多、太严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3851280" y="2852640"/>
            <a:ext cx="1081080" cy="503280"/>
          </a:xfrm>
          <a:prstGeom prst="rightArrow">
            <a:avLst>
              <a:gd name="adj1" fmla="val 50000"/>
              <a:gd name="adj2" fmla="val 53682"/>
            </a:avLst>
          </a:pr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5148360" y="2637000"/>
            <a:ext cx="3671640" cy="1008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缺乏独立思考，惟命是从，无所作为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324000" y="371628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不加管束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2771640" y="3789360"/>
            <a:ext cx="1081080" cy="503280"/>
          </a:xfrm>
          <a:prstGeom prst="rightArrow">
            <a:avLst>
              <a:gd name="adj1" fmla="val 50000"/>
              <a:gd name="adj2" fmla="val 53682"/>
            </a:avLst>
          </a:pr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3995640" y="3716280"/>
            <a:ext cx="4969080" cy="1008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使学生放任，胸无大志，为所欲为，甚至走上犯罪道路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611280" y="5084640"/>
            <a:ext cx="799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适当管束，使学生学会自立的本领，独立思考，积极进取，养成良好的生活习惯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BEAR028"/>
          <p:cNvPicPr/>
          <p:nvPr/>
        </p:nvPicPr>
        <p:blipFill>
          <a:blip r:embed="rId1"/>
          <a:stretch/>
        </p:blipFill>
        <p:spPr>
          <a:xfrm>
            <a:off x="0" y="4437000"/>
            <a:ext cx="1455840" cy="207648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3"/>
          <p:cNvSpPr/>
          <p:nvPr/>
        </p:nvSpPr>
        <p:spPr>
          <a:xfrm>
            <a:off x="900000" y="1484280"/>
            <a:ext cx="7724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方正舒体"/>
                <a:ea typeface="方正舒体"/>
              </a:rPr>
              <a:t>　</a:t>
            </a:r>
            <a:r>
              <a:rPr b="1" lang="zh-CN" sz="4400" spc="-1" strike="noStrike">
                <a:solidFill>
                  <a:srgbClr val="cc3300"/>
                </a:solidFill>
                <a:latin typeface="方正舒体"/>
                <a:ea typeface="方正舒体"/>
              </a:rPr>
              <a:t>　</a:t>
            </a:r>
            <a:r>
              <a:rPr b="1" lang="zh-CN" sz="4400" spc="-1" strike="noStrike">
                <a:solidFill>
                  <a:srgbClr val="ff3300"/>
                </a:solidFill>
                <a:latin typeface="方正舒体"/>
                <a:ea typeface="方正舒体"/>
              </a:rPr>
              <a:t>假设学校取消了班主任制度，没有班主任的约束 ，你该如何安排自己的学习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4" descr="0369"/>
          <p:cNvPicPr/>
          <p:nvPr/>
        </p:nvPicPr>
        <p:blipFill>
          <a:blip r:embed="rId2"/>
          <a:stretch/>
        </p:blipFill>
        <p:spPr>
          <a:xfrm>
            <a:off x="7219800" y="4162320"/>
            <a:ext cx="1924200" cy="2695680"/>
          </a:xfrm>
          <a:prstGeom prst="rect">
            <a:avLst/>
          </a:prstGeom>
          <a:ln w="0">
            <a:noFill/>
          </a:ln>
        </p:spPr>
      </p:pic>
      <p:sp>
        <p:nvSpPr>
          <p:cNvPr id="320" name="WordArt 5"/>
          <p:cNvSpPr txBox="1"/>
          <p:nvPr/>
        </p:nvSpPr>
        <p:spPr>
          <a:xfrm>
            <a:off x="468360" y="260280"/>
            <a:ext cx="324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畅所欲言：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grpSp>
        <p:nvGrpSpPr>
          <p:cNvPr id="321" name="Group 6"/>
          <p:cNvGrpSpPr/>
          <p:nvPr/>
        </p:nvGrpSpPr>
        <p:grpSpPr>
          <a:xfrm>
            <a:off x="1332000" y="3645000"/>
            <a:ext cx="5832360" cy="2449440"/>
            <a:chOff x="1332000" y="3645000"/>
            <a:chExt cx="5832360" cy="2449440"/>
          </a:xfrm>
        </p:grpSpPr>
        <p:sp>
          <p:nvSpPr>
            <p:cNvPr id="322" name="AutoShape 7"/>
            <p:cNvSpPr/>
            <p:nvPr/>
          </p:nvSpPr>
          <p:spPr>
            <a:xfrm>
              <a:off x="1332000" y="4149720"/>
              <a:ext cx="1714680" cy="1295640"/>
            </a:xfrm>
            <a:prstGeom prst="rightArrow">
              <a:avLst>
                <a:gd name="adj1" fmla="val 50000"/>
                <a:gd name="adj2" fmla="val 3307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8"/>
            <p:cNvSpPr/>
            <p:nvPr/>
          </p:nvSpPr>
          <p:spPr>
            <a:xfrm>
              <a:off x="1332000" y="4365720"/>
              <a:ext cx="131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提示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9"/>
            <p:cNvSpPr/>
            <p:nvPr/>
          </p:nvSpPr>
          <p:spPr>
            <a:xfrm>
              <a:off x="3203640" y="3645000"/>
              <a:ext cx="3960720" cy="24494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0"/>
            <p:cNvSpPr/>
            <p:nvPr/>
          </p:nvSpPr>
          <p:spPr>
            <a:xfrm>
              <a:off x="3419640" y="4149720"/>
              <a:ext cx="345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从学习纪律、学习效果、作业完成等方面考虑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39640" y="3068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我们也应该自觉地严格要求自己，上课遵守纪律、认真听讲，认真完成作业，努力提高学习成绩，这样才是真正对自己负责，做自己学习的主人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622440" y="836640"/>
            <a:ext cx="81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、要树立学习是自己的事情，应该自己负责，不应该依赖他人的督促和严格管理的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042920" y="2276280"/>
            <a:ext cx="7416720" cy="28810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依赖的危害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自立的条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自立的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2627280" y="836640"/>
            <a:ext cx="3816360" cy="8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993300"/>
                  </a:solidFill>
                  <a:round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自学目标</a:t>
            </a:r>
            <a:endParaRPr b="1" lang="en-US" sz="3200" spc="1" strike="noStrike">
              <a:ln w="9360">
                <a:solidFill>
                  <a:srgbClr val="993300"/>
                </a:solidFill>
                <a:round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Oval 2"/>
          <p:cNvSpPr/>
          <p:nvPr/>
        </p:nvSpPr>
        <p:spPr>
          <a:xfrm>
            <a:off x="2771640" y="404640"/>
            <a:ext cx="3429000" cy="327672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057400"/>
            <a:ext cx="76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假设父母因故外出一周，只有你一个人在，你会怎样安排自己的生活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7740720" y="836640"/>
            <a:ext cx="1403280" cy="533520"/>
          </a:xfrm>
          <a:custGeom>
            <a:avLst/>
            <a:gdLst>
              <a:gd name="textAreaLeft" fmla="*/ 350640 w 1403280"/>
              <a:gd name="textAreaRight" fmla="*/ 1052640 w 1403280"/>
              <a:gd name="textAreaTop" fmla="*/ 1548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2050920" y="765000"/>
            <a:ext cx="1621080" cy="533520"/>
          </a:xfrm>
          <a:custGeom>
            <a:avLst/>
            <a:gdLst>
              <a:gd name="textAreaLeft" fmla="*/ 405360 w 1621080"/>
              <a:gd name="textAreaRight" fmla="*/ 1216080 w 1621080"/>
              <a:gd name="textAreaTop" fmla="*/ 1548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Group 6"/>
          <p:cNvGrpSpPr/>
          <p:nvPr/>
        </p:nvGrpSpPr>
        <p:grpSpPr>
          <a:xfrm>
            <a:off x="539640" y="3500280"/>
            <a:ext cx="8379000" cy="2971800"/>
            <a:chOff x="539640" y="3500280"/>
            <a:chExt cx="8379000" cy="2971800"/>
          </a:xfrm>
        </p:grpSpPr>
        <p:sp>
          <p:nvSpPr>
            <p:cNvPr id="333" name="AutoShape 7"/>
            <p:cNvSpPr/>
            <p:nvPr/>
          </p:nvSpPr>
          <p:spPr>
            <a:xfrm>
              <a:off x="539640" y="4005000"/>
              <a:ext cx="2362320" cy="1828800"/>
            </a:xfrm>
            <a:prstGeom prst="rightArrow">
              <a:avLst>
                <a:gd name="adj1" fmla="val 50000"/>
                <a:gd name="adj2" fmla="val 32281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8"/>
            <p:cNvSpPr/>
            <p:nvPr/>
          </p:nvSpPr>
          <p:spPr>
            <a:xfrm>
              <a:off x="684000" y="4437000"/>
              <a:ext cx="167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提示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3203640" y="3500280"/>
              <a:ext cx="5715000" cy="2971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0"/>
            <p:cNvSpPr/>
            <p:nvPr/>
          </p:nvSpPr>
          <p:spPr>
            <a:xfrm>
              <a:off x="3851280" y="4076640"/>
              <a:ext cx="43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可以从作息时间、吃饭、卫生、安全等几个方面进行安排。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7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1938240" cy="1981080"/>
          </a:xfrm>
          <a:prstGeom prst="rect">
            <a:avLst/>
          </a:prstGeom>
          <a:ln w="0">
            <a:noFill/>
          </a:ln>
        </p:spPr>
      </p:pic>
      <p:sp>
        <p:nvSpPr>
          <p:cNvPr id="338" name="WordArt 12"/>
          <p:cNvSpPr txBox="1"/>
          <p:nvPr/>
        </p:nvSpPr>
        <p:spPr>
          <a:xfrm>
            <a:off x="3924360" y="404640"/>
            <a:ext cx="3581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畅所欲言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611280" y="764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明确我的生活我负责的理念，自立的人能够对自己的生活负责的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7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7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坚持早睡早起，自己做简单的饭菜，自己洗衣服、打扫房间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7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睡觉前、出门前都要检查门窗、煤气、水电等是否关好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7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科学、合理地安排自己的生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文本框 8194"/>
          <p:cNvSpPr/>
          <p:nvPr/>
        </p:nvSpPr>
        <p:spPr>
          <a:xfrm>
            <a:off x="1292400" y="35654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cc99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250920" y="765000"/>
            <a:ext cx="907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自立不是拒绝（    ），依靠不是（    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告别依赖，一个重要的表现是（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独立生活，要做到（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自立自理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关键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（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自己的事情自己负责前提是要（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自立的前提是（    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3780000" y="69228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帮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308720" y="765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依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6227640" y="1268280"/>
            <a:ext cx="20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独立生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4390920" y="1773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自己的事情自己负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611280" y="2708280"/>
            <a:ext cx="72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明确自己的责任，勇于承担自己的责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6659640" y="3213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自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2268360" y="3645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自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380880" y="1371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edfad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美国前总统卡特的独生女儿艾米，年仅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岁时，在暑假中决定去打工，当服务员，主要任务是跑腿、送公文、干杂活，周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17.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美元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80880" y="4038480"/>
            <a:ext cx="82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edfad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美国前总统里根的儿子失业后，没有向总统父亲伸手，而是一边找工作，一边靠领救济金度日，表现了一种自强自立的精神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WordArt 4"/>
          <p:cNvSpPr txBox="1"/>
          <p:nvPr/>
        </p:nvSpPr>
        <p:spPr>
          <a:xfrm>
            <a:off x="2438280" y="228600"/>
            <a:ext cx="4038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自立故事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352" name="6.MP3" descr=""/>
          <p:cNvPicPr/>
          <p:nvPr/>
        </p:nvPicPr>
        <p:blipFill>
          <a:blip r:embed="rId1"/>
          <a:stretch/>
        </p:blipFill>
        <p:spPr>
          <a:xfrm>
            <a:off x="7956720" y="5877000"/>
            <a:ext cx="7286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30564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4D70-6382-44B1-A5B5-74191C14FB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380880" y="1295280"/>
            <a:ext cx="843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edfad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芬兰总理的女儿在瑞典上学，由于瑞典物价比芬兰高，父亲给她的费用只够她日常所需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／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，她便在业余时间到饭馆洗餐具，以补不足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380880" y="40384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edfad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南斯拉夫已故总统铁托的儿子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岁离家奋斗，从不利用他父亲的影响谋取好处。他从普通工人做起，靠自己的奋斗，后来当上了石油公司的总经理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WordArt 4"/>
          <p:cNvSpPr txBox="1"/>
          <p:nvPr/>
        </p:nvSpPr>
        <p:spPr>
          <a:xfrm>
            <a:off x="2438280" y="228600"/>
            <a:ext cx="4038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自立故事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1066680"/>
            <a:ext cx="9067680" cy="3194280"/>
            <a:chOff x="0" y="1066680"/>
            <a:chExt cx="9067680" cy="3194280"/>
          </a:xfrm>
        </p:grpSpPr>
        <p:sp>
          <p:nvSpPr>
            <p:cNvPr id="226" name="Text Box 3"/>
            <p:cNvSpPr/>
            <p:nvPr/>
          </p:nvSpPr>
          <p:spPr>
            <a:xfrm>
              <a:off x="3048120" y="1066680"/>
              <a:ext cx="6019560" cy="581400"/>
            </a:xfrm>
            <a:prstGeom prst="rect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　　某中学生小雅生活在一个大城市，爸妈平时对她照顾得无微不至，以至于她真想独自生活一天试试，爸妈同意了。送走爸妈后，她靠在沙发上看电视，结果迷迷糊糊睡着了，醒来后又饿又冷，一个劲地流鼻涕。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" name="Picture 4" descr="01"/>
            <p:cNvPicPr/>
            <p:nvPr/>
          </p:nvPicPr>
          <p:blipFill>
            <a:blip r:embed="rId1"/>
            <a:stretch/>
          </p:blipFill>
          <p:spPr>
            <a:xfrm>
              <a:off x="0" y="1100880"/>
              <a:ext cx="2971800" cy="316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Text Box 5"/>
          <p:cNvSpPr/>
          <p:nvPr/>
        </p:nvSpPr>
        <p:spPr>
          <a:xfrm>
            <a:off x="-73080" y="4191120"/>
            <a:ext cx="41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黑体"/>
              </a:rPr>
              <a:t>思  考   题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457200" y="4861080"/>
            <a:ext cx="850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、结合自己的经历，谈谈依赖别人有什么坏处？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WordArt 7"/>
          <p:cNvSpPr txBox="1"/>
          <p:nvPr/>
        </p:nvSpPr>
        <p:spPr>
          <a:xfrm>
            <a:off x="762120" y="304920"/>
            <a:ext cx="6781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新魏"/>
              </a:rPr>
              <a:t>一、不能再有依赖</a:t>
            </a:r>
            <a:endParaRPr b="1" lang="en-US" sz="3200" spc="1" strike="noStrike">
              <a:ln w="9360">
                <a:solidFill>
                  <a:srgbClr val="ff0000"/>
                </a:solidFill>
                <a:round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31" name="4.MP3" descr=""/>
          <p:cNvPicPr/>
          <p:nvPr/>
        </p:nvPicPr>
        <p:blipFill>
          <a:blip r:embed="rId2"/>
          <a:stretch/>
        </p:blipFill>
        <p:spPr>
          <a:xfrm>
            <a:off x="8244000" y="5445000"/>
            <a:ext cx="65700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2858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0" y="0"/>
            <a:ext cx="304812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掌握观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732680" y="83664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一、不能再有依赖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24000" y="1773360"/>
          <a:ext cx="8351640" cy="3941640"/>
        </p:xfrm>
        <a:graphic>
          <a:graphicData uri="http://schemas.openxmlformats.org/drawingml/2006/table">
            <a:tbl>
              <a:tblPr/>
              <a:tblGrid>
                <a:gridCol w="1510920"/>
                <a:gridCol w="6840720"/>
              </a:tblGrid>
              <a:tr h="394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13"/>
          <p:cNvSpPr/>
          <p:nvPr/>
        </p:nvSpPr>
        <p:spPr>
          <a:xfrm>
            <a:off x="304920" y="28954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依赖的危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2057400" y="2057400"/>
            <a:ext cx="654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使人丧失独立生活的能力和精神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使人缺乏生活的责任感，造成人格缺陷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只想过不劳而获的生活，贪图享受，不能适应社会生活，甚至危害社会和他人，走上违法犯罪的道路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95280" y="19177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Q_013"/>
          <p:cNvPicPr/>
          <p:nvPr/>
        </p:nvPicPr>
        <p:blipFill>
          <a:blip r:embed="rId1"/>
          <a:stretch/>
        </p:blipFill>
        <p:spPr>
          <a:xfrm>
            <a:off x="3203640" y="1166760"/>
            <a:ext cx="1584360" cy="1222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539640" y="278136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要自立，不能依赖，是不是就要拒绝帮助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WordArt 6"/>
          <p:cNvSpPr txBox="1"/>
          <p:nvPr/>
        </p:nvSpPr>
        <p:spPr>
          <a:xfrm>
            <a:off x="755640" y="1197000"/>
            <a:ext cx="1800360" cy="8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思考：</a:t>
            </a:r>
            <a:endParaRPr b="1" lang="en-US" sz="32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2857680" y="0"/>
            <a:ext cx="304776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ff00"/>
                </a:solidFill>
                <a:latin typeface="华文行楷"/>
                <a:ea typeface="华文行楷"/>
              </a:rPr>
              <a:t>掌握观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1732680" y="83664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一、不能再有依赖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24000" y="1773360"/>
          <a:ext cx="8351640" cy="4228920"/>
        </p:xfrm>
        <a:graphic>
          <a:graphicData uri="http://schemas.openxmlformats.org/drawingml/2006/table">
            <a:tbl>
              <a:tblPr/>
              <a:tblGrid>
                <a:gridCol w="1655280"/>
                <a:gridCol w="6696360"/>
              </a:tblGrid>
              <a:tr h="165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6"/>
          <p:cNvSpPr/>
          <p:nvPr/>
        </p:nvSpPr>
        <p:spPr>
          <a:xfrm>
            <a:off x="324000" y="1916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自立与帮助、依赖的关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2195640" y="3789360"/>
            <a:ext cx="64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告别依赖，走向自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8"/>
          <p:cNvSpPr/>
          <p:nvPr/>
        </p:nvSpPr>
        <p:spPr>
          <a:xfrm>
            <a:off x="324000" y="3860640"/>
            <a:ext cx="15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我们所处的成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9"/>
          <p:cNvSpPr/>
          <p:nvPr/>
        </p:nvSpPr>
        <p:spPr>
          <a:xfrm>
            <a:off x="2273400" y="2273400"/>
            <a:ext cx="67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自立不是拒绝帮助，依靠不是依赖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中日夏令营2"/>
          <p:cNvPicPr/>
          <p:nvPr/>
        </p:nvPicPr>
        <p:blipFill>
          <a:blip r:embed="rId1"/>
          <a:stretch/>
        </p:blipFill>
        <p:spPr>
          <a:xfrm>
            <a:off x="7086600" y="5307120"/>
            <a:ext cx="2057400" cy="15508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"/>
          <p:cNvSpPr/>
          <p:nvPr/>
        </p:nvSpPr>
        <p:spPr>
          <a:xfrm>
            <a:off x="228600" y="11430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9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，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77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日本孩子与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中国孩子曾经引起全国范围的大讨论。当时，这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7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儿童在内蒙古举行草原探险夏令营。上路时，日本孩子背包鼓鼓囊囊，装满食品和野营用具；中国孩子只是装装样子，背包几乎是空的。探险之路才走一半，中国儿童因将水喝光、干粮吃尽而向别人求援。中国孩子病了，回大本营睡觉；日本孩子病了硬挺着走到目的地。日本家长乘车而去，把鼓励留给发高烧的孙子；中国家长在艰难路段把儿子拉上车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WordArt 4"/>
          <p:cNvSpPr txBox="1"/>
          <p:nvPr/>
        </p:nvSpPr>
        <p:spPr>
          <a:xfrm rot="165000">
            <a:off x="985680" y="247320"/>
            <a:ext cx="701388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ff00"/>
                  </a:outerShdw>
                </a:effectLst>
                <a:latin typeface="华文新魏"/>
              </a:rPr>
              <a:t>中日少年《夏令营中的较量》</a:t>
            </a:r>
            <a:endParaRPr b="1" lang="en-US" sz="3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53753" dir="2700000" blurRad="0" rotWithShape="0">
                  <a:srgbClr val="00ff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51" name="1.MP3" descr=""/>
          <p:cNvPicPr/>
          <p:nvPr/>
        </p:nvPicPr>
        <p:blipFill>
          <a:blip r:embed="rId2"/>
          <a:stretch/>
        </p:blipFill>
        <p:spPr>
          <a:xfrm>
            <a:off x="324000" y="6129360"/>
            <a:ext cx="7286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with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4000"/>
                            </p:stCondLst>
                            <p:childTnLst>
                              <p:par>
                                <p:cTn id="7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53578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17733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为什么日本的少年有饭吃，而中国的孩子饿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肚子？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0" y="3429000"/>
            <a:ext cx="892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你认为一个自立的人应该具备哪些条件？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24000" y="404640"/>
            <a:ext cx="830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结合中日少年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夏令营中的较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和外国孩子的自立教育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思考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4076640"/>
            <a:ext cx="916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要有自立意识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独立生活；自己的事情自己负责；能自主，遇事有主见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278136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缺少自立能力，对父母的依赖性大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79280" y="306864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你认为自立自理的关键是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WordArt 3"/>
          <p:cNvSpPr txBox="1"/>
          <p:nvPr/>
        </p:nvSpPr>
        <p:spPr>
          <a:xfrm>
            <a:off x="1187280" y="476280"/>
            <a:ext cx="6121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556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新魏"/>
              </a:rPr>
              <a:t>二、自立与自主</a:t>
            </a:r>
            <a:endParaRPr b="1" lang="en-US" sz="3200" spc="1" strike="noStrike">
              <a:ln w="25560">
                <a:solidFill>
                  <a:srgbClr val="ff0000"/>
                </a:solidFill>
                <a:round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68360" y="3789360"/>
            <a:ext cx="79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明确自己的责任，并勇于承担自己的责任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324000" y="4724280"/>
            <a:ext cx="6766560" cy="822240"/>
            <a:chOff x="324000" y="4724280"/>
            <a:chExt cx="6766560" cy="822240"/>
          </a:xfrm>
        </p:grpSpPr>
        <p:sp>
          <p:nvSpPr>
            <p:cNvPr id="261" name="Rectangle 6"/>
            <p:cNvSpPr/>
            <p:nvPr/>
          </p:nvSpPr>
          <p:spPr>
            <a:xfrm>
              <a:off x="324000" y="4965120"/>
              <a:ext cx="4854240" cy="58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自己的事情自己负责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Group 7"/>
            <p:cNvGrpSpPr/>
            <p:nvPr/>
          </p:nvGrpSpPr>
          <p:grpSpPr>
            <a:xfrm>
              <a:off x="5494320" y="4724280"/>
              <a:ext cx="1596240" cy="804240"/>
              <a:chOff x="5494320" y="4724280"/>
              <a:chExt cx="1596240" cy="80424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5494320" y="5528160"/>
                <a:ext cx="1596240" cy="360"/>
                <a:chOff x="5494320" y="5528160"/>
                <a:chExt cx="1596240" cy="360"/>
              </a:xfrm>
            </p:grpSpPr>
            <p:sp>
              <p:nvSpPr>
                <p:cNvPr id="264" name="Line 8"/>
                <p:cNvSpPr/>
                <p:nvPr/>
              </p:nvSpPr>
              <p:spPr>
                <a:xfrm>
                  <a:off x="5494320" y="5528160"/>
                  <a:ext cx="1596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 txBox="1"/>
                <p:nvPr/>
              </p:nvSpPr>
              <p:spPr>
                <a:xfrm>
                  <a:off x="5494320" y="5528160"/>
                  <a:ext cx="1596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Text Box 9"/>
              <p:cNvSpPr/>
              <p:nvPr/>
            </p:nvSpPr>
            <p:spPr>
              <a:xfrm>
                <a:off x="5625000" y="4724280"/>
                <a:ext cx="1197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前提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WordArt 10"/>
          <p:cNvSpPr txBox="1"/>
          <p:nvPr/>
        </p:nvSpPr>
        <p:spPr>
          <a:xfrm>
            <a:off x="7236000" y="4797360"/>
            <a:ext cx="143964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自主</a:t>
            </a:r>
            <a:endParaRPr b="1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1531080" y="1916280"/>
            <a:ext cx="638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1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自立条件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立生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的事情自己负责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自主，遇事有主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08:48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54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