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29.jpeg" ContentType="image/jpeg"/>
  <Override PartName="/ppt/media/image52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89E-E938-4DFD-AE6A-B463515C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E9B-6B15-4660-8D0F-3A171A5C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3F4-55C2-4FD0-BC07-892415AE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33C-0CD5-474C-923E-7DEDB818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D90C-6BA3-468F-8A39-8FF70F53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6C3E-34C8-4F1F-89DD-1E54B98D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034F-348D-4B9D-96BE-1B1692DC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71D9-D444-41AA-B670-8F5FA45C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9D30-BAE5-41D3-A47C-43B8CD31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9CC8-E74D-41DD-89A0-980C05CE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F586-BFF0-45A7-8B86-87337CBE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082-7958-47AD-BBC9-7D196415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980C-F83D-4296-B9D3-462E5A81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8AF2-E583-4574-98DA-778BFEA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972C-E26A-4D6F-A922-EC141469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AE8E-72CB-404E-A316-9FAD2B97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2F5B-1334-473A-8BA3-3901DDB3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BB7-F8B6-4935-A97E-7E92DEE3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EFB-B548-4F2F-BB0A-87EC2374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9E1-9075-48A8-949A-D0C6670E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165-C7EF-4F7D-9421-CDA2743E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E01-529C-465E-9158-0AC84276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CD1-C607-42BE-B493-D8847C3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4B1-71BB-46BD-B084-F6E59C99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EAE7-E9ED-4657-897C-1708D3B65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C48-F5E1-492E-97C6-E093215F6C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baike.baidu.com/view/14770.htm" TargetMode="External"/><Relationship Id="rId3" Type="http://schemas.openxmlformats.org/officeDocument/2006/relationships/hyperlink" Target="http://baike.baidu.com/view/2807645.ht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baike.baidu.com/view/65376.htm" TargetMode="External"/><Relationship Id="rId3" Type="http://schemas.openxmlformats.org/officeDocument/2006/relationships/hyperlink" Target="http://baike.baidu.com/view/862971.htm" TargetMode="External"/><Relationship Id="rId4" Type="http://schemas.openxmlformats.org/officeDocument/2006/relationships/hyperlink" Target="http://baike.baidu.com/view/241363.htm" TargetMode="External"/><Relationship Id="rId5" Type="http://schemas.openxmlformats.org/officeDocument/2006/relationships/hyperlink" Target="http://baike.baidu.com/view/10226.htm" TargetMode="External"/><Relationship Id="rId6" Type="http://schemas.openxmlformats.org/officeDocument/2006/relationships/hyperlink" Target="http://baike.baidu.com/view/27254.htm" TargetMode="External"/><Relationship Id="rId7" Type="http://schemas.openxmlformats.org/officeDocument/2006/relationships/hyperlink" Target="http://baike.baidu.com/view/62656.htm" TargetMode="External"/><Relationship Id="rId8" Type="http://schemas.openxmlformats.org/officeDocument/2006/relationships/hyperlink" Target="http://baike.baidu.com/view/148817.htm" TargetMode="External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1816200" y="2219400"/>
            <a:ext cx="5545080" cy="3444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476280" y="84312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观察描述矿物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2007111163816915_2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213291_102509005_2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ar007-0d-1"/>
          <p:cNvPicPr/>
          <p:nvPr/>
        </p:nvPicPr>
        <p:blipFill>
          <a:blip r:embed="rId1"/>
          <a:stretch/>
        </p:blipFill>
        <p:spPr>
          <a:xfrm>
            <a:off x="0" y="0"/>
            <a:ext cx="38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res09_attpic_brief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CB151937312"/>
          <p:cNvPicPr/>
          <p:nvPr/>
        </p:nvPicPr>
        <p:blipFill>
          <a:blip r:embed="rId1"/>
          <a:stretch/>
        </p:blipFill>
        <p:spPr>
          <a:xfrm>
            <a:off x="0" y="0"/>
            <a:ext cx="2771640" cy="3068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getimage?image=2695588708376082155"/>
          <p:cNvPicPr/>
          <p:nvPr/>
        </p:nvPicPr>
        <p:blipFill>
          <a:blip r:embed="rId2"/>
          <a:stretch/>
        </p:blipFill>
        <p:spPr>
          <a:xfrm>
            <a:off x="2843280" y="0"/>
            <a:ext cx="3095640" cy="3068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getimage?image=-8326038753268559254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3068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2311C0003100000894_large"/>
          <p:cNvPicPr/>
          <p:nvPr/>
        </p:nvPicPr>
        <p:blipFill>
          <a:blip r:embed="rId4"/>
          <a:stretch/>
        </p:blipFill>
        <p:spPr>
          <a:xfrm>
            <a:off x="0" y="3141720"/>
            <a:ext cx="4211640" cy="371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20071029111004755"/>
          <p:cNvPicPr/>
          <p:nvPr/>
        </p:nvPicPr>
        <p:blipFill>
          <a:blip r:embed="rId5"/>
          <a:stretch/>
        </p:blipFill>
        <p:spPr>
          <a:xfrm>
            <a:off x="4211640" y="3068640"/>
            <a:ext cx="4932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k0171ap"/>
          <p:cNvPicPr/>
          <p:nvPr/>
        </p:nvPicPr>
        <p:blipFill>
          <a:blip r:embed="rId1"/>
          <a:stretch/>
        </p:blipFill>
        <p:spPr>
          <a:xfrm>
            <a:off x="179280" y="765000"/>
            <a:ext cx="3419640" cy="4365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100545824"/>
          <p:cNvPicPr/>
          <p:nvPr/>
        </p:nvPicPr>
        <p:blipFill>
          <a:blip r:embed="rId2"/>
          <a:stretch/>
        </p:blipFill>
        <p:spPr>
          <a:xfrm>
            <a:off x="4284720" y="692280"/>
            <a:ext cx="4680000" cy="2857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-1203654962171"/>
          <p:cNvPicPr/>
          <p:nvPr/>
        </p:nvPicPr>
        <p:blipFill>
          <a:blip r:embed="rId3"/>
          <a:stretch/>
        </p:blipFill>
        <p:spPr>
          <a:xfrm>
            <a:off x="4284720" y="3716280"/>
            <a:ext cx="46083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971640" y="551664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金矿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Arial"/>
                <a:ea typeface="楷体"/>
              </a:rPr>
              <a:t>非金属光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玻璃光泽（像玻璃的光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油脂光泽（像涂上脂肪一样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珍珠光泽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像珍珠发出的光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丝绢光泽（像丝织品发光一样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土状光泽（表面反光暗淡像泥土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1244450568983598_2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5219640" y="0"/>
            <a:ext cx="367344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钻石是指经过琢磨的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金刚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金刚石是一种天然矿物，是钻石的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原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简单地讲，钻石是在地球深部高压、高温条件下形成的一种由碳元素组成的单质晶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20081126172420763_2"/>
          <p:cNvPicPr/>
          <p:nvPr/>
        </p:nvPicPr>
        <p:blipFill>
          <a:blip r:embed="rId1"/>
          <a:stretch/>
        </p:blipFill>
        <p:spPr>
          <a:xfrm>
            <a:off x="0" y="0"/>
            <a:ext cx="445608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20092591513925_2"/>
          <p:cNvPicPr/>
          <p:nvPr/>
        </p:nvPicPr>
        <p:blipFill>
          <a:blip r:embed="rId2"/>
          <a:stretch/>
        </p:blipFill>
        <p:spPr>
          <a:xfrm>
            <a:off x="4500720" y="-23760"/>
            <a:ext cx="48384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162864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矿物的颜色和条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12432599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4500720" y="836640"/>
            <a:ext cx="46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水晶（石英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20095281652108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4284720" y="692280"/>
            <a:ext cx="43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玉石（刚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6000" y="155736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玻璃光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2027323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20080509144811372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116000" y="0"/>
            <a:ext cx="3527280" cy="18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研究矿物</a:t>
            </a:r>
            <a:endParaRPr b="0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187280" y="4005360"/>
            <a:ext cx="1524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楷体_GB2312"/>
              </a:rPr>
              <a:t>硬度</a:t>
            </a:r>
            <a:endParaRPr b="0" lang="en-US" sz="6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3780000" y="24922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楷体_GB2312"/>
              </a:rPr>
              <a:t>光泽</a:t>
            </a:r>
            <a:endParaRPr b="0" lang="en-US" sz="60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6227640" y="2492280"/>
            <a:ext cx="152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楷体_GB2312"/>
              </a:rPr>
              <a:t>条痕</a:t>
            </a:r>
            <a:endParaRPr b="0" lang="en-US" sz="6000" spc="-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1116000" y="24922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楷体_GB2312"/>
              </a:rPr>
              <a:t>颜色</a:t>
            </a:r>
            <a:endParaRPr b="0" lang="en-US" sz="6000" spc="-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90" name="WordArt 7"/>
          <p:cNvSpPr txBox="1"/>
          <p:nvPr/>
        </p:nvSpPr>
        <p:spPr>
          <a:xfrm>
            <a:off x="3708360" y="4292640"/>
            <a:ext cx="25923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0">
                  <a:noFill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宋体"/>
              </a:rPr>
              <a:t>……</a:t>
            </a:r>
            <a:endParaRPr b="0" lang="en-US" sz="2800" spc="-1" strike="noStrike">
              <a:ln w="0">
                <a:noFill/>
              </a:ln>
              <a:blipFill rotWithShape="0">
                <a:blip r:embed="rId10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91" name="Picture 8" descr="问号1"/>
          <p:cNvPicPr/>
          <p:nvPr/>
        </p:nvPicPr>
        <p:blipFill>
          <a:blip r:embed="rId11"/>
          <a:stretch/>
        </p:blipFill>
        <p:spPr>
          <a:xfrm>
            <a:off x="4859280" y="0"/>
            <a:ext cx="1046160" cy="115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问号1"/>
          <p:cNvPicPr/>
          <p:nvPr/>
        </p:nvPicPr>
        <p:blipFill>
          <a:blip r:embed="rId12"/>
          <a:stretch/>
        </p:blipFill>
        <p:spPr>
          <a:xfrm>
            <a:off x="250920" y="692280"/>
            <a:ext cx="104616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if334"/>
          <p:cNvPicPr/>
          <p:nvPr/>
        </p:nvPicPr>
        <p:blipFill>
          <a:blip r:embed="rId13"/>
          <a:stretch/>
        </p:blipFill>
        <p:spPr>
          <a:xfrm>
            <a:off x="468360" y="5084640"/>
            <a:ext cx="12222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"/>
                            </p:stCondLst>
                            <p:childTnLst>
                              <p:par>
                                <p:cTn id="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"/>
                            </p:stCondLst>
                            <p:childTnLst>
                              <p:par>
                                <p:cTn id="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"/>
                            </p:stCondLst>
                            <p:childTnLst>
                              <p:par>
                                <p:cTn id="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5090348_143722487639_2"/>
          <p:cNvPicPr/>
          <p:nvPr/>
        </p:nvPicPr>
        <p:blipFill>
          <a:blip r:embed="rId1"/>
          <a:stretch/>
        </p:blipFill>
        <p:spPr>
          <a:xfrm>
            <a:off x="0" y="0"/>
            <a:ext cx="526716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5580000" y="260280"/>
            <a:ext cx="30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珍珠是一种古老的有机宝石，产在珍珠贝类和珠母贝类软体动物体内，由于内分泌作用而生成的 含碳酸钙的矿物（文石）珠粒，是由大量微小的文石晶体集合而成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8199"/>
          <p:cNvSpPr/>
          <p:nvPr/>
        </p:nvSpPr>
        <p:spPr>
          <a:xfrm>
            <a:off x="590400" y="338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008326215114713_2"/>
          <p:cNvPicPr/>
          <p:nvPr/>
        </p:nvPicPr>
        <p:blipFill>
          <a:blip r:embed="rId1"/>
          <a:srcRect l="0" t="5551" r="0" b="0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324000" y="0"/>
            <a:ext cx="24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云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20107710368916"/>
          <p:cNvPicPr/>
          <p:nvPr/>
        </p:nvPicPr>
        <p:blipFill>
          <a:blip r:embed="rId1"/>
          <a:stretch/>
        </p:blipFill>
        <p:spPr>
          <a:xfrm>
            <a:off x="0" y="996840"/>
            <a:ext cx="7812000" cy="58611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3492360" y="189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00"/>
                </a:solidFill>
                <a:latin typeface="Arial"/>
                <a:ea typeface="黑体"/>
              </a:rPr>
              <a:t>珍珠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20107985018242"/>
          <p:cNvPicPr/>
          <p:nvPr/>
        </p:nvPicPr>
        <p:blipFill>
          <a:blip r:embed="rId2"/>
          <a:stretch/>
        </p:blipFill>
        <p:spPr>
          <a:xfrm>
            <a:off x="0" y="981000"/>
            <a:ext cx="7812000" cy="585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ymsui"/>
          <p:cNvPicPr/>
          <p:nvPr/>
        </p:nvPicPr>
        <p:blipFill>
          <a:blip r:embed="rId3"/>
          <a:stretch/>
        </p:blipFill>
        <p:spPr>
          <a:xfrm>
            <a:off x="0" y="981000"/>
            <a:ext cx="91440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03f96f0df0cb0f066159f372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5148360" y="0"/>
            <a:ext cx="381636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玛瑙的历史十分遥远，大约在一亿年以前，地下岩浆由于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地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变动而大量喷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熔岩冷却时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蒸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其他气体形成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气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气泡在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岩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冻结时被封起来而形成许多洞孔。很久以后，洞孔浸入含有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二氧化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溶液凝结成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硅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含铁岩石的可熔成份进入硅胶，最后二氧化硅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结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玛瑙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20090418_14bbd8dec6c537c80d03WppH7aM0050d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42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l013"/>
          <p:cNvPicPr/>
          <p:nvPr/>
        </p:nvPicPr>
        <p:blipFill>
          <a:blip r:embed="rId2"/>
          <a:stretch/>
        </p:blipFill>
        <p:spPr>
          <a:xfrm>
            <a:off x="5796000" y="3500280"/>
            <a:ext cx="3348000" cy="3357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01300000057121120060236378307"/>
          <p:cNvPicPr/>
          <p:nvPr/>
        </p:nvPicPr>
        <p:blipFill>
          <a:blip r:embed="rId3"/>
          <a:stretch/>
        </p:blipFill>
        <p:spPr>
          <a:xfrm>
            <a:off x="0" y="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5006160" y="907920"/>
            <a:ext cx="7898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玛瑙工艺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dceab353670ababa71e12fe"/>
          <p:cNvPicPr/>
          <p:nvPr/>
        </p:nvPicPr>
        <p:blipFill>
          <a:blip r:embed="rId1"/>
          <a:stretch/>
        </p:blipFill>
        <p:spPr>
          <a:xfrm>
            <a:off x="250920" y="333360"/>
            <a:ext cx="4572000" cy="424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5435640" y="907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黄铁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00cac18afe242138c9fc7a58"/>
          <p:cNvPicPr/>
          <p:nvPr/>
        </p:nvPicPr>
        <p:blipFill>
          <a:blip r:embed="rId2"/>
          <a:stretch/>
        </p:blipFill>
        <p:spPr>
          <a:xfrm>
            <a:off x="4643280" y="3213000"/>
            <a:ext cx="4229280" cy="33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矿物条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矿物条痕是矿物在无釉白色瓷板上摩擦时所留下的粉末痕迹。矿物擦碎成粉末后，可以消除假色，减弱他色，故矿物条痕的颜色较为固定。矿物条痕的颜色主要对于金属矿物具有鉴定意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403280" y="1700280"/>
          <a:ext cx="6095880" cy="41194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33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然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黄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黄铁矿、黄铜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绿黑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方铅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黑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黑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白色或近于白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赤铁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樱红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27"/>
          <p:cNvSpPr/>
          <p:nvPr/>
        </p:nvSpPr>
        <p:spPr>
          <a:xfrm>
            <a:off x="1979640" y="549360"/>
            <a:ext cx="51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几种矿物的条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辨别金矿和黄铜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矿石在不带釉的白瓷板上划一下，自然金矿石划出的条痕（即留在白瓷板上的粉末）是金黄色的，黄铁矿的条疫是绿黑色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84360" y="620640"/>
            <a:ext cx="77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矿物的软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560240" y="1916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矿物互相刻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914400" y="270828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借助工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指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铜钥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59636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23998" y="10800"/>
                </a:lnTo>
                <a:lnTo>
                  <a:pt x="99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68360" y="40464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矿物的颜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84360" y="170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颜色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是最容易观察到的矿物特征，也是辨认矿物的重要根据之一。有些矿物以颜色命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矿物软硬的判断标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522520" y="177228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用指甲刻划出痕迹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能用指甲刻划出痕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能用铜钥匙刻划出痕迹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较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能用铜钥匙刻划出痕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能用小刀刻划出痕迹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较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铜钥匙、小刀都不能刻划出痕迹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9280" y="4076640"/>
            <a:ext cx="896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矿物中硬度最大的和最小的分别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最大：金刚石       最小：石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763640" y="1268280"/>
            <a:ext cx="5329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石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铁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硬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云母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2916360" y="26028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汇报实验结果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1DB9-57C6-4B7E-A0FC-E7063FAFA3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"/>
              </a:rPr>
              <a:t>透明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904760" y="1846440"/>
            <a:ext cx="41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光线能不能穿过矿物的程度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称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透明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11280" y="3789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分为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透明、半透明、不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0009980_292544"/>
          <p:cNvPicPr/>
          <p:nvPr/>
        </p:nvPicPr>
        <p:blipFill>
          <a:blip r:embed="rId1"/>
          <a:stretch/>
        </p:blipFill>
        <p:spPr>
          <a:xfrm>
            <a:off x="4284720" y="189000"/>
            <a:ext cx="4602240" cy="32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10009953_999999"/>
          <p:cNvPicPr/>
          <p:nvPr/>
        </p:nvPicPr>
        <p:blipFill>
          <a:blip r:embed="rId2"/>
          <a:stretch/>
        </p:blipFill>
        <p:spPr>
          <a:xfrm>
            <a:off x="4427640" y="3429000"/>
            <a:ext cx="3881160" cy="297972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395280" y="115920"/>
            <a:ext cx="266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取个名字吧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9" name="Picture 5" descr="01300000207820122017233070018"/>
          <p:cNvPicPr/>
          <p:nvPr/>
        </p:nvPicPr>
        <p:blipFill>
          <a:blip r:embed="rId3"/>
          <a:stretch/>
        </p:blipFill>
        <p:spPr>
          <a:xfrm>
            <a:off x="539640" y="2060640"/>
            <a:ext cx="3961080" cy="3960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435320" y="587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铁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844040" y="33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褐铁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7983720" y="3500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钨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79280" y="544500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些不同的矿物具有相同的色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24000" y="189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金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aba2b14c8d0e2d16438dbd6"/>
          <p:cNvPicPr/>
          <p:nvPr/>
        </p:nvPicPr>
        <p:blipFill>
          <a:blip r:embed="rId1"/>
          <a:stretch/>
        </p:blipFill>
        <p:spPr>
          <a:xfrm>
            <a:off x="4221000" y="836640"/>
            <a:ext cx="4923000" cy="3692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236000" y="400536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黄铜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94c8b49813b4e8d8035afd4eb5a0a373"/>
          <p:cNvPicPr/>
          <p:nvPr/>
        </p:nvPicPr>
        <p:blipFill>
          <a:blip r:embed="rId2"/>
          <a:stretch/>
        </p:blipFill>
        <p:spPr>
          <a:xfrm>
            <a:off x="0" y="1052640"/>
            <a:ext cx="4500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243259927"/>
          <p:cNvPicPr/>
          <p:nvPr/>
        </p:nvPicPr>
        <p:blipFill>
          <a:blip r:embed="rId1"/>
          <a:stretch/>
        </p:blipFill>
        <p:spPr>
          <a:xfrm>
            <a:off x="0" y="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2009_6_11H122858"/>
          <p:cNvPicPr/>
          <p:nvPr/>
        </p:nvPicPr>
        <p:blipFill>
          <a:blip r:embed="rId2"/>
          <a:stretch/>
        </p:blipFill>
        <p:spPr>
          <a:xfrm>
            <a:off x="3419640" y="0"/>
            <a:ext cx="2952720" cy="494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b2b8b11e58d5a2a486d6b616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4986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395280" y="5229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矿物具有多种色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24000" y="333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石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435640" y="260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石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7451640" y="189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石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marcasite1"/>
          <p:cNvPicPr/>
          <p:nvPr/>
        </p:nvPicPr>
        <p:blipFill>
          <a:blip r:embed="rId2"/>
          <a:stretch/>
        </p:blipFill>
        <p:spPr>
          <a:xfrm>
            <a:off x="539640" y="47628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!20031230153711"/>
          <p:cNvPicPr/>
          <p:nvPr/>
        </p:nvPicPr>
        <p:blipFill>
          <a:blip r:embed="rId3"/>
          <a:stretch/>
        </p:blipFill>
        <p:spPr>
          <a:xfrm>
            <a:off x="4716360" y="476280"/>
            <a:ext cx="3818160" cy="286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004"/>
          <p:cNvPicPr/>
          <p:nvPr/>
        </p:nvPicPr>
        <p:blipFill>
          <a:blip r:embed="rId4"/>
          <a:stretch/>
        </p:blipFill>
        <p:spPr>
          <a:xfrm>
            <a:off x="395280" y="3645000"/>
            <a:ext cx="3960720" cy="28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008"/>
          <p:cNvPicPr/>
          <p:nvPr/>
        </p:nvPicPr>
        <p:blipFill>
          <a:blip r:embed="rId5"/>
          <a:stretch/>
        </p:blipFill>
        <p:spPr>
          <a:xfrm>
            <a:off x="4716360" y="3645000"/>
            <a:ext cx="3816360" cy="26971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7"/>
          <p:cNvSpPr txBox="1"/>
          <p:nvPr/>
        </p:nvSpPr>
        <p:spPr>
          <a:xfrm>
            <a:off x="2771640" y="1773360"/>
            <a:ext cx="3816360" cy="26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光 泽</a:t>
            </a:r>
            <a:endParaRPr b="0" lang="en-US" sz="6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图片1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200410181536211"/>
          <p:cNvPicPr/>
          <p:nvPr/>
        </p:nvPicPr>
        <p:blipFill>
          <a:blip r:embed="rId2"/>
          <a:stretch/>
        </p:blipFill>
        <p:spPr>
          <a:xfrm>
            <a:off x="0" y="0"/>
            <a:ext cx="3924360" cy="2660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01"/>
          <p:cNvPicPr/>
          <p:nvPr/>
        </p:nvPicPr>
        <p:blipFill>
          <a:blip r:embed="rId3"/>
          <a:stretch/>
        </p:blipFill>
        <p:spPr>
          <a:xfrm>
            <a:off x="4500720" y="18900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133691556"/>
          <p:cNvPicPr/>
          <p:nvPr/>
        </p:nvPicPr>
        <p:blipFill>
          <a:blip r:embed="rId4"/>
          <a:stretch/>
        </p:blipFill>
        <p:spPr>
          <a:xfrm>
            <a:off x="0" y="3429000"/>
            <a:ext cx="3924360" cy="258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1099283731"/>
          <p:cNvPicPr/>
          <p:nvPr/>
        </p:nvPicPr>
        <p:blipFill>
          <a:blip r:embed="rId5"/>
          <a:stretch/>
        </p:blipFill>
        <p:spPr>
          <a:xfrm>
            <a:off x="4284720" y="3429000"/>
            <a:ext cx="3456000" cy="2521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617840" y="278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金属调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579640" y="278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泥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836360" y="616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蜡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652720" y="595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丝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1"/>
          <p:cNvSpPr txBox="1"/>
          <p:nvPr/>
        </p:nvSpPr>
        <p:spPr>
          <a:xfrm rot="5400000">
            <a:off x="5617440" y="3031920"/>
            <a:ext cx="5220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仿宋_GB2312"/>
              </a:rPr>
              <a:t>它们的光泽如何</a:t>
            </a:r>
            <a:r>
              <a:rPr b="1" lang="en-US" sz="5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仿宋_GB2312"/>
              </a:rPr>
              <a:t>?</a:t>
            </a:r>
            <a:endParaRPr b="1" lang="en-US" sz="5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114480" y="18900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468360" y="692280"/>
            <a:ext cx="849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矿物表面呈现的光亮程度，称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39640" y="2924280"/>
            <a:ext cx="860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为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金属光泽、半金属光泽、            非金属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2:58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10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