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chimes.wav" ContentType="audio/x-wav"/>
  <Override PartName="/ppt/media/image1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FE2-F39C-41E3-B2BA-3775D5FD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FA1-6AB4-4682-A8AC-0BFC61B7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C90D4-6EFC-49AF-8503-E208E5A6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66904-6ED5-47C8-85CF-E91EEAC6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7B2D2-60AC-4239-9ACE-5898964A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13F53-1961-4ACC-83E8-027612A1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FFD65-42B5-4242-A689-9B42ECCE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310B4-C725-4739-AD75-5892B20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FA0A4-270D-49E0-B4B6-66D20440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8350D-FAA6-4858-9944-7E201EE1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B2B84-4930-49B5-9344-F8192959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E10CD-25A3-4AD6-80C4-52845B5E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E9E-1CA6-47DD-9B7F-E8D6ED27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B0392-0C10-4836-94A9-F0C6D5CA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F0EE1-20EC-4365-9E5D-2AEC49C3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68530-1278-464B-A196-681DD202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1C440-7018-4DB7-A3E5-63058C5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3DFDE-0F64-4032-99C1-E4DEA323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355A3-B95F-48A7-BA7B-A2FC552C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B94ED-FCF1-4449-BEBB-C8EB6972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D36DB-4289-46BB-A98E-0EBC76C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025AF-1D46-42DB-BF27-BFCEB0F8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96095-0963-4197-96F4-3C32B41B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D40-2C34-446D-A476-9D7868E4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95709-C1A2-44AF-AEEB-FE6472F0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F30D9-CD82-4811-924D-03170433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949C2-C2AD-4FD8-B50F-D77DD296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7D78C-97F7-43F2-AE76-2086D8E9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386A6-62F6-44EF-8D50-7833C2F6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07EA0-8022-49BA-B0BA-57058D6A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BE29F-AA95-4F46-B99F-A0877856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A23B3-DC8A-49D2-88C7-24902339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3D931-ECFD-49F4-8496-54F2FB16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F1ADB-2818-4452-9753-28E4A8F8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75C4-2B53-400A-A072-140D3AEF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96C7F-56AA-4940-8795-951F71E3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4FBB7-45ED-4369-BCD8-2C89F8B9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D203B-41C6-4476-8DE5-78F564A4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F07F0-C15E-4B2E-83BA-4CEDD3B1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3E835-A8DB-49CD-A3F3-B6984722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5B59A-C85E-4898-A40E-11797E2F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EF2C9-1929-4075-AB92-DCDB28B1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A2299-C44C-419C-85B7-31F21771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90A79-EE40-462F-A3B5-F1031992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F4A17-333A-42F3-9C08-D6798144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6C1F-4F96-4916-A9EE-66D5ACC3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67BC6-F2F6-435F-8988-393647F3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A5D8D-22FE-49C1-B668-D65FBA4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DEACB-B675-4AC8-A443-DCAF4D8C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CE202-8583-4A6D-825A-8E46BA81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32499-F72A-4FEE-9A30-EEA3CB68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7A328-FC73-4886-9658-557A9B2D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D6DFE-4599-4ED9-81E9-E6774A19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AC0DA-6DE7-4C27-9F03-DD34265F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1169A-A9EC-4F01-8A74-FDB07182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67D57-C0AA-4165-B747-DE4E4329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B2CC-F605-42D4-BA0D-1A2E6393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C0F87-903C-49D0-93BF-CD71ECD5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0C9FE-EA1B-44DF-9EB2-83921BB9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1ED53-C7DE-4C0C-93D4-AAE363A4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2BCE0-A172-4D46-904A-A41B40E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30F86-EA18-4791-9E7F-BE4A6ED3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956DC-DFE8-4A31-B90A-811A1E32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9A41C-9A9E-4853-9D16-19ECEA73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7175-8E0C-4DED-BCB4-363AA7C4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C0FB-B6C6-4BC1-8C9B-36B0C879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333E-6979-472D-A736-CCFF93D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CF2D-1983-4EEC-8FB5-0B048C1C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89D-7A2F-493A-96E1-C45784F0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F3C2-BBA6-4DB2-B4E7-F7632AF5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20D3-0514-428D-AEFE-A0C2A701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CF2D-B378-4910-9ECE-30A7829F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9807-EC74-4A5F-85AB-D894FD91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4917-D79B-41B8-9071-4934EAB7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0DE0-93C4-441E-9FA7-4977F475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EB1A-2167-47B9-A844-188E57B9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D999-BF09-483E-ADEA-7E6572F6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5F07-51BB-435B-BC39-DA97B846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065AE-BCE4-4510-85D5-51FF54E9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889-F734-487B-B15B-A26904A6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8E53-C310-4BF6-A326-33F4743E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4DB8F-87AD-4CF9-B6B0-FAF00B27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2ABC-3894-444B-B330-03429553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8081-D4F5-4B96-8C06-E8215E8C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610C-3424-44F9-AB9A-5478BE28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DBCB-A5D4-4358-8A21-5C97172A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D0DC-A967-4072-9067-4BBD4EB3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C4D72-2454-42E6-A149-A16C17DC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7755-D9FE-4F61-8117-F3D09852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F33D1-4DB7-4113-B822-05ED8B27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A98-6FFF-4311-9CB1-96156854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75362-6068-4A9B-BEB6-0480AD66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F0C3-7F79-46DC-AA75-1358DDBC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4CE2-63A2-45A9-BD6E-29B15521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EDB9B-6CAE-4FBA-9EA5-66575074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0A744-4AFC-46DD-AEF2-9D8536C3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FB55A-BC5F-4E66-8CDB-E977BDA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DE5F1-2F5A-4FD3-92C4-A4B92E5E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FA97-88CC-461F-91F4-6646B7D4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B70A-61C4-4C02-98AF-75553E55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911FB-DA69-44E3-9DE5-04680D7B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26B-EBE4-477D-B28E-44EF5F29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2AFA5-302F-4743-A1BD-1B41E09A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49730-5EAD-4CFD-A6BD-4ECDC260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60A6F-C3B6-42D7-BCD5-87FFA4B8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3E5F4-DF0F-4774-9A93-82779C49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D73CF-7920-4280-B223-EFE795ED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5448B-6A02-4061-982A-90FD0236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EB4EB-6ABF-4E54-AA8A-896E5C91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531F1-5088-48DE-BADF-FEB7CAB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BF3D3-DFC4-4613-A875-C61B0216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24AAB-3A81-4398-A5F1-2D1B864C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118-C953-4A4F-86DB-2ECAF8CE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33AF2-FD8F-4F18-9C71-5149A655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564D9-75A8-4DDD-A679-E7282ED4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DE73E-B71C-4757-A23C-C1C4C4A5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D6390-1EAD-41E1-B45C-9D929EB1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41B55-4BBD-4647-8AC4-255A8326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C7020-CFC9-4E58-92B8-FEC65873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3AB54-FB0F-4E1E-A04C-9EA22BB6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7F301-E4E4-4097-B96E-97AC591A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2D5F4-B1F3-4B94-96B1-C3C709B5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AD2CE-8837-4D39-BAED-D76442C1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423-2811-421A-B00D-51324C0B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A6BD6-8825-46D6-B334-602F82FF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14CE6-9860-4AA8-B353-082D195A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F0DC-53DD-416B-B3E9-2B9DAD5F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77890-FED0-4180-85D1-ECB8166D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E19DB-8535-4D4E-BB98-806E490D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5FC66-20CD-4443-8E09-F4824F57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6CD89-B504-4957-8C35-11DEA0BE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A23F1-FDA1-4FEB-8559-9FC07385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38341-8F23-449F-88D9-4CE2FF27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754E6-E25C-4404-BD1D-EDE1CBF5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2CD-2A33-4853-964E-2CA18387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F9532-F462-4479-83C5-4FEB823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28286-72AB-4E03-8A53-305BDA49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B657E-4851-4DCE-8762-AD3B2889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8EF96-2EBD-4D77-8F28-3CD2A35F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3CBEE-EF84-4E5F-BC8D-522F064F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AADF2-2715-4830-AE41-6AC4DC14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33ACC-DDC0-4F2A-9CAD-800FAFFD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C6D29-4F9F-4873-BBBB-45C96736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839D-C3D4-4060-85F2-72BF6874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5C949-5965-4FA5-BD81-08AC2E73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E27-AE3D-4F17-97AA-3BAA40BE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7FC05-1667-478B-A55F-48F7046B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D0FAB-B216-4543-97F3-3507E4EF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5040A-323E-4927-802D-173CCBA5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9FB1D-E006-480C-9413-FF0DD84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CB2D7-7996-4C87-8925-24A85A30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14B54-86D0-4542-A4AF-AEE16F75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809A1-7C14-4289-9AF3-E3989F6E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80A4B-34EA-4C5A-B3AB-D5495891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BC384-60B7-425A-B6EC-69D40E71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C03A5-5092-44B3-BBFE-F2499FF4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A648-520A-41B6-97F6-A7CF75F8C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7243-8C3C-49D4-BC8E-032E03E24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4A07-8302-4078-BA21-9EF0135E7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1790-E9EF-4C98-8700-6A51CCA09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CF29-B58E-4986-9A1C-7E1930F73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A2D4-8D8A-4071-B1DD-63D0A241B9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EC68-2D3D-4BB9-927A-27898EBE3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F09A-FCB6-451C-AE50-9588C4B6C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033A-F71D-4267-BBED-2D073252E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ABA9-E247-49FB-862D-C40BA7834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EF3B-0235-448A-A6E3-ED4076EE4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DF5C-03B9-4159-9C2F-7B36DCE67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4D95-6BA4-4E23-B9AB-FFF255C70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>
            <a:off x="1763640" y="2492280"/>
            <a:ext cx="561672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观察水生植物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件模板下载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WordArt 5"/>
          <p:cNvSpPr txBox="1"/>
          <p:nvPr/>
        </p:nvSpPr>
        <p:spPr>
          <a:xfrm>
            <a:off x="1803240" y="1052640"/>
            <a:ext cx="53611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教科版）三年级开始上册课件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35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响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水生植物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泥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位的高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阳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流的快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浑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或清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P3070025"/>
          <p:cNvPicPr/>
          <p:nvPr/>
        </p:nvPicPr>
        <p:blipFill>
          <a:blip r:embed="rId1"/>
          <a:stretch/>
        </p:blipFill>
        <p:spPr>
          <a:xfrm>
            <a:off x="5435640" y="1268280"/>
            <a:ext cx="3470400" cy="52293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P3070053"/>
          <p:cNvPicPr/>
          <p:nvPr/>
        </p:nvPicPr>
        <p:blipFill>
          <a:blip r:embed="rId2"/>
          <a:stretch/>
        </p:blipFill>
        <p:spPr>
          <a:xfrm>
            <a:off x="1403280" y="4467240"/>
            <a:ext cx="3816360" cy="2390760"/>
          </a:xfrm>
          <a:prstGeom prst="rect">
            <a:avLst/>
          </a:prstGeom>
          <a:ln w="0">
            <a:noFill/>
          </a:ln>
        </p:spPr>
      </p:pic>
      <p:sp>
        <p:nvSpPr>
          <p:cNvPr id="60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睡莲"/>
          <p:cNvPicPr/>
          <p:nvPr/>
        </p:nvPicPr>
        <p:blipFill>
          <a:blip r:embed="rId1"/>
          <a:stretch/>
        </p:blipFill>
        <p:spPr>
          <a:xfrm>
            <a:off x="1447920" y="3809880"/>
            <a:ext cx="2666880" cy="17798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蘑菇1"/>
          <p:cNvPicPr/>
          <p:nvPr/>
        </p:nvPicPr>
        <p:blipFill>
          <a:blip r:embed="rId2"/>
          <a:stretch/>
        </p:blipFill>
        <p:spPr>
          <a:xfrm>
            <a:off x="7010280" y="609480"/>
            <a:ext cx="1484280" cy="1905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仙人球1"/>
          <p:cNvPicPr/>
          <p:nvPr/>
        </p:nvPicPr>
        <p:blipFill>
          <a:blip r:embed="rId3"/>
          <a:stretch/>
        </p:blipFill>
        <p:spPr>
          <a:xfrm>
            <a:off x="4343400" y="83808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5"/>
          <p:cNvSpPr/>
          <p:nvPr/>
        </p:nvSpPr>
        <p:spPr>
          <a:xfrm>
            <a:off x="1981080" y="2971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4648320" y="297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仙人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7315200" y="2819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蘑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198108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睡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4724280" y="5867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肾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762012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松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11" descr="haizao"/>
          <p:cNvPicPr/>
          <p:nvPr/>
        </p:nvPicPr>
        <p:blipFill>
          <a:blip r:embed="rId4"/>
          <a:stretch/>
        </p:blipFill>
        <p:spPr>
          <a:xfrm>
            <a:off x="1143000" y="838080"/>
            <a:ext cx="2895480" cy="21751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2" descr="Mfkiqpl_photos20046973324"/>
          <p:cNvPicPr/>
          <p:nvPr/>
        </p:nvPicPr>
        <p:blipFill>
          <a:blip r:embed="rId5"/>
          <a:stretch/>
        </p:blipFill>
        <p:spPr>
          <a:xfrm>
            <a:off x="7010280" y="3505320"/>
            <a:ext cx="1757520" cy="23619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3" descr="1109421280"/>
          <p:cNvPicPr/>
          <p:nvPr/>
        </p:nvPicPr>
        <p:blipFill>
          <a:blip r:embed="rId6"/>
          <a:stretch/>
        </p:blipFill>
        <p:spPr>
          <a:xfrm>
            <a:off x="4191120" y="3733920"/>
            <a:ext cx="2666880" cy="20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生植物和树草等陆生植物有什么相同和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同点：都有根茎叶，都会繁殖后代，都会死亡，都需要阳光、水分和空气，都有叶绿素，都能利用阳光和二氧化碳合成氧气和有机养分。生命活动生长过程相似等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同点：生活环境不同，对水的需求量不同，水生植物大多是藻类，相对陆生植物低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A548-820F-4D4D-B0AB-14504F9890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4"/>
          <p:cNvSpPr txBox="1"/>
          <p:nvPr/>
        </p:nvSpPr>
        <p:spPr>
          <a:xfrm>
            <a:off x="1476360" y="2060640"/>
            <a:ext cx="583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同学们 再见</a:t>
            </a:r>
            <a:endParaRPr b="1" lang="en-US" sz="32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9" descr="jinyuzao2"/>
          <p:cNvPicPr/>
          <p:nvPr/>
        </p:nvPicPr>
        <p:blipFill>
          <a:blip r:embed="rId1"/>
          <a:stretch/>
        </p:blipFill>
        <p:spPr>
          <a:xfrm>
            <a:off x="4572000" y="2484360"/>
            <a:ext cx="3672000" cy="32148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1" descr="shuihulu"/>
          <p:cNvPicPr/>
          <p:nvPr/>
        </p:nvPicPr>
        <p:blipFill>
          <a:blip r:embed="rId2"/>
          <a:stretch/>
        </p:blipFill>
        <p:spPr>
          <a:xfrm>
            <a:off x="900000" y="620640"/>
            <a:ext cx="3456000" cy="31593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2"/>
          <p:cNvSpPr/>
          <p:nvPr/>
        </p:nvSpPr>
        <p:spPr>
          <a:xfrm>
            <a:off x="1258920" y="41497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葫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5848200" y="5843520"/>
            <a:ext cx="18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鱼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芦苇"/>
          <p:cNvPicPr/>
          <p:nvPr/>
        </p:nvPicPr>
        <p:blipFill>
          <a:blip r:embed="rId1"/>
          <a:stretch/>
        </p:blipFill>
        <p:spPr>
          <a:xfrm>
            <a:off x="5148360" y="549360"/>
            <a:ext cx="3095640" cy="2016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睡莲"/>
          <p:cNvPicPr/>
          <p:nvPr/>
        </p:nvPicPr>
        <p:blipFill>
          <a:blip r:embed="rId2"/>
          <a:stretch/>
        </p:blipFill>
        <p:spPr>
          <a:xfrm>
            <a:off x="1258920" y="54936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1020402"/>
          <p:cNvPicPr/>
          <p:nvPr/>
        </p:nvPicPr>
        <p:blipFill>
          <a:blip r:embed="rId3"/>
          <a:stretch/>
        </p:blipFill>
        <p:spPr>
          <a:xfrm>
            <a:off x="1187280" y="3500280"/>
            <a:ext cx="2953080" cy="22053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荷花2"/>
          <p:cNvPicPr/>
          <p:nvPr/>
        </p:nvPicPr>
        <p:blipFill>
          <a:blip r:embed="rId4"/>
          <a:stretch/>
        </p:blipFill>
        <p:spPr>
          <a:xfrm>
            <a:off x="5148360" y="3500280"/>
            <a:ext cx="3024000" cy="21448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8"/>
          <p:cNvSpPr/>
          <p:nvPr/>
        </p:nvSpPr>
        <p:spPr>
          <a:xfrm>
            <a:off x="1979640" y="2637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睡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6227640" y="263700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芦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1908000" y="5805360"/>
            <a:ext cx="18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菱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6227640" y="5734080"/>
            <a:ext cx="13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荷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01200000033533115920198970637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2665440"/>
          </a:xfrm>
          <a:prstGeom prst="rect">
            <a:avLst/>
          </a:prstGeom>
          <a:ln w="0">
            <a:noFill/>
          </a:ln>
        </p:spPr>
      </p:pic>
      <p:grpSp>
        <p:nvGrpSpPr>
          <p:cNvPr id="549" name="Group 16"/>
          <p:cNvGrpSpPr/>
          <p:nvPr/>
        </p:nvGrpSpPr>
        <p:grpSpPr>
          <a:xfrm>
            <a:off x="755640" y="476280"/>
            <a:ext cx="6689880" cy="596880"/>
            <a:chOff x="755640" y="476280"/>
            <a:chExt cx="6689880" cy="596880"/>
          </a:xfrm>
        </p:grpSpPr>
        <p:sp>
          <p:nvSpPr>
            <p:cNvPr id="550" name="Text Box 11"/>
            <p:cNvSpPr/>
            <p:nvPr/>
          </p:nvSpPr>
          <p:spPr>
            <a:xfrm>
              <a:off x="3850920" y="4762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：为什么水葫芦能浮在水面上？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2"/>
            <p:cNvSpPr/>
            <p:nvPr/>
          </p:nvSpPr>
          <p:spPr>
            <a:xfrm>
              <a:off x="1669320" y="4762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想一想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WordArt 13"/>
            <p:cNvSpPr txBox="1"/>
            <p:nvPr/>
          </p:nvSpPr>
          <p:spPr>
            <a:xfrm>
              <a:off x="755640" y="547920"/>
              <a:ext cx="466920" cy="52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1" strike="noStrike">
                  <a:ln w="12600">
                    <a:solidFill>
                      <a:srgbClr val="000099"/>
                    </a:solidFill>
                    <a:round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宋体"/>
                </a:rPr>
                <a:t>？</a:t>
              </a:r>
              <a:endPara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53" name="Rectangle 14"/>
          <p:cNvSpPr/>
          <p:nvPr/>
        </p:nvSpPr>
        <p:spPr>
          <a:xfrm>
            <a:off x="2521800" y="508392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绵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所以能浮在水面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适应水生植物的环境）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5"/>
          <p:cNvSpPr/>
          <p:nvPr/>
        </p:nvSpPr>
        <p:spPr>
          <a:xfrm>
            <a:off x="2443680" y="450756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葫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叶柄部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膨大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海绵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空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3" descr="qn"/>
          <p:cNvPicPr/>
          <p:nvPr/>
        </p:nvPicPr>
        <p:blipFill>
          <a:blip r:embed="rId2"/>
          <a:stretch/>
        </p:blipFill>
        <p:spPr>
          <a:xfrm>
            <a:off x="4788000" y="134136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6"/>
          <p:cNvSpPr/>
          <p:nvPr/>
        </p:nvSpPr>
        <p:spPr>
          <a:xfrm>
            <a:off x="2109960" y="242100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01200000033533115920198970637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2578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9634dddf5b48ca6195ee3707"/>
          <p:cNvPicPr/>
          <p:nvPr/>
        </p:nvPicPr>
        <p:blipFill>
          <a:blip r:embed="rId2"/>
          <a:stretch/>
        </p:blipFill>
        <p:spPr>
          <a:xfrm>
            <a:off x="5364000" y="2349360"/>
            <a:ext cx="2664000" cy="36943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4"/>
          <p:cNvSpPr/>
          <p:nvPr/>
        </p:nvSpPr>
        <p:spPr>
          <a:xfrm>
            <a:off x="3492360" y="404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一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4202640" y="11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选择一个画下来，并思考它的特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9634dddf5b48ca6195ee3707"/>
          <p:cNvPicPr/>
          <p:nvPr/>
        </p:nvPicPr>
        <p:blipFill>
          <a:blip r:embed="rId1"/>
          <a:stretch/>
        </p:blipFill>
        <p:spPr>
          <a:xfrm>
            <a:off x="5796000" y="620640"/>
            <a:ext cx="1157400" cy="16048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01200000033533115920198970637"/>
          <p:cNvPicPr/>
          <p:nvPr/>
        </p:nvPicPr>
        <p:blipFill>
          <a:blip r:embed="rId2"/>
          <a:stretch/>
        </p:blipFill>
        <p:spPr>
          <a:xfrm>
            <a:off x="1979640" y="985680"/>
            <a:ext cx="1800360" cy="1238400"/>
          </a:xfrm>
          <a:prstGeom prst="rect">
            <a:avLst/>
          </a:prstGeom>
          <a:ln w="0">
            <a:noFill/>
          </a:ln>
        </p:spPr>
      </p:pic>
      <p:sp>
        <p:nvSpPr>
          <p:cNvPr id="563" name="Oval 4"/>
          <p:cNvSpPr/>
          <p:nvPr/>
        </p:nvSpPr>
        <p:spPr>
          <a:xfrm>
            <a:off x="755640" y="333360"/>
            <a:ext cx="4896000" cy="5759640"/>
          </a:xfrm>
          <a:prstGeom prst="ellips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3780000" y="260280"/>
            <a:ext cx="4775040" cy="5616720"/>
          </a:xfrm>
          <a:prstGeom prst="ellips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4110840" y="24922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生长在水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595040" y="285264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需要水、阳光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空气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4503960" y="3500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有根、茎、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>
            <a:hlinkClick r:id="" action="ppaction://hlinkshowjump?jump=nextslide"/>
          </p:cNvPr>
          <p:cNvSpPr/>
          <p:nvPr/>
        </p:nvSpPr>
        <p:spPr>
          <a:xfrm>
            <a:off x="4223520" y="39337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会繁殖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会死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1478880" y="2924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叶柄膨大有气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1375560" y="4005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浮在水面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6508800" y="4221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沉在水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6487200" y="2852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茎细长分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1187280" y="2349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叶子椭圆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364440" y="2362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叶子细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324080" y="342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根须较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6508800" y="3500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根须较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3995640" y="1700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相同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8199"/>
          <p:cNvSpPr/>
          <p:nvPr/>
        </p:nvSpPr>
        <p:spPr>
          <a:xfrm>
            <a:off x="1909800" y="4992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3"/>
          <p:cNvGrpSpPr/>
          <p:nvPr/>
        </p:nvGrpSpPr>
        <p:grpSpPr>
          <a:xfrm>
            <a:off x="684360" y="836640"/>
            <a:ext cx="7703640" cy="4824000"/>
            <a:chOff x="684360" y="836640"/>
            <a:chExt cx="7703640" cy="4824000"/>
          </a:xfrm>
        </p:grpSpPr>
        <p:sp>
          <p:nvSpPr>
            <p:cNvPr id="580" name="Oval 4"/>
            <p:cNvSpPr/>
            <p:nvPr/>
          </p:nvSpPr>
          <p:spPr>
            <a:xfrm>
              <a:off x="684360" y="836640"/>
              <a:ext cx="4902480" cy="4824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5"/>
            <p:cNvSpPr/>
            <p:nvPr/>
          </p:nvSpPr>
          <p:spPr>
            <a:xfrm>
              <a:off x="3485520" y="836640"/>
              <a:ext cx="4902480" cy="4824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 Box 6"/>
          <p:cNvSpPr/>
          <p:nvPr/>
        </p:nvSpPr>
        <p:spPr>
          <a:xfrm>
            <a:off x="2120760" y="1138320"/>
            <a:ext cx="1973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葫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5327640" y="1109520"/>
            <a:ext cx="197172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狗尾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4150440" y="2419920"/>
            <a:ext cx="942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根茎叶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繁殖后代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寿命都短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本植物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阳光、水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空气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1405800" y="314172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在水中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叶柄膨大有气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浮在水面上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6169320" y="314172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在土壤里，植株矮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茎细，较软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2" descr="u=2367505159,3708121970&amp;fm=3&amp;gp=0"/>
          <p:cNvPicPr/>
          <p:nvPr/>
        </p:nvPicPr>
        <p:blipFill>
          <a:blip r:embed="rId1"/>
          <a:stretch/>
        </p:blipFill>
        <p:spPr>
          <a:xfrm>
            <a:off x="6084720" y="1700280"/>
            <a:ext cx="1324080" cy="8856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3" descr="01200000033533115920198970637"/>
          <p:cNvPicPr/>
          <p:nvPr/>
        </p:nvPicPr>
        <p:blipFill>
          <a:blip r:embed="rId2"/>
          <a:stretch/>
        </p:blipFill>
        <p:spPr>
          <a:xfrm>
            <a:off x="1476360" y="1773360"/>
            <a:ext cx="1800360" cy="12398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14"/>
          <p:cNvSpPr/>
          <p:nvPr/>
        </p:nvSpPr>
        <p:spPr>
          <a:xfrm>
            <a:off x="3851280" y="1844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相同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1406160" y="7635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2120040" y="431496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葫芦叶柄部位膨大的海绵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充满空气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1154160" y="3655080"/>
            <a:ext cx="61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葫芦浮在水面上的原因是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2471040" y="1649520"/>
            <a:ext cx="34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生植物都有根茎叶等器官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的生长需要水分、阳光和空气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3300"/>
                </a:solidFill>
                <a:latin typeface="Arial"/>
              </a:rPr>
              <a:t>水生植物的生</a:t>
            </a: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长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宋体"/>
              </a:rPr>
              <a:t>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见过</a:t>
            </a:r>
            <a:r>
              <a:rPr b="0" lang="zh-TW" sz="3200" spc="-1" strike="noStrike">
                <a:solidFill>
                  <a:srgbClr val="000000"/>
                </a:solidFill>
                <a:latin typeface="宋体"/>
              </a:rPr>
              <a:t>的水生植物，大部分生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0" lang="zh-TW" sz="3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环</a:t>
            </a:r>
            <a:r>
              <a:rPr b="0" lang="zh-TW" sz="3200" spc="-1" strike="noStrike">
                <a:solidFill>
                  <a:srgbClr val="000000"/>
                </a:solidFill>
                <a:latin typeface="宋体"/>
              </a:rPr>
              <a:t>境是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样</a:t>
            </a:r>
            <a:r>
              <a:rPr b="0" lang="zh-TW" sz="3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在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池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湿</a:t>
            </a: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在水岸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边</a:t>
            </a: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在沼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泽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在湖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在池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还</a:t>
            </a: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有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0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2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2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0" dur="2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5:08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12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