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5B4-D4DF-4927-8304-44D73202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A58-0C1D-4E83-B37D-6B34FFD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BE4-11C1-4B47-9AD3-5E623F98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278-A919-4E8F-BA2B-13D49364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DF8-8E72-476B-804D-189DDD15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6CF1-BAD6-4982-B79B-BCBAA89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C20D-5BF1-4A90-9F5D-13B361D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ABE-5CC1-49C6-952F-E885CC7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1869-A85F-41D5-B56E-80715456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EEA-5870-4083-B9FE-87C847F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202-423E-4087-8BA0-C31E476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36A-6F20-46AC-95CC-92C9D690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EA07-925D-4EC5-BF8F-96DD13B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5FC-73B6-47CB-A64C-990D354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D2AD-0315-4369-9F93-97F912C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BED-7A1A-4A22-A43C-DAC6C86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4CF2-C163-4AA8-90A2-4CBE7E79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0BC-F61A-4188-8A63-62DC0C96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468-8B72-4F97-B876-F4359E55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8EE-82AF-488A-A7FB-BE0848A5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6AE-57C0-4FCE-A648-6A564326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5B2-FD08-4D0A-857A-FFA1472C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B72-BC2C-4ED7-83AC-C7C0017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D1E-E9B4-45AD-A6E4-47F8608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9EB-4D76-42DA-AEEF-101816ABF5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65EE-7014-4629-8922-B95C1559FA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人教新课标   四年级品德与社会上册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042920" y="2349360"/>
            <a:ext cx="7058160" cy="200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公共场所拒绝危险课件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8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8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5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6"/>
          <p:cNvGrpSpPr/>
          <p:nvPr/>
        </p:nvGrpSpPr>
        <p:grpSpPr>
          <a:xfrm>
            <a:off x="1143000" y="1600200"/>
            <a:ext cx="7010280" cy="4814280"/>
            <a:chOff x="1143000" y="1600200"/>
            <a:chExt cx="7010280" cy="4814280"/>
          </a:xfrm>
        </p:grpSpPr>
        <p:pic>
          <p:nvPicPr>
            <p:cNvPr id="115" name="Picture 17" descr="E:\大全集送审样盘\品德与社会\小四\公共场所拒绝危险\！资料\！衡阳火灾\医疗小组到现场抢救伤员.jpg"/>
            <p:cNvPicPr/>
            <p:nvPr/>
          </p:nvPicPr>
          <p:blipFill>
            <a:blip r:embed="rId2"/>
            <a:stretch/>
          </p:blipFill>
          <p:spPr>
            <a:xfrm>
              <a:off x="1143000" y="1600200"/>
              <a:ext cx="7010280" cy="47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8"/>
            <p:cNvSpPr/>
            <p:nvPr/>
          </p:nvSpPr>
          <p:spPr>
            <a:xfrm>
              <a:off x="3558960" y="5954760"/>
              <a:ext cx="21924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  <a:ea typeface="楷体_GB2312"/>
                </a:rPr>
                <a:t>医疗小组到现场抢救伤员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416320" y="2452680"/>
            <a:ext cx="491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这些事故给在场的人们及他们的家人的生活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带来了哪些影响。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234320" y="3747960"/>
            <a:ext cx="127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在我们的生活中，哪些行为容易给自己、他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人带来危害，如何避免类似事故的发生。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9" name="Picture 6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043080" y="2565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共场所的安全需要每个人来维护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46816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交通安全歌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2" name="Picture 10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小蜜蜂"/>
          <p:cNvPicPr/>
          <p:nvPr/>
        </p:nvPicPr>
        <p:blipFill>
          <a:blip r:embed="rId2"/>
          <a:stretch/>
        </p:blipFill>
        <p:spPr>
          <a:xfrm>
            <a:off x="6516720" y="386064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835280" y="2708280"/>
            <a:ext cx="5105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针对下面的危险行为，谈谈如何有效的排除安全隐患，保证公共场所的安全。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5" name="Picture 5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小蜜蜂4"/>
          <p:cNvPicPr/>
          <p:nvPr/>
        </p:nvPicPr>
        <p:blipFill>
          <a:blip r:embed="rId2"/>
          <a:stretch/>
        </p:blipFill>
        <p:spPr>
          <a:xfrm>
            <a:off x="6659640" y="4653000"/>
            <a:ext cx="16524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:\大全集送审样盘\品德与社会\小四\公共场所拒绝危险\！资料\！！安全第一 快乐打折.jpg"/>
          <p:cNvPicPr/>
          <p:nvPr/>
        </p:nvPicPr>
        <p:blipFill>
          <a:blip r:embed="rId1"/>
          <a:stretch/>
        </p:blipFill>
        <p:spPr>
          <a:xfrm>
            <a:off x="2819520" y="1600200"/>
            <a:ext cx="3060720" cy="4952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199"/>
          <p:cNvSpPr/>
          <p:nvPr/>
        </p:nvSpPr>
        <p:spPr>
          <a:xfrm>
            <a:off x="1770120" y="455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大全集送审样盘\品德与社会\示例\zl\！公共交通安全.JPG"/>
          <p:cNvPicPr/>
          <p:nvPr/>
        </p:nvPicPr>
        <p:blipFill>
          <a:blip r:embed="rId1"/>
          <a:stretch/>
        </p:blipFill>
        <p:spPr>
          <a:xfrm>
            <a:off x="1790640" y="1692360"/>
            <a:ext cx="5600880" cy="455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:\大全集送审样盘\品德与社会\示例\zl\！不要在高压线附近放风筝.jpg"/>
          <p:cNvPicPr/>
          <p:nvPr/>
        </p:nvPicPr>
        <p:blipFill>
          <a:blip r:embed="rId1"/>
          <a:stretch/>
        </p:blipFill>
        <p:spPr>
          <a:xfrm>
            <a:off x="1104840" y="1984320"/>
            <a:ext cx="6972480" cy="357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6CC-394F-422C-BA93-CBA9D68EBAFB}" type="slidenum">
              <a:rPr b="0" lang="zh-CN" sz="1400" spc="-1" strike="noStrike">
                <a:solidFill>
                  <a:srgbClr val="008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2590920" y="2370240"/>
            <a:ext cx="5486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朋友，赶紧找一找我们生活中哪里地方需要添加新的安全标志（设施），或者哪些设施和标志与现代化的城市建设不配套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9" name="Picture 4" descr="E:\大全集送审样盘\品德与社会\小四\公共场所拒绝危险\047\047\gif004.gif"/>
          <p:cNvPicPr/>
          <p:nvPr/>
        </p:nvPicPr>
        <p:blipFill>
          <a:blip r:embed="rId1"/>
          <a:stretch/>
        </p:blipFill>
        <p:spPr>
          <a:xfrm>
            <a:off x="576360" y="2192400"/>
            <a:ext cx="1938240" cy="2074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E:\大全集送审样盘\品德与社会\04.gif"/>
          <p:cNvPicPr/>
          <p:nvPr/>
        </p:nvPicPr>
        <p:blipFill>
          <a:blip r:embed="rId2"/>
          <a:stretch/>
        </p:blipFill>
        <p:spPr>
          <a:xfrm>
            <a:off x="990720" y="993600"/>
            <a:ext cx="244620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E:\大全集送审样盘\品德与社会\小四\公共场所拒绝危险\公共场所拒绝危险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3"/>
          <p:cNvSpPr/>
          <p:nvPr/>
        </p:nvSpPr>
        <p:spPr>
          <a:xfrm>
            <a:off x="1128600" y="2514600"/>
            <a:ext cx="71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，甘肃平凉发生特大交通事故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死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8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受伤。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8" name="Picture 38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499920" y="15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警民正在全力抢救受伤乘客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0" name="Picture 7" descr="E:\大全集送审样盘\品德与社会\小四\公共场所拒绝危险\！资料\！交通事故\警民正在全力抢救受伤乘客。.jpg"/>
          <p:cNvPicPr/>
          <p:nvPr/>
        </p:nvPicPr>
        <p:blipFill>
          <a:blip r:embed="rId1"/>
          <a:stretch/>
        </p:blipFill>
        <p:spPr>
          <a:xfrm>
            <a:off x="1790640" y="2057400"/>
            <a:ext cx="5583240" cy="418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大全集送审样盘\品德与社会\小四\公共场所拒绝危险\！资料\！交通事故\警民正在全力抢救受伤乘客。123.jpg"/>
          <p:cNvPicPr/>
          <p:nvPr/>
        </p:nvPicPr>
        <p:blipFill>
          <a:blip r:embed="rId2"/>
          <a:stretch/>
        </p:blipFill>
        <p:spPr>
          <a:xfrm>
            <a:off x="1828800" y="207324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E:\大全集送审样盘\品德与社会\小四\公共场所拒绝危险\！资料\！交通事故\警民正在全力抢救受伤乘客。2.jpg"/>
          <p:cNvPicPr/>
          <p:nvPr/>
        </p:nvPicPr>
        <p:blipFill>
          <a:blip r:embed="rId3"/>
          <a:stretch/>
        </p:blipFill>
        <p:spPr>
          <a:xfrm>
            <a:off x="1979640" y="20606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E:\大全集送审样盘\品德与社会\01.gif"/>
          <p:cNvPicPr/>
          <p:nvPr/>
        </p:nvPicPr>
        <p:blipFill>
          <a:blip r:embed="rId4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"/>
          <p:cNvSpPr/>
          <p:nvPr/>
        </p:nvSpPr>
        <p:spPr>
          <a:xfrm>
            <a:off x="1467000" y="16956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5" name="Picture 2" descr="E:\大全集送审样盘\品德与社会\小四\公共场所拒绝危险\！资料\！交通事故\这就是肇事的大货车。.jpg"/>
          <p:cNvPicPr/>
          <p:nvPr/>
        </p:nvPicPr>
        <p:blipFill>
          <a:blip r:embed="rId1"/>
          <a:stretch/>
        </p:blipFill>
        <p:spPr>
          <a:xfrm>
            <a:off x="1523880" y="169560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 flipH="1" flipV="1">
            <a:off x="4876920" y="1676520"/>
            <a:ext cx="3200400" cy="1371600"/>
          </a:xfrm>
          <a:prstGeom prst="cloudCallout">
            <a:avLst>
              <a:gd name="adj1" fmla="val 66666"/>
              <a:gd name="adj2" fmla="val -72569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这就是肇事的大货车！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" name="Picture 6" descr="E:\大全集送审样盘\品德与社会\01.gif"/>
          <p:cNvPicPr/>
          <p:nvPr/>
        </p:nvPicPr>
        <p:blipFill>
          <a:blip r:embed="rId2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35200" y="2438280"/>
            <a:ext cx="75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日，湖南衡阳发生特大火灾坍塌事件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名消防官兵英勇殉职。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9" name="Picture 4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199"/>
          <p:cNvSpPr/>
          <p:nvPr/>
        </p:nvSpPr>
        <p:spPr>
          <a:xfrm>
            <a:off x="1082520" y="174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6" descr="E:\大全集送审样盘\品德与社会\小四\公共场所拒绝危险\！资料\！衡阳火灾\11月3日，救援人员在湖南衡阳市珠晖区火灾现场进行抢救。.jpg"/>
          <p:cNvPicPr/>
          <p:nvPr/>
        </p:nvPicPr>
        <p:blipFill>
          <a:blip r:embed="rId1"/>
          <a:stretch/>
        </p:blipFill>
        <p:spPr>
          <a:xfrm>
            <a:off x="1371600" y="1687680"/>
            <a:ext cx="6248520" cy="402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3" descr="E:\大全集送审样盘\品德与社会\01.gif"/>
          <p:cNvPicPr/>
          <p:nvPr/>
        </p:nvPicPr>
        <p:blipFill>
          <a:blip r:embed="rId2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4" descr="E:\大全集送审样盘\品德与社会\小四\公共场所拒绝危险\！资料\！衡阳火灾\救火.jpg"/>
          <p:cNvPicPr/>
          <p:nvPr/>
        </p:nvPicPr>
        <p:blipFill>
          <a:blip r:embed="rId3"/>
          <a:stretch/>
        </p:blipFill>
        <p:spPr>
          <a:xfrm>
            <a:off x="1371600" y="1623960"/>
            <a:ext cx="6248520" cy="4091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7"/>
          <p:cNvSpPr/>
          <p:nvPr/>
        </p:nvSpPr>
        <p:spPr>
          <a:xfrm>
            <a:off x="1906560" y="5653080"/>
            <a:ext cx="5256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日，救援人员在湖南衡阳市珠晖区火灾现场进行抢救。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203480" y="1600200"/>
            <a:ext cx="6721200" cy="4672800"/>
            <a:chOff x="1203480" y="1600200"/>
            <a:chExt cx="6721200" cy="4672800"/>
          </a:xfrm>
        </p:grpSpPr>
        <p:pic>
          <p:nvPicPr>
            <p:cNvPr id="107" name="Picture 4" descr="E:\大全集送审样盘\品德与社会\小四\公共场所拒绝危险\！资料\！衡阳火灾\湖南衡阳市消防支队官兵正在抢救伤员.jpg"/>
            <p:cNvPicPr/>
            <p:nvPr/>
          </p:nvPicPr>
          <p:blipFill>
            <a:blip r:embed="rId2"/>
            <a:stretch/>
          </p:blipFill>
          <p:spPr>
            <a:xfrm>
              <a:off x="1203480" y="1600200"/>
              <a:ext cx="6721200" cy="45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5"/>
            <p:cNvSpPr/>
            <p:nvPr/>
          </p:nvSpPr>
          <p:spPr>
            <a:xfrm>
              <a:off x="3123360" y="5813280"/>
              <a:ext cx="32896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0000"/>
                  </a:solidFill>
                  <a:latin typeface="Times New Roman"/>
                  <a:ea typeface="楷体_GB2312"/>
                </a:rPr>
                <a:t>湖南衡阳市消防支队官兵正在抢救伤员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1219320" y="1676520"/>
            <a:ext cx="6629400" cy="4505040"/>
            <a:chOff x="1219320" y="1676520"/>
            <a:chExt cx="6629400" cy="4505040"/>
          </a:xfrm>
        </p:grpSpPr>
        <p:pic>
          <p:nvPicPr>
            <p:cNvPr id="111" name="Picture 7" descr="E:\大全集送审样盘\品德与社会\小四\公共场所拒绝危险\！资料\！衡阳火灾\医疗小组在搜救现场抢险救灾.jpg"/>
            <p:cNvPicPr/>
            <p:nvPr/>
          </p:nvPicPr>
          <p:blipFill>
            <a:blip r:embed="rId2"/>
            <a:stretch/>
          </p:blipFill>
          <p:spPr>
            <a:xfrm>
              <a:off x="1219320" y="1676520"/>
              <a:ext cx="6629400" cy="44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/>
            <p:cNvSpPr/>
            <p:nvPr/>
          </p:nvSpPr>
          <p:spPr>
            <a:xfrm>
              <a:off x="3346920" y="5721840"/>
              <a:ext cx="25581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0000"/>
                  </a:solidFill>
                  <a:latin typeface="Times New Roman"/>
                  <a:ea typeface="楷体_GB2312"/>
                </a:rPr>
                <a:t>医疗小组在搜救现场抢险救灾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1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5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60f000000000001024120</vt:lpwstr>
  </property>
</Properties>
</file>