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wmf" ContentType="image/x-wmf"/>
  <Override PartName="/ppt/media/type.wav" ContentType="audio/x-wav"/>
  <Override PartName="/ppt/media/image21.wmf" ContentType="image/x-wmf"/>
  <Override PartName="/ppt/media/image6.jpeg" ContentType="image/jpeg"/>
  <Override PartName="/ppt/media/image25.gif" ContentType="image/gif"/>
  <Override PartName="/ppt/media/chimes.wav" ContentType="audio/x-wav"/>
  <Override PartName="/ppt/media/image32.wmf" ContentType="image/x-wmf"/>
  <Override PartName="/ppt/media/image22.wmf" ContentType="image/x-wmf"/>
  <Override PartName="/ppt/media/image26.gif" ContentType="image/gif"/>
  <Override PartName="/ppt/media/image19.wmf" ContentType="image/x-wmf"/>
  <Override PartName="/ppt/media/image17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5.jpeg" ContentType="image/jpeg"/>
  <Override PartName="/ppt/media/image3.wmf" ContentType="image/x-wmf"/>
  <Override PartName="/ppt/media/image33.wmf" ContentType="image/x-wmf"/>
  <Override PartName="/ppt/media/image20.wmf" ContentType="image/x-wmf"/>
  <Override PartName="/ppt/media/image24.gif" ContentType="image/gif"/>
  <Override PartName="/ppt/media/image29.wmf" ContentType="image/x-wmf"/>
  <Override PartName="/ppt/media/image30.wmf" ContentType="image/x-wmf"/>
  <Override PartName="/ppt/media/applause.wav" ContentType="audio/x-wav"/>
  <Override PartName="/ppt/media/image28.wmf" ContentType="image/x-wmf"/>
  <Override PartName="/ppt/media/image36.wmf" ContentType="image/x-wmf"/>
  <Override PartName="/ppt/media/image13.wmf" ContentType="image/x-wmf"/>
  <Override PartName="/ppt/media/image37.wmf" ContentType="image/x-wmf"/>
  <Override PartName="/ppt/media/image39.gif" ContentType="image/gif"/>
  <Override PartName="/ppt/media/image42.jpeg" ContentType="image/jpeg"/>
  <Override PartName="/ppt/media/image34.wmf" ContentType="image/x-wmf"/>
  <Override PartName="/ppt/media/image9.wmf" ContentType="image/x-wmf"/>
  <Override PartName="/ppt/media/image40.gif" ContentType="image/gif"/>
  <Override PartName="/ppt/media/image43.wmf" ContentType="image/x-wmf"/>
  <Override PartName="/ppt/media/camera.wav" ContentType="audio/x-wav"/>
  <Override PartName="/ppt/media/image10.wmf" ContentType="image/x-wmf"/>
  <Override PartName="/ppt/media/image2.png" ContentType="image/png"/>
  <Override PartName="/ppt/media/image31.wmf" ContentType="image/x-wmf"/>
  <Override PartName="/ppt/media/image38.jpeg" ContentType="image/jpeg"/>
  <Override PartName="/ppt/media/image7.jpeg" ContentType="image/jpeg"/>
  <Override PartName="/ppt/media/image12.wmf" ContentType="image/x-wmf"/>
  <Override PartName="/ppt/media/image41.gif" ContentType="image/gif"/>
  <Override PartName="/ppt/media/image4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16.wmf" ContentType="image/x-wmf"/>
  <Override PartName="/ppt/media/explode.wav" ContentType="audio/x-wav"/>
  <Override PartName="/ppt/media/image5.jpeg" ContentType="image/jpeg"/>
  <Override PartName="/ppt/media/image1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1C6E-DEEF-4E43-9466-409F354F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BCD-9E95-4777-A317-A227F12E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8512-8B3E-48A4-A06B-E04B828E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C1C1-15D6-4627-9DF1-F46A45AEA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80BD-505E-45E5-836E-26BAE0CE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AECFD-774D-4B66-9A14-1AA04459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F04C-48FB-4297-BF1C-351B8307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5CC9-96AF-4D0C-9470-7EFD887C2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D036-9866-45F1-83F1-4414C3F3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F847E-4AAA-4D84-B186-68F63835E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16F8-3D2B-4F43-BC34-651465CF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3FA5-6CAA-423D-9E52-A9ABF4F1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9F5C-F29D-4A6D-9A09-BAAF39DB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076D-2CB8-4F0D-A01F-DAE7DFB5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D7D93-9F0B-4604-8A6F-A49DC099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EBA59-0514-4AD0-AFCB-51B3560F7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01D6-7164-4465-803A-8CFBD713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F4666-D15F-40C1-8580-832CCCE5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72DEF-2266-4ECB-84CD-514585A1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570D6-BB4F-47D5-9BB3-CB32EF9B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06004-EA60-4917-916B-A2F8BE47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95D75-6FE9-4849-B633-FE572348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742-DFE1-44D6-9392-E6880C69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87686-2CC5-48BB-9C32-7AD6ED6F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0EE5F-EE7B-4A26-925A-40C1A7FA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91919-834A-4B87-81A4-0BE8A174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16560-F3C6-43BA-9F6E-0039F76C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A86A2-9120-4F64-A107-F1E533C26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2A649-5452-4FBB-8A85-65948C23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7E172-2E54-4FC9-89B6-44E75908E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ADD0-CA5C-44D6-9092-D0312524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B922-4C53-41E7-A549-8D3D8729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9288-26E9-41A8-BAC7-68E5F96AE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4448-1BEF-4179-93E6-DFE14BA4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FCF8-4F2C-45C1-A06F-292F92BD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FD0-7536-4082-BC49-3ABC620CB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1E892-5DCC-4B8C-8E80-7FFD6B8350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E642-695E-45F7-9254-D51E18B45E9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9090-5AA0-42D7-B4D3-54A4B0C6DFB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2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0.wmf"/><Relationship Id="rId5" Type="http://schemas.openxmlformats.org/officeDocument/2006/relationships/image" Target="../media/image22.wmf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audio" Target="../media/chimes.wav"/><Relationship Id="rId4" Type="http://schemas.openxmlformats.org/officeDocument/2006/relationships/audio" Target="../media/applause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audio" Target="../media/explode.wav"/><Relationship Id="rId5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25.gif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5"/>
          <p:cNvGrpSpPr/>
          <p:nvPr/>
        </p:nvGrpSpPr>
        <p:grpSpPr>
          <a:xfrm>
            <a:off x="7675560" y="5300640"/>
            <a:ext cx="1468440" cy="1339560"/>
            <a:chOff x="7675560" y="5300640"/>
            <a:chExt cx="1468440" cy="1339560"/>
          </a:xfrm>
        </p:grpSpPr>
        <p:sp>
          <p:nvSpPr>
            <p:cNvPr id="124" name="Oval 6"/>
            <p:cNvSpPr/>
            <p:nvPr/>
          </p:nvSpPr>
          <p:spPr>
            <a:xfrm>
              <a:off x="7821000" y="5580720"/>
              <a:ext cx="1019520" cy="9802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7"/>
            <p:cNvSpPr/>
            <p:nvPr/>
          </p:nvSpPr>
          <p:spPr>
            <a:xfrm>
              <a:off x="7871760" y="5636520"/>
              <a:ext cx="918360" cy="86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8"/>
            <p:cNvGrpSpPr/>
            <p:nvPr/>
          </p:nvGrpSpPr>
          <p:grpSpPr>
            <a:xfrm>
              <a:off x="7675560" y="5300640"/>
              <a:ext cx="818280" cy="1217520"/>
              <a:chOff x="7675560" y="5300640"/>
              <a:chExt cx="818280" cy="1217520"/>
            </a:xfrm>
          </p:grpSpPr>
          <p:sp>
            <p:nvSpPr>
              <p:cNvPr id="127" name="Freeform 9"/>
              <p:cNvSpPr/>
              <p:nvPr/>
            </p:nvSpPr>
            <p:spPr>
              <a:xfrm>
                <a:off x="7787160" y="5303880"/>
                <a:ext cx="102600" cy="145800"/>
              </a:xfrm>
              <a:custGeom>
                <a:avLst/>
                <a:gdLst/>
                <a:ahLst/>
                <a:rect l="l" t="t" r="r" b="b"/>
                <a:pathLst>
                  <a:path w="188" h="319">
                    <a:moveTo>
                      <a:pt x="188" y="289"/>
                    </a:moveTo>
                    <a:lnTo>
                      <a:pt x="88" y="0"/>
                    </a:lnTo>
                    <a:lnTo>
                      <a:pt x="0" y="30"/>
                    </a:lnTo>
                    <a:lnTo>
                      <a:pt x="100" y="319"/>
                    </a:lnTo>
                    <a:lnTo>
                      <a:pt x="188" y="289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10"/>
              <p:cNvSpPr/>
              <p:nvPr/>
            </p:nvSpPr>
            <p:spPr>
              <a:xfrm>
                <a:off x="7831800" y="5300640"/>
                <a:ext cx="61920" cy="136440"/>
              </a:xfrm>
              <a:custGeom>
                <a:avLst/>
                <a:gdLst/>
                <a:ahLst/>
                <a:rect l="l" t="t" r="r" b="b"/>
                <a:pathLst>
                  <a:path w="114" h="298">
                    <a:moveTo>
                      <a:pt x="10" y="14"/>
                    </a:moveTo>
                    <a:lnTo>
                      <a:pt x="0" y="9"/>
                    </a:lnTo>
                    <a:lnTo>
                      <a:pt x="100" y="298"/>
                    </a:lnTo>
                    <a:lnTo>
                      <a:pt x="114" y="293"/>
                    </a:lnTo>
                    <a:lnTo>
                      <a:pt x="14" y="5"/>
                    </a:lnTo>
                    <a:lnTo>
                      <a:pt x="5" y="0"/>
                    </a:lnTo>
                    <a:lnTo>
                      <a:pt x="14" y="5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11"/>
              <p:cNvSpPr/>
              <p:nvPr/>
            </p:nvSpPr>
            <p:spPr>
              <a:xfrm>
                <a:off x="7784280" y="5300640"/>
                <a:ext cx="52920" cy="20160"/>
              </a:xfrm>
              <a:custGeom>
                <a:avLst/>
                <a:gdLst/>
                <a:ahLst/>
                <a:rect l="l" t="t" r="r" b="b"/>
                <a:pathLst>
                  <a:path w="97" h="44">
                    <a:moveTo>
                      <a:pt x="13" y="35"/>
                    </a:moveTo>
                    <a:lnTo>
                      <a:pt x="9" y="44"/>
                    </a:lnTo>
                    <a:lnTo>
                      <a:pt x="97" y="14"/>
                    </a:lnTo>
                    <a:lnTo>
                      <a:pt x="92" y="0"/>
                    </a:lnTo>
                    <a:lnTo>
                      <a:pt x="4" y="30"/>
                    </a:lnTo>
                    <a:lnTo>
                      <a:pt x="0" y="39"/>
                    </a:lnTo>
                    <a:lnTo>
                      <a:pt x="4" y="30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2" y="44"/>
                    </a:lnTo>
                    <a:lnTo>
                      <a:pt x="9" y="44"/>
                    </a:lnTo>
                    <a:lnTo>
                      <a:pt x="13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12"/>
              <p:cNvSpPr/>
              <p:nvPr/>
            </p:nvSpPr>
            <p:spPr>
              <a:xfrm>
                <a:off x="7784280" y="5316480"/>
                <a:ext cx="61560" cy="136440"/>
              </a:xfrm>
              <a:custGeom>
                <a:avLst/>
                <a:gdLst/>
                <a:ahLst/>
                <a:rect l="l" t="t" r="r" b="b"/>
                <a:pathLst>
                  <a:path w="113" h="298">
                    <a:moveTo>
                      <a:pt x="103" y="284"/>
                    </a:moveTo>
                    <a:lnTo>
                      <a:pt x="113" y="288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99" y="293"/>
                    </a:lnTo>
                    <a:lnTo>
                      <a:pt x="108" y="298"/>
                    </a:lnTo>
                    <a:lnTo>
                      <a:pt x="99" y="293"/>
                    </a:lnTo>
                    <a:lnTo>
                      <a:pt x="103" y="298"/>
                    </a:lnTo>
                    <a:lnTo>
                      <a:pt x="108" y="298"/>
                    </a:lnTo>
                    <a:lnTo>
                      <a:pt x="113" y="295"/>
                    </a:lnTo>
                    <a:lnTo>
                      <a:pt x="113" y="288"/>
                    </a:lnTo>
                    <a:lnTo>
                      <a:pt x="103" y="2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3"/>
              <p:cNvSpPr/>
              <p:nvPr/>
            </p:nvSpPr>
            <p:spPr>
              <a:xfrm>
                <a:off x="7840440" y="5432760"/>
                <a:ext cx="53640" cy="20160"/>
              </a:xfrm>
              <a:custGeom>
                <a:avLst/>
                <a:gdLst/>
                <a:ahLst/>
                <a:rect l="l" t="t" r="r" b="b"/>
                <a:pathLst>
                  <a:path w="98" h="44">
                    <a:moveTo>
                      <a:pt x="84" y="9"/>
                    </a:moveTo>
                    <a:lnTo>
                      <a:pt x="88" y="0"/>
                    </a:lnTo>
                    <a:lnTo>
                      <a:pt x="0" y="30"/>
                    </a:lnTo>
                    <a:lnTo>
                      <a:pt x="5" y="44"/>
                    </a:lnTo>
                    <a:lnTo>
                      <a:pt x="93" y="14"/>
                    </a:lnTo>
                    <a:lnTo>
                      <a:pt x="98" y="4"/>
                    </a:lnTo>
                    <a:lnTo>
                      <a:pt x="93" y="14"/>
                    </a:lnTo>
                    <a:lnTo>
                      <a:pt x="98" y="9"/>
                    </a:lnTo>
                    <a:lnTo>
                      <a:pt x="98" y="4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14"/>
              <p:cNvSpPr/>
              <p:nvPr/>
            </p:nvSpPr>
            <p:spPr>
              <a:xfrm>
                <a:off x="7807680" y="5438160"/>
                <a:ext cx="194760" cy="218880"/>
              </a:xfrm>
              <a:custGeom>
                <a:avLst/>
                <a:gdLst/>
                <a:ahLst/>
                <a:rect l="l" t="t" r="r" b="b"/>
                <a:pathLst>
                  <a:path w="356" h="478">
                    <a:moveTo>
                      <a:pt x="356" y="404"/>
                    </a:moveTo>
                    <a:lnTo>
                      <a:pt x="220" y="0"/>
                    </a:lnTo>
                    <a:lnTo>
                      <a:pt x="0" y="74"/>
                    </a:lnTo>
                    <a:lnTo>
                      <a:pt x="139" y="478"/>
                    </a:lnTo>
                    <a:lnTo>
                      <a:pt x="356" y="404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5"/>
              <p:cNvSpPr/>
              <p:nvPr/>
            </p:nvSpPr>
            <p:spPr>
              <a:xfrm>
                <a:off x="7968240" y="5545080"/>
                <a:ext cx="517680" cy="849960"/>
              </a:xfrm>
              <a:custGeom>
                <a:avLst/>
                <a:gdLst/>
                <a:ahLst/>
                <a:rect l="l" t="t" r="r" b="b"/>
                <a:pathLst>
                  <a:path w="947" h="1854">
                    <a:moveTo>
                      <a:pt x="11" y="0"/>
                    </a:moveTo>
                    <a:lnTo>
                      <a:pt x="32" y="30"/>
                    </a:lnTo>
                    <a:lnTo>
                      <a:pt x="53" y="60"/>
                    </a:lnTo>
                    <a:lnTo>
                      <a:pt x="74" y="87"/>
                    </a:lnTo>
                    <a:lnTo>
                      <a:pt x="92" y="115"/>
                    </a:lnTo>
                    <a:lnTo>
                      <a:pt x="108" y="140"/>
                    </a:lnTo>
                    <a:lnTo>
                      <a:pt x="127" y="166"/>
                    </a:lnTo>
                    <a:lnTo>
                      <a:pt x="141" y="187"/>
                    </a:lnTo>
                    <a:lnTo>
                      <a:pt x="155" y="207"/>
                    </a:lnTo>
                    <a:lnTo>
                      <a:pt x="168" y="228"/>
                    </a:lnTo>
                    <a:lnTo>
                      <a:pt x="187" y="254"/>
                    </a:lnTo>
                    <a:lnTo>
                      <a:pt x="205" y="281"/>
                    </a:lnTo>
                    <a:lnTo>
                      <a:pt x="226" y="314"/>
                    </a:lnTo>
                    <a:lnTo>
                      <a:pt x="247" y="344"/>
                    </a:lnTo>
                    <a:lnTo>
                      <a:pt x="268" y="376"/>
                    </a:lnTo>
                    <a:lnTo>
                      <a:pt x="286" y="404"/>
                    </a:lnTo>
                    <a:lnTo>
                      <a:pt x="302" y="429"/>
                    </a:lnTo>
                    <a:lnTo>
                      <a:pt x="328" y="473"/>
                    </a:lnTo>
                    <a:lnTo>
                      <a:pt x="365" y="533"/>
                    </a:lnTo>
                    <a:lnTo>
                      <a:pt x="409" y="607"/>
                    </a:lnTo>
                    <a:lnTo>
                      <a:pt x="455" y="685"/>
                    </a:lnTo>
                    <a:lnTo>
                      <a:pt x="499" y="764"/>
                    </a:lnTo>
                    <a:lnTo>
                      <a:pt x="540" y="838"/>
                    </a:lnTo>
                    <a:lnTo>
                      <a:pt x="575" y="900"/>
                    </a:lnTo>
                    <a:lnTo>
                      <a:pt x="598" y="944"/>
                    </a:lnTo>
                    <a:lnTo>
                      <a:pt x="617" y="981"/>
                    </a:lnTo>
                    <a:lnTo>
                      <a:pt x="640" y="1027"/>
                    </a:lnTo>
                    <a:lnTo>
                      <a:pt x="665" y="1080"/>
                    </a:lnTo>
                    <a:lnTo>
                      <a:pt x="693" y="1134"/>
                    </a:lnTo>
                    <a:lnTo>
                      <a:pt x="721" y="1189"/>
                    </a:lnTo>
                    <a:lnTo>
                      <a:pt x="746" y="1240"/>
                    </a:lnTo>
                    <a:lnTo>
                      <a:pt x="769" y="1286"/>
                    </a:lnTo>
                    <a:lnTo>
                      <a:pt x="788" y="1323"/>
                    </a:lnTo>
                    <a:lnTo>
                      <a:pt x="801" y="1353"/>
                    </a:lnTo>
                    <a:lnTo>
                      <a:pt x="818" y="1381"/>
                    </a:lnTo>
                    <a:lnTo>
                      <a:pt x="831" y="1406"/>
                    </a:lnTo>
                    <a:lnTo>
                      <a:pt x="843" y="1429"/>
                    </a:lnTo>
                    <a:lnTo>
                      <a:pt x="855" y="1452"/>
                    </a:lnTo>
                    <a:lnTo>
                      <a:pt x="866" y="1471"/>
                    </a:lnTo>
                    <a:lnTo>
                      <a:pt x="873" y="1489"/>
                    </a:lnTo>
                    <a:lnTo>
                      <a:pt x="880" y="1503"/>
                    </a:lnTo>
                    <a:lnTo>
                      <a:pt x="892" y="1542"/>
                    </a:lnTo>
                    <a:lnTo>
                      <a:pt x="905" y="1593"/>
                    </a:lnTo>
                    <a:lnTo>
                      <a:pt x="922" y="1646"/>
                    </a:lnTo>
                    <a:lnTo>
                      <a:pt x="938" y="1690"/>
                    </a:lnTo>
                    <a:lnTo>
                      <a:pt x="945" y="1729"/>
                    </a:lnTo>
                    <a:lnTo>
                      <a:pt x="947" y="1771"/>
                    </a:lnTo>
                    <a:lnTo>
                      <a:pt x="945" y="1815"/>
                    </a:lnTo>
                    <a:lnTo>
                      <a:pt x="942" y="1854"/>
                    </a:lnTo>
                    <a:lnTo>
                      <a:pt x="933" y="1824"/>
                    </a:lnTo>
                    <a:lnTo>
                      <a:pt x="922" y="1799"/>
                    </a:lnTo>
                    <a:lnTo>
                      <a:pt x="912" y="1778"/>
                    </a:lnTo>
                    <a:lnTo>
                      <a:pt x="901" y="1755"/>
                    </a:lnTo>
                    <a:lnTo>
                      <a:pt x="892" y="1734"/>
                    </a:lnTo>
                    <a:lnTo>
                      <a:pt x="880" y="1713"/>
                    </a:lnTo>
                    <a:lnTo>
                      <a:pt x="871" y="1690"/>
                    </a:lnTo>
                    <a:lnTo>
                      <a:pt x="859" y="1662"/>
                    </a:lnTo>
                    <a:lnTo>
                      <a:pt x="850" y="1635"/>
                    </a:lnTo>
                    <a:lnTo>
                      <a:pt x="838" y="1605"/>
                    </a:lnTo>
                    <a:lnTo>
                      <a:pt x="825" y="1577"/>
                    </a:lnTo>
                    <a:lnTo>
                      <a:pt x="813" y="1547"/>
                    </a:lnTo>
                    <a:lnTo>
                      <a:pt x="797" y="1517"/>
                    </a:lnTo>
                    <a:lnTo>
                      <a:pt x="783" y="1489"/>
                    </a:lnTo>
                    <a:lnTo>
                      <a:pt x="767" y="1459"/>
                    </a:lnTo>
                    <a:lnTo>
                      <a:pt x="751" y="1431"/>
                    </a:lnTo>
                    <a:lnTo>
                      <a:pt x="732" y="1397"/>
                    </a:lnTo>
                    <a:lnTo>
                      <a:pt x="709" y="1353"/>
                    </a:lnTo>
                    <a:lnTo>
                      <a:pt x="681" y="1302"/>
                    </a:lnTo>
                    <a:lnTo>
                      <a:pt x="654" y="1247"/>
                    </a:lnTo>
                    <a:lnTo>
                      <a:pt x="626" y="1194"/>
                    </a:lnTo>
                    <a:lnTo>
                      <a:pt x="598" y="1140"/>
                    </a:lnTo>
                    <a:lnTo>
                      <a:pt x="573" y="1097"/>
                    </a:lnTo>
                    <a:lnTo>
                      <a:pt x="552" y="1060"/>
                    </a:lnTo>
                    <a:lnTo>
                      <a:pt x="531" y="1025"/>
                    </a:lnTo>
                    <a:lnTo>
                      <a:pt x="506" y="983"/>
                    </a:lnTo>
                    <a:lnTo>
                      <a:pt x="478" y="937"/>
                    </a:lnTo>
                    <a:lnTo>
                      <a:pt x="448" y="889"/>
                    </a:lnTo>
                    <a:lnTo>
                      <a:pt x="420" y="840"/>
                    </a:lnTo>
                    <a:lnTo>
                      <a:pt x="393" y="792"/>
                    </a:lnTo>
                    <a:lnTo>
                      <a:pt x="367" y="750"/>
                    </a:lnTo>
                    <a:lnTo>
                      <a:pt x="344" y="713"/>
                    </a:lnTo>
                    <a:lnTo>
                      <a:pt x="321" y="676"/>
                    </a:lnTo>
                    <a:lnTo>
                      <a:pt x="293" y="635"/>
                    </a:lnTo>
                    <a:lnTo>
                      <a:pt x="263" y="586"/>
                    </a:lnTo>
                    <a:lnTo>
                      <a:pt x="231" y="538"/>
                    </a:lnTo>
                    <a:lnTo>
                      <a:pt x="198" y="491"/>
                    </a:lnTo>
                    <a:lnTo>
                      <a:pt x="171" y="448"/>
                    </a:lnTo>
                    <a:lnTo>
                      <a:pt x="148" y="411"/>
                    </a:lnTo>
                    <a:lnTo>
                      <a:pt x="129" y="385"/>
                    </a:lnTo>
                    <a:lnTo>
                      <a:pt x="115" y="364"/>
                    </a:lnTo>
                    <a:lnTo>
                      <a:pt x="104" y="348"/>
                    </a:lnTo>
                    <a:lnTo>
                      <a:pt x="95" y="330"/>
                    </a:lnTo>
                    <a:lnTo>
                      <a:pt x="85" y="316"/>
                    </a:lnTo>
                    <a:lnTo>
                      <a:pt x="74" y="302"/>
                    </a:lnTo>
                    <a:lnTo>
                      <a:pt x="65" y="288"/>
                    </a:lnTo>
                    <a:lnTo>
                      <a:pt x="55" y="274"/>
                    </a:lnTo>
                    <a:lnTo>
                      <a:pt x="46" y="263"/>
                    </a:lnTo>
                    <a:lnTo>
                      <a:pt x="25" y="237"/>
                    </a:lnTo>
                    <a:lnTo>
                      <a:pt x="11" y="217"/>
                    </a:lnTo>
                    <a:lnTo>
                      <a:pt x="2" y="203"/>
                    </a:lnTo>
                    <a:lnTo>
                      <a:pt x="0" y="198"/>
                    </a:lnTo>
                    <a:lnTo>
                      <a:pt x="2" y="136"/>
                    </a:lnTo>
                    <a:lnTo>
                      <a:pt x="7" y="71"/>
                    </a:lnTo>
                    <a:lnTo>
                      <a:pt x="9" y="2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16"/>
              <p:cNvSpPr/>
              <p:nvPr/>
            </p:nvSpPr>
            <p:spPr>
              <a:xfrm>
                <a:off x="7859520" y="5583600"/>
                <a:ext cx="212040" cy="934560"/>
              </a:xfrm>
              <a:custGeom>
                <a:avLst/>
                <a:gdLst/>
                <a:ahLst/>
                <a:rect l="l" t="t" r="r" b="b"/>
                <a:pathLst>
                  <a:path w="388" h="2039">
                    <a:moveTo>
                      <a:pt x="0" y="0"/>
                    </a:moveTo>
                    <a:lnTo>
                      <a:pt x="5" y="74"/>
                    </a:lnTo>
                    <a:lnTo>
                      <a:pt x="7" y="141"/>
                    </a:lnTo>
                    <a:lnTo>
                      <a:pt x="12" y="201"/>
                    </a:lnTo>
                    <a:lnTo>
                      <a:pt x="14" y="251"/>
                    </a:lnTo>
                    <a:lnTo>
                      <a:pt x="16" y="307"/>
                    </a:lnTo>
                    <a:lnTo>
                      <a:pt x="21" y="378"/>
                    </a:lnTo>
                    <a:lnTo>
                      <a:pt x="26" y="455"/>
                    </a:lnTo>
                    <a:lnTo>
                      <a:pt x="30" y="519"/>
                    </a:lnTo>
                    <a:lnTo>
                      <a:pt x="35" y="570"/>
                    </a:lnTo>
                    <a:lnTo>
                      <a:pt x="44" y="639"/>
                    </a:lnTo>
                    <a:lnTo>
                      <a:pt x="53" y="723"/>
                    </a:lnTo>
                    <a:lnTo>
                      <a:pt x="65" y="813"/>
                    </a:lnTo>
                    <a:lnTo>
                      <a:pt x="76" y="905"/>
                    </a:lnTo>
                    <a:lnTo>
                      <a:pt x="88" y="988"/>
                    </a:lnTo>
                    <a:lnTo>
                      <a:pt x="99" y="1057"/>
                    </a:lnTo>
                    <a:lnTo>
                      <a:pt x="109" y="1106"/>
                    </a:lnTo>
                    <a:lnTo>
                      <a:pt x="118" y="1148"/>
                    </a:lnTo>
                    <a:lnTo>
                      <a:pt x="127" y="1198"/>
                    </a:lnTo>
                    <a:lnTo>
                      <a:pt x="139" y="1256"/>
                    </a:lnTo>
                    <a:lnTo>
                      <a:pt x="150" y="1316"/>
                    </a:lnTo>
                    <a:lnTo>
                      <a:pt x="162" y="1376"/>
                    </a:lnTo>
                    <a:lnTo>
                      <a:pt x="171" y="1432"/>
                    </a:lnTo>
                    <a:lnTo>
                      <a:pt x="183" y="1482"/>
                    </a:lnTo>
                    <a:lnTo>
                      <a:pt x="190" y="1522"/>
                    </a:lnTo>
                    <a:lnTo>
                      <a:pt x="201" y="1586"/>
                    </a:lnTo>
                    <a:lnTo>
                      <a:pt x="210" y="1642"/>
                    </a:lnTo>
                    <a:lnTo>
                      <a:pt x="217" y="1688"/>
                    </a:lnTo>
                    <a:lnTo>
                      <a:pt x="227" y="1723"/>
                    </a:lnTo>
                    <a:lnTo>
                      <a:pt x="233" y="1739"/>
                    </a:lnTo>
                    <a:lnTo>
                      <a:pt x="240" y="1760"/>
                    </a:lnTo>
                    <a:lnTo>
                      <a:pt x="250" y="1783"/>
                    </a:lnTo>
                    <a:lnTo>
                      <a:pt x="261" y="1810"/>
                    </a:lnTo>
                    <a:lnTo>
                      <a:pt x="270" y="1836"/>
                    </a:lnTo>
                    <a:lnTo>
                      <a:pt x="280" y="1861"/>
                    </a:lnTo>
                    <a:lnTo>
                      <a:pt x="289" y="1884"/>
                    </a:lnTo>
                    <a:lnTo>
                      <a:pt x="296" y="1905"/>
                    </a:lnTo>
                    <a:lnTo>
                      <a:pt x="303" y="1924"/>
                    </a:lnTo>
                    <a:lnTo>
                      <a:pt x="312" y="1942"/>
                    </a:lnTo>
                    <a:lnTo>
                      <a:pt x="324" y="1960"/>
                    </a:lnTo>
                    <a:lnTo>
                      <a:pt x="337" y="1977"/>
                    </a:lnTo>
                    <a:lnTo>
                      <a:pt x="349" y="1993"/>
                    </a:lnTo>
                    <a:lnTo>
                      <a:pt x="363" y="2009"/>
                    </a:lnTo>
                    <a:lnTo>
                      <a:pt x="377" y="2025"/>
                    </a:lnTo>
                    <a:lnTo>
                      <a:pt x="388" y="2039"/>
                    </a:lnTo>
                    <a:lnTo>
                      <a:pt x="372" y="1984"/>
                    </a:lnTo>
                    <a:lnTo>
                      <a:pt x="363" y="1935"/>
                    </a:lnTo>
                    <a:lnTo>
                      <a:pt x="354" y="1889"/>
                    </a:lnTo>
                    <a:lnTo>
                      <a:pt x="340" y="1836"/>
                    </a:lnTo>
                    <a:lnTo>
                      <a:pt x="321" y="1778"/>
                    </a:lnTo>
                    <a:lnTo>
                      <a:pt x="305" y="1716"/>
                    </a:lnTo>
                    <a:lnTo>
                      <a:pt x="294" y="1651"/>
                    </a:lnTo>
                    <a:lnTo>
                      <a:pt x="284" y="1586"/>
                    </a:lnTo>
                    <a:lnTo>
                      <a:pt x="270" y="1499"/>
                    </a:lnTo>
                    <a:lnTo>
                      <a:pt x="250" y="1383"/>
                    </a:lnTo>
                    <a:lnTo>
                      <a:pt x="229" y="1265"/>
                    </a:lnTo>
                    <a:lnTo>
                      <a:pt x="217" y="1173"/>
                    </a:lnTo>
                    <a:lnTo>
                      <a:pt x="208" y="1085"/>
                    </a:lnTo>
                    <a:lnTo>
                      <a:pt x="194" y="974"/>
                    </a:lnTo>
                    <a:lnTo>
                      <a:pt x="180" y="861"/>
                    </a:lnTo>
                    <a:lnTo>
                      <a:pt x="171" y="769"/>
                    </a:lnTo>
                    <a:lnTo>
                      <a:pt x="164" y="674"/>
                    </a:lnTo>
                    <a:lnTo>
                      <a:pt x="155" y="561"/>
                    </a:lnTo>
                    <a:lnTo>
                      <a:pt x="146" y="452"/>
                    </a:lnTo>
                    <a:lnTo>
                      <a:pt x="141" y="378"/>
                    </a:lnTo>
                    <a:lnTo>
                      <a:pt x="136" y="332"/>
                    </a:lnTo>
                    <a:lnTo>
                      <a:pt x="134" y="295"/>
                    </a:lnTo>
                    <a:lnTo>
                      <a:pt x="132" y="261"/>
                    </a:lnTo>
                    <a:lnTo>
                      <a:pt x="134" y="228"/>
                    </a:lnTo>
                    <a:lnTo>
                      <a:pt x="134" y="198"/>
                    </a:lnTo>
                    <a:lnTo>
                      <a:pt x="134" y="173"/>
                    </a:lnTo>
                    <a:lnTo>
                      <a:pt x="132" y="157"/>
                    </a:lnTo>
                    <a:lnTo>
                      <a:pt x="132" y="150"/>
                    </a:lnTo>
                    <a:lnTo>
                      <a:pt x="113" y="127"/>
                    </a:lnTo>
                    <a:lnTo>
                      <a:pt x="93" y="101"/>
                    </a:lnTo>
                    <a:lnTo>
                      <a:pt x="72" y="76"/>
                    </a:lnTo>
                    <a:lnTo>
                      <a:pt x="49" y="53"/>
                    </a:lnTo>
                    <a:lnTo>
                      <a:pt x="30" y="32"/>
                    </a:lnTo>
                    <a:lnTo>
                      <a:pt x="14" y="16"/>
                    </a:lnTo>
                    <a:lnTo>
                      <a:pt x="5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17"/>
              <p:cNvSpPr/>
              <p:nvPr/>
            </p:nvSpPr>
            <p:spPr>
              <a:xfrm>
                <a:off x="7675560" y="5620680"/>
                <a:ext cx="589680" cy="186120"/>
              </a:xfrm>
              <a:custGeom>
                <a:avLst/>
                <a:gdLst/>
                <a:ahLst/>
                <a:rect l="l" t="t" r="r" b="b"/>
                <a:pathLst>
                  <a:path w="1079" h="406">
                    <a:moveTo>
                      <a:pt x="1079" y="43"/>
                    </a:moveTo>
                    <a:lnTo>
                      <a:pt x="1063" y="0"/>
                    </a:lnTo>
                    <a:lnTo>
                      <a:pt x="0" y="362"/>
                    </a:lnTo>
                    <a:lnTo>
                      <a:pt x="16" y="406"/>
                    </a:lnTo>
                    <a:lnTo>
                      <a:pt x="1079" y="43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18"/>
              <p:cNvSpPr/>
              <p:nvPr/>
            </p:nvSpPr>
            <p:spPr>
              <a:xfrm>
                <a:off x="7737120" y="5733720"/>
                <a:ext cx="90360" cy="66960"/>
              </a:xfrm>
              <a:custGeom>
                <a:avLst/>
                <a:gdLst/>
                <a:ahLst/>
                <a:rect l="l" t="t" r="r" b="b"/>
                <a:pathLst>
                  <a:path w="166" h="147">
                    <a:moveTo>
                      <a:pt x="166" y="104"/>
                    </a:moveTo>
                    <a:lnTo>
                      <a:pt x="129" y="0"/>
                    </a:lnTo>
                    <a:lnTo>
                      <a:pt x="0" y="44"/>
                    </a:lnTo>
                    <a:lnTo>
                      <a:pt x="35" y="147"/>
                    </a:lnTo>
                    <a:lnTo>
                      <a:pt x="166" y="104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19"/>
              <p:cNvSpPr/>
              <p:nvPr/>
            </p:nvSpPr>
            <p:spPr>
              <a:xfrm>
                <a:off x="7804440" y="5730480"/>
                <a:ext cx="27000" cy="51840"/>
              </a:xfrm>
              <a:custGeom>
                <a:avLst/>
                <a:gdLst/>
                <a:ahLst/>
                <a:rect l="l" t="t" r="r" b="b"/>
                <a:pathLst>
                  <a:path w="50" h="113">
                    <a:moveTo>
                      <a:pt x="9" y="14"/>
                    </a:moveTo>
                    <a:lnTo>
                      <a:pt x="0" y="9"/>
                    </a:lnTo>
                    <a:lnTo>
                      <a:pt x="36" y="113"/>
                    </a:lnTo>
                    <a:lnTo>
                      <a:pt x="50" y="108"/>
                    </a:lnTo>
                    <a:lnTo>
                      <a:pt x="13" y="4"/>
                    </a:lnTo>
                    <a:lnTo>
                      <a:pt x="4" y="0"/>
                    </a:lnTo>
                    <a:lnTo>
                      <a:pt x="13" y="4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20"/>
              <p:cNvSpPr/>
              <p:nvPr/>
            </p:nvSpPr>
            <p:spPr>
              <a:xfrm>
                <a:off x="7733160" y="5730480"/>
                <a:ext cx="75960" cy="25920"/>
              </a:xfrm>
              <a:custGeom>
                <a:avLst/>
                <a:gdLst/>
                <a:ahLst/>
                <a:rect l="l" t="t" r="r" b="b"/>
                <a:pathLst>
                  <a:path w="139" h="57">
                    <a:moveTo>
                      <a:pt x="14" y="48"/>
                    </a:moveTo>
                    <a:lnTo>
                      <a:pt x="9" y="57"/>
                    </a:lnTo>
                    <a:lnTo>
                      <a:pt x="139" y="14"/>
                    </a:lnTo>
                    <a:lnTo>
                      <a:pt x="134" y="0"/>
                    </a:lnTo>
                    <a:lnTo>
                      <a:pt x="5" y="44"/>
                    </a:lnTo>
                    <a:lnTo>
                      <a:pt x="0" y="53"/>
                    </a:lnTo>
                    <a:lnTo>
                      <a:pt x="5" y="44"/>
                    </a:lnTo>
                    <a:lnTo>
                      <a:pt x="0" y="46"/>
                    </a:lnTo>
                    <a:lnTo>
                      <a:pt x="0" y="53"/>
                    </a:lnTo>
                    <a:lnTo>
                      <a:pt x="2" y="57"/>
                    </a:lnTo>
                    <a:lnTo>
                      <a:pt x="9" y="57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21"/>
              <p:cNvSpPr/>
              <p:nvPr/>
            </p:nvSpPr>
            <p:spPr>
              <a:xfrm>
                <a:off x="7733160" y="5752440"/>
                <a:ext cx="26280" cy="51840"/>
              </a:xfrm>
              <a:custGeom>
                <a:avLst/>
                <a:gdLst/>
                <a:ahLst/>
                <a:rect l="l" t="t" r="r" b="b"/>
                <a:pathLst>
                  <a:path w="49" h="113">
                    <a:moveTo>
                      <a:pt x="39" y="100"/>
                    </a:moveTo>
                    <a:lnTo>
                      <a:pt x="49" y="104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35" y="109"/>
                    </a:lnTo>
                    <a:lnTo>
                      <a:pt x="44" y="113"/>
                    </a:lnTo>
                    <a:lnTo>
                      <a:pt x="35" y="109"/>
                    </a:lnTo>
                    <a:lnTo>
                      <a:pt x="39" y="113"/>
                    </a:lnTo>
                    <a:lnTo>
                      <a:pt x="44" y="113"/>
                    </a:lnTo>
                    <a:lnTo>
                      <a:pt x="49" y="111"/>
                    </a:lnTo>
                    <a:lnTo>
                      <a:pt x="49" y="104"/>
                    </a:lnTo>
                    <a:lnTo>
                      <a:pt x="39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22"/>
              <p:cNvSpPr/>
              <p:nvPr/>
            </p:nvSpPr>
            <p:spPr>
              <a:xfrm>
                <a:off x="7754760" y="5778000"/>
                <a:ext cx="77040" cy="25920"/>
              </a:xfrm>
              <a:custGeom>
                <a:avLst/>
                <a:gdLst/>
                <a:ahLst/>
                <a:rect l="l" t="t" r="r" b="b"/>
                <a:pathLst>
                  <a:path w="141" h="57">
                    <a:moveTo>
                      <a:pt x="127" y="9"/>
                    </a:moveTo>
                    <a:lnTo>
                      <a:pt x="132" y="0"/>
                    </a:lnTo>
                    <a:lnTo>
                      <a:pt x="0" y="44"/>
                    </a:lnTo>
                    <a:lnTo>
                      <a:pt x="5" y="57"/>
                    </a:lnTo>
                    <a:lnTo>
                      <a:pt x="137" y="14"/>
                    </a:lnTo>
                    <a:lnTo>
                      <a:pt x="141" y="4"/>
                    </a:lnTo>
                    <a:lnTo>
                      <a:pt x="137" y="14"/>
                    </a:lnTo>
                    <a:lnTo>
                      <a:pt x="141" y="9"/>
                    </a:lnTo>
                    <a:lnTo>
                      <a:pt x="141" y="4"/>
                    </a:lnTo>
                    <a:lnTo>
                      <a:pt x="139" y="0"/>
                    </a:lnTo>
                    <a:lnTo>
                      <a:pt x="132" y="0"/>
                    </a:lnTo>
                    <a:lnTo>
                      <a:pt x="12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23"/>
              <p:cNvSpPr/>
              <p:nvPr/>
            </p:nvSpPr>
            <p:spPr>
              <a:xfrm>
                <a:off x="8124480" y="5623200"/>
                <a:ext cx="91080" cy="67680"/>
              </a:xfrm>
              <a:custGeom>
                <a:avLst/>
                <a:gdLst/>
                <a:ahLst/>
                <a:rect l="l" t="t" r="r" b="b"/>
                <a:pathLst>
                  <a:path w="167" h="148">
                    <a:moveTo>
                      <a:pt x="167" y="104"/>
                    </a:moveTo>
                    <a:lnTo>
                      <a:pt x="132" y="0"/>
                    </a:lnTo>
                    <a:lnTo>
                      <a:pt x="0" y="44"/>
                    </a:lnTo>
                    <a:lnTo>
                      <a:pt x="35" y="148"/>
                    </a:lnTo>
                    <a:lnTo>
                      <a:pt x="167" y="104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24"/>
              <p:cNvSpPr/>
              <p:nvPr/>
            </p:nvSpPr>
            <p:spPr>
              <a:xfrm>
                <a:off x="8193240" y="5620680"/>
                <a:ext cx="26640" cy="51480"/>
              </a:xfrm>
              <a:custGeom>
                <a:avLst/>
                <a:gdLst/>
                <a:ahLst/>
                <a:rect l="l" t="t" r="r" b="b"/>
                <a:pathLst>
                  <a:path w="49" h="113">
                    <a:moveTo>
                      <a:pt x="9" y="13"/>
                    </a:moveTo>
                    <a:lnTo>
                      <a:pt x="0" y="9"/>
                    </a:lnTo>
                    <a:lnTo>
                      <a:pt x="35" y="113"/>
                    </a:lnTo>
                    <a:lnTo>
                      <a:pt x="49" y="108"/>
                    </a:lnTo>
                    <a:lnTo>
                      <a:pt x="14" y="4"/>
                    </a:lnTo>
                    <a:lnTo>
                      <a:pt x="5" y="0"/>
                    </a:lnTo>
                    <a:lnTo>
                      <a:pt x="14" y="4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25"/>
              <p:cNvSpPr/>
              <p:nvPr/>
            </p:nvSpPr>
            <p:spPr>
              <a:xfrm>
                <a:off x="8121240" y="5620680"/>
                <a:ext cx="76680" cy="25920"/>
              </a:xfrm>
              <a:custGeom>
                <a:avLst/>
                <a:gdLst/>
                <a:ahLst/>
                <a:rect l="l" t="t" r="r" b="b"/>
                <a:pathLst>
                  <a:path w="141" h="57">
                    <a:moveTo>
                      <a:pt x="14" y="48"/>
                    </a:moveTo>
                    <a:lnTo>
                      <a:pt x="10" y="57"/>
                    </a:lnTo>
                    <a:lnTo>
                      <a:pt x="141" y="13"/>
                    </a:lnTo>
                    <a:lnTo>
                      <a:pt x="137" y="0"/>
                    </a:lnTo>
                    <a:lnTo>
                      <a:pt x="5" y="43"/>
                    </a:lnTo>
                    <a:lnTo>
                      <a:pt x="0" y="53"/>
                    </a:lnTo>
                    <a:lnTo>
                      <a:pt x="5" y="43"/>
                    </a:lnTo>
                    <a:lnTo>
                      <a:pt x="0" y="46"/>
                    </a:lnTo>
                    <a:lnTo>
                      <a:pt x="0" y="53"/>
                    </a:lnTo>
                    <a:lnTo>
                      <a:pt x="3" y="57"/>
                    </a:lnTo>
                    <a:lnTo>
                      <a:pt x="10" y="57"/>
                    </a:lnTo>
                    <a:lnTo>
                      <a:pt x="14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26"/>
              <p:cNvSpPr/>
              <p:nvPr/>
            </p:nvSpPr>
            <p:spPr>
              <a:xfrm>
                <a:off x="8121240" y="5642640"/>
                <a:ext cx="26280" cy="51480"/>
              </a:xfrm>
              <a:custGeom>
                <a:avLst/>
                <a:gdLst/>
                <a:ahLst/>
                <a:rect l="l" t="t" r="r" b="b"/>
                <a:pathLst>
                  <a:path w="49" h="113">
                    <a:moveTo>
                      <a:pt x="40" y="99"/>
                    </a:moveTo>
                    <a:lnTo>
                      <a:pt x="49" y="104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35" y="109"/>
                    </a:lnTo>
                    <a:lnTo>
                      <a:pt x="44" y="113"/>
                    </a:lnTo>
                    <a:lnTo>
                      <a:pt x="35" y="109"/>
                    </a:lnTo>
                    <a:lnTo>
                      <a:pt x="40" y="113"/>
                    </a:lnTo>
                    <a:lnTo>
                      <a:pt x="44" y="113"/>
                    </a:lnTo>
                    <a:lnTo>
                      <a:pt x="49" y="111"/>
                    </a:lnTo>
                    <a:lnTo>
                      <a:pt x="49" y="104"/>
                    </a:lnTo>
                    <a:lnTo>
                      <a:pt x="4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7"/>
              <p:cNvSpPr/>
              <p:nvPr/>
            </p:nvSpPr>
            <p:spPr>
              <a:xfrm>
                <a:off x="8142840" y="5667840"/>
                <a:ext cx="77040" cy="26280"/>
              </a:xfrm>
              <a:custGeom>
                <a:avLst/>
                <a:gdLst/>
                <a:ahLst/>
                <a:rect l="l" t="t" r="r" b="b"/>
                <a:pathLst>
                  <a:path w="141" h="58">
                    <a:moveTo>
                      <a:pt x="127" y="10"/>
                    </a:moveTo>
                    <a:lnTo>
                      <a:pt x="131" y="0"/>
                    </a:lnTo>
                    <a:lnTo>
                      <a:pt x="0" y="44"/>
                    </a:lnTo>
                    <a:lnTo>
                      <a:pt x="4" y="58"/>
                    </a:lnTo>
                    <a:lnTo>
                      <a:pt x="136" y="14"/>
                    </a:lnTo>
                    <a:lnTo>
                      <a:pt x="141" y="5"/>
                    </a:lnTo>
                    <a:lnTo>
                      <a:pt x="136" y="14"/>
                    </a:lnTo>
                    <a:lnTo>
                      <a:pt x="141" y="10"/>
                    </a:lnTo>
                    <a:lnTo>
                      <a:pt x="141" y="5"/>
                    </a:lnTo>
                    <a:lnTo>
                      <a:pt x="138" y="0"/>
                    </a:lnTo>
                    <a:lnTo>
                      <a:pt x="131" y="0"/>
                    </a:lnTo>
                    <a:lnTo>
                      <a:pt x="127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8"/>
              <p:cNvSpPr/>
              <p:nvPr/>
            </p:nvSpPr>
            <p:spPr>
              <a:xfrm>
                <a:off x="7947000" y="5661720"/>
                <a:ext cx="54360" cy="92880"/>
              </a:xfrm>
              <a:custGeom>
                <a:avLst/>
                <a:gdLst/>
                <a:ahLst/>
                <a:rect l="l" t="t" r="r" b="b"/>
                <a:pathLst>
                  <a:path w="99" h="203">
                    <a:moveTo>
                      <a:pt x="99" y="191"/>
                    </a:moveTo>
                    <a:lnTo>
                      <a:pt x="34" y="0"/>
                    </a:lnTo>
                    <a:lnTo>
                      <a:pt x="0" y="11"/>
                    </a:lnTo>
                    <a:lnTo>
                      <a:pt x="64" y="203"/>
                    </a:lnTo>
                    <a:lnTo>
                      <a:pt x="99" y="191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9"/>
              <p:cNvSpPr/>
              <p:nvPr/>
            </p:nvSpPr>
            <p:spPr>
              <a:xfrm>
                <a:off x="7961760" y="5658840"/>
                <a:ext cx="42840" cy="91800"/>
              </a:xfrm>
              <a:custGeom>
                <a:avLst/>
                <a:gdLst/>
                <a:ahLst/>
                <a:rect l="l" t="t" r="r" b="b"/>
                <a:pathLst>
                  <a:path w="79" h="201">
                    <a:moveTo>
                      <a:pt x="10" y="14"/>
                    </a:moveTo>
                    <a:lnTo>
                      <a:pt x="0" y="9"/>
                    </a:lnTo>
                    <a:lnTo>
                      <a:pt x="65" y="201"/>
                    </a:lnTo>
                    <a:lnTo>
                      <a:pt x="79" y="196"/>
                    </a:lnTo>
                    <a:lnTo>
                      <a:pt x="14" y="4"/>
                    </a:lnTo>
                    <a:lnTo>
                      <a:pt x="5" y="0"/>
                    </a:lnTo>
                    <a:lnTo>
                      <a:pt x="14" y="4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  <a:lnTo>
                      <a:pt x="0" y="9"/>
                    </a:lnTo>
                    <a:lnTo>
                      <a:pt x="1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30"/>
              <p:cNvSpPr/>
              <p:nvPr/>
            </p:nvSpPr>
            <p:spPr>
              <a:xfrm>
                <a:off x="7943400" y="565884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44" h="25">
                    <a:moveTo>
                      <a:pt x="13" y="16"/>
                    </a:moveTo>
                    <a:lnTo>
                      <a:pt x="9" y="25"/>
                    </a:lnTo>
                    <a:lnTo>
                      <a:pt x="44" y="14"/>
                    </a:lnTo>
                    <a:lnTo>
                      <a:pt x="39" y="0"/>
                    </a:lnTo>
                    <a:lnTo>
                      <a:pt x="4" y="11"/>
                    </a:lnTo>
                    <a:lnTo>
                      <a:pt x="0" y="20"/>
                    </a:lnTo>
                    <a:lnTo>
                      <a:pt x="4" y="11"/>
                    </a:lnTo>
                    <a:lnTo>
                      <a:pt x="0" y="14"/>
                    </a:lnTo>
                    <a:lnTo>
                      <a:pt x="0" y="20"/>
                    </a:lnTo>
                    <a:lnTo>
                      <a:pt x="2" y="25"/>
                    </a:lnTo>
                    <a:lnTo>
                      <a:pt x="9" y="25"/>
                    </a:lnTo>
                    <a:lnTo>
                      <a:pt x="13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31"/>
              <p:cNvSpPr/>
              <p:nvPr/>
            </p:nvSpPr>
            <p:spPr>
              <a:xfrm>
                <a:off x="7943400" y="5665680"/>
                <a:ext cx="42480" cy="92160"/>
              </a:xfrm>
              <a:custGeom>
                <a:avLst/>
                <a:gdLst/>
                <a:ahLst/>
                <a:rect l="l" t="t" r="r" b="b"/>
                <a:pathLst>
                  <a:path w="78" h="201">
                    <a:moveTo>
                      <a:pt x="69" y="187"/>
                    </a:moveTo>
                    <a:lnTo>
                      <a:pt x="78" y="192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64" y="196"/>
                    </a:lnTo>
                    <a:lnTo>
                      <a:pt x="74" y="201"/>
                    </a:lnTo>
                    <a:lnTo>
                      <a:pt x="64" y="196"/>
                    </a:lnTo>
                    <a:lnTo>
                      <a:pt x="69" y="201"/>
                    </a:lnTo>
                    <a:lnTo>
                      <a:pt x="74" y="201"/>
                    </a:lnTo>
                    <a:lnTo>
                      <a:pt x="78" y="198"/>
                    </a:lnTo>
                    <a:lnTo>
                      <a:pt x="78" y="192"/>
                    </a:lnTo>
                    <a:lnTo>
                      <a:pt x="69" y="1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32"/>
              <p:cNvSpPr/>
              <p:nvPr/>
            </p:nvSpPr>
            <p:spPr>
              <a:xfrm>
                <a:off x="7980840" y="5745960"/>
                <a:ext cx="23760" cy="11880"/>
              </a:xfrm>
              <a:custGeom>
                <a:avLst/>
                <a:gdLst/>
                <a:ahLst/>
                <a:rect l="l" t="t" r="r" b="b"/>
                <a:pathLst>
                  <a:path w="44" h="26">
                    <a:moveTo>
                      <a:pt x="30" y="10"/>
                    </a:moveTo>
                    <a:lnTo>
                      <a:pt x="35" y="0"/>
                    </a:lnTo>
                    <a:lnTo>
                      <a:pt x="0" y="12"/>
                    </a:lnTo>
                    <a:lnTo>
                      <a:pt x="5" y="26"/>
                    </a:lnTo>
                    <a:lnTo>
                      <a:pt x="39" y="14"/>
                    </a:lnTo>
                    <a:lnTo>
                      <a:pt x="44" y="5"/>
                    </a:lnTo>
                    <a:lnTo>
                      <a:pt x="39" y="14"/>
                    </a:lnTo>
                    <a:lnTo>
                      <a:pt x="44" y="10"/>
                    </a:lnTo>
                    <a:lnTo>
                      <a:pt x="44" y="5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33"/>
              <p:cNvSpPr/>
              <p:nvPr/>
            </p:nvSpPr>
            <p:spPr>
              <a:xfrm>
                <a:off x="8388720" y="6240960"/>
                <a:ext cx="101160" cy="83160"/>
              </a:xfrm>
              <a:custGeom>
                <a:avLst/>
                <a:gdLst/>
                <a:ahLst/>
                <a:rect l="l" t="t" r="r" b="b"/>
                <a:pathLst>
                  <a:path w="185" h="182">
                    <a:moveTo>
                      <a:pt x="123" y="178"/>
                    </a:moveTo>
                    <a:lnTo>
                      <a:pt x="139" y="171"/>
                    </a:lnTo>
                    <a:lnTo>
                      <a:pt x="153" y="159"/>
                    </a:lnTo>
                    <a:lnTo>
                      <a:pt x="166" y="148"/>
                    </a:lnTo>
                    <a:lnTo>
                      <a:pt x="176" y="132"/>
                    </a:lnTo>
                    <a:lnTo>
                      <a:pt x="180" y="115"/>
                    </a:lnTo>
                    <a:lnTo>
                      <a:pt x="185" y="99"/>
                    </a:lnTo>
                    <a:lnTo>
                      <a:pt x="185" y="81"/>
                    </a:lnTo>
                    <a:lnTo>
                      <a:pt x="180" y="62"/>
                    </a:lnTo>
                    <a:lnTo>
                      <a:pt x="173" y="46"/>
                    </a:lnTo>
                    <a:lnTo>
                      <a:pt x="162" y="30"/>
                    </a:lnTo>
                    <a:lnTo>
                      <a:pt x="148" y="18"/>
                    </a:lnTo>
                    <a:lnTo>
                      <a:pt x="134" y="9"/>
                    </a:lnTo>
                    <a:lnTo>
                      <a:pt x="118" y="2"/>
                    </a:lnTo>
                    <a:lnTo>
                      <a:pt x="99" y="0"/>
                    </a:lnTo>
                    <a:lnTo>
                      <a:pt x="81" y="0"/>
                    </a:lnTo>
                    <a:lnTo>
                      <a:pt x="62" y="5"/>
                    </a:lnTo>
                    <a:lnTo>
                      <a:pt x="46" y="11"/>
                    </a:lnTo>
                    <a:lnTo>
                      <a:pt x="30" y="23"/>
                    </a:lnTo>
                    <a:lnTo>
                      <a:pt x="19" y="37"/>
                    </a:lnTo>
                    <a:lnTo>
                      <a:pt x="9" y="51"/>
                    </a:lnTo>
                    <a:lnTo>
                      <a:pt x="2" y="67"/>
                    </a:lnTo>
                    <a:lnTo>
                      <a:pt x="0" y="85"/>
                    </a:lnTo>
                    <a:lnTo>
                      <a:pt x="0" y="102"/>
                    </a:lnTo>
                    <a:lnTo>
                      <a:pt x="5" y="120"/>
                    </a:lnTo>
                    <a:lnTo>
                      <a:pt x="12" y="136"/>
                    </a:lnTo>
                    <a:lnTo>
                      <a:pt x="23" y="152"/>
                    </a:lnTo>
                    <a:lnTo>
                      <a:pt x="37" y="164"/>
                    </a:lnTo>
                    <a:lnTo>
                      <a:pt x="51" y="173"/>
                    </a:lnTo>
                    <a:lnTo>
                      <a:pt x="67" y="180"/>
                    </a:lnTo>
                    <a:lnTo>
                      <a:pt x="86" y="182"/>
                    </a:lnTo>
                    <a:lnTo>
                      <a:pt x="104" y="182"/>
                    </a:lnTo>
                    <a:lnTo>
                      <a:pt x="123" y="178"/>
                    </a:lnTo>
                    <a:close/>
                  </a:path>
                </a:pathLst>
              </a:custGeom>
              <a:solidFill>
                <a:srgbClr val="ccd6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34"/>
              <p:cNvSpPr/>
              <p:nvPr/>
            </p:nvSpPr>
            <p:spPr>
              <a:xfrm>
                <a:off x="8454600" y="6268320"/>
                <a:ext cx="39240" cy="57240"/>
              </a:xfrm>
              <a:custGeom>
                <a:avLst/>
                <a:gdLst/>
                <a:ahLst/>
                <a:rect l="l" t="t" r="r" b="b"/>
                <a:pathLst>
                  <a:path w="72" h="125">
                    <a:moveTo>
                      <a:pt x="53" y="5"/>
                    </a:moveTo>
                    <a:lnTo>
                      <a:pt x="53" y="5"/>
                    </a:lnTo>
                    <a:lnTo>
                      <a:pt x="58" y="21"/>
                    </a:lnTo>
                    <a:lnTo>
                      <a:pt x="58" y="39"/>
                    </a:lnTo>
                    <a:lnTo>
                      <a:pt x="53" y="53"/>
                    </a:lnTo>
                    <a:lnTo>
                      <a:pt x="49" y="69"/>
                    </a:lnTo>
                    <a:lnTo>
                      <a:pt x="39" y="83"/>
                    </a:lnTo>
                    <a:lnTo>
                      <a:pt x="28" y="92"/>
                    </a:lnTo>
                    <a:lnTo>
                      <a:pt x="14" y="104"/>
                    </a:lnTo>
                    <a:lnTo>
                      <a:pt x="0" y="111"/>
                    </a:lnTo>
                    <a:lnTo>
                      <a:pt x="5" y="125"/>
                    </a:lnTo>
                    <a:lnTo>
                      <a:pt x="23" y="118"/>
                    </a:lnTo>
                    <a:lnTo>
                      <a:pt x="37" y="106"/>
                    </a:lnTo>
                    <a:lnTo>
                      <a:pt x="53" y="92"/>
                    </a:lnTo>
                    <a:lnTo>
                      <a:pt x="63" y="74"/>
                    </a:lnTo>
                    <a:lnTo>
                      <a:pt x="67" y="58"/>
                    </a:lnTo>
                    <a:lnTo>
                      <a:pt x="72" y="39"/>
                    </a:lnTo>
                    <a:lnTo>
                      <a:pt x="72" y="21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53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35"/>
              <p:cNvSpPr/>
              <p:nvPr/>
            </p:nvSpPr>
            <p:spPr>
              <a:xfrm>
                <a:off x="8421840" y="6237720"/>
                <a:ext cx="69120" cy="32760"/>
              </a:xfrm>
              <a:custGeom>
                <a:avLst/>
                <a:gdLst/>
                <a:ahLst/>
                <a:rect l="l" t="t" r="r" b="b"/>
                <a:pathLst>
                  <a:path w="127" h="72">
                    <a:moveTo>
                      <a:pt x="5" y="18"/>
                    </a:moveTo>
                    <a:lnTo>
                      <a:pt x="5" y="18"/>
                    </a:lnTo>
                    <a:lnTo>
                      <a:pt x="21" y="14"/>
                    </a:lnTo>
                    <a:lnTo>
                      <a:pt x="39" y="14"/>
                    </a:lnTo>
                    <a:lnTo>
                      <a:pt x="56" y="16"/>
                    </a:lnTo>
                    <a:lnTo>
                      <a:pt x="72" y="23"/>
                    </a:lnTo>
                    <a:lnTo>
                      <a:pt x="83" y="32"/>
                    </a:lnTo>
                    <a:lnTo>
                      <a:pt x="97" y="42"/>
                    </a:lnTo>
                    <a:lnTo>
                      <a:pt x="106" y="55"/>
                    </a:lnTo>
                    <a:lnTo>
                      <a:pt x="113" y="72"/>
                    </a:lnTo>
                    <a:lnTo>
                      <a:pt x="127" y="67"/>
                    </a:lnTo>
                    <a:lnTo>
                      <a:pt x="120" y="51"/>
                    </a:lnTo>
                    <a:lnTo>
                      <a:pt x="106" y="32"/>
                    </a:lnTo>
                    <a:lnTo>
                      <a:pt x="93" y="18"/>
                    </a:lnTo>
                    <a:lnTo>
                      <a:pt x="76" y="9"/>
                    </a:lnTo>
                    <a:lnTo>
                      <a:pt x="60" y="2"/>
                    </a:lnTo>
                    <a:lnTo>
                      <a:pt x="39" y="0"/>
                    </a:lnTo>
                    <a:lnTo>
                      <a:pt x="21" y="0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36"/>
              <p:cNvSpPr/>
              <p:nvPr/>
            </p:nvSpPr>
            <p:spPr>
              <a:xfrm>
                <a:off x="8385120" y="6239880"/>
                <a:ext cx="38880" cy="56520"/>
              </a:xfrm>
              <a:custGeom>
                <a:avLst/>
                <a:gdLst/>
                <a:ahLst/>
                <a:rect l="l" t="t" r="r" b="b"/>
                <a:pathLst>
                  <a:path w="72" h="124">
                    <a:moveTo>
                      <a:pt x="19" y="120"/>
                    </a:moveTo>
                    <a:lnTo>
                      <a:pt x="19" y="120"/>
                    </a:lnTo>
                    <a:lnTo>
                      <a:pt x="14" y="104"/>
                    </a:lnTo>
                    <a:lnTo>
                      <a:pt x="14" y="87"/>
                    </a:lnTo>
                    <a:lnTo>
                      <a:pt x="16" y="71"/>
                    </a:lnTo>
                    <a:lnTo>
                      <a:pt x="23" y="55"/>
                    </a:lnTo>
                    <a:lnTo>
                      <a:pt x="33" y="43"/>
                    </a:lnTo>
                    <a:lnTo>
                      <a:pt x="42" y="30"/>
                    </a:lnTo>
                    <a:lnTo>
                      <a:pt x="56" y="20"/>
                    </a:lnTo>
                    <a:lnTo>
                      <a:pt x="72" y="13"/>
                    </a:lnTo>
                    <a:lnTo>
                      <a:pt x="67" y="0"/>
                    </a:lnTo>
                    <a:lnTo>
                      <a:pt x="51" y="7"/>
                    </a:lnTo>
                    <a:lnTo>
                      <a:pt x="33" y="20"/>
                    </a:lnTo>
                    <a:lnTo>
                      <a:pt x="19" y="34"/>
                    </a:lnTo>
                    <a:lnTo>
                      <a:pt x="9" y="50"/>
                    </a:lnTo>
                    <a:lnTo>
                      <a:pt x="2" y="67"/>
                    </a:lnTo>
                    <a:lnTo>
                      <a:pt x="0" y="87"/>
                    </a:lnTo>
                    <a:lnTo>
                      <a:pt x="0" y="104"/>
                    </a:lnTo>
                    <a:lnTo>
                      <a:pt x="5" y="124"/>
                    </a:lnTo>
                    <a:lnTo>
                      <a:pt x="5" y="124"/>
                    </a:lnTo>
                    <a:lnTo>
                      <a:pt x="19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37"/>
              <p:cNvSpPr/>
              <p:nvPr/>
            </p:nvSpPr>
            <p:spPr>
              <a:xfrm>
                <a:off x="8387640" y="6294960"/>
                <a:ext cx="69480" cy="32400"/>
              </a:xfrm>
              <a:custGeom>
                <a:avLst/>
                <a:gdLst/>
                <a:ahLst/>
                <a:rect l="l" t="t" r="r" b="b"/>
                <a:pathLst>
                  <a:path w="127" h="71">
                    <a:moveTo>
                      <a:pt x="122" y="53"/>
                    </a:moveTo>
                    <a:lnTo>
                      <a:pt x="122" y="53"/>
                    </a:lnTo>
                    <a:lnTo>
                      <a:pt x="106" y="57"/>
                    </a:lnTo>
                    <a:lnTo>
                      <a:pt x="88" y="57"/>
                    </a:lnTo>
                    <a:lnTo>
                      <a:pt x="71" y="55"/>
                    </a:lnTo>
                    <a:lnTo>
                      <a:pt x="55" y="48"/>
                    </a:lnTo>
                    <a:lnTo>
                      <a:pt x="44" y="39"/>
                    </a:lnTo>
                    <a:lnTo>
                      <a:pt x="30" y="30"/>
                    </a:lnTo>
                    <a:lnTo>
                      <a:pt x="21" y="16"/>
                    </a:lnTo>
                    <a:lnTo>
                      <a:pt x="14" y="0"/>
                    </a:lnTo>
                    <a:lnTo>
                      <a:pt x="0" y="4"/>
                    </a:lnTo>
                    <a:lnTo>
                      <a:pt x="7" y="20"/>
                    </a:lnTo>
                    <a:lnTo>
                      <a:pt x="21" y="39"/>
                    </a:lnTo>
                    <a:lnTo>
                      <a:pt x="34" y="53"/>
                    </a:lnTo>
                    <a:lnTo>
                      <a:pt x="51" y="62"/>
                    </a:lnTo>
                    <a:lnTo>
                      <a:pt x="67" y="69"/>
                    </a:lnTo>
                    <a:lnTo>
                      <a:pt x="88" y="71"/>
                    </a:lnTo>
                    <a:lnTo>
                      <a:pt x="106" y="71"/>
                    </a:lnTo>
                    <a:lnTo>
                      <a:pt x="127" y="67"/>
                    </a:lnTo>
                    <a:lnTo>
                      <a:pt x="127" y="67"/>
                    </a:lnTo>
                    <a:lnTo>
                      <a:pt x="122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Freeform 38"/>
            <p:cNvSpPr/>
            <p:nvPr/>
          </p:nvSpPr>
          <p:spPr>
            <a:xfrm>
              <a:off x="7690320" y="5756040"/>
              <a:ext cx="587160" cy="763200"/>
            </a:xfrm>
            <a:custGeom>
              <a:avLst/>
              <a:gdLst/>
              <a:ahLst/>
              <a:rect l="l" t="t" r="r" b="b"/>
              <a:pathLst>
                <a:path w="1877" h="2956">
                  <a:moveTo>
                    <a:pt x="1690" y="0"/>
                  </a:moveTo>
                  <a:lnTo>
                    <a:pt x="1688" y="979"/>
                  </a:lnTo>
                  <a:lnTo>
                    <a:pt x="1612" y="979"/>
                  </a:lnTo>
                  <a:lnTo>
                    <a:pt x="1602" y="910"/>
                  </a:lnTo>
                  <a:lnTo>
                    <a:pt x="1589" y="845"/>
                  </a:lnTo>
                  <a:lnTo>
                    <a:pt x="1575" y="783"/>
                  </a:lnTo>
                  <a:lnTo>
                    <a:pt x="1559" y="726"/>
                  </a:lnTo>
                  <a:lnTo>
                    <a:pt x="1542" y="671"/>
                  </a:lnTo>
                  <a:lnTo>
                    <a:pt x="1521" y="621"/>
                  </a:lnTo>
                  <a:lnTo>
                    <a:pt x="1500" y="573"/>
                  </a:lnTo>
                  <a:lnTo>
                    <a:pt x="1477" y="530"/>
                  </a:lnTo>
                  <a:lnTo>
                    <a:pt x="1465" y="510"/>
                  </a:lnTo>
                  <a:lnTo>
                    <a:pt x="1452" y="490"/>
                  </a:lnTo>
                  <a:lnTo>
                    <a:pt x="1438" y="470"/>
                  </a:lnTo>
                  <a:lnTo>
                    <a:pt x="1424" y="451"/>
                  </a:lnTo>
                  <a:lnTo>
                    <a:pt x="1409" y="432"/>
                  </a:lnTo>
                  <a:lnTo>
                    <a:pt x="1393" y="415"/>
                  </a:lnTo>
                  <a:lnTo>
                    <a:pt x="1376" y="398"/>
                  </a:lnTo>
                  <a:lnTo>
                    <a:pt x="1360" y="380"/>
                  </a:lnTo>
                  <a:lnTo>
                    <a:pt x="1341" y="365"/>
                  </a:lnTo>
                  <a:lnTo>
                    <a:pt x="1324" y="349"/>
                  </a:lnTo>
                  <a:lnTo>
                    <a:pt x="1304" y="333"/>
                  </a:lnTo>
                  <a:lnTo>
                    <a:pt x="1285" y="318"/>
                  </a:lnTo>
                  <a:lnTo>
                    <a:pt x="1265" y="304"/>
                  </a:lnTo>
                  <a:lnTo>
                    <a:pt x="1244" y="291"/>
                  </a:lnTo>
                  <a:lnTo>
                    <a:pt x="1222" y="278"/>
                  </a:lnTo>
                  <a:lnTo>
                    <a:pt x="1200" y="265"/>
                  </a:lnTo>
                  <a:lnTo>
                    <a:pt x="1177" y="254"/>
                  </a:lnTo>
                  <a:lnTo>
                    <a:pt x="1156" y="242"/>
                  </a:lnTo>
                  <a:lnTo>
                    <a:pt x="1133" y="232"/>
                  </a:lnTo>
                  <a:lnTo>
                    <a:pt x="1110" y="222"/>
                  </a:lnTo>
                  <a:lnTo>
                    <a:pt x="1087" y="213"/>
                  </a:lnTo>
                  <a:lnTo>
                    <a:pt x="1064" y="206"/>
                  </a:lnTo>
                  <a:lnTo>
                    <a:pt x="1042" y="199"/>
                  </a:lnTo>
                  <a:lnTo>
                    <a:pt x="1019" y="192"/>
                  </a:lnTo>
                  <a:lnTo>
                    <a:pt x="995" y="186"/>
                  </a:lnTo>
                  <a:lnTo>
                    <a:pt x="971" y="182"/>
                  </a:lnTo>
                  <a:lnTo>
                    <a:pt x="948" y="177"/>
                  </a:lnTo>
                  <a:lnTo>
                    <a:pt x="925" y="173"/>
                  </a:lnTo>
                  <a:lnTo>
                    <a:pt x="902" y="170"/>
                  </a:lnTo>
                  <a:lnTo>
                    <a:pt x="879" y="169"/>
                  </a:lnTo>
                  <a:lnTo>
                    <a:pt x="855" y="167"/>
                  </a:lnTo>
                  <a:lnTo>
                    <a:pt x="832" y="167"/>
                  </a:lnTo>
                  <a:lnTo>
                    <a:pt x="806" y="167"/>
                  </a:lnTo>
                  <a:lnTo>
                    <a:pt x="780" y="169"/>
                  </a:lnTo>
                  <a:lnTo>
                    <a:pt x="754" y="172"/>
                  </a:lnTo>
                  <a:lnTo>
                    <a:pt x="730" y="176"/>
                  </a:lnTo>
                  <a:lnTo>
                    <a:pt x="705" y="180"/>
                  </a:lnTo>
                  <a:lnTo>
                    <a:pt x="681" y="186"/>
                  </a:lnTo>
                  <a:lnTo>
                    <a:pt x="658" y="192"/>
                  </a:lnTo>
                  <a:lnTo>
                    <a:pt x="635" y="200"/>
                  </a:lnTo>
                  <a:lnTo>
                    <a:pt x="613" y="209"/>
                  </a:lnTo>
                  <a:lnTo>
                    <a:pt x="591" y="219"/>
                  </a:lnTo>
                  <a:lnTo>
                    <a:pt x="570" y="229"/>
                  </a:lnTo>
                  <a:lnTo>
                    <a:pt x="550" y="241"/>
                  </a:lnTo>
                  <a:lnTo>
                    <a:pt x="530" y="254"/>
                  </a:lnTo>
                  <a:lnTo>
                    <a:pt x="511" y="268"/>
                  </a:lnTo>
                  <a:lnTo>
                    <a:pt x="492" y="284"/>
                  </a:lnTo>
                  <a:lnTo>
                    <a:pt x="473" y="300"/>
                  </a:lnTo>
                  <a:lnTo>
                    <a:pt x="440" y="333"/>
                  </a:lnTo>
                  <a:lnTo>
                    <a:pt x="411" y="367"/>
                  </a:lnTo>
                  <a:lnTo>
                    <a:pt x="387" y="403"/>
                  </a:lnTo>
                  <a:lnTo>
                    <a:pt x="367" y="441"/>
                  </a:lnTo>
                  <a:lnTo>
                    <a:pt x="351" y="480"/>
                  </a:lnTo>
                  <a:lnTo>
                    <a:pt x="339" y="519"/>
                  </a:lnTo>
                  <a:lnTo>
                    <a:pt x="334" y="559"/>
                  </a:lnTo>
                  <a:lnTo>
                    <a:pt x="331" y="601"/>
                  </a:lnTo>
                  <a:lnTo>
                    <a:pt x="332" y="632"/>
                  </a:lnTo>
                  <a:lnTo>
                    <a:pt x="337" y="664"/>
                  </a:lnTo>
                  <a:lnTo>
                    <a:pt x="344" y="694"/>
                  </a:lnTo>
                  <a:lnTo>
                    <a:pt x="354" y="724"/>
                  </a:lnTo>
                  <a:lnTo>
                    <a:pt x="367" y="753"/>
                  </a:lnTo>
                  <a:lnTo>
                    <a:pt x="381" y="782"/>
                  </a:lnTo>
                  <a:lnTo>
                    <a:pt x="400" y="809"/>
                  </a:lnTo>
                  <a:lnTo>
                    <a:pt x="422" y="837"/>
                  </a:lnTo>
                  <a:lnTo>
                    <a:pt x="439" y="857"/>
                  </a:lnTo>
                  <a:lnTo>
                    <a:pt x="460" y="877"/>
                  </a:lnTo>
                  <a:lnTo>
                    <a:pt x="483" y="899"/>
                  </a:lnTo>
                  <a:lnTo>
                    <a:pt x="509" y="922"/>
                  </a:lnTo>
                  <a:lnTo>
                    <a:pt x="538" y="945"/>
                  </a:lnTo>
                  <a:lnTo>
                    <a:pt x="568" y="968"/>
                  </a:lnTo>
                  <a:lnTo>
                    <a:pt x="603" y="994"/>
                  </a:lnTo>
                  <a:lnTo>
                    <a:pt x="640" y="1020"/>
                  </a:lnTo>
                  <a:lnTo>
                    <a:pt x="679" y="1046"/>
                  </a:lnTo>
                  <a:lnTo>
                    <a:pt x="722" y="1073"/>
                  </a:lnTo>
                  <a:lnTo>
                    <a:pt x="767" y="1102"/>
                  </a:lnTo>
                  <a:lnTo>
                    <a:pt x="815" y="1130"/>
                  </a:lnTo>
                  <a:lnTo>
                    <a:pt x="865" y="1159"/>
                  </a:lnTo>
                  <a:lnTo>
                    <a:pt x="918" y="1191"/>
                  </a:lnTo>
                  <a:lnTo>
                    <a:pt x="974" y="1223"/>
                  </a:lnTo>
                  <a:lnTo>
                    <a:pt x="1033" y="1254"/>
                  </a:lnTo>
                  <a:lnTo>
                    <a:pt x="1082" y="1280"/>
                  </a:lnTo>
                  <a:lnTo>
                    <a:pt x="1128" y="1306"/>
                  </a:lnTo>
                  <a:lnTo>
                    <a:pt x="1173" y="1331"/>
                  </a:lnTo>
                  <a:lnTo>
                    <a:pt x="1216" y="1354"/>
                  </a:lnTo>
                  <a:lnTo>
                    <a:pt x="1257" y="1378"/>
                  </a:lnTo>
                  <a:lnTo>
                    <a:pt x="1295" y="1400"/>
                  </a:lnTo>
                  <a:lnTo>
                    <a:pt x="1333" y="1421"/>
                  </a:lnTo>
                  <a:lnTo>
                    <a:pt x="1367" y="1443"/>
                  </a:lnTo>
                  <a:lnTo>
                    <a:pt x="1401" y="1463"/>
                  </a:lnTo>
                  <a:lnTo>
                    <a:pt x="1431" y="1482"/>
                  </a:lnTo>
                  <a:lnTo>
                    <a:pt x="1460" y="1500"/>
                  </a:lnTo>
                  <a:lnTo>
                    <a:pt x="1487" y="1518"/>
                  </a:lnTo>
                  <a:lnTo>
                    <a:pt x="1511" y="1535"/>
                  </a:lnTo>
                  <a:lnTo>
                    <a:pt x="1534" y="1551"/>
                  </a:lnTo>
                  <a:lnTo>
                    <a:pt x="1556" y="1567"/>
                  </a:lnTo>
                  <a:lnTo>
                    <a:pt x="1575" y="1581"/>
                  </a:lnTo>
                  <a:lnTo>
                    <a:pt x="1611" y="1610"/>
                  </a:lnTo>
                  <a:lnTo>
                    <a:pt x="1644" y="1640"/>
                  </a:lnTo>
                  <a:lnTo>
                    <a:pt x="1675" y="1672"/>
                  </a:lnTo>
                  <a:lnTo>
                    <a:pt x="1704" y="1705"/>
                  </a:lnTo>
                  <a:lnTo>
                    <a:pt x="1732" y="1739"/>
                  </a:lnTo>
                  <a:lnTo>
                    <a:pt x="1756" y="1774"/>
                  </a:lnTo>
                  <a:lnTo>
                    <a:pt x="1779" y="1811"/>
                  </a:lnTo>
                  <a:lnTo>
                    <a:pt x="1799" y="1849"/>
                  </a:lnTo>
                  <a:lnTo>
                    <a:pt x="1818" y="1888"/>
                  </a:lnTo>
                  <a:lnTo>
                    <a:pt x="1834" y="1928"/>
                  </a:lnTo>
                  <a:lnTo>
                    <a:pt x="1847" y="1967"/>
                  </a:lnTo>
                  <a:lnTo>
                    <a:pt x="1858" y="2007"/>
                  </a:lnTo>
                  <a:lnTo>
                    <a:pt x="1866" y="2049"/>
                  </a:lnTo>
                  <a:lnTo>
                    <a:pt x="1873" y="2089"/>
                  </a:lnTo>
                  <a:lnTo>
                    <a:pt x="1876" y="2131"/>
                  </a:lnTo>
                  <a:lnTo>
                    <a:pt x="1877" y="2173"/>
                  </a:lnTo>
                  <a:lnTo>
                    <a:pt x="1876" y="2213"/>
                  </a:lnTo>
                  <a:lnTo>
                    <a:pt x="1873" y="2252"/>
                  </a:lnTo>
                  <a:lnTo>
                    <a:pt x="1868" y="2289"/>
                  </a:lnTo>
                  <a:lnTo>
                    <a:pt x="1861" y="2327"/>
                  </a:lnTo>
                  <a:lnTo>
                    <a:pt x="1853" y="2364"/>
                  </a:lnTo>
                  <a:lnTo>
                    <a:pt x="1842" y="2400"/>
                  </a:lnTo>
                  <a:lnTo>
                    <a:pt x="1830" y="2436"/>
                  </a:lnTo>
                  <a:lnTo>
                    <a:pt x="1815" y="2471"/>
                  </a:lnTo>
                  <a:lnTo>
                    <a:pt x="1798" y="2505"/>
                  </a:lnTo>
                  <a:lnTo>
                    <a:pt x="1779" y="2538"/>
                  </a:lnTo>
                  <a:lnTo>
                    <a:pt x="1759" y="2572"/>
                  </a:lnTo>
                  <a:lnTo>
                    <a:pt x="1737" y="2603"/>
                  </a:lnTo>
                  <a:lnTo>
                    <a:pt x="1713" y="2634"/>
                  </a:lnTo>
                  <a:lnTo>
                    <a:pt x="1686" y="2665"/>
                  </a:lnTo>
                  <a:lnTo>
                    <a:pt x="1658" y="2694"/>
                  </a:lnTo>
                  <a:lnTo>
                    <a:pt x="1628" y="2723"/>
                  </a:lnTo>
                  <a:lnTo>
                    <a:pt x="1596" y="2752"/>
                  </a:lnTo>
                  <a:lnTo>
                    <a:pt x="1563" y="2777"/>
                  </a:lnTo>
                  <a:lnTo>
                    <a:pt x="1530" y="2802"/>
                  </a:lnTo>
                  <a:lnTo>
                    <a:pt x="1494" y="2825"/>
                  </a:lnTo>
                  <a:lnTo>
                    <a:pt x="1458" y="2845"/>
                  </a:lnTo>
                  <a:lnTo>
                    <a:pt x="1421" y="2865"/>
                  </a:lnTo>
                  <a:lnTo>
                    <a:pt x="1383" y="2883"/>
                  </a:lnTo>
                  <a:lnTo>
                    <a:pt x="1343" y="2897"/>
                  </a:lnTo>
                  <a:lnTo>
                    <a:pt x="1303" y="2911"/>
                  </a:lnTo>
                  <a:lnTo>
                    <a:pt x="1261" y="2923"/>
                  </a:lnTo>
                  <a:lnTo>
                    <a:pt x="1218" y="2933"/>
                  </a:lnTo>
                  <a:lnTo>
                    <a:pt x="1173" y="2942"/>
                  </a:lnTo>
                  <a:lnTo>
                    <a:pt x="1128" y="2947"/>
                  </a:lnTo>
                  <a:lnTo>
                    <a:pt x="1082" y="2952"/>
                  </a:lnTo>
                  <a:lnTo>
                    <a:pt x="1035" y="2955"/>
                  </a:lnTo>
                  <a:lnTo>
                    <a:pt x="986" y="2956"/>
                  </a:lnTo>
                  <a:lnTo>
                    <a:pt x="956" y="2956"/>
                  </a:lnTo>
                  <a:lnTo>
                    <a:pt x="925" y="2955"/>
                  </a:lnTo>
                  <a:lnTo>
                    <a:pt x="897" y="2953"/>
                  </a:lnTo>
                  <a:lnTo>
                    <a:pt x="868" y="2952"/>
                  </a:lnTo>
                  <a:lnTo>
                    <a:pt x="839" y="2949"/>
                  </a:lnTo>
                  <a:lnTo>
                    <a:pt x="812" y="2946"/>
                  </a:lnTo>
                  <a:lnTo>
                    <a:pt x="784" y="2942"/>
                  </a:lnTo>
                  <a:lnTo>
                    <a:pt x="757" y="2937"/>
                  </a:lnTo>
                  <a:lnTo>
                    <a:pt x="748" y="2936"/>
                  </a:lnTo>
                  <a:lnTo>
                    <a:pt x="738" y="2934"/>
                  </a:lnTo>
                  <a:lnTo>
                    <a:pt x="728" y="2932"/>
                  </a:lnTo>
                  <a:lnTo>
                    <a:pt x="717" y="2929"/>
                  </a:lnTo>
                  <a:lnTo>
                    <a:pt x="704" y="2926"/>
                  </a:lnTo>
                  <a:lnTo>
                    <a:pt x="689" y="2921"/>
                  </a:lnTo>
                  <a:lnTo>
                    <a:pt x="673" y="2917"/>
                  </a:lnTo>
                  <a:lnTo>
                    <a:pt x="658" y="2913"/>
                  </a:lnTo>
                  <a:lnTo>
                    <a:pt x="640" y="2907"/>
                  </a:lnTo>
                  <a:lnTo>
                    <a:pt x="622" y="2903"/>
                  </a:lnTo>
                  <a:lnTo>
                    <a:pt x="603" y="2897"/>
                  </a:lnTo>
                  <a:lnTo>
                    <a:pt x="583" y="2890"/>
                  </a:lnTo>
                  <a:lnTo>
                    <a:pt x="561" y="2884"/>
                  </a:lnTo>
                  <a:lnTo>
                    <a:pt x="538" y="2877"/>
                  </a:lnTo>
                  <a:lnTo>
                    <a:pt x="514" y="2868"/>
                  </a:lnTo>
                  <a:lnTo>
                    <a:pt x="489" y="2861"/>
                  </a:lnTo>
                  <a:lnTo>
                    <a:pt x="465" y="2854"/>
                  </a:lnTo>
                  <a:lnTo>
                    <a:pt x="440" y="2845"/>
                  </a:lnTo>
                  <a:lnTo>
                    <a:pt x="417" y="2839"/>
                  </a:lnTo>
                  <a:lnTo>
                    <a:pt x="396" y="2832"/>
                  </a:lnTo>
                  <a:lnTo>
                    <a:pt x="375" y="2826"/>
                  </a:lnTo>
                  <a:lnTo>
                    <a:pt x="357" y="2821"/>
                  </a:lnTo>
                  <a:lnTo>
                    <a:pt x="339" y="2816"/>
                  </a:lnTo>
                  <a:lnTo>
                    <a:pt x="322" y="2812"/>
                  </a:lnTo>
                  <a:lnTo>
                    <a:pt x="308" y="2808"/>
                  </a:lnTo>
                  <a:lnTo>
                    <a:pt x="293" y="2805"/>
                  </a:lnTo>
                  <a:lnTo>
                    <a:pt x="279" y="2802"/>
                  </a:lnTo>
                  <a:lnTo>
                    <a:pt x="268" y="2799"/>
                  </a:lnTo>
                  <a:lnTo>
                    <a:pt x="257" y="2798"/>
                  </a:lnTo>
                  <a:lnTo>
                    <a:pt x="247" y="2796"/>
                  </a:lnTo>
                  <a:lnTo>
                    <a:pt x="239" y="2795"/>
                  </a:lnTo>
                  <a:lnTo>
                    <a:pt x="232" y="2795"/>
                  </a:lnTo>
                  <a:lnTo>
                    <a:pt x="219" y="2795"/>
                  </a:lnTo>
                  <a:lnTo>
                    <a:pt x="207" y="2796"/>
                  </a:lnTo>
                  <a:lnTo>
                    <a:pt x="196" y="2799"/>
                  </a:lnTo>
                  <a:lnTo>
                    <a:pt x="184" y="2803"/>
                  </a:lnTo>
                  <a:lnTo>
                    <a:pt x="174" y="2808"/>
                  </a:lnTo>
                  <a:lnTo>
                    <a:pt x="165" y="2813"/>
                  </a:lnTo>
                  <a:lnTo>
                    <a:pt x="157" y="2819"/>
                  </a:lnTo>
                  <a:lnTo>
                    <a:pt x="149" y="2826"/>
                  </a:lnTo>
                  <a:lnTo>
                    <a:pt x="142" y="2835"/>
                  </a:lnTo>
                  <a:lnTo>
                    <a:pt x="135" y="2847"/>
                  </a:lnTo>
                  <a:lnTo>
                    <a:pt x="129" y="2860"/>
                  </a:lnTo>
                  <a:lnTo>
                    <a:pt x="122" y="2875"/>
                  </a:lnTo>
                  <a:lnTo>
                    <a:pt x="118" y="2893"/>
                  </a:lnTo>
                  <a:lnTo>
                    <a:pt x="112" y="2911"/>
                  </a:lnTo>
                  <a:lnTo>
                    <a:pt x="108" y="2933"/>
                  </a:lnTo>
                  <a:lnTo>
                    <a:pt x="103" y="2956"/>
                  </a:lnTo>
                  <a:lnTo>
                    <a:pt x="29" y="2956"/>
                  </a:lnTo>
                  <a:lnTo>
                    <a:pt x="29" y="1989"/>
                  </a:lnTo>
                  <a:lnTo>
                    <a:pt x="103" y="1989"/>
                  </a:lnTo>
                  <a:lnTo>
                    <a:pt x="118" y="2062"/>
                  </a:lnTo>
                  <a:lnTo>
                    <a:pt x="132" y="2131"/>
                  </a:lnTo>
                  <a:lnTo>
                    <a:pt x="149" y="2196"/>
                  </a:lnTo>
                  <a:lnTo>
                    <a:pt x="167" y="2255"/>
                  </a:lnTo>
                  <a:lnTo>
                    <a:pt x="185" y="2310"/>
                  </a:lnTo>
                  <a:lnTo>
                    <a:pt x="206" y="2360"/>
                  </a:lnTo>
                  <a:lnTo>
                    <a:pt x="227" y="2405"/>
                  </a:lnTo>
                  <a:lnTo>
                    <a:pt x="250" y="2445"/>
                  </a:lnTo>
                  <a:lnTo>
                    <a:pt x="262" y="2464"/>
                  </a:lnTo>
                  <a:lnTo>
                    <a:pt x="275" y="2482"/>
                  </a:lnTo>
                  <a:lnTo>
                    <a:pt x="288" y="2500"/>
                  </a:lnTo>
                  <a:lnTo>
                    <a:pt x="302" y="2517"/>
                  </a:lnTo>
                  <a:lnTo>
                    <a:pt x="316" y="2534"/>
                  </a:lnTo>
                  <a:lnTo>
                    <a:pt x="332" y="2550"/>
                  </a:lnTo>
                  <a:lnTo>
                    <a:pt x="348" y="2566"/>
                  </a:lnTo>
                  <a:lnTo>
                    <a:pt x="365" y="2582"/>
                  </a:lnTo>
                  <a:lnTo>
                    <a:pt x="384" y="2598"/>
                  </a:lnTo>
                  <a:lnTo>
                    <a:pt x="403" y="2612"/>
                  </a:lnTo>
                  <a:lnTo>
                    <a:pt x="422" y="2626"/>
                  </a:lnTo>
                  <a:lnTo>
                    <a:pt x="442" y="2641"/>
                  </a:lnTo>
                  <a:lnTo>
                    <a:pt x="463" y="2655"/>
                  </a:lnTo>
                  <a:lnTo>
                    <a:pt x="485" y="2668"/>
                  </a:lnTo>
                  <a:lnTo>
                    <a:pt x="508" y="2681"/>
                  </a:lnTo>
                  <a:lnTo>
                    <a:pt x="531" y="2694"/>
                  </a:lnTo>
                  <a:lnTo>
                    <a:pt x="554" y="2705"/>
                  </a:lnTo>
                  <a:lnTo>
                    <a:pt x="578" y="2717"/>
                  </a:lnTo>
                  <a:lnTo>
                    <a:pt x="603" y="2727"/>
                  </a:lnTo>
                  <a:lnTo>
                    <a:pt x="627" y="2737"/>
                  </a:lnTo>
                  <a:lnTo>
                    <a:pt x="652" y="2746"/>
                  </a:lnTo>
                  <a:lnTo>
                    <a:pt x="678" y="2754"/>
                  </a:lnTo>
                  <a:lnTo>
                    <a:pt x="702" y="2762"/>
                  </a:lnTo>
                  <a:lnTo>
                    <a:pt x="728" y="2769"/>
                  </a:lnTo>
                  <a:lnTo>
                    <a:pt x="754" y="2775"/>
                  </a:lnTo>
                  <a:lnTo>
                    <a:pt x="780" y="2779"/>
                  </a:lnTo>
                  <a:lnTo>
                    <a:pt x="807" y="2783"/>
                  </a:lnTo>
                  <a:lnTo>
                    <a:pt x="833" y="2788"/>
                  </a:lnTo>
                  <a:lnTo>
                    <a:pt x="861" y="2790"/>
                  </a:lnTo>
                  <a:lnTo>
                    <a:pt x="888" y="2792"/>
                  </a:lnTo>
                  <a:lnTo>
                    <a:pt x="915" y="2793"/>
                  </a:lnTo>
                  <a:lnTo>
                    <a:pt x="943" y="2793"/>
                  </a:lnTo>
                  <a:lnTo>
                    <a:pt x="974" y="2793"/>
                  </a:lnTo>
                  <a:lnTo>
                    <a:pt x="1006" y="2792"/>
                  </a:lnTo>
                  <a:lnTo>
                    <a:pt x="1036" y="2789"/>
                  </a:lnTo>
                  <a:lnTo>
                    <a:pt x="1065" y="2785"/>
                  </a:lnTo>
                  <a:lnTo>
                    <a:pt x="1094" y="2780"/>
                  </a:lnTo>
                  <a:lnTo>
                    <a:pt x="1123" y="2775"/>
                  </a:lnTo>
                  <a:lnTo>
                    <a:pt x="1150" y="2767"/>
                  </a:lnTo>
                  <a:lnTo>
                    <a:pt x="1176" y="2759"/>
                  </a:lnTo>
                  <a:lnTo>
                    <a:pt x="1200" y="2750"/>
                  </a:lnTo>
                  <a:lnTo>
                    <a:pt x="1225" y="2740"/>
                  </a:lnTo>
                  <a:lnTo>
                    <a:pt x="1249" y="2729"/>
                  </a:lnTo>
                  <a:lnTo>
                    <a:pt x="1272" y="2717"/>
                  </a:lnTo>
                  <a:lnTo>
                    <a:pt x="1294" y="2704"/>
                  </a:lnTo>
                  <a:lnTo>
                    <a:pt x="1316" y="2688"/>
                  </a:lnTo>
                  <a:lnTo>
                    <a:pt x="1336" y="2674"/>
                  </a:lnTo>
                  <a:lnTo>
                    <a:pt x="1354" y="2657"/>
                  </a:lnTo>
                  <a:lnTo>
                    <a:pt x="1390" y="2622"/>
                  </a:lnTo>
                  <a:lnTo>
                    <a:pt x="1421" y="2586"/>
                  </a:lnTo>
                  <a:lnTo>
                    <a:pt x="1447" y="2549"/>
                  </a:lnTo>
                  <a:lnTo>
                    <a:pt x="1468" y="2508"/>
                  </a:lnTo>
                  <a:lnTo>
                    <a:pt x="1484" y="2467"/>
                  </a:lnTo>
                  <a:lnTo>
                    <a:pt x="1496" y="2423"/>
                  </a:lnTo>
                  <a:lnTo>
                    <a:pt x="1503" y="2379"/>
                  </a:lnTo>
                  <a:lnTo>
                    <a:pt x="1506" y="2333"/>
                  </a:lnTo>
                  <a:lnTo>
                    <a:pt x="1504" y="2307"/>
                  </a:lnTo>
                  <a:lnTo>
                    <a:pt x="1501" y="2281"/>
                  </a:lnTo>
                  <a:lnTo>
                    <a:pt x="1497" y="2255"/>
                  </a:lnTo>
                  <a:lnTo>
                    <a:pt x="1491" y="2228"/>
                  </a:lnTo>
                  <a:lnTo>
                    <a:pt x="1483" y="2202"/>
                  </a:lnTo>
                  <a:lnTo>
                    <a:pt x="1472" y="2176"/>
                  </a:lnTo>
                  <a:lnTo>
                    <a:pt x="1461" y="2148"/>
                  </a:lnTo>
                  <a:lnTo>
                    <a:pt x="1448" y="2122"/>
                  </a:lnTo>
                  <a:lnTo>
                    <a:pt x="1434" y="2096"/>
                  </a:lnTo>
                  <a:lnTo>
                    <a:pt x="1416" y="2071"/>
                  </a:lnTo>
                  <a:lnTo>
                    <a:pt x="1396" y="2045"/>
                  </a:lnTo>
                  <a:lnTo>
                    <a:pt x="1375" y="2020"/>
                  </a:lnTo>
                  <a:lnTo>
                    <a:pt x="1352" y="1996"/>
                  </a:lnTo>
                  <a:lnTo>
                    <a:pt x="1326" y="1971"/>
                  </a:lnTo>
                  <a:lnTo>
                    <a:pt x="1298" y="1947"/>
                  </a:lnTo>
                  <a:lnTo>
                    <a:pt x="1269" y="1924"/>
                  </a:lnTo>
                  <a:lnTo>
                    <a:pt x="1258" y="1915"/>
                  </a:lnTo>
                  <a:lnTo>
                    <a:pt x="1245" y="1906"/>
                  </a:lnTo>
                  <a:lnTo>
                    <a:pt x="1229" y="1895"/>
                  </a:lnTo>
                  <a:lnTo>
                    <a:pt x="1210" y="1883"/>
                  </a:lnTo>
                  <a:lnTo>
                    <a:pt x="1190" y="1870"/>
                  </a:lnTo>
                  <a:lnTo>
                    <a:pt x="1169" y="1858"/>
                  </a:lnTo>
                  <a:lnTo>
                    <a:pt x="1144" y="1842"/>
                  </a:lnTo>
                  <a:lnTo>
                    <a:pt x="1118" y="1826"/>
                  </a:lnTo>
                  <a:lnTo>
                    <a:pt x="1090" y="1809"/>
                  </a:lnTo>
                  <a:lnTo>
                    <a:pt x="1058" y="1790"/>
                  </a:lnTo>
                  <a:lnTo>
                    <a:pt x="1025" y="1771"/>
                  </a:lnTo>
                  <a:lnTo>
                    <a:pt x="990" y="1750"/>
                  </a:lnTo>
                  <a:lnTo>
                    <a:pt x="953" y="1728"/>
                  </a:lnTo>
                  <a:lnTo>
                    <a:pt x="912" y="1706"/>
                  </a:lnTo>
                  <a:lnTo>
                    <a:pt x="871" y="1682"/>
                  </a:lnTo>
                  <a:lnTo>
                    <a:pt x="828" y="1657"/>
                  </a:lnTo>
                  <a:lnTo>
                    <a:pt x="783" y="1633"/>
                  </a:lnTo>
                  <a:lnTo>
                    <a:pt x="740" y="1608"/>
                  </a:lnTo>
                  <a:lnTo>
                    <a:pt x="699" y="1584"/>
                  </a:lnTo>
                  <a:lnTo>
                    <a:pt x="659" y="1561"/>
                  </a:lnTo>
                  <a:lnTo>
                    <a:pt x="622" y="1538"/>
                  </a:lnTo>
                  <a:lnTo>
                    <a:pt x="584" y="1516"/>
                  </a:lnTo>
                  <a:lnTo>
                    <a:pt x="550" y="1496"/>
                  </a:lnTo>
                  <a:lnTo>
                    <a:pt x="517" y="1475"/>
                  </a:lnTo>
                  <a:lnTo>
                    <a:pt x="485" y="1454"/>
                  </a:lnTo>
                  <a:lnTo>
                    <a:pt x="456" y="1436"/>
                  </a:lnTo>
                  <a:lnTo>
                    <a:pt x="427" y="1417"/>
                  </a:lnTo>
                  <a:lnTo>
                    <a:pt x="401" y="1400"/>
                  </a:lnTo>
                  <a:lnTo>
                    <a:pt x="377" y="1382"/>
                  </a:lnTo>
                  <a:lnTo>
                    <a:pt x="354" y="1365"/>
                  </a:lnTo>
                  <a:lnTo>
                    <a:pt x="332" y="1349"/>
                  </a:lnTo>
                  <a:lnTo>
                    <a:pt x="312" y="1333"/>
                  </a:lnTo>
                  <a:lnTo>
                    <a:pt x="293" y="1318"/>
                  </a:lnTo>
                  <a:lnTo>
                    <a:pt x="275" y="1303"/>
                  </a:lnTo>
                  <a:lnTo>
                    <a:pt x="256" y="1287"/>
                  </a:lnTo>
                  <a:lnTo>
                    <a:pt x="240" y="1272"/>
                  </a:lnTo>
                  <a:lnTo>
                    <a:pt x="223" y="1256"/>
                  </a:lnTo>
                  <a:lnTo>
                    <a:pt x="207" y="1238"/>
                  </a:lnTo>
                  <a:lnTo>
                    <a:pt x="191" y="1223"/>
                  </a:lnTo>
                  <a:lnTo>
                    <a:pt x="177" y="1205"/>
                  </a:lnTo>
                  <a:lnTo>
                    <a:pt x="162" y="1189"/>
                  </a:lnTo>
                  <a:lnTo>
                    <a:pt x="149" y="1172"/>
                  </a:lnTo>
                  <a:lnTo>
                    <a:pt x="135" y="1155"/>
                  </a:lnTo>
                  <a:lnTo>
                    <a:pt x="124" y="1138"/>
                  </a:lnTo>
                  <a:lnTo>
                    <a:pt x="112" y="1120"/>
                  </a:lnTo>
                  <a:lnTo>
                    <a:pt x="101" y="1102"/>
                  </a:lnTo>
                  <a:lnTo>
                    <a:pt x="89" y="1084"/>
                  </a:lnTo>
                  <a:lnTo>
                    <a:pt x="79" y="1066"/>
                  </a:lnTo>
                  <a:lnTo>
                    <a:pt x="60" y="1030"/>
                  </a:lnTo>
                  <a:lnTo>
                    <a:pt x="44" y="991"/>
                  </a:lnTo>
                  <a:lnTo>
                    <a:pt x="30" y="952"/>
                  </a:lnTo>
                  <a:lnTo>
                    <a:pt x="20" y="913"/>
                  </a:lnTo>
                  <a:lnTo>
                    <a:pt x="11" y="871"/>
                  </a:lnTo>
                  <a:lnTo>
                    <a:pt x="4" y="831"/>
                  </a:lnTo>
                  <a:lnTo>
                    <a:pt x="1" y="788"/>
                  </a:lnTo>
                  <a:lnTo>
                    <a:pt x="0" y="745"/>
                  </a:lnTo>
                  <a:lnTo>
                    <a:pt x="1" y="707"/>
                  </a:lnTo>
                  <a:lnTo>
                    <a:pt x="4" y="670"/>
                  </a:lnTo>
                  <a:lnTo>
                    <a:pt x="8" y="634"/>
                  </a:lnTo>
                  <a:lnTo>
                    <a:pt x="14" y="598"/>
                  </a:lnTo>
                  <a:lnTo>
                    <a:pt x="23" y="563"/>
                  </a:lnTo>
                  <a:lnTo>
                    <a:pt x="33" y="529"/>
                  </a:lnTo>
                  <a:lnTo>
                    <a:pt x="44" y="494"/>
                  </a:lnTo>
                  <a:lnTo>
                    <a:pt x="59" y="461"/>
                  </a:lnTo>
                  <a:lnTo>
                    <a:pt x="73" y="429"/>
                  </a:lnTo>
                  <a:lnTo>
                    <a:pt x="90" y="398"/>
                  </a:lnTo>
                  <a:lnTo>
                    <a:pt x="111" y="366"/>
                  </a:lnTo>
                  <a:lnTo>
                    <a:pt x="131" y="336"/>
                  </a:lnTo>
                  <a:lnTo>
                    <a:pt x="154" y="306"/>
                  </a:lnTo>
                  <a:lnTo>
                    <a:pt x="178" y="277"/>
                  </a:lnTo>
                  <a:lnTo>
                    <a:pt x="204" y="248"/>
                  </a:lnTo>
                  <a:lnTo>
                    <a:pt x="233" y="221"/>
                  </a:lnTo>
                  <a:lnTo>
                    <a:pt x="263" y="193"/>
                  </a:lnTo>
                  <a:lnTo>
                    <a:pt x="293" y="169"/>
                  </a:lnTo>
                  <a:lnTo>
                    <a:pt x="325" y="146"/>
                  </a:lnTo>
                  <a:lnTo>
                    <a:pt x="358" y="124"/>
                  </a:lnTo>
                  <a:lnTo>
                    <a:pt x="391" y="104"/>
                  </a:lnTo>
                  <a:lnTo>
                    <a:pt x="426" y="87"/>
                  </a:lnTo>
                  <a:lnTo>
                    <a:pt x="462" y="69"/>
                  </a:lnTo>
                  <a:lnTo>
                    <a:pt x="498" y="55"/>
                  </a:lnTo>
                  <a:lnTo>
                    <a:pt x="537" y="42"/>
                  </a:lnTo>
                  <a:lnTo>
                    <a:pt x="574" y="32"/>
                  </a:lnTo>
                  <a:lnTo>
                    <a:pt x="614" y="22"/>
                  </a:lnTo>
                  <a:lnTo>
                    <a:pt x="655" y="15"/>
                  </a:lnTo>
                  <a:lnTo>
                    <a:pt x="697" y="7"/>
                  </a:lnTo>
                  <a:lnTo>
                    <a:pt x="740" y="3"/>
                  </a:lnTo>
                  <a:lnTo>
                    <a:pt x="783" y="2"/>
                  </a:lnTo>
                  <a:lnTo>
                    <a:pt x="828" y="0"/>
                  </a:lnTo>
                  <a:lnTo>
                    <a:pt x="855" y="0"/>
                  </a:lnTo>
                  <a:lnTo>
                    <a:pt x="884" y="2"/>
                  </a:lnTo>
                  <a:lnTo>
                    <a:pt x="911" y="5"/>
                  </a:lnTo>
                  <a:lnTo>
                    <a:pt x="940" y="7"/>
                  </a:lnTo>
                  <a:lnTo>
                    <a:pt x="969" y="10"/>
                  </a:lnTo>
                  <a:lnTo>
                    <a:pt x="999" y="16"/>
                  </a:lnTo>
                  <a:lnTo>
                    <a:pt x="1028" y="20"/>
                  </a:lnTo>
                  <a:lnTo>
                    <a:pt x="1058" y="28"/>
                  </a:lnTo>
                  <a:lnTo>
                    <a:pt x="1088" y="35"/>
                  </a:lnTo>
                  <a:lnTo>
                    <a:pt x="1118" y="43"/>
                  </a:lnTo>
                  <a:lnTo>
                    <a:pt x="1149" y="52"/>
                  </a:lnTo>
                  <a:lnTo>
                    <a:pt x="1179" y="62"/>
                  </a:lnTo>
                  <a:lnTo>
                    <a:pt x="1209" y="72"/>
                  </a:lnTo>
                  <a:lnTo>
                    <a:pt x="1241" y="84"/>
                  </a:lnTo>
                  <a:lnTo>
                    <a:pt x="1271" y="97"/>
                  </a:lnTo>
                  <a:lnTo>
                    <a:pt x="1303" y="110"/>
                  </a:lnTo>
                  <a:lnTo>
                    <a:pt x="1331" y="121"/>
                  </a:lnTo>
                  <a:lnTo>
                    <a:pt x="1357" y="133"/>
                  </a:lnTo>
                  <a:lnTo>
                    <a:pt x="1380" y="141"/>
                  </a:lnTo>
                  <a:lnTo>
                    <a:pt x="1403" y="149"/>
                  </a:lnTo>
                  <a:lnTo>
                    <a:pt x="1422" y="156"/>
                  </a:lnTo>
                  <a:lnTo>
                    <a:pt x="1439" y="160"/>
                  </a:lnTo>
                  <a:lnTo>
                    <a:pt x="1455" y="162"/>
                  </a:lnTo>
                  <a:lnTo>
                    <a:pt x="1468" y="163"/>
                  </a:lnTo>
                  <a:lnTo>
                    <a:pt x="1481" y="163"/>
                  </a:lnTo>
                  <a:lnTo>
                    <a:pt x="1494" y="162"/>
                  </a:lnTo>
                  <a:lnTo>
                    <a:pt x="1506" y="159"/>
                  </a:lnTo>
                  <a:lnTo>
                    <a:pt x="1517" y="154"/>
                  </a:lnTo>
                  <a:lnTo>
                    <a:pt x="1529" y="150"/>
                  </a:lnTo>
                  <a:lnTo>
                    <a:pt x="1539" y="144"/>
                  </a:lnTo>
                  <a:lnTo>
                    <a:pt x="1547" y="137"/>
                  </a:lnTo>
                  <a:lnTo>
                    <a:pt x="1556" y="130"/>
                  </a:lnTo>
                  <a:lnTo>
                    <a:pt x="1565" y="120"/>
                  </a:lnTo>
                  <a:lnTo>
                    <a:pt x="1572" y="110"/>
                  </a:lnTo>
                  <a:lnTo>
                    <a:pt x="1580" y="95"/>
                  </a:lnTo>
                  <a:lnTo>
                    <a:pt x="1588" y="81"/>
                  </a:lnTo>
                  <a:lnTo>
                    <a:pt x="1593" y="64"/>
                  </a:lnTo>
                  <a:lnTo>
                    <a:pt x="1601" y="45"/>
                  </a:lnTo>
                  <a:lnTo>
                    <a:pt x="1606" y="23"/>
                  </a:lnTo>
                  <a:lnTo>
                    <a:pt x="1612" y="0"/>
                  </a:lnTo>
                  <a:lnTo>
                    <a:pt x="16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39"/>
            <p:cNvGrpSpPr/>
            <p:nvPr/>
          </p:nvGrpSpPr>
          <p:grpSpPr>
            <a:xfrm>
              <a:off x="7755840" y="5356080"/>
              <a:ext cx="858240" cy="1160280"/>
              <a:chOff x="7755840" y="5356080"/>
              <a:chExt cx="858240" cy="1160280"/>
            </a:xfrm>
          </p:grpSpPr>
          <p:sp>
            <p:nvSpPr>
              <p:cNvPr id="158" name="Freeform 40"/>
              <p:cNvSpPr/>
              <p:nvPr/>
            </p:nvSpPr>
            <p:spPr>
              <a:xfrm>
                <a:off x="8173440" y="5986800"/>
                <a:ext cx="33120" cy="3384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3" y="75"/>
                    </a:moveTo>
                    <a:lnTo>
                      <a:pt x="1" y="85"/>
                    </a:lnTo>
                    <a:lnTo>
                      <a:pt x="10" y="83"/>
                    </a:lnTo>
                    <a:lnTo>
                      <a:pt x="23" y="78"/>
                    </a:lnTo>
                    <a:lnTo>
                      <a:pt x="30" y="73"/>
                    </a:lnTo>
                    <a:lnTo>
                      <a:pt x="41" y="50"/>
                    </a:lnTo>
                    <a:lnTo>
                      <a:pt x="33" y="29"/>
                    </a:lnTo>
                    <a:lnTo>
                      <a:pt x="13" y="19"/>
                    </a:lnTo>
                    <a:lnTo>
                      <a:pt x="43" y="8"/>
                    </a:lnTo>
                    <a:lnTo>
                      <a:pt x="79" y="20"/>
                    </a:lnTo>
                    <a:lnTo>
                      <a:pt x="72" y="13"/>
                    </a:lnTo>
                    <a:lnTo>
                      <a:pt x="63" y="7"/>
                    </a:lnTo>
                    <a:lnTo>
                      <a:pt x="5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3" y="0"/>
                    </a:lnTo>
                    <a:lnTo>
                      <a:pt x="13" y="3"/>
                    </a:lnTo>
                    <a:lnTo>
                      <a:pt x="3" y="7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13" y="26"/>
                    </a:lnTo>
                    <a:lnTo>
                      <a:pt x="23" y="29"/>
                    </a:lnTo>
                    <a:lnTo>
                      <a:pt x="27" y="49"/>
                    </a:lnTo>
                    <a:lnTo>
                      <a:pt x="3" y="75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41"/>
              <p:cNvSpPr/>
              <p:nvPr/>
            </p:nvSpPr>
            <p:spPr>
              <a:xfrm>
                <a:off x="8173440" y="5986800"/>
                <a:ext cx="33120" cy="33840"/>
              </a:xfrm>
              <a:custGeom>
                <a:avLst/>
                <a:gdLst/>
                <a:ahLst/>
                <a:rect l="l" t="t" r="r" b="b"/>
                <a:pathLst>
                  <a:path w="79" h="85">
                    <a:moveTo>
                      <a:pt x="3" y="75"/>
                    </a:moveTo>
                    <a:lnTo>
                      <a:pt x="3" y="75"/>
                    </a:lnTo>
                    <a:lnTo>
                      <a:pt x="1" y="85"/>
                    </a:lnTo>
                    <a:lnTo>
                      <a:pt x="10" y="83"/>
                    </a:lnTo>
                    <a:lnTo>
                      <a:pt x="23" y="78"/>
                    </a:lnTo>
                    <a:lnTo>
                      <a:pt x="30" y="73"/>
                    </a:lnTo>
                    <a:lnTo>
                      <a:pt x="41" y="50"/>
                    </a:lnTo>
                    <a:lnTo>
                      <a:pt x="33" y="29"/>
                    </a:lnTo>
                    <a:lnTo>
                      <a:pt x="13" y="19"/>
                    </a:lnTo>
                    <a:lnTo>
                      <a:pt x="43" y="8"/>
                    </a:lnTo>
                    <a:lnTo>
                      <a:pt x="79" y="20"/>
                    </a:lnTo>
                    <a:lnTo>
                      <a:pt x="79" y="20"/>
                    </a:lnTo>
                    <a:lnTo>
                      <a:pt x="72" y="13"/>
                    </a:lnTo>
                    <a:lnTo>
                      <a:pt x="63" y="7"/>
                    </a:lnTo>
                    <a:lnTo>
                      <a:pt x="53" y="3"/>
                    </a:lnTo>
                    <a:lnTo>
                      <a:pt x="43" y="0"/>
                    </a:lnTo>
                    <a:lnTo>
                      <a:pt x="33" y="0"/>
                    </a:lnTo>
                    <a:lnTo>
                      <a:pt x="23" y="0"/>
                    </a:lnTo>
                    <a:lnTo>
                      <a:pt x="13" y="3"/>
                    </a:lnTo>
                    <a:lnTo>
                      <a:pt x="3" y="7"/>
                    </a:lnTo>
                    <a:lnTo>
                      <a:pt x="3" y="7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13" y="26"/>
                    </a:lnTo>
                    <a:lnTo>
                      <a:pt x="23" y="29"/>
                    </a:lnTo>
                    <a:lnTo>
                      <a:pt x="27" y="49"/>
                    </a:lnTo>
                    <a:lnTo>
                      <a:pt x="3" y="75"/>
                    </a:lnTo>
                  </a:path>
                </a:pathLst>
              </a:custGeom>
              <a:noFill/>
              <a:ln w="0">
                <a:solidFill>
                  <a:srgbClr val="49494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42"/>
              <p:cNvSpPr/>
              <p:nvPr/>
            </p:nvSpPr>
            <p:spPr>
              <a:xfrm>
                <a:off x="8160480" y="5990040"/>
                <a:ext cx="14760" cy="30600"/>
              </a:xfrm>
              <a:custGeom>
                <a:avLst/>
                <a:gdLst/>
                <a:ahLst/>
                <a:rect l="l" t="t" r="r" b="b"/>
                <a:pathLst>
                  <a:path w="36" h="77">
                    <a:moveTo>
                      <a:pt x="34" y="18"/>
                    </a:moveTo>
                    <a:lnTo>
                      <a:pt x="36" y="11"/>
                    </a:lnTo>
                    <a:lnTo>
                      <a:pt x="29" y="3"/>
                    </a:lnTo>
                    <a:lnTo>
                      <a:pt x="22" y="0"/>
                    </a:lnTo>
                    <a:lnTo>
                      <a:pt x="19" y="8"/>
                    </a:lnTo>
                    <a:lnTo>
                      <a:pt x="0" y="42"/>
                    </a:lnTo>
                    <a:lnTo>
                      <a:pt x="9" y="68"/>
                    </a:lnTo>
                    <a:lnTo>
                      <a:pt x="13" y="71"/>
                    </a:lnTo>
                    <a:lnTo>
                      <a:pt x="18" y="74"/>
                    </a:lnTo>
                    <a:lnTo>
                      <a:pt x="23" y="75"/>
                    </a:lnTo>
                    <a:lnTo>
                      <a:pt x="28" y="77"/>
                    </a:lnTo>
                    <a:lnTo>
                      <a:pt x="31" y="75"/>
                    </a:lnTo>
                    <a:lnTo>
                      <a:pt x="34" y="74"/>
                    </a:lnTo>
                    <a:lnTo>
                      <a:pt x="35" y="70"/>
                    </a:lnTo>
                    <a:lnTo>
                      <a:pt x="34" y="67"/>
                    </a:lnTo>
                    <a:lnTo>
                      <a:pt x="26" y="62"/>
                    </a:lnTo>
                    <a:lnTo>
                      <a:pt x="18" y="58"/>
                    </a:lnTo>
                    <a:lnTo>
                      <a:pt x="12" y="54"/>
                    </a:lnTo>
                    <a:lnTo>
                      <a:pt x="11" y="48"/>
                    </a:lnTo>
                    <a:lnTo>
                      <a:pt x="34" y="18"/>
                    </a:lnTo>
                    <a:close/>
                  </a:path>
                </a:pathLst>
              </a:custGeom>
              <a:solidFill>
                <a:srgbClr val="4949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43"/>
              <p:cNvSpPr/>
              <p:nvPr/>
            </p:nvSpPr>
            <p:spPr>
              <a:xfrm>
                <a:off x="8160480" y="5990040"/>
                <a:ext cx="14760" cy="30600"/>
              </a:xfrm>
              <a:custGeom>
                <a:avLst/>
                <a:gdLst/>
                <a:ahLst/>
                <a:rect l="l" t="t" r="r" b="b"/>
                <a:pathLst>
                  <a:path w="36" h="77">
                    <a:moveTo>
                      <a:pt x="34" y="18"/>
                    </a:moveTo>
                    <a:lnTo>
                      <a:pt x="34" y="18"/>
                    </a:lnTo>
                    <a:lnTo>
                      <a:pt x="36" y="11"/>
                    </a:lnTo>
                    <a:lnTo>
                      <a:pt x="29" y="3"/>
                    </a:lnTo>
                    <a:lnTo>
                      <a:pt x="22" y="0"/>
                    </a:lnTo>
                    <a:lnTo>
                      <a:pt x="19" y="8"/>
                    </a:lnTo>
                    <a:lnTo>
                      <a:pt x="0" y="42"/>
                    </a:lnTo>
                    <a:lnTo>
                      <a:pt x="9" y="68"/>
                    </a:lnTo>
                    <a:lnTo>
                      <a:pt x="9" y="68"/>
                    </a:lnTo>
                    <a:lnTo>
                      <a:pt x="13" y="71"/>
                    </a:lnTo>
                    <a:lnTo>
                      <a:pt x="18" y="74"/>
                    </a:lnTo>
                    <a:lnTo>
                      <a:pt x="23" y="75"/>
                    </a:lnTo>
                    <a:lnTo>
                      <a:pt x="28" y="77"/>
                    </a:lnTo>
                    <a:lnTo>
                      <a:pt x="28" y="77"/>
                    </a:lnTo>
                    <a:lnTo>
                      <a:pt x="31" y="75"/>
                    </a:lnTo>
                    <a:lnTo>
                      <a:pt x="34" y="74"/>
                    </a:lnTo>
                    <a:lnTo>
                      <a:pt x="35" y="70"/>
                    </a:lnTo>
                    <a:lnTo>
                      <a:pt x="34" y="67"/>
                    </a:lnTo>
                    <a:lnTo>
                      <a:pt x="34" y="67"/>
                    </a:lnTo>
                    <a:lnTo>
                      <a:pt x="26" y="62"/>
                    </a:lnTo>
                    <a:lnTo>
                      <a:pt x="18" y="58"/>
                    </a:lnTo>
                    <a:lnTo>
                      <a:pt x="12" y="54"/>
                    </a:lnTo>
                    <a:lnTo>
                      <a:pt x="11" y="48"/>
                    </a:lnTo>
                    <a:lnTo>
                      <a:pt x="34" y="18"/>
                    </a:lnTo>
                  </a:path>
                </a:pathLst>
              </a:custGeom>
              <a:noFill/>
              <a:ln w="0">
                <a:solidFill>
                  <a:srgbClr val="494949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44"/>
              <p:cNvSpPr/>
              <p:nvPr/>
            </p:nvSpPr>
            <p:spPr>
              <a:xfrm>
                <a:off x="8477640" y="5356080"/>
                <a:ext cx="136440" cy="172800"/>
              </a:xfrm>
              <a:custGeom>
                <a:avLst/>
                <a:gdLst/>
                <a:ahLst/>
                <a:rect l="l" t="t" r="r" b="b"/>
                <a:pathLst>
                  <a:path w="324" h="434">
                    <a:moveTo>
                      <a:pt x="160" y="377"/>
                    </a:moveTo>
                    <a:lnTo>
                      <a:pt x="175" y="341"/>
                    </a:lnTo>
                    <a:lnTo>
                      <a:pt x="195" y="294"/>
                    </a:lnTo>
                    <a:lnTo>
                      <a:pt x="216" y="239"/>
                    </a:lnTo>
                    <a:lnTo>
                      <a:pt x="239" y="182"/>
                    </a:lnTo>
                    <a:lnTo>
                      <a:pt x="264" y="125"/>
                    </a:lnTo>
                    <a:lnTo>
                      <a:pt x="287" y="74"/>
                    </a:lnTo>
                    <a:lnTo>
                      <a:pt x="307" y="30"/>
                    </a:lnTo>
                    <a:lnTo>
                      <a:pt x="324" y="0"/>
                    </a:lnTo>
                    <a:lnTo>
                      <a:pt x="304" y="19"/>
                    </a:lnTo>
                    <a:lnTo>
                      <a:pt x="284" y="39"/>
                    </a:lnTo>
                    <a:lnTo>
                      <a:pt x="264" y="58"/>
                    </a:lnTo>
                    <a:lnTo>
                      <a:pt x="245" y="78"/>
                    </a:lnTo>
                    <a:lnTo>
                      <a:pt x="225" y="98"/>
                    </a:lnTo>
                    <a:lnTo>
                      <a:pt x="205" y="117"/>
                    </a:lnTo>
                    <a:lnTo>
                      <a:pt x="185" y="137"/>
                    </a:lnTo>
                    <a:lnTo>
                      <a:pt x="164" y="157"/>
                    </a:lnTo>
                    <a:lnTo>
                      <a:pt x="144" y="176"/>
                    </a:lnTo>
                    <a:lnTo>
                      <a:pt x="124" y="196"/>
                    </a:lnTo>
                    <a:lnTo>
                      <a:pt x="104" y="215"/>
                    </a:lnTo>
                    <a:lnTo>
                      <a:pt x="84" y="233"/>
                    </a:lnTo>
                    <a:lnTo>
                      <a:pt x="62" y="252"/>
                    </a:lnTo>
                    <a:lnTo>
                      <a:pt x="42" y="271"/>
                    </a:lnTo>
                    <a:lnTo>
                      <a:pt x="22" y="290"/>
                    </a:lnTo>
                    <a:lnTo>
                      <a:pt x="0" y="307"/>
                    </a:lnTo>
                    <a:lnTo>
                      <a:pt x="13" y="434"/>
                    </a:lnTo>
                    <a:lnTo>
                      <a:pt x="160" y="37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45"/>
              <p:cNvSpPr/>
              <p:nvPr/>
            </p:nvSpPr>
            <p:spPr>
              <a:xfrm>
                <a:off x="8477640" y="5356080"/>
                <a:ext cx="136440" cy="172800"/>
              </a:xfrm>
              <a:custGeom>
                <a:avLst/>
                <a:gdLst/>
                <a:ahLst/>
                <a:rect l="l" t="t" r="r" b="b"/>
                <a:pathLst>
                  <a:path w="324" h="434">
                    <a:moveTo>
                      <a:pt x="160" y="377"/>
                    </a:moveTo>
                    <a:lnTo>
                      <a:pt x="160" y="377"/>
                    </a:lnTo>
                    <a:lnTo>
                      <a:pt x="175" y="341"/>
                    </a:lnTo>
                    <a:lnTo>
                      <a:pt x="195" y="294"/>
                    </a:lnTo>
                    <a:lnTo>
                      <a:pt x="216" y="239"/>
                    </a:lnTo>
                    <a:lnTo>
                      <a:pt x="239" y="182"/>
                    </a:lnTo>
                    <a:lnTo>
                      <a:pt x="264" y="125"/>
                    </a:lnTo>
                    <a:lnTo>
                      <a:pt x="287" y="74"/>
                    </a:lnTo>
                    <a:lnTo>
                      <a:pt x="307" y="30"/>
                    </a:lnTo>
                    <a:lnTo>
                      <a:pt x="324" y="0"/>
                    </a:lnTo>
                    <a:lnTo>
                      <a:pt x="324" y="0"/>
                    </a:lnTo>
                    <a:lnTo>
                      <a:pt x="304" y="19"/>
                    </a:lnTo>
                    <a:lnTo>
                      <a:pt x="284" y="39"/>
                    </a:lnTo>
                    <a:lnTo>
                      <a:pt x="264" y="58"/>
                    </a:lnTo>
                    <a:lnTo>
                      <a:pt x="245" y="78"/>
                    </a:lnTo>
                    <a:lnTo>
                      <a:pt x="225" y="98"/>
                    </a:lnTo>
                    <a:lnTo>
                      <a:pt x="205" y="117"/>
                    </a:lnTo>
                    <a:lnTo>
                      <a:pt x="185" y="137"/>
                    </a:lnTo>
                    <a:lnTo>
                      <a:pt x="164" y="157"/>
                    </a:lnTo>
                    <a:lnTo>
                      <a:pt x="144" y="176"/>
                    </a:lnTo>
                    <a:lnTo>
                      <a:pt x="124" y="196"/>
                    </a:lnTo>
                    <a:lnTo>
                      <a:pt x="104" y="215"/>
                    </a:lnTo>
                    <a:lnTo>
                      <a:pt x="84" y="233"/>
                    </a:lnTo>
                    <a:lnTo>
                      <a:pt x="62" y="252"/>
                    </a:lnTo>
                    <a:lnTo>
                      <a:pt x="42" y="271"/>
                    </a:lnTo>
                    <a:lnTo>
                      <a:pt x="22" y="290"/>
                    </a:lnTo>
                    <a:lnTo>
                      <a:pt x="0" y="307"/>
                    </a:lnTo>
                    <a:lnTo>
                      <a:pt x="13" y="434"/>
                    </a:lnTo>
                    <a:lnTo>
                      <a:pt x="160" y="377"/>
                    </a:lnTo>
                  </a:path>
                </a:pathLst>
              </a:custGeom>
              <a:noFill/>
              <a:ln w="0">
                <a:solidFill>
                  <a:srgbClr val="666666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46"/>
              <p:cNvSpPr/>
              <p:nvPr/>
            </p:nvSpPr>
            <p:spPr>
              <a:xfrm>
                <a:off x="8487360" y="5366880"/>
                <a:ext cx="118080" cy="138960"/>
              </a:xfrm>
              <a:custGeom>
                <a:avLst/>
                <a:gdLst/>
                <a:ahLst/>
                <a:rect l="l" t="t" r="r" b="b"/>
                <a:pathLst>
                  <a:path w="281" h="349">
                    <a:moveTo>
                      <a:pt x="25" y="349"/>
                    </a:moveTo>
                    <a:lnTo>
                      <a:pt x="281" y="0"/>
                    </a:lnTo>
                    <a:lnTo>
                      <a:pt x="0" y="268"/>
                    </a:lnTo>
                    <a:lnTo>
                      <a:pt x="25" y="349"/>
                    </a:lnTo>
                    <a:close/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47"/>
              <p:cNvSpPr/>
              <p:nvPr/>
            </p:nvSpPr>
            <p:spPr>
              <a:xfrm>
                <a:off x="8487360" y="5366880"/>
                <a:ext cx="118080" cy="138960"/>
              </a:xfrm>
              <a:custGeom>
                <a:avLst/>
                <a:gdLst/>
                <a:ahLst/>
                <a:rect l="l" t="t" r="r" b="b"/>
                <a:pathLst>
                  <a:path w="281" h="349">
                    <a:moveTo>
                      <a:pt x="25" y="349"/>
                    </a:moveTo>
                    <a:lnTo>
                      <a:pt x="281" y="0"/>
                    </a:lnTo>
                    <a:lnTo>
                      <a:pt x="0" y="268"/>
                    </a:lnTo>
                    <a:lnTo>
                      <a:pt x="25" y="349"/>
                    </a:lnTo>
                  </a:path>
                </a:pathLst>
              </a:custGeom>
              <a:noFill/>
              <a:ln w="0">
                <a:solidFill>
                  <a:srgbClr val="cecece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48"/>
              <p:cNvSpPr/>
              <p:nvPr/>
            </p:nvSpPr>
            <p:spPr>
              <a:xfrm>
                <a:off x="7761240" y="5533200"/>
                <a:ext cx="743760" cy="977760"/>
              </a:xfrm>
              <a:custGeom>
                <a:avLst/>
                <a:gdLst/>
                <a:ahLst/>
                <a:rect l="l" t="t" r="r" b="b"/>
                <a:pathLst>
                  <a:path w="1766" h="2454">
                    <a:moveTo>
                      <a:pt x="1766" y="117"/>
                    </a:moveTo>
                    <a:lnTo>
                      <a:pt x="1717" y="187"/>
                    </a:lnTo>
                    <a:lnTo>
                      <a:pt x="1670" y="259"/>
                    </a:lnTo>
                    <a:lnTo>
                      <a:pt x="1621" y="330"/>
                    </a:lnTo>
                    <a:lnTo>
                      <a:pt x="1573" y="400"/>
                    </a:lnTo>
                    <a:lnTo>
                      <a:pt x="1526" y="472"/>
                    </a:lnTo>
                    <a:lnTo>
                      <a:pt x="1477" y="544"/>
                    </a:lnTo>
                    <a:lnTo>
                      <a:pt x="1429" y="616"/>
                    </a:lnTo>
                    <a:lnTo>
                      <a:pt x="1382" y="687"/>
                    </a:lnTo>
                    <a:lnTo>
                      <a:pt x="1334" y="759"/>
                    </a:lnTo>
                    <a:lnTo>
                      <a:pt x="1285" y="831"/>
                    </a:lnTo>
                    <a:lnTo>
                      <a:pt x="1238" y="903"/>
                    </a:lnTo>
                    <a:lnTo>
                      <a:pt x="1190" y="975"/>
                    </a:lnTo>
                    <a:lnTo>
                      <a:pt x="1141" y="1047"/>
                    </a:lnTo>
                    <a:lnTo>
                      <a:pt x="1094" y="1119"/>
                    </a:lnTo>
                    <a:lnTo>
                      <a:pt x="1046" y="1191"/>
                    </a:lnTo>
                    <a:lnTo>
                      <a:pt x="997" y="1262"/>
                    </a:lnTo>
                    <a:lnTo>
                      <a:pt x="950" y="1334"/>
                    </a:lnTo>
                    <a:lnTo>
                      <a:pt x="901" y="1406"/>
                    </a:lnTo>
                    <a:lnTo>
                      <a:pt x="853" y="1478"/>
                    </a:lnTo>
                    <a:lnTo>
                      <a:pt x="804" y="1548"/>
                    </a:lnTo>
                    <a:lnTo>
                      <a:pt x="756" y="1620"/>
                    </a:lnTo>
                    <a:lnTo>
                      <a:pt x="707" y="1691"/>
                    </a:lnTo>
                    <a:lnTo>
                      <a:pt x="658" y="1761"/>
                    </a:lnTo>
                    <a:lnTo>
                      <a:pt x="609" y="1832"/>
                    </a:lnTo>
                    <a:lnTo>
                      <a:pt x="560" y="1902"/>
                    </a:lnTo>
                    <a:lnTo>
                      <a:pt x="509" y="1973"/>
                    </a:lnTo>
                    <a:lnTo>
                      <a:pt x="460" y="2044"/>
                    </a:lnTo>
                    <a:lnTo>
                      <a:pt x="410" y="2113"/>
                    </a:lnTo>
                    <a:lnTo>
                      <a:pt x="360" y="2182"/>
                    </a:lnTo>
                    <a:lnTo>
                      <a:pt x="309" y="2251"/>
                    </a:lnTo>
                    <a:lnTo>
                      <a:pt x="259" y="2320"/>
                    </a:lnTo>
                    <a:lnTo>
                      <a:pt x="207" y="2389"/>
                    </a:lnTo>
                    <a:lnTo>
                      <a:pt x="196" y="2401"/>
                    </a:lnTo>
                    <a:lnTo>
                      <a:pt x="178" y="2412"/>
                    </a:lnTo>
                    <a:lnTo>
                      <a:pt x="158" y="2422"/>
                    </a:lnTo>
                    <a:lnTo>
                      <a:pt x="137" y="2432"/>
                    </a:lnTo>
                    <a:lnTo>
                      <a:pt x="113" y="2441"/>
                    </a:lnTo>
                    <a:lnTo>
                      <a:pt x="92" y="2448"/>
                    </a:lnTo>
                    <a:lnTo>
                      <a:pt x="73" y="2453"/>
                    </a:lnTo>
                    <a:lnTo>
                      <a:pt x="59" y="2454"/>
                    </a:lnTo>
                    <a:lnTo>
                      <a:pt x="29" y="2448"/>
                    </a:lnTo>
                    <a:lnTo>
                      <a:pt x="11" y="2434"/>
                    </a:lnTo>
                    <a:lnTo>
                      <a:pt x="3" y="2414"/>
                    </a:lnTo>
                    <a:lnTo>
                      <a:pt x="0" y="2388"/>
                    </a:lnTo>
                    <a:lnTo>
                      <a:pt x="1" y="2360"/>
                    </a:lnTo>
                    <a:lnTo>
                      <a:pt x="6" y="2333"/>
                    </a:lnTo>
                    <a:lnTo>
                      <a:pt x="10" y="2309"/>
                    </a:lnTo>
                    <a:lnTo>
                      <a:pt x="10" y="2288"/>
                    </a:lnTo>
                    <a:lnTo>
                      <a:pt x="60" y="2218"/>
                    </a:lnTo>
                    <a:lnTo>
                      <a:pt x="109" y="2147"/>
                    </a:lnTo>
                    <a:lnTo>
                      <a:pt x="160" y="2075"/>
                    </a:lnTo>
                    <a:lnTo>
                      <a:pt x="209" y="2005"/>
                    </a:lnTo>
                    <a:lnTo>
                      <a:pt x="259" y="1934"/>
                    </a:lnTo>
                    <a:lnTo>
                      <a:pt x="308" y="1862"/>
                    </a:lnTo>
                    <a:lnTo>
                      <a:pt x="357" y="1792"/>
                    </a:lnTo>
                    <a:lnTo>
                      <a:pt x="407" y="1720"/>
                    </a:lnTo>
                    <a:lnTo>
                      <a:pt x="456" y="1649"/>
                    </a:lnTo>
                    <a:lnTo>
                      <a:pt x="505" y="1578"/>
                    </a:lnTo>
                    <a:lnTo>
                      <a:pt x="555" y="1506"/>
                    </a:lnTo>
                    <a:lnTo>
                      <a:pt x="604" y="1436"/>
                    </a:lnTo>
                    <a:lnTo>
                      <a:pt x="653" y="1364"/>
                    </a:lnTo>
                    <a:lnTo>
                      <a:pt x="702" y="1292"/>
                    </a:lnTo>
                    <a:lnTo>
                      <a:pt x="751" y="1221"/>
                    </a:lnTo>
                    <a:lnTo>
                      <a:pt x="802" y="1149"/>
                    </a:lnTo>
                    <a:lnTo>
                      <a:pt x="851" y="1079"/>
                    </a:lnTo>
                    <a:lnTo>
                      <a:pt x="900" y="1007"/>
                    </a:lnTo>
                    <a:lnTo>
                      <a:pt x="948" y="935"/>
                    </a:lnTo>
                    <a:lnTo>
                      <a:pt x="997" y="863"/>
                    </a:lnTo>
                    <a:lnTo>
                      <a:pt x="1045" y="792"/>
                    </a:lnTo>
                    <a:lnTo>
                      <a:pt x="1094" y="720"/>
                    </a:lnTo>
                    <a:lnTo>
                      <a:pt x="1143" y="648"/>
                    </a:lnTo>
                    <a:lnTo>
                      <a:pt x="1192" y="576"/>
                    </a:lnTo>
                    <a:lnTo>
                      <a:pt x="1241" y="504"/>
                    </a:lnTo>
                    <a:lnTo>
                      <a:pt x="1288" y="432"/>
                    </a:lnTo>
                    <a:lnTo>
                      <a:pt x="1337" y="360"/>
                    </a:lnTo>
                    <a:lnTo>
                      <a:pt x="1386" y="288"/>
                    </a:lnTo>
                    <a:lnTo>
                      <a:pt x="1434" y="216"/>
                    </a:lnTo>
                    <a:lnTo>
                      <a:pt x="1483" y="144"/>
                    </a:lnTo>
                    <a:lnTo>
                      <a:pt x="1532" y="72"/>
                    </a:lnTo>
                    <a:lnTo>
                      <a:pt x="1579" y="0"/>
                    </a:lnTo>
                    <a:lnTo>
                      <a:pt x="1601" y="117"/>
                    </a:lnTo>
                    <a:lnTo>
                      <a:pt x="1766" y="117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49"/>
              <p:cNvSpPr/>
              <p:nvPr/>
            </p:nvSpPr>
            <p:spPr>
              <a:xfrm>
                <a:off x="7844040" y="5577120"/>
                <a:ext cx="664920" cy="910800"/>
              </a:xfrm>
              <a:custGeom>
                <a:avLst/>
                <a:gdLst/>
                <a:ahLst/>
                <a:rect l="l" t="t" r="r" b="b"/>
                <a:pathLst>
                  <a:path w="1579" h="2286">
                    <a:moveTo>
                      <a:pt x="20" y="2286"/>
                    </a:moveTo>
                    <a:lnTo>
                      <a:pt x="20" y="2286"/>
                    </a:lnTo>
                    <a:lnTo>
                      <a:pt x="72" y="2217"/>
                    </a:lnTo>
                    <a:lnTo>
                      <a:pt x="122" y="2148"/>
                    </a:lnTo>
                    <a:lnTo>
                      <a:pt x="173" y="2079"/>
                    </a:lnTo>
                    <a:lnTo>
                      <a:pt x="223" y="2010"/>
                    </a:lnTo>
                    <a:lnTo>
                      <a:pt x="274" y="1941"/>
                    </a:lnTo>
                    <a:lnTo>
                      <a:pt x="322" y="1870"/>
                    </a:lnTo>
                    <a:lnTo>
                      <a:pt x="373" y="1800"/>
                    </a:lnTo>
                    <a:lnTo>
                      <a:pt x="422" y="1729"/>
                    </a:lnTo>
                    <a:lnTo>
                      <a:pt x="471" y="1659"/>
                    </a:lnTo>
                    <a:lnTo>
                      <a:pt x="520" y="1588"/>
                    </a:lnTo>
                    <a:lnTo>
                      <a:pt x="569" y="1517"/>
                    </a:lnTo>
                    <a:lnTo>
                      <a:pt x="618" y="1445"/>
                    </a:lnTo>
                    <a:lnTo>
                      <a:pt x="667" y="1375"/>
                    </a:lnTo>
                    <a:lnTo>
                      <a:pt x="714" y="1303"/>
                    </a:lnTo>
                    <a:lnTo>
                      <a:pt x="763" y="1231"/>
                    </a:lnTo>
                    <a:lnTo>
                      <a:pt x="810" y="1159"/>
                    </a:lnTo>
                    <a:lnTo>
                      <a:pt x="859" y="1088"/>
                    </a:lnTo>
                    <a:lnTo>
                      <a:pt x="907" y="1016"/>
                    </a:lnTo>
                    <a:lnTo>
                      <a:pt x="954" y="944"/>
                    </a:lnTo>
                    <a:lnTo>
                      <a:pt x="1003" y="872"/>
                    </a:lnTo>
                    <a:lnTo>
                      <a:pt x="1051" y="800"/>
                    </a:lnTo>
                    <a:lnTo>
                      <a:pt x="1098" y="728"/>
                    </a:lnTo>
                    <a:lnTo>
                      <a:pt x="1147" y="656"/>
                    </a:lnTo>
                    <a:lnTo>
                      <a:pt x="1195" y="584"/>
                    </a:lnTo>
                    <a:lnTo>
                      <a:pt x="1242" y="514"/>
                    </a:lnTo>
                    <a:lnTo>
                      <a:pt x="1290" y="442"/>
                    </a:lnTo>
                    <a:lnTo>
                      <a:pt x="1339" y="370"/>
                    </a:lnTo>
                    <a:lnTo>
                      <a:pt x="1386" y="298"/>
                    </a:lnTo>
                    <a:lnTo>
                      <a:pt x="1434" y="227"/>
                    </a:lnTo>
                    <a:lnTo>
                      <a:pt x="1483" y="157"/>
                    </a:lnTo>
                    <a:lnTo>
                      <a:pt x="1530" y="85"/>
                    </a:lnTo>
                    <a:lnTo>
                      <a:pt x="1579" y="14"/>
                    </a:lnTo>
                    <a:lnTo>
                      <a:pt x="1559" y="0"/>
                    </a:lnTo>
                    <a:lnTo>
                      <a:pt x="1510" y="70"/>
                    </a:lnTo>
                    <a:lnTo>
                      <a:pt x="1463" y="142"/>
                    </a:lnTo>
                    <a:lnTo>
                      <a:pt x="1414" y="213"/>
                    </a:lnTo>
                    <a:lnTo>
                      <a:pt x="1366" y="283"/>
                    </a:lnTo>
                    <a:lnTo>
                      <a:pt x="1319" y="355"/>
                    </a:lnTo>
                    <a:lnTo>
                      <a:pt x="1270" y="427"/>
                    </a:lnTo>
                    <a:lnTo>
                      <a:pt x="1222" y="499"/>
                    </a:lnTo>
                    <a:lnTo>
                      <a:pt x="1175" y="570"/>
                    </a:lnTo>
                    <a:lnTo>
                      <a:pt x="1127" y="642"/>
                    </a:lnTo>
                    <a:lnTo>
                      <a:pt x="1078" y="714"/>
                    </a:lnTo>
                    <a:lnTo>
                      <a:pt x="1031" y="786"/>
                    </a:lnTo>
                    <a:lnTo>
                      <a:pt x="983" y="858"/>
                    </a:lnTo>
                    <a:lnTo>
                      <a:pt x="934" y="930"/>
                    </a:lnTo>
                    <a:lnTo>
                      <a:pt x="887" y="1002"/>
                    </a:lnTo>
                    <a:lnTo>
                      <a:pt x="839" y="1074"/>
                    </a:lnTo>
                    <a:lnTo>
                      <a:pt x="790" y="1144"/>
                    </a:lnTo>
                    <a:lnTo>
                      <a:pt x="743" y="1216"/>
                    </a:lnTo>
                    <a:lnTo>
                      <a:pt x="694" y="1288"/>
                    </a:lnTo>
                    <a:lnTo>
                      <a:pt x="646" y="1360"/>
                    </a:lnTo>
                    <a:lnTo>
                      <a:pt x="597" y="1431"/>
                    </a:lnTo>
                    <a:lnTo>
                      <a:pt x="548" y="1503"/>
                    </a:lnTo>
                    <a:lnTo>
                      <a:pt x="500" y="1574"/>
                    </a:lnTo>
                    <a:lnTo>
                      <a:pt x="451" y="1644"/>
                    </a:lnTo>
                    <a:lnTo>
                      <a:pt x="402" y="1715"/>
                    </a:lnTo>
                    <a:lnTo>
                      <a:pt x="353" y="1785"/>
                    </a:lnTo>
                    <a:lnTo>
                      <a:pt x="302" y="1856"/>
                    </a:lnTo>
                    <a:lnTo>
                      <a:pt x="253" y="1926"/>
                    </a:lnTo>
                    <a:lnTo>
                      <a:pt x="203" y="1996"/>
                    </a:lnTo>
                    <a:lnTo>
                      <a:pt x="153" y="2065"/>
                    </a:lnTo>
                    <a:lnTo>
                      <a:pt x="102" y="2134"/>
                    </a:lnTo>
                    <a:lnTo>
                      <a:pt x="52" y="2203"/>
                    </a:lnTo>
                    <a:lnTo>
                      <a:pt x="0" y="2272"/>
                    </a:lnTo>
                    <a:lnTo>
                      <a:pt x="0" y="2272"/>
                    </a:lnTo>
                    <a:lnTo>
                      <a:pt x="20" y="22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50"/>
              <p:cNvSpPr/>
              <p:nvPr/>
            </p:nvSpPr>
            <p:spPr>
              <a:xfrm>
                <a:off x="7786080" y="6482520"/>
                <a:ext cx="66240" cy="33840"/>
              </a:xfrm>
              <a:custGeom>
                <a:avLst/>
                <a:gdLst/>
                <a:ahLst/>
                <a:rect l="l" t="t" r="r" b="b"/>
                <a:pathLst>
                  <a:path w="158" h="85">
                    <a:moveTo>
                      <a:pt x="0" y="85"/>
                    </a:moveTo>
                    <a:lnTo>
                      <a:pt x="0" y="85"/>
                    </a:lnTo>
                    <a:lnTo>
                      <a:pt x="16" y="84"/>
                    </a:lnTo>
                    <a:lnTo>
                      <a:pt x="36" y="79"/>
                    </a:lnTo>
                    <a:lnTo>
                      <a:pt x="59" y="71"/>
                    </a:lnTo>
                    <a:lnTo>
                      <a:pt x="82" y="62"/>
                    </a:lnTo>
                    <a:lnTo>
                      <a:pt x="105" y="52"/>
                    </a:lnTo>
                    <a:lnTo>
                      <a:pt x="125" y="42"/>
                    </a:lnTo>
                    <a:lnTo>
                      <a:pt x="144" y="29"/>
                    </a:lnTo>
                    <a:lnTo>
                      <a:pt x="158" y="14"/>
                    </a:lnTo>
                    <a:lnTo>
                      <a:pt x="138" y="0"/>
                    </a:lnTo>
                    <a:lnTo>
                      <a:pt x="129" y="9"/>
                    </a:lnTo>
                    <a:lnTo>
                      <a:pt x="114" y="19"/>
                    </a:lnTo>
                    <a:lnTo>
                      <a:pt x="93" y="29"/>
                    </a:lnTo>
                    <a:lnTo>
                      <a:pt x="73" y="39"/>
                    </a:lnTo>
                    <a:lnTo>
                      <a:pt x="50" y="48"/>
                    </a:lnTo>
                    <a:lnTo>
                      <a:pt x="30" y="53"/>
                    </a:lnTo>
                    <a:lnTo>
                      <a:pt x="13" y="5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51"/>
              <p:cNvSpPr/>
              <p:nvPr/>
            </p:nvSpPr>
            <p:spPr>
              <a:xfrm>
                <a:off x="7755840" y="6440040"/>
                <a:ext cx="30240" cy="76320"/>
              </a:xfrm>
              <a:custGeom>
                <a:avLst/>
                <a:gdLst/>
                <a:ahLst/>
                <a:rect l="l" t="t" r="r" b="b"/>
                <a:pathLst>
                  <a:path w="72" h="192">
                    <a:moveTo>
                      <a:pt x="13" y="6"/>
                    </a:moveTo>
                    <a:lnTo>
                      <a:pt x="10" y="13"/>
                    </a:lnTo>
                    <a:lnTo>
                      <a:pt x="10" y="34"/>
                    </a:lnTo>
                    <a:lnTo>
                      <a:pt x="6" y="57"/>
                    </a:lnTo>
                    <a:lnTo>
                      <a:pt x="1" y="85"/>
                    </a:lnTo>
                    <a:lnTo>
                      <a:pt x="0" y="113"/>
                    </a:lnTo>
                    <a:lnTo>
                      <a:pt x="3" y="142"/>
                    </a:lnTo>
                    <a:lnTo>
                      <a:pt x="14" y="166"/>
                    </a:lnTo>
                    <a:lnTo>
                      <a:pt x="37" y="185"/>
                    </a:lnTo>
                    <a:lnTo>
                      <a:pt x="72" y="192"/>
                    </a:lnTo>
                    <a:lnTo>
                      <a:pt x="72" y="166"/>
                    </a:lnTo>
                    <a:lnTo>
                      <a:pt x="46" y="162"/>
                    </a:lnTo>
                    <a:lnTo>
                      <a:pt x="34" y="152"/>
                    </a:lnTo>
                    <a:lnTo>
                      <a:pt x="29" y="136"/>
                    </a:lnTo>
                    <a:lnTo>
                      <a:pt x="26" y="113"/>
                    </a:lnTo>
                    <a:lnTo>
                      <a:pt x="27" y="85"/>
                    </a:lnTo>
                    <a:lnTo>
                      <a:pt x="31" y="60"/>
                    </a:lnTo>
                    <a:lnTo>
                      <a:pt x="36" y="34"/>
                    </a:lnTo>
                    <a:lnTo>
                      <a:pt x="36" y="13"/>
                    </a:lnTo>
                    <a:lnTo>
                      <a:pt x="33" y="21"/>
                    </a:lnTo>
                    <a:lnTo>
                      <a:pt x="36" y="13"/>
                    </a:lnTo>
                    <a:lnTo>
                      <a:pt x="31" y="3"/>
                    </a:lnTo>
                    <a:lnTo>
                      <a:pt x="23" y="0"/>
                    </a:lnTo>
                    <a:lnTo>
                      <a:pt x="14" y="3"/>
                    </a:lnTo>
                    <a:lnTo>
                      <a:pt x="10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52"/>
              <p:cNvSpPr/>
              <p:nvPr/>
            </p:nvSpPr>
            <p:spPr>
              <a:xfrm>
                <a:off x="7761240" y="5528160"/>
                <a:ext cx="670320" cy="920160"/>
              </a:xfrm>
              <a:custGeom>
                <a:avLst/>
                <a:gdLst/>
                <a:ahLst/>
                <a:rect l="l" t="t" r="r" b="b"/>
                <a:pathLst>
                  <a:path w="1592" h="2309">
                    <a:moveTo>
                      <a:pt x="1592" y="12"/>
                    </a:moveTo>
                    <a:lnTo>
                      <a:pt x="1569" y="6"/>
                    </a:lnTo>
                    <a:lnTo>
                      <a:pt x="1521" y="78"/>
                    </a:lnTo>
                    <a:lnTo>
                      <a:pt x="1472" y="150"/>
                    </a:lnTo>
                    <a:lnTo>
                      <a:pt x="1424" y="222"/>
                    </a:lnTo>
                    <a:lnTo>
                      <a:pt x="1376" y="294"/>
                    </a:lnTo>
                    <a:lnTo>
                      <a:pt x="1327" y="366"/>
                    </a:lnTo>
                    <a:lnTo>
                      <a:pt x="1278" y="438"/>
                    </a:lnTo>
                    <a:lnTo>
                      <a:pt x="1231" y="510"/>
                    </a:lnTo>
                    <a:lnTo>
                      <a:pt x="1182" y="582"/>
                    </a:lnTo>
                    <a:lnTo>
                      <a:pt x="1133" y="654"/>
                    </a:lnTo>
                    <a:lnTo>
                      <a:pt x="1084" y="726"/>
                    </a:lnTo>
                    <a:lnTo>
                      <a:pt x="1035" y="798"/>
                    </a:lnTo>
                    <a:lnTo>
                      <a:pt x="987" y="869"/>
                    </a:lnTo>
                    <a:lnTo>
                      <a:pt x="938" y="941"/>
                    </a:lnTo>
                    <a:lnTo>
                      <a:pt x="889" y="1013"/>
                    </a:lnTo>
                    <a:lnTo>
                      <a:pt x="840" y="1085"/>
                    </a:lnTo>
                    <a:lnTo>
                      <a:pt x="792" y="1155"/>
                    </a:lnTo>
                    <a:lnTo>
                      <a:pt x="741" y="1227"/>
                    </a:lnTo>
                    <a:lnTo>
                      <a:pt x="692" y="1298"/>
                    </a:lnTo>
                    <a:lnTo>
                      <a:pt x="643" y="1370"/>
                    </a:lnTo>
                    <a:lnTo>
                      <a:pt x="594" y="1442"/>
                    </a:lnTo>
                    <a:lnTo>
                      <a:pt x="545" y="1512"/>
                    </a:lnTo>
                    <a:lnTo>
                      <a:pt x="495" y="1584"/>
                    </a:lnTo>
                    <a:lnTo>
                      <a:pt x="446" y="1655"/>
                    </a:lnTo>
                    <a:lnTo>
                      <a:pt x="397" y="1725"/>
                    </a:lnTo>
                    <a:lnTo>
                      <a:pt x="347" y="1797"/>
                    </a:lnTo>
                    <a:lnTo>
                      <a:pt x="298" y="1868"/>
                    </a:lnTo>
                    <a:lnTo>
                      <a:pt x="249" y="1940"/>
                    </a:lnTo>
                    <a:lnTo>
                      <a:pt x="198" y="2011"/>
                    </a:lnTo>
                    <a:lnTo>
                      <a:pt x="149" y="2081"/>
                    </a:lnTo>
                    <a:lnTo>
                      <a:pt x="99" y="2153"/>
                    </a:lnTo>
                    <a:lnTo>
                      <a:pt x="50" y="2224"/>
                    </a:lnTo>
                    <a:lnTo>
                      <a:pt x="0" y="2294"/>
                    </a:lnTo>
                    <a:lnTo>
                      <a:pt x="20" y="2309"/>
                    </a:lnTo>
                    <a:lnTo>
                      <a:pt x="70" y="2238"/>
                    </a:lnTo>
                    <a:lnTo>
                      <a:pt x="119" y="2167"/>
                    </a:lnTo>
                    <a:lnTo>
                      <a:pt x="170" y="2095"/>
                    </a:lnTo>
                    <a:lnTo>
                      <a:pt x="219" y="2025"/>
                    </a:lnTo>
                    <a:lnTo>
                      <a:pt x="269" y="1954"/>
                    </a:lnTo>
                    <a:lnTo>
                      <a:pt x="318" y="1882"/>
                    </a:lnTo>
                    <a:lnTo>
                      <a:pt x="367" y="1812"/>
                    </a:lnTo>
                    <a:lnTo>
                      <a:pt x="417" y="1740"/>
                    </a:lnTo>
                    <a:lnTo>
                      <a:pt x="466" y="1669"/>
                    </a:lnTo>
                    <a:lnTo>
                      <a:pt x="515" y="1599"/>
                    </a:lnTo>
                    <a:lnTo>
                      <a:pt x="566" y="1527"/>
                    </a:lnTo>
                    <a:lnTo>
                      <a:pt x="614" y="1456"/>
                    </a:lnTo>
                    <a:lnTo>
                      <a:pt x="663" y="1384"/>
                    </a:lnTo>
                    <a:lnTo>
                      <a:pt x="712" y="1312"/>
                    </a:lnTo>
                    <a:lnTo>
                      <a:pt x="761" y="1242"/>
                    </a:lnTo>
                    <a:lnTo>
                      <a:pt x="812" y="1170"/>
                    </a:lnTo>
                    <a:lnTo>
                      <a:pt x="861" y="1099"/>
                    </a:lnTo>
                    <a:lnTo>
                      <a:pt x="910" y="1027"/>
                    </a:lnTo>
                    <a:lnTo>
                      <a:pt x="959" y="955"/>
                    </a:lnTo>
                    <a:lnTo>
                      <a:pt x="1007" y="883"/>
                    </a:lnTo>
                    <a:lnTo>
                      <a:pt x="1055" y="812"/>
                    </a:lnTo>
                    <a:lnTo>
                      <a:pt x="1104" y="740"/>
                    </a:lnTo>
                    <a:lnTo>
                      <a:pt x="1153" y="668"/>
                    </a:lnTo>
                    <a:lnTo>
                      <a:pt x="1202" y="596"/>
                    </a:lnTo>
                    <a:lnTo>
                      <a:pt x="1251" y="524"/>
                    </a:lnTo>
                    <a:lnTo>
                      <a:pt x="1298" y="452"/>
                    </a:lnTo>
                    <a:lnTo>
                      <a:pt x="1347" y="380"/>
                    </a:lnTo>
                    <a:lnTo>
                      <a:pt x="1396" y="308"/>
                    </a:lnTo>
                    <a:lnTo>
                      <a:pt x="1444" y="236"/>
                    </a:lnTo>
                    <a:lnTo>
                      <a:pt x="1493" y="164"/>
                    </a:lnTo>
                    <a:lnTo>
                      <a:pt x="1542" y="92"/>
                    </a:lnTo>
                    <a:lnTo>
                      <a:pt x="1589" y="20"/>
                    </a:lnTo>
                    <a:lnTo>
                      <a:pt x="1566" y="15"/>
                    </a:lnTo>
                    <a:lnTo>
                      <a:pt x="1589" y="20"/>
                    </a:lnTo>
                    <a:lnTo>
                      <a:pt x="1591" y="10"/>
                    </a:lnTo>
                    <a:lnTo>
                      <a:pt x="1586" y="3"/>
                    </a:lnTo>
                    <a:lnTo>
                      <a:pt x="1578" y="0"/>
                    </a:lnTo>
                    <a:lnTo>
                      <a:pt x="1569" y="6"/>
                    </a:lnTo>
                    <a:lnTo>
                      <a:pt x="159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53"/>
              <p:cNvSpPr/>
              <p:nvPr/>
            </p:nvSpPr>
            <p:spPr>
              <a:xfrm>
                <a:off x="8420760" y="5532840"/>
                <a:ext cx="19800" cy="52200"/>
              </a:xfrm>
              <a:custGeom>
                <a:avLst/>
                <a:gdLst/>
                <a:ahLst/>
                <a:rect l="l" t="t" r="r" b="b"/>
                <a:pathLst>
                  <a:path w="48" h="131">
                    <a:moveTo>
                      <a:pt x="35" y="105"/>
                    </a:moveTo>
                    <a:lnTo>
                      <a:pt x="48" y="116"/>
                    </a:lnTo>
                    <a:lnTo>
                      <a:pt x="26" y="0"/>
                    </a:lnTo>
                    <a:lnTo>
                      <a:pt x="0" y="3"/>
                    </a:lnTo>
                    <a:lnTo>
                      <a:pt x="22" y="119"/>
                    </a:lnTo>
                    <a:lnTo>
                      <a:pt x="35" y="131"/>
                    </a:lnTo>
                    <a:lnTo>
                      <a:pt x="22" y="119"/>
                    </a:lnTo>
                    <a:lnTo>
                      <a:pt x="26" y="128"/>
                    </a:lnTo>
                    <a:lnTo>
                      <a:pt x="36" y="131"/>
                    </a:lnTo>
                    <a:lnTo>
                      <a:pt x="45" y="126"/>
                    </a:lnTo>
                    <a:lnTo>
                      <a:pt x="48" y="116"/>
                    </a:lnTo>
                    <a:lnTo>
                      <a:pt x="35" y="10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54"/>
              <p:cNvSpPr/>
              <p:nvPr/>
            </p:nvSpPr>
            <p:spPr>
              <a:xfrm>
                <a:off x="8435520" y="5574600"/>
                <a:ext cx="74880" cy="10080"/>
              </a:xfrm>
              <a:custGeom>
                <a:avLst/>
                <a:gdLst/>
                <a:ahLst/>
                <a:rect l="l" t="t" r="r" b="b"/>
                <a:pathLst>
                  <a:path w="178" h="26">
                    <a:moveTo>
                      <a:pt x="175" y="20"/>
                    </a:moveTo>
                    <a:lnTo>
                      <a:pt x="165" y="0"/>
                    </a:lnTo>
                    <a:lnTo>
                      <a:pt x="0" y="0"/>
                    </a:lnTo>
                    <a:lnTo>
                      <a:pt x="0" y="26"/>
                    </a:lnTo>
                    <a:lnTo>
                      <a:pt x="165" y="26"/>
                    </a:lnTo>
                    <a:lnTo>
                      <a:pt x="155" y="6"/>
                    </a:lnTo>
                    <a:lnTo>
                      <a:pt x="165" y="26"/>
                    </a:lnTo>
                    <a:lnTo>
                      <a:pt x="175" y="21"/>
                    </a:lnTo>
                    <a:lnTo>
                      <a:pt x="178" y="13"/>
                    </a:lnTo>
                    <a:lnTo>
                      <a:pt x="175" y="4"/>
                    </a:lnTo>
                    <a:lnTo>
                      <a:pt x="165" y="0"/>
                    </a:lnTo>
                    <a:lnTo>
                      <a:pt x="17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55"/>
              <p:cNvSpPr/>
              <p:nvPr/>
            </p:nvSpPr>
            <p:spPr>
              <a:xfrm>
                <a:off x="7769880" y="5571000"/>
                <a:ext cx="738000" cy="941400"/>
              </a:xfrm>
              <a:custGeom>
                <a:avLst/>
                <a:gdLst/>
                <a:ahLst/>
                <a:rect l="l" t="t" r="r" b="b"/>
                <a:pathLst>
                  <a:path w="1752" h="2363">
                    <a:moveTo>
                      <a:pt x="1752" y="0"/>
                    </a:moveTo>
                    <a:lnTo>
                      <a:pt x="1703" y="71"/>
                    </a:lnTo>
                    <a:lnTo>
                      <a:pt x="1653" y="143"/>
                    </a:lnTo>
                    <a:lnTo>
                      <a:pt x="1604" y="213"/>
                    </a:lnTo>
                    <a:lnTo>
                      <a:pt x="1555" y="285"/>
                    </a:lnTo>
                    <a:lnTo>
                      <a:pt x="1505" y="356"/>
                    </a:lnTo>
                    <a:lnTo>
                      <a:pt x="1456" y="428"/>
                    </a:lnTo>
                    <a:lnTo>
                      <a:pt x="1407" y="498"/>
                    </a:lnTo>
                    <a:lnTo>
                      <a:pt x="1358" y="570"/>
                    </a:lnTo>
                    <a:lnTo>
                      <a:pt x="1309" y="642"/>
                    </a:lnTo>
                    <a:lnTo>
                      <a:pt x="1260" y="713"/>
                    </a:lnTo>
                    <a:lnTo>
                      <a:pt x="1211" y="785"/>
                    </a:lnTo>
                    <a:lnTo>
                      <a:pt x="1164" y="857"/>
                    </a:lnTo>
                    <a:lnTo>
                      <a:pt x="1115" y="929"/>
                    </a:lnTo>
                    <a:lnTo>
                      <a:pt x="1066" y="1000"/>
                    </a:lnTo>
                    <a:lnTo>
                      <a:pt x="1017" y="1072"/>
                    </a:lnTo>
                    <a:lnTo>
                      <a:pt x="969" y="1144"/>
                    </a:lnTo>
                    <a:lnTo>
                      <a:pt x="920" y="1216"/>
                    </a:lnTo>
                    <a:lnTo>
                      <a:pt x="871" y="1288"/>
                    </a:lnTo>
                    <a:lnTo>
                      <a:pt x="822" y="1360"/>
                    </a:lnTo>
                    <a:lnTo>
                      <a:pt x="775" y="1430"/>
                    </a:lnTo>
                    <a:lnTo>
                      <a:pt x="726" y="1502"/>
                    </a:lnTo>
                    <a:lnTo>
                      <a:pt x="678" y="1574"/>
                    </a:lnTo>
                    <a:lnTo>
                      <a:pt x="629" y="1646"/>
                    </a:lnTo>
                    <a:lnTo>
                      <a:pt x="581" y="1718"/>
                    </a:lnTo>
                    <a:lnTo>
                      <a:pt x="533" y="1790"/>
                    </a:lnTo>
                    <a:lnTo>
                      <a:pt x="484" y="1861"/>
                    </a:lnTo>
                    <a:lnTo>
                      <a:pt x="435" y="1933"/>
                    </a:lnTo>
                    <a:lnTo>
                      <a:pt x="388" y="2005"/>
                    </a:lnTo>
                    <a:lnTo>
                      <a:pt x="339" y="2077"/>
                    </a:lnTo>
                    <a:lnTo>
                      <a:pt x="290" y="2149"/>
                    </a:lnTo>
                    <a:lnTo>
                      <a:pt x="242" y="2219"/>
                    </a:lnTo>
                    <a:lnTo>
                      <a:pt x="193" y="2291"/>
                    </a:lnTo>
                    <a:lnTo>
                      <a:pt x="58" y="2363"/>
                    </a:lnTo>
                    <a:lnTo>
                      <a:pt x="22" y="2355"/>
                    </a:lnTo>
                    <a:lnTo>
                      <a:pt x="0" y="2330"/>
                    </a:lnTo>
                    <a:lnTo>
                      <a:pt x="1616" y="0"/>
                    </a:lnTo>
                    <a:lnTo>
                      <a:pt x="1752" y="0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56"/>
              <p:cNvSpPr/>
              <p:nvPr/>
            </p:nvSpPr>
            <p:spPr>
              <a:xfrm>
                <a:off x="7769880" y="5571000"/>
                <a:ext cx="738000" cy="941400"/>
              </a:xfrm>
              <a:custGeom>
                <a:avLst/>
                <a:gdLst/>
                <a:ahLst/>
                <a:rect l="l" t="t" r="r" b="b"/>
                <a:pathLst>
                  <a:path w="1752" h="2363">
                    <a:moveTo>
                      <a:pt x="1752" y="0"/>
                    </a:moveTo>
                    <a:lnTo>
                      <a:pt x="1752" y="0"/>
                    </a:lnTo>
                    <a:lnTo>
                      <a:pt x="1703" y="71"/>
                    </a:lnTo>
                    <a:lnTo>
                      <a:pt x="1653" y="143"/>
                    </a:lnTo>
                    <a:lnTo>
                      <a:pt x="1604" y="213"/>
                    </a:lnTo>
                    <a:lnTo>
                      <a:pt x="1555" y="285"/>
                    </a:lnTo>
                    <a:lnTo>
                      <a:pt x="1505" y="356"/>
                    </a:lnTo>
                    <a:lnTo>
                      <a:pt x="1456" y="428"/>
                    </a:lnTo>
                    <a:lnTo>
                      <a:pt x="1407" y="498"/>
                    </a:lnTo>
                    <a:lnTo>
                      <a:pt x="1358" y="570"/>
                    </a:lnTo>
                    <a:lnTo>
                      <a:pt x="1309" y="642"/>
                    </a:lnTo>
                    <a:lnTo>
                      <a:pt x="1260" y="713"/>
                    </a:lnTo>
                    <a:lnTo>
                      <a:pt x="1211" y="785"/>
                    </a:lnTo>
                    <a:lnTo>
                      <a:pt x="1164" y="857"/>
                    </a:lnTo>
                    <a:lnTo>
                      <a:pt x="1115" y="929"/>
                    </a:lnTo>
                    <a:lnTo>
                      <a:pt x="1066" y="1000"/>
                    </a:lnTo>
                    <a:lnTo>
                      <a:pt x="1017" y="1072"/>
                    </a:lnTo>
                    <a:lnTo>
                      <a:pt x="969" y="1144"/>
                    </a:lnTo>
                    <a:lnTo>
                      <a:pt x="920" y="1216"/>
                    </a:lnTo>
                    <a:lnTo>
                      <a:pt x="871" y="1288"/>
                    </a:lnTo>
                    <a:lnTo>
                      <a:pt x="822" y="1360"/>
                    </a:lnTo>
                    <a:lnTo>
                      <a:pt x="775" y="1430"/>
                    </a:lnTo>
                    <a:lnTo>
                      <a:pt x="726" y="1502"/>
                    </a:lnTo>
                    <a:lnTo>
                      <a:pt x="678" y="1574"/>
                    </a:lnTo>
                    <a:lnTo>
                      <a:pt x="629" y="1646"/>
                    </a:lnTo>
                    <a:lnTo>
                      <a:pt x="581" y="1718"/>
                    </a:lnTo>
                    <a:lnTo>
                      <a:pt x="533" y="1790"/>
                    </a:lnTo>
                    <a:lnTo>
                      <a:pt x="484" y="1861"/>
                    </a:lnTo>
                    <a:lnTo>
                      <a:pt x="435" y="1933"/>
                    </a:lnTo>
                    <a:lnTo>
                      <a:pt x="388" y="2005"/>
                    </a:lnTo>
                    <a:lnTo>
                      <a:pt x="339" y="2077"/>
                    </a:lnTo>
                    <a:lnTo>
                      <a:pt x="290" y="2149"/>
                    </a:lnTo>
                    <a:lnTo>
                      <a:pt x="242" y="2219"/>
                    </a:lnTo>
                    <a:lnTo>
                      <a:pt x="193" y="2291"/>
                    </a:lnTo>
                    <a:lnTo>
                      <a:pt x="58" y="2363"/>
                    </a:lnTo>
                    <a:lnTo>
                      <a:pt x="22" y="2355"/>
                    </a:lnTo>
                    <a:lnTo>
                      <a:pt x="0" y="2330"/>
                    </a:lnTo>
                    <a:lnTo>
                      <a:pt x="1616" y="0"/>
                    </a:lnTo>
                    <a:lnTo>
                      <a:pt x="1752" y="0"/>
                    </a:lnTo>
                  </a:path>
                </a:pathLst>
              </a:custGeom>
              <a:noFill/>
              <a:ln w="0">
                <a:solidFill>
                  <a:srgbClr val="a5a5a5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57"/>
              <p:cNvSpPr/>
              <p:nvPr/>
            </p:nvSpPr>
            <p:spPr>
              <a:xfrm>
                <a:off x="8418960" y="5475960"/>
                <a:ext cx="126000" cy="122400"/>
              </a:xfrm>
              <a:custGeom>
                <a:avLst/>
                <a:gdLst/>
                <a:ahLst/>
                <a:rect l="l" t="t" r="r" b="b"/>
                <a:pathLst>
                  <a:path w="299" h="308">
                    <a:moveTo>
                      <a:pt x="188" y="285"/>
                    </a:moveTo>
                    <a:lnTo>
                      <a:pt x="299" y="78"/>
                    </a:lnTo>
                    <a:lnTo>
                      <a:pt x="180" y="81"/>
                    </a:lnTo>
                    <a:lnTo>
                      <a:pt x="152" y="0"/>
                    </a:lnTo>
                    <a:lnTo>
                      <a:pt x="0" y="169"/>
                    </a:lnTo>
                    <a:lnTo>
                      <a:pt x="16" y="177"/>
                    </a:lnTo>
                    <a:lnTo>
                      <a:pt x="31" y="205"/>
                    </a:lnTo>
                    <a:lnTo>
                      <a:pt x="3" y="256"/>
                    </a:lnTo>
                    <a:lnTo>
                      <a:pt x="20" y="259"/>
                    </a:lnTo>
                    <a:lnTo>
                      <a:pt x="34" y="261"/>
                    </a:lnTo>
                    <a:lnTo>
                      <a:pt x="46" y="262"/>
                    </a:lnTo>
                    <a:lnTo>
                      <a:pt x="56" y="264"/>
                    </a:lnTo>
                    <a:lnTo>
                      <a:pt x="62" y="268"/>
                    </a:lnTo>
                    <a:lnTo>
                      <a:pt x="67" y="274"/>
                    </a:lnTo>
                    <a:lnTo>
                      <a:pt x="72" y="285"/>
                    </a:lnTo>
                    <a:lnTo>
                      <a:pt x="75" y="301"/>
                    </a:lnTo>
                    <a:lnTo>
                      <a:pt x="76" y="304"/>
                    </a:lnTo>
                    <a:lnTo>
                      <a:pt x="79" y="307"/>
                    </a:lnTo>
                    <a:lnTo>
                      <a:pt x="82" y="308"/>
                    </a:lnTo>
                    <a:lnTo>
                      <a:pt x="86" y="308"/>
                    </a:lnTo>
                    <a:lnTo>
                      <a:pt x="141" y="274"/>
                    </a:lnTo>
                    <a:lnTo>
                      <a:pt x="145" y="274"/>
                    </a:lnTo>
                    <a:lnTo>
                      <a:pt x="151" y="274"/>
                    </a:lnTo>
                    <a:lnTo>
                      <a:pt x="158" y="275"/>
                    </a:lnTo>
                    <a:lnTo>
                      <a:pt x="167" y="277"/>
                    </a:lnTo>
                    <a:lnTo>
                      <a:pt x="174" y="279"/>
                    </a:lnTo>
                    <a:lnTo>
                      <a:pt x="181" y="281"/>
                    </a:lnTo>
                    <a:lnTo>
                      <a:pt x="185" y="284"/>
                    </a:lnTo>
                    <a:lnTo>
                      <a:pt x="188" y="285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58"/>
              <p:cNvSpPr/>
              <p:nvPr/>
            </p:nvSpPr>
            <p:spPr>
              <a:xfrm>
                <a:off x="8494920" y="5502960"/>
                <a:ext cx="53640" cy="88200"/>
              </a:xfrm>
              <a:custGeom>
                <a:avLst/>
                <a:gdLst/>
                <a:ahLst/>
                <a:rect l="l" t="t" r="r" b="b"/>
                <a:pathLst>
                  <a:path w="128" h="222">
                    <a:moveTo>
                      <a:pt x="119" y="19"/>
                    </a:moveTo>
                    <a:lnTo>
                      <a:pt x="111" y="6"/>
                    </a:lnTo>
                    <a:lnTo>
                      <a:pt x="0" y="213"/>
                    </a:lnTo>
                    <a:lnTo>
                      <a:pt x="17" y="222"/>
                    </a:lnTo>
                    <a:lnTo>
                      <a:pt x="128" y="14"/>
                    </a:lnTo>
                    <a:lnTo>
                      <a:pt x="119" y="1"/>
                    </a:lnTo>
                    <a:lnTo>
                      <a:pt x="128" y="14"/>
                    </a:lnTo>
                    <a:lnTo>
                      <a:pt x="128" y="7"/>
                    </a:lnTo>
                    <a:lnTo>
                      <a:pt x="123" y="1"/>
                    </a:lnTo>
                    <a:lnTo>
                      <a:pt x="116" y="0"/>
                    </a:lnTo>
                    <a:lnTo>
                      <a:pt x="111" y="6"/>
                    </a:lnTo>
                    <a:lnTo>
                      <a:pt x="1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59"/>
              <p:cNvSpPr/>
              <p:nvPr/>
            </p:nvSpPr>
            <p:spPr>
              <a:xfrm>
                <a:off x="8490600" y="5503320"/>
                <a:ext cx="54000" cy="8640"/>
              </a:xfrm>
              <a:custGeom>
                <a:avLst/>
                <a:gdLst/>
                <a:ahLst/>
                <a:rect l="l" t="t" r="r" b="b"/>
                <a:pathLst>
                  <a:path w="129" h="22">
                    <a:moveTo>
                      <a:pt x="1" y="15"/>
                    </a:moveTo>
                    <a:lnTo>
                      <a:pt x="10" y="20"/>
                    </a:lnTo>
                    <a:lnTo>
                      <a:pt x="129" y="18"/>
                    </a:lnTo>
                    <a:lnTo>
                      <a:pt x="129" y="0"/>
                    </a:lnTo>
                    <a:lnTo>
                      <a:pt x="10" y="3"/>
                    </a:lnTo>
                    <a:lnTo>
                      <a:pt x="18" y="9"/>
                    </a:lnTo>
                    <a:lnTo>
                      <a:pt x="10" y="2"/>
                    </a:lnTo>
                    <a:lnTo>
                      <a:pt x="2" y="5"/>
                    </a:lnTo>
                    <a:lnTo>
                      <a:pt x="0" y="12"/>
                    </a:lnTo>
                    <a:lnTo>
                      <a:pt x="2" y="19"/>
                    </a:lnTo>
                    <a:lnTo>
                      <a:pt x="10" y="22"/>
                    </a:lnTo>
                    <a:lnTo>
                      <a:pt x="1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60"/>
              <p:cNvSpPr/>
              <p:nvPr/>
            </p:nvSpPr>
            <p:spPr>
              <a:xfrm>
                <a:off x="8479800" y="5472360"/>
                <a:ext cx="18360" cy="36720"/>
              </a:xfrm>
              <a:custGeom>
                <a:avLst/>
                <a:gdLst/>
                <a:ahLst/>
                <a:rect l="l" t="t" r="r" b="b"/>
                <a:pathLst>
                  <a:path w="44" h="93">
                    <a:moveTo>
                      <a:pt x="16" y="15"/>
                    </a:moveTo>
                    <a:lnTo>
                      <a:pt x="0" y="12"/>
                    </a:lnTo>
                    <a:lnTo>
                      <a:pt x="27" y="93"/>
                    </a:lnTo>
                    <a:lnTo>
                      <a:pt x="44" y="87"/>
                    </a:lnTo>
                    <a:lnTo>
                      <a:pt x="17" y="6"/>
                    </a:lnTo>
                    <a:lnTo>
                      <a:pt x="1" y="3"/>
                    </a:lnTo>
                    <a:lnTo>
                      <a:pt x="17" y="6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1" y="5"/>
                    </a:lnTo>
                    <a:lnTo>
                      <a:pt x="0" y="12"/>
                    </a:lnTo>
                    <a:lnTo>
                      <a:pt x="1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1"/>
              <p:cNvSpPr/>
              <p:nvPr/>
            </p:nvSpPr>
            <p:spPr>
              <a:xfrm>
                <a:off x="8415360" y="5473440"/>
                <a:ext cx="70920" cy="72720"/>
              </a:xfrm>
              <a:custGeom>
                <a:avLst/>
                <a:gdLst/>
                <a:ahLst/>
                <a:rect l="l" t="t" r="r" b="b"/>
                <a:pathLst>
                  <a:path w="169" h="183">
                    <a:moveTo>
                      <a:pt x="13" y="166"/>
                    </a:moveTo>
                    <a:lnTo>
                      <a:pt x="16" y="180"/>
                    </a:lnTo>
                    <a:lnTo>
                      <a:pt x="169" y="12"/>
                    </a:lnTo>
                    <a:lnTo>
                      <a:pt x="154" y="0"/>
                    </a:lnTo>
                    <a:lnTo>
                      <a:pt x="2" y="169"/>
                    </a:lnTo>
                    <a:lnTo>
                      <a:pt x="4" y="183"/>
                    </a:lnTo>
                    <a:lnTo>
                      <a:pt x="2" y="169"/>
                    </a:lnTo>
                    <a:lnTo>
                      <a:pt x="0" y="176"/>
                    </a:lnTo>
                    <a:lnTo>
                      <a:pt x="3" y="180"/>
                    </a:lnTo>
                    <a:lnTo>
                      <a:pt x="10" y="183"/>
                    </a:lnTo>
                    <a:lnTo>
                      <a:pt x="16" y="180"/>
                    </a:lnTo>
                    <a:lnTo>
                      <a:pt x="13" y="1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62"/>
              <p:cNvSpPr/>
              <p:nvPr/>
            </p:nvSpPr>
            <p:spPr>
              <a:xfrm>
                <a:off x="8417160" y="5539680"/>
                <a:ext cx="12960" cy="1008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29" y="13"/>
                    </a:moveTo>
                    <a:lnTo>
                      <a:pt x="25" y="9"/>
                    </a:lnTo>
                    <a:lnTo>
                      <a:pt x="9" y="0"/>
                    </a:lnTo>
                    <a:lnTo>
                      <a:pt x="0" y="17"/>
                    </a:lnTo>
                    <a:lnTo>
                      <a:pt x="16" y="26"/>
                    </a:lnTo>
                    <a:lnTo>
                      <a:pt x="12" y="22"/>
                    </a:lnTo>
                    <a:lnTo>
                      <a:pt x="16" y="26"/>
                    </a:lnTo>
                    <a:lnTo>
                      <a:pt x="23" y="26"/>
                    </a:lnTo>
                    <a:lnTo>
                      <a:pt x="29" y="22"/>
                    </a:lnTo>
                    <a:lnTo>
                      <a:pt x="31" y="14"/>
                    </a:lnTo>
                    <a:lnTo>
                      <a:pt x="25" y="9"/>
                    </a:lnTo>
                    <a:lnTo>
                      <a:pt x="29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63"/>
              <p:cNvSpPr/>
              <p:nvPr/>
            </p:nvSpPr>
            <p:spPr>
              <a:xfrm>
                <a:off x="8422200" y="5544720"/>
                <a:ext cx="13680" cy="16560"/>
              </a:xfrm>
              <a:custGeom>
                <a:avLst/>
                <a:gdLst/>
                <a:ahLst/>
                <a:rect l="l" t="t" r="r" b="b"/>
                <a:pathLst>
                  <a:path w="33" h="42">
                    <a:moveTo>
                      <a:pt x="33" y="36"/>
                    </a:moveTo>
                    <a:lnTo>
                      <a:pt x="33" y="27"/>
                    </a:lnTo>
                    <a:lnTo>
                      <a:pt x="17" y="0"/>
                    </a:lnTo>
                    <a:lnTo>
                      <a:pt x="0" y="9"/>
                    </a:lnTo>
                    <a:lnTo>
                      <a:pt x="16" y="36"/>
                    </a:lnTo>
                    <a:lnTo>
                      <a:pt x="16" y="27"/>
                    </a:lnTo>
                    <a:lnTo>
                      <a:pt x="16" y="36"/>
                    </a:lnTo>
                    <a:lnTo>
                      <a:pt x="22" y="42"/>
                    </a:lnTo>
                    <a:lnTo>
                      <a:pt x="29" y="40"/>
                    </a:lnTo>
                    <a:lnTo>
                      <a:pt x="33" y="34"/>
                    </a:lnTo>
                    <a:lnTo>
                      <a:pt x="33" y="27"/>
                    </a:lnTo>
                    <a:lnTo>
                      <a:pt x="33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64"/>
              <p:cNvSpPr/>
              <p:nvPr/>
            </p:nvSpPr>
            <p:spPr>
              <a:xfrm>
                <a:off x="8416440" y="5555520"/>
                <a:ext cx="19080" cy="26640"/>
              </a:xfrm>
              <a:custGeom>
                <a:avLst/>
                <a:gdLst/>
                <a:ahLst/>
                <a:rect l="l" t="t" r="r" b="b"/>
                <a:pathLst>
                  <a:path w="46" h="67">
                    <a:moveTo>
                      <a:pt x="10" y="48"/>
                    </a:moveTo>
                    <a:lnTo>
                      <a:pt x="17" y="61"/>
                    </a:lnTo>
                    <a:lnTo>
                      <a:pt x="46" y="9"/>
                    </a:lnTo>
                    <a:lnTo>
                      <a:pt x="29" y="0"/>
                    </a:lnTo>
                    <a:lnTo>
                      <a:pt x="0" y="52"/>
                    </a:lnTo>
                    <a:lnTo>
                      <a:pt x="7" y="65"/>
                    </a:lnTo>
                    <a:lnTo>
                      <a:pt x="0" y="52"/>
                    </a:lnTo>
                    <a:lnTo>
                      <a:pt x="0" y="59"/>
                    </a:lnTo>
                    <a:lnTo>
                      <a:pt x="4" y="65"/>
                    </a:lnTo>
                    <a:lnTo>
                      <a:pt x="11" y="67"/>
                    </a:lnTo>
                    <a:lnTo>
                      <a:pt x="17" y="61"/>
                    </a:lnTo>
                    <a:lnTo>
                      <a:pt x="10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65"/>
              <p:cNvSpPr/>
              <p:nvPr/>
            </p:nvSpPr>
            <p:spPr>
              <a:xfrm>
                <a:off x="8419680" y="5574600"/>
                <a:ext cx="35280" cy="20880"/>
              </a:xfrm>
              <a:custGeom>
                <a:avLst/>
                <a:gdLst/>
                <a:ahLst/>
                <a:rect l="l" t="t" r="r" b="b"/>
                <a:pathLst>
                  <a:path w="84" h="53">
                    <a:moveTo>
                      <a:pt x="84" y="53"/>
                    </a:moveTo>
                    <a:lnTo>
                      <a:pt x="82" y="53"/>
                    </a:lnTo>
                    <a:lnTo>
                      <a:pt x="79" y="36"/>
                    </a:lnTo>
                    <a:lnTo>
                      <a:pt x="75" y="21"/>
                    </a:lnTo>
                    <a:lnTo>
                      <a:pt x="66" y="13"/>
                    </a:lnTo>
                    <a:lnTo>
                      <a:pt x="58" y="7"/>
                    </a:lnTo>
                    <a:lnTo>
                      <a:pt x="45" y="6"/>
                    </a:lnTo>
                    <a:lnTo>
                      <a:pt x="33" y="4"/>
                    </a:lnTo>
                    <a:lnTo>
                      <a:pt x="19" y="3"/>
                    </a:lnTo>
                    <a:lnTo>
                      <a:pt x="3" y="0"/>
                    </a:lnTo>
                    <a:lnTo>
                      <a:pt x="0" y="17"/>
                    </a:lnTo>
                    <a:lnTo>
                      <a:pt x="19" y="20"/>
                    </a:lnTo>
                    <a:lnTo>
                      <a:pt x="33" y="21"/>
                    </a:lnTo>
                    <a:lnTo>
                      <a:pt x="45" y="23"/>
                    </a:lnTo>
                    <a:lnTo>
                      <a:pt x="52" y="24"/>
                    </a:lnTo>
                    <a:lnTo>
                      <a:pt x="55" y="27"/>
                    </a:lnTo>
                    <a:lnTo>
                      <a:pt x="58" y="30"/>
                    </a:lnTo>
                    <a:lnTo>
                      <a:pt x="62" y="39"/>
                    </a:lnTo>
                    <a:lnTo>
                      <a:pt x="65" y="53"/>
                    </a:lnTo>
                    <a:lnTo>
                      <a:pt x="64" y="53"/>
                    </a:lnTo>
                    <a:lnTo>
                      <a:pt x="84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66"/>
              <p:cNvSpPr/>
              <p:nvPr/>
            </p:nvSpPr>
            <p:spPr>
              <a:xfrm>
                <a:off x="8446680" y="5594760"/>
                <a:ext cx="12600" cy="7560"/>
              </a:xfrm>
              <a:custGeom>
                <a:avLst/>
                <a:gdLst/>
                <a:ahLst/>
                <a:rect l="l" t="t" r="r" b="b"/>
                <a:pathLst>
                  <a:path w="30" h="19">
                    <a:moveTo>
                      <a:pt x="17" y="3"/>
                    </a:moveTo>
                    <a:lnTo>
                      <a:pt x="18" y="2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18" y="0"/>
                    </a:lnTo>
                    <a:lnTo>
                      <a:pt x="20" y="3"/>
                    </a:lnTo>
                    <a:lnTo>
                      <a:pt x="0" y="3"/>
                    </a:lnTo>
                    <a:lnTo>
                      <a:pt x="4" y="12"/>
                    </a:lnTo>
                    <a:lnTo>
                      <a:pt x="8" y="16"/>
                    </a:lnTo>
                    <a:lnTo>
                      <a:pt x="15" y="19"/>
                    </a:lnTo>
                    <a:lnTo>
                      <a:pt x="24" y="19"/>
                    </a:lnTo>
                    <a:lnTo>
                      <a:pt x="25" y="17"/>
                    </a:lnTo>
                    <a:lnTo>
                      <a:pt x="24" y="19"/>
                    </a:lnTo>
                    <a:lnTo>
                      <a:pt x="30" y="15"/>
                    </a:lnTo>
                    <a:lnTo>
                      <a:pt x="30" y="7"/>
                    </a:lnTo>
                    <a:lnTo>
                      <a:pt x="25" y="3"/>
                    </a:lnTo>
                    <a:lnTo>
                      <a:pt x="18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67"/>
              <p:cNvSpPr/>
              <p:nvPr/>
            </p:nvSpPr>
            <p:spPr>
              <a:xfrm>
                <a:off x="8453520" y="5581440"/>
                <a:ext cx="27720" cy="19800"/>
              </a:xfrm>
              <a:custGeom>
                <a:avLst/>
                <a:gdLst/>
                <a:ahLst/>
                <a:rect l="l" t="t" r="r" b="b"/>
                <a:pathLst>
                  <a:path w="66" h="50">
                    <a:moveTo>
                      <a:pt x="57" y="0"/>
                    </a:moveTo>
                    <a:lnTo>
                      <a:pt x="54" y="2"/>
                    </a:lnTo>
                    <a:lnTo>
                      <a:pt x="0" y="36"/>
                    </a:lnTo>
                    <a:lnTo>
                      <a:pt x="8" y="50"/>
                    </a:lnTo>
                    <a:lnTo>
                      <a:pt x="63" y="16"/>
                    </a:lnTo>
                    <a:lnTo>
                      <a:pt x="60" y="17"/>
                    </a:lnTo>
                    <a:lnTo>
                      <a:pt x="63" y="16"/>
                    </a:lnTo>
                    <a:lnTo>
                      <a:pt x="66" y="10"/>
                    </a:lnTo>
                    <a:lnTo>
                      <a:pt x="66" y="4"/>
                    </a:lnTo>
                    <a:lnTo>
                      <a:pt x="60" y="0"/>
                    </a:lnTo>
                    <a:lnTo>
                      <a:pt x="54" y="2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68"/>
              <p:cNvSpPr/>
              <p:nvPr/>
            </p:nvSpPr>
            <p:spPr>
              <a:xfrm>
                <a:off x="8477640" y="5581080"/>
                <a:ext cx="24120" cy="10800"/>
              </a:xfrm>
              <a:custGeom>
                <a:avLst/>
                <a:gdLst/>
                <a:ahLst/>
                <a:rect l="l" t="t" r="r" b="b"/>
                <a:pathLst>
                  <a:path w="58" h="28">
                    <a:moveTo>
                      <a:pt x="41" y="17"/>
                    </a:moveTo>
                    <a:lnTo>
                      <a:pt x="57" y="17"/>
                    </a:lnTo>
                    <a:lnTo>
                      <a:pt x="51" y="11"/>
                    </a:lnTo>
                    <a:lnTo>
                      <a:pt x="45" y="8"/>
                    </a:lnTo>
                    <a:lnTo>
                      <a:pt x="36" y="7"/>
                    </a:lnTo>
                    <a:lnTo>
                      <a:pt x="29" y="4"/>
                    </a:lnTo>
                    <a:lnTo>
                      <a:pt x="21" y="3"/>
                    </a:lnTo>
                    <a:lnTo>
                      <a:pt x="12" y="1"/>
                    </a:lnTo>
                    <a:lnTo>
                      <a:pt x="6" y="0"/>
                    </a:lnTo>
                    <a:lnTo>
                      <a:pt x="0" y="1"/>
                    </a:lnTo>
                    <a:lnTo>
                      <a:pt x="3" y="18"/>
                    </a:lnTo>
                    <a:lnTo>
                      <a:pt x="6" y="20"/>
                    </a:lnTo>
                    <a:lnTo>
                      <a:pt x="12" y="18"/>
                    </a:lnTo>
                    <a:lnTo>
                      <a:pt x="18" y="20"/>
                    </a:lnTo>
                    <a:lnTo>
                      <a:pt x="26" y="21"/>
                    </a:lnTo>
                    <a:lnTo>
                      <a:pt x="33" y="24"/>
                    </a:lnTo>
                    <a:lnTo>
                      <a:pt x="39" y="26"/>
                    </a:lnTo>
                    <a:lnTo>
                      <a:pt x="42" y="28"/>
                    </a:lnTo>
                    <a:lnTo>
                      <a:pt x="42" y="26"/>
                    </a:lnTo>
                    <a:lnTo>
                      <a:pt x="58" y="26"/>
                    </a:lnTo>
                    <a:lnTo>
                      <a:pt x="42" y="26"/>
                    </a:lnTo>
                    <a:lnTo>
                      <a:pt x="48" y="28"/>
                    </a:lnTo>
                    <a:lnTo>
                      <a:pt x="54" y="27"/>
                    </a:lnTo>
                    <a:lnTo>
                      <a:pt x="58" y="23"/>
                    </a:lnTo>
                    <a:lnTo>
                      <a:pt x="57" y="17"/>
                    </a:lnTo>
                    <a:lnTo>
                      <a:pt x="41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69"/>
              <p:cNvSpPr/>
              <p:nvPr/>
            </p:nvSpPr>
            <p:spPr>
              <a:xfrm>
                <a:off x="7796880" y="5598720"/>
                <a:ext cx="692640" cy="912960"/>
              </a:xfrm>
              <a:custGeom>
                <a:avLst/>
                <a:gdLst/>
                <a:ahLst/>
                <a:rect l="l" t="t" r="r" b="b"/>
                <a:pathLst>
                  <a:path w="1645" h="2291">
                    <a:moveTo>
                      <a:pt x="1556" y="33"/>
                    </a:moveTo>
                    <a:lnTo>
                      <a:pt x="1590" y="33"/>
                    </a:lnTo>
                    <a:lnTo>
                      <a:pt x="1616" y="3"/>
                    </a:lnTo>
                    <a:lnTo>
                      <a:pt x="1645" y="0"/>
                    </a:lnTo>
                    <a:lnTo>
                      <a:pt x="132" y="2222"/>
                    </a:lnTo>
                    <a:lnTo>
                      <a:pt x="131" y="2224"/>
                    </a:lnTo>
                    <a:lnTo>
                      <a:pt x="126" y="2230"/>
                    </a:lnTo>
                    <a:lnTo>
                      <a:pt x="119" y="2238"/>
                    </a:lnTo>
                    <a:lnTo>
                      <a:pt x="111" y="2247"/>
                    </a:lnTo>
                    <a:lnTo>
                      <a:pt x="100" y="2257"/>
                    </a:lnTo>
                    <a:lnTo>
                      <a:pt x="89" y="2267"/>
                    </a:lnTo>
                    <a:lnTo>
                      <a:pt x="77" y="2276"/>
                    </a:lnTo>
                    <a:lnTo>
                      <a:pt x="66" y="2283"/>
                    </a:lnTo>
                    <a:lnTo>
                      <a:pt x="56" y="2286"/>
                    </a:lnTo>
                    <a:lnTo>
                      <a:pt x="46" y="2289"/>
                    </a:lnTo>
                    <a:lnTo>
                      <a:pt x="34" y="2290"/>
                    </a:lnTo>
                    <a:lnTo>
                      <a:pt x="24" y="2291"/>
                    </a:lnTo>
                    <a:lnTo>
                      <a:pt x="14" y="2291"/>
                    </a:lnTo>
                    <a:lnTo>
                      <a:pt x="7" y="2291"/>
                    </a:lnTo>
                    <a:lnTo>
                      <a:pt x="1" y="2291"/>
                    </a:lnTo>
                    <a:lnTo>
                      <a:pt x="0" y="2291"/>
                    </a:lnTo>
                    <a:lnTo>
                      <a:pt x="1556" y="33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70"/>
            <p:cNvSpPr/>
            <p:nvPr/>
          </p:nvSpPr>
          <p:spPr>
            <a:xfrm>
              <a:off x="7949520" y="6028560"/>
              <a:ext cx="173880" cy="238680"/>
            </a:xfrm>
            <a:custGeom>
              <a:avLst/>
              <a:gdLst/>
              <a:ahLst/>
              <a:rect l="l" t="t" r="r" b="b"/>
              <a:pathLst>
                <a:path w="413" h="599">
                  <a:moveTo>
                    <a:pt x="413" y="338"/>
                  </a:moveTo>
                  <a:lnTo>
                    <a:pt x="392" y="368"/>
                  </a:lnTo>
                  <a:lnTo>
                    <a:pt x="369" y="401"/>
                  </a:lnTo>
                  <a:lnTo>
                    <a:pt x="346" y="439"/>
                  </a:lnTo>
                  <a:lnTo>
                    <a:pt x="321" y="475"/>
                  </a:lnTo>
                  <a:lnTo>
                    <a:pt x="297" y="511"/>
                  </a:lnTo>
                  <a:lnTo>
                    <a:pt x="271" y="545"/>
                  </a:lnTo>
                  <a:lnTo>
                    <a:pt x="245" y="574"/>
                  </a:lnTo>
                  <a:lnTo>
                    <a:pt x="217" y="599"/>
                  </a:lnTo>
                  <a:lnTo>
                    <a:pt x="199" y="577"/>
                  </a:lnTo>
                  <a:lnTo>
                    <a:pt x="170" y="544"/>
                  </a:lnTo>
                  <a:lnTo>
                    <a:pt x="135" y="502"/>
                  </a:lnTo>
                  <a:lnTo>
                    <a:pt x="98" y="456"/>
                  </a:lnTo>
                  <a:lnTo>
                    <a:pt x="62" y="412"/>
                  </a:lnTo>
                  <a:lnTo>
                    <a:pt x="30" y="370"/>
                  </a:lnTo>
                  <a:lnTo>
                    <a:pt x="9" y="338"/>
                  </a:lnTo>
                  <a:lnTo>
                    <a:pt x="0" y="318"/>
                  </a:lnTo>
                  <a:lnTo>
                    <a:pt x="276" y="0"/>
                  </a:lnTo>
                  <a:lnTo>
                    <a:pt x="278" y="5"/>
                  </a:lnTo>
                  <a:lnTo>
                    <a:pt x="282" y="20"/>
                  </a:lnTo>
                  <a:lnTo>
                    <a:pt x="288" y="43"/>
                  </a:lnTo>
                  <a:lnTo>
                    <a:pt x="295" y="69"/>
                  </a:lnTo>
                  <a:lnTo>
                    <a:pt x="304" y="99"/>
                  </a:lnTo>
                  <a:lnTo>
                    <a:pt x="312" y="129"/>
                  </a:lnTo>
                  <a:lnTo>
                    <a:pt x="323" y="157"/>
                  </a:lnTo>
                  <a:lnTo>
                    <a:pt x="331" y="181"/>
                  </a:lnTo>
                  <a:lnTo>
                    <a:pt x="341" y="203"/>
                  </a:lnTo>
                  <a:lnTo>
                    <a:pt x="350" y="220"/>
                  </a:lnTo>
                  <a:lnTo>
                    <a:pt x="359" y="234"/>
                  </a:lnTo>
                  <a:lnTo>
                    <a:pt x="367" y="249"/>
                  </a:lnTo>
                  <a:lnTo>
                    <a:pt x="377" y="265"/>
                  </a:lnTo>
                  <a:lnTo>
                    <a:pt x="387" y="283"/>
                  </a:lnTo>
                  <a:lnTo>
                    <a:pt x="400" y="308"/>
                  </a:lnTo>
                  <a:lnTo>
                    <a:pt x="413" y="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71"/>
            <p:cNvSpPr/>
            <p:nvPr/>
          </p:nvSpPr>
          <p:spPr>
            <a:xfrm>
              <a:off x="8116200" y="5684040"/>
              <a:ext cx="1027800" cy="9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0" name="Object 72" descr=""/>
          <p:cNvPicPr/>
          <p:nvPr/>
        </p:nvPicPr>
        <p:blipFill>
          <a:blip r:embed="rId3"/>
          <a:stretch/>
        </p:blipFill>
        <p:spPr>
          <a:xfrm>
            <a:off x="611280" y="5373720"/>
            <a:ext cx="1522440" cy="1301760"/>
          </a:xfrm>
          <a:prstGeom prst="rect">
            <a:avLst/>
          </a:prstGeom>
          <a:ln w="0">
            <a:noFill/>
          </a:ln>
        </p:spPr>
      </p:pic>
      <p:pic>
        <p:nvPicPr>
          <p:cNvPr id="191" name="WordArt 75" descr=""/>
          <p:cNvPicPr/>
          <p:nvPr/>
        </p:nvPicPr>
        <p:blipFill>
          <a:blip r:embed="rId4"/>
          <a:stretch/>
        </p:blipFill>
        <p:spPr>
          <a:xfrm>
            <a:off x="879480" y="1254240"/>
            <a:ext cx="7689960" cy="149688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AutoShape 2"/>
          <p:cNvSpPr/>
          <p:nvPr/>
        </p:nvSpPr>
        <p:spPr>
          <a:xfrm>
            <a:off x="826920" y="415800"/>
            <a:ext cx="1727280" cy="23767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1405080" y="27925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397080" y="1424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1837080" y="9921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6"/>
          <p:cNvSpPr/>
          <p:nvPr/>
        </p:nvSpPr>
        <p:spPr>
          <a:xfrm>
            <a:off x="470160" y="554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"/>
          <p:cNvSpPr/>
          <p:nvPr/>
        </p:nvSpPr>
        <p:spPr>
          <a:xfrm>
            <a:off x="397440" y="26478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8"/>
          <p:cNvSpPr/>
          <p:nvPr/>
        </p:nvSpPr>
        <p:spPr>
          <a:xfrm>
            <a:off x="2629080" y="2575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9"/>
          <p:cNvGrpSpPr/>
          <p:nvPr/>
        </p:nvGrpSpPr>
        <p:grpSpPr>
          <a:xfrm>
            <a:off x="4643280" y="487440"/>
            <a:ext cx="1727280" cy="2376360"/>
            <a:chOff x="4643280" y="487440"/>
            <a:chExt cx="1727280" cy="2376360"/>
          </a:xfrm>
        </p:grpSpPr>
        <p:sp>
          <p:nvSpPr>
            <p:cNvPr id="365" name="AutoShape 10"/>
            <p:cNvSpPr/>
            <p:nvPr/>
          </p:nvSpPr>
          <p:spPr>
            <a:xfrm>
              <a:off x="4643280" y="487440"/>
              <a:ext cx="1727280" cy="237636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" name=""/>
            <p:cNvGrpSpPr/>
            <p:nvPr/>
          </p:nvGrpSpPr>
          <p:grpSpPr>
            <a:xfrm>
              <a:off x="4643280" y="2576520"/>
              <a:ext cx="287280" cy="360"/>
              <a:chOff x="4643280" y="2576520"/>
              <a:chExt cx="287280" cy="360"/>
            </a:xfrm>
          </p:grpSpPr>
          <p:sp>
            <p:nvSpPr>
              <p:cNvPr id="367" name="Line 11"/>
              <p:cNvSpPr/>
              <p:nvPr/>
            </p:nvSpPr>
            <p:spPr>
              <a:xfrm>
                <a:off x="4643280" y="2576520"/>
                <a:ext cx="287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 txBox="1"/>
              <p:nvPr/>
            </p:nvSpPr>
            <p:spPr>
              <a:xfrm>
                <a:off x="4643280" y="257652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4930560" y="2576520"/>
              <a:ext cx="360" cy="286920"/>
              <a:chOff x="4930560" y="2576520"/>
              <a:chExt cx="360" cy="286920"/>
            </a:xfrm>
          </p:grpSpPr>
          <p:sp>
            <p:nvSpPr>
              <p:cNvPr id="370" name="Line 12"/>
              <p:cNvSpPr/>
              <p:nvPr/>
            </p:nvSpPr>
            <p:spPr>
              <a:xfrm>
                <a:off x="4930560" y="2576520"/>
                <a:ext cx="0" cy="2869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 txBox="1"/>
              <p:nvPr/>
            </p:nvSpPr>
            <p:spPr>
              <a:xfrm>
                <a:off x="4930560" y="2576520"/>
                <a:ext cx="360" cy="286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2" name="Group 13"/>
          <p:cNvGrpSpPr/>
          <p:nvPr/>
        </p:nvGrpSpPr>
        <p:grpSpPr>
          <a:xfrm>
            <a:off x="4224600" y="-69840"/>
            <a:ext cx="561600" cy="703440"/>
            <a:chOff x="4224600" y="-69840"/>
            <a:chExt cx="561600" cy="703440"/>
          </a:xfrm>
        </p:grpSpPr>
        <p:sp>
          <p:nvSpPr>
            <p:cNvPr id="373" name="Text Box 14"/>
            <p:cNvSpPr/>
            <p:nvPr/>
          </p:nvSpPr>
          <p:spPr>
            <a:xfrm>
              <a:off x="4224600" y="112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15"/>
            <p:cNvSpPr/>
            <p:nvPr/>
          </p:nvSpPr>
          <p:spPr>
            <a:xfrm>
              <a:off x="4354560" y="-6984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6"/>
          <p:cNvGrpSpPr/>
          <p:nvPr/>
        </p:nvGrpSpPr>
        <p:grpSpPr>
          <a:xfrm>
            <a:off x="6589800" y="2492280"/>
            <a:ext cx="645840" cy="720720"/>
            <a:chOff x="6589800" y="2492280"/>
            <a:chExt cx="645840" cy="720720"/>
          </a:xfrm>
        </p:grpSpPr>
        <p:sp>
          <p:nvSpPr>
            <p:cNvPr id="376" name="Text Box 17"/>
            <p:cNvSpPr/>
            <p:nvPr/>
          </p:nvSpPr>
          <p:spPr>
            <a:xfrm>
              <a:off x="6589800" y="2692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Text Box 18"/>
            <p:cNvSpPr/>
            <p:nvPr/>
          </p:nvSpPr>
          <p:spPr>
            <a:xfrm>
              <a:off x="6804000" y="249228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19"/>
          <p:cNvGrpSpPr/>
          <p:nvPr/>
        </p:nvGrpSpPr>
        <p:grpSpPr>
          <a:xfrm>
            <a:off x="4140720" y="2506680"/>
            <a:ext cx="634320" cy="718920"/>
            <a:chOff x="4140720" y="2506680"/>
            <a:chExt cx="634320" cy="718920"/>
          </a:xfrm>
        </p:grpSpPr>
        <p:sp>
          <p:nvSpPr>
            <p:cNvPr id="379" name="Text Box 20"/>
            <p:cNvSpPr/>
            <p:nvPr/>
          </p:nvSpPr>
          <p:spPr>
            <a:xfrm>
              <a:off x="4140720" y="27050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 Box 21"/>
            <p:cNvSpPr/>
            <p:nvPr/>
          </p:nvSpPr>
          <p:spPr>
            <a:xfrm>
              <a:off x="4343400" y="250668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22"/>
          <p:cNvSpPr/>
          <p:nvPr/>
        </p:nvSpPr>
        <p:spPr>
          <a:xfrm>
            <a:off x="5005440" y="2781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3"/>
          <p:cNvSpPr/>
          <p:nvPr/>
        </p:nvSpPr>
        <p:spPr>
          <a:xfrm>
            <a:off x="4211640" y="142416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Object 56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grpSp>
        <p:nvGrpSpPr>
          <p:cNvPr id="384" name="Group 58"/>
          <p:cNvGrpSpPr/>
          <p:nvPr/>
        </p:nvGrpSpPr>
        <p:grpSpPr>
          <a:xfrm>
            <a:off x="324000" y="3500280"/>
            <a:ext cx="2808000" cy="752040"/>
            <a:chOff x="324000" y="3500280"/>
            <a:chExt cx="2808000" cy="752040"/>
          </a:xfrm>
        </p:grpSpPr>
        <p:sp>
          <p:nvSpPr>
            <p:cNvPr id="385" name="Text Box 54"/>
            <p:cNvSpPr/>
            <p:nvPr/>
          </p:nvSpPr>
          <p:spPr>
            <a:xfrm>
              <a:off x="324000" y="3500280"/>
              <a:ext cx="28080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在                  中根据勾股定理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6" name="Object 57" descr=""/>
            <p:cNvPicPr/>
            <p:nvPr/>
          </p:nvPicPr>
          <p:blipFill>
            <a:blip r:embed="rId2"/>
            <a:stretch/>
          </p:blipFill>
          <p:spPr>
            <a:xfrm>
              <a:off x="685440" y="3544560"/>
              <a:ext cx="1510920" cy="37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7" name="Object 59" descr=""/>
          <p:cNvPicPr/>
          <p:nvPr/>
        </p:nvPicPr>
        <p:blipFill>
          <a:blip r:embed="rId3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88" name="Object 60" descr=""/>
          <p:cNvPicPr/>
          <p:nvPr/>
        </p:nvPicPr>
        <p:blipFill>
          <a:blip r:embed="rId4"/>
          <a:stretch/>
        </p:blipFill>
        <p:spPr>
          <a:xfrm>
            <a:off x="468360" y="4149720"/>
            <a:ext cx="2736720" cy="412920"/>
          </a:xfrm>
          <a:prstGeom prst="rect">
            <a:avLst/>
          </a:prstGeom>
          <a:ln w="0">
            <a:noFill/>
          </a:ln>
        </p:spPr>
      </p:pic>
      <p:pic>
        <p:nvPicPr>
          <p:cNvPr id="389" name="Object 61" descr=""/>
          <p:cNvPicPr/>
          <p:nvPr/>
        </p:nvPicPr>
        <p:blipFill>
          <a:blip r:embed="rId5"/>
          <a:stretch/>
        </p:blipFill>
        <p:spPr>
          <a:xfrm>
            <a:off x="324000" y="4581360"/>
            <a:ext cx="2808000" cy="1363680"/>
          </a:xfrm>
          <a:prstGeom prst="rect">
            <a:avLst/>
          </a:prstGeom>
          <a:ln w="0">
            <a:noFill/>
          </a:ln>
        </p:spPr>
      </p:pic>
      <p:sp>
        <p:nvSpPr>
          <p:cNvPr id="390" name="AutoShape 62"/>
          <p:cNvSpPr/>
          <p:nvPr/>
        </p:nvSpPr>
        <p:spPr>
          <a:xfrm>
            <a:off x="3635280" y="4365720"/>
            <a:ext cx="720720" cy="215640"/>
          </a:xfrm>
          <a:prstGeom prst="rightArrow">
            <a:avLst>
              <a:gd name="adj1" fmla="val 50000"/>
              <a:gd name="adj2" fmla="val 8352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Object 63" descr=""/>
          <p:cNvPicPr/>
          <p:nvPr/>
        </p:nvPicPr>
        <p:blipFill>
          <a:blip r:embed="rId6"/>
          <a:stretch/>
        </p:blipFill>
        <p:spPr>
          <a:xfrm>
            <a:off x="4427640" y="4297320"/>
            <a:ext cx="865080" cy="355680"/>
          </a:xfrm>
          <a:prstGeom prst="rect">
            <a:avLst/>
          </a:prstGeom>
          <a:ln w="0">
            <a:noFill/>
          </a:ln>
        </p:spPr>
      </p:pic>
      <p:sp>
        <p:nvSpPr>
          <p:cNvPr id="392" name="Rectangle 64"/>
          <p:cNvSpPr/>
          <p:nvPr/>
        </p:nvSpPr>
        <p:spPr>
          <a:xfrm>
            <a:off x="5178960" y="420516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Object 65" descr=""/>
          <p:cNvPicPr/>
          <p:nvPr/>
        </p:nvPicPr>
        <p:blipFill>
          <a:blip r:embed="rId7"/>
          <a:stretch/>
        </p:blipFill>
        <p:spPr>
          <a:xfrm>
            <a:off x="5580000" y="4292640"/>
            <a:ext cx="1058760" cy="352440"/>
          </a:xfrm>
          <a:prstGeom prst="rect">
            <a:avLst/>
          </a:prstGeom>
          <a:ln w="0">
            <a:noFill/>
          </a:ln>
        </p:spPr>
      </p:pic>
      <p:sp>
        <p:nvSpPr>
          <p:cNvPr id="394" name="AutoShape 66"/>
          <p:cNvSpPr/>
          <p:nvPr/>
        </p:nvSpPr>
        <p:spPr>
          <a:xfrm>
            <a:off x="5219640" y="4724280"/>
            <a:ext cx="216000" cy="576360"/>
          </a:xfrm>
          <a:prstGeom prst="downArrow">
            <a:avLst>
              <a:gd name="adj1" fmla="val 50000"/>
              <a:gd name="adj2" fmla="val 666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Object 67" descr=""/>
          <p:cNvPicPr/>
          <p:nvPr/>
        </p:nvPicPr>
        <p:blipFill>
          <a:blip r:embed="rId8"/>
          <a:stretch/>
        </p:blipFill>
        <p:spPr>
          <a:xfrm>
            <a:off x="4067280" y="5373720"/>
            <a:ext cx="2320920" cy="396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1476360" y="4005360"/>
            <a:ext cx="2286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∵ 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’=9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"/>
          <p:cNvSpPr/>
          <p:nvPr/>
        </p:nvSpPr>
        <p:spPr>
          <a:xfrm>
            <a:off x="1405080" y="4414680"/>
            <a:ext cx="2438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’B’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 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1405080" y="4871880"/>
            <a:ext cx="2361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+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1405080" y="5405400"/>
            <a:ext cx="2209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’B’ 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=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1405080" y="6319800"/>
            <a:ext cx="2438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’B’ =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1405080" y="5829480"/>
            <a:ext cx="2590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∵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边长取正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4876920" y="41911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 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C ≌△ A’B’C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SS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4859280" y="45720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∴ 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= ∠ C’=9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1"/>
          <p:cNvGrpSpPr/>
          <p:nvPr/>
        </p:nvGrpSpPr>
        <p:grpSpPr>
          <a:xfrm>
            <a:off x="5181480" y="2590920"/>
            <a:ext cx="3352680" cy="1572120"/>
            <a:chOff x="5181480" y="2590920"/>
            <a:chExt cx="3352680" cy="1572120"/>
          </a:xfrm>
        </p:grpSpPr>
        <p:sp>
          <p:nvSpPr>
            <p:cNvPr id="405" name="Text Box 12"/>
            <p:cNvSpPr/>
            <p:nvPr/>
          </p:nvSpPr>
          <p:spPr>
            <a:xfrm>
              <a:off x="5415120" y="2590920"/>
              <a:ext cx="311904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C=a=B’C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A=b=C’A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B=c=A’B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utoShape 13"/>
            <p:cNvSpPr/>
            <p:nvPr/>
          </p:nvSpPr>
          <p:spPr>
            <a:xfrm>
              <a:off x="5181480" y="2755080"/>
              <a:ext cx="155520" cy="1069200"/>
            </a:xfrm>
            <a:custGeom>
              <a:avLst/>
              <a:gdLst>
                <a:gd name="textAreaLeft" fmla="*/ 99360 w 155520"/>
                <a:gd name="textAreaRight" fmla="*/ 155520 w 155520"/>
                <a:gd name="textAreaTop" fmla="*/ 27720 h 1069200"/>
                <a:gd name="textAreaBottom" fmla="*/ 1041480 h 106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899"/>
                    <a:pt x="10800" y="1798"/>
                  </a:cubicBezTo>
                  <a:lnTo>
                    <a:pt x="10800" y="9002"/>
                  </a:lnTo>
                  <a:cubicBezTo>
                    <a:pt x="10800" y="9901"/>
                    <a:pt x="5400" y="10800"/>
                    <a:pt x="0" y="10800"/>
                  </a:cubicBezTo>
                  <a:cubicBezTo>
                    <a:pt x="5400" y="10800"/>
                    <a:pt x="10800" y="11699"/>
                    <a:pt x="10800" y="12598"/>
                  </a:cubicBezTo>
                  <a:lnTo>
                    <a:pt x="10800" y="19802"/>
                  </a:lnTo>
                  <a:cubicBezTo>
                    <a:pt x="10800" y="20701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Text Box 30"/>
          <p:cNvSpPr/>
          <p:nvPr/>
        </p:nvSpPr>
        <p:spPr>
          <a:xfrm>
            <a:off x="611280" y="62064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已知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在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B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中，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B=c  BC=a  CA=b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且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+b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=c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31"/>
          <p:cNvSpPr/>
          <p:nvPr/>
        </p:nvSpPr>
        <p:spPr>
          <a:xfrm>
            <a:off x="539640" y="1052640"/>
            <a:ext cx="4267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求证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:△ ABC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是直角三角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32"/>
          <p:cNvSpPr/>
          <p:nvPr/>
        </p:nvSpPr>
        <p:spPr>
          <a:xfrm>
            <a:off x="539640" y="141300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证明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: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画一个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’B’C’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使∠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’=90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°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,B’C’=a,  C’A’=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3"/>
          <p:cNvSpPr/>
          <p:nvPr/>
        </p:nvSpPr>
        <p:spPr>
          <a:xfrm>
            <a:off x="5181480" y="21337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’B’C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4"/>
          <p:cNvSpPr/>
          <p:nvPr/>
        </p:nvSpPr>
        <p:spPr>
          <a:xfrm>
            <a:off x="4811760" y="5229360"/>
            <a:ext cx="35053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则 △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直角三角形（直角三角形的定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5"/>
          <p:cNvSpPr/>
          <p:nvPr/>
        </p:nvSpPr>
        <p:spPr>
          <a:xfrm>
            <a:off x="684360" y="0"/>
            <a:ext cx="4724280" cy="685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宋体"/>
              </a:rPr>
              <a:t>勾股定理的逆命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37"/>
          <p:cNvSpPr/>
          <p:nvPr/>
        </p:nvSpPr>
        <p:spPr>
          <a:xfrm>
            <a:off x="755640" y="2133720"/>
            <a:ext cx="863640" cy="143964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38"/>
          <p:cNvSpPr/>
          <p:nvPr/>
        </p:nvSpPr>
        <p:spPr>
          <a:xfrm>
            <a:off x="470160" y="18446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39"/>
          <p:cNvSpPr/>
          <p:nvPr/>
        </p:nvSpPr>
        <p:spPr>
          <a:xfrm>
            <a:off x="388800" y="335772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40"/>
          <p:cNvSpPr/>
          <p:nvPr/>
        </p:nvSpPr>
        <p:spPr>
          <a:xfrm>
            <a:off x="1621080" y="33577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41"/>
          <p:cNvSpPr/>
          <p:nvPr/>
        </p:nvSpPr>
        <p:spPr>
          <a:xfrm>
            <a:off x="2627280" y="2133720"/>
            <a:ext cx="863640" cy="1439640"/>
          </a:xfrm>
          <a:prstGeom prst="rtTriangl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57"/>
          <p:cNvGrpSpPr/>
          <p:nvPr/>
        </p:nvGrpSpPr>
        <p:grpSpPr>
          <a:xfrm>
            <a:off x="2270160" y="1844640"/>
            <a:ext cx="572760" cy="551160"/>
            <a:chOff x="2270160" y="1844640"/>
            <a:chExt cx="572760" cy="551160"/>
          </a:xfrm>
        </p:grpSpPr>
        <p:sp>
          <p:nvSpPr>
            <p:cNvPr id="419" name="Text Box 43"/>
            <p:cNvSpPr/>
            <p:nvPr/>
          </p:nvSpPr>
          <p:spPr>
            <a:xfrm>
              <a:off x="2270160" y="199692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 Box 44"/>
            <p:cNvSpPr/>
            <p:nvPr/>
          </p:nvSpPr>
          <p:spPr>
            <a:xfrm>
              <a:off x="2411280" y="184464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55"/>
          <p:cNvGrpSpPr/>
          <p:nvPr/>
        </p:nvGrpSpPr>
        <p:grpSpPr>
          <a:xfrm>
            <a:off x="3493080" y="3341520"/>
            <a:ext cx="574200" cy="520560"/>
            <a:chOff x="3493080" y="3341520"/>
            <a:chExt cx="574200" cy="520560"/>
          </a:xfrm>
        </p:grpSpPr>
        <p:sp>
          <p:nvSpPr>
            <p:cNvPr id="422" name="Text Box 51"/>
            <p:cNvSpPr/>
            <p:nvPr/>
          </p:nvSpPr>
          <p:spPr>
            <a:xfrm>
              <a:off x="3493080" y="34290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52"/>
            <p:cNvSpPr/>
            <p:nvPr/>
          </p:nvSpPr>
          <p:spPr>
            <a:xfrm>
              <a:off x="3635640" y="3341520"/>
              <a:ext cx="4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Group 56"/>
          <p:cNvGrpSpPr/>
          <p:nvPr/>
        </p:nvGrpSpPr>
        <p:grpSpPr>
          <a:xfrm>
            <a:off x="2271600" y="3341520"/>
            <a:ext cx="571680" cy="520560"/>
            <a:chOff x="2271600" y="3341520"/>
            <a:chExt cx="571680" cy="520560"/>
          </a:xfrm>
        </p:grpSpPr>
        <p:sp>
          <p:nvSpPr>
            <p:cNvPr id="425" name="Text Box 53"/>
            <p:cNvSpPr/>
            <p:nvPr/>
          </p:nvSpPr>
          <p:spPr>
            <a:xfrm>
              <a:off x="2271600" y="34369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54"/>
            <p:cNvSpPr/>
            <p:nvPr/>
          </p:nvSpPr>
          <p:spPr>
            <a:xfrm>
              <a:off x="2411280" y="3341520"/>
              <a:ext cx="43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2627280" y="3429000"/>
            <a:ext cx="142920" cy="360"/>
            <a:chOff x="2627280" y="3429000"/>
            <a:chExt cx="142920" cy="360"/>
          </a:xfrm>
        </p:grpSpPr>
        <p:sp>
          <p:nvSpPr>
            <p:cNvPr id="428" name="Line 61"/>
            <p:cNvSpPr/>
            <p:nvPr/>
          </p:nvSpPr>
          <p:spPr>
            <a:xfrm>
              <a:off x="2627280" y="342900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 txBox="1"/>
            <p:nvPr/>
          </p:nvSpPr>
          <p:spPr>
            <a:xfrm>
              <a:off x="2627280" y="3429000"/>
              <a:ext cx="142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2770200" y="3429000"/>
            <a:ext cx="360" cy="144360"/>
            <a:chOff x="2770200" y="3429000"/>
            <a:chExt cx="360" cy="144360"/>
          </a:xfrm>
        </p:grpSpPr>
        <p:sp>
          <p:nvSpPr>
            <p:cNvPr id="431" name="Line 63"/>
            <p:cNvSpPr/>
            <p:nvPr/>
          </p:nvSpPr>
          <p:spPr>
            <a:xfrm>
              <a:off x="2770200" y="342900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 txBox="1"/>
            <p:nvPr/>
          </p:nvSpPr>
          <p:spPr>
            <a:xfrm>
              <a:off x="2770200" y="3429000"/>
              <a:ext cx="360" cy="144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3" name="Object 64" descr=""/>
          <p:cNvPicPr/>
          <p:nvPr/>
        </p:nvPicPr>
        <p:blipFill>
          <a:blip r:embed="rId1"/>
          <a:stretch/>
        </p:blipFill>
        <p:spPr>
          <a:xfrm>
            <a:off x="2916360" y="3645000"/>
            <a:ext cx="257040" cy="282600"/>
          </a:xfrm>
          <a:prstGeom prst="rect">
            <a:avLst/>
          </a:prstGeom>
          <a:ln w="0">
            <a:noFill/>
          </a:ln>
        </p:spPr>
      </p:pic>
      <p:pic>
        <p:nvPicPr>
          <p:cNvPr id="434" name="Object 65" descr=""/>
          <p:cNvPicPr/>
          <p:nvPr/>
        </p:nvPicPr>
        <p:blipFill>
          <a:blip r:embed="rId2"/>
          <a:stretch/>
        </p:blipFill>
        <p:spPr>
          <a:xfrm>
            <a:off x="2268360" y="2637000"/>
            <a:ext cx="270000" cy="3762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67"/>
          <p:cNvSpPr/>
          <p:nvPr/>
        </p:nvSpPr>
        <p:spPr>
          <a:xfrm>
            <a:off x="950760" y="3952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68"/>
          <p:cNvSpPr/>
          <p:nvPr/>
        </p:nvSpPr>
        <p:spPr>
          <a:xfrm>
            <a:off x="560880" y="4005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证明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Object 69" descr=""/>
          <p:cNvPicPr/>
          <p:nvPr/>
        </p:nvPicPr>
        <p:blipFill>
          <a:blip r:embed="rId3"/>
          <a:stretch/>
        </p:blipFill>
        <p:spPr>
          <a:xfrm>
            <a:off x="971640" y="3645000"/>
            <a:ext cx="257040" cy="282600"/>
          </a:xfrm>
          <a:prstGeom prst="rect">
            <a:avLst/>
          </a:prstGeom>
          <a:ln w="0">
            <a:noFill/>
          </a:ln>
        </p:spPr>
      </p:pic>
      <p:pic>
        <p:nvPicPr>
          <p:cNvPr id="438" name="Object 70" descr=""/>
          <p:cNvPicPr/>
          <p:nvPr/>
        </p:nvPicPr>
        <p:blipFill>
          <a:blip r:embed="rId4"/>
          <a:stretch/>
        </p:blipFill>
        <p:spPr>
          <a:xfrm>
            <a:off x="468360" y="2565360"/>
            <a:ext cx="270000" cy="376200"/>
          </a:xfrm>
          <a:prstGeom prst="rect">
            <a:avLst/>
          </a:prstGeom>
          <a:ln w="0">
            <a:noFill/>
          </a:ln>
        </p:spPr>
      </p:pic>
      <p:pic>
        <p:nvPicPr>
          <p:cNvPr id="439" name="Object 71" descr=""/>
          <p:cNvPicPr/>
          <p:nvPr/>
        </p:nvPicPr>
        <p:blipFill>
          <a:blip r:embed="rId5"/>
          <a:stretch/>
        </p:blipFill>
        <p:spPr>
          <a:xfrm>
            <a:off x="1332000" y="2565360"/>
            <a:ext cx="291960" cy="3571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5877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勾股定理的逆命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3"/>
          <p:cNvGrpSpPr/>
          <p:nvPr/>
        </p:nvGrpSpPr>
        <p:grpSpPr>
          <a:xfrm>
            <a:off x="179280" y="4941720"/>
            <a:ext cx="8972280" cy="1422720"/>
            <a:chOff x="179280" y="4941720"/>
            <a:chExt cx="8972280" cy="1422720"/>
          </a:xfrm>
        </p:grpSpPr>
        <p:sp>
          <p:nvSpPr>
            <p:cNvPr id="442" name="Text Box 4"/>
            <p:cNvSpPr/>
            <p:nvPr/>
          </p:nvSpPr>
          <p:spPr>
            <a:xfrm>
              <a:off x="179280" y="4941720"/>
              <a:ext cx="8972280" cy="752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   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如果直角三角形两直角边分别为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斜边为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那么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5"/>
            <p:cNvSpPr/>
            <p:nvPr/>
          </p:nvSpPr>
          <p:spPr>
            <a:xfrm>
              <a:off x="3612240" y="5661000"/>
              <a:ext cx="349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a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+ b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= c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AutoShape 6"/>
          <p:cNvSpPr/>
          <p:nvPr/>
        </p:nvSpPr>
        <p:spPr>
          <a:xfrm>
            <a:off x="324000" y="4005360"/>
            <a:ext cx="3024000" cy="609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勾股定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7"/>
          <p:cNvGrpSpPr/>
          <p:nvPr/>
        </p:nvGrpSpPr>
        <p:grpSpPr>
          <a:xfrm>
            <a:off x="539640" y="762120"/>
            <a:ext cx="8604000" cy="2191320"/>
            <a:chOff x="539640" y="762120"/>
            <a:chExt cx="8604000" cy="2191320"/>
          </a:xfrm>
        </p:grpSpPr>
        <p:sp>
          <p:nvSpPr>
            <p:cNvPr id="446" name="Text Box 8"/>
            <p:cNvSpPr/>
            <p:nvPr/>
          </p:nvSpPr>
          <p:spPr>
            <a:xfrm>
              <a:off x="539640" y="762120"/>
              <a:ext cx="8604000" cy="2191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如果三角形的三边长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满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那么这个三角形是直角三角形。且边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所对的角为直角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9"/>
            <p:cNvSpPr/>
            <p:nvPr/>
          </p:nvSpPr>
          <p:spPr>
            <a:xfrm>
              <a:off x="3238200" y="1617480"/>
              <a:ext cx="3457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a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+ b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= c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AutoShape 10"/>
          <p:cNvSpPr/>
          <p:nvPr/>
        </p:nvSpPr>
        <p:spPr>
          <a:xfrm>
            <a:off x="4211640" y="3645000"/>
            <a:ext cx="792000" cy="1224000"/>
          </a:xfrm>
          <a:prstGeom prst="upDownArrow">
            <a:avLst>
              <a:gd name="adj1" fmla="val 50000"/>
              <a:gd name="adj2" fmla="val 308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1"/>
          <p:cNvSpPr/>
          <p:nvPr/>
        </p:nvSpPr>
        <p:spPr>
          <a:xfrm>
            <a:off x="4859280" y="386064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互逆命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2" descr="j0187423"/>
          <p:cNvPicPr/>
          <p:nvPr/>
        </p:nvPicPr>
        <p:blipFill>
          <a:blip r:embed="rId1"/>
          <a:stretch/>
        </p:blipFill>
        <p:spPr>
          <a:xfrm>
            <a:off x="0" y="0"/>
            <a:ext cx="1403280" cy="11970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13"/>
          <p:cNvSpPr/>
          <p:nvPr/>
        </p:nvSpPr>
        <p:spPr>
          <a:xfrm>
            <a:off x="5029200" y="0"/>
            <a:ext cx="199080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逆定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5867280" y="3789360"/>
            <a:ext cx="1584360" cy="703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定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3" name="Group 1026"/>
          <p:cNvGrpSpPr/>
          <p:nvPr/>
        </p:nvGrpSpPr>
        <p:grpSpPr>
          <a:xfrm>
            <a:off x="6781680" y="4572000"/>
            <a:ext cx="2362320" cy="1835280"/>
            <a:chOff x="6781680" y="4572000"/>
            <a:chExt cx="2362320" cy="1835280"/>
          </a:xfrm>
        </p:grpSpPr>
        <p:pic>
          <p:nvPicPr>
            <p:cNvPr id="454" name="Picture 1027" descr="20"/>
            <p:cNvPicPr/>
            <p:nvPr/>
          </p:nvPicPr>
          <p:blipFill>
            <a:blip r:embed="rId1"/>
            <a:stretch/>
          </p:blipFill>
          <p:spPr>
            <a:xfrm>
              <a:off x="6781680" y="457200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" name="Text Box 1028"/>
            <p:cNvSpPr/>
            <p:nvPr/>
          </p:nvSpPr>
          <p:spPr>
            <a:xfrm>
              <a:off x="7238880" y="5308560"/>
              <a:ext cx="12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驶向胜利的彼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842920" y="-360"/>
            <a:ext cx="41907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定理与逆定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035"/>
          <p:cNvSpPr/>
          <p:nvPr/>
        </p:nvSpPr>
        <p:spPr>
          <a:xfrm>
            <a:off x="201600" y="2852640"/>
            <a:ext cx="876312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已经学习了一些互逆的定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勾股定理及其逆定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两直线平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错角相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错角相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两直线平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037"/>
          <p:cNvSpPr/>
          <p:nvPr/>
        </p:nvSpPr>
        <p:spPr>
          <a:xfrm>
            <a:off x="250920" y="981000"/>
            <a:ext cx="830556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一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定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逆命题经过证明是真命题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那么它是一个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定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这两个定理称为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互逆定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一个定理称另一个定理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逆定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2"/>
          <p:cNvSpPr/>
          <p:nvPr/>
        </p:nvSpPr>
        <p:spPr>
          <a:xfrm>
            <a:off x="152280" y="1197000"/>
            <a:ext cx="8991720" cy="41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两条直线平行，内错角相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两个实数相等，那么它们的平方相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3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如果两个实数相等，那么它们的绝对值相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(4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全等三角形的对应角相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3"/>
          <p:cNvSpPr/>
          <p:nvPr/>
        </p:nvSpPr>
        <p:spPr>
          <a:xfrm>
            <a:off x="304920" y="76500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说出下列命题的逆命题．这些命题的逆命题成立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"/>
          <p:cNvSpPr/>
          <p:nvPr/>
        </p:nvSpPr>
        <p:spPr>
          <a:xfrm>
            <a:off x="0" y="198792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逆命题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: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内错角相等，两条直线平行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成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"/>
          <p:cNvSpPr/>
          <p:nvPr/>
        </p:nvSpPr>
        <p:spPr>
          <a:xfrm>
            <a:off x="0" y="30675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逆命题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如果两个实数的平方相等，那么这两个实数相等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不成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6"/>
          <p:cNvSpPr/>
          <p:nvPr/>
        </p:nvSpPr>
        <p:spPr>
          <a:xfrm>
            <a:off x="0" y="4364640"/>
            <a:ext cx="95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逆命题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如果两个实数的绝对值相等，那么这两个实数相等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不成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250920" y="53726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逆命题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对应角相等的两个三角形是全等三角形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宋体"/>
              </a:rPr>
              <a:t>不成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9"/>
          <p:cNvSpPr/>
          <p:nvPr/>
        </p:nvSpPr>
        <p:spPr>
          <a:xfrm>
            <a:off x="34920" y="5882400"/>
            <a:ext cx="8858160" cy="581400"/>
          </a:xfrm>
          <a:prstGeom prst="rect">
            <a:avLst/>
          </a:prstGeom>
          <a:noFill/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感悟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: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原命题成立时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逆命题有时成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时不成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Group 12"/>
          <p:cNvGrpSpPr/>
          <p:nvPr/>
        </p:nvGrpSpPr>
        <p:grpSpPr>
          <a:xfrm>
            <a:off x="539640" y="-1440"/>
            <a:ext cx="3581280" cy="686880"/>
            <a:chOff x="539640" y="-1440"/>
            <a:chExt cx="3581280" cy="686880"/>
          </a:xfrm>
        </p:grpSpPr>
        <p:grpSp>
          <p:nvGrpSpPr>
            <p:cNvPr id="467" name="Group 13"/>
            <p:cNvGrpSpPr/>
            <p:nvPr/>
          </p:nvGrpSpPr>
          <p:grpSpPr>
            <a:xfrm>
              <a:off x="539640" y="-1440"/>
              <a:ext cx="2361960" cy="519840"/>
              <a:chOff x="539640" y="-1440"/>
              <a:chExt cx="2361960" cy="519840"/>
            </a:xfrm>
          </p:grpSpPr>
          <p:sp>
            <p:nvSpPr>
              <p:cNvPr id="468" name="Rectangle 14"/>
              <p:cNvSpPr/>
              <p:nvPr/>
            </p:nvSpPr>
            <p:spPr>
              <a:xfrm>
                <a:off x="539640" y="471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试一试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Rectangle 15"/>
              <p:cNvSpPr/>
              <p:nvPr/>
            </p:nvSpPr>
            <p:spPr>
              <a:xfrm>
                <a:off x="2419200" y="-1440"/>
                <a:ext cx="18360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0" name="Picture 16" descr="678"/>
            <p:cNvPicPr/>
            <p:nvPr/>
          </p:nvPicPr>
          <p:blipFill>
            <a:blip r:embed="rId1"/>
            <a:stretch/>
          </p:blipFill>
          <p:spPr>
            <a:xfrm>
              <a:off x="2901600" y="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1" name="Picture 17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39640" y="15228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2" name="Rectangle 18"/>
          <p:cNvSpPr/>
          <p:nvPr/>
        </p:nvSpPr>
        <p:spPr>
          <a:xfrm>
            <a:off x="1116000" y="5907240"/>
            <a:ext cx="7704000" cy="533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个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命题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真命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它逆命题却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一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真命题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1046"/>
          <p:cNvSpPr/>
          <p:nvPr/>
        </p:nvSpPr>
        <p:spPr>
          <a:xfrm>
            <a:off x="34920" y="1268280"/>
            <a:ext cx="931536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例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1  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判断由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r>
              <a:rPr b="1" i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b</a:t>
            </a:r>
            <a:r>
              <a:rPr b="1" i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、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组成的三角形是不是直角三角形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(1)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15 ,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b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8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17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047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1341360"/>
          </a:xfrm>
          <a:prstGeom prst="rect">
            <a:avLst/>
          </a:prstGeom>
          <a:ln w="0">
            <a:noFill/>
          </a:ln>
        </p:spPr>
      </p:pic>
      <p:grpSp>
        <p:nvGrpSpPr>
          <p:cNvPr id="475" name="Group 1048"/>
          <p:cNvGrpSpPr/>
          <p:nvPr/>
        </p:nvGrpSpPr>
        <p:grpSpPr>
          <a:xfrm>
            <a:off x="2268360" y="258840"/>
            <a:ext cx="3581280" cy="686880"/>
            <a:chOff x="2268360" y="258840"/>
            <a:chExt cx="3581280" cy="686880"/>
          </a:xfrm>
        </p:grpSpPr>
        <p:grpSp>
          <p:nvGrpSpPr>
            <p:cNvPr id="476" name="Group 1049"/>
            <p:cNvGrpSpPr/>
            <p:nvPr/>
          </p:nvGrpSpPr>
          <p:grpSpPr>
            <a:xfrm>
              <a:off x="2268360" y="258840"/>
              <a:ext cx="2361960" cy="519840"/>
              <a:chOff x="2268360" y="258840"/>
              <a:chExt cx="2361960" cy="519840"/>
            </a:xfrm>
          </p:grpSpPr>
          <p:sp>
            <p:nvSpPr>
              <p:cNvPr id="477" name="Rectangle 1050"/>
              <p:cNvSpPr/>
              <p:nvPr/>
            </p:nvSpPr>
            <p:spPr>
              <a:xfrm>
                <a:off x="2268360" y="3074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例题解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1051"/>
              <p:cNvSpPr/>
              <p:nvPr/>
            </p:nvSpPr>
            <p:spPr>
              <a:xfrm>
                <a:off x="4147920" y="258840"/>
                <a:ext cx="18360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9" name="Picture 1052" descr="678"/>
            <p:cNvPicPr/>
            <p:nvPr/>
          </p:nvPicPr>
          <p:blipFill>
            <a:blip r:embed="rId2"/>
            <a:stretch/>
          </p:blipFill>
          <p:spPr>
            <a:xfrm>
              <a:off x="4630320" y="26028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0" name="Picture 1053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2268360" y="41256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1" name="Text Box 1054"/>
          <p:cNvSpPr/>
          <p:nvPr/>
        </p:nvSpPr>
        <p:spPr>
          <a:xfrm>
            <a:off x="4464000" y="1916280"/>
            <a:ext cx="478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(2)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13 ,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b 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15 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c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55"/>
          <p:cNvSpPr/>
          <p:nvPr/>
        </p:nvSpPr>
        <p:spPr>
          <a:xfrm>
            <a:off x="539640" y="2637000"/>
            <a:ext cx="7667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分析：由勾股定理的逆定理，判断三角形是不是直角三角形，只要看两条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较小边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平方和是否等于</a:t>
            </a:r>
            <a:r>
              <a:rPr b="1" lang="zh-CN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最大边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的平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056"/>
          <p:cNvSpPr/>
          <p:nvPr/>
        </p:nvSpPr>
        <p:spPr>
          <a:xfrm>
            <a:off x="324000" y="4149720"/>
            <a:ext cx="766764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解：∵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15</a:t>
            </a:r>
            <a:r>
              <a:rPr b="1" lang="en-US" sz="3000" spc="-1" strike="noStrike" baseline="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＋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8</a:t>
            </a:r>
            <a:r>
              <a:rPr b="1" lang="en-US" sz="3000" spc="-1" strike="noStrike" baseline="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225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＋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64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28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    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17</a:t>
            </a:r>
            <a:r>
              <a:rPr b="1" lang="en-US" sz="3000" spc="-1" strike="noStrike" baseline="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28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 ∴ 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15</a:t>
            </a:r>
            <a:r>
              <a:rPr b="1" lang="en-US" sz="3000" spc="-1" strike="noStrike" baseline="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＋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8</a:t>
            </a:r>
            <a:r>
              <a:rPr b="1" lang="en-US" sz="3000" spc="-1" strike="noStrike" baseline="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17</a:t>
            </a:r>
            <a:r>
              <a:rPr b="1" lang="en-US" sz="3000" spc="-1" strike="noStrike" baseline="30000">
                <a:solidFill>
                  <a:srgbClr val="333399"/>
                </a:solidFill>
                <a:latin typeface="Times New Roman"/>
                <a:ea typeface="宋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   ∴</a:t>
            </a:r>
            <a:r>
              <a:rPr b="1" lang="zh-CN" sz="3000" spc="-1" strike="noStrike">
                <a:solidFill>
                  <a:srgbClr val="333399"/>
                </a:solidFill>
                <a:latin typeface="Times New Roman"/>
                <a:ea typeface="宋体"/>
              </a:rPr>
              <a:t>这个三角形是直角三角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057"/>
          <p:cNvSpPr/>
          <p:nvPr/>
        </p:nvSpPr>
        <p:spPr>
          <a:xfrm>
            <a:off x="8317080" y="5950080"/>
            <a:ext cx="502920" cy="3585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288" h="21600">
                <a:moveTo>
                  <a:pt x="0" y="0"/>
                </a:moveTo>
                <a:lnTo>
                  <a:pt x="30288" y="0"/>
                </a:lnTo>
                <a:lnTo>
                  <a:pt x="30288" y="21600"/>
                </a:lnTo>
                <a:lnTo>
                  <a:pt x="0" y="21600"/>
                </a:lnTo>
                <a:close/>
              </a:path>
              <a:path fill="lightenLess" w="30288" h="21600">
                <a:moveTo>
                  <a:pt x="0" y="0"/>
                </a:moveTo>
                <a:lnTo>
                  <a:pt x="30288" y="0"/>
                </a:lnTo>
                <a:lnTo>
                  <a:pt x="28888" y="1400"/>
                </a:lnTo>
                <a:lnTo>
                  <a:pt x="1400" y="1400"/>
                </a:lnTo>
                <a:close/>
              </a:path>
              <a:path fill="darken" w="30288" h="21600">
                <a:moveTo>
                  <a:pt x="30288" y="0"/>
                </a:moveTo>
                <a:lnTo>
                  <a:pt x="30288" y="21600"/>
                </a:lnTo>
                <a:lnTo>
                  <a:pt x="28888" y="20200"/>
                </a:lnTo>
                <a:lnTo>
                  <a:pt x="28888" y="1400"/>
                </a:lnTo>
                <a:close/>
              </a:path>
              <a:path fill="darkenLess" w="30288" h="21600">
                <a:moveTo>
                  <a:pt x="3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8" y="20200"/>
                </a:lnTo>
                <a:close/>
              </a:path>
              <a:path fill="lighten" w="3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8" h="21600">
                <a:moveTo>
                  <a:pt x="18643" y="10800"/>
                </a:moveTo>
                <a:lnTo>
                  <a:pt x="8137" y="17806"/>
                </a:lnTo>
                <a:lnTo>
                  <a:pt x="8137" y="3794"/>
                </a:lnTo>
                <a:close/>
              </a:path>
              <a:path fill="darken" w="30288" h="21600">
                <a:moveTo>
                  <a:pt x="20488" y="3794"/>
                </a:moveTo>
                <a:lnTo>
                  <a:pt x="20488" y="17806"/>
                </a:lnTo>
                <a:lnTo>
                  <a:pt x="22150" y="17806"/>
                </a:lnTo>
                <a:lnTo>
                  <a:pt x="2215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文本框 8199"/>
          <p:cNvSpPr/>
          <p:nvPr/>
        </p:nvSpPr>
        <p:spPr>
          <a:xfrm>
            <a:off x="3205080" y="49100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5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2"/>
          <p:cNvSpPr/>
          <p:nvPr/>
        </p:nvSpPr>
        <p:spPr>
          <a:xfrm>
            <a:off x="201600" y="619200"/>
            <a:ext cx="73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例 </a:t>
            </a:r>
            <a:r>
              <a:rPr b="1" lang="en-US" sz="3200" spc="-1" strike="noStrike">
                <a:solidFill>
                  <a:srgbClr val="111111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.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在△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ABC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中，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a=15, b=17, c=8,</a:t>
            </a:r>
            <a:r>
              <a:rPr b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求此三角形的面积</a:t>
            </a:r>
            <a:r>
              <a:rPr b="1" i="1" lang="zh-CN" sz="3200" spc="-1" strike="noStrike">
                <a:solidFill>
                  <a:srgbClr val="111111"/>
                </a:solidFill>
                <a:latin typeface="Arial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1763640" y="3500280"/>
            <a:ext cx="26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Object 4" descr=""/>
          <p:cNvPicPr/>
          <p:nvPr/>
        </p:nvPicPr>
        <p:blipFill>
          <a:blip r:embed="rId1"/>
          <a:stretch/>
        </p:blipFill>
        <p:spPr>
          <a:xfrm>
            <a:off x="611280" y="1700280"/>
            <a:ext cx="3168720" cy="127008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5"/>
          <p:cNvSpPr/>
          <p:nvPr/>
        </p:nvSpPr>
        <p:spPr>
          <a:xfrm>
            <a:off x="539640" y="3141720"/>
            <a:ext cx="475308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  <a:ea typeface="宋体"/>
              </a:rPr>
              <a:t>∴</a:t>
            </a:r>
            <a:r>
              <a:rPr b="1" lang="en-US" sz="1800" spc="-1" strike="noStrike">
                <a:solidFill>
                  <a:srgbClr val="111111"/>
                </a:solidFill>
                <a:latin typeface="Arial"/>
                <a:ea typeface="宋体"/>
              </a:rPr>
              <a:t>△</a:t>
            </a:r>
            <a:r>
              <a:rPr b="1" lang="zh-CN" sz="1800" spc="-1" strike="noStrike">
                <a:solidFill>
                  <a:srgbClr val="111111"/>
                </a:solidFill>
                <a:latin typeface="Arial"/>
                <a:ea typeface="宋体"/>
              </a:rPr>
              <a:t>ＡＢＣ为直角三角形</a:t>
            </a:r>
            <a:r>
              <a:rPr b="1" lang="en-US" sz="1800" spc="-1" strike="noStrike">
                <a:solidFill>
                  <a:srgbClr val="111111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宋体"/>
              </a:rPr>
              <a:t>且∠</a:t>
            </a: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B=90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  <a:ea typeface="宋体"/>
              </a:rPr>
              <a:t>∴ </a:t>
            </a:r>
            <a:r>
              <a:rPr b="1" lang="zh-CN" sz="1800" spc="-1" strike="noStrike">
                <a:solidFill>
                  <a:srgbClr val="111111"/>
                </a:solidFill>
                <a:latin typeface="Arial"/>
                <a:ea typeface="宋体"/>
              </a:rPr>
              <a:t>△</a:t>
            </a:r>
            <a:r>
              <a:rPr b="1" lang="zh-CN" sz="1800" spc="-1" strike="noStrike">
                <a:solidFill>
                  <a:srgbClr val="111111"/>
                </a:solidFill>
                <a:latin typeface="Arial"/>
                <a:ea typeface="宋体"/>
              </a:rPr>
              <a:t>ABC</a:t>
            </a:r>
            <a:r>
              <a:rPr b="1" lang="zh-CN" sz="1800" spc="-1" strike="noStrike">
                <a:solidFill>
                  <a:srgbClr val="111111"/>
                </a:solidFill>
                <a:latin typeface="Arial"/>
                <a:ea typeface="宋体"/>
              </a:rPr>
              <a:t>的面积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Object 6" descr=""/>
          <p:cNvPicPr/>
          <p:nvPr/>
        </p:nvPicPr>
        <p:blipFill>
          <a:blip r:embed="rId2"/>
          <a:stretch/>
        </p:blipFill>
        <p:spPr>
          <a:xfrm>
            <a:off x="2843280" y="3645000"/>
            <a:ext cx="3456000" cy="93636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7"/>
          <p:cNvSpPr/>
          <p:nvPr/>
        </p:nvSpPr>
        <p:spPr>
          <a:xfrm>
            <a:off x="7524720" y="4437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8"/>
          <p:cNvSpPr/>
          <p:nvPr/>
        </p:nvSpPr>
        <p:spPr>
          <a:xfrm>
            <a:off x="6443640" y="285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9"/>
          <p:cNvSpPr/>
          <p:nvPr/>
        </p:nvSpPr>
        <p:spPr>
          <a:xfrm>
            <a:off x="7667640" y="285264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0"/>
          <p:cNvSpPr/>
          <p:nvPr/>
        </p:nvSpPr>
        <p:spPr>
          <a:xfrm>
            <a:off x="8317080" y="429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11"/>
          <p:cNvSpPr/>
          <p:nvPr/>
        </p:nvSpPr>
        <p:spPr>
          <a:xfrm>
            <a:off x="6588000" y="4292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12"/>
          <p:cNvSpPr/>
          <p:nvPr/>
        </p:nvSpPr>
        <p:spPr>
          <a:xfrm>
            <a:off x="6732720" y="1197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7" name=""/>
          <p:cNvGrpSpPr/>
          <p:nvPr/>
        </p:nvGrpSpPr>
        <p:grpSpPr>
          <a:xfrm>
            <a:off x="6948360" y="1628640"/>
            <a:ext cx="360" cy="2808360"/>
            <a:chOff x="6948360" y="1628640"/>
            <a:chExt cx="360" cy="2808360"/>
          </a:xfrm>
        </p:grpSpPr>
        <p:sp>
          <p:nvSpPr>
            <p:cNvPr id="498" name="Line 13"/>
            <p:cNvSpPr/>
            <p:nvPr/>
          </p:nvSpPr>
          <p:spPr>
            <a:xfrm>
              <a:off x="6948360" y="1628640"/>
              <a:ext cx="0" cy="2808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 txBox="1"/>
            <p:nvPr/>
          </p:nvSpPr>
          <p:spPr>
            <a:xfrm>
              <a:off x="6948360" y="1628640"/>
              <a:ext cx="360" cy="280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0" name=""/>
          <p:cNvGrpSpPr/>
          <p:nvPr/>
        </p:nvGrpSpPr>
        <p:grpSpPr>
          <a:xfrm>
            <a:off x="6948360" y="4437000"/>
            <a:ext cx="1368720" cy="360"/>
            <a:chOff x="6948360" y="4437000"/>
            <a:chExt cx="1368720" cy="360"/>
          </a:xfrm>
        </p:grpSpPr>
        <p:sp>
          <p:nvSpPr>
            <p:cNvPr id="501" name="Line 14"/>
            <p:cNvSpPr/>
            <p:nvPr/>
          </p:nvSpPr>
          <p:spPr>
            <a:xfrm>
              <a:off x="6948360" y="4437000"/>
              <a:ext cx="136872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 txBox="1"/>
            <p:nvPr/>
          </p:nvSpPr>
          <p:spPr>
            <a:xfrm>
              <a:off x="6948360" y="4437000"/>
              <a:ext cx="1368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6948360" y="1557360"/>
            <a:ext cx="1368720" cy="2879640"/>
            <a:chOff x="6948360" y="1557360"/>
            <a:chExt cx="1368720" cy="2879640"/>
          </a:xfrm>
        </p:grpSpPr>
        <p:sp>
          <p:nvSpPr>
            <p:cNvPr id="504" name="Line 15"/>
            <p:cNvSpPr/>
            <p:nvPr/>
          </p:nvSpPr>
          <p:spPr>
            <a:xfrm>
              <a:off x="6948360" y="1557360"/>
              <a:ext cx="1368720" cy="2879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 txBox="1"/>
            <p:nvPr/>
          </p:nvSpPr>
          <p:spPr>
            <a:xfrm>
              <a:off x="6948360" y="1557360"/>
              <a:ext cx="1368720" cy="28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6948000" y="1557000"/>
            <a:ext cx="360" cy="142920"/>
            <a:chOff x="6948000" y="1557000"/>
            <a:chExt cx="360" cy="142920"/>
          </a:xfrm>
        </p:grpSpPr>
        <p:sp>
          <p:nvSpPr>
            <p:cNvPr id="507" name="Line 16"/>
            <p:cNvSpPr/>
            <p:nvPr/>
          </p:nvSpPr>
          <p:spPr>
            <a:xfrm flipV="1">
              <a:off x="6948360" y="155700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 txBox="1"/>
            <p:nvPr/>
          </p:nvSpPr>
          <p:spPr>
            <a:xfrm rot="10800000">
              <a:off x="6948000" y="155700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3" descr="BS00554_"/>
          <p:cNvPicPr/>
          <p:nvPr/>
        </p:nvPicPr>
        <p:blipFill>
          <a:blip r:embed="rId1"/>
          <a:stretch/>
        </p:blipFill>
        <p:spPr>
          <a:xfrm>
            <a:off x="144360" y="0"/>
            <a:ext cx="1332000" cy="1162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250920" y="691920"/>
            <a:ext cx="860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下面以</a:t>
            </a:r>
            <a:r>
              <a:rPr b="1" lang="en-US" sz="3400" spc="-1" strike="noStrike">
                <a:solidFill>
                  <a:srgbClr val="0000ff"/>
                </a:solidFill>
                <a:latin typeface="Arial"/>
              </a:rPr>
              <a:t>a,b,c</a:t>
            </a:r>
            <a:r>
              <a:rPr b="1" lang="zh-CN" sz="3400" spc="-1" strike="noStrike">
                <a:solidFill>
                  <a:srgbClr val="0000ff"/>
                </a:solidFill>
                <a:latin typeface="Arial"/>
              </a:rPr>
              <a:t>为边长的三角形是不是直角三角形？如果是那么哪一个角是直角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539640" y="170820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(1) a=25   b=20  c=15      ____      _____ 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539640" y="2421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(2) a=13   b=14    c=15    ____       _____ 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539640" y="3789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(4) a:b: c=3:4:5               _____     _____ 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5292720" y="155736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5364000" y="371484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0"/>
          <p:cNvSpPr/>
          <p:nvPr/>
        </p:nvSpPr>
        <p:spPr>
          <a:xfrm>
            <a:off x="5364000" y="227664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不是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1"/>
          <p:cNvSpPr/>
          <p:nvPr/>
        </p:nvSpPr>
        <p:spPr>
          <a:xfrm>
            <a:off x="5364000" y="285264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2"/>
          <p:cNvSpPr/>
          <p:nvPr/>
        </p:nvSpPr>
        <p:spPr>
          <a:xfrm>
            <a:off x="6372360" y="1557360"/>
            <a:ext cx="25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∠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宋体"/>
              </a:rPr>
              <a:t>A=90</a:t>
            </a:r>
            <a:r>
              <a:rPr b="1" lang="en-US" sz="4000" spc="-1" strike="noStrike" baseline="30000">
                <a:solidFill>
                  <a:srgbClr val="ff3300"/>
                </a:solidFill>
                <a:latin typeface="Times New Roman"/>
                <a:ea typeface="宋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3"/>
          <p:cNvSpPr/>
          <p:nvPr/>
        </p:nvSpPr>
        <p:spPr>
          <a:xfrm>
            <a:off x="6516720" y="3068640"/>
            <a:ext cx="33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∠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B=90</a:t>
            </a:r>
            <a:r>
              <a:rPr b="1" lang="en-US" sz="3600" spc="-1" strike="noStrike" baseline="30000">
                <a:solidFill>
                  <a:srgbClr val="ff3300"/>
                </a:solidFill>
                <a:latin typeface="Times New Roman"/>
                <a:ea typeface="宋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14"/>
          <p:cNvSpPr/>
          <p:nvPr/>
        </p:nvSpPr>
        <p:spPr>
          <a:xfrm>
            <a:off x="6659640" y="372420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∠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C=90</a:t>
            </a:r>
            <a:r>
              <a:rPr b="1" lang="en-US" sz="3600" spc="-1" strike="noStrike" baseline="30000">
                <a:solidFill>
                  <a:srgbClr val="ff3300"/>
                </a:solidFill>
                <a:latin typeface="Times New Roman"/>
                <a:ea typeface="宋体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" name="Group 15"/>
          <p:cNvGrpSpPr/>
          <p:nvPr/>
        </p:nvGrpSpPr>
        <p:grpSpPr>
          <a:xfrm>
            <a:off x="539640" y="3068640"/>
            <a:ext cx="8208720" cy="796680"/>
            <a:chOff x="539640" y="3068640"/>
            <a:chExt cx="8208720" cy="796680"/>
          </a:xfrm>
        </p:grpSpPr>
        <p:sp>
          <p:nvSpPr>
            <p:cNvPr id="522" name="Text Box 16"/>
            <p:cNvSpPr/>
            <p:nvPr/>
          </p:nvSpPr>
          <p:spPr>
            <a:xfrm>
              <a:off x="539640" y="3068640"/>
              <a:ext cx="8208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3) a=1  b=2   c=              ____       _____ ;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3" name="Object 17" descr=""/>
            <p:cNvPicPr/>
            <p:nvPr/>
          </p:nvPicPr>
          <p:blipFill>
            <a:blip r:embed="rId2"/>
            <a:stretch/>
          </p:blipFill>
          <p:spPr>
            <a:xfrm>
              <a:off x="3837960" y="3068640"/>
              <a:ext cx="649080" cy="79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4" name="Text Box 18"/>
          <p:cNvSpPr/>
          <p:nvPr/>
        </p:nvSpPr>
        <p:spPr>
          <a:xfrm>
            <a:off x="684360" y="4581360"/>
            <a:ext cx="7704000" cy="1483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5,20,15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能够成为直角三角形三条边长的三个正整数，称为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勾股数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宋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9"/>
          <p:cNvSpPr/>
          <p:nvPr/>
        </p:nvSpPr>
        <p:spPr>
          <a:xfrm>
            <a:off x="8388360" y="6237360"/>
            <a:ext cx="503280" cy="3585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309" h="21600">
                <a:moveTo>
                  <a:pt x="0" y="0"/>
                </a:moveTo>
                <a:lnTo>
                  <a:pt x="30309" y="0"/>
                </a:lnTo>
                <a:lnTo>
                  <a:pt x="30309" y="21600"/>
                </a:lnTo>
                <a:lnTo>
                  <a:pt x="0" y="21600"/>
                </a:lnTo>
                <a:close/>
              </a:path>
              <a:path fill="lightenLess" w="30309" h="21600">
                <a:moveTo>
                  <a:pt x="0" y="0"/>
                </a:moveTo>
                <a:lnTo>
                  <a:pt x="30309" y="0"/>
                </a:lnTo>
                <a:lnTo>
                  <a:pt x="28909" y="1400"/>
                </a:lnTo>
                <a:lnTo>
                  <a:pt x="1400" y="1400"/>
                </a:lnTo>
                <a:close/>
              </a:path>
              <a:path fill="darken" w="30309" h="21600">
                <a:moveTo>
                  <a:pt x="30309" y="0"/>
                </a:moveTo>
                <a:lnTo>
                  <a:pt x="30309" y="21600"/>
                </a:lnTo>
                <a:lnTo>
                  <a:pt x="28909" y="20200"/>
                </a:lnTo>
                <a:lnTo>
                  <a:pt x="28909" y="1400"/>
                </a:lnTo>
                <a:close/>
              </a:path>
              <a:path fill="darkenLess" w="30309" h="21600">
                <a:moveTo>
                  <a:pt x="303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909" y="20200"/>
                </a:lnTo>
                <a:close/>
              </a:path>
              <a:path fill="lighten" w="303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309" h="21600">
                <a:moveTo>
                  <a:pt x="18654" y="10800"/>
                </a:moveTo>
                <a:lnTo>
                  <a:pt x="8148" y="17806"/>
                </a:lnTo>
                <a:lnTo>
                  <a:pt x="8148" y="3794"/>
                </a:lnTo>
                <a:close/>
              </a:path>
              <a:path fill="darken" w="30309" h="21600">
                <a:moveTo>
                  <a:pt x="20499" y="3794"/>
                </a:moveTo>
                <a:lnTo>
                  <a:pt x="20499" y="17806"/>
                </a:lnTo>
                <a:lnTo>
                  <a:pt x="22161" y="17806"/>
                </a:lnTo>
                <a:lnTo>
                  <a:pt x="22161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4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0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1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WordArt 4"/>
          <p:cNvSpPr txBox="1"/>
          <p:nvPr/>
        </p:nvSpPr>
        <p:spPr>
          <a:xfrm>
            <a:off x="611280" y="2060640"/>
            <a:ext cx="7561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勾股定理的逆定理</a:t>
            </a:r>
            <a:r>
              <a:rPr b="0" lang="en-US" sz="2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华文行楷"/>
              </a:rPr>
              <a:t>(2)</a:t>
            </a:r>
            <a:endParaRPr b="0" lang="en-US" sz="28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华文行楷"/>
              <a:ea typeface="华文行楷"/>
            </a:endParaRPr>
          </a:p>
        </p:txBody>
      </p:sp>
    </p:spTree>
  </p:cSld>
  <p:transition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Group 2"/>
          <p:cNvGrpSpPr/>
          <p:nvPr/>
        </p:nvGrpSpPr>
        <p:grpSpPr>
          <a:xfrm>
            <a:off x="152280" y="1432080"/>
            <a:ext cx="8915400" cy="4665600"/>
            <a:chOff x="152280" y="1432080"/>
            <a:chExt cx="8915400" cy="4665600"/>
          </a:xfrm>
        </p:grpSpPr>
        <p:sp>
          <p:nvSpPr>
            <p:cNvPr id="528" name="Text Box 3"/>
            <p:cNvSpPr/>
            <p:nvPr/>
          </p:nvSpPr>
          <p:spPr>
            <a:xfrm>
              <a:off x="6172200" y="4175280"/>
              <a:ext cx="60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9" name="Group 4"/>
            <p:cNvGrpSpPr/>
            <p:nvPr/>
          </p:nvGrpSpPr>
          <p:grpSpPr>
            <a:xfrm>
              <a:off x="534960" y="2931840"/>
              <a:ext cx="3628800" cy="2937240"/>
              <a:chOff x="534960" y="2931840"/>
              <a:chExt cx="3628800" cy="2937240"/>
            </a:xfrm>
          </p:grpSpPr>
          <p:sp>
            <p:nvSpPr>
              <p:cNvPr id="530" name="AutoShape 5"/>
              <p:cNvSpPr/>
              <p:nvPr/>
            </p:nvSpPr>
            <p:spPr>
              <a:xfrm>
                <a:off x="825480" y="4708440"/>
                <a:ext cx="609480" cy="8380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AutoShape 6"/>
              <p:cNvSpPr/>
              <p:nvPr/>
            </p:nvSpPr>
            <p:spPr>
              <a:xfrm rot="19416000">
                <a:off x="847440" y="3709440"/>
                <a:ext cx="2971800" cy="1066680"/>
              </a:xfrm>
              <a:prstGeom prst="rtTriangle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Rectangle 7"/>
              <p:cNvSpPr/>
              <p:nvPr/>
            </p:nvSpPr>
            <p:spPr>
              <a:xfrm>
                <a:off x="610920" y="54543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Rectangle 8"/>
              <p:cNvSpPr/>
              <p:nvPr/>
            </p:nvSpPr>
            <p:spPr>
              <a:xfrm>
                <a:off x="1360800" y="54702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Rectangle 9"/>
              <p:cNvSpPr/>
              <p:nvPr/>
            </p:nvSpPr>
            <p:spPr>
              <a:xfrm>
                <a:off x="3798720" y="35654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Rectangle 10"/>
              <p:cNvSpPr/>
              <p:nvPr/>
            </p:nvSpPr>
            <p:spPr>
              <a:xfrm>
                <a:off x="534960" y="43876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6" name="Group 11"/>
            <p:cNvGrpSpPr/>
            <p:nvPr/>
          </p:nvGrpSpPr>
          <p:grpSpPr>
            <a:xfrm>
              <a:off x="4802040" y="3160440"/>
              <a:ext cx="3628800" cy="2937240"/>
              <a:chOff x="4802040" y="3160440"/>
              <a:chExt cx="3628800" cy="2937240"/>
            </a:xfrm>
          </p:grpSpPr>
          <p:sp>
            <p:nvSpPr>
              <p:cNvPr id="537" name="AutoShape 12"/>
              <p:cNvSpPr/>
              <p:nvPr/>
            </p:nvSpPr>
            <p:spPr>
              <a:xfrm>
                <a:off x="5092560" y="4937040"/>
                <a:ext cx="609480" cy="838080"/>
              </a:xfrm>
              <a:prstGeom prst="rtTriangl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13"/>
              <p:cNvSpPr/>
              <p:nvPr/>
            </p:nvSpPr>
            <p:spPr>
              <a:xfrm rot="19416000">
                <a:off x="5114520" y="3938040"/>
                <a:ext cx="2971800" cy="1066680"/>
              </a:xfrm>
              <a:prstGeom prst="rtTriangle">
                <a:avLst/>
              </a:prstGeom>
              <a:solidFill>
                <a:srgbClr val="66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Rectangle 14"/>
              <p:cNvSpPr/>
              <p:nvPr/>
            </p:nvSpPr>
            <p:spPr>
              <a:xfrm>
                <a:off x="4878000" y="568296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Rectangle 15"/>
              <p:cNvSpPr/>
              <p:nvPr/>
            </p:nvSpPr>
            <p:spPr>
              <a:xfrm>
                <a:off x="5627880" y="569880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Rectangle 16"/>
              <p:cNvSpPr/>
              <p:nvPr/>
            </p:nvSpPr>
            <p:spPr>
              <a:xfrm>
                <a:off x="8065800" y="379404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Rectangle 17"/>
              <p:cNvSpPr/>
              <p:nvPr/>
            </p:nvSpPr>
            <p:spPr>
              <a:xfrm>
                <a:off x="4802040" y="46162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ff"/>
                    </a:solidFill>
                    <a:latin typeface="Times New Roman"/>
                    <a:ea typeface="宋体"/>
                  </a:rPr>
                  <a:t>D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Rectangle 18"/>
            <p:cNvSpPr/>
            <p:nvPr/>
          </p:nvSpPr>
          <p:spPr>
            <a:xfrm>
              <a:off x="5258880" y="56833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9"/>
            <p:cNvSpPr/>
            <p:nvPr/>
          </p:nvSpPr>
          <p:spPr>
            <a:xfrm>
              <a:off x="4801680" y="5165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20"/>
            <p:cNvSpPr/>
            <p:nvPr/>
          </p:nvSpPr>
          <p:spPr>
            <a:xfrm>
              <a:off x="5411160" y="5165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21"/>
            <p:cNvSpPr/>
            <p:nvPr/>
          </p:nvSpPr>
          <p:spPr>
            <a:xfrm>
              <a:off x="6630120" y="4937040"/>
              <a:ext cx="43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Text Box 22"/>
            <p:cNvSpPr/>
            <p:nvPr/>
          </p:nvSpPr>
          <p:spPr>
            <a:xfrm>
              <a:off x="152280" y="1432080"/>
              <a:ext cx="8915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例 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3  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一个零件的形状如左图所示，按规定这个零件中∠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A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和∠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DBC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都应为直角。工人师傅量得这个零件各边尺寸如右图所示，这个 零件符合要求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8" name="Picture 23" descr=""/>
          <p:cNvPicPr/>
          <p:nvPr/>
        </p:nvPicPr>
        <p:blipFill>
          <a:blip r:embed="rId1"/>
          <a:stretch/>
        </p:blipFill>
        <p:spPr>
          <a:xfrm>
            <a:off x="0" y="0"/>
            <a:ext cx="1752480" cy="1341360"/>
          </a:xfrm>
          <a:prstGeom prst="rect">
            <a:avLst/>
          </a:prstGeom>
          <a:ln w="0">
            <a:noFill/>
          </a:ln>
        </p:spPr>
      </p:pic>
      <p:grpSp>
        <p:nvGrpSpPr>
          <p:cNvPr id="549" name="Group 24"/>
          <p:cNvGrpSpPr/>
          <p:nvPr/>
        </p:nvGrpSpPr>
        <p:grpSpPr>
          <a:xfrm>
            <a:off x="2268360" y="258840"/>
            <a:ext cx="3581280" cy="686880"/>
            <a:chOff x="2268360" y="258840"/>
            <a:chExt cx="3581280" cy="686880"/>
          </a:xfrm>
        </p:grpSpPr>
        <p:grpSp>
          <p:nvGrpSpPr>
            <p:cNvPr id="550" name="Group 25"/>
            <p:cNvGrpSpPr/>
            <p:nvPr/>
          </p:nvGrpSpPr>
          <p:grpSpPr>
            <a:xfrm>
              <a:off x="2268360" y="258840"/>
              <a:ext cx="2361960" cy="519840"/>
              <a:chOff x="2268360" y="258840"/>
              <a:chExt cx="2361960" cy="519840"/>
            </a:xfrm>
          </p:grpSpPr>
          <p:sp>
            <p:nvSpPr>
              <p:cNvPr id="551" name="Rectangle 26"/>
              <p:cNvSpPr/>
              <p:nvPr/>
            </p:nvSpPr>
            <p:spPr>
              <a:xfrm>
                <a:off x="2268360" y="30744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例题解析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Rectangle 27"/>
              <p:cNvSpPr/>
              <p:nvPr/>
            </p:nvSpPr>
            <p:spPr>
              <a:xfrm>
                <a:off x="4147920" y="258840"/>
                <a:ext cx="18360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3" name="Picture 28" descr="678"/>
            <p:cNvPicPr/>
            <p:nvPr/>
          </p:nvPicPr>
          <p:blipFill>
            <a:blip r:embed="rId2"/>
            <a:stretch/>
          </p:blipFill>
          <p:spPr>
            <a:xfrm>
              <a:off x="4630320" y="26028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4" name="Picture 29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2268360" y="41256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5" name="AutoShape 30"/>
          <p:cNvSpPr/>
          <p:nvPr/>
        </p:nvSpPr>
        <p:spPr>
          <a:xfrm>
            <a:off x="8317080" y="5950080"/>
            <a:ext cx="502920" cy="3585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288" h="21600">
                <a:moveTo>
                  <a:pt x="0" y="0"/>
                </a:moveTo>
                <a:lnTo>
                  <a:pt x="30288" y="0"/>
                </a:lnTo>
                <a:lnTo>
                  <a:pt x="30288" y="21600"/>
                </a:lnTo>
                <a:lnTo>
                  <a:pt x="0" y="21600"/>
                </a:lnTo>
                <a:close/>
              </a:path>
              <a:path fill="lightenLess" w="30288" h="21600">
                <a:moveTo>
                  <a:pt x="0" y="0"/>
                </a:moveTo>
                <a:lnTo>
                  <a:pt x="30288" y="0"/>
                </a:lnTo>
                <a:lnTo>
                  <a:pt x="28888" y="1400"/>
                </a:lnTo>
                <a:lnTo>
                  <a:pt x="1400" y="1400"/>
                </a:lnTo>
                <a:close/>
              </a:path>
              <a:path fill="darken" w="30288" h="21600">
                <a:moveTo>
                  <a:pt x="30288" y="0"/>
                </a:moveTo>
                <a:lnTo>
                  <a:pt x="30288" y="21600"/>
                </a:lnTo>
                <a:lnTo>
                  <a:pt x="28888" y="20200"/>
                </a:lnTo>
                <a:lnTo>
                  <a:pt x="28888" y="1400"/>
                </a:lnTo>
                <a:close/>
              </a:path>
              <a:path fill="darkenLess" w="30288" h="21600">
                <a:moveTo>
                  <a:pt x="3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8" y="20200"/>
                </a:lnTo>
                <a:close/>
              </a:path>
              <a:path fill="lighten" w="3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8" h="21600">
                <a:moveTo>
                  <a:pt x="18643" y="10800"/>
                </a:moveTo>
                <a:lnTo>
                  <a:pt x="8137" y="17806"/>
                </a:lnTo>
                <a:lnTo>
                  <a:pt x="8137" y="3794"/>
                </a:lnTo>
                <a:close/>
              </a:path>
              <a:path fill="darken" w="30288" h="21600">
                <a:moveTo>
                  <a:pt x="20488" y="3794"/>
                </a:moveTo>
                <a:lnTo>
                  <a:pt x="20488" y="17806"/>
                </a:lnTo>
                <a:lnTo>
                  <a:pt x="22150" y="17806"/>
                </a:lnTo>
                <a:lnTo>
                  <a:pt x="2215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4"/>
          <p:cNvSpPr txBox="1"/>
          <p:nvPr/>
        </p:nvSpPr>
        <p:spPr>
          <a:xfrm>
            <a:off x="468360" y="404640"/>
            <a:ext cx="2643120" cy="59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回忆过去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811160" y="1579680"/>
            <a:ext cx="42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直角三角形有哪些性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2194560" y="2852640"/>
            <a:ext cx="51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如何判断三角形是直角三角形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324000" y="333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3333cc"/>
                </a:solidFill>
                <a:latin typeface="Times New Roman"/>
              </a:rPr>
              <a:t>例</a:t>
            </a:r>
            <a:r>
              <a:rPr b="0" lang="en-US" sz="41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zh-CN" sz="41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0" lang="zh-CN" sz="4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远航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号、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海天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号轮船同时离开港口，各自沿一固定方向航行，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远航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号每小时航行</a:t>
            </a: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海里，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海天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号每小时航行</a:t>
            </a: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海里。它们离开港口</a:t>
            </a:r>
            <a:r>
              <a:rPr b="1" lang="zh-CN" sz="3700" spc="-1" strike="noStrike">
                <a:solidFill>
                  <a:srgbClr val="ff0000"/>
                </a:solidFill>
                <a:latin typeface="Times New Roman"/>
              </a:rPr>
              <a:t>一个半小时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后相距</a:t>
            </a:r>
            <a:r>
              <a:rPr b="1" lang="en-US" sz="3700" spc="-1" strike="noStrike">
                <a:solidFill>
                  <a:srgbClr val="ff0000"/>
                </a:solidFill>
                <a:latin typeface="Times New Roman"/>
              </a:rPr>
              <a:t>30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海里。如果知道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远航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号沿</a:t>
            </a:r>
            <a:r>
              <a:rPr b="1" lang="zh-CN" sz="3700" spc="-1" strike="noStrike">
                <a:solidFill>
                  <a:srgbClr val="3333cc"/>
                </a:solidFill>
                <a:latin typeface="Times New Roman"/>
              </a:rPr>
              <a:t>东北方向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航行，能知道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海天</a:t>
            </a:r>
            <a:r>
              <a:rPr b="1" lang="zh-CN" sz="37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700" spc="-1" strike="noStrike">
                <a:solidFill>
                  <a:srgbClr val="000000"/>
                </a:solidFill>
                <a:latin typeface="Times New Roman"/>
              </a:rPr>
              <a:t>号沿哪个方向航行吗？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3"/>
          <p:cNvGrpSpPr/>
          <p:nvPr/>
        </p:nvGrpSpPr>
        <p:grpSpPr>
          <a:xfrm>
            <a:off x="4355640" y="4437000"/>
            <a:ext cx="3810600" cy="2590920"/>
            <a:chOff x="4355640" y="4437000"/>
            <a:chExt cx="3810600" cy="2590920"/>
          </a:xfrm>
        </p:grpSpPr>
        <p:grpSp>
          <p:nvGrpSpPr>
            <p:cNvPr id="558" name="Group 4"/>
            <p:cNvGrpSpPr/>
            <p:nvPr/>
          </p:nvGrpSpPr>
          <p:grpSpPr>
            <a:xfrm>
              <a:off x="4584600" y="4437000"/>
              <a:ext cx="3374640" cy="2590920"/>
              <a:chOff x="4584600" y="4437000"/>
              <a:chExt cx="3374640" cy="259092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5270040" y="5122800"/>
                <a:ext cx="1753200" cy="457200"/>
                <a:chOff x="5270040" y="5122800"/>
                <a:chExt cx="1753200" cy="457200"/>
              </a:xfrm>
            </p:grpSpPr>
            <p:sp>
              <p:nvSpPr>
                <p:cNvPr id="560" name="Line 5"/>
                <p:cNvSpPr/>
                <p:nvPr/>
              </p:nvSpPr>
              <p:spPr>
                <a:xfrm flipV="1">
                  <a:off x="5270400" y="5122800"/>
                  <a:ext cx="175284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 txBox="1"/>
                <p:nvPr/>
              </p:nvSpPr>
              <p:spPr>
                <a:xfrm rot="10800000">
                  <a:off x="5270040" y="5122800"/>
                  <a:ext cx="175284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Group 6"/>
              <p:cNvGrpSpPr/>
              <p:nvPr/>
            </p:nvGrpSpPr>
            <p:grpSpPr>
              <a:xfrm>
                <a:off x="4584600" y="4437000"/>
                <a:ext cx="3374640" cy="2590920"/>
                <a:chOff x="4584600" y="4437000"/>
                <a:chExt cx="3374640" cy="2590920"/>
              </a:xfrm>
            </p:grpSpPr>
            <p:grpSp>
              <p:nvGrpSpPr>
                <p:cNvPr id="563" name=""/>
                <p:cNvGrpSpPr/>
                <p:nvPr/>
              </p:nvGrpSpPr>
              <p:grpSpPr>
                <a:xfrm>
                  <a:off x="4584600" y="6265800"/>
                  <a:ext cx="2971800" cy="360"/>
                  <a:chOff x="4584600" y="6265800"/>
                  <a:chExt cx="2971800" cy="360"/>
                </a:xfrm>
              </p:grpSpPr>
              <p:sp>
                <p:nvSpPr>
                  <p:cNvPr id="564" name="Line 7"/>
                  <p:cNvSpPr/>
                  <p:nvPr/>
                </p:nvSpPr>
                <p:spPr>
                  <a:xfrm>
                    <a:off x="4584600" y="6265800"/>
                    <a:ext cx="297180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 txBox="1"/>
                  <p:nvPr/>
                </p:nvSpPr>
                <p:spPr>
                  <a:xfrm>
                    <a:off x="4584600" y="6265800"/>
                    <a:ext cx="29718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6" name=""/>
                <p:cNvGrpSpPr/>
                <p:nvPr/>
              </p:nvGrpSpPr>
              <p:grpSpPr>
                <a:xfrm>
                  <a:off x="5880240" y="4513320"/>
                  <a:ext cx="360" cy="2514600"/>
                  <a:chOff x="5880240" y="4513320"/>
                  <a:chExt cx="360" cy="2514600"/>
                </a:xfrm>
              </p:grpSpPr>
              <p:sp>
                <p:nvSpPr>
                  <p:cNvPr id="567" name="Line 8"/>
                  <p:cNvSpPr/>
                  <p:nvPr/>
                </p:nvSpPr>
                <p:spPr>
                  <a:xfrm>
                    <a:off x="5880240" y="4513320"/>
                    <a:ext cx="0" cy="2514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round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 txBox="1"/>
                  <p:nvPr/>
                </p:nvSpPr>
                <p:spPr>
                  <a:xfrm>
                    <a:off x="5880240" y="4513320"/>
                    <a:ext cx="360" cy="2514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9" name=""/>
                <p:cNvGrpSpPr/>
                <p:nvPr/>
              </p:nvGrpSpPr>
              <p:grpSpPr>
                <a:xfrm>
                  <a:off x="5270400" y="5580000"/>
                  <a:ext cx="609840" cy="685800"/>
                  <a:chOff x="5270400" y="5580000"/>
                  <a:chExt cx="609840" cy="685800"/>
                </a:xfrm>
              </p:grpSpPr>
              <p:sp>
                <p:nvSpPr>
                  <p:cNvPr id="570" name="Line 9"/>
                  <p:cNvSpPr/>
                  <p:nvPr/>
                </p:nvSpPr>
                <p:spPr>
                  <a:xfrm>
                    <a:off x="5270400" y="5580000"/>
                    <a:ext cx="609840" cy="685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 txBox="1"/>
                  <p:nvPr/>
                </p:nvSpPr>
                <p:spPr>
                  <a:xfrm>
                    <a:off x="5270400" y="5580000"/>
                    <a:ext cx="609840" cy="685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2" name=""/>
                <p:cNvGrpSpPr/>
                <p:nvPr/>
              </p:nvGrpSpPr>
              <p:grpSpPr>
                <a:xfrm>
                  <a:off x="5879880" y="5122440"/>
                  <a:ext cx="1143360" cy="1143000"/>
                  <a:chOff x="5879880" y="5122440"/>
                  <a:chExt cx="1143360" cy="1143000"/>
                </a:xfrm>
              </p:grpSpPr>
              <p:sp>
                <p:nvSpPr>
                  <p:cNvPr id="573" name="Line 10"/>
                  <p:cNvSpPr/>
                  <p:nvPr/>
                </p:nvSpPr>
                <p:spPr>
                  <a:xfrm flipV="1">
                    <a:off x="5880240" y="5122440"/>
                    <a:ext cx="1143000" cy="11430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 txBox="1"/>
                  <p:nvPr/>
                </p:nvSpPr>
                <p:spPr>
                  <a:xfrm rot="10800000">
                    <a:off x="5879880" y="5122440"/>
                    <a:ext cx="114300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75" name="Text Box 11"/>
                <p:cNvSpPr/>
                <p:nvPr/>
              </p:nvSpPr>
              <p:spPr>
                <a:xfrm>
                  <a:off x="5882400" y="618948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P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Text Box 12"/>
                <p:cNvSpPr/>
                <p:nvPr/>
              </p:nvSpPr>
              <p:spPr>
                <a:xfrm>
                  <a:off x="7542360" y="5951520"/>
                  <a:ext cx="4168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E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Text Box 13"/>
                <p:cNvSpPr/>
                <p:nvPr/>
              </p:nvSpPr>
              <p:spPr>
                <a:xfrm>
                  <a:off x="6932880" y="4808520"/>
                  <a:ext cx="4564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Q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Text Box 14"/>
                <p:cNvSpPr/>
                <p:nvPr/>
              </p:nvSpPr>
              <p:spPr>
                <a:xfrm>
                  <a:off x="4815360" y="535140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R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Text Box 15"/>
                <p:cNvSpPr/>
                <p:nvPr/>
              </p:nvSpPr>
              <p:spPr>
                <a:xfrm>
                  <a:off x="5958360" y="4437000"/>
                  <a:ext cx="4366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00"/>
                      </a:solidFill>
                      <a:latin typeface="Times New Roman"/>
                      <a:ea typeface="宋体"/>
                    </a:rPr>
                    <a:t>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0" name="Group 16"/>
            <p:cNvGrpSpPr/>
            <p:nvPr/>
          </p:nvGrpSpPr>
          <p:grpSpPr>
            <a:xfrm>
              <a:off x="4355640" y="4589640"/>
              <a:ext cx="3810600" cy="990360"/>
              <a:chOff x="4355640" y="4589640"/>
              <a:chExt cx="3810600" cy="990360"/>
            </a:xfrm>
          </p:grpSpPr>
          <p:sp>
            <p:nvSpPr>
              <p:cNvPr id="581" name="Oval 17"/>
              <p:cNvSpPr/>
              <p:nvPr/>
            </p:nvSpPr>
            <p:spPr>
              <a:xfrm flipV="1">
                <a:off x="6870600" y="5199120"/>
                <a:ext cx="91440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远航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AutoShape 18"/>
              <p:cNvSpPr/>
              <p:nvPr/>
            </p:nvSpPr>
            <p:spPr>
              <a:xfrm>
                <a:off x="7404120" y="4818240"/>
                <a:ext cx="762120" cy="22860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3" name=""/>
              <p:cNvGrpSpPr/>
              <p:nvPr/>
            </p:nvGrpSpPr>
            <p:grpSpPr>
              <a:xfrm>
                <a:off x="7480440" y="5046840"/>
                <a:ext cx="360" cy="228600"/>
                <a:chOff x="7480440" y="5046840"/>
                <a:chExt cx="360" cy="228600"/>
              </a:xfrm>
            </p:grpSpPr>
            <p:sp>
              <p:nvSpPr>
                <p:cNvPr id="584" name="Line 19"/>
                <p:cNvSpPr/>
                <p:nvPr/>
              </p:nvSpPr>
              <p:spPr>
                <a:xfrm>
                  <a:off x="7480440" y="5046840"/>
                  <a:ext cx="0" cy="22860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 txBox="1"/>
                <p:nvPr/>
              </p:nvSpPr>
              <p:spPr>
                <a:xfrm>
                  <a:off x="7480440" y="5046840"/>
                  <a:ext cx="36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Oval 20"/>
              <p:cNvSpPr/>
              <p:nvPr/>
            </p:nvSpPr>
            <p:spPr>
              <a:xfrm>
                <a:off x="4356000" y="5046840"/>
                <a:ext cx="1067040" cy="3808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海天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AutoShape 21"/>
              <p:cNvSpPr/>
              <p:nvPr/>
            </p:nvSpPr>
            <p:spPr>
              <a:xfrm flipH="1">
                <a:off x="4355280" y="4589640"/>
                <a:ext cx="685800" cy="228600"/>
              </a:xfrm>
              <a:prstGeom prst="rtTriangl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8" name=""/>
              <p:cNvGrpSpPr/>
              <p:nvPr/>
            </p:nvGrpSpPr>
            <p:grpSpPr>
              <a:xfrm>
                <a:off x="4889520" y="4818240"/>
                <a:ext cx="360" cy="304560"/>
                <a:chOff x="4889520" y="4818240"/>
                <a:chExt cx="360" cy="304560"/>
              </a:xfrm>
            </p:grpSpPr>
            <p:sp>
              <p:nvSpPr>
                <p:cNvPr id="589" name="Line 22"/>
                <p:cNvSpPr/>
                <p:nvPr/>
              </p:nvSpPr>
              <p:spPr>
                <a:xfrm>
                  <a:off x="4889520" y="4818240"/>
                  <a:ext cx="0" cy="304560"/>
                </a:xfrm>
                <a:prstGeom prst="line">
                  <a:avLst/>
                </a:prstGeom>
                <a:ln w="284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 txBox="1"/>
                <p:nvPr/>
              </p:nvSpPr>
              <p:spPr>
                <a:xfrm>
                  <a:off x="4889520" y="4818240"/>
                  <a:ext cx="360" cy="304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blinds dir="vert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8001000" y="1828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Object 4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304120" cy="158436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5"/>
          <p:cNvSpPr/>
          <p:nvPr/>
        </p:nvSpPr>
        <p:spPr>
          <a:xfrm>
            <a:off x="539640" y="2781360"/>
            <a:ext cx="781236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锐角三角形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直角三角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钝角三角形    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等边三角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nt"/>
          <p:cNvSpPr/>
          <p:nvPr/>
        </p:nvSpPr>
        <p:spPr>
          <a:xfrm>
            <a:off x="539640" y="5013360"/>
            <a:ext cx="1368360" cy="1081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368" y="9002"/>
                </a:moveTo>
                <a:lnTo>
                  <a:pt x="9254" y="8422"/>
                </a:lnTo>
                <a:lnTo>
                  <a:pt x="9139" y="7935"/>
                </a:lnTo>
                <a:lnTo>
                  <a:pt x="8819" y="7355"/>
                </a:lnTo>
                <a:lnTo>
                  <a:pt x="8475" y="6728"/>
                </a:lnTo>
                <a:lnTo>
                  <a:pt x="8040" y="6287"/>
                </a:lnTo>
                <a:lnTo>
                  <a:pt x="7421" y="5707"/>
                </a:lnTo>
                <a:lnTo>
                  <a:pt x="6574" y="5429"/>
                </a:lnTo>
                <a:lnTo>
                  <a:pt x="5452" y="5313"/>
                </a:lnTo>
                <a:lnTo>
                  <a:pt x="4856" y="5220"/>
                </a:lnTo>
                <a:lnTo>
                  <a:pt x="4169" y="5220"/>
                </a:lnTo>
                <a:lnTo>
                  <a:pt x="3665" y="5104"/>
                </a:lnTo>
                <a:lnTo>
                  <a:pt x="3001" y="4872"/>
                </a:lnTo>
                <a:lnTo>
                  <a:pt x="2497" y="4756"/>
                </a:lnTo>
                <a:lnTo>
                  <a:pt x="2062" y="4408"/>
                </a:lnTo>
                <a:lnTo>
                  <a:pt x="1603" y="4083"/>
                </a:lnTo>
                <a:lnTo>
                  <a:pt x="1283" y="3689"/>
                </a:lnTo>
                <a:lnTo>
                  <a:pt x="1283" y="4315"/>
                </a:lnTo>
                <a:lnTo>
                  <a:pt x="1489" y="5104"/>
                </a:lnTo>
                <a:lnTo>
                  <a:pt x="1832" y="6055"/>
                </a:lnTo>
                <a:lnTo>
                  <a:pt x="2382" y="6914"/>
                </a:lnTo>
                <a:lnTo>
                  <a:pt x="2680" y="7471"/>
                </a:lnTo>
                <a:lnTo>
                  <a:pt x="3115" y="7935"/>
                </a:lnTo>
                <a:lnTo>
                  <a:pt x="3573" y="8213"/>
                </a:lnTo>
                <a:lnTo>
                  <a:pt x="4077" y="8654"/>
                </a:lnTo>
                <a:lnTo>
                  <a:pt x="4627" y="9002"/>
                </a:lnTo>
                <a:lnTo>
                  <a:pt x="5245" y="9234"/>
                </a:lnTo>
                <a:lnTo>
                  <a:pt x="6024" y="9443"/>
                </a:lnTo>
                <a:lnTo>
                  <a:pt x="6757" y="9628"/>
                </a:lnTo>
                <a:lnTo>
                  <a:pt x="5177" y="10069"/>
                </a:lnTo>
                <a:lnTo>
                  <a:pt x="3963" y="10649"/>
                </a:lnTo>
                <a:lnTo>
                  <a:pt x="3344" y="11044"/>
                </a:lnTo>
                <a:lnTo>
                  <a:pt x="2886" y="11600"/>
                </a:lnTo>
                <a:lnTo>
                  <a:pt x="2497" y="12041"/>
                </a:lnTo>
                <a:lnTo>
                  <a:pt x="1947" y="12343"/>
                </a:lnTo>
                <a:lnTo>
                  <a:pt x="1168" y="12668"/>
                </a:lnTo>
                <a:lnTo>
                  <a:pt x="0" y="12900"/>
                </a:lnTo>
                <a:lnTo>
                  <a:pt x="435" y="13248"/>
                </a:lnTo>
                <a:lnTo>
                  <a:pt x="779" y="13456"/>
                </a:lnTo>
                <a:lnTo>
                  <a:pt x="1283" y="13642"/>
                </a:lnTo>
                <a:lnTo>
                  <a:pt x="1718" y="13758"/>
                </a:lnTo>
                <a:lnTo>
                  <a:pt x="2680" y="13851"/>
                </a:lnTo>
                <a:lnTo>
                  <a:pt x="3573" y="13758"/>
                </a:lnTo>
                <a:lnTo>
                  <a:pt x="4512" y="13526"/>
                </a:lnTo>
                <a:lnTo>
                  <a:pt x="5360" y="13248"/>
                </a:lnTo>
                <a:lnTo>
                  <a:pt x="6139" y="12900"/>
                </a:lnTo>
                <a:lnTo>
                  <a:pt x="6757" y="12552"/>
                </a:lnTo>
                <a:lnTo>
                  <a:pt x="6459" y="13132"/>
                </a:lnTo>
                <a:lnTo>
                  <a:pt x="6139" y="13642"/>
                </a:lnTo>
                <a:lnTo>
                  <a:pt x="5910" y="14199"/>
                </a:lnTo>
                <a:lnTo>
                  <a:pt x="5681" y="14663"/>
                </a:lnTo>
                <a:lnTo>
                  <a:pt x="5681" y="15150"/>
                </a:lnTo>
                <a:lnTo>
                  <a:pt x="5681" y="15730"/>
                </a:lnTo>
                <a:lnTo>
                  <a:pt x="5681" y="16241"/>
                </a:lnTo>
                <a:lnTo>
                  <a:pt x="5795" y="16913"/>
                </a:lnTo>
                <a:lnTo>
                  <a:pt x="5910" y="17586"/>
                </a:lnTo>
                <a:lnTo>
                  <a:pt x="5910" y="18213"/>
                </a:lnTo>
                <a:lnTo>
                  <a:pt x="5795" y="18885"/>
                </a:lnTo>
                <a:lnTo>
                  <a:pt x="5566" y="19396"/>
                </a:lnTo>
                <a:lnTo>
                  <a:pt x="5245" y="19976"/>
                </a:lnTo>
                <a:lnTo>
                  <a:pt x="4971" y="20370"/>
                </a:lnTo>
                <a:lnTo>
                  <a:pt x="4512" y="20811"/>
                </a:lnTo>
                <a:lnTo>
                  <a:pt x="4077" y="21043"/>
                </a:lnTo>
                <a:lnTo>
                  <a:pt x="5177" y="20927"/>
                </a:lnTo>
                <a:lnTo>
                  <a:pt x="6253" y="20486"/>
                </a:lnTo>
                <a:lnTo>
                  <a:pt x="7421" y="19976"/>
                </a:lnTo>
                <a:lnTo>
                  <a:pt x="8361" y="19187"/>
                </a:lnTo>
                <a:lnTo>
                  <a:pt x="8819" y="18769"/>
                </a:lnTo>
                <a:lnTo>
                  <a:pt x="9139" y="18213"/>
                </a:lnTo>
                <a:lnTo>
                  <a:pt x="9437" y="17772"/>
                </a:lnTo>
                <a:lnTo>
                  <a:pt x="9643" y="17261"/>
                </a:lnTo>
                <a:lnTo>
                  <a:pt x="9872" y="16681"/>
                </a:lnTo>
                <a:lnTo>
                  <a:pt x="9872" y="16171"/>
                </a:lnTo>
                <a:lnTo>
                  <a:pt x="9872" y="15614"/>
                </a:lnTo>
                <a:lnTo>
                  <a:pt x="9758" y="15057"/>
                </a:lnTo>
                <a:lnTo>
                  <a:pt x="10216" y="15498"/>
                </a:lnTo>
                <a:lnTo>
                  <a:pt x="10537" y="16241"/>
                </a:lnTo>
                <a:lnTo>
                  <a:pt x="10834" y="17145"/>
                </a:lnTo>
                <a:lnTo>
                  <a:pt x="11041" y="18213"/>
                </a:lnTo>
                <a:lnTo>
                  <a:pt x="11155" y="19187"/>
                </a:lnTo>
                <a:lnTo>
                  <a:pt x="11155" y="20185"/>
                </a:lnTo>
                <a:lnTo>
                  <a:pt x="11155" y="20579"/>
                </a:lnTo>
                <a:lnTo>
                  <a:pt x="11041" y="21043"/>
                </a:lnTo>
                <a:lnTo>
                  <a:pt x="10926" y="21391"/>
                </a:lnTo>
                <a:lnTo>
                  <a:pt x="10766" y="21600"/>
                </a:lnTo>
                <a:lnTo>
                  <a:pt x="11499" y="21484"/>
                </a:lnTo>
                <a:lnTo>
                  <a:pt x="12323" y="21043"/>
                </a:lnTo>
                <a:lnTo>
                  <a:pt x="13102" y="20370"/>
                </a:lnTo>
                <a:lnTo>
                  <a:pt x="13606" y="19628"/>
                </a:lnTo>
                <a:lnTo>
                  <a:pt x="13950" y="19071"/>
                </a:lnTo>
                <a:lnTo>
                  <a:pt x="14064" y="18677"/>
                </a:lnTo>
                <a:lnTo>
                  <a:pt x="14179" y="18097"/>
                </a:lnTo>
                <a:lnTo>
                  <a:pt x="14293" y="17586"/>
                </a:lnTo>
                <a:lnTo>
                  <a:pt x="14179" y="16913"/>
                </a:lnTo>
                <a:lnTo>
                  <a:pt x="14064" y="16241"/>
                </a:lnTo>
                <a:lnTo>
                  <a:pt x="13835" y="15614"/>
                </a:lnTo>
                <a:lnTo>
                  <a:pt x="13560" y="14872"/>
                </a:lnTo>
                <a:lnTo>
                  <a:pt x="13950" y="14941"/>
                </a:lnTo>
                <a:lnTo>
                  <a:pt x="14408" y="15150"/>
                </a:lnTo>
                <a:lnTo>
                  <a:pt x="14843" y="15266"/>
                </a:lnTo>
                <a:lnTo>
                  <a:pt x="15232" y="15614"/>
                </a:lnTo>
                <a:lnTo>
                  <a:pt x="15576" y="15846"/>
                </a:lnTo>
                <a:lnTo>
                  <a:pt x="15897" y="16171"/>
                </a:lnTo>
                <a:lnTo>
                  <a:pt x="16126" y="16473"/>
                </a:lnTo>
                <a:lnTo>
                  <a:pt x="16240" y="16913"/>
                </a:lnTo>
                <a:lnTo>
                  <a:pt x="16515" y="17261"/>
                </a:lnTo>
                <a:lnTo>
                  <a:pt x="17088" y="17586"/>
                </a:lnTo>
                <a:lnTo>
                  <a:pt x="17798" y="17865"/>
                </a:lnTo>
                <a:lnTo>
                  <a:pt x="18576" y="18097"/>
                </a:lnTo>
                <a:lnTo>
                  <a:pt x="19424" y="18213"/>
                </a:lnTo>
                <a:lnTo>
                  <a:pt x="20317" y="18213"/>
                </a:lnTo>
                <a:lnTo>
                  <a:pt x="21050" y="18213"/>
                </a:lnTo>
                <a:lnTo>
                  <a:pt x="21600" y="17865"/>
                </a:lnTo>
                <a:lnTo>
                  <a:pt x="21165" y="17656"/>
                </a:lnTo>
                <a:lnTo>
                  <a:pt x="20592" y="17470"/>
                </a:lnTo>
                <a:lnTo>
                  <a:pt x="20088" y="17029"/>
                </a:lnTo>
                <a:lnTo>
                  <a:pt x="19653" y="16681"/>
                </a:lnTo>
                <a:lnTo>
                  <a:pt x="19195" y="16241"/>
                </a:lnTo>
                <a:lnTo>
                  <a:pt x="18920" y="15962"/>
                </a:lnTo>
                <a:lnTo>
                  <a:pt x="18576" y="15498"/>
                </a:lnTo>
                <a:lnTo>
                  <a:pt x="18576" y="15057"/>
                </a:lnTo>
                <a:lnTo>
                  <a:pt x="18485" y="14756"/>
                </a:lnTo>
                <a:lnTo>
                  <a:pt x="18256" y="14199"/>
                </a:lnTo>
                <a:lnTo>
                  <a:pt x="17912" y="13526"/>
                </a:lnTo>
                <a:lnTo>
                  <a:pt x="17523" y="13016"/>
                </a:lnTo>
                <a:lnTo>
                  <a:pt x="16973" y="12436"/>
                </a:lnTo>
                <a:lnTo>
                  <a:pt x="16355" y="12041"/>
                </a:lnTo>
                <a:lnTo>
                  <a:pt x="16011" y="11832"/>
                </a:lnTo>
                <a:lnTo>
                  <a:pt x="15690" y="11716"/>
                </a:lnTo>
                <a:lnTo>
                  <a:pt x="15232" y="11716"/>
                </a:lnTo>
                <a:lnTo>
                  <a:pt x="14843" y="11716"/>
                </a:lnTo>
                <a:lnTo>
                  <a:pt x="15461" y="11252"/>
                </a:lnTo>
                <a:lnTo>
                  <a:pt x="16126" y="10858"/>
                </a:lnTo>
                <a:lnTo>
                  <a:pt x="16973" y="10649"/>
                </a:lnTo>
                <a:lnTo>
                  <a:pt x="17798" y="10417"/>
                </a:lnTo>
                <a:lnTo>
                  <a:pt x="18806" y="10301"/>
                </a:lnTo>
                <a:lnTo>
                  <a:pt x="19653" y="10301"/>
                </a:lnTo>
                <a:lnTo>
                  <a:pt x="20478" y="10417"/>
                </a:lnTo>
                <a:lnTo>
                  <a:pt x="21256" y="10533"/>
                </a:lnTo>
                <a:lnTo>
                  <a:pt x="20707" y="9837"/>
                </a:lnTo>
                <a:lnTo>
                  <a:pt x="19859" y="9234"/>
                </a:lnTo>
                <a:lnTo>
                  <a:pt x="18806" y="8538"/>
                </a:lnTo>
                <a:lnTo>
                  <a:pt x="17637" y="8144"/>
                </a:lnTo>
                <a:lnTo>
                  <a:pt x="16973" y="8027"/>
                </a:lnTo>
                <a:lnTo>
                  <a:pt x="16355" y="7935"/>
                </a:lnTo>
                <a:lnTo>
                  <a:pt x="15805" y="7935"/>
                </a:lnTo>
                <a:lnTo>
                  <a:pt x="15118" y="8027"/>
                </a:lnTo>
                <a:lnTo>
                  <a:pt x="14614" y="8144"/>
                </a:lnTo>
                <a:lnTo>
                  <a:pt x="14064" y="8422"/>
                </a:lnTo>
                <a:lnTo>
                  <a:pt x="13606" y="8886"/>
                </a:lnTo>
                <a:lnTo>
                  <a:pt x="13217" y="9327"/>
                </a:lnTo>
                <a:lnTo>
                  <a:pt x="13606" y="8538"/>
                </a:lnTo>
                <a:lnTo>
                  <a:pt x="13950" y="7935"/>
                </a:lnTo>
                <a:lnTo>
                  <a:pt x="14293" y="7123"/>
                </a:lnTo>
                <a:lnTo>
                  <a:pt x="14499" y="6519"/>
                </a:lnTo>
                <a:lnTo>
                  <a:pt x="14614" y="5823"/>
                </a:lnTo>
                <a:lnTo>
                  <a:pt x="14614" y="5220"/>
                </a:lnTo>
                <a:lnTo>
                  <a:pt x="14408" y="4524"/>
                </a:lnTo>
                <a:lnTo>
                  <a:pt x="14064" y="3898"/>
                </a:lnTo>
                <a:lnTo>
                  <a:pt x="13606" y="3225"/>
                </a:lnTo>
                <a:lnTo>
                  <a:pt x="13331" y="2598"/>
                </a:lnTo>
                <a:lnTo>
                  <a:pt x="13102" y="2042"/>
                </a:lnTo>
                <a:lnTo>
                  <a:pt x="12896" y="1485"/>
                </a:lnTo>
                <a:lnTo>
                  <a:pt x="12781" y="1090"/>
                </a:lnTo>
                <a:lnTo>
                  <a:pt x="12667" y="626"/>
                </a:lnTo>
                <a:lnTo>
                  <a:pt x="12667" y="278"/>
                </a:lnTo>
                <a:lnTo>
                  <a:pt x="12667" y="0"/>
                </a:lnTo>
                <a:lnTo>
                  <a:pt x="12163" y="394"/>
                </a:lnTo>
                <a:lnTo>
                  <a:pt x="11728" y="974"/>
                </a:lnTo>
                <a:lnTo>
                  <a:pt x="11155" y="1601"/>
                </a:lnTo>
                <a:lnTo>
                  <a:pt x="10766" y="2390"/>
                </a:lnTo>
                <a:lnTo>
                  <a:pt x="10330" y="3109"/>
                </a:lnTo>
                <a:lnTo>
                  <a:pt x="10101" y="3898"/>
                </a:lnTo>
                <a:lnTo>
                  <a:pt x="9987" y="4524"/>
                </a:lnTo>
                <a:lnTo>
                  <a:pt x="10101" y="5220"/>
                </a:lnTo>
                <a:lnTo>
                  <a:pt x="10216" y="5823"/>
                </a:lnTo>
                <a:lnTo>
                  <a:pt x="10330" y="6403"/>
                </a:lnTo>
                <a:lnTo>
                  <a:pt x="10330" y="6914"/>
                </a:lnTo>
                <a:lnTo>
                  <a:pt x="10216" y="7471"/>
                </a:lnTo>
                <a:lnTo>
                  <a:pt x="10101" y="7935"/>
                </a:lnTo>
                <a:lnTo>
                  <a:pt x="9872" y="8329"/>
                </a:lnTo>
                <a:lnTo>
                  <a:pt x="9643" y="8654"/>
                </a:lnTo>
                <a:lnTo>
                  <a:pt x="9368" y="9002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7"/>
          <p:cNvSpPr/>
          <p:nvPr/>
        </p:nvSpPr>
        <p:spPr>
          <a:xfrm>
            <a:off x="0" y="762120"/>
            <a:ext cx="4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8"/>
          <p:cNvGrpSpPr/>
          <p:nvPr/>
        </p:nvGrpSpPr>
        <p:grpSpPr>
          <a:xfrm>
            <a:off x="395280" y="0"/>
            <a:ext cx="3581280" cy="686880"/>
            <a:chOff x="395280" y="0"/>
            <a:chExt cx="3581280" cy="686880"/>
          </a:xfrm>
        </p:grpSpPr>
        <p:grpSp>
          <p:nvGrpSpPr>
            <p:cNvPr id="597" name="Group 9"/>
            <p:cNvGrpSpPr/>
            <p:nvPr/>
          </p:nvGrpSpPr>
          <p:grpSpPr>
            <a:xfrm>
              <a:off x="395280" y="0"/>
              <a:ext cx="2361960" cy="519840"/>
              <a:chOff x="395280" y="0"/>
              <a:chExt cx="2361960" cy="519840"/>
            </a:xfrm>
          </p:grpSpPr>
          <p:sp>
            <p:nvSpPr>
              <p:cNvPr id="598" name="Rectangle 10"/>
              <p:cNvSpPr/>
              <p:nvPr/>
            </p:nvSpPr>
            <p:spPr>
              <a:xfrm>
                <a:off x="395280" y="4860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练一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Rectangle 11"/>
              <p:cNvSpPr/>
              <p:nvPr/>
            </p:nvSpPr>
            <p:spPr>
              <a:xfrm>
                <a:off x="2274840" y="0"/>
                <a:ext cx="18360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0" name="Picture 12" descr="678"/>
            <p:cNvPicPr/>
            <p:nvPr/>
          </p:nvPicPr>
          <p:blipFill>
            <a:blip r:embed="rId2"/>
            <a:stretch/>
          </p:blipFill>
          <p:spPr>
            <a:xfrm>
              <a:off x="2757240" y="144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1" name="Picture 13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395280" y="15372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2" name="AutoShape 14"/>
          <p:cNvSpPr/>
          <p:nvPr/>
        </p:nvSpPr>
        <p:spPr>
          <a:xfrm>
            <a:off x="8317080" y="5950080"/>
            <a:ext cx="502920" cy="3585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288" h="21600">
                <a:moveTo>
                  <a:pt x="0" y="0"/>
                </a:moveTo>
                <a:lnTo>
                  <a:pt x="30288" y="0"/>
                </a:lnTo>
                <a:lnTo>
                  <a:pt x="30288" y="21600"/>
                </a:lnTo>
                <a:lnTo>
                  <a:pt x="0" y="21600"/>
                </a:lnTo>
                <a:close/>
              </a:path>
              <a:path fill="lightenLess" w="30288" h="21600">
                <a:moveTo>
                  <a:pt x="0" y="0"/>
                </a:moveTo>
                <a:lnTo>
                  <a:pt x="30288" y="0"/>
                </a:lnTo>
                <a:lnTo>
                  <a:pt x="28888" y="1400"/>
                </a:lnTo>
                <a:lnTo>
                  <a:pt x="1400" y="1400"/>
                </a:lnTo>
                <a:close/>
              </a:path>
              <a:path fill="darken" w="30288" h="21600">
                <a:moveTo>
                  <a:pt x="30288" y="0"/>
                </a:moveTo>
                <a:lnTo>
                  <a:pt x="30288" y="21600"/>
                </a:lnTo>
                <a:lnTo>
                  <a:pt x="28888" y="20200"/>
                </a:lnTo>
                <a:lnTo>
                  <a:pt x="28888" y="1400"/>
                </a:lnTo>
                <a:close/>
              </a:path>
              <a:path fill="darkenLess" w="30288" h="21600">
                <a:moveTo>
                  <a:pt x="3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8" y="20200"/>
                </a:lnTo>
                <a:close/>
              </a:path>
              <a:path fill="lighten" w="3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8" h="21600">
                <a:moveTo>
                  <a:pt x="18643" y="10800"/>
                </a:moveTo>
                <a:lnTo>
                  <a:pt x="8137" y="17806"/>
                </a:lnTo>
                <a:lnTo>
                  <a:pt x="8137" y="3794"/>
                </a:lnTo>
                <a:close/>
              </a:path>
              <a:path fill="darken" w="30288" h="21600">
                <a:moveTo>
                  <a:pt x="20488" y="3794"/>
                </a:moveTo>
                <a:lnTo>
                  <a:pt x="20488" y="17806"/>
                </a:lnTo>
                <a:lnTo>
                  <a:pt x="22150" y="17806"/>
                </a:lnTo>
                <a:lnTo>
                  <a:pt x="2215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4"/>
          <p:cNvSpPr/>
          <p:nvPr/>
        </p:nvSpPr>
        <p:spPr>
          <a:xfrm>
            <a:off x="973080" y="2484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1297080" y="620640"/>
            <a:ext cx="702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已知：如图，四边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中，∠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90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3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求四边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CD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的面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6"/>
          <p:cNvSpPr/>
          <p:nvPr/>
        </p:nvSpPr>
        <p:spPr>
          <a:xfrm>
            <a:off x="441468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3457080" y="3141720"/>
            <a:ext cx="886320" cy="2232000"/>
            <a:chOff x="3457080" y="3141720"/>
            <a:chExt cx="886320" cy="2232000"/>
          </a:xfrm>
        </p:grpSpPr>
        <p:sp>
          <p:nvSpPr>
            <p:cNvPr id="607" name="Line 7"/>
            <p:cNvSpPr/>
            <p:nvPr/>
          </p:nvSpPr>
          <p:spPr>
            <a:xfrm flipV="1">
              <a:off x="3457440" y="3141720"/>
              <a:ext cx="885960" cy="223200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 txBox="1"/>
            <p:nvPr/>
          </p:nvSpPr>
          <p:spPr>
            <a:xfrm rot="10800000">
              <a:off x="3457080" y="3141720"/>
              <a:ext cx="885960" cy="223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Group 8"/>
          <p:cNvGrpSpPr/>
          <p:nvPr/>
        </p:nvGrpSpPr>
        <p:grpSpPr>
          <a:xfrm>
            <a:off x="2449440" y="2781360"/>
            <a:ext cx="6119280" cy="3311280"/>
            <a:chOff x="2449440" y="2781360"/>
            <a:chExt cx="6119280" cy="3311280"/>
          </a:xfrm>
        </p:grpSpPr>
        <p:sp>
          <p:nvSpPr>
            <p:cNvPr id="610" name="Text Box 9"/>
            <p:cNvSpPr/>
            <p:nvPr/>
          </p:nvSpPr>
          <p:spPr>
            <a:xfrm>
              <a:off x="3093480" y="5250600"/>
              <a:ext cx="874080" cy="84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Text Box 10"/>
            <p:cNvSpPr/>
            <p:nvPr/>
          </p:nvSpPr>
          <p:spPr>
            <a:xfrm>
              <a:off x="2449440" y="4041720"/>
              <a:ext cx="87408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11"/>
            <p:cNvSpPr/>
            <p:nvPr/>
          </p:nvSpPr>
          <p:spPr>
            <a:xfrm>
              <a:off x="4015800" y="2781360"/>
              <a:ext cx="874080" cy="112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C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"/>
            <p:cNvGrpSpPr/>
            <p:nvPr/>
          </p:nvGrpSpPr>
          <p:grpSpPr>
            <a:xfrm>
              <a:off x="2850480" y="3203280"/>
              <a:ext cx="1456560" cy="1122840"/>
              <a:chOff x="2850480" y="3203280"/>
              <a:chExt cx="1456560" cy="1122840"/>
            </a:xfrm>
          </p:grpSpPr>
          <p:sp>
            <p:nvSpPr>
              <p:cNvPr id="614" name="Line 12"/>
              <p:cNvSpPr/>
              <p:nvPr/>
            </p:nvSpPr>
            <p:spPr>
              <a:xfrm flipH="1">
                <a:off x="2850480" y="3203280"/>
                <a:ext cx="1456200" cy="112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 txBox="1"/>
              <p:nvPr/>
            </p:nvSpPr>
            <p:spPr>
              <a:xfrm>
                <a:off x="2850840" y="3203280"/>
                <a:ext cx="1456200" cy="112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"/>
            <p:cNvGrpSpPr/>
            <p:nvPr/>
          </p:nvGrpSpPr>
          <p:grpSpPr>
            <a:xfrm>
              <a:off x="2850840" y="4326480"/>
              <a:ext cx="582480" cy="1122840"/>
              <a:chOff x="2850840" y="4326480"/>
              <a:chExt cx="582480" cy="1122840"/>
            </a:xfrm>
          </p:grpSpPr>
          <p:sp>
            <p:nvSpPr>
              <p:cNvPr id="617" name="Line 13"/>
              <p:cNvSpPr/>
              <p:nvPr/>
            </p:nvSpPr>
            <p:spPr>
              <a:xfrm>
                <a:off x="2850840" y="4326480"/>
                <a:ext cx="582480" cy="112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 txBox="1"/>
              <p:nvPr/>
            </p:nvSpPr>
            <p:spPr>
              <a:xfrm>
                <a:off x="2850840" y="4326480"/>
                <a:ext cx="582480" cy="112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3433680" y="4606920"/>
              <a:ext cx="4366800" cy="842040"/>
              <a:chOff x="3433680" y="4606920"/>
              <a:chExt cx="4366800" cy="842040"/>
            </a:xfrm>
          </p:grpSpPr>
          <p:sp>
            <p:nvSpPr>
              <p:cNvPr id="620" name="Line 14"/>
              <p:cNvSpPr/>
              <p:nvPr/>
            </p:nvSpPr>
            <p:spPr>
              <a:xfrm flipV="1">
                <a:off x="3433680" y="4606920"/>
                <a:ext cx="4366800" cy="842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 txBox="1"/>
              <p:nvPr/>
            </p:nvSpPr>
            <p:spPr>
              <a:xfrm rot="10800000">
                <a:off x="3433680" y="4606920"/>
                <a:ext cx="4366800" cy="84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"/>
            <p:cNvGrpSpPr/>
            <p:nvPr/>
          </p:nvGrpSpPr>
          <p:grpSpPr>
            <a:xfrm>
              <a:off x="4307040" y="3203280"/>
              <a:ext cx="3493080" cy="1404000"/>
              <a:chOff x="4307040" y="3203280"/>
              <a:chExt cx="3493080" cy="1404000"/>
            </a:xfrm>
          </p:grpSpPr>
          <p:sp>
            <p:nvSpPr>
              <p:cNvPr id="623" name="Line 15"/>
              <p:cNvSpPr/>
              <p:nvPr/>
            </p:nvSpPr>
            <p:spPr>
              <a:xfrm flipH="1" flipV="1">
                <a:off x="4307040" y="3203280"/>
                <a:ext cx="3493080" cy="1404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 txBox="1"/>
              <p:nvPr/>
            </p:nvSpPr>
            <p:spPr>
              <a:xfrm rot="10800000">
                <a:off x="4307040" y="3203280"/>
                <a:ext cx="3493080" cy="1404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Text Box 16"/>
            <p:cNvSpPr/>
            <p:nvPr/>
          </p:nvSpPr>
          <p:spPr>
            <a:xfrm>
              <a:off x="7694640" y="4390200"/>
              <a:ext cx="874080" cy="11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D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2952720" y="4222800"/>
            <a:ext cx="71640" cy="142920"/>
            <a:chOff x="2952720" y="4222800"/>
            <a:chExt cx="71640" cy="142920"/>
          </a:xfrm>
        </p:grpSpPr>
        <p:sp>
          <p:nvSpPr>
            <p:cNvPr id="627" name="Line 17"/>
            <p:cNvSpPr/>
            <p:nvPr/>
          </p:nvSpPr>
          <p:spPr>
            <a:xfrm>
              <a:off x="2952720" y="4222800"/>
              <a:ext cx="71640" cy="14292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 txBox="1"/>
            <p:nvPr/>
          </p:nvSpPr>
          <p:spPr>
            <a:xfrm>
              <a:off x="2952720" y="4222800"/>
              <a:ext cx="7164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2881080" y="4365720"/>
            <a:ext cx="143280" cy="71280"/>
            <a:chOff x="2881080" y="4365720"/>
            <a:chExt cx="143280" cy="71280"/>
          </a:xfrm>
        </p:grpSpPr>
        <p:sp>
          <p:nvSpPr>
            <p:cNvPr id="630" name="Line 18"/>
            <p:cNvSpPr/>
            <p:nvPr/>
          </p:nvSpPr>
          <p:spPr>
            <a:xfrm flipH="1">
              <a:off x="2881080" y="4365720"/>
              <a:ext cx="142920" cy="712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>
              <a:off x="2881440" y="4365720"/>
              <a:ext cx="142920" cy="7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2" name="Text Box 21"/>
          <p:cNvSpPr/>
          <p:nvPr/>
        </p:nvSpPr>
        <p:spPr>
          <a:xfrm>
            <a:off x="4932360" y="2637000"/>
            <a:ext cx="3816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1" lang="zh-CN" sz="4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四边形</a:t>
            </a:r>
            <a:r>
              <a:rPr b="1" lang="en-US" sz="4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ABCD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=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Group 22"/>
          <p:cNvGrpSpPr/>
          <p:nvPr/>
        </p:nvGrpSpPr>
        <p:grpSpPr>
          <a:xfrm>
            <a:off x="324000" y="-1440"/>
            <a:ext cx="3581280" cy="686880"/>
            <a:chOff x="324000" y="-1440"/>
            <a:chExt cx="3581280" cy="686880"/>
          </a:xfrm>
        </p:grpSpPr>
        <p:grpSp>
          <p:nvGrpSpPr>
            <p:cNvPr id="634" name="Group 23"/>
            <p:cNvGrpSpPr/>
            <p:nvPr/>
          </p:nvGrpSpPr>
          <p:grpSpPr>
            <a:xfrm>
              <a:off x="324000" y="-1440"/>
              <a:ext cx="2361960" cy="519840"/>
              <a:chOff x="324000" y="-1440"/>
              <a:chExt cx="2361960" cy="519840"/>
            </a:xfrm>
          </p:grpSpPr>
          <p:sp>
            <p:nvSpPr>
              <p:cNvPr id="635" name="Rectangle 24"/>
              <p:cNvSpPr/>
              <p:nvPr/>
            </p:nvSpPr>
            <p:spPr>
              <a:xfrm>
                <a:off x="324000" y="4716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中考链接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25"/>
              <p:cNvSpPr/>
              <p:nvPr/>
            </p:nvSpPr>
            <p:spPr>
              <a:xfrm>
                <a:off x="2203560" y="-1440"/>
                <a:ext cx="18360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37" name="Picture 26" descr="678"/>
            <p:cNvPicPr/>
            <p:nvPr/>
          </p:nvPicPr>
          <p:blipFill>
            <a:blip r:embed="rId1"/>
            <a:stretch/>
          </p:blipFill>
          <p:spPr>
            <a:xfrm>
              <a:off x="2685960" y="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8" name="Picture 27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324000" y="15228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9" name="AutoShape 28"/>
          <p:cNvSpPr/>
          <p:nvPr/>
        </p:nvSpPr>
        <p:spPr>
          <a:xfrm>
            <a:off x="8317080" y="5950080"/>
            <a:ext cx="502920" cy="3585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288" h="21600">
                <a:moveTo>
                  <a:pt x="0" y="0"/>
                </a:moveTo>
                <a:lnTo>
                  <a:pt x="30288" y="0"/>
                </a:lnTo>
                <a:lnTo>
                  <a:pt x="30288" y="21600"/>
                </a:lnTo>
                <a:lnTo>
                  <a:pt x="0" y="21600"/>
                </a:lnTo>
                <a:close/>
              </a:path>
              <a:path fill="lightenLess" w="30288" h="21600">
                <a:moveTo>
                  <a:pt x="0" y="0"/>
                </a:moveTo>
                <a:lnTo>
                  <a:pt x="30288" y="0"/>
                </a:lnTo>
                <a:lnTo>
                  <a:pt x="28888" y="1400"/>
                </a:lnTo>
                <a:lnTo>
                  <a:pt x="1400" y="1400"/>
                </a:lnTo>
                <a:close/>
              </a:path>
              <a:path fill="darken" w="30288" h="21600">
                <a:moveTo>
                  <a:pt x="30288" y="0"/>
                </a:moveTo>
                <a:lnTo>
                  <a:pt x="30288" y="21600"/>
                </a:lnTo>
                <a:lnTo>
                  <a:pt x="28888" y="20200"/>
                </a:lnTo>
                <a:lnTo>
                  <a:pt x="28888" y="1400"/>
                </a:lnTo>
                <a:close/>
              </a:path>
              <a:path fill="darkenLess" w="30288" h="21600">
                <a:moveTo>
                  <a:pt x="3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8" y="20200"/>
                </a:lnTo>
                <a:close/>
              </a:path>
              <a:path fill="lighten" w="3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8" h="21600">
                <a:moveTo>
                  <a:pt x="18643" y="10800"/>
                </a:moveTo>
                <a:lnTo>
                  <a:pt x="8137" y="17806"/>
                </a:lnTo>
                <a:lnTo>
                  <a:pt x="8137" y="3794"/>
                </a:lnTo>
                <a:close/>
              </a:path>
              <a:path fill="darken" w="30288" h="21600">
                <a:moveTo>
                  <a:pt x="20488" y="3794"/>
                </a:moveTo>
                <a:lnTo>
                  <a:pt x="20488" y="17806"/>
                </a:lnTo>
                <a:lnTo>
                  <a:pt x="22150" y="17806"/>
                </a:lnTo>
                <a:lnTo>
                  <a:pt x="2215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Object 4" descr=""/>
          <p:cNvPicPr/>
          <p:nvPr/>
        </p:nvPicPr>
        <p:blipFill>
          <a:blip r:embed="rId1"/>
          <a:stretch/>
        </p:blipFill>
        <p:spPr>
          <a:xfrm>
            <a:off x="836640" y="1033560"/>
            <a:ext cx="7072200" cy="2197080"/>
          </a:xfrm>
          <a:prstGeom prst="rect">
            <a:avLst/>
          </a:prstGeom>
          <a:ln w="0">
            <a:noFill/>
          </a:ln>
        </p:spPr>
      </p:pic>
      <p:sp>
        <p:nvSpPr>
          <p:cNvPr id="641" name="Rectangle 5"/>
          <p:cNvSpPr/>
          <p:nvPr/>
        </p:nvSpPr>
        <p:spPr>
          <a:xfrm>
            <a:off x="826920" y="3499560"/>
            <a:ext cx="71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宋体"/>
              </a:rPr>
              <a:t>分析：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先来判断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a,b,c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三边哪条最长，可以代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m,n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为满足条件的特殊值来试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m=5,n=4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则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a=9,b=40,c=41,c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宋体"/>
              </a:rPr>
              <a:t>最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2" name="Object 6" descr=""/>
          <p:cNvPicPr/>
          <p:nvPr/>
        </p:nvPicPr>
        <p:blipFill>
          <a:blip r:embed="rId2"/>
          <a:stretch/>
        </p:blipFill>
        <p:spPr>
          <a:xfrm>
            <a:off x="539640" y="5013360"/>
            <a:ext cx="7607520" cy="50328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7"/>
          <p:cNvSpPr/>
          <p:nvPr/>
        </p:nvSpPr>
        <p:spPr>
          <a:xfrm>
            <a:off x="179280" y="45925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8"/>
          <p:cNvSpPr/>
          <p:nvPr/>
        </p:nvSpPr>
        <p:spPr>
          <a:xfrm>
            <a:off x="1042920" y="5589000"/>
            <a:ext cx="568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∴△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ABC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  <a:ea typeface="宋体"/>
              </a:rPr>
              <a:t>是直角三角形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" name="Group 15"/>
          <p:cNvGrpSpPr/>
          <p:nvPr/>
        </p:nvGrpSpPr>
        <p:grpSpPr>
          <a:xfrm>
            <a:off x="395280" y="0"/>
            <a:ext cx="3581280" cy="686880"/>
            <a:chOff x="395280" y="0"/>
            <a:chExt cx="3581280" cy="686880"/>
          </a:xfrm>
        </p:grpSpPr>
        <p:grpSp>
          <p:nvGrpSpPr>
            <p:cNvPr id="646" name="Group 16"/>
            <p:cNvGrpSpPr/>
            <p:nvPr/>
          </p:nvGrpSpPr>
          <p:grpSpPr>
            <a:xfrm>
              <a:off x="395280" y="0"/>
              <a:ext cx="2361960" cy="519840"/>
              <a:chOff x="395280" y="0"/>
              <a:chExt cx="2361960" cy="519840"/>
            </a:xfrm>
          </p:grpSpPr>
          <p:sp>
            <p:nvSpPr>
              <p:cNvPr id="647" name="Rectangle 17"/>
              <p:cNvSpPr/>
              <p:nvPr/>
            </p:nvSpPr>
            <p:spPr>
              <a:xfrm>
                <a:off x="395280" y="4860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练一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Rectangle 18"/>
              <p:cNvSpPr/>
              <p:nvPr/>
            </p:nvSpPr>
            <p:spPr>
              <a:xfrm>
                <a:off x="2274840" y="0"/>
                <a:ext cx="18360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49" name="Picture 19" descr="678"/>
            <p:cNvPicPr/>
            <p:nvPr/>
          </p:nvPicPr>
          <p:blipFill>
            <a:blip r:embed="rId3"/>
            <a:stretch/>
          </p:blipFill>
          <p:spPr>
            <a:xfrm>
              <a:off x="2757240" y="144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0" name="Picture 20" descr="gif003[1]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395280" y="15372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1" name="AutoShape 21"/>
          <p:cNvSpPr/>
          <p:nvPr/>
        </p:nvSpPr>
        <p:spPr>
          <a:xfrm>
            <a:off x="8317080" y="5950080"/>
            <a:ext cx="502920" cy="3585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288" h="21600">
                <a:moveTo>
                  <a:pt x="0" y="0"/>
                </a:moveTo>
                <a:lnTo>
                  <a:pt x="30288" y="0"/>
                </a:lnTo>
                <a:lnTo>
                  <a:pt x="30288" y="21600"/>
                </a:lnTo>
                <a:lnTo>
                  <a:pt x="0" y="21600"/>
                </a:lnTo>
                <a:close/>
              </a:path>
              <a:path fill="lightenLess" w="30288" h="21600">
                <a:moveTo>
                  <a:pt x="0" y="0"/>
                </a:moveTo>
                <a:lnTo>
                  <a:pt x="30288" y="0"/>
                </a:lnTo>
                <a:lnTo>
                  <a:pt x="28888" y="1400"/>
                </a:lnTo>
                <a:lnTo>
                  <a:pt x="1400" y="1400"/>
                </a:lnTo>
                <a:close/>
              </a:path>
              <a:path fill="darken" w="30288" h="21600">
                <a:moveTo>
                  <a:pt x="30288" y="0"/>
                </a:moveTo>
                <a:lnTo>
                  <a:pt x="30288" y="21600"/>
                </a:lnTo>
                <a:lnTo>
                  <a:pt x="28888" y="20200"/>
                </a:lnTo>
                <a:lnTo>
                  <a:pt x="28888" y="1400"/>
                </a:lnTo>
                <a:close/>
              </a:path>
              <a:path fill="darkenLess" w="30288" h="21600">
                <a:moveTo>
                  <a:pt x="3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8" y="20200"/>
                </a:lnTo>
                <a:close/>
              </a:path>
              <a:path fill="lighten" w="3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8" h="21600">
                <a:moveTo>
                  <a:pt x="18643" y="10800"/>
                </a:moveTo>
                <a:lnTo>
                  <a:pt x="8137" y="17806"/>
                </a:lnTo>
                <a:lnTo>
                  <a:pt x="8137" y="3794"/>
                </a:lnTo>
                <a:close/>
              </a:path>
              <a:path fill="darken" w="30288" h="21600">
                <a:moveTo>
                  <a:pt x="20488" y="3794"/>
                </a:moveTo>
                <a:lnTo>
                  <a:pt x="20488" y="17806"/>
                </a:lnTo>
                <a:lnTo>
                  <a:pt x="22150" y="17806"/>
                </a:lnTo>
                <a:lnTo>
                  <a:pt x="2215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78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2000"/>
                            </p:stCondLst>
                            <p:childTnLst>
                              <p:par>
                                <p:cTn id="38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14"/>
          <p:cNvSpPr/>
          <p:nvPr/>
        </p:nvSpPr>
        <p:spPr>
          <a:xfrm>
            <a:off x="250920" y="1268280"/>
            <a:ext cx="8381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、请你写出三组勾股数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、一组勾股数的倍数一定是勾股数吗？为什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Picture 15" descr="1"/>
          <p:cNvPicPr/>
          <p:nvPr/>
        </p:nvPicPr>
        <p:blipFill>
          <a:blip r:embed="rId1"/>
          <a:stretch/>
        </p:blipFill>
        <p:spPr>
          <a:xfrm>
            <a:off x="5148360" y="3645000"/>
            <a:ext cx="3733560" cy="2438280"/>
          </a:xfrm>
          <a:prstGeom prst="rect">
            <a:avLst/>
          </a:prstGeom>
          <a:ln w="0">
            <a:noFill/>
          </a:ln>
        </p:spPr>
      </p:pic>
      <p:grpSp>
        <p:nvGrpSpPr>
          <p:cNvPr id="654" name="Group 18"/>
          <p:cNvGrpSpPr/>
          <p:nvPr/>
        </p:nvGrpSpPr>
        <p:grpSpPr>
          <a:xfrm>
            <a:off x="623880" y="282600"/>
            <a:ext cx="3581280" cy="686880"/>
            <a:chOff x="623880" y="282600"/>
            <a:chExt cx="3581280" cy="686880"/>
          </a:xfrm>
        </p:grpSpPr>
        <p:grpSp>
          <p:nvGrpSpPr>
            <p:cNvPr id="655" name="Group 19"/>
            <p:cNvGrpSpPr/>
            <p:nvPr/>
          </p:nvGrpSpPr>
          <p:grpSpPr>
            <a:xfrm>
              <a:off x="623880" y="282600"/>
              <a:ext cx="2361960" cy="519840"/>
              <a:chOff x="623880" y="282600"/>
              <a:chExt cx="2361960" cy="519840"/>
            </a:xfrm>
          </p:grpSpPr>
          <p:sp>
            <p:nvSpPr>
              <p:cNvPr id="656" name="Rectangle 20"/>
              <p:cNvSpPr/>
              <p:nvPr/>
            </p:nvSpPr>
            <p:spPr>
              <a:xfrm>
                <a:off x="623880" y="33120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挑战自我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Rectangle 21"/>
              <p:cNvSpPr/>
              <p:nvPr/>
            </p:nvSpPr>
            <p:spPr>
              <a:xfrm>
                <a:off x="2503440" y="282600"/>
                <a:ext cx="18360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58" name="Picture 22" descr="678"/>
            <p:cNvPicPr/>
            <p:nvPr/>
          </p:nvPicPr>
          <p:blipFill>
            <a:blip r:embed="rId2"/>
            <a:stretch/>
          </p:blipFill>
          <p:spPr>
            <a:xfrm>
              <a:off x="2985840" y="28404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9" name="Picture 23" descr="gif003[1]">
              <a:hlinkClick r:id="" action="ppaction://hlinkshowjump?jump=lastslide"/>
            </p:cNvPr>
            <p:cNvPicPr/>
            <p:nvPr/>
          </p:nvPicPr>
          <p:blipFill>
            <a:blip r:embed="rId3"/>
            <a:stretch/>
          </p:blipFill>
          <p:spPr>
            <a:xfrm>
              <a:off x="623880" y="43632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0" name="AutoShape 24"/>
          <p:cNvSpPr/>
          <p:nvPr/>
        </p:nvSpPr>
        <p:spPr>
          <a:xfrm>
            <a:off x="8317080" y="5950080"/>
            <a:ext cx="502920" cy="3585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288" h="21600">
                <a:moveTo>
                  <a:pt x="0" y="0"/>
                </a:moveTo>
                <a:lnTo>
                  <a:pt x="30288" y="0"/>
                </a:lnTo>
                <a:lnTo>
                  <a:pt x="30288" y="21600"/>
                </a:lnTo>
                <a:lnTo>
                  <a:pt x="0" y="21600"/>
                </a:lnTo>
                <a:close/>
              </a:path>
              <a:path fill="lightenLess" w="30288" h="21600">
                <a:moveTo>
                  <a:pt x="0" y="0"/>
                </a:moveTo>
                <a:lnTo>
                  <a:pt x="30288" y="0"/>
                </a:lnTo>
                <a:lnTo>
                  <a:pt x="28888" y="1400"/>
                </a:lnTo>
                <a:lnTo>
                  <a:pt x="1400" y="1400"/>
                </a:lnTo>
                <a:close/>
              </a:path>
              <a:path fill="darken" w="30288" h="21600">
                <a:moveTo>
                  <a:pt x="30288" y="0"/>
                </a:moveTo>
                <a:lnTo>
                  <a:pt x="30288" y="21600"/>
                </a:lnTo>
                <a:lnTo>
                  <a:pt x="28888" y="20200"/>
                </a:lnTo>
                <a:lnTo>
                  <a:pt x="28888" y="1400"/>
                </a:lnTo>
                <a:close/>
              </a:path>
              <a:path fill="darkenLess" w="30288" h="21600">
                <a:moveTo>
                  <a:pt x="3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8" y="20200"/>
                </a:lnTo>
                <a:close/>
              </a:path>
              <a:path fill="lighten" w="3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8" h="21600">
                <a:moveTo>
                  <a:pt x="18643" y="10800"/>
                </a:moveTo>
                <a:lnTo>
                  <a:pt x="8137" y="17806"/>
                </a:lnTo>
                <a:lnTo>
                  <a:pt x="8137" y="3794"/>
                </a:lnTo>
                <a:close/>
              </a:path>
              <a:path fill="darken" w="30288" h="21600">
                <a:moveTo>
                  <a:pt x="20488" y="3794"/>
                </a:moveTo>
                <a:lnTo>
                  <a:pt x="20488" y="17806"/>
                </a:lnTo>
                <a:lnTo>
                  <a:pt x="22150" y="17806"/>
                </a:lnTo>
                <a:lnTo>
                  <a:pt x="2215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3"/>
          <p:cNvSpPr/>
          <p:nvPr/>
        </p:nvSpPr>
        <p:spPr>
          <a:xfrm>
            <a:off x="3743280" y="29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179280" y="907920"/>
            <a:ext cx="813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 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为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三边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且  满足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b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c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+338=10a+24b+26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试判断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形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Group 7"/>
          <p:cNvGrpSpPr/>
          <p:nvPr/>
        </p:nvGrpSpPr>
        <p:grpSpPr>
          <a:xfrm>
            <a:off x="539640" y="0"/>
            <a:ext cx="3581280" cy="686880"/>
            <a:chOff x="539640" y="0"/>
            <a:chExt cx="3581280" cy="686880"/>
          </a:xfrm>
        </p:grpSpPr>
        <p:grpSp>
          <p:nvGrpSpPr>
            <p:cNvPr id="664" name="Group 8"/>
            <p:cNvGrpSpPr/>
            <p:nvPr/>
          </p:nvGrpSpPr>
          <p:grpSpPr>
            <a:xfrm>
              <a:off x="539640" y="0"/>
              <a:ext cx="2361960" cy="519840"/>
              <a:chOff x="539640" y="0"/>
              <a:chExt cx="2361960" cy="519840"/>
            </a:xfrm>
          </p:grpSpPr>
          <p:sp>
            <p:nvSpPr>
              <p:cNvPr id="665" name="Rectangle 9"/>
              <p:cNvSpPr/>
              <p:nvPr/>
            </p:nvSpPr>
            <p:spPr>
              <a:xfrm>
                <a:off x="539640" y="4860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思维训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Rectangle 10"/>
              <p:cNvSpPr/>
              <p:nvPr/>
            </p:nvSpPr>
            <p:spPr>
              <a:xfrm>
                <a:off x="2419200" y="0"/>
                <a:ext cx="18360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67" name="Picture 11" descr="678"/>
            <p:cNvPicPr/>
            <p:nvPr/>
          </p:nvPicPr>
          <p:blipFill>
            <a:blip r:embed="rId1"/>
            <a:stretch/>
          </p:blipFill>
          <p:spPr>
            <a:xfrm>
              <a:off x="2901600" y="144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12" descr="gif003[1]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539640" y="15372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9" name="AutoShape 13"/>
          <p:cNvSpPr/>
          <p:nvPr/>
        </p:nvSpPr>
        <p:spPr>
          <a:xfrm>
            <a:off x="8317080" y="5950080"/>
            <a:ext cx="502920" cy="3585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288" h="21600">
                <a:moveTo>
                  <a:pt x="0" y="0"/>
                </a:moveTo>
                <a:lnTo>
                  <a:pt x="30288" y="0"/>
                </a:lnTo>
                <a:lnTo>
                  <a:pt x="30288" y="21600"/>
                </a:lnTo>
                <a:lnTo>
                  <a:pt x="0" y="21600"/>
                </a:lnTo>
                <a:close/>
              </a:path>
              <a:path fill="lightenLess" w="30288" h="21600">
                <a:moveTo>
                  <a:pt x="0" y="0"/>
                </a:moveTo>
                <a:lnTo>
                  <a:pt x="30288" y="0"/>
                </a:lnTo>
                <a:lnTo>
                  <a:pt x="28888" y="1400"/>
                </a:lnTo>
                <a:lnTo>
                  <a:pt x="1400" y="1400"/>
                </a:lnTo>
                <a:close/>
              </a:path>
              <a:path fill="darken" w="30288" h="21600">
                <a:moveTo>
                  <a:pt x="30288" y="0"/>
                </a:moveTo>
                <a:lnTo>
                  <a:pt x="30288" y="21600"/>
                </a:lnTo>
                <a:lnTo>
                  <a:pt x="28888" y="20200"/>
                </a:lnTo>
                <a:lnTo>
                  <a:pt x="28888" y="1400"/>
                </a:lnTo>
                <a:close/>
              </a:path>
              <a:path fill="darkenLess" w="30288" h="21600">
                <a:moveTo>
                  <a:pt x="3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8" y="20200"/>
                </a:lnTo>
                <a:close/>
              </a:path>
              <a:path fill="lighten" w="3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8" h="21600">
                <a:moveTo>
                  <a:pt x="18643" y="10800"/>
                </a:moveTo>
                <a:lnTo>
                  <a:pt x="8137" y="17806"/>
                </a:lnTo>
                <a:lnTo>
                  <a:pt x="8137" y="3794"/>
                </a:lnTo>
                <a:close/>
              </a:path>
              <a:path fill="darken" w="30288" h="21600">
                <a:moveTo>
                  <a:pt x="20488" y="3794"/>
                </a:moveTo>
                <a:lnTo>
                  <a:pt x="20488" y="17806"/>
                </a:lnTo>
                <a:lnTo>
                  <a:pt x="22150" y="17806"/>
                </a:lnTo>
                <a:lnTo>
                  <a:pt x="2215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3"/>
          <p:cNvSpPr/>
          <p:nvPr/>
        </p:nvSpPr>
        <p:spPr>
          <a:xfrm>
            <a:off x="2124000" y="846000"/>
            <a:ext cx="6553440" cy="18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三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,b,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为边向外作正方形，正三角形，以三边为直径作半圆，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r>
              <a:rPr b="1" lang="en-US" sz="36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+S</a:t>
            </a:r>
            <a:r>
              <a:rPr b="1" lang="en-US" sz="36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=S</a:t>
            </a:r>
            <a:r>
              <a:rPr b="1" lang="en-US" sz="3600" spc="-1" strike="noStrike" baseline="-30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成立，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4"/>
          <p:cNvSpPr/>
          <p:nvPr/>
        </p:nvSpPr>
        <p:spPr>
          <a:xfrm>
            <a:off x="3715920" y="220464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是直角三角形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Picture 6" descr=""/>
          <p:cNvPicPr/>
          <p:nvPr/>
        </p:nvPicPr>
        <p:blipFill>
          <a:blip r:embed="rId1"/>
          <a:stretch/>
        </p:blipFill>
        <p:spPr>
          <a:xfrm>
            <a:off x="5508720" y="3284640"/>
            <a:ext cx="2771640" cy="28083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7"/>
          <p:cNvSpPr/>
          <p:nvPr/>
        </p:nvSpPr>
        <p:spPr>
          <a:xfrm>
            <a:off x="5551560" y="4716360"/>
            <a:ext cx="69192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8"/>
          <p:cNvSpPr/>
          <p:nvPr/>
        </p:nvSpPr>
        <p:spPr>
          <a:xfrm>
            <a:off x="6129360" y="3527280"/>
            <a:ext cx="69228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9"/>
          <p:cNvSpPr/>
          <p:nvPr/>
        </p:nvSpPr>
        <p:spPr>
          <a:xfrm>
            <a:off x="6864480" y="4167360"/>
            <a:ext cx="69192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0"/>
          <p:cNvSpPr/>
          <p:nvPr/>
        </p:nvSpPr>
        <p:spPr>
          <a:xfrm>
            <a:off x="6056280" y="4173480"/>
            <a:ext cx="69228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11"/>
          <p:cNvSpPr/>
          <p:nvPr/>
        </p:nvSpPr>
        <p:spPr>
          <a:xfrm>
            <a:off x="6634080" y="4498920"/>
            <a:ext cx="6922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12"/>
          <p:cNvSpPr/>
          <p:nvPr/>
        </p:nvSpPr>
        <p:spPr>
          <a:xfrm>
            <a:off x="7139160" y="3683160"/>
            <a:ext cx="6919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13"/>
          <p:cNvSpPr/>
          <p:nvPr/>
        </p:nvSpPr>
        <p:spPr>
          <a:xfrm>
            <a:off x="5638680" y="3962520"/>
            <a:ext cx="6922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14"/>
          <p:cNvSpPr/>
          <p:nvPr/>
        </p:nvSpPr>
        <p:spPr>
          <a:xfrm>
            <a:off x="6719760" y="5105520"/>
            <a:ext cx="69228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16" descr=""/>
          <p:cNvPicPr/>
          <p:nvPr/>
        </p:nvPicPr>
        <p:blipFill>
          <a:blip r:embed="rId2"/>
          <a:stretch/>
        </p:blipFill>
        <p:spPr>
          <a:xfrm>
            <a:off x="2111400" y="2743200"/>
            <a:ext cx="3170160" cy="34560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17"/>
          <p:cNvSpPr/>
          <p:nvPr/>
        </p:nvSpPr>
        <p:spPr>
          <a:xfrm>
            <a:off x="8077320" y="464832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8"/>
          <p:cNvSpPr/>
          <p:nvPr/>
        </p:nvSpPr>
        <p:spPr>
          <a:xfrm>
            <a:off x="2550960" y="4476600"/>
            <a:ext cx="7826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9"/>
          <p:cNvSpPr/>
          <p:nvPr/>
        </p:nvSpPr>
        <p:spPr>
          <a:xfrm>
            <a:off x="4440240" y="444672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20"/>
          <p:cNvSpPr/>
          <p:nvPr/>
        </p:nvSpPr>
        <p:spPr>
          <a:xfrm>
            <a:off x="2957400" y="359244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21"/>
          <p:cNvSpPr/>
          <p:nvPr/>
        </p:nvSpPr>
        <p:spPr>
          <a:xfrm>
            <a:off x="3511440" y="410544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22"/>
          <p:cNvSpPr/>
          <p:nvPr/>
        </p:nvSpPr>
        <p:spPr>
          <a:xfrm>
            <a:off x="3006720" y="411156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23"/>
          <p:cNvSpPr/>
          <p:nvPr/>
        </p:nvSpPr>
        <p:spPr>
          <a:xfrm>
            <a:off x="3300480" y="428940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24"/>
          <p:cNvSpPr/>
          <p:nvPr/>
        </p:nvSpPr>
        <p:spPr>
          <a:xfrm>
            <a:off x="3984480" y="3498840"/>
            <a:ext cx="7826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25"/>
          <p:cNvSpPr/>
          <p:nvPr/>
        </p:nvSpPr>
        <p:spPr>
          <a:xfrm>
            <a:off x="2486160" y="3911760"/>
            <a:ext cx="78084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26"/>
          <p:cNvSpPr/>
          <p:nvPr/>
        </p:nvSpPr>
        <p:spPr>
          <a:xfrm>
            <a:off x="3463920" y="5118120"/>
            <a:ext cx="7812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宋体"/>
              </a:rPr>
              <a:t>S</a:t>
            </a:r>
            <a:r>
              <a:rPr b="0" lang="en-US" sz="30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2" name="Group 28"/>
          <p:cNvGrpSpPr/>
          <p:nvPr/>
        </p:nvGrpSpPr>
        <p:grpSpPr>
          <a:xfrm>
            <a:off x="539640" y="0"/>
            <a:ext cx="3581280" cy="686880"/>
            <a:chOff x="539640" y="0"/>
            <a:chExt cx="3581280" cy="686880"/>
          </a:xfrm>
        </p:grpSpPr>
        <p:grpSp>
          <p:nvGrpSpPr>
            <p:cNvPr id="693" name="Group 29"/>
            <p:cNvGrpSpPr/>
            <p:nvPr/>
          </p:nvGrpSpPr>
          <p:grpSpPr>
            <a:xfrm>
              <a:off x="539640" y="0"/>
              <a:ext cx="2361960" cy="519840"/>
              <a:chOff x="539640" y="0"/>
              <a:chExt cx="2361960" cy="519840"/>
            </a:xfrm>
          </p:grpSpPr>
          <p:sp>
            <p:nvSpPr>
              <p:cNvPr id="694" name="Rectangle 30"/>
              <p:cNvSpPr/>
              <p:nvPr/>
            </p:nvSpPr>
            <p:spPr>
              <a:xfrm>
                <a:off x="539640" y="48600"/>
                <a:ext cx="2361960" cy="4597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0000"/>
                    </a:solidFill>
                    <a:latin typeface="Times New Roman"/>
                    <a:ea typeface="隶书"/>
                  </a:rPr>
                  <a:t>思维训练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31"/>
              <p:cNvSpPr/>
              <p:nvPr/>
            </p:nvSpPr>
            <p:spPr>
              <a:xfrm>
                <a:off x="2419200" y="0"/>
                <a:ext cx="183600" cy="51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96" name="Picture 32" descr="678"/>
            <p:cNvPicPr/>
            <p:nvPr/>
          </p:nvPicPr>
          <p:blipFill>
            <a:blip r:embed="rId3"/>
            <a:stretch/>
          </p:blipFill>
          <p:spPr>
            <a:xfrm>
              <a:off x="2901600" y="1440"/>
              <a:ext cx="1219320" cy="68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7" name="Picture 33" descr="gif003[1]">
              <a:hlinkClick r:id="" action="ppaction://hlinkshowjump?jump=lastslide"/>
            </p:cNvPr>
            <p:cNvPicPr/>
            <p:nvPr/>
          </p:nvPicPr>
          <p:blipFill>
            <a:blip r:embed="rId4"/>
            <a:stretch/>
          </p:blipFill>
          <p:spPr>
            <a:xfrm>
              <a:off x="539640" y="15372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8" name="AutoShape 34"/>
          <p:cNvSpPr/>
          <p:nvPr/>
        </p:nvSpPr>
        <p:spPr>
          <a:xfrm>
            <a:off x="8317080" y="5950080"/>
            <a:ext cx="502920" cy="3585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288" h="21600">
                <a:moveTo>
                  <a:pt x="0" y="0"/>
                </a:moveTo>
                <a:lnTo>
                  <a:pt x="30288" y="0"/>
                </a:lnTo>
                <a:lnTo>
                  <a:pt x="30288" y="21600"/>
                </a:lnTo>
                <a:lnTo>
                  <a:pt x="0" y="21600"/>
                </a:lnTo>
                <a:close/>
              </a:path>
              <a:path fill="lightenLess" w="30288" h="21600">
                <a:moveTo>
                  <a:pt x="0" y="0"/>
                </a:moveTo>
                <a:lnTo>
                  <a:pt x="30288" y="0"/>
                </a:lnTo>
                <a:lnTo>
                  <a:pt x="28888" y="1400"/>
                </a:lnTo>
                <a:lnTo>
                  <a:pt x="1400" y="1400"/>
                </a:lnTo>
                <a:close/>
              </a:path>
              <a:path fill="darken" w="30288" h="21600">
                <a:moveTo>
                  <a:pt x="30288" y="0"/>
                </a:moveTo>
                <a:lnTo>
                  <a:pt x="30288" y="21600"/>
                </a:lnTo>
                <a:lnTo>
                  <a:pt x="28888" y="20200"/>
                </a:lnTo>
                <a:lnTo>
                  <a:pt x="28888" y="1400"/>
                </a:lnTo>
                <a:close/>
              </a:path>
              <a:path fill="darkenLess" w="30288" h="21600">
                <a:moveTo>
                  <a:pt x="3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8" y="20200"/>
                </a:lnTo>
                <a:close/>
              </a:path>
              <a:path fill="lighten" w="3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8" h="21600">
                <a:moveTo>
                  <a:pt x="18643" y="10800"/>
                </a:moveTo>
                <a:lnTo>
                  <a:pt x="8137" y="17806"/>
                </a:lnTo>
                <a:lnTo>
                  <a:pt x="8137" y="3794"/>
                </a:lnTo>
                <a:close/>
              </a:path>
              <a:path fill="darken" w="30288" h="21600">
                <a:moveTo>
                  <a:pt x="20488" y="3794"/>
                </a:moveTo>
                <a:lnTo>
                  <a:pt x="20488" y="17806"/>
                </a:lnTo>
                <a:lnTo>
                  <a:pt x="22150" y="17806"/>
                </a:lnTo>
                <a:lnTo>
                  <a:pt x="2215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9" name="Picture 2" descr="BAS004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0" name="Text Box 3"/>
          <p:cNvSpPr/>
          <p:nvPr/>
        </p:nvSpPr>
        <p:spPr>
          <a:xfrm>
            <a:off x="2895480" y="2209680"/>
            <a:ext cx="2971800" cy="1099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…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WordArt 4"/>
          <p:cNvSpPr txBox="1"/>
          <p:nvPr/>
        </p:nvSpPr>
        <p:spPr>
          <a:xfrm>
            <a:off x="1523880" y="1600200"/>
            <a:ext cx="6172200" cy="2362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请谈谈你的收获</a:t>
            </a:r>
            <a:endParaRPr b="0" lang="en-US" sz="2800" spc="1" strike="noStrike">
              <a:ln w="9360">
                <a:solidFill>
                  <a:srgbClr val="0000ff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702" name="AutoShape 5"/>
          <p:cNvSpPr/>
          <p:nvPr/>
        </p:nvSpPr>
        <p:spPr>
          <a:xfrm>
            <a:off x="8317080" y="5950080"/>
            <a:ext cx="502920" cy="3585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288" h="21600">
                <a:moveTo>
                  <a:pt x="0" y="0"/>
                </a:moveTo>
                <a:lnTo>
                  <a:pt x="30288" y="0"/>
                </a:lnTo>
                <a:lnTo>
                  <a:pt x="30288" y="21600"/>
                </a:lnTo>
                <a:lnTo>
                  <a:pt x="0" y="21600"/>
                </a:lnTo>
                <a:close/>
              </a:path>
              <a:path fill="lightenLess" w="30288" h="21600">
                <a:moveTo>
                  <a:pt x="0" y="0"/>
                </a:moveTo>
                <a:lnTo>
                  <a:pt x="30288" y="0"/>
                </a:lnTo>
                <a:lnTo>
                  <a:pt x="28888" y="1400"/>
                </a:lnTo>
                <a:lnTo>
                  <a:pt x="1400" y="1400"/>
                </a:lnTo>
                <a:close/>
              </a:path>
              <a:path fill="darken" w="30288" h="21600">
                <a:moveTo>
                  <a:pt x="30288" y="0"/>
                </a:moveTo>
                <a:lnTo>
                  <a:pt x="30288" y="21600"/>
                </a:lnTo>
                <a:lnTo>
                  <a:pt x="28888" y="20200"/>
                </a:lnTo>
                <a:lnTo>
                  <a:pt x="28888" y="1400"/>
                </a:lnTo>
                <a:close/>
              </a:path>
              <a:path fill="darkenLess" w="30288" h="21600">
                <a:moveTo>
                  <a:pt x="3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8" y="20200"/>
                </a:lnTo>
                <a:close/>
              </a:path>
              <a:path fill="lighten" w="3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8" h="21600">
                <a:moveTo>
                  <a:pt x="18643" y="10800"/>
                </a:moveTo>
                <a:lnTo>
                  <a:pt x="8137" y="17806"/>
                </a:lnTo>
                <a:lnTo>
                  <a:pt x="8137" y="3794"/>
                </a:lnTo>
                <a:close/>
              </a:path>
              <a:path fill="darken" w="30288" h="21600">
                <a:moveTo>
                  <a:pt x="20488" y="3794"/>
                </a:moveTo>
                <a:lnTo>
                  <a:pt x="20488" y="17806"/>
                </a:lnTo>
                <a:lnTo>
                  <a:pt x="22150" y="17806"/>
                </a:lnTo>
                <a:lnTo>
                  <a:pt x="2215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7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410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0000"/>
                </a:solidFill>
                <a:latin typeface="Arial"/>
                <a:ea typeface="楷体_GB2312"/>
              </a:rPr>
              <a:t>自主评价：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3"/>
          <p:cNvSpPr/>
          <p:nvPr/>
        </p:nvSpPr>
        <p:spPr>
          <a:xfrm>
            <a:off x="541440" y="19890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勾股定理的逆定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4"/>
          <p:cNvSpPr/>
          <p:nvPr/>
        </p:nvSpPr>
        <p:spPr>
          <a:xfrm>
            <a:off x="576360" y="2781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什么叫做互逆命题、原命题与逆命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"/>
          <p:cNvSpPr/>
          <p:nvPr/>
        </p:nvSpPr>
        <p:spPr>
          <a:xfrm>
            <a:off x="612720" y="3724200"/>
            <a:ext cx="63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什么称为互为逆定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8"/>
          <p:cNvSpPr/>
          <p:nvPr/>
        </p:nvSpPr>
        <p:spPr>
          <a:xfrm>
            <a:off x="8317080" y="5950080"/>
            <a:ext cx="502920" cy="3585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30288" h="21600">
                <a:moveTo>
                  <a:pt x="0" y="0"/>
                </a:moveTo>
                <a:lnTo>
                  <a:pt x="30288" y="0"/>
                </a:lnTo>
                <a:lnTo>
                  <a:pt x="30288" y="21600"/>
                </a:lnTo>
                <a:lnTo>
                  <a:pt x="0" y="21600"/>
                </a:lnTo>
                <a:close/>
              </a:path>
              <a:path fill="lightenLess" w="30288" h="21600">
                <a:moveTo>
                  <a:pt x="0" y="0"/>
                </a:moveTo>
                <a:lnTo>
                  <a:pt x="30288" y="0"/>
                </a:lnTo>
                <a:lnTo>
                  <a:pt x="28888" y="1400"/>
                </a:lnTo>
                <a:lnTo>
                  <a:pt x="1400" y="1400"/>
                </a:lnTo>
                <a:close/>
              </a:path>
              <a:path fill="darken" w="30288" h="21600">
                <a:moveTo>
                  <a:pt x="30288" y="0"/>
                </a:moveTo>
                <a:lnTo>
                  <a:pt x="30288" y="21600"/>
                </a:lnTo>
                <a:lnTo>
                  <a:pt x="28888" y="20200"/>
                </a:lnTo>
                <a:lnTo>
                  <a:pt x="28888" y="1400"/>
                </a:lnTo>
                <a:close/>
              </a:path>
              <a:path fill="darkenLess" w="30288" h="21600">
                <a:moveTo>
                  <a:pt x="30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88" y="20200"/>
                </a:lnTo>
                <a:close/>
              </a:path>
              <a:path fill="lighten" w="30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88" h="21600">
                <a:moveTo>
                  <a:pt x="18643" y="10800"/>
                </a:moveTo>
                <a:lnTo>
                  <a:pt x="8137" y="17806"/>
                </a:lnTo>
                <a:lnTo>
                  <a:pt x="8137" y="3794"/>
                </a:lnTo>
                <a:close/>
              </a:path>
              <a:path fill="darken" w="30288" h="21600">
                <a:moveTo>
                  <a:pt x="20488" y="3794"/>
                </a:moveTo>
                <a:lnTo>
                  <a:pt x="20488" y="17806"/>
                </a:lnTo>
                <a:lnTo>
                  <a:pt x="22150" y="17806"/>
                </a:lnTo>
                <a:lnTo>
                  <a:pt x="22150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0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8" name="Picture 4" descr="200411168169392"/>
          <p:cNvPicPr/>
          <p:nvPr/>
        </p:nvPicPr>
        <p:blipFill>
          <a:blip r:embed="rId1"/>
          <a:stretch/>
        </p:blipFill>
        <p:spPr>
          <a:xfrm>
            <a:off x="0" y="5257800"/>
            <a:ext cx="7696080" cy="108252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" descr="face041022"/>
          <p:cNvPicPr/>
          <p:nvPr/>
        </p:nvPicPr>
        <p:blipFill>
          <a:blip r:embed="rId2"/>
          <a:stretch/>
        </p:blipFill>
        <p:spPr>
          <a:xfrm>
            <a:off x="8166240" y="4038480"/>
            <a:ext cx="977760" cy="153360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6" descr="dw059"/>
          <p:cNvPicPr/>
          <p:nvPr/>
        </p:nvPicPr>
        <p:blipFill>
          <a:blip r:embed="rId3"/>
          <a:stretch/>
        </p:blipFill>
        <p:spPr>
          <a:xfrm>
            <a:off x="7262640" y="5257800"/>
            <a:ext cx="1881360" cy="1343160"/>
          </a:xfrm>
          <a:prstGeom prst="rect">
            <a:avLst/>
          </a:prstGeom>
          <a:ln w="0">
            <a:noFill/>
          </a:ln>
        </p:spPr>
      </p:pic>
      <p:sp>
        <p:nvSpPr>
          <p:cNvPr id="711" name="Rectangle 7"/>
          <p:cNvSpPr/>
          <p:nvPr/>
        </p:nvSpPr>
        <p:spPr>
          <a:xfrm>
            <a:off x="755640" y="1700280"/>
            <a:ext cx="684072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作业：</a:t>
            </a: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84</a:t>
            </a: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页，</a:t>
            </a:r>
            <a:br>
              <a:rPr sz="4600"/>
            </a:b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习题</a:t>
            </a: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18.2</a:t>
            </a: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第</a:t>
            </a: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题、第</a:t>
            </a:r>
            <a:r>
              <a:rPr b="1" lang="en-US" sz="4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600" spc="-1" strike="noStrike">
                <a:solidFill>
                  <a:srgbClr val="ff0000"/>
                </a:solidFill>
                <a:latin typeface="Arial"/>
              </a:rPr>
              <a:t>题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6"/>
          <p:cNvSpPr/>
          <p:nvPr/>
        </p:nvSpPr>
        <p:spPr>
          <a:xfrm>
            <a:off x="1476360" y="443700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古埃及人曾用下面的方法得到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8" descr="h919"/>
          <p:cNvPicPr/>
          <p:nvPr/>
        </p:nvPicPr>
        <p:blipFill>
          <a:blip r:embed="rId1"/>
          <a:stretch/>
        </p:blipFill>
        <p:spPr>
          <a:xfrm>
            <a:off x="1835280" y="692280"/>
            <a:ext cx="2238120" cy="27478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pic_219066"/>
          <p:cNvPicPr/>
          <p:nvPr/>
        </p:nvPicPr>
        <p:blipFill>
          <a:blip r:embed="rId2"/>
          <a:stretch/>
        </p:blipFill>
        <p:spPr>
          <a:xfrm>
            <a:off x="5867280" y="836640"/>
            <a:ext cx="1828800" cy="26240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AC54F-0F55-42DE-9D77-AEF22F4D029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4724280" cy="6858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</a:rPr>
              <a:t>勾股定理的逆命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685440" y="68544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三角形的较长边的平方等于其它两条较短边的平方和，那么这个三角形是直角三角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4" descr="401"/>
          <p:cNvPicPr/>
          <p:nvPr/>
        </p:nvPicPr>
        <p:blipFill>
          <a:blip r:embed="rId1"/>
          <a:stretch/>
        </p:blipFill>
        <p:spPr>
          <a:xfrm>
            <a:off x="1447920" y="3581280"/>
            <a:ext cx="1681200" cy="2667240"/>
          </a:xfrm>
          <a:prstGeom prst="rect">
            <a:avLst/>
          </a:prstGeom>
          <a:ln w="0">
            <a:noFill/>
          </a:ln>
        </p:spPr>
      </p:pic>
      <p:grpSp>
        <p:nvGrpSpPr>
          <p:cNvPr id="719" name="Group 5"/>
          <p:cNvGrpSpPr/>
          <p:nvPr/>
        </p:nvGrpSpPr>
        <p:grpSpPr>
          <a:xfrm>
            <a:off x="6934320" y="5638680"/>
            <a:ext cx="152280" cy="228240"/>
            <a:chOff x="6934320" y="5638680"/>
            <a:chExt cx="152280" cy="228240"/>
          </a:xfrm>
        </p:grpSpPr>
        <p:grpSp>
          <p:nvGrpSpPr>
            <p:cNvPr id="720" name=""/>
            <p:cNvGrpSpPr/>
            <p:nvPr/>
          </p:nvGrpSpPr>
          <p:grpSpPr>
            <a:xfrm>
              <a:off x="6934320" y="5638680"/>
              <a:ext cx="152280" cy="360"/>
              <a:chOff x="6934320" y="5638680"/>
              <a:chExt cx="152280" cy="360"/>
            </a:xfrm>
          </p:grpSpPr>
          <p:sp>
            <p:nvSpPr>
              <p:cNvPr id="721" name="Line 6"/>
              <p:cNvSpPr/>
              <p:nvPr/>
            </p:nvSpPr>
            <p:spPr>
              <a:xfrm>
                <a:off x="6934320" y="5638680"/>
                <a:ext cx="152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 txBox="1"/>
              <p:nvPr/>
            </p:nvSpPr>
            <p:spPr>
              <a:xfrm>
                <a:off x="6934320" y="563868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934320" y="5638680"/>
              <a:ext cx="360" cy="228240"/>
              <a:chOff x="6934320" y="5638680"/>
              <a:chExt cx="360" cy="228240"/>
            </a:xfrm>
          </p:grpSpPr>
          <p:sp>
            <p:nvSpPr>
              <p:cNvPr id="724" name="Line 7"/>
              <p:cNvSpPr/>
              <p:nvPr/>
            </p:nvSpPr>
            <p:spPr>
              <a:xfrm>
                <a:off x="6934320" y="5638680"/>
                <a:ext cx="0" cy="22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 txBox="1"/>
              <p:nvPr/>
            </p:nvSpPr>
            <p:spPr>
              <a:xfrm>
                <a:off x="6934320" y="5638680"/>
                <a:ext cx="360" cy="228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Text Box 8"/>
          <p:cNvSpPr/>
          <p:nvPr/>
        </p:nvSpPr>
        <p:spPr>
          <a:xfrm>
            <a:off x="762120" y="16002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已知：在△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中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AB=c  BC=a  CA=b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且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+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=c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9"/>
          <p:cNvSpPr/>
          <p:nvPr/>
        </p:nvSpPr>
        <p:spPr>
          <a:xfrm>
            <a:off x="762120" y="2133720"/>
            <a:ext cx="5029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求证：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△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ABC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是直角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0"/>
          <p:cNvSpPr/>
          <p:nvPr/>
        </p:nvSpPr>
        <p:spPr>
          <a:xfrm>
            <a:off x="762120" y="2590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宋体"/>
              </a:rPr>
              <a:t>证明：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画一个△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A’B’C’,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使∠ 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C’=90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imes New Roman"/>
                <a:ea typeface="宋体"/>
              </a:rPr>
              <a:t>0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宋体"/>
              </a:rPr>
              <a:t>,B’C’=a,  C’A’=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"/>
          <p:cNvGrpSpPr/>
          <p:nvPr/>
        </p:nvGrpSpPr>
        <p:grpSpPr>
          <a:xfrm>
            <a:off x="5867280" y="5867280"/>
            <a:ext cx="1219320" cy="360"/>
            <a:chOff x="5867280" y="5867280"/>
            <a:chExt cx="1219320" cy="360"/>
          </a:xfrm>
        </p:grpSpPr>
        <p:sp>
          <p:nvSpPr>
            <p:cNvPr id="730" name="Line 11"/>
            <p:cNvSpPr/>
            <p:nvPr/>
          </p:nvSpPr>
          <p:spPr>
            <a:xfrm>
              <a:off x="5867280" y="586728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 txBox="1"/>
            <p:nvPr/>
          </p:nvSpPr>
          <p:spPr>
            <a:xfrm>
              <a:off x="5867280" y="5867280"/>
              <a:ext cx="1219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7086600" y="3733920"/>
            <a:ext cx="360" cy="2133360"/>
            <a:chOff x="7086600" y="3733920"/>
            <a:chExt cx="360" cy="2133360"/>
          </a:xfrm>
        </p:grpSpPr>
        <p:sp>
          <p:nvSpPr>
            <p:cNvPr id="733" name="Line 12"/>
            <p:cNvSpPr/>
            <p:nvPr/>
          </p:nvSpPr>
          <p:spPr>
            <a:xfrm>
              <a:off x="7086600" y="3733920"/>
              <a:ext cx="0" cy="21333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 txBox="1"/>
            <p:nvPr/>
          </p:nvSpPr>
          <p:spPr>
            <a:xfrm>
              <a:off x="7086600" y="3733920"/>
              <a:ext cx="360" cy="21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5866920" y="3733920"/>
            <a:ext cx="1219680" cy="2133360"/>
            <a:chOff x="5866920" y="3733920"/>
            <a:chExt cx="1219680" cy="2133360"/>
          </a:xfrm>
        </p:grpSpPr>
        <p:sp>
          <p:nvSpPr>
            <p:cNvPr id="736" name="Line 13"/>
            <p:cNvSpPr/>
            <p:nvPr/>
          </p:nvSpPr>
          <p:spPr>
            <a:xfrm flipH="1">
              <a:off x="5866920" y="3733920"/>
              <a:ext cx="1219320" cy="213336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 txBox="1"/>
            <p:nvPr/>
          </p:nvSpPr>
          <p:spPr>
            <a:xfrm>
              <a:off x="5867280" y="3733920"/>
              <a:ext cx="1219320" cy="2133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Group 14"/>
          <p:cNvGrpSpPr/>
          <p:nvPr/>
        </p:nvGrpSpPr>
        <p:grpSpPr>
          <a:xfrm>
            <a:off x="6705720" y="5867280"/>
            <a:ext cx="152280" cy="228600"/>
            <a:chOff x="6705720" y="5867280"/>
            <a:chExt cx="152280" cy="228600"/>
          </a:xfrm>
        </p:grpSpPr>
        <p:grpSp>
          <p:nvGrpSpPr>
            <p:cNvPr id="739" name=""/>
            <p:cNvGrpSpPr/>
            <p:nvPr/>
          </p:nvGrpSpPr>
          <p:grpSpPr>
            <a:xfrm>
              <a:off x="6705720" y="5867280"/>
              <a:ext cx="152280" cy="360"/>
              <a:chOff x="6705720" y="5867280"/>
              <a:chExt cx="152280" cy="360"/>
            </a:xfrm>
          </p:grpSpPr>
          <p:sp>
            <p:nvSpPr>
              <p:cNvPr id="740" name="Line 15"/>
              <p:cNvSpPr/>
              <p:nvPr/>
            </p:nvSpPr>
            <p:spPr>
              <a:xfrm>
                <a:off x="6705720" y="5867280"/>
                <a:ext cx="1522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 txBox="1"/>
              <p:nvPr/>
            </p:nvSpPr>
            <p:spPr>
              <a:xfrm>
                <a:off x="6705720" y="5867280"/>
                <a:ext cx="152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6705720" y="5867280"/>
              <a:ext cx="360" cy="228600"/>
              <a:chOff x="6705720" y="5867280"/>
              <a:chExt cx="360" cy="228600"/>
            </a:xfrm>
          </p:grpSpPr>
          <p:sp>
            <p:nvSpPr>
              <p:cNvPr id="743" name="Line 16"/>
              <p:cNvSpPr/>
              <p:nvPr/>
            </p:nvSpPr>
            <p:spPr>
              <a:xfrm>
                <a:off x="6705720" y="5867280"/>
                <a:ext cx="0" cy="22860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 txBox="1"/>
              <p:nvPr/>
            </p:nvSpPr>
            <p:spPr>
              <a:xfrm>
                <a:off x="6705720" y="5867280"/>
                <a:ext cx="360" cy="2286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5" name="Text Box 17"/>
          <p:cNvSpPr/>
          <p:nvPr/>
        </p:nvSpPr>
        <p:spPr>
          <a:xfrm>
            <a:off x="6248520" y="579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8"/>
          <p:cNvSpPr/>
          <p:nvPr/>
        </p:nvSpPr>
        <p:spPr>
          <a:xfrm>
            <a:off x="7238880" y="4800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9"/>
          <p:cNvSpPr/>
          <p:nvPr/>
        </p:nvSpPr>
        <p:spPr>
          <a:xfrm>
            <a:off x="6934320" y="3429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20"/>
          <p:cNvSpPr/>
          <p:nvPr/>
        </p:nvSpPr>
        <p:spPr>
          <a:xfrm>
            <a:off x="5410080" y="57150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B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21"/>
          <p:cNvSpPr/>
          <p:nvPr/>
        </p:nvSpPr>
        <p:spPr>
          <a:xfrm>
            <a:off x="7162920" y="5638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C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5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4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9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34"/>
          <p:cNvGrpSpPr/>
          <p:nvPr/>
        </p:nvGrpSpPr>
        <p:grpSpPr>
          <a:xfrm>
            <a:off x="6021360" y="2892600"/>
            <a:ext cx="2438280" cy="1828800"/>
            <a:chOff x="6021360" y="2892600"/>
            <a:chExt cx="2438280" cy="1828800"/>
          </a:xfrm>
        </p:grpSpPr>
        <p:grpSp>
          <p:nvGrpSpPr>
            <p:cNvPr id="200" name=""/>
            <p:cNvGrpSpPr/>
            <p:nvPr/>
          </p:nvGrpSpPr>
          <p:grpSpPr>
            <a:xfrm>
              <a:off x="6021360" y="2892600"/>
              <a:ext cx="2438280" cy="1828800"/>
              <a:chOff x="6021360" y="2892600"/>
              <a:chExt cx="2438280" cy="1828800"/>
            </a:xfrm>
          </p:grpSpPr>
          <p:sp>
            <p:nvSpPr>
              <p:cNvPr id="201" name="Line 35"/>
              <p:cNvSpPr/>
              <p:nvPr/>
            </p:nvSpPr>
            <p:spPr>
              <a:xfrm>
                <a:off x="6021360" y="2892600"/>
                <a:ext cx="2438280" cy="182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 txBox="1"/>
              <p:nvPr/>
            </p:nvSpPr>
            <p:spPr>
              <a:xfrm>
                <a:off x="6021360" y="2892600"/>
                <a:ext cx="2438280" cy="1828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AutoShape 36"/>
            <p:cNvSpPr/>
            <p:nvPr/>
          </p:nvSpPr>
          <p:spPr>
            <a:xfrm>
              <a:off x="6859440" y="3502080"/>
              <a:ext cx="101880" cy="1414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7"/>
            <p:cNvSpPr/>
            <p:nvPr/>
          </p:nvSpPr>
          <p:spPr>
            <a:xfrm>
              <a:off x="6478560" y="31975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AutoShape 38"/>
            <p:cNvSpPr/>
            <p:nvPr/>
          </p:nvSpPr>
          <p:spPr>
            <a:xfrm>
              <a:off x="7316640" y="3821400"/>
              <a:ext cx="10188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AutoShape 39"/>
            <p:cNvSpPr/>
            <p:nvPr/>
          </p:nvSpPr>
          <p:spPr>
            <a:xfrm>
              <a:off x="7850160" y="420228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47"/>
          <p:cNvGrpSpPr/>
          <p:nvPr/>
        </p:nvGrpSpPr>
        <p:grpSpPr>
          <a:xfrm>
            <a:off x="5959440" y="4656240"/>
            <a:ext cx="2500200" cy="141120"/>
            <a:chOff x="5959440" y="4656240"/>
            <a:chExt cx="2500200" cy="141120"/>
          </a:xfrm>
        </p:grpSpPr>
        <p:grpSp>
          <p:nvGrpSpPr>
            <p:cNvPr id="208" name=""/>
            <p:cNvGrpSpPr/>
            <p:nvPr/>
          </p:nvGrpSpPr>
          <p:grpSpPr>
            <a:xfrm>
              <a:off x="5959440" y="4721400"/>
              <a:ext cx="2438280" cy="360"/>
              <a:chOff x="5959440" y="4721400"/>
              <a:chExt cx="2438280" cy="360"/>
            </a:xfrm>
          </p:grpSpPr>
          <p:sp>
            <p:nvSpPr>
              <p:cNvPr id="209" name="Line 3"/>
              <p:cNvSpPr/>
              <p:nvPr/>
            </p:nvSpPr>
            <p:spPr>
              <a:xfrm>
                <a:off x="5959440" y="4721400"/>
                <a:ext cx="2438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>
                <a:off x="5959440" y="472140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AutoShape 4"/>
            <p:cNvSpPr/>
            <p:nvPr/>
          </p:nvSpPr>
          <p:spPr>
            <a:xfrm>
              <a:off x="7734240" y="465624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AutoShape 5"/>
            <p:cNvSpPr/>
            <p:nvPr/>
          </p:nvSpPr>
          <p:spPr>
            <a:xfrm>
              <a:off x="7139160" y="465624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6"/>
            <p:cNvSpPr/>
            <p:nvPr/>
          </p:nvSpPr>
          <p:spPr>
            <a:xfrm>
              <a:off x="6507000" y="4656240"/>
              <a:ext cx="10188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AutoShape 7"/>
            <p:cNvSpPr/>
            <p:nvPr/>
          </p:nvSpPr>
          <p:spPr>
            <a:xfrm>
              <a:off x="8358120" y="4656240"/>
              <a:ext cx="101520" cy="141120"/>
            </a:xfrm>
            <a:prstGeom prst="flowChartConnector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762120" y="1523880"/>
            <a:ext cx="7391160" cy="360"/>
            <a:chOff x="762120" y="1523880"/>
            <a:chExt cx="7391160" cy="360"/>
          </a:xfrm>
        </p:grpSpPr>
        <p:sp>
          <p:nvSpPr>
            <p:cNvPr id="216" name="Line 8"/>
            <p:cNvSpPr/>
            <p:nvPr/>
          </p:nvSpPr>
          <p:spPr>
            <a:xfrm>
              <a:off x="762120" y="1523880"/>
              <a:ext cx="739116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762120" y="1523880"/>
              <a:ext cx="7391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Group 9"/>
          <p:cNvGrpSpPr/>
          <p:nvPr/>
        </p:nvGrpSpPr>
        <p:grpSpPr>
          <a:xfrm>
            <a:off x="762120" y="1447920"/>
            <a:ext cx="7470720" cy="150840"/>
            <a:chOff x="762120" y="1447920"/>
            <a:chExt cx="7470720" cy="150840"/>
          </a:xfrm>
        </p:grpSpPr>
        <p:sp>
          <p:nvSpPr>
            <p:cNvPr id="219" name="AutoShape 10"/>
            <p:cNvSpPr/>
            <p:nvPr/>
          </p:nvSpPr>
          <p:spPr>
            <a:xfrm>
              <a:off x="762120" y="1457280"/>
              <a:ext cx="101520" cy="1414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AutoShape 11"/>
            <p:cNvSpPr/>
            <p:nvPr/>
          </p:nvSpPr>
          <p:spPr>
            <a:xfrm>
              <a:off x="813132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12"/>
            <p:cNvSpPr/>
            <p:nvPr/>
          </p:nvSpPr>
          <p:spPr>
            <a:xfrm>
              <a:off x="751680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13"/>
            <p:cNvSpPr/>
            <p:nvPr/>
          </p:nvSpPr>
          <p:spPr>
            <a:xfrm>
              <a:off x="6902280" y="1447920"/>
              <a:ext cx="10188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14"/>
            <p:cNvSpPr/>
            <p:nvPr/>
          </p:nvSpPr>
          <p:spPr>
            <a:xfrm>
              <a:off x="6288120" y="1447920"/>
              <a:ext cx="1033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15"/>
            <p:cNvSpPr/>
            <p:nvPr/>
          </p:nvSpPr>
          <p:spPr>
            <a:xfrm>
              <a:off x="5673600" y="1447920"/>
              <a:ext cx="1033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16"/>
            <p:cNvSpPr/>
            <p:nvPr/>
          </p:nvSpPr>
          <p:spPr>
            <a:xfrm>
              <a:off x="5060880" y="1457280"/>
              <a:ext cx="101520" cy="1414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AutoShape 17"/>
            <p:cNvSpPr/>
            <p:nvPr/>
          </p:nvSpPr>
          <p:spPr>
            <a:xfrm>
              <a:off x="444672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AutoShape 18"/>
            <p:cNvSpPr/>
            <p:nvPr/>
          </p:nvSpPr>
          <p:spPr>
            <a:xfrm>
              <a:off x="383220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AutoShape 19"/>
            <p:cNvSpPr/>
            <p:nvPr/>
          </p:nvSpPr>
          <p:spPr>
            <a:xfrm>
              <a:off x="3218040" y="1447920"/>
              <a:ext cx="10296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AutoShape 20"/>
            <p:cNvSpPr/>
            <p:nvPr/>
          </p:nvSpPr>
          <p:spPr>
            <a:xfrm>
              <a:off x="2603520" y="1447920"/>
              <a:ext cx="1033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21"/>
            <p:cNvSpPr/>
            <p:nvPr/>
          </p:nvSpPr>
          <p:spPr>
            <a:xfrm>
              <a:off x="199080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22"/>
            <p:cNvSpPr/>
            <p:nvPr/>
          </p:nvSpPr>
          <p:spPr>
            <a:xfrm>
              <a:off x="1376280" y="144792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AutoShape 23"/>
          <p:cNvSpPr/>
          <p:nvPr/>
        </p:nvSpPr>
        <p:spPr>
          <a:xfrm>
            <a:off x="2590920" y="1447920"/>
            <a:ext cx="101520" cy="14112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24"/>
          <p:cNvSpPr/>
          <p:nvPr/>
        </p:nvSpPr>
        <p:spPr>
          <a:xfrm>
            <a:off x="5051520" y="1461960"/>
            <a:ext cx="101520" cy="14148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25"/>
          <p:cNvGrpSpPr/>
          <p:nvPr/>
        </p:nvGrpSpPr>
        <p:grpSpPr>
          <a:xfrm>
            <a:off x="762120" y="1447920"/>
            <a:ext cx="7467480" cy="155520"/>
            <a:chOff x="762120" y="1447920"/>
            <a:chExt cx="7467480" cy="155520"/>
          </a:xfrm>
        </p:grpSpPr>
        <p:sp>
          <p:nvSpPr>
            <p:cNvPr id="235" name="AutoShape 26"/>
            <p:cNvSpPr/>
            <p:nvPr/>
          </p:nvSpPr>
          <p:spPr>
            <a:xfrm>
              <a:off x="762120" y="1461960"/>
              <a:ext cx="101520" cy="14148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AutoShape 27"/>
            <p:cNvSpPr/>
            <p:nvPr/>
          </p:nvSpPr>
          <p:spPr>
            <a:xfrm>
              <a:off x="8128080" y="1447920"/>
              <a:ext cx="101520" cy="141120"/>
            </a:xfrm>
            <a:prstGeom prst="flowChartConnector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AutoShape 28"/>
          <p:cNvSpPr/>
          <p:nvPr/>
        </p:nvSpPr>
        <p:spPr>
          <a:xfrm rot="5400000">
            <a:off x="5943240" y="2815920"/>
            <a:ext cx="101520" cy="1429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29"/>
          <p:cNvGrpSpPr/>
          <p:nvPr/>
        </p:nvGrpSpPr>
        <p:grpSpPr>
          <a:xfrm>
            <a:off x="5908320" y="2938320"/>
            <a:ext cx="152640" cy="1854000"/>
            <a:chOff x="5908320" y="2938320"/>
            <a:chExt cx="152640" cy="1854000"/>
          </a:xfrm>
        </p:grpSpPr>
        <p:grpSp>
          <p:nvGrpSpPr>
            <p:cNvPr id="239" name=""/>
            <p:cNvGrpSpPr/>
            <p:nvPr/>
          </p:nvGrpSpPr>
          <p:grpSpPr>
            <a:xfrm>
              <a:off x="5989320" y="2938320"/>
              <a:ext cx="360" cy="1833480"/>
              <a:chOff x="5989320" y="2938320"/>
              <a:chExt cx="360" cy="1833480"/>
            </a:xfrm>
          </p:grpSpPr>
          <p:sp>
            <p:nvSpPr>
              <p:cNvPr id="240" name="Line 30"/>
              <p:cNvSpPr/>
              <p:nvPr/>
            </p:nvSpPr>
            <p:spPr>
              <a:xfrm>
                <a:off x="5989680" y="2938320"/>
                <a:ext cx="0" cy="183348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 txBox="1"/>
              <p:nvPr/>
            </p:nvSpPr>
            <p:spPr>
              <a:xfrm rot="5400000">
                <a:off x="5072760" y="3854880"/>
                <a:ext cx="18334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AutoShape 31"/>
            <p:cNvSpPr/>
            <p:nvPr/>
          </p:nvSpPr>
          <p:spPr>
            <a:xfrm rot="5400000">
              <a:off x="5939280" y="3456360"/>
              <a:ext cx="10188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32"/>
            <p:cNvSpPr/>
            <p:nvPr/>
          </p:nvSpPr>
          <p:spPr>
            <a:xfrm rot="5400000">
              <a:off x="5928120" y="4081680"/>
              <a:ext cx="101880" cy="1414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33"/>
            <p:cNvSpPr/>
            <p:nvPr/>
          </p:nvSpPr>
          <p:spPr>
            <a:xfrm rot="5400000">
              <a:off x="5928120" y="4670640"/>
              <a:ext cx="101520" cy="141480"/>
            </a:xfrm>
            <a:prstGeom prst="flowChartConnector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45" name="AutoShape 40"/>
          <p:cNvCxnSpPr/>
          <p:nvPr/>
        </p:nvCxnSpPr>
        <p:spPr>
          <a:xfrm>
            <a:off x="5987880" y="4339800"/>
            <a:ext cx="153360" cy="3819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46" name="Text Box 41"/>
          <p:cNvSpPr/>
          <p:nvPr/>
        </p:nvSpPr>
        <p:spPr>
          <a:xfrm>
            <a:off x="2117880" y="50450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42"/>
          <p:cNvSpPr/>
          <p:nvPr/>
        </p:nvSpPr>
        <p:spPr>
          <a:xfrm>
            <a:off x="2916360" y="522936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按照这种做法真能得到一个</a:t>
            </a:r>
            <a:r>
              <a:rPr b="1" i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直角三角形</a:t>
            </a:r>
            <a:r>
              <a:rPr b="1" i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吗？</a:t>
            </a:r>
            <a:r>
              <a:rPr b="1" i="1" lang="zh-CN" sz="3200" spc="-1" strike="noStrike">
                <a:solidFill>
                  <a:srgbClr val="333399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4"/>
          <p:cNvSpPr/>
          <p:nvPr/>
        </p:nvSpPr>
        <p:spPr>
          <a:xfrm>
            <a:off x="250920" y="4762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古埃及人曾用下面的方法得到直角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5"/>
          <p:cNvSpPr/>
          <p:nvPr/>
        </p:nvSpPr>
        <p:spPr>
          <a:xfrm>
            <a:off x="468360" y="2133720"/>
            <a:ext cx="4843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用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等距的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把一根绳子分成等长的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然后以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结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结，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个结的长度为边长，用木桩钉成一个三角形，其中一个角便是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直角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Object 46" descr=""/>
          <p:cNvPicPr/>
          <p:nvPr/>
        </p:nvPicPr>
        <p:blipFill>
          <a:blip r:embed="rId1"/>
          <a:stretch/>
        </p:blipFill>
        <p:spPr>
          <a:xfrm>
            <a:off x="250920" y="4581360"/>
            <a:ext cx="2065320" cy="188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10"/>
          <p:cNvGrpSpPr/>
          <p:nvPr/>
        </p:nvGrpSpPr>
        <p:grpSpPr>
          <a:xfrm>
            <a:off x="900000" y="549360"/>
            <a:ext cx="2438280" cy="1828800"/>
            <a:chOff x="900000" y="549360"/>
            <a:chExt cx="2438280" cy="1828800"/>
          </a:xfrm>
        </p:grpSpPr>
        <p:grpSp>
          <p:nvGrpSpPr>
            <p:cNvPr id="252" name=""/>
            <p:cNvGrpSpPr/>
            <p:nvPr/>
          </p:nvGrpSpPr>
          <p:grpSpPr>
            <a:xfrm>
              <a:off x="900000" y="549360"/>
              <a:ext cx="2438280" cy="1828800"/>
              <a:chOff x="900000" y="549360"/>
              <a:chExt cx="2438280" cy="1828800"/>
            </a:xfrm>
          </p:grpSpPr>
          <p:sp>
            <p:nvSpPr>
              <p:cNvPr id="253" name="Line 11"/>
              <p:cNvSpPr/>
              <p:nvPr/>
            </p:nvSpPr>
            <p:spPr>
              <a:xfrm>
                <a:off x="900000" y="549360"/>
                <a:ext cx="2438280" cy="1828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 txBox="1"/>
              <p:nvPr/>
            </p:nvSpPr>
            <p:spPr>
              <a:xfrm>
                <a:off x="900000" y="549360"/>
                <a:ext cx="2438280" cy="1828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AutoShape 12"/>
            <p:cNvSpPr/>
            <p:nvPr/>
          </p:nvSpPr>
          <p:spPr>
            <a:xfrm>
              <a:off x="1738080" y="1158840"/>
              <a:ext cx="101880" cy="1414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13"/>
            <p:cNvSpPr/>
            <p:nvPr/>
          </p:nvSpPr>
          <p:spPr>
            <a:xfrm>
              <a:off x="1357200" y="85428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14"/>
            <p:cNvSpPr/>
            <p:nvPr/>
          </p:nvSpPr>
          <p:spPr>
            <a:xfrm>
              <a:off x="2195280" y="1478160"/>
              <a:ext cx="10188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15"/>
            <p:cNvSpPr/>
            <p:nvPr/>
          </p:nvSpPr>
          <p:spPr>
            <a:xfrm>
              <a:off x="2728800" y="185904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Group 16"/>
          <p:cNvGrpSpPr/>
          <p:nvPr/>
        </p:nvGrpSpPr>
        <p:grpSpPr>
          <a:xfrm>
            <a:off x="838080" y="2313000"/>
            <a:ext cx="2500200" cy="141120"/>
            <a:chOff x="838080" y="2313000"/>
            <a:chExt cx="2500200" cy="141120"/>
          </a:xfrm>
        </p:grpSpPr>
        <p:grpSp>
          <p:nvGrpSpPr>
            <p:cNvPr id="260" name=""/>
            <p:cNvGrpSpPr/>
            <p:nvPr/>
          </p:nvGrpSpPr>
          <p:grpSpPr>
            <a:xfrm>
              <a:off x="838080" y="2378160"/>
              <a:ext cx="2438280" cy="360"/>
              <a:chOff x="838080" y="2378160"/>
              <a:chExt cx="2438280" cy="360"/>
            </a:xfrm>
          </p:grpSpPr>
          <p:sp>
            <p:nvSpPr>
              <p:cNvPr id="261" name="Line 17"/>
              <p:cNvSpPr/>
              <p:nvPr/>
            </p:nvSpPr>
            <p:spPr>
              <a:xfrm>
                <a:off x="838080" y="2378160"/>
                <a:ext cx="2438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 txBox="1"/>
              <p:nvPr/>
            </p:nvSpPr>
            <p:spPr>
              <a:xfrm>
                <a:off x="838080" y="2378160"/>
                <a:ext cx="243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3" name="AutoShape 18"/>
            <p:cNvSpPr/>
            <p:nvPr/>
          </p:nvSpPr>
          <p:spPr>
            <a:xfrm>
              <a:off x="2612880" y="231300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AutoShape 19"/>
            <p:cNvSpPr/>
            <p:nvPr/>
          </p:nvSpPr>
          <p:spPr>
            <a:xfrm>
              <a:off x="2017800" y="2313000"/>
              <a:ext cx="10152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20"/>
            <p:cNvSpPr/>
            <p:nvPr/>
          </p:nvSpPr>
          <p:spPr>
            <a:xfrm>
              <a:off x="1385640" y="2313000"/>
              <a:ext cx="10188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AutoShape 21"/>
            <p:cNvSpPr/>
            <p:nvPr/>
          </p:nvSpPr>
          <p:spPr>
            <a:xfrm>
              <a:off x="3236760" y="2313000"/>
              <a:ext cx="101520" cy="141120"/>
            </a:xfrm>
            <a:prstGeom prst="flowChartConnector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AutoShape 22"/>
          <p:cNvSpPr/>
          <p:nvPr/>
        </p:nvSpPr>
        <p:spPr>
          <a:xfrm rot="5400000">
            <a:off x="821880" y="473040"/>
            <a:ext cx="101880" cy="1429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23"/>
          <p:cNvGrpSpPr/>
          <p:nvPr/>
        </p:nvGrpSpPr>
        <p:grpSpPr>
          <a:xfrm>
            <a:off x="786960" y="595440"/>
            <a:ext cx="152640" cy="1853640"/>
            <a:chOff x="786960" y="595440"/>
            <a:chExt cx="152640" cy="1853640"/>
          </a:xfrm>
        </p:grpSpPr>
        <p:grpSp>
          <p:nvGrpSpPr>
            <p:cNvPr id="269" name=""/>
            <p:cNvGrpSpPr/>
            <p:nvPr/>
          </p:nvGrpSpPr>
          <p:grpSpPr>
            <a:xfrm>
              <a:off x="867960" y="595440"/>
              <a:ext cx="360" cy="1833120"/>
              <a:chOff x="867960" y="595440"/>
              <a:chExt cx="360" cy="1833120"/>
            </a:xfrm>
          </p:grpSpPr>
          <p:sp>
            <p:nvSpPr>
              <p:cNvPr id="270" name="Line 24"/>
              <p:cNvSpPr/>
              <p:nvPr/>
            </p:nvSpPr>
            <p:spPr>
              <a:xfrm>
                <a:off x="868320" y="595440"/>
                <a:ext cx="0" cy="1833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 txBox="1"/>
              <p:nvPr/>
            </p:nvSpPr>
            <p:spPr>
              <a:xfrm rot="5400000">
                <a:off x="-48240" y="1511640"/>
                <a:ext cx="18331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" name="AutoShape 25"/>
            <p:cNvSpPr/>
            <p:nvPr/>
          </p:nvSpPr>
          <p:spPr>
            <a:xfrm rot="5400000">
              <a:off x="817920" y="1113120"/>
              <a:ext cx="101880" cy="14112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26"/>
            <p:cNvSpPr/>
            <p:nvPr/>
          </p:nvSpPr>
          <p:spPr>
            <a:xfrm rot="5400000">
              <a:off x="806760" y="1738800"/>
              <a:ext cx="101880" cy="141480"/>
            </a:xfrm>
            <a:prstGeom prst="flowChartConnector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27"/>
            <p:cNvSpPr/>
            <p:nvPr/>
          </p:nvSpPr>
          <p:spPr>
            <a:xfrm rot="5400000">
              <a:off x="806760" y="2327400"/>
              <a:ext cx="101520" cy="141480"/>
            </a:xfrm>
            <a:prstGeom prst="flowChartConnector">
              <a:avLst/>
            </a:prstGeom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5" name="AutoShape 28"/>
          <p:cNvCxnSpPr/>
          <p:nvPr/>
        </p:nvCxnSpPr>
        <p:spPr>
          <a:xfrm>
            <a:off x="865800" y="1996560"/>
            <a:ext cx="153000" cy="3819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276" name="Text Box 29"/>
          <p:cNvSpPr/>
          <p:nvPr/>
        </p:nvSpPr>
        <p:spPr>
          <a:xfrm>
            <a:off x="160560" y="123660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0"/>
          <p:cNvSpPr/>
          <p:nvPr/>
        </p:nvSpPr>
        <p:spPr>
          <a:xfrm>
            <a:off x="1602000" y="2532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31"/>
          <p:cNvSpPr/>
          <p:nvPr/>
        </p:nvSpPr>
        <p:spPr>
          <a:xfrm>
            <a:off x="2321280" y="7333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2"/>
          <p:cNvSpPr/>
          <p:nvPr/>
        </p:nvSpPr>
        <p:spPr>
          <a:xfrm>
            <a:off x="2267280" y="3068640"/>
            <a:ext cx="52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同学们观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个三角形的三条边有什么关系吗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41"/>
          <p:cNvGrpSpPr/>
          <p:nvPr/>
        </p:nvGrpSpPr>
        <p:grpSpPr>
          <a:xfrm>
            <a:off x="1386000" y="4365720"/>
            <a:ext cx="2194920" cy="663480"/>
            <a:chOff x="1386000" y="4365720"/>
            <a:chExt cx="2194920" cy="663480"/>
          </a:xfrm>
        </p:grpSpPr>
        <p:sp>
          <p:nvSpPr>
            <p:cNvPr id="281" name="Text Box 33"/>
            <p:cNvSpPr/>
            <p:nvPr/>
          </p:nvSpPr>
          <p:spPr>
            <a:xfrm>
              <a:off x="1386000" y="44942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Arial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 Box 34"/>
            <p:cNvSpPr/>
            <p:nvPr/>
          </p:nvSpPr>
          <p:spPr>
            <a:xfrm>
              <a:off x="1598760" y="4375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 Box 35"/>
            <p:cNvSpPr/>
            <p:nvPr/>
          </p:nvSpPr>
          <p:spPr>
            <a:xfrm>
              <a:off x="2273400" y="4484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Arial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 Box 36"/>
            <p:cNvSpPr/>
            <p:nvPr/>
          </p:nvSpPr>
          <p:spPr>
            <a:xfrm>
              <a:off x="2486520" y="4365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 Box 37"/>
            <p:cNvSpPr/>
            <p:nvPr/>
          </p:nvSpPr>
          <p:spPr>
            <a:xfrm>
              <a:off x="3061080" y="448452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800000"/>
                  </a:solidFill>
                  <a:latin typeface="Arial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38"/>
            <p:cNvSpPr/>
            <p:nvPr/>
          </p:nvSpPr>
          <p:spPr>
            <a:xfrm>
              <a:off x="3273840" y="4365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 Box 39"/>
            <p:cNvSpPr/>
            <p:nvPr/>
          </p:nvSpPr>
          <p:spPr>
            <a:xfrm>
              <a:off x="1878120" y="447660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 Box 40"/>
            <p:cNvSpPr/>
            <p:nvPr/>
          </p:nvSpPr>
          <p:spPr>
            <a:xfrm>
              <a:off x="2702160" y="4508640"/>
              <a:ext cx="38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971640" y="1267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面的三组数分别是一个三角形的三边长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"/>
          <p:cNvSpPr/>
          <p:nvPr/>
        </p:nvSpPr>
        <p:spPr>
          <a:xfrm>
            <a:off x="1763640" y="27082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2.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6.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；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11"/>
          <p:cNvGrpSpPr/>
          <p:nvPr/>
        </p:nvGrpSpPr>
        <p:grpSpPr>
          <a:xfrm>
            <a:off x="1295280" y="3710160"/>
            <a:ext cx="7453440" cy="1290960"/>
            <a:chOff x="1295280" y="3710160"/>
            <a:chExt cx="7453440" cy="1290960"/>
          </a:xfrm>
        </p:grpSpPr>
        <p:sp>
          <p:nvSpPr>
            <p:cNvPr id="292" name="Text Box 5"/>
            <p:cNvSpPr/>
            <p:nvPr/>
          </p:nvSpPr>
          <p:spPr>
            <a:xfrm>
              <a:off x="1295280" y="3786120"/>
              <a:ext cx="4191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1</a:t>
              </a: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）这三组数都满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Object 6" descr=""/>
            <p:cNvPicPr/>
            <p:nvPr/>
          </p:nvPicPr>
          <p:blipFill>
            <a:blip r:embed="rId1"/>
            <a:stretch/>
          </p:blipFill>
          <p:spPr>
            <a:xfrm>
              <a:off x="5257800" y="3786120"/>
              <a:ext cx="1968480" cy="4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7"/>
            <p:cNvSpPr/>
            <p:nvPr/>
          </p:nvSpPr>
          <p:spPr>
            <a:xfrm>
              <a:off x="7162920" y="3710160"/>
              <a:ext cx="1081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3300"/>
                  </a:solidFill>
                  <a:latin typeface="Times New Roman"/>
                  <a:ea typeface="宋体"/>
                </a:rPr>
                <a:t>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1295280" y="4419720"/>
              <a:ext cx="7453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2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）画出图形</a:t>
              </a:r>
              <a:r>
                <a:rPr b="1" lang="en-US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,</a:t>
              </a:r>
              <a:r>
                <a:rPr b="1" lang="zh-CN" sz="3200" spc="-1" strike="noStrike">
                  <a:solidFill>
                    <a:srgbClr val="0000ff"/>
                  </a:solidFill>
                  <a:latin typeface="Times New Roman"/>
                  <a:ea typeface="宋体"/>
                </a:rPr>
                <a:t>它们都是直角三角形吗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6" name="Picture 9" descr="j0196400"/>
          <p:cNvPicPr/>
          <p:nvPr/>
        </p:nvPicPr>
        <p:blipFill>
          <a:blip r:embed="rId2"/>
          <a:stretch/>
        </p:blipFill>
        <p:spPr>
          <a:xfrm>
            <a:off x="0" y="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600200" y="151920"/>
            <a:ext cx="3527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Arial"/>
                <a:ea typeface="黑体"/>
              </a:rPr>
              <a:t>动手画一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 Box 4"/>
          <p:cNvSpPr/>
          <p:nvPr/>
        </p:nvSpPr>
        <p:spPr>
          <a:xfrm>
            <a:off x="1843920" y="692280"/>
            <a:ext cx="5234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上面几个例子你发现了什么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请以命题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形式说出你的观点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425520" y="198900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命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7"/>
          <p:cNvGrpSpPr/>
          <p:nvPr/>
        </p:nvGrpSpPr>
        <p:grpSpPr>
          <a:xfrm>
            <a:off x="324000" y="2637000"/>
            <a:ext cx="8604000" cy="2191320"/>
            <a:chOff x="324000" y="2637000"/>
            <a:chExt cx="8604000" cy="2191320"/>
          </a:xfrm>
        </p:grpSpPr>
        <p:sp>
          <p:nvSpPr>
            <p:cNvPr id="301" name="Text Box 8"/>
            <p:cNvSpPr/>
            <p:nvPr/>
          </p:nvSpPr>
          <p:spPr>
            <a:xfrm>
              <a:off x="324000" y="2637000"/>
              <a:ext cx="8604000" cy="2191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如果三角形的三边长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满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那么这个三角形是直角三角形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Text Box 9"/>
            <p:cNvSpPr/>
            <p:nvPr/>
          </p:nvSpPr>
          <p:spPr>
            <a:xfrm>
              <a:off x="3022560" y="3492360"/>
              <a:ext cx="3457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a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+ b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= c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blinds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618920" y="475920"/>
            <a:ext cx="5877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勾股定理的逆命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179280" y="4941720"/>
            <a:ext cx="8972280" cy="1422720"/>
            <a:chOff x="179280" y="4941720"/>
            <a:chExt cx="8972280" cy="1422720"/>
          </a:xfrm>
        </p:grpSpPr>
        <p:sp>
          <p:nvSpPr>
            <p:cNvPr id="305" name="Text Box 4"/>
            <p:cNvSpPr/>
            <p:nvPr/>
          </p:nvSpPr>
          <p:spPr>
            <a:xfrm>
              <a:off x="179280" y="4941720"/>
              <a:ext cx="8972280" cy="7520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   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如果直角三角形两直角边分别为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b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斜边为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黑体"/>
                </a:rPr>
                <a:t>，那么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5"/>
            <p:cNvSpPr/>
            <p:nvPr/>
          </p:nvSpPr>
          <p:spPr>
            <a:xfrm>
              <a:off x="3612240" y="5661000"/>
              <a:ext cx="3495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a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+ b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0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= c</a:t>
              </a:r>
              <a:r>
                <a:rPr b="1" lang="en-US" sz="40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AutoShape 6"/>
          <p:cNvSpPr/>
          <p:nvPr/>
        </p:nvSpPr>
        <p:spPr>
          <a:xfrm>
            <a:off x="611280" y="4005360"/>
            <a:ext cx="2881080" cy="6094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宋体"/>
              </a:rPr>
              <a:t>勾股定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7"/>
          <p:cNvGrpSpPr/>
          <p:nvPr/>
        </p:nvGrpSpPr>
        <p:grpSpPr>
          <a:xfrm>
            <a:off x="431640" y="1270080"/>
            <a:ext cx="8604000" cy="2191320"/>
            <a:chOff x="431640" y="1270080"/>
            <a:chExt cx="8604000" cy="2191320"/>
          </a:xfrm>
        </p:grpSpPr>
        <p:sp>
          <p:nvSpPr>
            <p:cNvPr id="309" name="Text Box 8"/>
            <p:cNvSpPr/>
            <p:nvPr/>
          </p:nvSpPr>
          <p:spPr>
            <a:xfrm>
              <a:off x="431640" y="1270080"/>
              <a:ext cx="8604000" cy="2191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66"/>
                  </a:solidFill>
                  <a:latin typeface="Times New Roman"/>
                  <a:ea typeface="宋体"/>
                </a:rPr>
                <a:t>       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如果三角形的三边长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、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满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那么这个三角形是直角三角形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Text Box 9"/>
            <p:cNvSpPr/>
            <p:nvPr/>
          </p:nvSpPr>
          <p:spPr>
            <a:xfrm>
              <a:off x="3130200" y="2125800"/>
              <a:ext cx="345744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28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a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+ b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 </a:t>
              </a:r>
              <a:r>
                <a:rPr b="1" lang="en-US" sz="46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= c</a:t>
              </a:r>
              <a:r>
                <a:rPr b="1" lang="en-US" sz="4600" spc="-1" strike="noStrike" baseline="30000">
                  <a:solidFill>
                    <a:srgbClr val="0000ff"/>
                  </a:solidFill>
                  <a:latin typeface="宋体"/>
                  <a:ea typeface="宋体"/>
                </a:rPr>
                <a:t>2</a:t>
              </a:r>
              <a:endParaRPr b="0" lang="en-US" sz="4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AutoShape 10"/>
          <p:cNvSpPr/>
          <p:nvPr/>
        </p:nvSpPr>
        <p:spPr>
          <a:xfrm>
            <a:off x="4211640" y="3645000"/>
            <a:ext cx="792000" cy="1224000"/>
          </a:xfrm>
          <a:prstGeom prst="upDownArrow">
            <a:avLst>
              <a:gd name="adj1" fmla="val 50000"/>
              <a:gd name="adj2" fmla="val 30894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1"/>
          <p:cNvSpPr/>
          <p:nvPr/>
        </p:nvSpPr>
        <p:spPr>
          <a:xfrm>
            <a:off x="5003640" y="400536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互逆命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AutoShape 4"/>
          <p:cNvSpPr/>
          <p:nvPr/>
        </p:nvSpPr>
        <p:spPr>
          <a:xfrm>
            <a:off x="826920" y="765000"/>
            <a:ext cx="1727280" cy="23767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1405080" y="3141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397080" y="1773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7"/>
          <p:cNvSpPr/>
          <p:nvPr/>
        </p:nvSpPr>
        <p:spPr>
          <a:xfrm>
            <a:off x="1837080" y="134136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9"/>
          <p:cNvSpPr/>
          <p:nvPr/>
        </p:nvSpPr>
        <p:spPr>
          <a:xfrm>
            <a:off x="470160" y="4046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0"/>
          <p:cNvSpPr/>
          <p:nvPr/>
        </p:nvSpPr>
        <p:spPr>
          <a:xfrm>
            <a:off x="397440" y="2997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2629080" y="29242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0" name="Group 25"/>
          <p:cNvGrpSpPr/>
          <p:nvPr/>
        </p:nvGrpSpPr>
        <p:grpSpPr>
          <a:xfrm>
            <a:off x="900000" y="3860640"/>
            <a:ext cx="1727280" cy="2376720"/>
            <a:chOff x="900000" y="3860640"/>
            <a:chExt cx="1727280" cy="2376720"/>
          </a:xfrm>
        </p:grpSpPr>
        <p:sp>
          <p:nvSpPr>
            <p:cNvPr id="321" name="AutoShape 12"/>
            <p:cNvSpPr/>
            <p:nvPr/>
          </p:nvSpPr>
          <p:spPr>
            <a:xfrm>
              <a:off x="900000" y="3860640"/>
              <a:ext cx="1727280" cy="2376720"/>
            </a:xfrm>
            <a:prstGeom prst="rtTriangl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900000" y="5950080"/>
              <a:ext cx="287280" cy="360"/>
              <a:chOff x="900000" y="5950080"/>
              <a:chExt cx="287280" cy="360"/>
            </a:xfrm>
          </p:grpSpPr>
          <p:sp>
            <p:nvSpPr>
              <p:cNvPr id="323" name="Line 14"/>
              <p:cNvSpPr/>
              <p:nvPr/>
            </p:nvSpPr>
            <p:spPr>
              <a:xfrm>
                <a:off x="900000" y="5950080"/>
                <a:ext cx="287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 txBox="1"/>
              <p:nvPr/>
            </p:nvSpPr>
            <p:spPr>
              <a:xfrm>
                <a:off x="900000" y="5950080"/>
                <a:ext cx="287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1187280" y="5950080"/>
              <a:ext cx="360" cy="287280"/>
              <a:chOff x="1187280" y="5950080"/>
              <a:chExt cx="360" cy="287280"/>
            </a:xfrm>
          </p:grpSpPr>
          <p:sp>
            <p:nvSpPr>
              <p:cNvPr id="326" name="Line 15"/>
              <p:cNvSpPr/>
              <p:nvPr/>
            </p:nvSpPr>
            <p:spPr>
              <a:xfrm>
                <a:off x="1187280" y="5950080"/>
                <a:ext cx="0" cy="28728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 txBox="1"/>
              <p:nvPr/>
            </p:nvSpPr>
            <p:spPr>
              <a:xfrm>
                <a:off x="1187280" y="5950080"/>
                <a:ext cx="360" cy="287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 anchorCtr="1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8" name="Group 22"/>
          <p:cNvGrpSpPr/>
          <p:nvPr/>
        </p:nvGrpSpPr>
        <p:grpSpPr>
          <a:xfrm>
            <a:off x="481320" y="3303720"/>
            <a:ext cx="561600" cy="703440"/>
            <a:chOff x="481320" y="3303720"/>
            <a:chExt cx="561600" cy="703440"/>
          </a:xfrm>
        </p:grpSpPr>
        <p:sp>
          <p:nvSpPr>
            <p:cNvPr id="329" name="Text Box 16"/>
            <p:cNvSpPr/>
            <p:nvPr/>
          </p:nvSpPr>
          <p:spPr>
            <a:xfrm>
              <a:off x="481320" y="3486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9"/>
            <p:cNvSpPr/>
            <p:nvPr/>
          </p:nvSpPr>
          <p:spPr>
            <a:xfrm>
              <a:off x="611280" y="330372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Group 23"/>
          <p:cNvGrpSpPr/>
          <p:nvPr/>
        </p:nvGrpSpPr>
        <p:grpSpPr>
          <a:xfrm>
            <a:off x="2629080" y="5734080"/>
            <a:ext cx="645840" cy="720720"/>
            <a:chOff x="2629080" y="5734080"/>
            <a:chExt cx="645840" cy="720720"/>
          </a:xfrm>
        </p:grpSpPr>
        <p:sp>
          <p:nvSpPr>
            <p:cNvPr id="332" name="Text Box 18"/>
            <p:cNvSpPr/>
            <p:nvPr/>
          </p:nvSpPr>
          <p:spPr>
            <a:xfrm>
              <a:off x="2629080" y="5934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 Box 20"/>
            <p:cNvSpPr/>
            <p:nvPr/>
          </p:nvSpPr>
          <p:spPr>
            <a:xfrm>
              <a:off x="2843280" y="573408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Group 24"/>
          <p:cNvGrpSpPr/>
          <p:nvPr/>
        </p:nvGrpSpPr>
        <p:grpSpPr>
          <a:xfrm>
            <a:off x="397440" y="5880240"/>
            <a:ext cx="634320" cy="718920"/>
            <a:chOff x="397440" y="5880240"/>
            <a:chExt cx="634320" cy="718920"/>
          </a:xfrm>
        </p:grpSpPr>
        <p:sp>
          <p:nvSpPr>
            <p:cNvPr id="335" name="Text Box 17"/>
            <p:cNvSpPr/>
            <p:nvPr/>
          </p:nvSpPr>
          <p:spPr>
            <a:xfrm>
              <a:off x="397440" y="60786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21"/>
            <p:cNvSpPr/>
            <p:nvPr/>
          </p:nvSpPr>
          <p:spPr>
            <a:xfrm>
              <a:off x="600120" y="5880240"/>
              <a:ext cx="43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Arial"/>
                </a:rPr>
                <a:t>′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Text Box 26"/>
          <p:cNvSpPr/>
          <p:nvPr/>
        </p:nvSpPr>
        <p:spPr>
          <a:xfrm>
            <a:off x="1837080" y="61657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7"/>
          <p:cNvSpPr/>
          <p:nvPr/>
        </p:nvSpPr>
        <p:spPr>
          <a:xfrm>
            <a:off x="468360" y="4797360"/>
            <a:ext cx="38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8"/>
          <p:cNvSpPr/>
          <p:nvPr/>
        </p:nvSpPr>
        <p:spPr>
          <a:xfrm>
            <a:off x="2405880" y="189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古埃及人的做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29"/>
          <p:cNvSpPr/>
          <p:nvPr/>
        </p:nvSpPr>
        <p:spPr>
          <a:xfrm>
            <a:off x="2906640" y="1020600"/>
            <a:ext cx="55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，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=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=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=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30"/>
          <p:cNvSpPr/>
          <p:nvPr/>
        </p:nvSpPr>
        <p:spPr>
          <a:xfrm>
            <a:off x="4096080" y="429264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两个三角形有什么关系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WordArt 31"/>
          <p:cNvSpPr txBox="1"/>
          <p:nvPr/>
        </p:nvSpPr>
        <p:spPr>
          <a:xfrm>
            <a:off x="4500720" y="5157720"/>
            <a:ext cx="165564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全等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43" name="Group 45"/>
          <p:cNvGrpSpPr/>
          <p:nvPr/>
        </p:nvGrpSpPr>
        <p:grpSpPr>
          <a:xfrm>
            <a:off x="2352600" y="3500280"/>
            <a:ext cx="6567840" cy="720360"/>
            <a:chOff x="2352600" y="3500280"/>
            <a:chExt cx="6567840" cy="720360"/>
          </a:xfrm>
        </p:grpSpPr>
        <p:sp>
          <p:nvSpPr>
            <p:cNvPr id="344" name="Text Box 32"/>
            <p:cNvSpPr/>
            <p:nvPr/>
          </p:nvSpPr>
          <p:spPr>
            <a:xfrm>
              <a:off x="2352600" y="3682800"/>
              <a:ext cx="656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我们作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RT △ABC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，使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=3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、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=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" name="Group 33"/>
            <p:cNvGrpSpPr/>
            <p:nvPr/>
          </p:nvGrpSpPr>
          <p:grpSpPr>
            <a:xfrm>
              <a:off x="6178680" y="3500280"/>
              <a:ext cx="645840" cy="720360"/>
              <a:chOff x="6178680" y="3500280"/>
              <a:chExt cx="645840" cy="720360"/>
            </a:xfrm>
          </p:grpSpPr>
          <p:sp>
            <p:nvSpPr>
              <p:cNvPr id="346" name="Text Box 34"/>
              <p:cNvSpPr/>
              <p:nvPr/>
            </p:nvSpPr>
            <p:spPr>
              <a:xfrm>
                <a:off x="6178680" y="370008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Text Box 35"/>
              <p:cNvSpPr/>
              <p:nvPr/>
            </p:nvSpPr>
            <p:spPr>
              <a:xfrm>
                <a:off x="6392880" y="3500280"/>
                <a:ext cx="431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′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6"/>
            <p:cNvGrpSpPr/>
            <p:nvPr/>
          </p:nvGrpSpPr>
          <p:grpSpPr>
            <a:xfrm>
              <a:off x="6466320" y="3500280"/>
              <a:ext cx="634320" cy="718920"/>
              <a:chOff x="6466320" y="3500280"/>
              <a:chExt cx="634320" cy="718920"/>
            </a:xfrm>
          </p:grpSpPr>
          <p:sp>
            <p:nvSpPr>
              <p:cNvPr id="349" name="Text Box 37"/>
              <p:cNvSpPr/>
              <p:nvPr/>
            </p:nvSpPr>
            <p:spPr>
              <a:xfrm>
                <a:off x="6466320" y="36986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38"/>
              <p:cNvSpPr/>
              <p:nvPr/>
            </p:nvSpPr>
            <p:spPr>
              <a:xfrm>
                <a:off x="6669000" y="3500280"/>
                <a:ext cx="431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′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39"/>
            <p:cNvGrpSpPr/>
            <p:nvPr/>
          </p:nvGrpSpPr>
          <p:grpSpPr>
            <a:xfrm>
              <a:off x="7402680" y="3500280"/>
              <a:ext cx="561600" cy="703440"/>
              <a:chOff x="7402680" y="3500280"/>
              <a:chExt cx="561600" cy="703440"/>
            </a:xfrm>
          </p:grpSpPr>
          <p:sp>
            <p:nvSpPr>
              <p:cNvPr id="352" name="Text Box 40"/>
              <p:cNvSpPr/>
              <p:nvPr/>
            </p:nvSpPr>
            <p:spPr>
              <a:xfrm>
                <a:off x="7402680" y="368280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 Box 41"/>
              <p:cNvSpPr/>
              <p:nvPr/>
            </p:nvSpPr>
            <p:spPr>
              <a:xfrm>
                <a:off x="7532640" y="3500280"/>
                <a:ext cx="431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′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42"/>
            <p:cNvGrpSpPr/>
            <p:nvPr/>
          </p:nvGrpSpPr>
          <p:grpSpPr>
            <a:xfrm>
              <a:off x="7619040" y="3501720"/>
              <a:ext cx="634320" cy="718920"/>
              <a:chOff x="7619040" y="3501720"/>
              <a:chExt cx="634320" cy="718920"/>
            </a:xfrm>
          </p:grpSpPr>
          <p:sp>
            <p:nvSpPr>
              <p:cNvPr id="355" name="Text Box 43"/>
              <p:cNvSpPr/>
              <p:nvPr/>
            </p:nvSpPr>
            <p:spPr>
              <a:xfrm>
                <a:off x="7619040" y="37000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44"/>
              <p:cNvSpPr/>
              <p:nvPr/>
            </p:nvSpPr>
            <p:spPr>
              <a:xfrm>
                <a:off x="7821720" y="3501720"/>
                <a:ext cx="4316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Arial"/>
                  </a:rPr>
                  <a:t>′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23:15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5:51Z</dcterms:modified>
  <cp:revision>1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