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7.jpeg" ContentType="image/jpeg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D1D-BA1F-446D-A2A7-1D23866F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7254-D28A-4F3F-AFFD-6B98CA1C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607-74F8-4AC3-B3D9-78FAAD46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DC9-E268-4BF2-8AA5-131D1801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4EB8-BA68-4AFF-8DC6-EFD51854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7169-8AA8-47A5-8A87-EE2EEAB3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64AC-3794-421C-9582-FF99062F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B783-69BB-4968-B0E9-2A546364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4AF5-AB48-4134-8F81-68F16B59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F6B2-8EC5-48BE-885D-B08AE6AB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6805-3FF7-4BFA-966F-2A87BA5B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84C-FF66-4BFA-B885-7121B950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944D-DA4C-4146-85C9-DB92D7B8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D1D7-488E-4B7E-893D-0A57E6BA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F489-3427-4B41-970D-57C8AA5D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7ED5-2A37-48AB-B352-5E382E76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ADAF-7485-40D2-BB12-C9E8DC11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63D-6DE6-4F8E-8FB5-FC45533A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2D7-860D-4D0F-ABDE-122431AE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2C7F-067D-4E8B-B98B-CD0A0C51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DBA-B907-4F2C-BDDA-B80071EB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BCB-7D49-4BFA-AB36-55642EB6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1AB-019A-47A3-90A7-E751F658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273-EA3E-4929-B80E-720BA2EA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68D1-9358-4083-B343-8B9B4FE0AA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AEF0-AD53-4B0C-BBD0-5A8FE37F65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90600" y="20430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宋体"/>
                <a:ea typeface="宋体"/>
              </a:rPr>
              <a:t>勾股定理的应用数学课件</a:t>
            </a:r>
            <a:r>
              <a:rPr b="1" lang="en-US" sz="4000" spc="-1" strike="noStrike">
                <a:solidFill>
                  <a:srgbClr val="660033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660033"/>
                </a:solidFill>
                <a:latin typeface="宋体"/>
                <a:ea typeface="宋体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例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，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=∠D=90°,∠A=6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=4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D=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四边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面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rcRect l="0" t="0" r="0" b="2930"/>
          <a:stretch/>
        </p:blipFill>
        <p:spPr>
          <a:xfrm>
            <a:off x="0" y="1295280"/>
            <a:ext cx="3352680" cy="3017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2"/>
          <a:srcRect l="0" t="2738" r="0" b="7670"/>
          <a:stretch/>
        </p:blipFill>
        <p:spPr>
          <a:xfrm>
            <a:off x="5638680" y="1371600"/>
            <a:ext cx="3276720" cy="2901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3"/>
          <a:srcRect l="0" t="1622" r="0" b="4882"/>
          <a:stretch/>
        </p:blipFill>
        <p:spPr>
          <a:xfrm>
            <a:off x="3276720" y="3505320"/>
            <a:ext cx="4114800" cy="28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3657600" y="2286000"/>
            <a:ext cx="4419360" cy="3657240"/>
            <a:chOff x="3657600" y="2286000"/>
            <a:chExt cx="4419360" cy="3657240"/>
          </a:xfrm>
        </p:grpSpPr>
        <p:grpSp>
          <p:nvGrpSpPr>
            <p:cNvPr id="213" name="Group 3"/>
            <p:cNvGrpSpPr/>
            <p:nvPr/>
          </p:nvGrpSpPr>
          <p:grpSpPr>
            <a:xfrm>
              <a:off x="4300920" y="3366720"/>
              <a:ext cx="2390040" cy="2451600"/>
              <a:chOff x="4300920" y="3366720"/>
              <a:chExt cx="2390040" cy="2451600"/>
            </a:xfrm>
          </p:grpSpPr>
          <p:sp>
            <p:nvSpPr>
              <p:cNvPr id="214" name="AutoShape 4"/>
              <p:cNvSpPr/>
              <p:nvPr/>
            </p:nvSpPr>
            <p:spPr>
              <a:xfrm>
                <a:off x="4300920" y="3366720"/>
                <a:ext cx="2390040" cy="245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4651920" y="5257800"/>
                <a:ext cx="360" cy="114120"/>
                <a:chOff x="4651920" y="5257800"/>
                <a:chExt cx="360" cy="114120"/>
              </a:xfrm>
            </p:grpSpPr>
            <p:sp>
              <p:nvSpPr>
                <p:cNvPr id="216" name="Line 5"/>
                <p:cNvSpPr/>
                <p:nvPr/>
              </p:nvSpPr>
              <p:spPr>
                <a:xfrm>
                  <a:off x="4651920" y="5257800"/>
                  <a:ext cx="0" cy="11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17" name=""/>
                <p:cNvSpPr txBox="1"/>
                <p:nvPr/>
              </p:nvSpPr>
              <p:spPr>
                <a:xfrm>
                  <a:off x="4651920" y="5257800"/>
                  <a:ext cx="360" cy="1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4541760" y="5257440"/>
                <a:ext cx="110160" cy="360"/>
                <a:chOff x="4541760" y="5257440"/>
                <a:chExt cx="110160" cy="360"/>
              </a:xfrm>
            </p:grpSpPr>
            <p:sp>
              <p:nvSpPr>
                <p:cNvPr id="219" name="Line 6"/>
                <p:cNvSpPr/>
                <p:nvPr/>
              </p:nvSpPr>
              <p:spPr>
                <a:xfrm>
                  <a:off x="4541760" y="52574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20" name=""/>
                <p:cNvSpPr txBox="1"/>
                <p:nvPr/>
              </p:nvSpPr>
              <p:spPr>
                <a:xfrm>
                  <a:off x="4541760" y="5257440"/>
                  <a:ext cx="110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190560" y="4779720"/>
                <a:ext cx="60480" cy="104040"/>
                <a:chOff x="6190560" y="4779720"/>
                <a:chExt cx="60480" cy="104040"/>
              </a:xfrm>
            </p:grpSpPr>
            <p:sp>
              <p:nvSpPr>
                <p:cNvPr id="222" name="Line 7"/>
                <p:cNvSpPr/>
                <p:nvPr/>
              </p:nvSpPr>
              <p:spPr>
                <a:xfrm flipH="1">
                  <a:off x="6190920" y="4779720"/>
                  <a:ext cx="60120" cy="104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23" name=""/>
                <p:cNvSpPr txBox="1"/>
                <p:nvPr/>
              </p:nvSpPr>
              <p:spPr>
                <a:xfrm>
                  <a:off x="6190560" y="4779720"/>
                  <a:ext cx="60120" cy="1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6190200" y="4884120"/>
                <a:ext cx="90720" cy="51480"/>
                <a:chOff x="6190200" y="4884120"/>
                <a:chExt cx="90720" cy="51480"/>
              </a:xfrm>
            </p:grpSpPr>
            <p:sp>
              <p:nvSpPr>
                <p:cNvPr id="225" name="Line 8"/>
                <p:cNvSpPr/>
                <p:nvPr/>
              </p:nvSpPr>
              <p:spPr>
                <a:xfrm>
                  <a:off x="6190200" y="4884120"/>
                  <a:ext cx="90720" cy="5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26" name=""/>
                <p:cNvSpPr txBox="1"/>
                <p:nvPr/>
              </p:nvSpPr>
              <p:spPr>
                <a:xfrm>
                  <a:off x="6190200" y="4884120"/>
                  <a:ext cx="90720" cy="5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542120" y="3761640"/>
                <a:ext cx="20160" cy="1610280"/>
                <a:chOff x="4542120" y="3761640"/>
                <a:chExt cx="20160" cy="1610280"/>
              </a:xfrm>
            </p:grpSpPr>
            <p:sp>
              <p:nvSpPr>
                <p:cNvPr id="228" name="Line 9"/>
                <p:cNvSpPr/>
                <p:nvPr/>
              </p:nvSpPr>
              <p:spPr>
                <a:xfrm flipH="1">
                  <a:off x="4542480" y="3761640"/>
                  <a:ext cx="19800" cy="1610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29" name=""/>
                <p:cNvSpPr txBox="1"/>
                <p:nvPr/>
              </p:nvSpPr>
              <p:spPr>
                <a:xfrm>
                  <a:off x="4542120" y="3761640"/>
                  <a:ext cx="19800" cy="161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4543560" y="5372280"/>
                <a:ext cx="1486440" cy="20520"/>
                <a:chOff x="4543560" y="5372280"/>
                <a:chExt cx="1486440" cy="20520"/>
              </a:xfrm>
            </p:grpSpPr>
            <p:sp>
              <p:nvSpPr>
                <p:cNvPr id="231" name="Line 10"/>
                <p:cNvSpPr/>
                <p:nvPr/>
              </p:nvSpPr>
              <p:spPr>
                <a:xfrm>
                  <a:off x="4543560" y="5372280"/>
                  <a:ext cx="1486440" cy="2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32" name=""/>
                <p:cNvSpPr txBox="1"/>
                <p:nvPr/>
              </p:nvSpPr>
              <p:spPr>
                <a:xfrm>
                  <a:off x="4543560" y="5372280"/>
                  <a:ext cx="1486440" cy="2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6280" bIns="-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029640" y="4842360"/>
                <a:ext cx="311040" cy="550440"/>
                <a:chOff x="6029640" y="4842360"/>
                <a:chExt cx="311040" cy="550440"/>
              </a:xfrm>
            </p:grpSpPr>
            <p:sp>
              <p:nvSpPr>
                <p:cNvPr id="234" name="Line 11"/>
                <p:cNvSpPr/>
                <p:nvPr/>
              </p:nvSpPr>
              <p:spPr>
                <a:xfrm flipH="1">
                  <a:off x="6029640" y="4842360"/>
                  <a:ext cx="311040" cy="550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35" name=""/>
                <p:cNvSpPr txBox="1"/>
                <p:nvPr/>
              </p:nvSpPr>
              <p:spPr>
                <a:xfrm>
                  <a:off x="6029640" y="4842360"/>
                  <a:ext cx="311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4563000" y="3762000"/>
                <a:ext cx="1777680" cy="1080360"/>
                <a:chOff x="4563000" y="3762000"/>
                <a:chExt cx="1777680" cy="1080360"/>
              </a:xfrm>
            </p:grpSpPr>
            <p:sp>
              <p:nvSpPr>
                <p:cNvPr id="237" name="Line 12"/>
                <p:cNvSpPr/>
                <p:nvPr/>
              </p:nvSpPr>
              <p:spPr>
                <a:xfrm>
                  <a:off x="4563000" y="3762000"/>
                  <a:ext cx="1777680" cy="108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38" name=""/>
                <p:cNvSpPr txBox="1"/>
                <p:nvPr/>
              </p:nvSpPr>
              <p:spPr>
                <a:xfrm>
                  <a:off x="4563000" y="3762000"/>
                  <a:ext cx="1777680" cy="108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sp>
            <p:nvSpPr>
              <p:cNvPr id="239" name="Oval 13"/>
              <p:cNvSpPr/>
              <p:nvPr/>
            </p:nvSpPr>
            <p:spPr>
              <a:xfrm>
                <a:off x="4541760" y="3740760"/>
                <a:ext cx="50040" cy="522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40" name="Oval 14"/>
              <p:cNvSpPr/>
              <p:nvPr/>
            </p:nvSpPr>
            <p:spPr>
              <a:xfrm>
                <a:off x="6009480" y="5371920"/>
                <a:ext cx="50400" cy="522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41" name="Oval 15"/>
              <p:cNvSpPr/>
              <p:nvPr/>
            </p:nvSpPr>
            <p:spPr>
              <a:xfrm>
                <a:off x="4521600" y="5351040"/>
                <a:ext cx="50040" cy="522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42" name="Oval 16"/>
              <p:cNvSpPr/>
              <p:nvPr/>
            </p:nvSpPr>
            <p:spPr>
              <a:xfrm>
                <a:off x="6320880" y="4821840"/>
                <a:ext cx="50400" cy="514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657600" y="5361840"/>
              <a:ext cx="3937320" cy="82800"/>
              <a:chOff x="3657600" y="5361840"/>
              <a:chExt cx="3937320" cy="82800"/>
            </a:xfrm>
          </p:grpSpPr>
          <p:sp>
            <p:nvSpPr>
              <p:cNvPr id="244" name="Line 17"/>
              <p:cNvSpPr/>
              <p:nvPr/>
            </p:nvSpPr>
            <p:spPr>
              <a:xfrm>
                <a:off x="3657600" y="5361840"/>
                <a:ext cx="393732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3657600" y="5361840"/>
                <a:ext cx="3937320" cy="82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540680" y="2784600"/>
              <a:ext cx="360" cy="3158640"/>
              <a:chOff x="4540680" y="2784600"/>
              <a:chExt cx="360" cy="3158640"/>
            </a:xfrm>
          </p:grpSpPr>
          <p:sp>
            <p:nvSpPr>
              <p:cNvPr id="247" name="Line 18"/>
              <p:cNvSpPr/>
              <p:nvPr/>
            </p:nvSpPr>
            <p:spPr>
              <a:xfrm flipV="1">
                <a:off x="4541040" y="2784600"/>
                <a:ext cx="0" cy="315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 rot="10800000">
                <a:off x="4540680" y="2784600"/>
                <a:ext cx="360" cy="315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sp>
          <p:nvSpPr>
            <p:cNvPr id="249" name="Text Box 19"/>
            <p:cNvSpPr/>
            <p:nvPr/>
          </p:nvSpPr>
          <p:spPr>
            <a:xfrm>
              <a:off x="5746680" y="5361840"/>
              <a:ext cx="96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50" name="Text Box 20"/>
            <p:cNvSpPr/>
            <p:nvPr/>
          </p:nvSpPr>
          <p:spPr>
            <a:xfrm>
              <a:off x="6228720" y="4280760"/>
              <a:ext cx="5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51" name="Text Box 21"/>
            <p:cNvSpPr/>
            <p:nvPr/>
          </p:nvSpPr>
          <p:spPr>
            <a:xfrm>
              <a:off x="4139640" y="3366720"/>
              <a:ext cx="10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52" name="Text Box 22"/>
            <p:cNvSpPr/>
            <p:nvPr/>
          </p:nvSpPr>
          <p:spPr>
            <a:xfrm>
              <a:off x="4219920" y="5361840"/>
              <a:ext cx="4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53" name="Text Box 23"/>
            <p:cNvSpPr/>
            <p:nvPr/>
          </p:nvSpPr>
          <p:spPr>
            <a:xfrm>
              <a:off x="7273440" y="5361840"/>
              <a:ext cx="8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x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54" name="Text Box 24"/>
            <p:cNvSpPr/>
            <p:nvPr/>
          </p:nvSpPr>
          <p:spPr>
            <a:xfrm>
              <a:off x="4702320" y="2286000"/>
              <a:ext cx="80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y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255" name="Text Box 25"/>
          <p:cNvSpPr/>
          <p:nvPr/>
        </p:nvSpPr>
        <p:spPr>
          <a:xfrm>
            <a:off x="0" y="380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变式训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：如图，在平面直角坐标系中，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坐标为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，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=9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O=6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=2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坐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6" name="文本框 8199"/>
          <p:cNvSpPr/>
          <p:nvPr/>
        </p:nvSpPr>
        <p:spPr>
          <a:xfrm>
            <a:off x="165240" y="2470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228600" y="30492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如图，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Rt△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中，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C=9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平分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AC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C=6cm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=8cm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线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长；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求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面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500720" y="5300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508720" y="4437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156360" y="537372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8-x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635280" y="371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5508720" y="3141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7020000" y="4221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0" y="2514600"/>
            <a:ext cx="367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方程思想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角三角形中，已知一条边，以及另外两条边的数量关系时，可利用勾股定理建立方程求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3946680" y="2084400"/>
            <a:ext cx="3943080" cy="3697920"/>
            <a:chOff x="3946680" y="2084400"/>
            <a:chExt cx="3943080" cy="3697920"/>
          </a:xfrm>
        </p:grpSpPr>
        <p:grpSp>
          <p:nvGrpSpPr>
            <p:cNvPr id="266" name="Group 11"/>
            <p:cNvGrpSpPr/>
            <p:nvPr/>
          </p:nvGrpSpPr>
          <p:grpSpPr>
            <a:xfrm>
              <a:off x="3946680" y="2084400"/>
              <a:ext cx="3943080" cy="3697920"/>
              <a:chOff x="3946680" y="2084400"/>
              <a:chExt cx="3943080" cy="3697920"/>
            </a:xfrm>
          </p:grpSpPr>
          <p:grpSp>
            <p:nvGrpSpPr>
              <p:cNvPr id="267" name="Group 12"/>
              <p:cNvGrpSpPr/>
              <p:nvPr/>
            </p:nvGrpSpPr>
            <p:grpSpPr>
              <a:xfrm>
                <a:off x="3946680" y="2084400"/>
                <a:ext cx="3943080" cy="3697920"/>
                <a:chOff x="3946680" y="2084400"/>
                <a:chExt cx="3943080" cy="369792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4165560" y="2494080"/>
                  <a:ext cx="75600" cy="2838240"/>
                  <a:chOff x="4165560" y="2494080"/>
                  <a:chExt cx="75600" cy="2838240"/>
                </a:xfrm>
              </p:grpSpPr>
              <p:sp>
                <p:nvSpPr>
                  <p:cNvPr id="269" name="Line 13"/>
                  <p:cNvSpPr/>
                  <p:nvPr/>
                </p:nvSpPr>
                <p:spPr>
                  <a:xfrm>
                    <a:off x="4165560" y="2494080"/>
                    <a:ext cx="75600" cy="2838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  <p:sp>
                <p:nvSpPr>
                  <p:cNvPr id="270" name=""/>
                  <p:cNvSpPr txBox="1"/>
                  <p:nvPr/>
                </p:nvSpPr>
                <p:spPr>
                  <a:xfrm>
                    <a:off x="4165560" y="2494080"/>
                    <a:ext cx="75600" cy="283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4165560" y="2494080"/>
                  <a:ext cx="3600000" cy="2743200"/>
                  <a:chOff x="4165560" y="2494080"/>
                  <a:chExt cx="3600000" cy="2743200"/>
                </a:xfrm>
              </p:grpSpPr>
              <p:sp>
                <p:nvSpPr>
                  <p:cNvPr id="272" name="Line 14"/>
                  <p:cNvSpPr/>
                  <p:nvPr/>
                </p:nvSpPr>
                <p:spPr>
                  <a:xfrm>
                    <a:off x="4165560" y="2494080"/>
                    <a:ext cx="3600000" cy="274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  <p:sp>
                <p:nvSpPr>
                  <p:cNvPr id="273" name=""/>
                  <p:cNvSpPr txBox="1"/>
                  <p:nvPr/>
                </p:nvSpPr>
                <p:spPr>
                  <a:xfrm>
                    <a:off x="4165560" y="2494080"/>
                    <a:ext cx="3600000" cy="274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4241520" y="5227560"/>
                  <a:ext cx="104400" cy="360"/>
                  <a:chOff x="4241520" y="5227560"/>
                  <a:chExt cx="104400" cy="360"/>
                </a:xfrm>
              </p:grpSpPr>
              <p:sp>
                <p:nvSpPr>
                  <p:cNvPr id="275" name="Line 15"/>
                  <p:cNvSpPr/>
                  <p:nvPr/>
                </p:nvSpPr>
                <p:spPr>
                  <a:xfrm>
                    <a:off x="4241520" y="5227560"/>
                    <a:ext cx="104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  <p:sp>
                <p:nvSpPr>
                  <p:cNvPr id="276" name=""/>
                  <p:cNvSpPr txBox="1"/>
                  <p:nvPr/>
                </p:nvSpPr>
                <p:spPr>
                  <a:xfrm>
                    <a:off x="4241520" y="5227560"/>
                    <a:ext cx="10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4165560" y="2494080"/>
                  <a:ext cx="1437840" cy="2800080"/>
                  <a:chOff x="4165560" y="2494080"/>
                  <a:chExt cx="1437840" cy="2800080"/>
                </a:xfrm>
              </p:grpSpPr>
              <p:sp>
                <p:nvSpPr>
                  <p:cNvPr id="278" name="Line 16"/>
                  <p:cNvSpPr/>
                  <p:nvPr/>
                </p:nvSpPr>
                <p:spPr>
                  <a:xfrm>
                    <a:off x="4165560" y="2494080"/>
                    <a:ext cx="1437840" cy="2800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  <p:sp>
                <p:nvSpPr>
                  <p:cNvPr id="279" name=""/>
                  <p:cNvSpPr txBox="1"/>
                  <p:nvPr/>
                </p:nvSpPr>
                <p:spPr>
                  <a:xfrm>
                    <a:off x="4165560" y="2494080"/>
                    <a:ext cx="1437840" cy="280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4165560" y="2494080"/>
                  <a:ext cx="2234520" cy="1706400"/>
                  <a:chOff x="4165560" y="2494080"/>
                  <a:chExt cx="2234520" cy="1706400"/>
                </a:xfrm>
              </p:grpSpPr>
              <p:sp>
                <p:nvSpPr>
                  <p:cNvPr id="281" name="Line 17"/>
                  <p:cNvSpPr/>
                  <p:nvPr/>
                </p:nvSpPr>
                <p:spPr>
                  <a:xfrm>
                    <a:off x="4165560" y="2494080"/>
                    <a:ext cx="2234520" cy="1706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  <p:sp>
                <p:nvSpPr>
                  <p:cNvPr id="282" name=""/>
                  <p:cNvSpPr txBox="1"/>
                  <p:nvPr/>
                </p:nvSpPr>
                <p:spPr>
                  <a:xfrm>
                    <a:off x="4165560" y="2494080"/>
                    <a:ext cx="2234520" cy="170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</p:grpSp>
            <p:sp>
              <p:nvSpPr>
                <p:cNvPr id="283" name="Rectangle 18"/>
                <p:cNvSpPr/>
                <p:nvPr/>
              </p:nvSpPr>
              <p:spPr>
                <a:xfrm>
                  <a:off x="5470200" y="5294160"/>
                  <a:ext cx="247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7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D</a:t>
                  </a:r>
                  <a:endParaRPr b="1" lang="en-US" sz="27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84" name="Rectangle 19"/>
                <p:cNvSpPr/>
                <p:nvPr/>
              </p:nvSpPr>
              <p:spPr>
                <a:xfrm>
                  <a:off x="4089240" y="5370480"/>
                  <a:ext cx="247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7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C</a:t>
                  </a:r>
                  <a:endParaRPr b="1" lang="en-US" sz="27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85" name="Rectangle 20"/>
                <p:cNvSpPr/>
                <p:nvPr/>
              </p:nvSpPr>
              <p:spPr>
                <a:xfrm>
                  <a:off x="7642080" y="5284800"/>
                  <a:ext cx="247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7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B</a:t>
                  </a:r>
                  <a:endParaRPr b="1" lang="en-US" sz="27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86" name="Rectangle 21"/>
                <p:cNvSpPr/>
                <p:nvPr/>
              </p:nvSpPr>
              <p:spPr>
                <a:xfrm>
                  <a:off x="3946680" y="2084400"/>
                  <a:ext cx="24768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7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A</a:t>
                  </a:r>
                  <a:endParaRPr b="1" lang="en-US" sz="27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4241160" y="5237280"/>
                <a:ext cx="3524400" cy="95040"/>
                <a:chOff x="4241160" y="5237280"/>
                <a:chExt cx="3524400" cy="95040"/>
              </a:xfrm>
            </p:grpSpPr>
            <p:sp>
              <p:nvSpPr>
                <p:cNvPr id="288" name="Line 22"/>
                <p:cNvSpPr/>
                <p:nvPr/>
              </p:nvSpPr>
              <p:spPr>
                <a:xfrm flipH="1">
                  <a:off x="4241160" y="5237280"/>
                  <a:ext cx="3524040" cy="9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89" name=""/>
                <p:cNvSpPr txBox="1"/>
                <p:nvPr/>
              </p:nvSpPr>
              <p:spPr>
                <a:xfrm>
                  <a:off x="4241520" y="5237280"/>
                  <a:ext cx="3524040" cy="9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  <p:grpSp>
          <p:nvGrpSpPr>
            <p:cNvPr id="290" name=""/>
            <p:cNvGrpSpPr/>
            <p:nvPr/>
          </p:nvGrpSpPr>
          <p:grpSpPr>
            <a:xfrm>
              <a:off x="4343040" y="5257800"/>
              <a:ext cx="360" cy="104760"/>
              <a:chOff x="4343040" y="5257800"/>
              <a:chExt cx="360" cy="104760"/>
            </a:xfrm>
          </p:grpSpPr>
          <p:sp>
            <p:nvSpPr>
              <p:cNvPr id="291" name="Line 23"/>
              <p:cNvSpPr/>
              <p:nvPr/>
            </p:nvSpPr>
            <p:spPr>
              <a:xfrm>
                <a:off x="4343040" y="5257800"/>
                <a:ext cx="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92" name=""/>
              <p:cNvSpPr txBox="1"/>
              <p:nvPr/>
            </p:nvSpPr>
            <p:spPr>
              <a:xfrm>
                <a:off x="4343040" y="5257800"/>
                <a:ext cx="360" cy="10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</p:grpSp>
      <p:grpSp>
        <p:nvGrpSpPr>
          <p:cNvPr id="293" name="Group 24"/>
          <p:cNvGrpSpPr/>
          <p:nvPr/>
        </p:nvGrpSpPr>
        <p:grpSpPr>
          <a:xfrm>
            <a:off x="5562720" y="3809880"/>
            <a:ext cx="1114560" cy="1514520"/>
            <a:chOff x="5562720" y="3809880"/>
            <a:chExt cx="1114560" cy="1514520"/>
          </a:xfrm>
        </p:grpSpPr>
        <p:grpSp>
          <p:nvGrpSpPr>
            <p:cNvPr id="294" name=""/>
            <p:cNvGrpSpPr/>
            <p:nvPr/>
          </p:nvGrpSpPr>
          <p:grpSpPr>
            <a:xfrm>
              <a:off x="5562720" y="4248000"/>
              <a:ext cx="818640" cy="1076400"/>
              <a:chOff x="5562720" y="4248000"/>
              <a:chExt cx="818640" cy="1076400"/>
            </a:xfrm>
          </p:grpSpPr>
          <p:sp>
            <p:nvSpPr>
              <p:cNvPr id="295" name="Line 25"/>
              <p:cNvSpPr/>
              <p:nvPr/>
            </p:nvSpPr>
            <p:spPr>
              <a:xfrm flipH="1">
                <a:off x="5562720" y="4248000"/>
                <a:ext cx="818640" cy="1076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562720" y="4248000"/>
                <a:ext cx="818640" cy="107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sp>
          <p:nvSpPr>
            <p:cNvPr id="297" name="Rectangle 26"/>
            <p:cNvSpPr/>
            <p:nvPr/>
          </p:nvSpPr>
          <p:spPr>
            <a:xfrm>
              <a:off x="6447960" y="3809880"/>
              <a:ext cx="2293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E</a:t>
              </a:r>
              <a:endParaRPr b="1" lang="en-US" sz="27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298" name="Oval 27"/>
          <p:cNvSpPr/>
          <p:nvPr/>
        </p:nvSpPr>
        <p:spPr>
          <a:xfrm>
            <a:off x="5584680" y="5275440"/>
            <a:ext cx="47880" cy="475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9" name="Oval 28"/>
          <p:cNvSpPr/>
          <p:nvPr/>
        </p:nvSpPr>
        <p:spPr>
          <a:xfrm>
            <a:off x="4222800" y="5313240"/>
            <a:ext cx="47520" cy="47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0" name="Oval 29"/>
          <p:cNvSpPr/>
          <p:nvPr/>
        </p:nvSpPr>
        <p:spPr>
          <a:xfrm>
            <a:off x="7746840" y="5218200"/>
            <a:ext cx="47880" cy="475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1" name="Oval 30"/>
          <p:cNvSpPr/>
          <p:nvPr/>
        </p:nvSpPr>
        <p:spPr>
          <a:xfrm>
            <a:off x="4146480" y="2475000"/>
            <a:ext cx="47520" cy="47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2" name="Text Box 31"/>
          <p:cNvSpPr/>
          <p:nvPr/>
        </p:nvSpPr>
        <p:spPr>
          <a:xfrm>
            <a:off x="5410080" y="5791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3" name="Text Box 32"/>
          <p:cNvSpPr/>
          <p:nvPr/>
        </p:nvSpPr>
        <p:spPr>
          <a:xfrm>
            <a:off x="6477120" y="2895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4" name="文本框 8199"/>
          <p:cNvSpPr/>
          <p:nvPr/>
        </p:nvSpPr>
        <p:spPr>
          <a:xfrm>
            <a:off x="933480" y="1749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1"/>
          <a:srcRect l="9906" t="0" r="0" b="21376"/>
          <a:stretch/>
        </p:blipFill>
        <p:spPr>
          <a:xfrm>
            <a:off x="3733920" y="2133720"/>
            <a:ext cx="5562360" cy="43434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3"/>
          <p:cNvSpPr/>
          <p:nvPr/>
        </p:nvSpPr>
        <p:spPr>
          <a:xfrm>
            <a:off x="228600" y="228600"/>
            <a:ext cx="820728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变式练习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如图，在直角坐标系中， 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顶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为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为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平分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交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轴于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DE⊥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E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面积；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求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坐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533520" y="53352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小颍同学折叠一个直角三角形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纸片，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重合，折痕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若已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=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C=6cm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求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吗？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08" name="Group 3"/>
          <p:cNvGrpSpPr/>
          <p:nvPr/>
        </p:nvGrpSpPr>
        <p:grpSpPr>
          <a:xfrm>
            <a:off x="2364480" y="2438280"/>
            <a:ext cx="3983400" cy="2822040"/>
            <a:chOff x="2364480" y="2438280"/>
            <a:chExt cx="3983400" cy="2822040"/>
          </a:xfrm>
        </p:grpSpPr>
        <p:sp>
          <p:nvSpPr>
            <p:cNvPr id="309" name="Text Box 4"/>
            <p:cNvSpPr/>
            <p:nvPr/>
          </p:nvSpPr>
          <p:spPr>
            <a:xfrm>
              <a:off x="4650120" y="4800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310" name="Group 5"/>
            <p:cNvGrpSpPr/>
            <p:nvPr/>
          </p:nvGrpSpPr>
          <p:grpSpPr>
            <a:xfrm>
              <a:off x="2364480" y="2438280"/>
              <a:ext cx="3983400" cy="2716200"/>
              <a:chOff x="2364480" y="2438280"/>
              <a:chExt cx="3983400" cy="2716200"/>
            </a:xfrm>
          </p:grpSpPr>
          <p:sp>
            <p:nvSpPr>
              <p:cNvPr id="311" name="Text Box 6"/>
              <p:cNvSpPr/>
              <p:nvPr/>
            </p:nvSpPr>
            <p:spPr>
              <a:xfrm>
                <a:off x="5922000" y="46735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2814840" y="4794120"/>
                <a:ext cx="3095640" cy="360"/>
                <a:chOff x="2814840" y="4794120"/>
                <a:chExt cx="3095640" cy="360"/>
              </a:xfrm>
            </p:grpSpPr>
            <p:sp>
              <p:nvSpPr>
                <p:cNvPr id="313" name="Line 7"/>
                <p:cNvSpPr/>
                <p:nvPr/>
              </p:nvSpPr>
              <p:spPr>
                <a:xfrm>
                  <a:off x="2814840" y="4794120"/>
                  <a:ext cx="3095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14" name=""/>
                <p:cNvSpPr txBox="1"/>
                <p:nvPr/>
              </p:nvSpPr>
              <p:spPr>
                <a:xfrm>
                  <a:off x="2814840" y="4794120"/>
                  <a:ext cx="309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910120" y="2920680"/>
                <a:ext cx="360" cy="1873080"/>
                <a:chOff x="5910120" y="2920680"/>
                <a:chExt cx="360" cy="1873080"/>
              </a:xfrm>
            </p:grpSpPr>
            <p:sp>
              <p:nvSpPr>
                <p:cNvPr id="316" name="Line 8"/>
                <p:cNvSpPr/>
                <p:nvPr/>
              </p:nvSpPr>
              <p:spPr>
                <a:xfrm flipV="1">
                  <a:off x="5910480" y="2920680"/>
                  <a:ext cx="0" cy="1873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17" name=""/>
                <p:cNvSpPr txBox="1"/>
                <p:nvPr/>
              </p:nvSpPr>
              <p:spPr>
                <a:xfrm rot="10800000">
                  <a:off x="5910120" y="2920680"/>
                  <a:ext cx="360" cy="18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2814480" y="2920680"/>
                <a:ext cx="3096000" cy="1873080"/>
                <a:chOff x="2814480" y="2920680"/>
                <a:chExt cx="3096000" cy="1873080"/>
              </a:xfrm>
            </p:grpSpPr>
            <p:sp>
              <p:nvSpPr>
                <p:cNvPr id="319" name="Line 9"/>
                <p:cNvSpPr/>
                <p:nvPr/>
              </p:nvSpPr>
              <p:spPr>
                <a:xfrm flipV="1">
                  <a:off x="2814840" y="2920680"/>
                  <a:ext cx="3095640" cy="1873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20" name=""/>
                <p:cNvSpPr txBox="1"/>
                <p:nvPr/>
              </p:nvSpPr>
              <p:spPr>
                <a:xfrm rot="10800000">
                  <a:off x="2814480" y="2920320"/>
                  <a:ext cx="3095640" cy="18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4038840" y="2993760"/>
                <a:ext cx="1184040" cy="2160720"/>
                <a:chOff x="4038840" y="2993760"/>
                <a:chExt cx="1184040" cy="2160720"/>
              </a:xfrm>
            </p:grpSpPr>
            <p:sp>
              <p:nvSpPr>
                <p:cNvPr id="322" name="Line 10"/>
                <p:cNvSpPr/>
                <p:nvPr/>
              </p:nvSpPr>
              <p:spPr>
                <a:xfrm>
                  <a:off x="4038840" y="2993760"/>
                  <a:ext cx="1184040" cy="216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23" name=""/>
                <p:cNvSpPr txBox="1"/>
                <p:nvPr/>
              </p:nvSpPr>
              <p:spPr>
                <a:xfrm>
                  <a:off x="4038840" y="2993760"/>
                  <a:ext cx="1184040" cy="21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sp>
            <p:nvSpPr>
              <p:cNvPr id="324" name="Text Box 11"/>
              <p:cNvSpPr/>
              <p:nvPr/>
            </p:nvSpPr>
            <p:spPr>
              <a:xfrm>
                <a:off x="2364480" y="4670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325" name="Text Box 12"/>
              <p:cNvSpPr/>
              <p:nvPr/>
            </p:nvSpPr>
            <p:spPr>
              <a:xfrm>
                <a:off x="5964480" y="24382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326" name="Text Box 13"/>
              <p:cNvSpPr/>
              <p:nvPr/>
            </p:nvSpPr>
            <p:spPr>
              <a:xfrm>
                <a:off x="3888360" y="35049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5029200" y="2895480"/>
                <a:ext cx="914400" cy="1905120"/>
                <a:chOff x="5029200" y="2895480"/>
                <a:chExt cx="914400" cy="1905120"/>
              </a:xfrm>
            </p:grpSpPr>
            <p:sp>
              <p:nvSpPr>
                <p:cNvPr id="328" name="Line 14"/>
                <p:cNvSpPr/>
                <p:nvPr/>
              </p:nvSpPr>
              <p:spPr>
                <a:xfrm flipH="1">
                  <a:off x="5029200" y="2895480"/>
                  <a:ext cx="914400" cy="190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29" name=""/>
                <p:cNvSpPr txBox="1"/>
                <p:nvPr/>
              </p:nvSpPr>
              <p:spPr>
                <a:xfrm>
                  <a:off x="5029200" y="2895480"/>
                  <a:ext cx="914400" cy="19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</p:grpSp>
      <p:sp>
        <p:nvSpPr>
          <p:cNvPr id="330" name="Text Box 15"/>
          <p:cNvSpPr/>
          <p:nvPr/>
        </p:nvSpPr>
        <p:spPr>
          <a:xfrm>
            <a:off x="5410080" y="4572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1" name="Text Box 16"/>
          <p:cNvSpPr/>
          <p:nvPr/>
        </p:nvSpPr>
        <p:spPr>
          <a:xfrm>
            <a:off x="4572000" y="3809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0-x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2" name="Text Box 17"/>
          <p:cNvSpPr/>
          <p:nvPr/>
        </p:nvSpPr>
        <p:spPr>
          <a:xfrm>
            <a:off x="5867280" y="3809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684360" y="3478320"/>
            <a:ext cx="2735280" cy="207324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"/>
          <p:cNvSpPr/>
          <p:nvPr/>
        </p:nvSpPr>
        <p:spPr>
          <a:xfrm>
            <a:off x="5835600" y="4218120"/>
            <a:ext cx="271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△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=8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2"/>
          <a:stretch/>
        </p:blipFill>
        <p:spPr>
          <a:xfrm>
            <a:off x="3478320" y="3267000"/>
            <a:ext cx="2317680" cy="2394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5"/>
          <p:cNvSpPr/>
          <p:nvPr/>
        </p:nvSpPr>
        <p:spPr>
          <a:xfrm>
            <a:off x="304920" y="0"/>
            <a:ext cx="8496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补充练习：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、在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中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边上的高，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AB=l0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AD=8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AC=17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求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面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0" y="1159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矩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ABCD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如图折叠，使点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落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BC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边上的点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处，已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AB=8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BC=10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求折痕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AE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的长。</a:t>
            </a:r>
            <a:endParaRPr b="1" lang="en-US" sz="4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2989440" y="4365720"/>
            <a:ext cx="2808000" cy="1727280"/>
          </a:xfrm>
          <a:custGeom>
            <a:avLst/>
            <a:gdLst/>
            <a:ahLst/>
            <a:rect l="l" t="t" r="r" b="b"/>
            <a:pathLst>
              <a:path w="1769" h="1088">
                <a:moveTo>
                  <a:pt x="0" y="0"/>
                </a:moveTo>
                <a:lnTo>
                  <a:pt x="0" y="1088"/>
                </a:lnTo>
                <a:lnTo>
                  <a:pt x="1769" y="1088"/>
                </a:lnTo>
                <a:lnTo>
                  <a:pt x="1769" y="635"/>
                </a:lnTo>
                <a:lnTo>
                  <a:pt x="0" y="0"/>
                </a:lnTo>
                <a:close/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989440" y="4365720"/>
            <a:ext cx="2808000" cy="360"/>
            <a:chOff x="2989440" y="4365720"/>
            <a:chExt cx="2808000" cy="360"/>
          </a:xfrm>
        </p:grpSpPr>
        <p:sp>
          <p:nvSpPr>
            <p:cNvPr id="340" name="Line 4"/>
            <p:cNvSpPr/>
            <p:nvPr/>
          </p:nvSpPr>
          <p:spPr>
            <a:xfrm>
              <a:off x="2989440" y="4365720"/>
              <a:ext cx="2808000" cy="0"/>
            </a:xfrm>
            <a:prstGeom prst="line">
              <a:avLst/>
            </a:prstGeom>
            <a:ln w="4752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2989440" y="4365720"/>
              <a:ext cx="28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797080" y="4365720"/>
            <a:ext cx="360" cy="1008000"/>
            <a:chOff x="5797080" y="4365720"/>
            <a:chExt cx="360" cy="1008000"/>
          </a:xfrm>
        </p:grpSpPr>
        <p:sp>
          <p:nvSpPr>
            <p:cNvPr id="343" name="Line 5"/>
            <p:cNvSpPr/>
            <p:nvPr/>
          </p:nvSpPr>
          <p:spPr>
            <a:xfrm flipV="1">
              <a:off x="5797440" y="4365720"/>
              <a:ext cx="0" cy="1008000"/>
            </a:xfrm>
            <a:prstGeom prst="line">
              <a:avLst/>
            </a:prstGeom>
            <a:ln w="4752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 rot="10800000">
              <a:off x="5797080" y="436572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989440" y="4365720"/>
            <a:ext cx="1871640" cy="1727280"/>
            <a:chOff x="2989440" y="4365720"/>
            <a:chExt cx="1871640" cy="1727280"/>
          </a:xfrm>
        </p:grpSpPr>
        <p:sp>
          <p:nvSpPr>
            <p:cNvPr id="346" name="Line 6"/>
            <p:cNvSpPr/>
            <p:nvPr/>
          </p:nvSpPr>
          <p:spPr>
            <a:xfrm>
              <a:off x="2989440" y="4365720"/>
              <a:ext cx="1871640" cy="1727280"/>
            </a:xfrm>
            <a:prstGeom prst="line">
              <a:avLst/>
            </a:prstGeom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2989440" y="4365720"/>
              <a:ext cx="1871640" cy="172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860720" y="5373720"/>
            <a:ext cx="936720" cy="719280"/>
            <a:chOff x="4860720" y="5373720"/>
            <a:chExt cx="936720" cy="719280"/>
          </a:xfrm>
        </p:grpSpPr>
        <p:sp>
          <p:nvSpPr>
            <p:cNvPr id="349" name="Line 7"/>
            <p:cNvSpPr/>
            <p:nvPr/>
          </p:nvSpPr>
          <p:spPr>
            <a:xfrm flipH="1">
              <a:off x="4860720" y="5373720"/>
              <a:ext cx="936360" cy="719280"/>
            </a:xfrm>
            <a:prstGeom prst="line">
              <a:avLst/>
            </a:prstGeom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4861080" y="5373720"/>
              <a:ext cx="936360" cy="71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351" name="Text Box 8"/>
          <p:cNvSpPr/>
          <p:nvPr/>
        </p:nvSpPr>
        <p:spPr>
          <a:xfrm>
            <a:off x="2629080" y="400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2773440" y="602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5724360" y="6093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5724360" y="4076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4645080" y="6021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5724360" y="508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468360" y="76500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Rt</a:t>
            </a:r>
            <a:r>
              <a:rPr b="1" lang="el-GR" sz="3600" spc="-1" strike="noStrike">
                <a:solidFill>
                  <a:srgbClr val="000000"/>
                </a:solidFill>
                <a:latin typeface="黑体"/>
              </a:rPr>
              <a:t>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中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,A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2,AC=6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如图折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落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上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长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,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6516720" y="4508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332000" y="4508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5435640" y="21337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356000" y="3429000"/>
            <a:ext cx="2160720" cy="1295280"/>
            <a:chOff x="4356000" y="3429000"/>
            <a:chExt cx="2160720" cy="1295280"/>
          </a:xfrm>
        </p:grpSpPr>
        <p:sp>
          <p:nvSpPr>
            <p:cNvPr id="362" name="Line 6"/>
            <p:cNvSpPr/>
            <p:nvPr/>
          </p:nvSpPr>
          <p:spPr>
            <a:xfrm flipH="1" flipV="1">
              <a:off x="4356000" y="3429000"/>
              <a:ext cx="2160720" cy="129528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 rot="10800000">
              <a:off x="4356000" y="3429000"/>
              <a:ext cx="216072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364" name="Text Box 7"/>
          <p:cNvSpPr/>
          <p:nvPr/>
        </p:nvSpPr>
        <p:spPr>
          <a:xfrm>
            <a:off x="3780000" y="285264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343400" y="3429000"/>
            <a:ext cx="360" cy="1295280"/>
            <a:chOff x="4343400" y="3429000"/>
            <a:chExt cx="360" cy="1295280"/>
          </a:xfrm>
        </p:grpSpPr>
        <p:sp>
          <p:nvSpPr>
            <p:cNvPr id="366" name="Line 8"/>
            <p:cNvSpPr/>
            <p:nvPr/>
          </p:nvSpPr>
          <p:spPr>
            <a:xfrm>
              <a:off x="4343400" y="342900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4343400" y="342900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368" name="Text Box 9"/>
          <p:cNvSpPr/>
          <p:nvPr/>
        </p:nvSpPr>
        <p:spPr>
          <a:xfrm>
            <a:off x="4067280" y="486900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9" name="未知"/>
          <p:cNvSpPr/>
          <p:nvPr/>
        </p:nvSpPr>
        <p:spPr>
          <a:xfrm>
            <a:off x="435600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0" y="0"/>
                </a:moveTo>
                <a:lnTo>
                  <a:pt x="136" y="0"/>
                </a:lnTo>
                <a:lnTo>
                  <a:pt x="136" y="136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0" name="未知"/>
          <p:cNvSpPr/>
          <p:nvPr/>
        </p:nvSpPr>
        <p:spPr>
          <a:xfrm>
            <a:off x="1979640" y="3429000"/>
            <a:ext cx="4537080" cy="1368360"/>
          </a:xfrm>
          <a:custGeom>
            <a:avLst/>
            <a:gdLst/>
            <a:ahLst/>
            <a:rect l="l" t="t" r="r" b="b"/>
            <a:pathLst>
              <a:path w="2858" h="862">
                <a:moveTo>
                  <a:pt x="1497" y="0"/>
                </a:moveTo>
                <a:lnTo>
                  <a:pt x="0" y="862"/>
                </a:lnTo>
                <a:lnTo>
                  <a:pt x="2858" y="816"/>
                </a:lnTo>
                <a:lnTo>
                  <a:pt x="1497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1" name="未知"/>
          <p:cNvSpPr/>
          <p:nvPr/>
        </p:nvSpPr>
        <p:spPr>
          <a:xfrm>
            <a:off x="4356000" y="2852640"/>
            <a:ext cx="2160720" cy="1871640"/>
          </a:xfrm>
          <a:custGeom>
            <a:avLst/>
            <a:gdLst/>
            <a:ahLst/>
            <a:rect l="l" t="t" r="r" b="b"/>
            <a:pathLst>
              <a:path w="1361" h="1179">
                <a:moveTo>
                  <a:pt x="0" y="363"/>
                </a:moveTo>
                <a:lnTo>
                  <a:pt x="680" y="0"/>
                </a:lnTo>
                <a:lnTo>
                  <a:pt x="1361" y="1179"/>
                </a:lnTo>
              </a:path>
            </a:pathLst>
          </a:custGeom>
          <a:noFill/>
          <a:ln w="5724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2" name="未知"/>
          <p:cNvSpPr/>
          <p:nvPr/>
        </p:nvSpPr>
        <p:spPr>
          <a:xfrm>
            <a:off x="5219640" y="2997360"/>
            <a:ext cx="289080" cy="144360"/>
          </a:xfrm>
          <a:custGeom>
            <a:avLst/>
            <a:gdLst/>
            <a:ahLst/>
            <a:rect l="l" t="t" r="r" b="b"/>
            <a:pathLst>
              <a:path w="182" h="91">
                <a:moveTo>
                  <a:pt x="0" y="0"/>
                </a:moveTo>
                <a:lnTo>
                  <a:pt x="46" y="91"/>
                </a:lnTo>
                <a:lnTo>
                  <a:pt x="182" y="45"/>
                </a:ln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34920" y="17733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角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,AB=10,AC=17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边上的高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D=8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788000" y="5300640"/>
            <a:ext cx="1224000" cy="360"/>
            <a:chOff x="4788000" y="5300640"/>
            <a:chExt cx="1224000" cy="360"/>
          </a:xfrm>
        </p:grpSpPr>
        <p:sp>
          <p:nvSpPr>
            <p:cNvPr id="375" name="Line 3"/>
            <p:cNvSpPr/>
            <p:nvPr/>
          </p:nvSpPr>
          <p:spPr>
            <a:xfrm flipH="1">
              <a:off x="4788000" y="5300640"/>
              <a:ext cx="12240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4788000" y="5300640"/>
              <a:ext cx="12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377" name="Group 4"/>
          <p:cNvGrpSpPr/>
          <p:nvPr/>
        </p:nvGrpSpPr>
        <p:grpSpPr>
          <a:xfrm>
            <a:off x="4790160" y="3500280"/>
            <a:ext cx="3533760" cy="2178000"/>
            <a:chOff x="4790160" y="3500280"/>
            <a:chExt cx="3533760" cy="2178000"/>
          </a:xfrm>
        </p:grpSpPr>
        <p:sp>
          <p:nvSpPr>
            <p:cNvPr id="378" name="未知"/>
            <p:cNvSpPr/>
            <p:nvPr/>
          </p:nvSpPr>
          <p:spPr>
            <a:xfrm>
              <a:off x="5219640" y="3644640"/>
              <a:ext cx="2665440" cy="1656000"/>
            </a:xfrm>
            <a:custGeom>
              <a:avLst/>
              <a:gdLst/>
              <a:ahLst/>
              <a:rect l="l" t="t" r="r" b="b"/>
              <a:pathLst>
                <a:path w="1679" h="1043">
                  <a:moveTo>
                    <a:pt x="499" y="1043"/>
                  </a:moveTo>
                  <a:lnTo>
                    <a:pt x="1679" y="1043"/>
                  </a:lnTo>
                  <a:lnTo>
                    <a:pt x="0" y="0"/>
                  </a:lnTo>
                  <a:lnTo>
                    <a:pt x="499" y="1043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79" name="Rectangle 6"/>
            <p:cNvSpPr/>
            <p:nvPr/>
          </p:nvSpPr>
          <p:spPr>
            <a:xfrm>
              <a:off x="4790160" y="3500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5798160" y="5157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7887240" y="5013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382" name="Text Box 9"/>
          <p:cNvSpPr/>
          <p:nvPr/>
        </p:nvSpPr>
        <p:spPr>
          <a:xfrm>
            <a:off x="0" y="54936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已知直角三角形的两边长分别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4,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则第三边长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  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3276720" y="1125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708360" y="1052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或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85" name="Group 12"/>
          <p:cNvGrpSpPr/>
          <p:nvPr/>
        </p:nvGrpSpPr>
        <p:grpSpPr>
          <a:xfrm>
            <a:off x="5705640" y="3973680"/>
            <a:ext cx="1224720" cy="879120"/>
            <a:chOff x="5705640" y="3973680"/>
            <a:chExt cx="1224720" cy="879120"/>
          </a:xfrm>
        </p:grpSpPr>
        <p:sp>
          <p:nvSpPr>
            <p:cNvPr id="386" name="Text Box 13"/>
            <p:cNvSpPr/>
            <p:nvPr/>
          </p:nvSpPr>
          <p:spPr>
            <a:xfrm>
              <a:off x="6353280" y="39736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7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87" name="Text Box 14"/>
            <p:cNvSpPr/>
            <p:nvPr/>
          </p:nvSpPr>
          <p:spPr>
            <a:xfrm>
              <a:off x="5705640" y="43322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388" name="Group 15"/>
          <p:cNvGrpSpPr/>
          <p:nvPr/>
        </p:nvGrpSpPr>
        <p:grpSpPr>
          <a:xfrm>
            <a:off x="4841640" y="3645000"/>
            <a:ext cx="594000" cy="2176200"/>
            <a:chOff x="4841640" y="3645000"/>
            <a:chExt cx="594000" cy="2176200"/>
          </a:xfrm>
        </p:grpSpPr>
        <p:sp>
          <p:nvSpPr>
            <p:cNvPr id="389" name="Text Box 16"/>
            <p:cNvSpPr/>
            <p:nvPr/>
          </p:nvSpPr>
          <p:spPr>
            <a:xfrm>
              <a:off x="4841640" y="4211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390" name="Group 17"/>
            <p:cNvGrpSpPr/>
            <p:nvPr/>
          </p:nvGrpSpPr>
          <p:grpSpPr>
            <a:xfrm>
              <a:off x="5003640" y="3645000"/>
              <a:ext cx="432000" cy="2176200"/>
              <a:chOff x="5003640" y="3645000"/>
              <a:chExt cx="432000" cy="2176200"/>
            </a:xfrm>
          </p:grpSpPr>
          <p:sp>
            <p:nvSpPr>
              <p:cNvPr id="391" name="Rectangle 18"/>
              <p:cNvSpPr/>
              <p:nvPr/>
            </p:nvSpPr>
            <p:spPr>
              <a:xfrm>
                <a:off x="5003640" y="530064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Arial"/>
                    <a:ea typeface="宋体"/>
                  </a:rPr>
                  <a:t>D</a:t>
                </a:r>
                <a:endParaRPr b="1" lang="en-US" sz="28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5219640" y="3645000"/>
                <a:ext cx="360" cy="1655640"/>
                <a:chOff x="5219640" y="3645000"/>
                <a:chExt cx="360" cy="1655640"/>
              </a:xfrm>
            </p:grpSpPr>
            <p:sp>
              <p:nvSpPr>
                <p:cNvPr id="393" name="Line 19"/>
                <p:cNvSpPr/>
                <p:nvPr/>
              </p:nvSpPr>
              <p:spPr>
                <a:xfrm>
                  <a:off x="5219640" y="3645000"/>
                  <a:ext cx="0" cy="1655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94" name=""/>
                <p:cNvSpPr txBox="1"/>
                <p:nvPr/>
              </p:nvSpPr>
              <p:spPr>
                <a:xfrm>
                  <a:off x="5219640" y="3645000"/>
                  <a:ext cx="360" cy="165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5219640" y="5085000"/>
                <a:ext cx="215640" cy="360"/>
                <a:chOff x="5219640" y="5085000"/>
                <a:chExt cx="215640" cy="360"/>
              </a:xfrm>
            </p:grpSpPr>
            <p:sp>
              <p:nvSpPr>
                <p:cNvPr id="396" name="Line 20"/>
                <p:cNvSpPr/>
                <p:nvPr/>
              </p:nvSpPr>
              <p:spPr>
                <a:xfrm>
                  <a:off x="5219640" y="5085000"/>
                  <a:ext cx="2156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97" name=""/>
                <p:cNvSpPr txBox="1"/>
                <p:nvPr/>
              </p:nvSpPr>
              <p:spPr>
                <a:xfrm>
                  <a:off x="5219640" y="5085000"/>
                  <a:ext cx="21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5435280" y="5085000"/>
                <a:ext cx="360" cy="215640"/>
                <a:chOff x="5435280" y="5085000"/>
                <a:chExt cx="360" cy="215640"/>
              </a:xfrm>
            </p:grpSpPr>
            <p:sp>
              <p:nvSpPr>
                <p:cNvPr id="399" name="Line 21"/>
                <p:cNvSpPr/>
                <p:nvPr/>
              </p:nvSpPr>
              <p:spPr>
                <a:xfrm>
                  <a:off x="5435280" y="5085000"/>
                  <a:ext cx="0" cy="215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00" name=""/>
                <p:cNvSpPr txBox="1"/>
                <p:nvPr/>
              </p:nvSpPr>
              <p:spPr>
                <a:xfrm>
                  <a:off x="5435280" y="5085000"/>
                  <a:ext cx="3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</p:grpSp>
      <p:pic>
        <p:nvPicPr>
          <p:cNvPr id="401" name="Object 22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696960" cy="66060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23"/>
          <p:cNvGrpSpPr/>
          <p:nvPr/>
        </p:nvGrpSpPr>
        <p:grpSpPr>
          <a:xfrm>
            <a:off x="684360" y="2924280"/>
            <a:ext cx="3876480" cy="3219480"/>
            <a:chOff x="684360" y="2924280"/>
            <a:chExt cx="3876480" cy="3219480"/>
          </a:xfrm>
        </p:grpSpPr>
        <p:pic>
          <p:nvPicPr>
            <p:cNvPr id="403" name="Picture 24" descr=""/>
            <p:cNvPicPr/>
            <p:nvPr/>
          </p:nvPicPr>
          <p:blipFill>
            <a:blip r:embed="rId2"/>
            <a:stretch/>
          </p:blipFill>
          <p:spPr>
            <a:xfrm>
              <a:off x="684360" y="2924280"/>
              <a:ext cx="387648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25"/>
            <p:cNvSpPr/>
            <p:nvPr/>
          </p:nvSpPr>
          <p:spPr>
            <a:xfrm>
              <a:off x="2124000" y="4292640"/>
              <a:ext cx="57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405" name="Text Box 26"/>
          <p:cNvSpPr/>
          <p:nvPr/>
        </p:nvSpPr>
        <p:spPr>
          <a:xfrm>
            <a:off x="1403280" y="5300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6" name="Text Box 27"/>
          <p:cNvSpPr/>
          <p:nvPr/>
        </p:nvSpPr>
        <p:spPr>
          <a:xfrm>
            <a:off x="2627280" y="530064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407" name="Group 28"/>
          <p:cNvGrpSpPr/>
          <p:nvPr/>
        </p:nvGrpSpPr>
        <p:grpSpPr>
          <a:xfrm>
            <a:off x="5219640" y="5373720"/>
            <a:ext cx="2665440" cy="868680"/>
            <a:chOff x="5219640" y="5373720"/>
            <a:chExt cx="2665440" cy="868680"/>
          </a:xfrm>
        </p:grpSpPr>
        <p:sp>
          <p:nvSpPr>
            <p:cNvPr id="408" name="未知"/>
            <p:cNvSpPr/>
            <p:nvPr/>
          </p:nvSpPr>
          <p:spPr>
            <a:xfrm>
              <a:off x="5219640" y="5373720"/>
              <a:ext cx="2665440" cy="287280"/>
            </a:xfrm>
            <a:custGeom>
              <a:avLst/>
              <a:gdLst/>
              <a:ahLst/>
              <a:rect l="l" t="t" r="r" b="b"/>
              <a:pathLst>
                <a:path w="1746" h="136">
                  <a:moveTo>
                    <a:pt x="22" y="45"/>
                  </a:moveTo>
                  <a:cubicBezTo>
                    <a:pt x="11" y="64"/>
                    <a:pt x="0" y="83"/>
                    <a:pt x="113" y="90"/>
                  </a:cubicBezTo>
                  <a:cubicBezTo>
                    <a:pt x="226" y="97"/>
                    <a:pt x="574" y="90"/>
                    <a:pt x="702" y="90"/>
                  </a:cubicBezTo>
                  <a:cubicBezTo>
                    <a:pt x="830" y="90"/>
                    <a:pt x="846" y="82"/>
                    <a:pt x="884" y="90"/>
                  </a:cubicBezTo>
                  <a:cubicBezTo>
                    <a:pt x="922" y="98"/>
                    <a:pt x="914" y="136"/>
                    <a:pt x="929" y="136"/>
                  </a:cubicBezTo>
                  <a:cubicBezTo>
                    <a:pt x="944" y="136"/>
                    <a:pt x="906" y="98"/>
                    <a:pt x="974" y="90"/>
                  </a:cubicBezTo>
                  <a:cubicBezTo>
                    <a:pt x="1042" y="82"/>
                    <a:pt x="1231" y="90"/>
                    <a:pt x="1337" y="90"/>
                  </a:cubicBezTo>
                  <a:cubicBezTo>
                    <a:pt x="1443" y="90"/>
                    <a:pt x="1541" y="105"/>
                    <a:pt x="1609" y="90"/>
                  </a:cubicBezTo>
                  <a:cubicBezTo>
                    <a:pt x="1677" y="75"/>
                    <a:pt x="1723" y="15"/>
                    <a:pt x="174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09" name="Text Box 30"/>
            <p:cNvSpPr/>
            <p:nvPr/>
          </p:nvSpPr>
          <p:spPr>
            <a:xfrm>
              <a:off x="6300720" y="56610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5</a:t>
              </a: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410" name="Text Box 31"/>
          <p:cNvSpPr/>
          <p:nvPr/>
        </p:nvSpPr>
        <p:spPr>
          <a:xfrm>
            <a:off x="5435640" y="4797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1" name="Text Box 32"/>
          <p:cNvSpPr/>
          <p:nvPr/>
        </p:nvSpPr>
        <p:spPr>
          <a:xfrm>
            <a:off x="2556000" y="24210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21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2" name="Text Box 33"/>
          <p:cNvSpPr/>
          <p:nvPr/>
        </p:nvSpPr>
        <p:spPr>
          <a:xfrm>
            <a:off x="3203640" y="2421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或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539640" y="54936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直角三角形两边的长分别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第三边的长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=AC=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上的高，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夹角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4211640" y="3716280"/>
            <a:ext cx="3981600" cy="25434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2"/>
          <a:stretch/>
        </p:blipFill>
        <p:spPr>
          <a:xfrm>
            <a:off x="900000" y="3357720"/>
            <a:ext cx="27752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80880" y="914400"/>
            <a:ext cx="83059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复习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勾股定理的内容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勾股定理的应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已知两边求第三边；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已知一边和一锐角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3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6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45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特殊角），求其余边长；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已知一边和另外两边的数量关系，用方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7" name="WordArt 3"/>
          <p:cNvSpPr txBox="1"/>
          <p:nvPr/>
        </p:nvSpPr>
        <p:spPr>
          <a:xfrm>
            <a:off x="4932360" y="1197000"/>
            <a:ext cx="1584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规律</a:t>
            </a:r>
            <a:endParaRPr b="1" lang="en-US" sz="32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0" y="148428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分类思想</a:t>
            </a: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612720" y="2565360"/>
            <a:ext cx="74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直角三角形中，已知两边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第三边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应分类讨论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685800" y="38098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当已知条件中没有给出图形时，应认真读句画图，避免遗漏另一种情况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8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468360" y="126828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直角三角形中，斜边与一直角边相差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另一直角边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求斜边的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468360" y="54936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如图，有一块直角三角形纸片，两直角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C=6cm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=8cm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现将直角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沿直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折叠，使它落在斜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上，且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重合，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1"/>
          <a:stretch/>
        </p:blipFill>
        <p:spPr>
          <a:xfrm>
            <a:off x="3851280" y="1989000"/>
            <a:ext cx="4114800" cy="386712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4"/>
          <p:cNvSpPr/>
          <p:nvPr/>
        </p:nvSpPr>
        <p:spPr>
          <a:xfrm>
            <a:off x="4500720" y="5300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5508720" y="4437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6156360" y="537372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8-x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3635280" y="371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5508720" y="3141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7020000" y="4221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141120" y="3068640"/>
            <a:ext cx="367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方程思想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角三角形中，已知一直角边，以及另一直角边和斜边的等量关系，可建立方程求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ABE9-3B72-45E5-B957-DD1247ADC7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-360" y="15228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变式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，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AC=4,∠A=45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=6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.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03360" y="5472000"/>
            <a:ext cx="42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勾股定理的使用 </a:t>
            </a: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364000" y="494172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华文行楷"/>
              </a:rPr>
              <a:t>添辅助线</a:t>
            </a:r>
            <a:endParaRPr b="1" lang="en-US" sz="40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733560" cy="313704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6"/>
          <p:cNvGrpSpPr/>
          <p:nvPr/>
        </p:nvGrpSpPr>
        <p:grpSpPr>
          <a:xfrm>
            <a:off x="914400" y="2133720"/>
            <a:ext cx="4191120" cy="3809880"/>
            <a:chOff x="914400" y="2133720"/>
            <a:chExt cx="4191120" cy="3809880"/>
          </a:xfrm>
        </p:grpSpPr>
        <p:grpSp>
          <p:nvGrpSpPr>
            <p:cNvPr id="440" name="Group 7"/>
            <p:cNvGrpSpPr/>
            <p:nvPr/>
          </p:nvGrpSpPr>
          <p:grpSpPr>
            <a:xfrm>
              <a:off x="1447920" y="2971440"/>
              <a:ext cx="2247840" cy="2266920"/>
              <a:chOff x="1447920" y="2971440"/>
              <a:chExt cx="2247840" cy="2266920"/>
            </a:xfrm>
          </p:grpSpPr>
          <p:sp>
            <p:nvSpPr>
              <p:cNvPr id="441" name="AutoShape 8"/>
              <p:cNvSpPr/>
              <p:nvPr/>
            </p:nvSpPr>
            <p:spPr>
              <a:xfrm rot="16200000">
                <a:off x="1438200" y="2980800"/>
                <a:ext cx="2266920" cy="22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3181680" y="4905000"/>
                <a:ext cx="104760" cy="360"/>
                <a:chOff x="3181680" y="4905000"/>
                <a:chExt cx="104760" cy="360"/>
              </a:xfrm>
            </p:grpSpPr>
            <p:sp>
              <p:nvSpPr>
                <p:cNvPr id="443" name="Line 9"/>
                <p:cNvSpPr/>
                <p:nvPr/>
              </p:nvSpPr>
              <p:spPr>
                <a:xfrm>
                  <a:off x="3181680" y="4905360"/>
                  <a:ext cx="104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44" name=""/>
                <p:cNvSpPr txBox="1"/>
                <p:nvPr/>
              </p:nvSpPr>
              <p:spPr>
                <a:xfrm rot="16200000">
                  <a:off x="3233880" y="4852800"/>
                  <a:ext cx="360" cy="1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181320" y="4905000"/>
                <a:ext cx="360" cy="104760"/>
                <a:chOff x="3181320" y="4905000"/>
                <a:chExt cx="360" cy="104760"/>
              </a:xfrm>
            </p:grpSpPr>
            <p:sp>
              <p:nvSpPr>
                <p:cNvPr id="446" name="Line 10"/>
                <p:cNvSpPr/>
                <p:nvPr/>
              </p:nvSpPr>
              <p:spPr>
                <a:xfrm flipV="1">
                  <a:off x="3181320" y="4905000"/>
                  <a:ext cx="0" cy="104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47" name=""/>
                <p:cNvSpPr txBox="1"/>
                <p:nvPr/>
              </p:nvSpPr>
              <p:spPr>
                <a:xfrm rot="16200000">
                  <a:off x="3129120" y="4957200"/>
                  <a:ext cx="104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2743560" y="3388680"/>
                <a:ext cx="95400" cy="57600"/>
                <a:chOff x="2743560" y="3388680"/>
                <a:chExt cx="95400" cy="57600"/>
              </a:xfrm>
            </p:grpSpPr>
            <p:sp>
              <p:nvSpPr>
                <p:cNvPr id="449" name="Line 11"/>
                <p:cNvSpPr/>
                <p:nvPr/>
              </p:nvSpPr>
              <p:spPr>
                <a:xfrm>
                  <a:off x="2743560" y="3388680"/>
                  <a:ext cx="95400" cy="5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50" name=""/>
                <p:cNvSpPr txBox="1"/>
                <p:nvPr/>
              </p:nvSpPr>
              <p:spPr>
                <a:xfrm rot="16200000">
                  <a:off x="2762640" y="3369960"/>
                  <a:ext cx="57240" cy="9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2838600" y="3360240"/>
                <a:ext cx="47520" cy="86040"/>
                <a:chOff x="2838600" y="3360240"/>
                <a:chExt cx="47520" cy="86040"/>
              </a:xfrm>
            </p:grpSpPr>
            <p:sp>
              <p:nvSpPr>
                <p:cNvPr id="452" name="Line 12"/>
                <p:cNvSpPr/>
                <p:nvPr/>
              </p:nvSpPr>
              <p:spPr>
                <a:xfrm flipV="1">
                  <a:off x="2838600" y="3360240"/>
                  <a:ext cx="4752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53" name=""/>
                <p:cNvSpPr txBox="1"/>
                <p:nvPr/>
              </p:nvSpPr>
              <p:spPr>
                <a:xfrm rot="16200000">
                  <a:off x="2819160" y="3379320"/>
                  <a:ext cx="86040" cy="4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720" bIns="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1810080" y="4990320"/>
                <a:ext cx="1476360" cy="19440"/>
                <a:chOff x="1810080" y="4990320"/>
                <a:chExt cx="1476360" cy="19440"/>
              </a:xfrm>
            </p:grpSpPr>
            <p:sp>
              <p:nvSpPr>
                <p:cNvPr id="455" name="Line 13"/>
                <p:cNvSpPr/>
                <p:nvPr/>
              </p:nvSpPr>
              <p:spPr>
                <a:xfrm>
                  <a:off x="1810080" y="4990320"/>
                  <a:ext cx="1476360" cy="1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56" name=""/>
                <p:cNvSpPr txBox="1"/>
                <p:nvPr/>
              </p:nvSpPr>
              <p:spPr>
                <a:xfrm rot="16200000">
                  <a:off x="2538720" y="4262040"/>
                  <a:ext cx="19080" cy="14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3286440" y="3598920"/>
                <a:ext cx="19080" cy="1409760"/>
                <a:chOff x="3286440" y="3598920"/>
                <a:chExt cx="19080" cy="1409760"/>
              </a:xfrm>
            </p:grpSpPr>
            <p:sp>
              <p:nvSpPr>
                <p:cNvPr id="458" name="Line 14"/>
                <p:cNvSpPr/>
                <p:nvPr/>
              </p:nvSpPr>
              <p:spPr>
                <a:xfrm flipV="1">
                  <a:off x="3286440" y="3598920"/>
                  <a:ext cx="19080" cy="1409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59" name=""/>
                <p:cNvSpPr txBox="1"/>
                <p:nvPr/>
              </p:nvSpPr>
              <p:spPr>
                <a:xfrm rot="16200000">
                  <a:off x="2590920" y="4294080"/>
                  <a:ext cx="1409760" cy="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2800440" y="3303720"/>
                <a:ext cx="504720" cy="295200"/>
                <a:chOff x="2800440" y="3303720"/>
                <a:chExt cx="504720" cy="295200"/>
              </a:xfrm>
            </p:grpSpPr>
            <p:sp>
              <p:nvSpPr>
                <p:cNvPr id="461" name="Line 15"/>
                <p:cNvSpPr/>
                <p:nvPr/>
              </p:nvSpPr>
              <p:spPr>
                <a:xfrm>
                  <a:off x="2800440" y="3303720"/>
                  <a:ext cx="504720" cy="29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62" name=""/>
                <p:cNvSpPr txBox="1"/>
                <p:nvPr/>
              </p:nvSpPr>
              <p:spPr>
                <a:xfrm rot="16200000">
                  <a:off x="2905200" y="3198960"/>
                  <a:ext cx="29520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1809720" y="3303360"/>
                <a:ext cx="990720" cy="1685880"/>
                <a:chOff x="1809720" y="3303360"/>
                <a:chExt cx="990720" cy="1685880"/>
              </a:xfrm>
            </p:grpSpPr>
            <p:sp>
              <p:nvSpPr>
                <p:cNvPr id="464" name="Line 16"/>
                <p:cNvSpPr/>
                <p:nvPr/>
              </p:nvSpPr>
              <p:spPr>
                <a:xfrm flipV="1">
                  <a:off x="1809720" y="3303360"/>
                  <a:ext cx="990720" cy="1685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65" name=""/>
                <p:cNvSpPr txBox="1"/>
                <p:nvPr/>
              </p:nvSpPr>
              <p:spPr>
                <a:xfrm rot="16200000">
                  <a:off x="1461960" y="3650760"/>
                  <a:ext cx="1685880" cy="99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sp>
            <p:nvSpPr>
              <p:cNvPr id="466" name="Oval 17"/>
              <p:cNvSpPr/>
              <p:nvPr/>
            </p:nvSpPr>
            <p:spPr>
              <a:xfrm rot="16200000">
                <a:off x="1791000" y="4962240"/>
                <a:ext cx="4752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467" name="Oval 18"/>
              <p:cNvSpPr/>
              <p:nvPr/>
            </p:nvSpPr>
            <p:spPr>
              <a:xfrm rot="16200000">
                <a:off x="3286440" y="3569760"/>
                <a:ext cx="4788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468" name="Oval 19"/>
              <p:cNvSpPr/>
              <p:nvPr/>
            </p:nvSpPr>
            <p:spPr>
              <a:xfrm rot="16200000">
                <a:off x="3267360" y="4981320"/>
                <a:ext cx="4752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469" name="Oval 20"/>
              <p:cNvSpPr/>
              <p:nvPr/>
            </p:nvSpPr>
            <p:spPr>
              <a:xfrm rot="16200000">
                <a:off x="2781000" y="3274560"/>
                <a:ext cx="4788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914400" y="4953240"/>
              <a:ext cx="3733920" cy="75960"/>
              <a:chOff x="914400" y="4953240"/>
              <a:chExt cx="3733920" cy="75960"/>
            </a:xfrm>
          </p:grpSpPr>
          <p:sp>
            <p:nvSpPr>
              <p:cNvPr id="471" name="Line 21"/>
              <p:cNvSpPr/>
              <p:nvPr/>
            </p:nvSpPr>
            <p:spPr>
              <a:xfrm>
                <a:off x="914400" y="4953240"/>
                <a:ext cx="373392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472" name=""/>
              <p:cNvSpPr txBox="1"/>
              <p:nvPr/>
            </p:nvSpPr>
            <p:spPr>
              <a:xfrm>
                <a:off x="914400" y="4953240"/>
                <a:ext cx="373392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3276360" y="2362320"/>
              <a:ext cx="76320" cy="3581280"/>
              <a:chOff x="3276360" y="2362320"/>
              <a:chExt cx="76320" cy="3581280"/>
            </a:xfrm>
          </p:grpSpPr>
          <p:sp>
            <p:nvSpPr>
              <p:cNvPr id="474" name="Line 22"/>
              <p:cNvSpPr/>
              <p:nvPr/>
            </p:nvSpPr>
            <p:spPr>
              <a:xfrm flipV="1">
                <a:off x="3276720" y="2362320"/>
                <a:ext cx="75960" cy="358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475" name=""/>
              <p:cNvSpPr txBox="1"/>
              <p:nvPr/>
            </p:nvSpPr>
            <p:spPr>
              <a:xfrm rot="10800000">
                <a:off x="3276360" y="2362320"/>
                <a:ext cx="75960" cy="358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sp>
          <p:nvSpPr>
            <p:cNvPr id="476" name="Text Box 23"/>
            <p:cNvSpPr/>
            <p:nvPr/>
          </p:nvSpPr>
          <p:spPr>
            <a:xfrm>
              <a:off x="167652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2438280" y="2971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>
              <a:off x="3352680" y="335304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>
              <a:off x="2971800" y="49532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>
              <a:off x="4343400" y="49532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x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>
              <a:off x="3429000" y="21337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y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5029200" y="18288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7093080" y="1700280"/>
            <a:ext cx="1371600" cy="1467720"/>
            <a:chOff x="7093080" y="1700280"/>
            <a:chExt cx="1371600" cy="1467720"/>
          </a:xfrm>
        </p:grpSpPr>
        <p:sp>
          <p:nvSpPr>
            <p:cNvPr id="87" name="Text Box 4"/>
            <p:cNvSpPr/>
            <p:nvPr/>
          </p:nvSpPr>
          <p:spPr>
            <a:xfrm>
              <a:off x="7742520" y="191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88" name="Group 5"/>
            <p:cNvGrpSpPr/>
            <p:nvPr/>
          </p:nvGrpSpPr>
          <p:grpSpPr>
            <a:xfrm>
              <a:off x="7093080" y="1700280"/>
              <a:ext cx="1371600" cy="1467720"/>
              <a:chOff x="7093080" y="1700280"/>
              <a:chExt cx="1371600" cy="1467720"/>
            </a:xfrm>
          </p:grpSpPr>
          <p:grpSp>
            <p:nvGrpSpPr>
              <p:cNvPr id="89" name="Group 6"/>
              <p:cNvGrpSpPr/>
              <p:nvPr/>
            </p:nvGrpSpPr>
            <p:grpSpPr>
              <a:xfrm>
                <a:off x="7093080" y="1700280"/>
                <a:ext cx="1371600" cy="1376280"/>
                <a:chOff x="7093080" y="1700280"/>
                <a:chExt cx="1371600" cy="1376280"/>
              </a:xfrm>
            </p:grpSpPr>
            <p:sp>
              <p:nvSpPr>
                <p:cNvPr id="90" name="AutoShape 7"/>
                <p:cNvSpPr/>
                <p:nvPr/>
              </p:nvSpPr>
              <p:spPr>
                <a:xfrm>
                  <a:off x="7093080" y="1700280"/>
                  <a:ext cx="1371600" cy="1371600"/>
                </a:xfrm>
                <a:prstGeom prst="rtTriangl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grpSp>
              <p:nvGrpSpPr>
                <p:cNvPr id="91" name=""/>
                <p:cNvGrpSpPr/>
                <p:nvPr/>
              </p:nvGrpSpPr>
              <p:grpSpPr>
                <a:xfrm>
                  <a:off x="7093080" y="2924280"/>
                  <a:ext cx="152280" cy="360"/>
                  <a:chOff x="7093080" y="2924280"/>
                  <a:chExt cx="152280" cy="360"/>
                </a:xfrm>
              </p:grpSpPr>
              <p:sp>
                <p:nvSpPr>
                  <p:cNvPr id="92" name="Line 8"/>
                  <p:cNvSpPr/>
                  <p:nvPr/>
                </p:nvSpPr>
                <p:spPr>
                  <a:xfrm>
                    <a:off x="7093080" y="29242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  <p:sp>
                <p:nvSpPr>
                  <p:cNvPr id="93" name=""/>
                  <p:cNvSpPr txBox="1"/>
                  <p:nvPr/>
                </p:nvSpPr>
                <p:spPr>
                  <a:xfrm>
                    <a:off x="7093080" y="2924280"/>
                    <a:ext cx="152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7236000" y="2924280"/>
                  <a:ext cx="360" cy="152280"/>
                  <a:chOff x="7236000" y="2924280"/>
                  <a:chExt cx="360" cy="152280"/>
                </a:xfrm>
              </p:grpSpPr>
              <p:sp>
                <p:nvSpPr>
                  <p:cNvPr id="95" name="Line 9"/>
                  <p:cNvSpPr/>
                  <p:nvPr/>
                </p:nvSpPr>
                <p:spPr>
                  <a:xfrm>
                    <a:off x="7236000" y="292428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  <p:sp>
                <p:nvSpPr>
                  <p:cNvPr id="96" name=""/>
                  <p:cNvSpPr txBox="1"/>
                  <p:nvPr/>
                </p:nvSpPr>
                <p:spPr>
                  <a:xfrm>
                    <a:off x="7236000" y="2924280"/>
                    <a:ext cx="360" cy="152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</p:grpSp>
          </p:grpSp>
          <p:sp>
            <p:nvSpPr>
              <p:cNvPr id="97" name="Text Box 10"/>
              <p:cNvSpPr/>
              <p:nvPr/>
            </p:nvSpPr>
            <p:spPr>
              <a:xfrm>
                <a:off x="7833960" y="2708280"/>
                <a:ext cx="60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5°</a:t>
                </a: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</p:grpSp>
      <p:sp>
        <p:nvSpPr>
          <p:cNvPr id="98" name="Text Box 11"/>
          <p:cNvSpPr/>
          <p:nvPr/>
        </p:nvSpPr>
        <p:spPr>
          <a:xfrm>
            <a:off x="1601280" y="2971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99" name="Group 12"/>
          <p:cNvGrpSpPr/>
          <p:nvPr/>
        </p:nvGrpSpPr>
        <p:grpSpPr>
          <a:xfrm>
            <a:off x="3926160" y="1989000"/>
            <a:ext cx="2230200" cy="1036080"/>
            <a:chOff x="3926160" y="1989000"/>
            <a:chExt cx="2230200" cy="1036080"/>
          </a:xfrm>
        </p:grpSpPr>
        <p:grpSp>
          <p:nvGrpSpPr>
            <p:cNvPr id="100" name="Group 13"/>
            <p:cNvGrpSpPr/>
            <p:nvPr/>
          </p:nvGrpSpPr>
          <p:grpSpPr>
            <a:xfrm>
              <a:off x="4284720" y="1989000"/>
              <a:ext cx="1871640" cy="1036080"/>
              <a:chOff x="4284720" y="1989000"/>
              <a:chExt cx="1871640" cy="1036080"/>
            </a:xfrm>
          </p:grpSpPr>
          <p:grpSp>
            <p:nvGrpSpPr>
              <p:cNvPr id="101" name="Group 14"/>
              <p:cNvGrpSpPr/>
              <p:nvPr/>
            </p:nvGrpSpPr>
            <p:grpSpPr>
              <a:xfrm>
                <a:off x="4284720" y="1989000"/>
                <a:ext cx="1800360" cy="944640"/>
                <a:chOff x="4284720" y="1989000"/>
                <a:chExt cx="1800360" cy="944640"/>
              </a:xfrm>
            </p:grpSpPr>
            <p:sp>
              <p:nvSpPr>
                <p:cNvPr id="102" name="AutoShape 15"/>
                <p:cNvSpPr/>
                <p:nvPr/>
              </p:nvSpPr>
              <p:spPr>
                <a:xfrm>
                  <a:off x="4284720" y="1989000"/>
                  <a:ext cx="1800360" cy="936720"/>
                </a:xfrm>
                <a:prstGeom prst="rtTriangl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4284720" y="2781000"/>
                  <a:ext cx="152280" cy="360"/>
                  <a:chOff x="4284720" y="2781000"/>
                  <a:chExt cx="152280" cy="360"/>
                </a:xfrm>
              </p:grpSpPr>
              <p:sp>
                <p:nvSpPr>
                  <p:cNvPr id="104" name="Line 16"/>
                  <p:cNvSpPr/>
                  <p:nvPr/>
                </p:nvSpPr>
                <p:spPr>
                  <a:xfrm>
                    <a:off x="4284720" y="27810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  <p:sp>
                <p:nvSpPr>
                  <p:cNvPr id="105" name=""/>
                  <p:cNvSpPr txBox="1"/>
                  <p:nvPr/>
                </p:nvSpPr>
                <p:spPr>
                  <a:xfrm>
                    <a:off x="4284720" y="2781000"/>
                    <a:ext cx="152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4427640" y="2781000"/>
                  <a:ext cx="360" cy="152640"/>
                  <a:chOff x="4427640" y="2781000"/>
                  <a:chExt cx="360" cy="152640"/>
                </a:xfrm>
              </p:grpSpPr>
              <p:sp>
                <p:nvSpPr>
                  <p:cNvPr id="107" name="Line 17"/>
                  <p:cNvSpPr/>
                  <p:nvPr/>
                </p:nvSpPr>
                <p:spPr>
                  <a:xfrm>
                    <a:off x="4427640" y="2781000"/>
                    <a:ext cx="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  <p:sp>
                <p:nvSpPr>
                  <p:cNvPr id="108" name=""/>
                  <p:cNvSpPr txBox="1"/>
                  <p:nvPr/>
                </p:nvSpPr>
                <p:spPr>
                  <a:xfrm>
                    <a:off x="4427640" y="2781000"/>
                    <a:ext cx="36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000000"/>
                      </a:solidFill>
                      <a:latin typeface="黑体"/>
                    </a:endParaRPr>
                  </a:p>
                </p:txBody>
              </p:sp>
            </p:grpSp>
          </p:grpSp>
          <p:sp>
            <p:nvSpPr>
              <p:cNvPr id="109" name="Text Box 18"/>
              <p:cNvSpPr/>
              <p:nvPr/>
            </p:nvSpPr>
            <p:spPr>
              <a:xfrm>
                <a:off x="5076720" y="2565360"/>
                <a:ext cx="107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0°</a:t>
                </a: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sp>
          <p:nvSpPr>
            <p:cNvPr id="110" name="Text Box 19"/>
            <p:cNvSpPr/>
            <p:nvPr/>
          </p:nvSpPr>
          <p:spPr>
            <a:xfrm>
              <a:off x="3926160" y="227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111" name="Text Box 20"/>
          <p:cNvSpPr/>
          <p:nvPr/>
        </p:nvSpPr>
        <p:spPr>
          <a:xfrm>
            <a:off x="0" y="228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课前练习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求出下列直角三角形中未知的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28600" y="3581280"/>
            <a:ext cx="805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解决上述问题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每个直角三角形需已知几个条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13" name="Object 2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3"/>
          <p:cNvSpPr/>
          <p:nvPr/>
        </p:nvSpPr>
        <p:spPr>
          <a:xfrm>
            <a:off x="387036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15" name="Group 24"/>
          <p:cNvGrpSpPr/>
          <p:nvPr/>
        </p:nvGrpSpPr>
        <p:grpSpPr>
          <a:xfrm>
            <a:off x="535320" y="1600200"/>
            <a:ext cx="2698560" cy="1371600"/>
            <a:chOff x="535320" y="1600200"/>
            <a:chExt cx="2698560" cy="1371600"/>
          </a:xfrm>
        </p:grpSpPr>
        <p:sp>
          <p:nvSpPr>
            <p:cNvPr id="116" name="Text Box 25"/>
            <p:cNvSpPr/>
            <p:nvPr/>
          </p:nvSpPr>
          <p:spPr>
            <a:xfrm>
              <a:off x="535320" y="2124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17" name="Text Box 26"/>
            <p:cNvSpPr/>
            <p:nvPr/>
          </p:nvSpPr>
          <p:spPr>
            <a:xfrm>
              <a:off x="1974960" y="1836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118" name="Group 27"/>
            <p:cNvGrpSpPr/>
            <p:nvPr/>
          </p:nvGrpSpPr>
          <p:grpSpPr>
            <a:xfrm>
              <a:off x="928800" y="1600200"/>
              <a:ext cx="2305080" cy="1371600"/>
              <a:chOff x="928800" y="1600200"/>
              <a:chExt cx="2305080" cy="1371600"/>
            </a:xfrm>
          </p:grpSpPr>
          <p:sp>
            <p:nvSpPr>
              <p:cNvPr id="119" name="AutoShape 28"/>
              <p:cNvSpPr/>
              <p:nvPr/>
            </p:nvSpPr>
            <p:spPr>
              <a:xfrm>
                <a:off x="928800" y="1600200"/>
                <a:ext cx="2305080" cy="1368360"/>
              </a:xfrm>
              <a:prstGeom prst="rtTriangl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928800" y="2819520"/>
                <a:ext cx="152280" cy="360"/>
                <a:chOff x="928800" y="2819520"/>
                <a:chExt cx="152280" cy="360"/>
              </a:xfrm>
            </p:grpSpPr>
            <p:sp>
              <p:nvSpPr>
                <p:cNvPr id="121" name="Line 29"/>
                <p:cNvSpPr/>
                <p:nvPr/>
              </p:nvSpPr>
              <p:spPr>
                <a:xfrm>
                  <a:off x="928800" y="2819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122" name=""/>
                <p:cNvSpPr txBox="1"/>
                <p:nvPr/>
              </p:nvSpPr>
              <p:spPr>
                <a:xfrm>
                  <a:off x="928800" y="281952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081080" y="2819520"/>
                <a:ext cx="360" cy="152280"/>
                <a:chOff x="1081080" y="2819520"/>
                <a:chExt cx="360" cy="152280"/>
              </a:xfrm>
            </p:grpSpPr>
            <p:sp>
              <p:nvSpPr>
                <p:cNvPr id="124" name="Line 30"/>
                <p:cNvSpPr/>
                <p:nvPr/>
              </p:nvSpPr>
              <p:spPr>
                <a:xfrm>
                  <a:off x="1081080" y="281952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125" name=""/>
                <p:cNvSpPr txBox="1"/>
                <p:nvPr/>
              </p:nvSpPr>
              <p:spPr>
                <a:xfrm>
                  <a:off x="1081080" y="2819520"/>
                  <a:ext cx="36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</p:grpSp>
      <p:sp>
        <p:nvSpPr>
          <p:cNvPr id="126" name="Text Box 31"/>
          <p:cNvSpPr/>
          <p:nvPr/>
        </p:nvSpPr>
        <p:spPr>
          <a:xfrm>
            <a:off x="304920" y="4724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长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27" name="Picture 32" descr=""/>
          <p:cNvPicPr/>
          <p:nvPr/>
        </p:nvPicPr>
        <p:blipFill>
          <a:blip r:embed="rId2"/>
          <a:stretch/>
        </p:blipFill>
        <p:spPr>
          <a:xfrm>
            <a:off x="4191120" y="4270320"/>
            <a:ext cx="2438280" cy="235116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4648320" y="4724280"/>
            <a:ext cx="1295280" cy="1371600"/>
            <a:chOff x="4648320" y="4724280"/>
            <a:chExt cx="1295280" cy="1371600"/>
          </a:xfrm>
        </p:grpSpPr>
        <p:sp>
          <p:nvSpPr>
            <p:cNvPr id="129" name="Line 33"/>
            <p:cNvSpPr/>
            <p:nvPr/>
          </p:nvSpPr>
          <p:spPr>
            <a:xfrm>
              <a:off x="4648320" y="4724280"/>
              <a:ext cx="1295280" cy="13716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4648320" y="4724280"/>
              <a:ext cx="129528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pic>
        <p:nvPicPr>
          <p:cNvPr id="131" name="Object 34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755640" cy="59040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35" descr=""/>
          <p:cNvPicPr/>
          <p:nvPr/>
        </p:nvPicPr>
        <p:blipFill>
          <a:blip r:embed="rId4"/>
          <a:stretch/>
        </p:blipFill>
        <p:spPr>
          <a:xfrm>
            <a:off x="6400800" y="2133720"/>
            <a:ext cx="609480" cy="57600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36" descr=""/>
          <p:cNvPicPr/>
          <p:nvPr/>
        </p:nvPicPr>
        <p:blipFill>
          <a:blip r:embed="rId5"/>
          <a:stretch/>
        </p:blipFill>
        <p:spPr>
          <a:xfrm>
            <a:off x="7696080" y="3124080"/>
            <a:ext cx="609840" cy="57636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37" descr=""/>
          <p:cNvPicPr/>
          <p:nvPr/>
        </p:nvPicPr>
        <p:blipFill>
          <a:blip r:embed="rId6">
            <a:alphaModFix amt="28000"/>
          </a:blip>
          <a:stretch/>
        </p:blipFill>
        <p:spPr>
          <a:xfrm>
            <a:off x="4724280" y="5257800"/>
            <a:ext cx="779760" cy="60948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38" descr=""/>
          <p:cNvPicPr/>
          <p:nvPr/>
        </p:nvPicPr>
        <p:blipFill>
          <a:blip r:embed="rId7">
            <a:alphaModFix amt="28000"/>
          </a:blip>
          <a:stretch/>
        </p:blipFill>
        <p:spPr>
          <a:xfrm>
            <a:off x="5334120" y="4495680"/>
            <a:ext cx="779400" cy="60984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8199"/>
          <p:cNvSpPr/>
          <p:nvPr/>
        </p:nvSpPr>
        <p:spPr>
          <a:xfrm>
            <a:off x="1081080" y="1295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380520"/>
            <a:ext cx="85406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已知：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Rt△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，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=9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D⊥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=60°,CD=       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线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3" descr=""/>
          <p:cNvPicPr/>
          <p:nvPr/>
        </p:nvPicPr>
        <p:blipFill>
          <a:blip r:embed="rId1"/>
          <a:stretch/>
        </p:blipFill>
        <p:spPr>
          <a:xfrm>
            <a:off x="3657600" y="990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4267080" cy="27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52280" y="3142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变式训练：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,AB=10,AC=17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边上的高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D=8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线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长和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面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00600" y="4772160"/>
            <a:ext cx="1224000" cy="360"/>
            <a:chOff x="4800600" y="4772160"/>
            <a:chExt cx="1224000" cy="360"/>
          </a:xfrm>
        </p:grpSpPr>
        <p:sp>
          <p:nvSpPr>
            <p:cNvPr id="142" name="Line 3"/>
            <p:cNvSpPr/>
            <p:nvPr/>
          </p:nvSpPr>
          <p:spPr>
            <a:xfrm flipH="1">
              <a:off x="4800600" y="4772160"/>
              <a:ext cx="12240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4800600" y="4772160"/>
              <a:ext cx="12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144" name="Group 4"/>
          <p:cNvGrpSpPr/>
          <p:nvPr/>
        </p:nvGrpSpPr>
        <p:grpSpPr>
          <a:xfrm>
            <a:off x="4802760" y="2971800"/>
            <a:ext cx="3533760" cy="2178000"/>
            <a:chOff x="4802760" y="2971800"/>
            <a:chExt cx="3533760" cy="2178000"/>
          </a:xfrm>
        </p:grpSpPr>
        <p:sp>
          <p:nvSpPr>
            <p:cNvPr id="145" name="未知"/>
            <p:cNvSpPr/>
            <p:nvPr/>
          </p:nvSpPr>
          <p:spPr>
            <a:xfrm>
              <a:off x="5232240" y="3116160"/>
              <a:ext cx="2665440" cy="1656000"/>
            </a:xfrm>
            <a:custGeom>
              <a:avLst/>
              <a:gdLst/>
              <a:ahLst/>
              <a:rect l="l" t="t" r="r" b="b"/>
              <a:pathLst>
                <a:path w="1679" h="1043">
                  <a:moveTo>
                    <a:pt x="499" y="1043"/>
                  </a:moveTo>
                  <a:lnTo>
                    <a:pt x="1679" y="1043"/>
                  </a:lnTo>
                  <a:lnTo>
                    <a:pt x="0" y="0"/>
                  </a:lnTo>
                  <a:lnTo>
                    <a:pt x="499" y="1043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46" name="Rectangle 6"/>
            <p:cNvSpPr/>
            <p:nvPr/>
          </p:nvSpPr>
          <p:spPr>
            <a:xfrm>
              <a:off x="4802760" y="2971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5810760" y="4629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7899840" y="44845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5718240" y="3444840"/>
            <a:ext cx="1224720" cy="879480"/>
            <a:chOff x="5718240" y="3444840"/>
            <a:chExt cx="1224720" cy="879480"/>
          </a:xfrm>
        </p:grpSpPr>
        <p:sp>
          <p:nvSpPr>
            <p:cNvPr id="150" name="Text Box 10"/>
            <p:cNvSpPr/>
            <p:nvPr/>
          </p:nvSpPr>
          <p:spPr>
            <a:xfrm>
              <a:off x="6365880" y="34448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7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5718240" y="38037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152" name="Group 12"/>
          <p:cNvGrpSpPr/>
          <p:nvPr/>
        </p:nvGrpSpPr>
        <p:grpSpPr>
          <a:xfrm>
            <a:off x="4854600" y="3116160"/>
            <a:ext cx="593640" cy="2176200"/>
            <a:chOff x="4854600" y="3116160"/>
            <a:chExt cx="593640" cy="2176200"/>
          </a:xfrm>
        </p:grpSpPr>
        <p:sp>
          <p:nvSpPr>
            <p:cNvPr id="153" name="Text Box 13"/>
            <p:cNvSpPr/>
            <p:nvPr/>
          </p:nvSpPr>
          <p:spPr>
            <a:xfrm>
              <a:off x="4854600" y="36828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154" name="Group 14"/>
            <p:cNvGrpSpPr/>
            <p:nvPr/>
          </p:nvGrpSpPr>
          <p:grpSpPr>
            <a:xfrm>
              <a:off x="5016240" y="3116160"/>
              <a:ext cx="432000" cy="2176200"/>
              <a:chOff x="5016240" y="3116160"/>
              <a:chExt cx="432000" cy="2176200"/>
            </a:xfrm>
          </p:grpSpPr>
          <p:sp>
            <p:nvSpPr>
              <p:cNvPr id="155" name="Rectangle 15"/>
              <p:cNvSpPr/>
              <p:nvPr/>
            </p:nvSpPr>
            <p:spPr>
              <a:xfrm>
                <a:off x="5016240" y="477180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Arial"/>
                    <a:ea typeface="宋体"/>
                  </a:rPr>
                  <a:t>D</a:t>
                </a:r>
                <a:endParaRPr b="1" lang="en-US" sz="28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5232240" y="3116160"/>
                <a:ext cx="360" cy="1655640"/>
                <a:chOff x="5232240" y="3116160"/>
                <a:chExt cx="360" cy="1655640"/>
              </a:xfrm>
            </p:grpSpPr>
            <p:sp>
              <p:nvSpPr>
                <p:cNvPr id="157" name="Line 16"/>
                <p:cNvSpPr/>
                <p:nvPr/>
              </p:nvSpPr>
              <p:spPr>
                <a:xfrm>
                  <a:off x="5232240" y="3116160"/>
                  <a:ext cx="0" cy="1655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158" name=""/>
                <p:cNvSpPr txBox="1"/>
                <p:nvPr/>
              </p:nvSpPr>
              <p:spPr>
                <a:xfrm>
                  <a:off x="5232240" y="3116160"/>
                  <a:ext cx="360" cy="165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232240" y="4556160"/>
                <a:ext cx="215640" cy="360"/>
                <a:chOff x="5232240" y="4556160"/>
                <a:chExt cx="215640" cy="360"/>
              </a:xfrm>
            </p:grpSpPr>
            <p:sp>
              <p:nvSpPr>
                <p:cNvPr id="160" name="Line 17"/>
                <p:cNvSpPr/>
                <p:nvPr/>
              </p:nvSpPr>
              <p:spPr>
                <a:xfrm>
                  <a:off x="5232240" y="4556160"/>
                  <a:ext cx="2156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161" name=""/>
                <p:cNvSpPr txBox="1"/>
                <p:nvPr/>
              </p:nvSpPr>
              <p:spPr>
                <a:xfrm>
                  <a:off x="5232240" y="4556160"/>
                  <a:ext cx="21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447880" y="4556160"/>
                <a:ext cx="360" cy="215640"/>
                <a:chOff x="5447880" y="4556160"/>
                <a:chExt cx="360" cy="215640"/>
              </a:xfrm>
            </p:grpSpPr>
            <p:sp>
              <p:nvSpPr>
                <p:cNvPr id="163" name="Line 18"/>
                <p:cNvSpPr/>
                <p:nvPr/>
              </p:nvSpPr>
              <p:spPr>
                <a:xfrm>
                  <a:off x="5447880" y="4556160"/>
                  <a:ext cx="0" cy="215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164" name=""/>
                <p:cNvSpPr txBox="1"/>
                <p:nvPr/>
              </p:nvSpPr>
              <p:spPr>
                <a:xfrm>
                  <a:off x="5447880" y="4556160"/>
                  <a:ext cx="3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</p:grpSp>
      <p:grpSp>
        <p:nvGrpSpPr>
          <p:cNvPr id="165" name="Group 19"/>
          <p:cNvGrpSpPr/>
          <p:nvPr/>
        </p:nvGrpSpPr>
        <p:grpSpPr>
          <a:xfrm>
            <a:off x="762120" y="2590920"/>
            <a:ext cx="3876480" cy="3219480"/>
            <a:chOff x="762120" y="2590920"/>
            <a:chExt cx="3876480" cy="3219480"/>
          </a:xfrm>
        </p:grpSpPr>
        <p:pic>
          <p:nvPicPr>
            <p:cNvPr id="166" name="Picture 20" descr=""/>
            <p:cNvPicPr/>
            <p:nvPr/>
          </p:nvPicPr>
          <p:blipFill>
            <a:blip r:embed="rId1"/>
            <a:stretch/>
          </p:blipFill>
          <p:spPr>
            <a:xfrm>
              <a:off x="762120" y="2590920"/>
              <a:ext cx="387648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21"/>
            <p:cNvSpPr/>
            <p:nvPr/>
          </p:nvSpPr>
          <p:spPr>
            <a:xfrm>
              <a:off x="2201760" y="3959280"/>
              <a:ext cx="57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168" name="Text Box 22"/>
          <p:cNvSpPr/>
          <p:nvPr/>
        </p:nvSpPr>
        <p:spPr>
          <a:xfrm>
            <a:off x="1295280" y="495288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2639880" y="47721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70" name="Group 24"/>
          <p:cNvGrpSpPr/>
          <p:nvPr/>
        </p:nvGrpSpPr>
        <p:grpSpPr>
          <a:xfrm>
            <a:off x="5232240" y="4844880"/>
            <a:ext cx="2665440" cy="868680"/>
            <a:chOff x="5232240" y="4844880"/>
            <a:chExt cx="2665440" cy="868680"/>
          </a:xfrm>
        </p:grpSpPr>
        <p:sp>
          <p:nvSpPr>
            <p:cNvPr id="171" name="未知"/>
            <p:cNvSpPr/>
            <p:nvPr/>
          </p:nvSpPr>
          <p:spPr>
            <a:xfrm>
              <a:off x="5232240" y="4844880"/>
              <a:ext cx="2665440" cy="287280"/>
            </a:xfrm>
            <a:custGeom>
              <a:avLst/>
              <a:gdLst/>
              <a:ahLst/>
              <a:rect l="l" t="t" r="r" b="b"/>
              <a:pathLst>
                <a:path w="1746" h="136">
                  <a:moveTo>
                    <a:pt x="22" y="45"/>
                  </a:moveTo>
                  <a:cubicBezTo>
                    <a:pt x="11" y="64"/>
                    <a:pt x="0" y="83"/>
                    <a:pt x="113" y="90"/>
                  </a:cubicBezTo>
                  <a:cubicBezTo>
                    <a:pt x="226" y="97"/>
                    <a:pt x="574" y="90"/>
                    <a:pt x="702" y="90"/>
                  </a:cubicBezTo>
                  <a:cubicBezTo>
                    <a:pt x="830" y="90"/>
                    <a:pt x="846" y="82"/>
                    <a:pt x="884" y="90"/>
                  </a:cubicBezTo>
                  <a:cubicBezTo>
                    <a:pt x="922" y="98"/>
                    <a:pt x="914" y="136"/>
                    <a:pt x="929" y="136"/>
                  </a:cubicBezTo>
                  <a:cubicBezTo>
                    <a:pt x="944" y="136"/>
                    <a:pt x="906" y="98"/>
                    <a:pt x="974" y="90"/>
                  </a:cubicBezTo>
                  <a:cubicBezTo>
                    <a:pt x="1042" y="82"/>
                    <a:pt x="1231" y="90"/>
                    <a:pt x="1337" y="90"/>
                  </a:cubicBezTo>
                  <a:cubicBezTo>
                    <a:pt x="1443" y="90"/>
                    <a:pt x="1541" y="105"/>
                    <a:pt x="1609" y="90"/>
                  </a:cubicBezTo>
                  <a:cubicBezTo>
                    <a:pt x="1677" y="75"/>
                    <a:pt x="1723" y="15"/>
                    <a:pt x="1746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72" name="Text Box 26"/>
            <p:cNvSpPr/>
            <p:nvPr/>
          </p:nvSpPr>
          <p:spPr>
            <a:xfrm>
              <a:off x="6313320" y="513216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5</a:t>
              </a: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173" name="Text Box 27"/>
          <p:cNvSpPr/>
          <p:nvPr/>
        </p:nvSpPr>
        <p:spPr>
          <a:xfrm>
            <a:off x="5448240" y="42688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2568600" y="18921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21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3216240" y="18921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或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6" name="Rectangle 30"/>
          <p:cNvSpPr/>
          <p:nvPr/>
        </p:nvSpPr>
        <p:spPr>
          <a:xfrm>
            <a:off x="4800600" y="16765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△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=8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7" name="Text Box 31"/>
          <p:cNvSpPr/>
          <p:nvPr/>
        </p:nvSpPr>
        <p:spPr>
          <a:xfrm>
            <a:off x="0" y="54864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</a:rPr>
              <a:t>当题中没有给出图形时，应考虑图形的形状是否确定，如果不确定，就需要分类讨论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04920" y="3049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中，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C=3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C=4cm,AB=3cm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800600" y="1066680"/>
            <a:ext cx="4103640" cy="253836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6324480" y="1676520"/>
            <a:ext cx="360" cy="1296720"/>
            <a:chOff x="6324480" y="1676520"/>
            <a:chExt cx="360" cy="1296720"/>
          </a:xfrm>
        </p:grpSpPr>
        <p:sp>
          <p:nvSpPr>
            <p:cNvPr id="181" name="Line 4"/>
            <p:cNvSpPr/>
            <p:nvPr/>
          </p:nvSpPr>
          <p:spPr>
            <a:xfrm>
              <a:off x="6324480" y="1676520"/>
              <a:ext cx="0" cy="1296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6324480" y="1676520"/>
              <a:ext cx="360" cy="12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183" name="Text Box 5"/>
          <p:cNvSpPr/>
          <p:nvPr/>
        </p:nvSpPr>
        <p:spPr>
          <a:xfrm>
            <a:off x="6095880" y="30114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80880" y="4572000"/>
            <a:ext cx="84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勾股定理在非直角三角形中的应用：见特殊角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高构造直角三角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04920" y="3049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变式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中，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=12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=4cm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=6cm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2670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4"/>
          <p:cNvGrpSpPr/>
          <p:nvPr/>
        </p:nvGrpSpPr>
        <p:grpSpPr>
          <a:xfrm>
            <a:off x="7315200" y="1523880"/>
            <a:ext cx="1447920" cy="2181600"/>
            <a:chOff x="7315200" y="1523880"/>
            <a:chExt cx="1447920" cy="2181600"/>
          </a:xfrm>
        </p:grpSpPr>
        <p:grpSp>
          <p:nvGrpSpPr>
            <p:cNvPr id="188" name=""/>
            <p:cNvGrpSpPr/>
            <p:nvPr/>
          </p:nvGrpSpPr>
          <p:grpSpPr>
            <a:xfrm>
              <a:off x="7315200" y="3200400"/>
              <a:ext cx="990720" cy="360"/>
              <a:chOff x="7315200" y="3200400"/>
              <a:chExt cx="990720" cy="360"/>
            </a:xfrm>
          </p:grpSpPr>
          <p:sp>
            <p:nvSpPr>
              <p:cNvPr id="189" name="Line 5"/>
              <p:cNvSpPr/>
              <p:nvPr/>
            </p:nvSpPr>
            <p:spPr>
              <a:xfrm>
                <a:off x="7315200" y="3200400"/>
                <a:ext cx="990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7315200" y="320040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8229600" y="1523880"/>
              <a:ext cx="360" cy="1676520"/>
              <a:chOff x="8229600" y="1523880"/>
              <a:chExt cx="360" cy="1676520"/>
            </a:xfrm>
          </p:grpSpPr>
          <p:sp>
            <p:nvSpPr>
              <p:cNvPr id="192" name="Line 6"/>
              <p:cNvSpPr/>
              <p:nvPr/>
            </p:nvSpPr>
            <p:spPr>
              <a:xfrm>
                <a:off x="8229600" y="1523880"/>
                <a:ext cx="0" cy="1676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8229600" y="1523880"/>
                <a:ext cx="360" cy="167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sp>
          <p:nvSpPr>
            <p:cNvPr id="194" name="Text Box 7"/>
            <p:cNvSpPr/>
            <p:nvPr/>
          </p:nvSpPr>
          <p:spPr>
            <a:xfrm>
              <a:off x="8153280" y="31240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57200" y="4572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变式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等腰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中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13cm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=10cm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面积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边上的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2757600" cy="3124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741400" cy="3171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3"/>
          <a:stretch/>
        </p:blipFill>
        <p:spPr>
          <a:xfrm>
            <a:off x="6248520" y="1828800"/>
            <a:ext cx="2690640" cy="30481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176040" y="51721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</a:rPr>
              <a:t>两个直角三角形中，如果有一条公共边，可利用勾股定理建立方程求解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380880" y="3808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变式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已知：如图，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中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=26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BC=25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C=17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求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面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281400" cy="28605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690480" y="464832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方程思想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直角三角形中，如果有一条公共边，可利用勾股定理建立方程求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7391520" y="1981080"/>
            <a:ext cx="609480" cy="2257920"/>
            <a:chOff x="7391520" y="1981080"/>
            <a:chExt cx="609480" cy="2257920"/>
          </a:xfrm>
        </p:grpSpPr>
        <p:grpSp>
          <p:nvGrpSpPr>
            <p:cNvPr id="204" name=""/>
            <p:cNvGrpSpPr/>
            <p:nvPr/>
          </p:nvGrpSpPr>
          <p:grpSpPr>
            <a:xfrm>
              <a:off x="7620120" y="1981080"/>
              <a:ext cx="76320" cy="1828800"/>
              <a:chOff x="7620120" y="1981080"/>
              <a:chExt cx="76320" cy="1828800"/>
            </a:xfrm>
          </p:grpSpPr>
          <p:sp>
            <p:nvSpPr>
              <p:cNvPr id="205" name="Line 6"/>
              <p:cNvSpPr/>
              <p:nvPr/>
            </p:nvSpPr>
            <p:spPr>
              <a:xfrm>
                <a:off x="7620120" y="1981080"/>
                <a:ext cx="76320" cy="1828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7620120" y="1981080"/>
                <a:ext cx="76320" cy="1828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  <p:sp>
          <p:nvSpPr>
            <p:cNvPr id="207" name="Text Box 7"/>
            <p:cNvSpPr/>
            <p:nvPr/>
          </p:nvSpPr>
          <p:spPr>
            <a:xfrm>
              <a:off x="7391520" y="3657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黑体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23:0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49Z</dcterms:modified>
  <cp:revision>10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