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4247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1280" y="4011840"/>
            <a:ext cx="84247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411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28400" y="1341360"/>
            <a:ext cx="411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280" y="4011840"/>
            <a:ext cx="411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28400" y="4011840"/>
            <a:ext cx="411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2712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9960" y="1341360"/>
            <a:ext cx="2712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8640" y="1341360"/>
            <a:ext cx="2712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1280" y="4011840"/>
            <a:ext cx="2712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59960" y="4011840"/>
            <a:ext cx="2712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8640" y="4011840"/>
            <a:ext cx="2712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1DA3-0C9C-45AB-A658-0A4577C1C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128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0557-E14C-445A-A443-05603926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BC72-B856-4829-946A-78D12C41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4111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28400" y="1341360"/>
            <a:ext cx="4111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C8B0-3837-4785-A450-3CFE6F3B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39D8-02AF-4204-934D-C02761B7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42560" y="549000"/>
            <a:ext cx="810108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DC03-22CA-4901-B10A-82D4C28F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411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8400" y="1341360"/>
            <a:ext cx="4111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1280" y="4011840"/>
            <a:ext cx="411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E3A3-51B2-479E-AF1E-BBEF3320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128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4111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8400" y="1341360"/>
            <a:ext cx="411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28400" y="4011840"/>
            <a:ext cx="411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2710-4A26-4B61-9A65-C8308972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411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8400" y="1341360"/>
            <a:ext cx="411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1280" y="4011840"/>
            <a:ext cx="84247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8CC3-0840-45AE-8DD6-35C25B0A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4247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1280" y="4011840"/>
            <a:ext cx="84247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431D-443B-4414-A1B0-A388555E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411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8400" y="1341360"/>
            <a:ext cx="411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1280" y="4011840"/>
            <a:ext cx="411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28400" y="4011840"/>
            <a:ext cx="411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C0E5-367D-431A-B5F5-09CB2BD32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2712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59960" y="1341360"/>
            <a:ext cx="2712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08640" y="1341360"/>
            <a:ext cx="2712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1280" y="4011840"/>
            <a:ext cx="2712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59960" y="4011840"/>
            <a:ext cx="2712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08640" y="4011840"/>
            <a:ext cx="2712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1CD5-0CAD-4391-9C1D-8EFF6E114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1128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4111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28400" y="1341360"/>
            <a:ext cx="4111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42560" y="549000"/>
            <a:ext cx="810108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411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8400" y="1341360"/>
            <a:ext cx="4111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1280" y="4011840"/>
            <a:ext cx="411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4111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8400" y="1341360"/>
            <a:ext cx="411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28400" y="4011840"/>
            <a:ext cx="411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411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28400" y="1341360"/>
            <a:ext cx="411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1280" y="4011840"/>
            <a:ext cx="84247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4247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11280" y="4011840"/>
            <a:ext cx="84247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411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28400" y="1341360"/>
            <a:ext cx="411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1280" y="4011840"/>
            <a:ext cx="411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928400" y="4011840"/>
            <a:ext cx="411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2712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459960" y="1341360"/>
            <a:ext cx="2712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308640" y="1341360"/>
            <a:ext cx="2712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11280" y="4011840"/>
            <a:ext cx="2712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459960" y="4011840"/>
            <a:ext cx="2712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308640" y="4011840"/>
            <a:ext cx="2712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4111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28400" y="1341360"/>
            <a:ext cx="4111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42560" y="549000"/>
            <a:ext cx="810108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411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400" y="1341360"/>
            <a:ext cx="4111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1280" y="4011840"/>
            <a:ext cx="411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4111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400" y="1341360"/>
            <a:ext cx="411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28400" y="4011840"/>
            <a:ext cx="411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411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28400" y="1341360"/>
            <a:ext cx="411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1280" y="4011840"/>
            <a:ext cx="84247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6" descr="BL01_4_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Rectangle 113"/>
          <p:cNvSpPr/>
          <p:nvPr/>
        </p:nvSpPr>
        <p:spPr>
          <a:xfrm>
            <a:off x="539640" y="6524640"/>
            <a:ext cx="860436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1128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e9cda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3c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118" descr="图片1"/>
          <p:cNvPicPr/>
          <p:nvPr/>
        </p:nvPicPr>
        <p:blipFill>
          <a:blip r:embed="rId3"/>
          <a:stretch/>
        </p:blipFill>
        <p:spPr>
          <a:xfrm>
            <a:off x="468360" y="620640"/>
            <a:ext cx="8675640" cy="5904000"/>
          </a:xfrm>
          <a:prstGeom prst="rect">
            <a:avLst/>
          </a:prstGeom>
          <a:ln w="0">
            <a:noFill/>
          </a:ln>
        </p:spPr>
      </p:pic>
      <p:grpSp>
        <p:nvGrpSpPr>
          <p:cNvPr id="5" name=""/>
          <p:cNvGrpSpPr/>
          <p:nvPr/>
        </p:nvGrpSpPr>
        <p:grpSpPr>
          <a:xfrm>
            <a:off x="468360" y="1268280"/>
            <a:ext cx="7991280" cy="360"/>
            <a:chOff x="468360" y="1268280"/>
            <a:chExt cx="7991280" cy="360"/>
          </a:xfrm>
        </p:grpSpPr>
        <p:sp>
          <p:nvSpPr>
            <p:cNvPr id="6" name="Line 117"/>
            <p:cNvSpPr/>
            <p:nvPr/>
          </p:nvSpPr>
          <p:spPr>
            <a:xfrm>
              <a:off x="468360" y="1268280"/>
              <a:ext cx="7991280" cy="0"/>
            </a:xfrm>
            <a:prstGeom prst="line">
              <a:avLst/>
            </a:prstGeom>
            <a:ln w="57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"/>
            <p:cNvSpPr txBox="1"/>
            <p:nvPr/>
          </p:nvSpPr>
          <p:spPr>
            <a:xfrm>
              <a:off x="468360" y="1268280"/>
              <a:ext cx="7991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3000-77C5-438A-918D-E0096CE9040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3" descr="BL01_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1128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e9cda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3c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03280" y="2133360"/>
            <a:ext cx="71294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  <a:ea typeface="宋体"/>
              </a:rPr>
              <a:t>改革发展中的教育</a:t>
            </a:r>
            <a:r>
              <a:rPr b="1" lang="en-US" sz="4000" spc="-1" strike="noStrike">
                <a:solidFill>
                  <a:srgbClr val="0000cc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  <a:ea typeface="宋体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2782440" y="94464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第六单元  科技教育与文化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图片15"/>
          <p:cNvPicPr/>
          <p:nvPr/>
        </p:nvPicPr>
        <p:blipFill>
          <a:blip r:embed="rId1"/>
          <a:stretch/>
        </p:blipFill>
        <p:spPr>
          <a:xfrm>
            <a:off x="0" y="836640"/>
            <a:ext cx="4859280" cy="59770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5724360" y="1484280"/>
            <a:ext cx="28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198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年，邓小平提出教育的“三个面向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148360" y="3500280"/>
            <a:ext cx="37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教育要面向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现代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面向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世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面向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未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图片15"/>
          <p:cNvPicPr/>
          <p:nvPr/>
        </p:nvPicPr>
        <p:blipFill>
          <a:blip r:embed="rId1"/>
          <a:stretch/>
        </p:blipFill>
        <p:spPr>
          <a:xfrm>
            <a:off x="73080" y="620640"/>
            <a:ext cx="4859280" cy="59770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5838840" y="1876320"/>
            <a:ext cx="2737800" cy="34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义务教育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实施“科教兴国”战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把教育摆在优先发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战略地位，把九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义务教育作为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科教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奠基工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-64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-64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988560" y="1341360"/>
            <a:ext cx="8047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549000"/>
            <a:ext cx="788508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c0efa"/>
                </a:solidFill>
                <a:latin typeface="Verdana"/>
              </a:rPr>
              <a:t>党和政府在改革发展教育中采取了哪些措施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2036160" y="1708200"/>
            <a:ext cx="3569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颁布实施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义务教育法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增加教育经费投入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鼓励社会力量捐资办学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组织”希望工程“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⑤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实施素质教育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⑥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建设世界一流大学和高水平大学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211640" y="3429000"/>
            <a:ext cx="1728720" cy="360"/>
            <a:chOff x="4211640" y="3429000"/>
            <a:chExt cx="1728720" cy="360"/>
          </a:xfrm>
        </p:grpSpPr>
        <p:sp>
          <p:nvSpPr>
            <p:cNvPr id="173" name="Line 8"/>
            <p:cNvSpPr/>
            <p:nvPr/>
          </p:nvSpPr>
          <p:spPr>
            <a:xfrm>
              <a:off x="4211640" y="3429000"/>
              <a:ext cx="1728720" cy="0"/>
            </a:xfrm>
            <a:prstGeom prst="line">
              <a:avLst/>
            </a:prstGeom>
            <a:ln w="475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4211640" y="3429000"/>
              <a:ext cx="172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5" name="Picture 9" descr="渴望受教育的孩子"/>
          <p:cNvPicPr/>
          <p:nvPr/>
        </p:nvPicPr>
        <p:blipFill>
          <a:blip r:embed="rId1"/>
          <a:stretch/>
        </p:blipFill>
        <p:spPr>
          <a:xfrm>
            <a:off x="6156360" y="2133720"/>
            <a:ext cx="2171520" cy="19508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0"/>
          <p:cNvSpPr/>
          <p:nvPr/>
        </p:nvSpPr>
        <p:spPr>
          <a:xfrm>
            <a:off x="8158680" y="1844640"/>
            <a:ext cx="7902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帮助贫困儿童重返校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AutoShape 11"/>
          <p:cNvSpPr/>
          <p:nvPr/>
        </p:nvSpPr>
        <p:spPr>
          <a:xfrm>
            <a:off x="3924360" y="4724280"/>
            <a:ext cx="576360" cy="1009800"/>
          </a:xfrm>
          <a:prstGeom prst="downArrow">
            <a:avLst>
              <a:gd name="adj1" fmla="val 50000"/>
              <a:gd name="adj2" fmla="val 43784"/>
            </a:avLst>
          </a:prstGeom>
          <a:solidFill>
            <a:srgbClr val="5e9c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3197160" y="573408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2406"/>
                </a:solidFill>
                <a:latin typeface="Tahoma"/>
              </a:rPr>
              <a:t>发展教育的成果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2406"/>
                </a:solidFill>
                <a:latin typeface="Verdana"/>
              </a:rPr>
              <a:t>改革发展教育的成果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39280" y="1746000"/>
            <a:ext cx="8425080" cy="40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2406"/>
                </a:solidFill>
                <a:latin typeface="Verdana"/>
              </a:rPr>
              <a:t>基础教育（</a:t>
            </a:r>
            <a:r>
              <a:rPr b="1" lang="en-US" sz="3200" spc="-1" strike="noStrike">
                <a:solidFill>
                  <a:srgbClr val="d62406"/>
                </a:solidFill>
                <a:latin typeface="Verdana"/>
              </a:rPr>
              <a:t>2000</a:t>
            </a:r>
            <a:r>
              <a:rPr b="1" lang="zh-CN" sz="3200" spc="-1" strike="noStrike">
                <a:solidFill>
                  <a:srgbClr val="d62406"/>
                </a:solidFill>
                <a:latin typeface="Verdana"/>
              </a:rPr>
              <a:t>年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3200" spc="-1" strike="noStrike">
                <a:solidFill>
                  <a:srgbClr val="0000cc"/>
                </a:solidFill>
                <a:latin typeface="Verdana"/>
              </a:rPr>
              <a:t>1</a:t>
            </a:r>
            <a:r>
              <a:rPr b="0" lang="zh-CN" sz="3200" spc="-1" strike="noStrike">
                <a:solidFill>
                  <a:srgbClr val="0000cc"/>
                </a:solidFill>
                <a:latin typeface="Verdana"/>
              </a:rPr>
              <a:t>、全国有中小学六十四万多所，中小学生两亿多人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Verdana"/>
              </a:rPr>
              <a:t>        </a:t>
            </a:r>
            <a:r>
              <a:rPr b="0" lang="en-US" sz="3200" spc="-1" strike="noStrike">
                <a:solidFill>
                  <a:srgbClr val="0000cc"/>
                </a:solidFill>
                <a:latin typeface="Verdana"/>
              </a:rPr>
              <a:t>2</a:t>
            </a:r>
            <a:r>
              <a:rPr b="0" lang="zh-CN" sz="3200" spc="-1" strike="noStrike">
                <a:solidFill>
                  <a:srgbClr val="0000cc"/>
                </a:solidFill>
                <a:latin typeface="Verdana"/>
              </a:rPr>
              <a:t>、全国</a:t>
            </a:r>
            <a:r>
              <a:rPr b="0" lang="en-US" sz="3200" spc="-1" strike="noStrike">
                <a:solidFill>
                  <a:srgbClr val="0000cc"/>
                </a:solidFill>
                <a:latin typeface="Verdana"/>
              </a:rPr>
              <a:t>85%</a:t>
            </a:r>
            <a:r>
              <a:rPr b="0" lang="zh-CN" sz="3200" spc="-1" strike="noStrike">
                <a:solidFill>
                  <a:srgbClr val="0000cc"/>
                </a:solidFill>
                <a:latin typeface="Verdana"/>
              </a:rPr>
              <a:t>的地区基本普及九年义务教育，</a:t>
            </a:r>
            <a:r>
              <a:rPr b="0" lang="en-US" sz="3200" spc="-1" strike="noStrike">
                <a:solidFill>
                  <a:srgbClr val="0000cc"/>
                </a:solidFill>
                <a:latin typeface="Verdana"/>
              </a:rPr>
              <a:t>95%</a:t>
            </a:r>
            <a:r>
              <a:rPr b="0" lang="zh-CN" sz="3200" spc="-1" strike="noStrike">
                <a:solidFill>
                  <a:srgbClr val="0000cc"/>
                </a:solidFill>
                <a:latin typeface="Verdana"/>
              </a:rPr>
              <a:t>以上的人口普及初等教育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Verdana"/>
              </a:rPr>
              <a:t>        </a:t>
            </a:r>
            <a:r>
              <a:rPr b="0" lang="en-US" sz="3200" spc="-1" strike="noStrike">
                <a:solidFill>
                  <a:srgbClr val="0000cc"/>
                </a:solidFill>
                <a:latin typeface="Verdana"/>
              </a:rPr>
              <a:t>3</a:t>
            </a:r>
            <a:r>
              <a:rPr b="0" lang="zh-CN" sz="3200" spc="-1" strike="noStrike">
                <a:solidFill>
                  <a:srgbClr val="0000cc"/>
                </a:solidFill>
                <a:latin typeface="Verdana"/>
              </a:rPr>
              <a:t>、小学学龄儿童入学率达到</a:t>
            </a:r>
            <a:r>
              <a:rPr b="0" lang="en-US" sz="3200" spc="-1" strike="noStrike">
                <a:solidFill>
                  <a:srgbClr val="0000cc"/>
                </a:solidFill>
                <a:latin typeface="Verdana"/>
              </a:rPr>
              <a:t>99.1%</a:t>
            </a:r>
            <a:r>
              <a:rPr b="0" lang="zh-CN" sz="3200" spc="-1" strike="noStrike">
                <a:solidFill>
                  <a:srgbClr val="0000cc"/>
                </a:solidFill>
                <a:latin typeface="Verdana"/>
              </a:rPr>
              <a:t>，初中入学率达到</a:t>
            </a:r>
            <a:r>
              <a:rPr b="0" lang="en-US" sz="3200" spc="-1" strike="noStrike">
                <a:solidFill>
                  <a:srgbClr val="0000cc"/>
                </a:solidFill>
                <a:latin typeface="Verdana"/>
              </a:rPr>
              <a:t>88.6%</a:t>
            </a:r>
            <a:r>
              <a:rPr b="0" lang="zh-CN" sz="3200" spc="-1" strike="noStrike">
                <a:solidFill>
                  <a:srgbClr val="0000cc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-64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-64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-64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-64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-64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-64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-64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-64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05"/>
          <p:cNvPicPr/>
          <p:nvPr/>
        </p:nvPicPr>
        <p:blipFill>
          <a:blip r:embed="rId1"/>
          <a:stretch/>
        </p:blipFill>
        <p:spPr>
          <a:xfrm>
            <a:off x="830160" y="770040"/>
            <a:ext cx="2217960" cy="7538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3"/>
          <p:cNvSpPr/>
          <p:nvPr/>
        </p:nvSpPr>
        <p:spPr>
          <a:xfrm>
            <a:off x="2111760" y="14479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科教兴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奠基工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826920" y="220500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到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20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，全国基本实现了普及九年义务教育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4" name="Picture 5" descr="国家大力发展义务教育"/>
          <p:cNvPicPr/>
          <p:nvPr/>
        </p:nvPicPr>
        <p:blipFill>
          <a:blip r:embed="rId2"/>
          <a:stretch/>
        </p:blipFill>
        <p:spPr>
          <a:xfrm>
            <a:off x="5508720" y="1844640"/>
            <a:ext cx="2476440" cy="42670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6"/>
          <p:cNvSpPr/>
          <p:nvPr/>
        </p:nvSpPr>
        <p:spPr>
          <a:xfrm>
            <a:off x="8104320" y="1839600"/>
            <a:ext cx="54612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3c052"/>
                </a:solidFill>
                <a:latin typeface="Times New Roman"/>
                <a:ea typeface="楷体_GB2312"/>
              </a:rPr>
              <a:t>国家大力发展义务教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1627560" y="4000680"/>
            <a:ext cx="3253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标志我国基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教育发展到了一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新阶段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1042920" y="2349360"/>
          <a:ext cx="7561440" cy="3600360"/>
        </p:xfrm>
        <a:graphic>
          <a:graphicData uri="http://schemas.openxmlformats.org/drawingml/2006/table">
            <a:tbl>
              <a:tblPr/>
              <a:tblGrid>
                <a:gridCol w="1512720"/>
                <a:gridCol w="2016360"/>
                <a:gridCol w="2016000"/>
                <a:gridCol w="2016360"/>
              </a:tblGrid>
              <a:tr h="93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时  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学入学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初中入学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文盲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949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1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08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Rectangle 156"/>
          <p:cNvSpPr/>
          <p:nvPr/>
        </p:nvSpPr>
        <p:spPr>
          <a:xfrm>
            <a:off x="2846520" y="4830840"/>
            <a:ext cx="179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粗活意简体"/>
                <a:ea typeface="方正粗活意简体"/>
              </a:rPr>
              <a:t>99.5%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157"/>
          <p:cNvSpPr/>
          <p:nvPr/>
        </p:nvSpPr>
        <p:spPr>
          <a:xfrm>
            <a:off x="4862520" y="4849920"/>
            <a:ext cx="15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粗活意简体"/>
                <a:ea typeface="方正粗活意简体"/>
              </a:rPr>
              <a:t>98.5%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158"/>
          <p:cNvSpPr/>
          <p:nvPr/>
        </p:nvSpPr>
        <p:spPr>
          <a:xfrm>
            <a:off x="6854400" y="48704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粗活意简体"/>
                <a:ea typeface="方正粗活意简体"/>
              </a:rPr>
              <a:t>3.58%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Rectangle 160"/>
          <p:cNvSpPr/>
          <p:nvPr/>
        </p:nvSpPr>
        <p:spPr>
          <a:xfrm>
            <a:off x="3276720" y="549360"/>
            <a:ext cx="3097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义务教育成果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164"/>
          <p:cNvSpPr/>
          <p:nvPr/>
        </p:nvSpPr>
        <p:spPr>
          <a:xfrm>
            <a:off x="270036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方正粗活意简体"/>
                <a:ea typeface="方正粗活意简体"/>
              </a:rPr>
              <a:t>不到</a:t>
            </a:r>
            <a:r>
              <a:rPr b="1" lang="en-US" sz="3600" spc="-1" strike="noStrike">
                <a:solidFill>
                  <a:srgbClr val="ff0000"/>
                </a:solidFill>
                <a:latin typeface="方正粗活意简体"/>
                <a:ea typeface="方正粗活意简体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ectangle 165"/>
          <p:cNvSpPr/>
          <p:nvPr/>
        </p:nvSpPr>
        <p:spPr>
          <a:xfrm>
            <a:off x="4735440" y="3579840"/>
            <a:ext cx="19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方正粗活意简体"/>
                <a:ea typeface="方正粗活意简体"/>
              </a:rPr>
              <a:t>仅为</a:t>
            </a:r>
            <a:r>
              <a:rPr b="1" lang="en-US" sz="3600" spc="-1" strike="noStrike">
                <a:solidFill>
                  <a:srgbClr val="ff0000"/>
                </a:solidFill>
                <a:latin typeface="方正粗活意简体"/>
                <a:ea typeface="方正粗活意简体"/>
              </a:rPr>
              <a:t>6%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Rectangle 166"/>
          <p:cNvSpPr/>
          <p:nvPr/>
        </p:nvSpPr>
        <p:spPr>
          <a:xfrm>
            <a:off x="6705720" y="3579840"/>
            <a:ext cx="18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粗活意简体"/>
                <a:ea typeface="方正粗活意简体"/>
              </a:rPr>
              <a:t>80%</a:t>
            </a:r>
            <a:r>
              <a:rPr b="0" lang="zh-CN" sz="2800" spc="-1" strike="noStrike">
                <a:solidFill>
                  <a:srgbClr val="ff0000"/>
                </a:solidFill>
                <a:latin typeface="方正粗活意简体"/>
                <a:ea typeface="方正粗活意简体"/>
              </a:rPr>
              <a:t>以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AutoShape 3"/>
          <p:cNvSpPr/>
          <p:nvPr/>
        </p:nvSpPr>
        <p:spPr>
          <a:xfrm>
            <a:off x="826920" y="1414440"/>
            <a:ext cx="8137800" cy="790560"/>
          </a:xfrm>
          <a:prstGeom prst="roundRect">
            <a:avLst>
              <a:gd name="adj" fmla="val 1272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2000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年我国基本普及九年义务教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3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9360">
            <a:solidFill>
              <a:srgbClr val="93c052"/>
            </a:solidFill>
            <a:miter/>
          </a:ln>
        </p:spPr>
      </p:pic>
      <p:grpSp>
        <p:nvGrpSpPr>
          <p:cNvPr id="197" name="Group 17"/>
          <p:cNvGrpSpPr/>
          <p:nvPr/>
        </p:nvGrpSpPr>
        <p:grpSpPr>
          <a:xfrm>
            <a:off x="0" y="1237320"/>
            <a:ext cx="9144000" cy="5620680"/>
            <a:chOff x="0" y="1237320"/>
            <a:chExt cx="9144000" cy="5620680"/>
          </a:xfrm>
        </p:grpSpPr>
        <p:pic>
          <p:nvPicPr>
            <p:cNvPr id="198" name="Picture 18" descr="jpeg"/>
            <p:cNvPicPr/>
            <p:nvPr/>
          </p:nvPicPr>
          <p:blipFill>
            <a:blip r:embed="rId2"/>
            <a:stretch/>
          </p:blipFill>
          <p:spPr>
            <a:xfrm>
              <a:off x="0" y="1268280"/>
              <a:ext cx="9144000" cy="558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Rectangle 19"/>
            <p:cNvSpPr/>
            <p:nvPr/>
          </p:nvSpPr>
          <p:spPr>
            <a:xfrm>
              <a:off x="179280" y="1237320"/>
              <a:ext cx="3248280" cy="106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99"/>
                  </a:solidFill>
                  <a:latin typeface="Tahoma"/>
                  <a:ea typeface="黑体"/>
                </a:rPr>
                <a:t>大学之路，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99"/>
                  </a:solidFill>
                  <a:latin typeface="Tahoma"/>
                  <a:ea typeface="黑体"/>
                </a:rPr>
                <a:t>愈走愈宽。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0" name="AutoShape 3"/>
          <p:cNvSpPr/>
          <p:nvPr/>
        </p:nvSpPr>
        <p:spPr>
          <a:xfrm>
            <a:off x="0" y="0"/>
            <a:ext cx="9144000" cy="1341360"/>
          </a:xfrm>
          <a:prstGeom prst="roundRect">
            <a:avLst>
              <a:gd name="adj" fmla="val 12727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ahoma"/>
                <a:ea typeface="方正隶变简体"/>
              </a:rPr>
              <a:t>知识改变命运  教育成就未来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21"/>
          <p:cNvSpPr/>
          <p:nvPr/>
        </p:nvSpPr>
        <p:spPr>
          <a:xfrm>
            <a:off x="6295320" y="1484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高等教育的成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94920" y="1557360"/>
            <a:ext cx="851868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高等教育（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2000</a:t>
            </a: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年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Verdana"/>
              </a:rPr>
              <a:t>        </a:t>
            </a:r>
            <a:r>
              <a:rPr b="0" lang="en-US" sz="3200" spc="-1" strike="noStrike">
                <a:solidFill>
                  <a:srgbClr val="0000cc"/>
                </a:solidFill>
                <a:latin typeface="Verdana"/>
              </a:rPr>
              <a:t>1</a:t>
            </a:r>
            <a:r>
              <a:rPr b="0" lang="zh-CN" sz="3200" spc="-1" strike="noStrike">
                <a:solidFill>
                  <a:srgbClr val="0000cc"/>
                </a:solidFill>
                <a:latin typeface="Verdana"/>
              </a:rPr>
              <a:t>、普通高等学校有一千多所，学生五百五十多万人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Verdana"/>
              </a:rPr>
              <a:t>        </a:t>
            </a:r>
            <a:r>
              <a:rPr b="0" lang="en-US" sz="3200" spc="-1" strike="noStrike">
                <a:solidFill>
                  <a:srgbClr val="0000cc"/>
                </a:solidFill>
                <a:latin typeface="Verdana"/>
              </a:rPr>
              <a:t>2</a:t>
            </a:r>
            <a:r>
              <a:rPr b="0" lang="zh-CN" sz="3200" spc="-1" strike="noStrike">
                <a:solidFill>
                  <a:srgbClr val="0000cc"/>
                </a:solidFill>
                <a:latin typeface="Verdana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Verdana"/>
              </a:rPr>
              <a:t>        </a:t>
            </a:r>
            <a:r>
              <a:rPr b="0" lang="en-US" sz="3200" spc="-1" strike="noStrike">
                <a:solidFill>
                  <a:srgbClr val="0000cc"/>
                </a:solidFill>
                <a:latin typeface="Verdana"/>
              </a:rPr>
              <a:t>3</a:t>
            </a:r>
            <a:r>
              <a:rPr b="0" lang="zh-CN" sz="3200" spc="-1" strike="noStrike">
                <a:solidFill>
                  <a:srgbClr val="0000cc"/>
                </a:solidFill>
                <a:latin typeface="Verdana"/>
              </a:rPr>
              <a:t>、高等学校承担</a:t>
            </a:r>
            <a:r>
              <a:rPr b="0" lang="en-US" sz="3200" spc="-1" strike="noStrike">
                <a:solidFill>
                  <a:srgbClr val="0000cc"/>
                </a:solidFill>
                <a:latin typeface="Verdana"/>
              </a:rPr>
              <a:t>863</a:t>
            </a:r>
            <a:r>
              <a:rPr b="0" lang="zh-CN" sz="3200" spc="-1" strike="noStrike">
                <a:solidFill>
                  <a:srgbClr val="0000cc"/>
                </a:solidFill>
                <a:latin typeface="Verdana"/>
              </a:rPr>
              <a:t>计划项目，占</a:t>
            </a:r>
            <a:r>
              <a:rPr b="0" lang="en-US" sz="3200" spc="-1" strike="noStrike">
                <a:solidFill>
                  <a:srgbClr val="0000cc"/>
                </a:solidFill>
                <a:latin typeface="Verdana"/>
              </a:rPr>
              <a:t>1/3</a:t>
            </a:r>
            <a:r>
              <a:rPr b="0" lang="zh-CN" sz="3200" spc="-1" strike="noStrike">
                <a:solidFill>
                  <a:srgbClr val="0000cc"/>
                </a:solidFill>
                <a:latin typeface="Verdana"/>
              </a:rPr>
              <a:t>以上；获得的国家发明奖，占全国</a:t>
            </a:r>
            <a:r>
              <a:rPr b="0" lang="en-US" sz="3200" spc="-1" strike="noStrike">
                <a:solidFill>
                  <a:srgbClr val="0000cc"/>
                </a:solidFill>
                <a:latin typeface="Verdana"/>
              </a:rPr>
              <a:t>1/3</a:t>
            </a:r>
            <a:r>
              <a:rPr b="0" lang="zh-CN" sz="3200" spc="-1" strike="noStrike">
                <a:solidFill>
                  <a:srgbClr val="0000cc"/>
                </a:solidFill>
                <a:latin typeface="Verdana"/>
              </a:rPr>
              <a:t>左右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2556000" y="549360"/>
            <a:ext cx="62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  <a:ea typeface="黑体"/>
              </a:rPr>
              <a:t>改革发展教育的成果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5396040" y="3340800"/>
            <a:ext cx="72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相当规模、学校数量大增、学科门类齐全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33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ff9933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-64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-64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-64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-64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-64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-64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-64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-64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52"/>
          <p:cNvPicPr/>
          <p:nvPr/>
        </p:nvPicPr>
        <p:blipFill>
          <a:blip r:embed="rId1"/>
          <a:stretch/>
        </p:blipFill>
        <p:spPr>
          <a:xfrm>
            <a:off x="0" y="1413000"/>
            <a:ext cx="5580000" cy="35701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68h"/>
          <p:cNvPicPr/>
          <p:nvPr/>
        </p:nvPicPr>
        <p:blipFill>
          <a:blip r:embed="rId2"/>
          <a:stretch/>
        </p:blipFill>
        <p:spPr>
          <a:xfrm>
            <a:off x="5886360" y="1844640"/>
            <a:ext cx="3257640" cy="452916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1835280" y="5300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2406"/>
                </a:solidFill>
                <a:latin typeface="Arial"/>
                <a:ea typeface="宋体"/>
              </a:rPr>
              <a:t>博士毕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6877080" y="83664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2406"/>
                </a:solidFill>
                <a:latin typeface="Arial"/>
                <a:ea typeface="宋体"/>
              </a:rPr>
              <a:t>北京大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2415600" y="836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等教育的大发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05"/>
          <p:cNvPicPr/>
          <p:nvPr/>
        </p:nvPicPr>
        <p:blipFill>
          <a:blip r:embed="rId1"/>
          <a:stretch/>
        </p:blipFill>
        <p:spPr>
          <a:xfrm>
            <a:off x="830160" y="770040"/>
            <a:ext cx="2217960" cy="7538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清华大学"/>
          <p:cNvPicPr/>
          <p:nvPr/>
        </p:nvPicPr>
        <p:blipFill>
          <a:blip r:embed="rId2"/>
          <a:stretch/>
        </p:blipFill>
        <p:spPr>
          <a:xfrm>
            <a:off x="1981080" y="2286000"/>
            <a:ext cx="5257800" cy="34290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4"/>
          <p:cNvSpPr/>
          <p:nvPr/>
        </p:nvSpPr>
        <p:spPr>
          <a:xfrm>
            <a:off x="7302600" y="3897360"/>
            <a:ext cx="546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3c052"/>
                </a:solidFill>
                <a:latin typeface="Times New Roman"/>
                <a:ea typeface="楷体_GB2312"/>
              </a:rPr>
              <a:t>清华大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2023560" y="14479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等教育的大发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7224840" y="1432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ahoma"/>
              </a:rPr>
              <a:t>建设世界一流大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0"/>
          <p:cNvSpPr/>
          <p:nvPr/>
        </p:nvSpPr>
        <p:spPr>
          <a:xfrm>
            <a:off x="2049840" y="2133720"/>
            <a:ext cx="5301360" cy="2043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课标要求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列举九年义务制教育基本普及和高等教育迅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发展的史实，认识教育发展在“科教兴国”战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中的地位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p5a 副本副本"/>
          <p:cNvPicPr/>
          <p:nvPr/>
        </p:nvPicPr>
        <p:blipFill>
          <a:blip r:embed="rId1"/>
          <a:stretch/>
        </p:blipFill>
        <p:spPr>
          <a:xfrm>
            <a:off x="4211640" y="5734080"/>
            <a:ext cx="981000" cy="1123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p5b"/>
          <p:cNvPicPr/>
          <p:nvPr/>
        </p:nvPicPr>
        <p:blipFill>
          <a:blip r:embed="rId2"/>
          <a:stretch/>
        </p:blipFill>
        <p:spPr>
          <a:xfrm>
            <a:off x="2700360" y="5799240"/>
            <a:ext cx="1058760" cy="1058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T7"/>
          <p:cNvPicPr/>
          <p:nvPr/>
        </p:nvPicPr>
        <p:blipFill>
          <a:blip r:embed="rId3"/>
          <a:stretch/>
        </p:blipFill>
        <p:spPr>
          <a:xfrm>
            <a:off x="0" y="2924280"/>
            <a:ext cx="3635280" cy="28098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5"/>
          <p:cNvSpPr/>
          <p:nvPr/>
        </p:nvSpPr>
        <p:spPr>
          <a:xfrm>
            <a:off x="790560" y="47628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c0efa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4c0efa"/>
                </a:solidFill>
                <a:latin typeface="黑体"/>
                <a:ea typeface="黑体"/>
              </a:rPr>
              <a:t>义务教育法</a:t>
            </a:r>
            <a:r>
              <a:rPr b="1" lang="en-US" sz="2800" spc="-1" strike="noStrike">
                <a:solidFill>
                  <a:srgbClr val="4c0efa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4c0efa"/>
                </a:solidFill>
                <a:latin typeface="黑体"/>
                <a:ea typeface="黑体"/>
              </a:rPr>
              <a:t>规定：“凡满六周岁的儿童，不分性别、民族、种族，应当入学接受规定年限的义务教育。条件不具备的地区，可以推迟到七周岁入学</a:t>
            </a:r>
            <a:r>
              <a:rPr b="1" lang="en-US" sz="2800" spc="-1" strike="noStrike">
                <a:solidFill>
                  <a:srgbClr val="4c0efa"/>
                </a:solidFill>
                <a:latin typeface="黑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4c0efa"/>
                </a:solidFill>
                <a:latin typeface="黑体"/>
                <a:ea typeface="黑体"/>
              </a:rPr>
              <a:t>你怎样理解上述法律条文中你所享受的权利和应尽的义务？他们谁说的对？为什么？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719640" y="3357720"/>
            <a:ext cx="203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我们上学是家长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学校的事，家长和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校让上学就上，不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学就不上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Picture 7" descr="T7"/>
          <p:cNvPicPr/>
          <p:nvPr/>
        </p:nvPicPr>
        <p:blipFill>
          <a:blip r:embed="rId4"/>
          <a:stretch/>
        </p:blipFill>
        <p:spPr>
          <a:xfrm>
            <a:off x="4500720" y="2708280"/>
            <a:ext cx="4643280" cy="295272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8"/>
          <p:cNvSpPr/>
          <p:nvPr/>
        </p:nvSpPr>
        <p:spPr>
          <a:xfrm>
            <a:off x="5364000" y="2852640"/>
            <a:ext cx="33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不对，上学是我们自己的事，既是我们对国家和社会的义务，也是我们接受教育的权利，必须依法执行。不能让上学就上，不让上学就不上。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7164360" y="0"/>
            <a:ext cx="197964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9933">
                  <a:alpha val="6823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姚体"/>
              </a:rPr>
              <a:t>合作探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1945440" y="438120"/>
            <a:ext cx="605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2406"/>
                </a:solidFill>
                <a:latin typeface="Arial"/>
                <a:ea typeface="宋体"/>
              </a:rPr>
              <a:t>辩一辩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3600" spc="-1" strike="noStrike">
                <a:solidFill>
                  <a:srgbClr val="4c0efa"/>
                </a:solidFill>
                <a:latin typeface="Arial"/>
                <a:ea typeface="宋体"/>
              </a:rPr>
              <a:t>下面这种说法正确吗？你是怎么认识的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" name="Picture 3" descr="Y3A 副本"/>
          <p:cNvPicPr/>
          <p:nvPr/>
        </p:nvPicPr>
        <p:blipFill>
          <a:blip r:embed="rId1"/>
          <a:stretch/>
        </p:blipFill>
        <p:spPr>
          <a:xfrm>
            <a:off x="468360" y="3716280"/>
            <a:ext cx="2000160" cy="241776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4"/>
          <p:cNvSpPr/>
          <p:nvPr/>
        </p:nvSpPr>
        <p:spPr>
          <a:xfrm>
            <a:off x="3059280" y="1628640"/>
            <a:ext cx="5616360" cy="2737080"/>
          </a:xfrm>
          <a:prstGeom prst="cloudCallout">
            <a:avLst>
              <a:gd name="adj1" fmla="val -51722"/>
              <a:gd name="adj2" fmla="val 71402"/>
            </a:avLst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419256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4264200" y="2082960"/>
            <a:ext cx="3050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我只要在学校里，就既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享受了权利，又尽了义务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学习嘛，我想学就学，不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学就不学，谁也管不着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-64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-64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11280" y="404280"/>
            <a:ext cx="842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69920" indent="-1069920">
              <a:spcBef>
                <a:spcPts val="10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069920" indent="-1069920">
              <a:spcBef>
                <a:spcPts val="10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因为法律是强制性的，人人都必须自觉遵守和执行，任何阻止学龄儿童上学行为都是违法的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4541400" y="5700600"/>
            <a:ext cx="306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Tahoma"/>
              </a:rPr>
              <a:t>《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ahoma"/>
              </a:rPr>
              <a:t>中华人民共和国义务教育法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ahoma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720720" y="3284640"/>
            <a:ext cx="845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是提高民族素质的必要措施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539640" indent="-539640">
              <a:buClr>
                <a:srgbClr val="0033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Tahoma"/>
              </a:rPr>
              <a:t>受教育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是学生的权利，同时也 是义务。 违反义务就是违法的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改革发展中的教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10920" y="1341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一、科教兴国的奠基工程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-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Verdana"/>
              </a:rPr>
              <a:t>基础教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en-US" sz="2800" spc="-1" strike="noStrike">
                <a:solidFill>
                  <a:srgbClr val="0000cc"/>
                </a:solidFill>
                <a:latin typeface="Verdana"/>
              </a:rPr>
              <a:t>1986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年，颁布实施了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《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Verdana"/>
              </a:rPr>
              <a:t>中华人民共和国义务教育法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2000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年，全国基本实现了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Verdana"/>
              </a:rPr>
              <a:t>普及九年义务教育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3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年，邓小平提出：教育要面向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Verdana"/>
              </a:rPr>
              <a:t>现代化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，面向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Verdana"/>
              </a:rPr>
              <a:t>世界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，面向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Verdana"/>
              </a:rPr>
              <a:t>未来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世纪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90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年代以来，党和政府实施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Verdana"/>
              </a:rPr>
              <a:t>“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Verdana"/>
              </a:rPr>
              <a:t>科教兴国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”，把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Verdana"/>
              </a:rPr>
              <a:t>九年义务教育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作为科教兴国的奠基工程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二、高等教育的大发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世纪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90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年代，创建世界</a:t>
            </a:r>
            <a:r>
              <a:rPr b="0" lang="zh-CN" sz="2800" spc="-1" strike="noStrike">
                <a:solidFill>
                  <a:srgbClr val="0000cc"/>
                </a:solidFill>
                <a:latin typeface="Verdana"/>
              </a:rPr>
              <a:t>一流大学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和高水平大学：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Verdana"/>
              </a:rPr>
              <a:t>北京大学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Verdana"/>
              </a:rPr>
              <a:t>清华大学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3132000" y="0"/>
            <a:ext cx="424836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9933">
                  <a:alpha val="6823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姚体"/>
              </a:rPr>
              <a:t>知识检测与总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5076720" y="1447920"/>
            <a:ext cx="18003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00"/>
                </a:solidFill>
                <a:uFillTx/>
                <a:latin typeface="Tahoma"/>
              </a:rPr>
              <a:t>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5003640" y="1808280"/>
            <a:ext cx="37450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5364000" y="2276640"/>
            <a:ext cx="33847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6804000" y="2708280"/>
            <a:ext cx="11527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00"/>
                </a:solidFill>
                <a:uFillTx/>
                <a:latin typeface="Tahoma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611280" y="3176640"/>
            <a:ext cx="11523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00"/>
                </a:solidFill>
                <a:uFillTx/>
                <a:latin typeface="Tahoma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2843280" y="3176640"/>
            <a:ext cx="11523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00"/>
                </a:solidFill>
                <a:uFillTx/>
                <a:latin typeface="Tahoma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6948360" y="3537000"/>
            <a:ext cx="17272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12"/>
          <p:cNvSpPr/>
          <p:nvPr/>
        </p:nvSpPr>
        <p:spPr>
          <a:xfrm>
            <a:off x="1403280" y="3968640"/>
            <a:ext cx="21607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1042920" y="5661000"/>
            <a:ext cx="1440000" cy="3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 Box 14"/>
          <p:cNvSpPr/>
          <p:nvPr/>
        </p:nvSpPr>
        <p:spPr>
          <a:xfrm>
            <a:off x="2771640" y="5661000"/>
            <a:ext cx="1440000" cy="3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WordArt 15"/>
          <p:cNvSpPr txBox="1"/>
          <p:nvPr/>
        </p:nvSpPr>
        <p:spPr>
          <a:xfrm rot="1882200">
            <a:off x="6400440" y="59508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你掌握了吗？</a:t>
            </a:r>
            <a:endParaRPr b="0" lang="en-US" sz="2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4" descr="smil43445cac8c051"/>
          <p:cNvPicPr/>
          <p:nvPr/>
        </p:nvPicPr>
        <p:blipFill>
          <a:blip r:embed="rId1"/>
          <a:stretch/>
        </p:blipFill>
        <p:spPr>
          <a:xfrm>
            <a:off x="1258920" y="306864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smil43445cac8c051"/>
          <p:cNvPicPr/>
          <p:nvPr/>
        </p:nvPicPr>
        <p:blipFill>
          <a:blip r:embed="rId2"/>
          <a:stretch/>
        </p:blipFill>
        <p:spPr>
          <a:xfrm>
            <a:off x="1187280" y="5373720"/>
            <a:ext cx="505080" cy="5047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61128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 提出“教育要面向现代化，面向世界，面向未来”的是（        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毛泽东 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周恩来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邓小平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江泽民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改革开放以来，国家以什么为国策，确立了教育优先发展战略：（       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.86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计划  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希望工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科教兴国 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科技兴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7236000" y="0"/>
            <a:ext cx="190800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9933">
                  <a:alpha val="6823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姚体"/>
              </a:rPr>
              <a:t>巩固练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763640" y="3573360"/>
            <a:ext cx="1368360" cy="360"/>
            <a:chOff x="1763640" y="3573360"/>
            <a:chExt cx="1368360" cy="360"/>
          </a:xfrm>
        </p:grpSpPr>
        <p:sp>
          <p:nvSpPr>
            <p:cNvPr id="253" name="Line 7"/>
            <p:cNvSpPr/>
            <p:nvPr/>
          </p:nvSpPr>
          <p:spPr>
            <a:xfrm>
              <a:off x="1763640" y="3573360"/>
              <a:ext cx="1368360" cy="0"/>
            </a:xfrm>
            <a:prstGeom prst="line">
              <a:avLst/>
            </a:prstGeom>
            <a:ln w="414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1763640" y="3573360"/>
              <a:ext cx="136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763640" y="5805360"/>
            <a:ext cx="1368360" cy="360"/>
            <a:chOff x="1763640" y="5805360"/>
            <a:chExt cx="1368360" cy="360"/>
          </a:xfrm>
        </p:grpSpPr>
        <p:sp>
          <p:nvSpPr>
            <p:cNvPr id="256" name="Line 8"/>
            <p:cNvSpPr/>
            <p:nvPr/>
          </p:nvSpPr>
          <p:spPr>
            <a:xfrm>
              <a:off x="1763640" y="5805360"/>
              <a:ext cx="1368360" cy="0"/>
            </a:xfrm>
            <a:prstGeom prst="line">
              <a:avLst/>
            </a:prstGeom>
            <a:ln w="414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1763640" y="5805360"/>
              <a:ext cx="136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8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33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ff9933"/>
                </a:solidFill>
                <a:uFillTx/>
                <a:latin typeface="Arial"/>
                <a:ea typeface="宋体"/>
                <a:hlinkClick r:id="rId4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763280" y="691920"/>
            <a:ext cx="7380360" cy="55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08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4" descr="smil43445cac8c051"/>
          <p:cNvPicPr/>
          <p:nvPr/>
        </p:nvPicPr>
        <p:blipFill>
          <a:blip r:embed="rId1"/>
          <a:stretch/>
        </p:blipFill>
        <p:spPr>
          <a:xfrm>
            <a:off x="1116000" y="2565360"/>
            <a:ext cx="504720" cy="5047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5"/>
          <p:cNvSpPr/>
          <p:nvPr/>
        </p:nvSpPr>
        <p:spPr>
          <a:xfrm>
            <a:off x="7236000" y="0"/>
            <a:ext cx="190800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9933">
                  <a:alpha val="6823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姚体"/>
              </a:rPr>
              <a:t>巩固练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Picture 8" descr="smil43445cac8c051"/>
          <p:cNvPicPr/>
          <p:nvPr/>
        </p:nvPicPr>
        <p:blipFill>
          <a:blip r:embed="rId2"/>
          <a:stretch/>
        </p:blipFill>
        <p:spPr>
          <a:xfrm>
            <a:off x="1116000" y="364500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9" descr="smil43445cac8c051"/>
          <p:cNvPicPr/>
          <p:nvPr/>
        </p:nvPicPr>
        <p:blipFill>
          <a:blip r:embed="rId3"/>
          <a:stretch/>
        </p:blipFill>
        <p:spPr>
          <a:xfrm>
            <a:off x="4643280" y="5589720"/>
            <a:ext cx="505080" cy="5047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7"/>
          <p:cNvSpPr/>
          <p:nvPr/>
        </p:nvSpPr>
        <p:spPr>
          <a:xfrm>
            <a:off x="539640" y="1341360"/>
            <a:ext cx="860436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九年义务教育属于（  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高等教育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小学教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基础教育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中等教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党和政府实施“科教兴国”的战略是从（  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.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世纪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代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.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世纪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代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.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世纪初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.2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世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我国“科教兴国”的奠基工程是（　　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小学教育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职业教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中等教育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义务教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547640" y="3068640"/>
            <a:ext cx="1729080" cy="360"/>
            <a:chOff x="1547640" y="3068640"/>
            <a:chExt cx="1729080" cy="360"/>
          </a:xfrm>
        </p:grpSpPr>
        <p:sp>
          <p:nvSpPr>
            <p:cNvPr id="266" name="Line 10"/>
            <p:cNvSpPr/>
            <p:nvPr/>
          </p:nvSpPr>
          <p:spPr>
            <a:xfrm>
              <a:off x="1547640" y="3068640"/>
              <a:ext cx="1729080" cy="0"/>
            </a:xfrm>
            <a:prstGeom prst="line">
              <a:avLst/>
            </a:prstGeom>
            <a:ln w="414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1547640" y="3068640"/>
              <a:ext cx="172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1619280" y="4149720"/>
            <a:ext cx="2521080" cy="360"/>
            <a:chOff x="1619280" y="4149720"/>
            <a:chExt cx="2521080" cy="360"/>
          </a:xfrm>
        </p:grpSpPr>
        <p:sp>
          <p:nvSpPr>
            <p:cNvPr id="269" name="Line 11"/>
            <p:cNvSpPr/>
            <p:nvPr/>
          </p:nvSpPr>
          <p:spPr>
            <a:xfrm>
              <a:off x="1619280" y="4149720"/>
              <a:ext cx="2521080" cy="0"/>
            </a:xfrm>
            <a:prstGeom prst="line">
              <a:avLst/>
            </a:prstGeom>
            <a:ln w="414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1619280" y="4149720"/>
              <a:ext cx="252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500720" y="6093000"/>
            <a:ext cx="2520720" cy="360"/>
            <a:chOff x="4500720" y="6093000"/>
            <a:chExt cx="2520720" cy="360"/>
          </a:xfrm>
        </p:grpSpPr>
        <p:sp>
          <p:nvSpPr>
            <p:cNvPr id="272" name="Line 12"/>
            <p:cNvSpPr/>
            <p:nvPr/>
          </p:nvSpPr>
          <p:spPr>
            <a:xfrm>
              <a:off x="4500720" y="6093000"/>
              <a:ext cx="2520720" cy="0"/>
            </a:xfrm>
            <a:prstGeom prst="line">
              <a:avLst/>
            </a:prstGeom>
            <a:ln w="414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4500720" y="6093000"/>
              <a:ext cx="252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Picture 4" descr="smil43445cac8c051"/>
          <p:cNvPicPr/>
          <p:nvPr/>
        </p:nvPicPr>
        <p:blipFill>
          <a:blip r:embed="rId1"/>
          <a:stretch/>
        </p:blipFill>
        <p:spPr>
          <a:xfrm>
            <a:off x="1332000" y="4221000"/>
            <a:ext cx="504720" cy="5050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61128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为了振兴科技和繁荣经济，我国实施科教兴国战略所采取的重大举措是（       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制定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86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计划”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恢复普通高校入学制度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实施“五个一工程”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普及九年义务教育、发展高等教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7236000" y="0"/>
            <a:ext cx="190800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9933">
                  <a:alpha val="6823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姚体"/>
              </a:rPr>
              <a:t>巩固练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835280" y="4797000"/>
            <a:ext cx="6192720" cy="360"/>
            <a:chOff x="1835280" y="4797000"/>
            <a:chExt cx="6192720" cy="360"/>
          </a:xfrm>
        </p:grpSpPr>
        <p:sp>
          <p:nvSpPr>
            <p:cNvPr id="279" name="Line 6"/>
            <p:cNvSpPr/>
            <p:nvPr/>
          </p:nvSpPr>
          <p:spPr>
            <a:xfrm>
              <a:off x="1835280" y="4797360"/>
              <a:ext cx="6192720" cy="0"/>
            </a:xfrm>
            <a:prstGeom prst="line">
              <a:avLst/>
            </a:prstGeom>
            <a:ln w="414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 rot="10800000">
              <a:off x="1835280" y="4796640"/>
              <a:ext cx="619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662F-D8D9-43FF-940B-83C5A5CEF14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Picture 5" descr="smil43445cac8c051"/>
          <p:cNvPicPr/>
          <p:nvPr/>
        </p:nvPicPr>
        <p:blipFill>
          <a:blip r:embed="rId1"/>
          <a:stretch/>
        </p:blipFill>
        <p:spPr>
          <a:xfrm>
            <a:off x="1332000" y="3141720"/>
            <a:ext cx="504720" cy="5047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468360" y="126828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80560" indent="-880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据统计，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底，全国普有九年义务教育人口覆盖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9.97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这一成就取决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华人民共和国义务教育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颁布。到今年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）该法已颁布（　　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0560" indent="-880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.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.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0560" indent="-880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.2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.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0560" indent="-880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0560" indent="-880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下列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宋体"/>
                <a:ea typeface="宋体"/>
              </a:rPr>
              <a:t>不符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义务教育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规定的是（   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0560" indent="-880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女生享有平等的教育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0560" indent="-880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汉族与少数民族享有平等的受教育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0560" indent="-880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龄儿童必须入学，履行受教育的义务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0560" indent="-880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只保障人民的合法教育权，没有规定义务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0560" indent="-880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0560" indent="-880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0560" indent="-88056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7" descr="smil43445cac8c051"/>
          <p:cNvPicPr/>
          <p:nvPr/>
        </p:nvPicPr>
        <p:blipFill>
          <a:blip r:embed="rId2"/>
          <a:stretch/>
        </p:blipFill>
        <p:spPr>
          <a:xfrm>
            <a:off x="1258920" y="5734080"/>
            <a:ext cx="504720" cy="5047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8"/>
          <p:cNvSpPr/>
          <p:nvPr/>
        </p:nvSpPr>
        <p:spPr>
          <a:xfrm>
            <a:off x="7236000" y="0"/>
            <a:ext cx="190800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9933">
                  <a:alpha val="6823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姚体"/>
              </a:rPr>
              <a:t>巩固练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547640" y="3645000"/>
            <a:ext cx="1440000" cy="360"/>
            <a:chOff x="1547640" y="3645000"/>
            <a:chExt cx="1440000" cy="360"/>
          </a:xfrm>
        </p:grpSpPr>
        <p:sp>
          <p:nvSpPr>
            <p:cNvPr id="291" name="Line 9"/>
            <p:cNvSpPr/>
            <p:nvPr/>
          </p:nvSpPr>
          <p:spPr>
            <a:xfrm>
              <a:off x="1547640" y="3645000"/>
              <a:ext cx="1440000" cy="0"/>
            </a:xfrm>
            <a:prstGeom prst="line">
              <a:avLst/>
            </a:prstGeom>
            <a:ln w="414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"/>
            <p:cNvSpPr txBox="1"/>
            <p:nvPr/>
          </p:nvSpPr>
          <p:spPr>
            <a:xfrm>
              <a:off x="1547640" y="3645000"/>
              <a:ext cx="144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763640" y="6165720"/>
            <a:ext cx="6480360" cy="360"/>
            <a:chOff x="1763640" y="6165720"/>
            <a:chExt cx="6480360" cy="360"/>
          </a:xfrm>
        </p:grpSpPr>
        <p:sp>
          <p:nvSpPr>
            <p:cNvPr id="294" name="Line 10"/>
            <p:cNvSpPr/>
            <p:nvPr/>
          </p:nvSpPr>
          <p:spPr>
            <a:xfrm>
              <a:off x="1763640" y="6165720"/>
              <a:ext cx="6480360" cy="0"/>
            </a:xfrm>
            <a:prstGeom prst="line">
              <a:avLst/>
            </a:prstGeom>
            <a:ln w="414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"/>
            <p:cNvSpPr txBox="1"/>
            <p:nvPr/>
          </p:nvSpPr>
          <p:spPr>
            <a:xfrm>
              <a:off x="1763640" y="6165720"/>
              <a:ext cx="648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改革发展中的教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1128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一、科教兴国的奠基工程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-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基础教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6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年，颁布实施了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《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_____________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0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年，全国基本实现了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_____________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、邓小平提出：教育要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_____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_____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____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世纪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90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年代以来，实施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______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的发展战略，明确提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___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，把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___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作为科教兴国的奠基工程，并要求实施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___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，全面贯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___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二、高等教育的大发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世纪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90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年代，启动了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____________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工作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、高等学校承担国家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63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计划项目，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______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获得国家发明奖，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_______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164360" y="0"/>
            <a:ext cx="197964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9933">
                  <a:alpha val="6823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姚体"/>
              </a:rPr>
              <a:t>自主预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612144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Verdana"/>
              </a:rPr>
              <a:t>一、你知道我国现行的学制吗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1680" y="1557360"/>
            <a:ext cx="8540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前教育    幼儿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初等教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中等教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高等教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856600" y="299736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初中（三年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高中（三年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2954520" y="4175280"/>
            <a:ext cx="2747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专科（二至三年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本科（通常四年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硕士（二至三年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研究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博士（三年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2928240" y="2276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学（六年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4637160" y="270828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九年义务教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6859440" y="2637000"/>
            <a:ext cx="228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2406"/>
                </a:solidFill>
                <a:latin typeface="Arial"/>
                <a:ea typeface="宋体"/>
              </a:rPr>
              <a:t>基础教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2340000" y="4292640"/>
            <a:ext cx="152280" cy="122400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2340000" y="314172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3492360" y="503568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4429080" y="2276640"/>
            <a:ext cx="287280" cy="1079280"/>
          </a:xfrm>
          <a:custGeom>
            <a:avLst/>
            <a:gdLst>
              <a:gd name="textAreaLeft" fmla="*/ 0 w 287280"/>
              <a:gd name="textAreaRight" fmla="*/ 103680 w 28728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6508800" y="1773360"/>
            <a:ext cx="368280" cy="2087280"/>
          </a:xfrm>
          <a:custGeom>
            <a:avLst/>
            <a:gdLst>
              <a:gd name="textAreaLeft" fmla="*/ 0 w 368280"/>
              <a:gd name="textAreaRight" fmla="*/ 132840 w 36828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10226"/>
                </a:lnTo>
                <a:cubicBezTo>
                  <a:pt x="10800" y="11125"/>
                  <a:pt x="16200" y="12024"/>
                  <a:pt x="21600" y="12024"/>
                </a:cubicBezTo>
                <a:cubicBezTo>
                  <a:pt x="16200" y="12024"/>
                  <a:pt x="10800" y="12923"/>
                  <a:pt x="10800" y="13822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4" descr="p5c"/>
          <p:cNvPicPr/>
          <p:nvPr/>
        </p:nvPicPr>
        <p:blipFill>
          <a:blip r:embed="rId1"/>
          <a:stretch/>
        </p:blipFill>
        <p:spPr>
          <a:xfrm>
            <a:off x="7164360" y="260280"/>
            <a:ext cx="1344600" cy="16318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6"/>
          <p:cNvSpPr/>
          <p:nvPr/>
        </p:nvSpPr>
        <p:spPr>
          <a:xfrm>
            <a:off x="4572000" y="0"/>
            <a:ext cx="277164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9933">
                  <a:alpha val="6823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姚体"/>
              </a:rPr>
              <a:t>重、难点解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8"/>
          <p:cNvSpPr/>
          <p:nvPr/>
        </p:nvSpPr>
        <p:spPr>
          <a:xfrm>
            <a:off x="468360" y="1413000"/>
            <a:ext cx="867564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方正大标宋简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方正大标宋简体"/>
              </a:rPr>
              <a:t>事例一：</a:t>
            </a:r>
            <a:br>
              <a:rPr sz="1900"/>
            </a:b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方正大标宋简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改革开放初期，中国曾从国外引进了大量的机器设备和流水线，但由于工人的文化水平较低，不会操作，而只得任其生锈坏掉。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黑体"/>
              </a:rPr>
              <a:t>--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激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黑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黑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468360" y="3573360"/>
            <a:ext cx="8496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方正大标宋简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方正大标宋简体"/>
              </a:rPr>
              <a:t>事例二：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7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当邓小平看到日本一轿车厂的月产量是当时长春一汽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时，使邓小平大为感叹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知道了什么是现代化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黑体"/>
              </a:rPr>
              <a:t>---197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年邓小平访日见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6327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阅读事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84000" y="2133360"/>
            <a:ext cx="756108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科技、经济的竞争，归根到底是教育的竞争，人才的竞争。谁抓住了教育，谁就抓住了在知识经济竞争中的主动权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4" descr="127A"/>
          <p:cNvPicPr/>
          <p:nvPr/>
        </p:nvPicPr>
        <p:blipFill>
          <a:blip r:embed="rId1"/>
          <a:stretch/>
        </p:blipFill>
        <p:spPr>
          <a:xfrm>
            <a:off x="6156360" y="4621320"/>
            <a:ext cx="2987640" cy="22366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82704"/>
                </a:solidFill>
                <a:latin typeface="Verdana"/>
              </a:rPr>
              <a:t>议一议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0" lang="zh-CN" sz="3200" spc="-1" strike="noStrike">
                <a:solidFill>
                  <a:srgbClr val="4c0efa"/>
                </a:solidFill>
                <a:latin typeface="Verdana"/>
              </a:rPr>
              <a:t>党和政府为什么要重视发展教育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576240" y="1413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82704"/>
                </a:solidFill>
                <a:latin typeface="Tahoma"/>
              </a:rPr>
              <a:t>改革发展教育的原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33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ff9933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-64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-64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810108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2406"/>
                </a:solidFill>
                <a:latin typeface="Verdana"/>
              </a:rPr>
              <a:t>三、改革发展教育的措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88560" y="1341360"/>
            <a:ext cx="8047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2406"/>
                </a:solidFill>
                <a:latin typeface="Verdana"/>
              </a:rPr>
              <a:t>说一说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c0efa"/>
                </a:solidFill>
                <a:latin typeface="Verdana"/>
              </a:rPr>
              <a:t>        </a:t>
            </a:r>
            <a:r>
              <a:rPr b="0" lang="zh-CN" sz="3600" spc="-1" strike="noStrike">
                <a:solidFill>
                  <a:srgbClr val="4c0efa"/>
                </a:solidFill>
                <a:latin typeface="Verdana"/>
              </a:rPr>
              <a:t>党和政府在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c0efa"/>
                </a:solidFill>
                <a:latin typeface="Verdana"/>
              </a:rPr>
              <a:t> </a:t>
            </a:r>
            <a:r>
              <a:rPr b="0" lang="zh-CN" sz="3600" spc="-1" strike="noStrike">
                <a:solidFill>
                  <a:srgbClr val="4c0efa"/>
                </a:solidFill>
                <a:latin typeface="Verdana"/>
              </a:rPr>
              <a:t>革发展教育中采取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c0efa"/>
                </a:solidFill>
                <a:latin typeface="Verdana"/>
              </a:rPr>
              <a:t>了哪些措施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女"/>
          <p:cNvPicPr/>
          <p:nvPr/>
        </p:nvPicPr>
        <p:blipFill>
          <a:blip r:embed="rId1"/>
          <a:stretch/>
        </p:blipFill>
        <p:spPr>
          <a:xfrm>
            <a:off x="5738760" y="1773360"/>
            <a:ext cx="25052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-64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-64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-64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-64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-64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-64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05"/>
          <p:cNvPicPr/>
          <p:nvPr/>
        </p:nvPicPr>
        <p:blipFill>
          <a:blip r:embed="rId1"/>
          <a:stretch/>
        </p:blipFill>
        <p:spPr>
          <a:xfrm>
            <a:off x="830160" y="770040"/>
            <a:ext cx="2217960" cy="7538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3524400" y="14479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科教兴国的奠基工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2432160" y="1981080"/>
            <a:ext cx="467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8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，颁布实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华人民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国义务教育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Object 5" descr=""/>
          <p:cNvPicPr/>
          <p:nvPr/>
        </p:nvPicPr>
        <p:blipFill>
          <a:blip r:embed="rId2"/>
          <a:stretch/>
        </p:blipFill>
        <p:spPr>
          <a:xfrm>
            <a:off x="898560" y="2971800"/>
            <a:ext cx="4419720" cy="32544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6"/>
          <p:cNvSpPr/>
          <p:nvPr/>
        </p:nvSpPr>
        <p:spPr>
          <a:xfrm>
            <a:off x="5321160" y="4376880"/>
            <a:ext cx="54612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3c052"/>
                </a:solidFill>
                <a:latin typeface="Times New Roman"/>
                <a:ea typeface="楷体_GB2312"/>
              </a:rPr>
              <a:t>义务教育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6078600" y="3381480"/>
            <a:ext cx="222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国教育事业逐步走上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法制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轨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SDC104072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672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"/>
          <p:cNvSpPr/>
          <p:nvPr/>
        </p:nvSpPr>
        <p:spPr>
          <a:xfrm>
            <a:off x="4408200" y="804960"/>
            <a:ext cx="295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增加投入：国家增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了义务教育的经费投入，并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励社会力量捐资办学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-64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-64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08:58:3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2:25Z</dcterms:modified>
  <cp:revision>37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