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3.png" ContentType="image/png"/>
  <Override PartName="/ppt/media/image56.jpeg" ContentType="image/jpeg"/>
  <Override PartName="/ppt/media/image51.png" ContentType="image/png"/>
  <Override PartName="/ppt/media/image47.jpeg" ContentType="image/jpeg"/>
  <Override PartName="/ppt/media/image25.wmf" ContentType="image/x-wmf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5.gif" ContentType="image/gif"/>
  <Override PartName="/ppt/media/image57.jpeg" ContentType="image/jpeg"/>
  <Override PartName="/ppt/media/image43.png" ContentType="image/png"/>
  <Override PartName="/ppt/media/image54.png" ContentType="image/png"/>
  <Override PartName="/ppt/media/image41.jpeg" ContentType="image/jpeg"/>
  <Override PartName="/ppt/media/camera.wav" ContentType="audio/x-wav"/>
  <Override PartName="/ppt/media/image42.jpeg" ContentType="image/jpeg"/>
  <Override PartName="/ppt/media/image59.jpeg" ContentType="image/jpeg"/>
  <Override PartName="/ppt/media/image37.jpeg" ContentType="image/jpeg"/>
  <Override PartName="/ppt/media/image20.png" ContentType="image/png"/>
  <Override PartName="/ppt/media/image33.jpeg" ContentType="image/jpeg"/>
  <Override PartName="/ppt/media/image32.jpeg" ContentType="image/jpeg"/>
  <Override PartName="/ppt/media/image78.gif" ContentType="image/gif"/>
  <Override PartName="/ppt/media/image31.jpeg" ContentType="image/jpeg"/>
  <Override PartName="/ppt/media/image30.jpeg" ContentType="image/jpeg"/>
  <Override PartName="/ppt/media/image29.png" ContentType="image/png"/>
  <Override PartName="/ppt/media/image63.jpeg" ContentType="image/jpeg"/>
  <Override PartName="/ppt/media/image94.png" ContentType="image/png"/>
  <Override PartName="/ppt/media/image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71.png" ContentType="image/png"/>
  <Override PartName="/ppt/media/image52.png" ContentType="image/png"/>
  <Override PartName="/ppt/media/image50.jpeg" ContentType="image/jpeg"/>
  <Override PartName="/ppt/media/image61.jpeg" ContentType="image/jpeg"/>
  <Override PartName="/ppt/media/image87.png" ContentType="image/png"/>
  <Override PartName="/ppt/media/image5.jpeg" ContentType="image/jpeg"/>
  <Override PartName="/ppt/media/image65.jpeg" ContentType="image/jpeg"/>
  <Override PartName="/ppt/media/image67.jpeg" ContentType="image/jpeg"/>
  <Override PartName="/ppt/media/image69.jpeg" ContentType="image/jpeg"/>
  <Override PartName="/ppt/media/image89.png" ContentType="image/png"/>
  <Override PartName="/ppt/media/image70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96.png" ContentType="image/png"/>
  <Override PartName="/ppt/media/image58.jpeg" ContentType="image/jpeg"/>
  <Override PartName="/ppt/media/image64.jpeg" ContentType="image/jpeg"/>
  <Override PartName="/ppt/media/image91.jpeg" ContentType="image/jpeg"/>
  <Override PartName="/ppt/media/image93.png" ContentType="image/png"/>
  <Override PartName="/ppt/media/image92.png" ContentType="image/png"/>
  <Override PartName="/ppt/media/image80.jpeg" ContentType="image/jpeg"/>
  <Override PartName="/ppt/media/image90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84.wmf" ContentType="image/x-wmf"/>
  <Override PartName="/ppt/media/image13.jpeg" ContentType="image/jpeg"/>
  <Override PartName="/ppt/media/image40.jpeg" ContentType="image/jpeg"/>
  <Override PartName="/ppt/media/image49.jpeg" ContentType="image/jpeg"/>
  <Override PartName="/ppt/media/image60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95.png" ContentType="image/png"/>
  <Override PartName="/ppt/media/image83.jpeg" ContentType="image/jpeg"/>
  <Override PartName="/ppt/media/image75.png" ContentType="image/png"/>
  <Override PartName="/ppt/media/image66.jpeg" ContentType="image/jpeg"/>
  <Override PartName="/ppt/media/image76.png" ContentType="image/png"/>
  <Override PartName="/ppt/media/image22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72.jpeg" ContentType="image/jpeg"/>
  <Override PartName="/ppt/media/image21.png" ContentType="image/png"/>
  <Override PartName="/ppt/media/image1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image17.jpeg" ContentType="image/jpeg"/>
  <Override PartName="/ppt/media/image3.png" ContentType="image/png"/>
  <Override PartName="/ppt/media/image88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23.png" ContentType="image/png"/>
  <Override PartName="/ppt/media/image39.jpeg" ContentType="image/jpeg"/>
  <Override PartName="/ppt/media/image98.jpeg" ContentType="image/jpeg"/>
  <Override PartName="/ppt/media/image82.png" ContentType="image/pn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0E0-E473-4FAF-836B-C5A4BCFC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39A-C8AC-412E-92FA-72FA2631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40EA-919A-4810-BB89-A23DCF0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F1163-FF07-4F8B-B57E-07A6AEEC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CD0A3-E989-4387-86BF-910D023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C5746-39DF-4FAC-A61A-D3E6B89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2CB5A-0614-4969-97FE-EBEADB6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9BF68-D69C-42D7-9D0A-ABACDD3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9CF4F-940D-4DB9-BD39-47D4E72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F2BE-C2F9-4667-A5E1-CF588EB5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379E6-C90E-422B-B824-793B790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CA923-C695-4723-BC02-3FDB42C1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EDE-AF20-4F46-8BE6-B755FE6C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D157B-ADDD-48D4-BCC7-F25650D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F2330-F0B4-4F03-AF70-9D25F23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79B6A-57E0-4904-8F67-61DA391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E3938-7BF7-48D1-A6A7-D33686E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F90F9-9814-4F8F-8526-91D51B5F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07DD5-3497-47B2-A8FC-90EDA92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5E6D-C24C-429D-8DD9-95F4559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11F5-25DC-4268-85EB-789E3AF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7BD14-C682-4565-9781-BC74C4A2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84F6F-B312-484E-AD86-AF6077A9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607-B76F-44AC-B600-4DE56682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6A7DA-40DE-4564-A9E2-4A085010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BFAAE-A10A-4768-AE91-EDD8B926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C52C4-584C-4877-915E-93FD02B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9099-B16E-4C85-BD07-2A203C9C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C416-D0D4-48E6-A43E-67904B2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D522-4E53-4DD8-935C-739BF71C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A1FA-5010-4C05-AEAB-023FE00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FA98F-FCF3-493F-A739-C87E8A1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5DA1-EBFF-49A9-8340-66F1146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6018A-79D4-4C9C-B955-9A7F240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FA3C-C9F0-4C6A-B928-CC44477E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13A67-6D67-4D16-A9D5-C3444F2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180F5-D0A8-4FB1-A576-D8477B4D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ADF0B-5D0C-4553-87D6-639491A9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D6EE-128E-4835-BE6C-372B6F8B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A40-2BD0-49A1-9E60-89E4CB7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C29-8EC2-4FEE-9496-4C63FDC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D7C2-AF79-481D-8E57-76E4056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D22D-2792-44F3-8244-C6BC4FDB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E3D-F6CD-495E-8B1C-534D98E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545-B073-43A8-B632-D076D33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7BE-8A8C-40D9-AF48-A13D739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EED5-82DE-40F9-9230-EDDE5EF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081F-A30F-4FC4-8FBE-F62CAFD5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5363-CA41-4631-A766-5CE471E4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CBDE-2D93-4413-A1D5-2DCE2212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D9A3-2374-4656-94B3-D0E97EC9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C1EF-7F28-423B-8694-A161D8F9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40FA-A354-4C15-AD80-C709C1A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22BD-9F71-4751-8FEC-88E8187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107A-2059-4C6B-B529-BA823190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41F-3FD4-4171-8750-63F75DC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D79F-438C-4E1B-B3CD-5861B154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6FCA-A002-4514-B58B-520A39F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E6F7-07F0-41CC-9E39-4B9AADD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6745-CF05-4441-9E33-2A22C2D3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3A79-09E1-49D9-8720-33C7DBD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1B48-E427-426B-91FE-17E4DE87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6E83-BA1D-4A02-891D-289B2E7F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16FF-CCF6-4551-ADC7-7C9C1107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6FF2-13F1-46E4-A958-17CD120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F122-CAD8-43FE-87C9-8DC89FE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832-EEED-494F-94E8-8DA192CC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A2F0-024B-4267-9230-FBEAFE52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5FCA-485A-4266-9B88-FE1DFF35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2BA5-0A7F-4948-BB9A-6F48BCD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18E2-41D7-4772-8A87-3D2509B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4FE7-ADFF-4EEB-A364-A88C713D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0AD8-8F7F-44BD-8110-6893C63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C1E0-D992-430C-B4EB-6AD2AD2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21CD-2262-490B-8BF0-0A170228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F6C6-3AF0-4D88-A715-DD10E2EB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C816-6DD5-4B31-893B-79B77C5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CDD-8D60-449A-9741-E11D15C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F0AFE-3040-4673-A835-14B36B6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C9A7-9755-4095-9A8E-649016C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B92E-1B2B-4397-8B7D-FFC4C792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CC2F3-3D6A-4EEB-A42D-68E2EF3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C9F9-66D3-4376-80DA-978BA07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15CC-B249-43D2-B945-0F33DC0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9ABE-FDC2-44A8-BFBD-69D6B6B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C140-E26B-4C45-9DB6-97F017B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78A6-6C96-4B30-8EF1-C4DDAF6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1504-D257-463A-B99F-43D86EC3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7A9-ADB9-42E2-947E-26D111D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B2DC-F10A-4D76-B748-FB4435CE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5280-A572-4F67-97F4-2F8AE5F4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4FC6-6720-4ECA-A308-A810E4D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B1F8-BDE9-4B89-A190-83D1BED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FAC0-9047-42F5-B9E7-3E26743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BFD2-8D77-46DE-A916-C9D24CF5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BC86-0F93-4B8A-ACFB-83A09E6F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51309-03CD-4DCF-A728-F5C5B65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DCCF-49B7-40E3-8727-BC441E4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24AD-E5E9-4680-A3C1-EE350157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53B-BBEA-4AE0-A6AB-CDAD399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DB73-6085-4C7F-B0A2-8D3A1E81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9E86-9982-4840-88A3-4228D6B4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33E1-0D7E-42B0-9677-3457F7C2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5436-7EB2-409C-AD56-06750EC7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30FD-0562-4CCF-8FA9-B34FB0B2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AF632-C94C-4823-9713-0836761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445B6-CB89-47D8-A0A3-0C34664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8482-FDC6-4C60-81BA-17E542AF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C9F3-E8D1-4C30-8747-350F9FF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25D3-5BC5-4D07-A5E0-7F22B89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6DC-3D3F-4F3F-84D5-7781595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1AA6-2AD3-4EF4-B4C1-D1B2213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C95C-F2FF-40B9-A7D3-47571B7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5854E-0228-4084-8233-99F91D9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8D3EF-3859-4A82-8700-1F947EBE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1FAB-78D1-4EAA-9C27-4AE293D9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4FEFE-7491-44C1-8C93-3967F163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FCB05-3EA9-4F7C-A957-2008225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9841F-300E-4F58-84BA-B89AB243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BA2F-1FDD-4CC9-AD02-AF28560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F0A69-4562-4E8B-847D-B3DAB6C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228-4642-4C66-9443-BA853E7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6E2F-A6E6-49F6-AAD2-AC7A4F1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E4C2-D70F-434D-8146-DAFD84F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12D4-34EC-4612-9494-5DE5E83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321C-F107-4A13-A197-386CDCB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C1447-79B1-4B64-8D4D-C1057D3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90809-57D2-4646-A552-4B9CCB32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2A7E-5E86-445F-BAC8-A4947CF9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EEBA8-FB83-4BE9-BBFF-D6D6DB73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9F687-C064-4AC7-84FE-54E2D20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256D4-8F04-4856-B823-2D0E1999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78B0-A385-40E2-AEFE-F8BD1E7A40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未知"/>
          <p:cNvSpPr/>
          <p:nvPr/>
        </p:nvSpPr>
        <p:spPr>
          <a:xfrm>
            <a:off x="0" y="5881680"/>
            <a:ext cx="2916360" cy="977760"/>
          </a:xfrm>
          <a:custGeom>
            <a:avLst/>
            <a:gdLst/>
            <a:ahLst/>
            <a:rect l="l" t="t" r="r" b="b"/>
            <a:pathLst>
              <a:path w="1838" h="618">
                <a:moveTo>
                  <a:pt x="0" y="74"/>
                </a:moveTo>
                <a:cubicBezTo>
                  <a:pt x="879" y="269"/>
                  <a:pt x="1589" y="0"/>
                  <a:pt x="1589" y="0"/>
                </a:cubicBezTo>
                <a:cubicBezTo>
                  <a:pt x="1652" y="335"/>
                  <a:pt x="1838" y="618"/>
                  <a:pt x="1838" y="618"/>
                </a:cubicBezTo>
                <a:lnTo>
                  <a:pt x="0" y="618"/>
                </a:lnTo>
                <a:cubicBezTo>
                  <a:pt x="0" y="618"/>
                  <a:pt x="0" y="346"/>
                  <a:pt x="0" y="74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8" name="未知"/>
          <p:cNvSpPr/>
          <p:nvPr/>
        </p:nvSpPr>
        <p:spPr>
          <a:xfrm>
            <a:off x="2558880" y="4684680"/>
            <a:ext cx="6596280" cy="2239920"/>
          </a:xfrm>
          <a:custGeom>
            <a:avLst/>
            <a:gdLst/>
            <a:ahLst/>
            <a:rect l="l" t="t" r="r" b="b"/>
            <a:pathLst>
              <a:path w="4171" h="1416">
                <a:moveTo>
                  <a:pt x="1114" y="0"/>
                </a:moveTo>
                <a:cubicBezTo>
                  <a:pt x="1114" y="0"/>
                  <a:pt x="557" y="377"/>
                  <a:pt x="0" y="754"/>
                </a:cubicBezTo>
                <a:cubicBezTo>
                  <a:pt x="180" y="1190"/>
                  <a:pt x="406" y="1375"/>
                  <a:pt x="406" y="1375"/>
                </a:cubicBezTo>
                <a:cubicBezTo>
                  <a:pt x="2288" y="1375"/>
                  <a:pt x="4171" y="1375"/>
                  <a:pt x="4171" y="1375"/>
                </a:cubicBezTo>
                <a:lnTo>
                  <a:pt x="4171" y="468"/>
                </a:lnTo>
                <a:cubicBezTo>
                  <a:pt x="4171" y="468"/>
                  <a:pt x="2546" y="1416"/>
                  <a:pt x="1114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9" name="未知"/>
          <p:cNvSpPr/>
          <p:nvPr/>
        </p:nvSpPr>
        <p:spPr>
          <a:xfrm>
            <a:off x="4356000" y="641520"/>
            <a:ext cx="4788000" cy="5997240"/>
          </a:xfrm>
          <a:custGeom>
            <a:avLst/>
            <a:gdLst/>
            <a:ahLst/>
            <a:rect l="l" t="t" r="r" b="b"/>
            <a:pathLst>
              <a:path w="3016" h="3791">
                <a:moveTo>
                  <a:pt x="548" y="1300"/>
                </a:moveTo>
                <a:cubicBezTo>
                  <a:pt x="274" y="1912"/>
                  <a:pt x="0" y="2525"/>
                  <a:pt x="0" y="2525"/>
                </a:cubicBezTo>
                <a:cubicBezTo>
                  <a:pt x="1458" y="3791"/>
                  <a:pt x="3016" y="2752"/>
                  <a:pt x="3016" y="2752"/>
                </a:cubicBezTo>
                <a:cubicBezTo>
                  <a:pt x="3016" y="2752"/>
                  <a:pt x="3016" y="1708"/>
                  <a:pt x="3016" y="665"/>
                </a:cubicBezTo>
                <a:cubicBezTo>
                  <a:pt x="2528" y="170"/>
                  <a:pt x="1944" y="0"/>
                  <a:pt x="1944" y="0"/>
                </a:cubicBezTo>
                <a:cubicBezTo>
                  <a:pt x="1944" y="0"/>
                  <a:pt x="1639" y="839"/>
                  <a:pt x="548" y="13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0" name="未知"/>
          <p:cNvSpPr/>
          <p:nvPr/>
        </p:nvSpPr>
        <p:spPr>
          <a:xfrm>
            <a:off x="4719600" y="1440"/>
            <a:ext cx="2508120" cy="2602080"/>
          </a:xfrm>
          <a:custGeom>
            <a:avLst/>
            <a:gdLst/>
            <a:ahLst/>
            <a:rect l="l" t="t" r="r" b="b"/>
            <a:pathLst>
              <a:path w="1569" h="1645">
                <a:moveTo>
                  <a:pt x="0" y="0"/>
                </a:moveTo>
                <a:lnTo>
                  <a:pt x="335" y="1645"/>
                </a:lnTo>
                <a:cubicBezTo>
                  <a:pt x="335" y="1645"/>
                  <a:pt x="1394" y="1086"/>
                  <a:pt x="1569" y="0"/>
                </a:cubicBezTo>
                <a:cubicBezTo>
                  <a:pt x="784" y="0"/>
                  <a:pt x="0" y="0"/>
                  <a:pt x="0" y="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1" name="未知"/>
          <p:cNvSpPr/>
          <p:nvPr/>
        </p:nvSpPr>
        <p:spPr>
          <a:xfrm>
            <a:off x="0" y="5889600"/>
            <a:ext cx="2935440" cy="977760"/>
          </a:xfrm>
          <a:custGeom>
            <a:avLst/>
            <a:gdLst/>
            <a:ahLst/>
            <a:rect l="l" t="t" r="r" b="b"/>
            <a:pathLst>
              <a:path w="1838" h="618">
                <a:moveTo>
                  <a:pt x="0" y="74"/>
                </a:moveTo>
                <a:cubicBezTo>
                  <a:pt x="879" y="269"/>
                  <a:pt x="1589" y="0"/>
                  <a:pt x="1589" y="0"/>
                </a:cubicBezTo>
                <a:cubicBezTo>
                  <a:pt x="1652" y="335"/>
                  <a:pt x="1838" y="618"/>
                  <a:pt x="1838" y="618"/>
                </a:cubicBezTo>
                <a:lnTo>
                  <a:pt x="0" y="618"/>
                </a:lnTo>
                <a:cubicBezTo>
                  <a:pt x="0" y="618"/>
                  <a:pt x="0" y="346"/>
                  <a:pt x="0" y="74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2541600" y="4673520"/>
            <a:ext cx="6595920" cy="2239920"/>
          </a:xfrm>
          <a:custGeom>
            <a:avLst/>
            <a:gdLst/>
            <a:ahLst/>
            <a:rect l="l" t="t" r="r" b="b"/>
            <a:pathLst>
              <a:path w="4171" h="1416">
                <a:moveTo>
                  <a:pt x="1114" y="0"/>
                </a:moveTo>
                <a:cubicBezTo>
                  <a:pt x="1114" y="0"/>
                  <a:pt x="557" y="377"/>
                  <a:pt x="0" y="754"/>
                </a:cubicBezTo>
                <a:cubicBezTo>
                  <a:pt x="180" y="1190"/>
                  <a:pt x="406" y="1375"/>
                  <a:pt x="406" y="1375"/>
                </a:cubicBezTo>
                <a:cubicBezTo>
                  <a:pt x="2288" y="1375"/>
                  <a:pt x="4171" y="1375"/>
                  <a:pt x="4171" y="1375"/>
                </a:cubicBezTo>
                <a:lnTo>
                  <a:pt x="4171" y="468"/>
                </a:lnTo>
                <a:cubicBezTo>
                  <a:pt x="4171" y="468"/>
                  <a:pt x="2546" y="1416"/>
                  <a:pt x="1114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3" name="未知"/>
          <p:cNvSpPr/>
          <p:nvPr/>
        </p:nvSpPr>
        <p:spPr>
          <a:xfrm>
            <a:off x="4348080" y="628560"/>
            <a:ext cx="4788000" cy="6008760"/>
          </a:xfrm>
          <a:custGeom>
            <a:avLst/>
            <a:gdLst/>
            <a:ahLst/>
            <a:rect l="l" t="t" r="r" b="b"/>
            <a:pathLst>
              <a:path w="3016" h="3791">
                <a:moveTo>
                  <a:pt x="548" y="1300"/>
                </a:moveTo>
                <a:cubicBezTo>
                  <a:pt x="274" y="1912"/>
                  <a:pt x="0" y="2525"/>
                  <a:pt x="0" y="2525"/>
                </a:cubicBezTo>
                <a:cubicBezTo>
                  <a:pt x="1458" y="3791"/>
                  <a:pt x="3016" y="2752"/>
                  <a:pt x="3016" y="2752"/>
                </a:cubicBezTo>
                <a:cubicBezTo>
                  <a:pt x="3016" y="2752"/>
                  <a:pt x="3016" y="1708"/>
                  <a:pt x="3016" y="665"/>
                </a:cubicBezTo>
                <a:cubicBezTo>
                  <a:pt x="2528" y="170"/>
                  <a:pt x="1944" y="0"/>
                  <a:pt x="1944" y="0"/>
                </a:cubicBezTo>
                <a:cubicBezTo>
                  <a:pt x="1944" y="0"/>
                  <a:pt x="1639" y="839"/>
                  <a:pt x="548" y="130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694400" y="0"/>
            <a:ext cx="2543040" cy="2630520"/>
          </a:xfrm>
          <a:custGeom>
            <a:avLst/>
            <a:gdLst/>
            <a:ahLst/>
            <a:rect l="l" t="t" r="r" b="b"/>
            <a:pathLst>
              <a:path w="1569" h="1645">
                <a:moveTo>
                  <a:pt x="0" y="0"/>
                </a:moveTo>
                <a:lnTo>
                  <a:pt x="335" y="1645"/>
                </a:lnTo>
                <a:cubicBezTo>
                  <a:pt x="335" y="1645"/>
                  <a:pt x="1394" y="1086"/>
                  <a:pt x="1569" y="0"/>
                </a:cubicBezTo>
                <a:cubicBezTo>
                  <a:pt x="784" y="0"/>
                  <a:pt x="0" y="0"/>
                  <a:pt x="0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0" y="1440"/>
            <a:ext cx="5854680" cy="6794640"/>
          </a:xfrm>
          <a:custGeom>
            <a:avLst/>
            <a:gdLst/>
            <a:ahLst/>
            <a:rect l="l" t="t" r="r" b="b"/>
            <a:pathLst>
              <a:path w="3690" h="4280">
                <a:moveTo>
                  <a:pt x="0" y="3810"/>
                </a:moveTo>
                <a:lnTo>
                  <a:pt x="0" y="1"/>
                </a:lnTo>
                <a:lnTo>
                  <a:pt x="2974" y="0"/>
                </a:lnTo>
                <a:cubicBezTo>
                  <a:pt x="3284" y="452"/>
                  <a:pt x="3690" y="1776"/>
                  <a:pt x="2768" y="2926"/>
                </a:cubicBezTo>
                <a:cubicBezTo>
                  <a:pt x="1610" y="4280"/>
                  <a:pt x="0" y="3810"/>
                  <a:pt x="0" y="38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0" y="1440"/>
            <a:ext cx="5940360" cy="6437520"/>
          </a:xfrm>
          <a:custGeom>
            <a:avLst/>
            <a:gdLst/>
            <a:ahLst/>
            <a:rect l="l" t="t" r="r" b="b"/>
            <a:pathLst>
              <a:path w="3635" h="4115">
                <a:moveTo>
                  <a:pt x="0" y="3765"/>
                </a:moveTo>
                <a:lnTo>
                  <a:pt x="0" y="0"/>
                </a:lnTo>
                <a:lnTo>
                  <a:pt x="2767" y="0"/>
                </a:lnTo>
                <a:cubicBezTo>
                  <a:pt x="2767" y="0"/>
                  <a:pt x="3635" y="1445"/>
                  <a:pt x="2567" y="2858"/>
                </a:cubicBezTo>
                <a:cubicBezTo>
                  <a:pt x="1523" y="4115"/>
                  <a:pt x="0" y="3765"/>
                  <a:pt x="0" y="3765"/>
                </a:cubicBezTo>
                <a:close/>
              </a:path>
            </a:pathLst>
          </a:custGeom>
          <a:gradFill rotWithShape="0">
            <a:gsLst>
              <a:gs pos="0">
                <a:srgbClr val="fffde9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437" name="Group 12"/>
          <p:cNvGrpSpPr/>
          <p:nvPr/>
        </p:nvGrpSpPr>
        <p:grpSpPr>
          <a:xfrm>
            <a:off x="250920" y="9360"/>
            <a:ext cx="4177080" cy="5908680"/>
            <a:chOff x="250920" y="9360"/>
            <a:chExt cx="4177080" cy="5908680"/>
          </a:xfrm>
        </p:grpSpPr>
        <p:grpSp>
          <p:nvGrpSpPr>
            <p:cNvPr id="438" name=""/>
            <p:cNvGrpSpPr/>
            <p:nvPr/>
          </p:nvGrpSpPr>
          <p:grpSpPr>
            <a:xfrm>
              <a:off x="250920" y="9360"/>
              <a:ext cx="360" cy="5905440"/>
              <a:chOff x="250920" y="9360"/>
              <a:chExt cx="360" cy="5905440"/>
            </a:xfrm>
          </p:grpSpPr>
          <p:sp>
            <p:nvSpPr>
              <p:cNvPr id="439" name="Line 13"/>
              <p:cNvSpPr/>
              <p:nvPr/>
            </p:nvSpPr>
            <p:spPr>
              <a:xfrm>
                <a:off x="250920" y="9360"/>
                <a:ext cx="0" cy="590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250920" y="9360"/>
                <a:ext cx="360" cy="590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293840" y="9360"/>
              <a:ext cx="360" cy="5908680"/>
              <a:chOff x="1293840" y="9360"/>
              <a:chExt cx="360" cy="5908680"/>
            </a:xfrm>
          </p:grpSpPr>
          <p:sp>
            <p:nvSpPr>
              <p:cNvPr id="442" name="Line 14"/>
              <p:cNvSpPr/>
              <p:nvPr/>
            </p:nvSpPr>
            <p:spPr>
              <a:xfrm>
                <a:off x="1293840" y="9360"/>
                <a:ext cx="0" cy="590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1293840" y="9360"/>
                <a:ext cx="360" cy="590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338560" y="9360"/>
              <a:ext cx="360" cy="5692680"/>
              <a:chOff x="2338560" y="9360"/>
              <a:chExt cx="360" cy="5692680"/>
            </a:xfrm>
          </p:grpSpPr>
          <p:sp>
            <p:nvSpPr>
              <p:cNvPr id="445" name="Line 15"/>
              <p:cNvSpPr/>
              <p:nvPr/>
            </p:nvSpPr>
            <p:spPr>
              <a:xfrm>
                <a:off x="2338560" y="9360"/>
                <a:ext cx="0" cy="5692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2338560" y="9360"/>
                <a:ext cx="360" cy="569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82920" y="9360"/>
              <a:ext cx="360" cy="5165640"/>
              <a:chOff x="3382920" y="9360"/>
              <a:chExt cx="360" cy="5165640"/>
            </a:xfrm>
          </p:grpSpPr>
          <p:sp>
            <p:nvSpPr>
              <p:cNvPr id="448" name="Line 16"/>
              <p:cNvSpPr/>
              <p:nvPr/>
            </p:nvSpPr>
            <p:spPr>
              <a:xfrm>
                <a:off x="3382920" y="9360"/>
                <a:ext cx="0" cy="516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3382920" y="9360"/>
                <a:ext cx="360" cy="516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427640" y="9360"/>
              <a:ext cx="360" cy="4110120"/>
              <a:chOff x="4427640" y="9360"/>
              <a:chExt cx="360" cy="4110120"/>
            </a:xfrm>
          </p:grpSpPr>
          <p:sp>
            <p:nvSpPr>
              <p:cNvPr id="451" name="Line 17"/>
              <p:cNvSpPr/>
              <p:nvPr/>
            </p:nvSpPr>
            <p:spPr>
              <a:xfrm>
                <a:off x="4427640" y="9360"/>
                <a:ext cx="0" cy="411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4427640" y="9360"/>
                <a:ext cx="360" cy="411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18"/>
          <p:cNvGrpSpPr/>
          <p:nvPr/>
        </p:nvGrpSpPr>
        <p:grpSpPr>
          <a:xfrm>
            <a:off x="6120" y="260280"/>
            <a:ext cx="5041800" cy="5329440"/>
            <a:chOff x="6120" y="260280"/>
            <a:chExt cx="5041800" cy="5329440"/>
          </a:xfrm>
        </p:grpSpPr>
        <p:grpSp>
          <p:nvGrpSpPr>
            <p:cNvPr id="454" name=""/>
            <p:cNvGrpSpPr/>
            <p:nvPr/>
          </p:nvGrpSpPr>
          <p:grpSpPr>
            <a:xfrm>
              <a:off x="6480" y="260280"/>
              <a:ext cx="4641840" cy="360"/>
              <a:chOff x="6480" y="260280"/>
              <a:chExt cx="4641840" cy="360"/>
            </a:xfrm>
          </p:grpSpPr>
          <p:sp>
            <p:nvSpPr>
              <p:cNvPr id="455" name="Line 19"/>
              <p:cNvSpPr/>
              <p:nvPr/>
            </p:nvSpPr>
            <p:spPr>
              <a:xfrm flipH="1">
                <a:off x="6480" y="260280"/>
                <a:ext cx="4641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 rot="5400000">
                <a:off x="2327040" y="-2060280"/>
                <a:ext cx="360" cy="464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120" y="1326960"/>
              <a:ext cx="4987800" cy="360"/>
              <a:chOff x="6120" y="1326960"/>
              <a:chExt cx="4987800" cy="360"/>
            </a:xfrm>
          </p:grpSpPr>
          <p:sp>
            <p:nvSpPr>
              <p:cNvPr id="458" name="Line 20"/>
              <p:cNvSpPr/>
              <p:nvPr/>
            </p:nvSpPr>
            <p:spPr>
              <a:xfrm flipH="1">
                <a:off x="6120" y="1326960"/>
                <a:ext cx="4987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 rot="5400000">
                <a:off x="2499840" y="-1166760"/>
                <a:ext cx="360" cy="498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120" y="2394000"/>
              <a:ext cx="5041800" cy="360"/>
              <a:chOff x="6120" y="2394000"/>
              <a:chExt cx="5041800" cy="360"/>
            </a:xfrm>
          </p:grpSpPr>
          <p:sp>
            <p:nvSpPr>
              <p:cNvPr id="461" name="Line 21"/>
              <p:cNvSpPr/>
              <p:nvPr/>
            </p:nvSpPr>
            <p:spPr>
              <a:xfrm flipH="1">
                <a:off x="6120" y="2394000"/>
                <a:ext cx="5041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 rot="5400000">
                <a:off x="2526840" y="-126720"/>
                <a:ext cx="360" cy="504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80" y="3462120"/>
              <a:ext cx="4775040" cy="360"/>
              <a:chOff x="6480" y="3462120"/>
              <a:chExt cx="4775040" cy="360"/>
            </a:xfrm>
          </p:grpSpPr>
          <p:sp>
            <p:nvSpPr>
              <p:cNvPr id="464" name="Line 22"/>
              <p:cNvSpPr/>
              <p:nvPr/>
            </p:nvSpPr>
            <p:spPr>
              <a:xfrm flipH="1">
                <a:off x="6480" y="3462120"/>
                <a:ext cx="4775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 rot="5400000">
                <a:off x="2393640" y="1074600"/>
                <a:ext cx="360" cy="477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120" y="4521240"/>
              <a:ext cx="4132440" cy="360"/>
              <a:chOff x="6120" y="4521240"/>
              <a:chExt cx="4132440" cy="360"/>
            </a:xfrm>
          </p:grpSpPr>
          <p:sp>
            <p:nvSpPr>
              <p:cNvPr id="467" name="Line 23"/>
              <p:cNvSpPr/>
              <p:nvPr/>
            </p:nvSpPr>
            <p:spPr>
              <a:xfrm flipH="1">
                <a:off x="6120" y="4521240"/>
                <a:ext cx="4132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 rot="5400000">
                <a:off x="2072160" y="2454840"/>
                <a:ext cx="360" cy="41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120" y="5589360"/>
              <a:ext cx="2646360" cy="360"/>
              <a:chOff x="6120" y="5589360"/>
              <a:chExt cx="2646360" cy="360"/>
            </a:xfrm>
          </p:grpSpPr>
          <p:sp>
            <p:nvSpPr>
              <p:cNvPr id="470" name="Line 24"/>
              <p:cNvSpPr/>
              <p:nvPr/>
            </p:nvSpPr>
            <p:spPr>
              <a:xfrm flipH="1">
                <a:off x="6120" y="5589360"/>
                <a:ext cx="264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 rot="5400000">
                <a:off x="1329120" y="4266360"/>
                <a:ext cx="360" cy="264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Rectangle 25"/>
          <p:cNvSpPr/>
          <p:nvPr/>
        </p:nvSpPr>
        <p:spPr>
          <a:xfrm>
            <a:off x="2368440" y="289080"/>
            <a:ext cx="1013040" cy="1025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3" name="Rectangle 26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Rectangle 27"/>
          <p:cNvSpPr/>
          <p:nvPr/>
        </p:nvSpPr>
        <p:spPr>
          <a:xfrm>
            <a:off x="0" y="279360"/>
            <a:ext cx="250920" cy="102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5" name="Rectangle 28"/>
          <p:cNvSpPr/>
          <p:nvPr/>
        </p:nvSpPr>
        <p:spPr>
          <a:xfrm>
            <a:off x="1332000" y="936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6" name="未知"/>
          <p:cNvSpPr/>
          <p:nvPr/>
        </p:nvSpPr>
        <p:spPr>
          <a:xfrm>
            <a:off x="4452840" y="1347840"/>
            <a:ext cx="720720" cy="1047600"/>
          </a:xfrm>
          <a:custGeom>
            <a:avLst/>
            <a:gdLst/>
            <a:ahLst/>
            <a:rect l="l" t="t" r="r" b="b"/>
            <a:pathLst>
              <a:path w="454" h="680">
                <a:moveTo>
                  <a:pt x="363" y="0"/>
                </a:moveTo>
                <a:lnTo>
                  <a:pt x="0" y="0"/>
                </a:lnTo>
                <a:lnTo>
                  <a:pt x="0" y="680"/>
                </a:lnTo>
                <a:lnTo>
                  <a:pt x="409" y="680"/>
                </a:lnTo>
                <a:lnTo>
                  <a:pt x="454" y="317"/>
                </a:lnTo>
                <a:lnTo>
                  <a:pt x="36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未知"/>
          <p:cNvSpPr/>
          <p:nvPr/>
        </p:nvSpPr>
        <p:spPr>
          <a:xfrm>
            <a:off x="2365200" y="4549680"/>
            <a:ext cx="1003320" cy="1024200"/>
          </a:xfrm>
          <a:custGeom>
            <a:avLst/>
            <a:gdLst/>
            <a:ahLst/>
            <a:rect l="l" t="t" r="r" b="b"/>
            <a:pathLst>
              <a:path w="680" h="681">
                <a:moveTo>
                  <a:pt x="635" y="0"/>
                </a:moveTo>
                <a:lnTo>
                  <a:pt x="0" y="0"/>
                </a:lnTo>
                <a:lnTo>
                  <a:pt x="0" y="681"/>
                </a:lnTo>
                <a:lnTo>
                  <a:pt x="272" y="681"/>
                </a:lnTo>
                <a:lnTo>
                  <a:pt x="680" y="454"/>
                </a:lnTo>
                <a:lnTo>
                  <a:pt x="680" y="0"/>
                </a:lnTo>
                <a:lnTo>
                  <a:pt x="63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7524720" y="0"/>
            <a:ext cx="1620720" cy="1230480"/>
          </a:xfrm>
          <a:custGeom>
            <a:avLst/>
            <a:gdLst/>
            <a:ahLst/>
            <a:rect l="l" t="t" r="r" b="b"/>
            <a:pathLst>
              <a:path w="1009" h="775">
                <a:moveTo>
                  <a:pt x="34" y="0"/>
                </a:moveTo>
                <a:cubicBezTo>
                  <a:pt x="34" y="115"/>
                  <a:pt x="0" y="255"/>
                  <a:pt x="0" y="255"/>
                </a:cubicBezTo>
                <a:cubicBezTo>
                  <a:pt x="489" y="376"/>
                  <a:pt x="1007" y="775"/>
                  <a:pt x="1007" y="775"/>
                </a:cubicBezTo>
                <a:lnTo>
                  <a:pt x="1009" y="0"/>
                </a:lnTo>
                <a:cubicBezTo>
                  <a:pt x="1009" y="0"/>
                  <a:pt x="521" y="0"/>
                  <a:pt x="34" y="0"/>
                </a:cubicBezTo>
                <a:close/>
              </a:path>
            </a:pathLst>
          </a:cu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479" name="Picture 32" descr="water"/>
          <p:cNvPicPr/>
          <p:nvPr/>
        </p:nvPicPr>
        <p:blipFill>
          <a:blip r:embed="rId7"/>
          <a:stretch/>
        </p:blipFill>
        <p:spPr>
          <a:xfrm rot="393000">
            <a:off x="2268000" y="5842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38"/>
          <p:cNvSpPr/>
          <p:nvPr/>
        </p:nvSpPr>
        <p:spPr>
          <a:xfrm>
            <a:off x="20232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63E7-45A6-4E3B-A18D-AD16B0D1DF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049-2B67-4309-916A-820DB779DC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F29-D877-4270-A664-B8BDE6FE2CF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>
            <a:off x="-4680" y="-4680"/>
            <a:ext cx="9151920" cy="6861240"/>
          </a:xfrm>
          <a:custGeom>
            <a:avLst/>
            <a:gdLst/>
            <a:ahLst/>
            <a:rect l="l" t="t" r="r" b="b"/>
            <a:pathLst>
              <a:path w="5768" h="4325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cubicBezTo>
                  <a:pt x="5768" y="4325"/>
                  <a:pt x="3549" y="4325"/>
                  <a:pt x="1331" y="4325"/>
                </a:cubicBezTo>
                <a:cubicBezTo>
                  <a:pt x="499" y="3811"/>
                  <a:pt x="0" y="3109"/>
                  <a:pt x="4" y="311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3" name="Picture 3" descr="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未知"/>
          <p:cNvSpPr/>
          <p:nvPr/>
        </p:nvSpPr>
        <p:spPr>
          <a:xfrm>
            <a:off x="6480" y="5113440"/>
            <a:ext cx="1852560" cy="174600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86" name="Group 6"/>
            <p:cNvGrpSpPr/>
            <p:nvPr/>
          </p:nvGrpSpPr>
          <p:grpSpPr>
            <a:xfrm>
              <a:off x="527040" y="0"/>
              <a:ext cx="8064720" cy="6875640"/>
              <a:chOff x="527040" y="0"/>
              <a:chExt cx="8064720" cy="6875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27040" y="0"/>
                <a:ext cx="360" cy="5572080"/>
                <a:chOff x="527040" y="0"/>
                <a:chExt cx="360" cy="5572080"/>
              </a:xfrm>
            </p:grpSpPr>
            <p:sp>
              <p:nvSpPr>
                <p:cNvPr id="88" name="Line 7"/>
                <p:cNvSpPr/>
                <p:nvPr/>
              </p:nvSpPr>
              <p:spPr>
                <a:xfrm>
                  <a:off x="527040" y="0"/>
                  <a:ext cx="0" cy="557208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527040" y="0"/>
                  <a:ext cx="360" cy="55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677960" y="0"/>
                <a:ext cx="360" cy="6575400"/>
                <a:chOff x="1677960" y="0"/>
                <a:chExt cx="360" cy="6575400"/>
              </a:xfrm>
            </p:grpSpPr>
            <p:sp>
              <p:nvSpPr>
                <p:cNvPr id="91" name="Line 8"/>
                <p:cNvSpPr/>
                <p:nvPr/>
              </p:nvSpPr>
              <p:spPr>
                <a:xfrm>
                  <a:off x="1677960" y="0"/>
                  <a:ext cx="0" cy="657540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 txBox="1"/>
                <p:nvPr/>
              </p:nvSpPr>
              <p:spPr>
                <a:xfrm>
                  <a:off x="1677960" y="0"/>
                  <a:ext cx="360" cy="65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830680" y="0"/>
                <a:ext cx="360" cy="6861240"/>
                <a:chOff x="2830680" y="0"/>
                <a:chExt cx="360" cy="6861240"/>
              </a:xfrm>
            </p:grpSpPr>
            <p:sp>
              <p:nvSpPr>
                <p:cNvPr id="94" name="Line 9"/>
                <p:cNvSpPr/>
                <p:nvPr/>
              </p:nvSpPr>
              <p:spPr>
                <a:xfrm>
                  <a:off x="2830680" y="0"/>
                  <a:ext cx="0" cy="68612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 txBox="1"/>
                <p:nvPr/>
              </p:nvSpPr>
              <p:spPr>
                <a:xfrm>
                  <a:off x="2830680" y="0"/>
                  <a:ext cx="360" cy="68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983040" y="0"/>
                <a:ext cx="360" cy="6875640"/>
                <a:chOff x="3983040" y="0"/>
                <a:chExt cx="360" cy="6875640"/>
              </a:xfrm>
            </p:grpSpPr>
            <p:sp>
              <p:nvSpPr>
                <p:cNvPr id="97" name="Line 10"/>
                <p:cNvSpPr/>
                <p:nvPr/>
              </p:nvSpPr>
              <p:spPr>
                <a:xfrm>
                  <a:off x="3983040" y="0"/>
                  <a:ext cx="0" cy="68756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>
                  <a:off x="3983040" y="0"/>
                  <a:ext cx="360" cy="68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133960" y="388800"/>
                <a:ext cx="360" cy="6486840"/>
                <a:chOff x="5133960" y="388800"/>
                <a:chExt cx="360" cy="6486840"/>
              </a:xfrm>
            </p:grpSpPr>
            <p:sp>
              <p:nvSpPr>
                <p:cNvPr id="100" name="Line 11"/>
                <p:cNvSpPr/>
                <p:nvPr/>
              </p:nvSpPr>
              <p:spPr>
                <a:xfrm>
                  <a:off x="5133960" y="388800"/>
                  <a:ext cx="0" cy="64868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5133960" y="388800"/>
                  <a:ext cx="360" cy="64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286320" y="619200"/>
                <a:ext cx="360" cy="6256440"/>
                <a:chOff x="6286320" y="619200"/>
                <a:chExt cx="360" cy="6256440"/>
              </a:xfrm>
            </p:grpSpPr>
            <p:sp>
              <p:nvSpPr>
                <p:cNvPr id="103" name="Line 12"/>
                <p:cNvSpPr/>
                <p:nvPr/>
              </p:nvSpPr>
              <p:spPr>
                <a:xfrm>
                  <a:off x="6286320" y="619200"/>
                  <a:ext cx="0" cy="62564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6286320" y="619200"/>
                  <a:ext cx="360" cy="62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439040" y="773280"/>
                <a:ext cx="360" cy="6102360"/>
                <a:chOff x="7439040" y="773280"/>
                <a:chExt cx="360" cy="6102360"/>
              </a:xfrm>
            </p:grpSpPr>
            <p:sp>
              <p:nvSpPr>
                <p:cNvPr id="106" name="Line 13"/>
                <p:cNvSpPr/>
                <p:nvPr/>
              </p:nvSpPr>
              <p:spPr>
                <a:xfrm>
                  <a:off x="7439040" y="773280"/>
                  <a:ext cx="0" cy="6102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7439040" y="773280"/>
                  <a:ext cx="360" cy="61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8591400" y="900000"/>
                <a:ext cx="360" cy="5975640"/>
                <a:chOff x="8591400" y="900000"/>
                <a:chExt cx="360" cy="5975640"/>
              </a:xfrm>
            </p:grpSpPr>
            <p:sp>
              <p:nvSpPr>
                <p:cNvPr id="109" name="Line 14"/>
                <p:cNvSpPr/>
                <p:nvPr/>
              </p:nvSpPr>
              <p:spPr>
                <a:xfrm>
                  <a:off x="8591400" y="900000"/>
                  <a:ext cx="0" cy="59756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8591400" y="900000"/>
                  <a:ext cx="360" cy="59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15"/>
            <p:cNvGrpSpPr/>
            <p:nvPr/>
          </p:nvGrpSpPr>
          <p:grpSpPr>
            <a:xfrm>
              <a:off x="-360" y="419040"/>
              <a:ext cx="9156960" cy="5617080"/>
              <a:chOff x="-360" y="419040"/>
              <a:chExt cx="9156960" cy="56170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0" y="419040"/>
                <a:ext cx="5191200" cy="360"/>
                <a:chOff x="0" y="419040"/>
                <a:chExt cx="5191200" cy="360"/>
              </a:xfrm>
            </p:grpSpPr>
            <p:sp>
              <p:nvSpPr>
                <p:cNvPr id="113" name="Line 16"/>
                <p:cNvSpPr/>
                <p:nvPr/>
              </p:nvSpPr>
              <p:spPr>
                <a:xfrm flipH="1">
                  <a:off x="0" y="419040"/>
                  <a:ext cx="51912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 txBox="1"/>
                <p:nvPr/>
              </p:nvSpPr>
              <p:spPr>
                <a:xfrm rot="5400000">
                  <a:off x="2595240" y="-2176200"/>
                  <a:ext cx="360" cy="519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-360" y="1541520"/>
                <a:ext cx="9156600" cy="360"/>
                <a:chOff x="-360" y="1541520"/>
                <a:chExt cx="9156600" cy="360"/>
              </a:xfrm>
            </p:grpSpPr>
            <p:sp>
              <p:nvSpPr>
                <p:cNvPr id="116" name="Line 17"/>
                <p:cNvSpPr/>
                <p:nvPr/>
              </p:nvSpPr>
              <p:spPr>
                <a:xfrm flipH="1">
                  <a:off x="-360" y="1541520"/>
                  <a:ext cx="91566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 txBox="1"/>
                <p:nvPr/>
              </p:nvSpPr>
              <p:spPr>
                <a:xfrm rot="5400000">
                  <a:off x="4577760" y="-3036600"/>
                  <a:ext cx="360" cy="9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-360" y="2665440"/>
                <a:ext cx="9156600" cy="360"/>
                <a:chOff x="-360" y="2665440"/>
                <a:chExt cx="9156600" cy="360"/>
              </a:xfrm>
            </p:grpSpPr>
            <p:sp>
              <p:nvSpPr>
                <p:cNvPr id="119" name="Line 18"/>
                <p:cNvSpPr/>
                <p:nvPr/>
              </p:nvSpPr>
              <p:spPr>
                <a:xfrm flipH="1">
                  <a:off x="-360" y="2665440"/>
                  <a:ext cx="91566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 txBox="1"/>
                <p:nvPr/>
              </p:nvSpPr>
              <p:spPr>
                <a:xfrm rot="5400000">
                  <a:off x="4577760" y="-1912680"/>
                  <a:ext cx="360" cy="9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240" y="3787560"/>
                <a:ext cx="9153360" cy="360"/>
                <a:chOff x="3240" y="3787560"/>
                <a:chExt cx="9153360" cy="360"/>
              </a:xfrm>
            </p:grpSpPr>
            <p:sp>
              <p:nvSpPr>
                <p:cNvPr id="122" name="Line 19"/>
                <p:cNvSpPr/>
                <p:nvPr/>
              </p:nvSpPr>
              <p:spPr>
                <a:xfrm flipH="1">
                  <a:off x="3240" y="3787560"/>
                  <a:ext cx="915336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 rot="5400000">
                  <a:off x="4579560" y="-788760"/>
                  <a:ext cx="360" cy="91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240" y="4911840"/>
                <a:ext cx="9153360" cy="360"/>
                <a:chOff x="3240" y="4911840"/>
                <a:chExt cx="9153360" cy="360"/>
              </a:xfrm>
            </p:grpSpPr>
            <p:sp>
              <p:nvSpPr>
                <p:cNvPr id="125" name="Line 20"/>
                <p:cNvSpPr/>
                <p:nvPr/>
              </p:nvSpPr>
              <p:spPr>
                <a:xfrm flipH="1">
                  <a:off x="3240" y="4911840"/>
                  <a:ext cx="915336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 txBox="1"/>
                <p:nvPr/>
              </p:nvSpPr>
              <p:spPr>
                <a:xfrm rot="5400000">
                  <a:off x="4579560" y="335160"/>
                  <a:ext cx="360" cy="91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17720" y="6035760"/>
                <a:ext cx="8099280" cy="360"/>
                <a:chOff x="1017720" y="6035760"/>
                <a:chExt cx="8099280" cy="360"/>
              </a:xfrm>
            </p:grpSpPr>
            <p:sp>
              <p:nvSpPr>
                <p:cNvPr id="128" name="Line 21"/>
                <p:cNvSpPr/>
                <p:nvPr/>
              </p:nvSpPr>
              <p:spPr>
                <a:xfrm flipH="1">
                  <a:off x="1017720" y="6035760"/>
                  <a:ext cx="809928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 txBox="1"/>
                <p:nvPr/>
              </p:nvSpPr>
              <p:spPr>
                <a:xfrm rot="5400000">
                  <a:off x="5067000" y="1986120"/>
                  <a:ext cx="360" cy="809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" name="Rectangle 22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7" name="Picture 29" descr="3"/>
          <p:cNvPicPr/>
          <p:nvPr/>
        </p:nvPicPr>
        <p:blipFill>
          <a:blip r:embed="rId4"/>
          <a:stretch/>
        </p:blipFill>
        <p:spPr>
          <a:xfrm>
            <a:off x="-176040" y="5638680"/>
            <a:ext cx="2011320" cy="1219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08D0-CF9B-4CA4-AE21-F90B5C4A17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4041720" y="144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B6CF-C091-42BB-B252-A9557780AB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D3F-B0FB-40D8-B1C3-FC3398783D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A0E-2475-4723-9ED1-323C700AC1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D30C-1277-4400-890D-CF79A079D0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3078-CFCC-40FA-B564-0AF080D63F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D79-D43F-40F7-9954-512DCAC0A4E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hyperlink" Target="http://www.nipic.com/club/show.asp?id=246855" TargetMode="External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5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wmf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hi.baidu.com/zydc/album/item/70b5eed39a6227c3a9ec9ab3.html" TargetMode="External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news.dayoo.com/guangdong/62252/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news.xinhuanet.com/local/2008-04/21/content_8021833.htm" TargetMode="External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7.jpeg"/><Relationship Id="rId6" Type="http://schemas.openxmlformats.org/officeDocument/2006/relationships/image" Target="../media/image78.gif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image" Target="../media/image81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2.png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7.jpeg"/><Relationship Id="rId6" Type="http://schemas.openxmlformats.org/officeDocument/2006/relationships/image" Target="../media/image78.gif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image" Target="../media/image81.png"/><Relationship Id="rId10" Type="http://schemas.openxmlformats.org/officeDocument/2006/relationships/image" Target="../media/image81.png"/><Relationship Id="rId11" Type="http://schemas.openxmlformats.org/officeDocument/2006/relationships/image" Target="../media/image89.png"/><Relationship Id="rId12" Type="http://schemas.openxmlformats.org/officeDocument/2006/relationships/image" Target="../media/image89.png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92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hyperlink" Target="http://www.zxls.com/Article/UploadFiles2008/200907/&#25773;&#25918;&#25991;&#20214;/&#23545;&#22806;&#24320;&#25918;&#22320;&#21306;&#31034;&#24847;&#22270;.swf" TargetMode="External"/><Relationship Id="rId7" Type="http://schemas.openxmlformats.org/officeDocument/2006/relationships/image" Target="../media/image9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6.png"/><Relationship Id="rId3" Type="http://schemas.openxmlformats.org/officeDocument/2006/relationships/image" Target="../media/image96.png"/><Relationship Id="rId4" Type="http://schemas.openxmlformats.org/officeDocument/2006/relationships/image" Target="../media/image96.png"/><Relationship Id="rId5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news3.xinhuanet.com/politics/2007-01/15/content_5606525.htm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jsdj.com/luyou/lyzy/anxgc.htm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784080" y="476280"/>
            <a:ext cx="770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隶书"/>
              </a:rPr>
              <a:t>第三单元 建设有中国特色的社会主义</a:t>
            </a:r>
            <a:endParaRPr b="1" lang="en-US" sz="1800" spc="1" strike="noStrike">
              <a:ln w="9360">
                <a:solidFill>
                  <a:srgbClr val="ff9900"/>
                </a:solidFill>
                <a:round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64" name="WordArt 3" descr=""/>
          <p:cNvPicPr/>
          <p:nvPr/>
        </p:nvPicPr>
        <p:blipFill>
          <a:blip r:embed="rId1"/>
          <a:stretch/>
        </p:blipFill>
        <p:spPr>
          <a:xfrm>
            <a:off x="2019240" y="2317680"/>
            <a:ext cx="4797360" cy="2755800"/>
          </a:xfrm>
          <a:prstGeom prst="rect">
            <a:avLst/>
          </a:prstGeom>
          <a:ln w="0">
            <a:noFill/>
          </a:ln>
        </p:spPr>
      </p:pic>
      <p:sp>
        <p:nvSpPr>
          <p:cNvPr id="565" name="WordArt 4"/>
          <p:cNvSpPr txBox="1"/>
          <p:nvPr/>
        </p:nvSpPr>
        <p:spPr>
          <a:xfrm>
            <a:off x="657360" y="1098720"/>
            <a:ext cx="18666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千年巨变</a:t>
            </a:r>
            <a:endParaRPr b="1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6" name="Picture 5" descr="QQ截图未命名"/>
          <p:cNvPicPr/>
          <p:nvPr/>
        </p:nvPicPr>
        <p:blipFill>
          <a:blip r:embed="rId2"/>
          <a:stretch/>
        </p:blipFill>
        <p:spPr>
          <a:xfrm>
            <a:off x="6924600" y="1244520"/>
            <a:ext cx="1582920" cy="1513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QQ截图未命名"/>
          <p:cNvPicPr/>
          <p:nvPr/>
        </p:nvPicPr>
        <p:blipFill>
          <a:blip r:embed="rId3"/>
          <a:stretch/>
        </p:blipFill>
        <p:spPr>
          <a:xfrm>
            <a:off x="6924600" y="2924280"/>
            <a:ext cx="1582920" cy="1512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top1"/>
          <p:cNvPicPr/>
          <p:nvPr/>
        </p:nvPicPr>
        <p:blipFill>
          <a:blip r:embed="rId4"/>
          <a:stretch/>
        </p:blipFill>
        <p:spPr>
          <a:xfrm>
            <a:off x="727200" y="1746360"/>
            <a:ext cx="1796760" cy="1353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未命名2"/>
          <p:cNvPicPr/>
          <p:nvPr/>
        </p:nvPicPr>
        <p:blipFill>
          <a:blip r:embed="rId5"/>
          <a:stretch/>
        </p:blipFill>
        <p:spPr>
          <a:xfrm>
            <a:off x="0" y="553392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57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第一份合同"/>
          <p:cNvPicPr/>
          <p:nvPr/>
        </p:nvPicPr>
        <p:blipFill>
          <a:blip r:embed="rId1"/>
          <a:srcRect l="1510" t="1812" r="1672" b="1968"/>
          <a:stretch/>
        </p:blipFill>
        <p:spPr>
          <a:xfrm>
            <a:off x="4572000" y="1700280"/>
            <a:ext cx="4267080" cy="4190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3" name="WordArt 3"/>
          <p:cNvSpPr txBox="1"/>
          <p:nvPr/>
        </p:nvSpPr>
        <p:spPr>
          <a:xfrm>
            <a:off x="826920" y="671400"/>
            <a:ext cx="79203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5e7618"/>
                    </a:gs>
                  </a:gsLst>
                  <a:lin ang="5400000"/>
                </a:gradFill>
                <a:latin typeface="宋体"/>
              </a:rPr>
              <a:t>中国农村改革第一村—安徽省凤阳县小岗村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5e761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64" name="Picture 4" descr="bellleft"/>
          <p:cNvPicPr/>
          <p:nvPr/>
        </p:nvPicPr>
        <p:blipFill>
          <a:blip r:embed="rId2"/>
          <a:stretch/>
        </p:blipFill>
        <p:spPr>
          <a:xfrm>
            <a:off x="222120" y="515880"/>
            <a:ext cx="781200" cy="7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5" name=""/>
          <p:cNvGraphicFramePr/>
          <p:nvPr/>
        </p:nvGraphicFramePr>
        <p:xfrm>
          <a:off x="380880" y="1828800"/>
          <a:ext cx="4038480" cy="3733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73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隶书"/>
                          <a:ea typeface="隶书"/>
                        </a:rPr>
                        <a:t>凤阳地多不打粮，</a:t>
                      </a: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隶书"/>
                          <a:ea typeface="隶书"/>
                        </a:rPr>
                        <a:t>磙子一住就逃荒。</a:t>
                      </a: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隶书"/>
                          <a:ea typeface="隶书"/>
                        </a:rPr>
                        <a:t>只见凤阳女出嫁，</a:t>
                      </a: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隶书"/>
                          <a:ea typeface="隶书"/>
                        </a:rPr>
                        <a:t>不见新娘进凤阳。</a:t>
                      </a: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——</a:t>
                      </a: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凤阳花鼓词</a:t>
                      </a:r>
                      <a:endParaRPr b="1" lang="en-US" sz="3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ff"/>
                      </a:solidFill>
                    </a:lnL>
                    <a:lnR w="1872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Rectangle 11"/>
          <p:cNvSpPr/>
          <p:nvPr/>
        </p:nvSpPr>
        <p:spPr>
          <a:xfrm>
            <a:off x="380880" y="1676520"/>
            <a:ext cx="4046760" cy="3457440"/>
          </a:xfrm>
          <a:prstGeom prst="rect">
            <a:avLst/>
          </a:prstGeom>
          <a:solidFill>
            <a:srgbClr val="009999"/>
          </a:solidFill>
          <a:ln w="28440">
            <a:solidFill>
              <a:srgbClr val="466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抉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18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个红手印的生死文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: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果村干部坐牢杀头，其他农户保证把他们的小孩养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岁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Img242062279[1]"/>
          <p:cNvPicPr/>
          <p:nvPr/>
        </p:nvPicPr>
        <p:blipFill>
          <a:blip r:embed="rId1"/>
          <a:stretch/>
        </p:blipFill>
        <p:spPr>
          <a:xfrm>
            <a:off x="76320" y="61920"/>
            <a:ext cx="3047760" cy="3519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10"/>
          <p:cNvPicPr/>
          <p:nvPr/>
        </p:nvPicPr>
        <p:blipFill>
          <a:blip r:embed="rId2"/>
          <a:stretch/>
        </p:blipFill>
        <p:spPr>
          <a:xfrm>
            <a:off x="3124080" y="76320"/>
            <a:ext cx="2895840" cy="3276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01"/>
          <p:cNvPicPr/>
          <p:nvPr/>
        </p:nvPicPr>
        <p:blipFill>
          <a:blip r:embed="rId3"/>
          <a:stretch/>
        </p:blipFill>
        <p:spPr>
          <a:xfrm>
            <a:off x="6019920" y="76320"/>
            <a:ext cx="3124080" cy="327636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5"/>
          <p:cNvSpPr/>
          <p:nvPr/>
        </p:nvSpPr>
        <p:spPr>
          <a:xfrm>
            <a:off x="3200400" y="34131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安徽凤阳严银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立下第一份军令状的队长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一家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28600" y="3809880"/>
          <a:ext cx="8686800" cy="18288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1828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材料：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987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粮食产量达到４亿吨，比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978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增加了３２％；棉花产量达到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419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万吨，比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978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增加了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93.3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％，农业总产值达到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4676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亿元，比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978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增加了近三倍。               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隶书"/>
                        </a:rPr>
                        <a:t>——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中华人民共和国国史</a:t>
                      </a:r>
                      <a:endParaRPr b="1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ff"/>
                      </a:solidFill>
                    </a:lnL>
                    <a:lnR w="18720">
                      <a:solidFill>
                        <a:srgbClr val="00ccff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Text Box 12"/>
          <p:cNvSpPr/>
          <p:nvPr/>
        </p:nvSpPr>
        <p:spPr>
          <a:xfrm>
            <a:off x="380880" y="5715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请根据图片及材料分析：农村经济体制改革具有怎样的作用呢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？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03-02-01-01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498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74" name="Rectangle 3"/>
          <p:cNvSpPr/>
          <p:nvPr/>
        </p:nvSpPr>
        <p:spPr>
          <a:xfrm>
            <a:off x="762120" y="5715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上海郊区农村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实行家庭联产承包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责任制后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农民在年终分配时露出了笑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2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片 2" descr=""/>
          <p:cNvPicPr/>
          <p:nvPr/>
        </p:nvPicPr>
        <p:blipFill>
          <a:blip r:embed="rId1"/>
          <a:stretch/>
        </p:blipFill>
        <p:spPr>
          <a:xfrm>
            <a:off x="39600" y="55440"/>
            <a:ext cx="9064800" cy="674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WordArt 4"/>
          <p:cNvSpPr txBox="1"/>
          <p:nvPr/>
        </p:nvSpPr>
        <p:spPr>
          <a:xfrm>
            <a:off x="609480" y="228600"/>
            <a:ext cx="81280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008</a:t>
            </a: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年国庆前夕，国家主席胡锦涛视察小岗村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未命名2"/>
          <p:cNvPicPr/>
          <p:nvPr/>
        </p:nvPicPr>
        <p:blipFill>
          <a:blip r:embed="rId1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680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681" name="Picture 4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83" name="Rectangle 6"/>
          <p:cNvSpPr/>
          <p:nvPr/>
        </p:nvSpPr>
        <p:spPr>
          <a:xfrm>
            <a:off x="3451320" y="18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小岗村的改革及成就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267084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艺黑"/>
              </a:rPr>
              <a:t>凤阳县农业生产三年三大步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117440" y="2276640"/>
          <a:ext cx="6622920" cy="3097080"/>
        </p:xfrm>
        <a:graphic>
          <a:graphicData uri="http://schemas.openxmlformats.org/drawingml/2006/table">
            <a:tbl>
              <a:tblPr/>
              <a:tblGrid>
                <a:gridCol w="3238560"/>
                <a:gridCol w="3384360"/>
              </a:tblGrid>
              <a:tr h="112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1980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年产粮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5.02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亿公斤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1981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年产粮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6.70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亿公斤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1982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年产粮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7.15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迷你简毡笔黑"/>
                          <a:ea typeface="迷你简毡笔黑"/>
                        </a:rPr>
                        <a:t>亿公斤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NO_5744"/>
          <p:cNvPicPr/>
          <p:nvPr/>
        </p:nvPicPr>
        <p:blipFill>
          <a:blip r:embed="rId1"/>
          <a:stretch/>
        </p:blipFill>
        <p:spPr>
          <a:xfrm>
            <a:off x="762120" y="685800"/>
            <a:ext cx="5180040" cy="41212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3"/>
          <p:cNvSpPr/>
          <p:nvPr/>
        </p:nvSpPr>
        <p:spPr>
          <a:xfrm>
            <a:off x="5577120" y="5272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乡镇企业是中国农民的又一伟大创造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1835280" y="5373720"/>
            <a:ext cx="933480" cy="358920"/>
          </a:xfrm>
          <a:prstGeom prst="leftArrow">
            <a:avLst>
              <a:gd name="adj1" fmla="val 50000"/>
              <a:gd name="adj2" fmla="val 649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083280" y="1268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结论：农村的经济改革使得我国在农村、农业、农业上发生了巨大而可喜的变化！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未命名2"/>
          <p:cNvPicPr/>
          <p:nvPr/>
        </p:nvPicPr>
        <p:blipFill>
          <a:blip r:embed="rId1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692" name="Picture 4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94" name="Rectangle 6"/>
          <p:cNvSpPr/>
          <p:nvPr/>
        </p:nvSpPr>
        <p:spPr>
          <a:xfrm>
            <a:off x="2195640" y="47556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乡镇企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异军突起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695" name="Picture 7" descr="6a22e824916835208744f939"/>
          <p:cNvPicPr/>
          <p:nvPr/>
        </p:nvPicPr>
        <p:blipFill>
          <a:blip r:embed="rId3"/>
          <a:stretch/>
        </p:blipFill>
        <p:spPr>
          <a:xfrm>
            <a:off x="3201840" y="1484280"/>
            <a:ext cx="1586160" cy="16797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2008112421311"/>
          <p:cNvPicPr/>
          <p:nvPr/>
        </p:nvPicPr>
        <p:blipFill>
          <a:blip r:embed="rId4"/>
          <a:stretch/>
        </p:blipFill>
        <p:spPr>
          <a:xfrm>
            <a:off x="5726160" y="1700280"/>
            <a:ext cx="2305080" cy="18698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9" descr="000150"/>
          <p:cNvPicPr/>
          <p:nvPr/>
        </p:nvPicPr>
        <p:blipFill>
          <a:blip r:embed="rId5"/>
          <a:stretch/>
        </p:blipFill>
        <p:spPr>
          <a:xfrm>
            <a:off x="4746600" y="3619440"/>
            <a:ext cx="3745080" cy="22813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2007528135116"/>
          <p:cNvPicPr/>
          <p:nvPr/>
        </p:nvPicPr>
        <p:blipFill>
          <a:blip r:embed="rId6"/>
          <a:stretch/>
        </p:blipFill>
        <p:spPr>
          <a:xfrm>
            <a:off x="611280" y="2205000"/>
            <a:ext cx="2374920" cy="1327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1" descr="20071228174130476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9120" y="3933720"/>
            <a:ext cx="43941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324000" y="549360"/>
            <a:ext cx="843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迷你简卡通"/>
                <a:ea typeface="迷你简卡通"/>
              </a:rPr>
              <a:t>归纳总结：建国后我国在农业（农村）政策上有哪些变化？对我们有什么启示？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684360" y="1700280"/>
            <a:ext cx="583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土地改革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农业合作化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年   人民公社化（失误）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家庭联产承包责任制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   取消农业税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702" name="Picture 4" descr="未命名2"/>
          <p:cNvPicPr/>
          <p:nvPr/>
        </p:nvPicPr>
        <p:blipFill>
          <a:blip r:embed="rId1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5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704" name="Picture 6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WordArt 7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706" name="Text Box 8"/>
          <p:cNvSpPr/>
          <p:nvPr/>
        </p:nvSpPr>
        <p:spPr>
          <a:xfrm>
            <a:off x="249120" y="5229360"/>
            <a:ext cx="8717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产关系一定要适应生产力发展的需要！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611280" y="1557360"/>
            <a:ext cx="5762520" cy="36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聆听故事  细心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95280" y="9079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跃进是安徽凤阳小岗村的一个农民，农村改革前，他在人民公社和大家一起干活，每天拖拖拉拉，不思进取，却也能在公社混口饭吃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安徽遇到百年不遇的大旱，生活更加贫困。他常常唱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凤阳地多不打粮，磙子一住就逃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只见凤阳女出嫁，不见新娘进凤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在政府的鼓励下，他和村里其他农民私立了一份包产到户的生产契约。他们苦干一年，获得了大丰收。吴跃进又高兴地唱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凤阳，道凤阳，改革鼓点先敲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三年迈出三大步，如今飞出金凤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574" name="Picture 5" descr="pic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576" name="Picture 7" descr="未命名2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"/>
          <p:cNvSpPr/>
          <p:nvPr/>
        </p:nvSpPr>
        <p:spPr>
          <a:xfrm>
            <a:off x="825480" y="522936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是凤阳，为什么会发生这么大的变化？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阅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小字部分，讨论回答）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村实行家庭联产承包责任制后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民吴跃进家里是粮食成囤，钱袋子也渐渐地鼓了起来，他想去外边见见世面，正好一个远方亲戚在国有企业海尔集团工作，他就去看他亲戚了，他去了亲戚给他讲述了一段海尔集团的发展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710" name="Picture 4" descr="pic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712" name="Picture 6" descr="未命名2"/>
          <p:cNvPicPr/>
          <p:nvPr/>
        </p:nvPicPr>
        <p:blipFill>
          <a:blip r:embed="rId2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Img148064769"/>
          <p:cNvPicPr/>
          <p:nvPr/>
        </p:nvPicPr>
        <p:blipFill>
          <a:blip r:embed="rId1"/>
          <a:stretch/>
        </p:blipFill>
        <p:spPr>
          <a:xfrm>
            <a:off x="4788000" y="3141720"/>
            <a:ext cx="3313080" cy="2170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714" name="Picture 3" descr="未命名2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715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716" name="Picture 5" descr="pic_0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718" name="Picture 7" descr="logo"/>
          <p:cNvPicPr/>
          <p:nvPr/>
        </p:nvPicPr>
        <p:blipFill>
          <a:blip r:embed="rId4"/>
          <a:stretch/>
        </p:blipFill>
        <p:spPr>
          <a:xfrm>
            <a:off x="0" y="476280"/>
            <a:ext cx="1401840" cy="552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8" descr="无标题3"/>
          <p:cNvPicPr/>
          <p:nvPr/>
        </p:nvPicPr>
        <p:blipFill>
          <a:blip r:embed="rId5"/>
          <a:stretch/>
        </p:blipFill>
        <p:spPr>
          <a:xfrm>
            <a:off x="7810560" y="476280"/>
            <a:ext cx="1333440" cy="47628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9"/>
          <p:cNvSpPr/>
          <p:nvPr/>
        </p:nvSpPr>
        <p:spPr>
          <a:xfrm>
            <a:off x="5666400" y="5425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美国纽约海尔集团大厦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721" name="Picture 10" descr="1984年创业初期海尔冰箱厂原貌"/>
          <p:cNvPicPr/>
          <p:nvPr/>
        </p:nvPicPr>
        <p:blipFill>
          <a:blip r:embed="rId6"/>
          <a:stretch/>
        </p:blipFill>
        <p:spPr>
          <a:xfrm>
            <a:off x="825480" y="765000"/>
            <a:ext cx="2738520" cy="16178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1"/>
          <p:cNvSpPr/>
          <p:nvPr/>
        </p:nvSpPr>
        <p:spPr>
          <a:xfrm>
            <a:off x="635760" y="2492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1984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年创业初期海尔冰箱厂原貌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723" name="Picture 12" descr="1985年砸掉76台质量不合格冰箱"/>
          <p:cNvPicPr/>
          <p:nvPr/>
        </p:nvPicPr>
        <p:blipFill>
          <a:blip r:embed="rId7"/>
          <a:stretch/>
        </p:blipFill>
        <p:spPr>
          <a:xfrm>
            <a:off x="469800" y="3284640"/>
            <a:ext cx="2952720" cy="21589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13"/>
          <p:cNvSpPr/>
          <p:nvPr/>
        </p:nvSpPr>
        <p:spPr>
          <a:xfrm>
            <a:off x="471240" y="551664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1985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年砸掉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76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台质量不合格冰箱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725" name="Picture 14" descr="2004年海尔入选世界100最具影响力品牌"/>
          <p:cNvPicPr/>
          <p:nvPr/>
        </p:nvPicPr>
        <p:blipFill>
          <a:blip r:embed="rId8"/>
          <a:stretch/>
        </p:blipFill>
        <p:spPr>
          <a:xfrm>
            <a:off x="4500720" y="765000"/>
            <a:ext cx="2592360" cy="216540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15"/>
          <p:cNvSpPr/>
          <p:nvPr/>
        </p:nvSpPr>
        <p:spPr>
          <a:xfrm>
            <a:off x="7237440" y="1052640"/>
            <a:ext cx="19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2004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年海尔入选世界</a:t>
            </a: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100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最具影响力品牌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3348000" y="16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国有企业改革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250920" y="45576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三十年来，海尔集团由一个亏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集体小厂，不断发展，截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海尔集团在全球建立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制造基地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综合研发中心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海外贸易公司，全球员工超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海尔集团全球营业额实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4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美元），品牌价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  现成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国第一品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获得多个领域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全球第一品牌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美誉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海尔集团的成功其实是对什么改革的缩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730" name="Picture 4" descr="pic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732" name="Picture 6" descr="未命名2"/>
          <p:cNvPicPr/>
          <p:nvPr/>
        </p:nvPicPr>
        <p:blipFill>
          <a:blip r:embed="rId2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387240" y="26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城市改革（攻坚战）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200" y="1219320"/>
            <a:ext cx="8064360" cy="360"/>
            <a:chOff x="457200" y="1219320"/>
            <a:chExt cx="8064360" cy="360"/>
          </a:xfrm>
        </p:grpSpPr>
        <p:sp>
          <p:nvSpPr>
            <p:cNvPr id="735" name="Line 4"/>
            <p:cNvSpPr/>
            <p:nvPr/>
          </p:nvSpPr>
          <p:spPr>
            <a:xfrm>
              <a:off x="457200" y="1219320"/>
              <a:ext cx="8064360" cy="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457200" y="121932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37" name="Text Box 5"/>
          <p:cNvSpPr/>
          <p:nvPr/>
        </p:nvSpPr>
        <p:spPr>
          <a:xfrm>
            <a:off x="395280" y="1182600"/>
            <a:ext cx="80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背景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计划经济下，企业缺乏活力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395280" y="170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时间：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开始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9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加快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395280" y="299736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内容：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-176040" y="3718080"/>
            <a:ext cx="62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单一公有制     多种所有制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3203640" y="3860640"/>
            <a:ext cx="431640" cy="289080"/>
          </a:xfrm>
          <a:prstGeom prst="rightArrow">
            <a:avLst>
              <a:gd name="adj1" fmla="val 50000"/>
              <a:gd name="adj2" fmla="val 37315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-247680" y="443700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政企分开      扩大企业自主权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3" name="AutoShape 11"/>
          <p:cNvSpPr/>
          <p:nvPr/>
        </p:nvSpPr>
        <p:spPr>
          <a:xfrm>
            <a:off x="2771640" y="4581360"/>
            <a:ext cx="505080" cy="289080"/>
          </a:xfrm>
          <a:prstGeom prst="rightArrow">
            <a:avLst>
              <a:gd name="adj1" fmla="val 50000"/>
              <a:gd name="adj2" fmla="val 43664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4" name="Text Box 12"/>
          <p:cNvSpPr/>
          <p:nvPr/>
        </p:nvSpPr>
        <p:spPr>
          <a:xfrm>
            <a:off x="6445080" y="3933720"/>
            <a:ext cx="30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企业活力增强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5" name="AutoShape 13"/>
          <p:cNvSpPr/>
          <p:nvPr/>
        </p:nvSpPr>
        <p:spPr>
          <a:xfrm>
            <a:off x="6229440" y="3860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429120" y="530064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按劳分配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7" name="Text Box 15"/>
          <p:cNvSpPr/>
          <p:nvPr/>
        </p:nvSpPr>
        <p:spPr>
          <a:xfrm>
            <a:off x="5940360" y="537372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工积极性提高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8" name="AutoShape 16"/>
          <p:cNvSpPr/>
          <p:nvPr/>
        </p:nvSpPr>
        <p:spPr>
          <a:xfrm>
            <a:off x="2844720" y="5518080"/>
            <a:ext cx="3313080" cy="360360"/>
          </a:xfrm>
          <a:prstGeom prst="rightArrow">
            <a:avLst>
              <a:gd name="adj1" fmla="val 50000"/>
              <a:gd name="adj2" fmla="val 22976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395280" y="2421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点：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黑体"/>
              </a:rPr>
              <a:t>国有企业改革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557280" y="1698480"/>
            <a:ext cx="7886160" cy="2662200"/>
            <a:chOff x="557280" y="1698480"/>
            <a:chExt cx="7886160" cy="2662200"/>
          </a:xfrm>
        </p:grpSpPr>
        <p:sp>
          <p:nvSpPr>
            <p:cNvPr id="751" name="Rectangle 27"/>
            <p:cNvSpPr/>
            <p:nvPr/>
          </p:nvSpPr>
          <p:spPr>
            <a:xfrm>
              <a:off x="557280" y="3857400"/>
              <a:ext cx="30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分配中平均主义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2" name="Text Box 31"/>
            <p:cNvSpPr/>
            <p:nvPr/>
          </p:nvSpPr>
          <p:spPr>
            <a:xfrm>
              <a:off x="5814720" y="1698480"/>
              <a:ext cx="26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政企分开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3" name="Rectangle 25"/>
            <p:cNvSpPr/>
            <p:nvPr/>
          </p:nvSpPr>
          <p:spPr>
            <a:xfrm>
              <a:off x="630000" y="1769760"/>
              <a:ext cx="27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政企职责不分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4" name="Rectangle 26"/>
            <p:cNvSpPr/>
            <p:nvPr/>
          </p:nvSpPr>
          <p:spPr>
            <a:xfrm>
              <a:off x="630000" y="2778120"/>
              <a:ext cx="27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经营模式单一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5" name="AutoShape 28"/>
            <p:cNvSpPr/>
            <p:nvPr/>
          </p:nvSpPr>
          <p:spPr>
            <a:xfrm>
              <a:off x="3365280" y="1914480"/>
              <a:ext cx="2160000" cy="287280"/>
            </a:xfrm>
            <a:prstGeom prst="rightArrow">
              <a:avLst>
                <a:gd name="adj1" fmla="val 50000"/>
                <a:gd name="adj2" fmla="val 187900"/>
              </a:avLst>
            </a:prstGeom>
            <a:solidFill>
              <a:srgbClr val="cc47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6" name="AutoShape 29"/>
            <p:cNvSpPr/>
            <p:nvPr/>
          </p:nvSpPr>
          <p:spPr>
            <a:xfrm>
              <a:off x="3365280" y="2922480"/>
              <a:ext cx="2160000" cy="287280"/>
            </a:xfrm>
            <a:prstGeom prst="rightArrow">
              <a:avLst>
                <a:gd name="adj1" fmla="val 50000"/>
                <a:gd name="adj2" fmla="val 187900"/>
              </a:avLst>
            </a:prstGeom>
            <a:solidFill>
              <a:srgbClr val="cc47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7" name="AutoShape 30"/>
            <p:cNvSpPr/>
            <p:nvPr/>
          </p:nvSpPr>
          <p:spPr>
            <a:xfrm>
              <a:off x="3582720" y="4073400"/>
              <a:ext cx="2014200" cy="287280"/>
            </a:xfrm>
            <a:prstGeom prst="rightArrow">
              <a:avLst>
                <a:gd name="adj1" fmla="val 50000"/>
                <a:gd name="adj2" fmla="val 175217"/>
              </a:avLst>
            </a:prstGeom>
            <a:solidFill>
              <a:srgbClr val="cc47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8" name="Rectangle 32"/>
            <p:cNvSpPr/>
            <p:nvPr/>
          </p:nvSpPr>
          <p:spPr>
            <a:xfrm>
              <a:off x="5814720" y="270648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经营责任制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9" name="Rectangle 33"/>
            <p:cNvSpPr/>
            <p:nvPr/>
          </p:nvSpPr>
          <p:spPr>
            <a:xfrm>
              <a:off x="5814720" y="3857400"/>
              <a:ext cx="22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56e"/>
                  </a:solidFill>
                  <a:latin typeface="Arial"/>
                  <a:ea typeface="宋体"/>
                </a:rPr>
                <a:t>按劳分配</a:t>
              </a: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有企业的改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45720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跃进看到亲戚在海尔集团干的不错，自己也想开创一番事业，于是，他自主创业，利用国家的政策，发家致富，成为一位著名的企业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起自己的创业经历，他高兴的唱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一九七九年，那是一个春天，有一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人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在中国的南海边画了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神话般地崛起座座城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奇迹般地聚起座座金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763" name="Picture 4" descr="pic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765" name="Picture 6" descr="未命名2"/>
          <p:cNvPicPr/>
          <p:nvPr/>
        </p:nvPicPr>
        <p:blipFill>
          <a:blip r:embed="rId2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611280" y="7524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三、对外开放（时代潮流）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68360" y="1700280"/>
            <a:ext cx="8064360" cy="360"/>
            <a:chOff x="468360" y="1700280"/>
            <a:chExt cx="8064360" cy="360"/>
          </a:xfrm>
        </p:grpSpPr>
        <p:sp>
          <p:nvSpPr>
            <p:cNvPr id="769" name="Line 4"/>
            <p:cNvSpPr/>
            <p:nvPr/>
          </p:nvSpPr>
          <p:spPr>
            <a:xfrm>
              <a:off x="468360" y="1700280"/>
              <a:ext cx="8064360" cy="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468360" y="170028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71" name="Rectangle 5"/>
          <p:cNvSpPr/>
          <p:nvPr/>
        </p:nvSpPr>
        <p:spPr>
          <a:xfrm>
            <a:off x="380880" y="1981080"/>
            <a:ext cx="822024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含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对外开放是在某些地区的对外经济活动中采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别优惠的政策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以吸引外资，学习外国的先进技术和经营管理方法，在平等互利的原则下，扩大对外贸易，壮大我国社会主义经济。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目的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要在独立自主的基础上，吸收侨资、外资，引进先进科学技术和管理经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进行现代化建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2019600" y="7509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三、对外开放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68360" y="1700280"/>
            <a:ext cx="8064360" cy="360"/>
            <a:chOff x="468360" y="1700280"/>
            <a:chExt cx="8064360" cy="360"/>
          </a:xfrm>
        </p:grpSpPr>
        <p:sp>
          <p:nvSpPr>
            <p:cNvPr id="775" name="Line 4"/>
            <p:cNvSpPr/>
            <p:nvPr/>
          </p:nvSpPr>
          <p:spPr>
            <a:xfrm>
              <a:off x="468360" y="1700280"/>
              <a:ext cx="8064360" cy="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468360" y="170028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77" name="Text Box 6"/>
          <p:cNvSpPr/>
          <p:nvPr/>
        </p:nvSpPr>
        <p:spPr>
          <a:xfrm>
            <a:off x="1523880" y="23623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219320" y="2209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457200" y="1600200"/>
            <a:ext cx="807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过程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设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经济特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”在何处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沿海城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兴办经济技术开发区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起设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沿海经济开放区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划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南为经济特区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放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浦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成为中国进一步对外开放的重要标志）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2019600" y="7509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三、对外开放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68360" y="1700280"/>
            <a:ext cx="8064360" cy="360"/>
            <a:chOff x="468360" y="1700280"/>
            <a:chExt cx="8064360" cy="360"/>
          </a:xfrm>
        </p:grpSpPr>
        <p:sp>
          <p:nvSpPr>
            <p:cNvPr id="783" name="Line 4"/>
            <p:cNvSpPr/>
            <p:nvPr/>
          </p:nvSpPr>
          <p:spPr>
            <a:xfrm>
              <a:off x="468360" y="1700280"/>
              <a:ext cx="8064360" cy="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468360" y="170028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85" name="Rectangle 5"/>
          <p:cNvSpPr/>
          <p:nvPr/>
        </p:nvSpPr>
        <p:spPr>
          <a:xfrm>
            <a:off x="152280" y="1981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格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228600" y="2666880"/>
            <a:ext cx="316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经济特区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1905120" y="2743200"/>
            <a:ext cx="5446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沿海开放城市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4724280" y="2743200"/>
            <a:ext cx="46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—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沿海经济开放区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7543800" y="2743200"/>
            <a:ext cx="3924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内地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762120" y="35812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228600" y="3505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特征：全方位、多层次、宽领域的对外开放格局。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作用：加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社会主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现代化建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中国第一个经济特区——深圳"/>
          <p:cNvPicPr/>
          <p:nvPr/>
        </p:nvPicPr>
        <p:blipFill>
          <a:blip r:embed="rId1"/>
          <a:stretch/>
        </p:blipFill>
        <p:spPr>
          <a:xfrm>
            <a:off x="1763640" y="1125360"/>
            <a:ext cx="5262480" cy="37324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3498480" y="522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中国第一个经济特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深圳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8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223280" y="2978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1116000" y="1916280"/>
            <a:ext cx="5616720" cy="73656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80" name="Group 4"/>
          <p:cNvGrpSpPr/>
          <p:nvPr/>
        </p:nvGrpSpPr>
        <p:grpSpPr>
          <a:xfrm>
            <a:off x="1116000" y="1916280"/>
            <a:ext cx="719280" cy="791640"/>
            <a:chOff x="1116000" y="1916280"/>
            <a:chExt cx="719280" cy="791640"/>
          </a:xfrm>
        </p:grpSpPr>
        <p:grpSp>
          <p:nvGrpSpPr>
            <p:cNvPr id="581" name="Group 5"/>
            <p:cNvGrpSpPr/>
            <p:nvPr/>
          </p:nvGrpSpPr>
          <p:grpSpPr>
            <a:xfrm>
              <a:off x="1116000" y="1916280"/>
              <a:ext cx="719280" cy="791640"/>
              <a:chOff x="1116000" y="1916280"/>
              <a:chExt cx="719280" cy="791640"/>
            </a:xfrm>
          </p:grpSpPr>
          <p:pic>
            <p:nvPicPr>
              <p:cNvPr id="582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184400" y="2536920"/>
                <a:ext cx="592200" cy="17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1916280"/>
                <a:ext cx="719280" cy="72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Oval 8"/>
              <p:cNvSpPr/>
              <p:nvPr/>
            </p:nvSpPr>
            <p:spPr>
              <a:xfrm>
                <a:off x="1116000" y="1916280"/>
                <a:ext cx="714600" cy="731880"/>
              </a:xfrm>
              <a:prstGeom prst="ellipse">
                <a:avLst/>
              </a:prstGeom>
              <a:gradFill rotWithShape="0">
                <a:gsLst>
                  <a:gs pos="0">
                    <a:srgbClr val="3d4b0f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3d4b0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pic>
          <p:nvPicPr>
            <p:cNvPr id="585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186920" y="1922760"/>
              <a:ext cx="5688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AutoShape 10"/>
          <p:cNvSpPr/>
          <p:nvPr/>
        </p:nvSpPr>
        <p:spPr>
          <a:xfrm>
            <a:off x="1116000" y="2924280"/>
            <a:ext cx="5616720" cy="80964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87" name="Group 11"/>
          <p:cNvGrpSpPr/>
          <p:nvPr/>
        </p:nvGrpSpPr>
        <p:grpSpPr>
          <a:xfrm>
            <a:off x="1116000" y="2924280"/>
            <a:ext cx="719280" cy="801360"/>
            <a:chOff x="1116000" y="2924280"/>
            <a:chExt cx="719280" cy="801360"/>
          </a:xfrm>
        </p:grpSpPr>
        <p:grpSp>
          <p:nvGrpSpPr>
            <p:cNvPr id="588" name="Group 12"/>
            <p:cNvGrpSpPr/>
            <p:nvPr/>
          </p:nvGrpSpPr>
          <p:grpSpPr>
            <a:xfrm>
              <a:off x="1116000" y="2924280"/>
              <a:ext cx="719280" cy="801360"/>
              <a:chOff x="1116000" y="2924280"/>
              <a:chExt cx="719280" cy="801360"/>
            </a:xfrm>
          </p:grpSpPr>
          <p:pic>
            <p:nvPicPr>
              <p:cNvPr id="589" name="Picture 13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184400" y="3552480"/>
                <a:ext cx="59220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0" name="Picture 1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2924280"/>
                <a:ext cx="719280" cy="73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Oval 15"/>
              <p:cNvSpPr/>
              <p:nvPr/>
            </p:nvSpPr>
            <p:spPr>
              <a:xfrm>
                <a:off x="1116000" y="2924280"/>
                <a:ext cx="714600" cy="740880"/>
              </a:xfrm>
              <a:prstGeom prst="ellipse">
                <a:avLst/>
              </a:prstGeom>
              <a:gradFill rotWithShape="0">
                <a:gsLst>
                  <a:gs pos="0">
                    <a:srgbClr val="21405c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1405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pic>
          <p:nvPicPr>
            <p:cNvPr id="592" name="Picture 16" descr="Picture2"/>
            <p:cNvPicPr/>
            <p:nvPr/>
          </p:nvPicPr>
          <p:blipFill>
            <a:blip r:embed="rId6"/>
            <a:stretch/>
          </p:blipFill>
          <p:spPr>
            <a:xfrm>
              <a:off x="1186920" y="2930760"/>
              <a:ext cx="568800" cy="26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AutoShape 17"/>
          <p:cNvSpPr/>
          <p:nvPr/>
        </p:nvSpPr>
        <p:spPr>
          <a:xfrm>
            <a:off x="1116000" y="4076640"/>
            <a:ext cx="5616720" cy="8082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94" name="Group 18"/>
          <p:cNvGrpSpPr/>
          <p:nvPr/>
        </p:nvGrpSpPr>
        <p:grpSpPr>
          <a:xfrm>
            <a:off x="1116000" y="4076640"/>
            <a:ext cx="719280" cy="799920"/>
            <a:chOff x="1116000" y="4076640"/>
            <a:chExt cx="719280" cy="799920"/>
          </a:xfrm>
        </p:grpSpPr>
        <p:grpSp>
          <p:nvGrpSpPr>
            <p:cNvPr id="595" name="Group 19"/>
            <p:cNvGrpSpPr/>
            <p:nvPr/>
          </p:nvGrpSpPr>
          <p:grpSpPr>
            <a:xfrm>
              <a:off x="1116000" y="4076640"/>
              <a:ext cx="719280" cy="799920"/>
              <a:chOff x="1116000" y="4076640"/>
              <a:chExt cx="719280" cy="799920"/>
            </a:xfrm>
          </p:grpSpPr>
          <p:pic>
            <p:nvPicPr>
              <p:cNvPr id="596" name="Picture 2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1184400" y="4703760"/>
                <a:ext cx="59220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Picture 2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116000" y="4076640"/>
                <a:ext cx="71928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Oval 22"/>
              <p:cNvSpPr/>
              <p:nvPr/>
            </p:nvSpPr>
            <p:spPr>
              <a:xfrm>
                <a:off x="1116000" y="4076640"/>
                <a:ext cx="714600" cy="739800"/>
              </a:xfrm>
              <a:prstGeom prst="ellipse">
                <a:avLst/>
              </a:prstGeom>
              <a:gradFill rotWithShape="0">
                <a:gsLst>
                  <a:gs pos="0">
                    <a:srgbClr val="5c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c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pic>
          <p:nvPicPr>
            <p:cNvPr id="599" name="Picture 23" descr="Picture2"/>
            <p:cNvPicPr/>
            <p:nvPr/>
          </p:nvPicPr>
          <p:blipFill>
            <a:blip r:embed="rId9"/>
            <a:stretch/>
          </p:blipFill>
          <p:spPr>
            <a:xfrm>
              <a:off x="1186920" y="4083120"/>
              <a:ext cx="568800" cy="26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AutoShape 24"/>
          <p:cNvSpPr/>
          <p:nvPr/>
        </p:nvSpPr>
        <p:spPr>
          <a:xfrm>
            <a:off x="1187280" y="5157720"/>
            <a:ext cx="5616720" cy="8082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601" name="Group 25"/>
          <p:cNvGrpSpPr/>
          <p:nvPr/>
        </p:nvGrpSpPr>
        <p:grpSpPr>
          <a:xfrm>
            <a:off x="1187280" y="5157720"/>
            <a:ext cx="720720" cy="799920"/>
            <a:chOff x="1187280" y="5157720"/>
            <a:chExt cx="720720" cy="799920"/>
          </a:xfrm>
        </p:grpSpPr>
        <p:grpSp>
          <p:nvGrpSpPr>
            <p:cNvPr id="602" name="Group 26"/>
            <p:cNvGrpSpPr/>
            <p:nvPr/>
          </p:nvGrpSpPr>
          <p:grpSpPr>
            <a:xfrm>
              <a:off x="1187280" y="5157720"/>
              <a:ext cx="720720" cy="799920"/>
              <a:chOff x="1187280" y="5157720"/>
              <a:chExt cx="720720" cy="799920"/>
            </a:xfrm>
          </p:grpSpPr>
          <p:pic>
            <p:nvPicPr>
              <p:cNvPr id="603" name="Picture 27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1255680" y="5784840"/>
                <a:ext cx="5932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Picture 2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1187280" y="5157720"/>
                <a:ext cx="7207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Oval 29"/>
              <p:cNvSpPr/>
              <p:nvPr/>
            </p:nvSpPr>
            <p:spPr>
              <a:xfrm>
                <a:off x="1187280" y="5157720"/>
                <a:ext cx="716040" cy="739800"/>
              </a:xfrm>
              <a:prstGeom prst="ellipse">
                <a:avLst/>
              </a:prstGeom>
              <a:gradFill rotWithShape="0">
                <a:gsLst>
                  <a:gs pos="0">
                    <a:srgbClr val="5c2323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5c232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pic>
          <p:nvPicPr>
            <p:cNvPr id="606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1258560" y="5164200"/>
              <a:ext cx="570240" cy="26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Rectangle 31"/>
          <p:cNvSpPr/>
          <p:nvPr/>
        </p:nvSpPr>
        <p:spPr>
          <a:xfrm>
            <a:off x="2728800" y="1916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319"/>
                </a:solidFill>
                <a:latin typeface="Arial"/>
                <a:ea typeface="楷体_GB2312"/>
              </a:rPr>
              <a:t>凤阳地多不打粮，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8" name="Rectangle 32"/>
          <p:cNvSpPr/>
          <p:nvPr/>
        </p:nvSpPr>
        <p:spPr>
          <a:xfrm>
            <a:off x="3765960" y="30160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319"/>
                </a:solidFill>
                <a:latin typeface="Arial"/>
                <a:ea typeface="楷体_GB2312"/>
              </a:rPr>
              <a:t>磙子一住就逃荒，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9" name="Rectangle 33"/>
          <p:cNvSpPr/>
          <p:nvPr/>
        </p:nvSpPr>
        <p:spPr>
          <a:xfrm>
            <a:off x="2800440" y="4168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319"/>
                </a:solidFill>
                <a:latin typeface="Arial"/>
                <a:ea typeface="楷体_GB2312"/>
              </a:rPr>
              <a:t>只见凤阳女嫁出，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0" name="Rectangle 34"/>
          <p:cNvSpPr/>
          <p:nvPr/>
        </p:nvSpPr>
        <p:spPr>
          <a:xfrm>
            <a:off x="2800440" y="5229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319"/>
                </a:solidFill>
                <a:latin typeface="Arial"/>
                <a:ea typeface="楷体_GB2312"/>
              </a:rPr>
              <a:t>不见新娘进凤阳。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1" name="Text Box 35"/>
          <p:cNvSpPr/>
          <p:nvPr/>
        </p:nvSpPr>
        <p:spPr>
          <a:xfrm>
            <a:off x="0" y="476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华文新魏"/>
              </a:rPr>
              <a:t>安徽凤阳曾经流传的花鼓词</a:t>
            </a:r>
            <a:endParaRPr b="1" lang="en-US" sz="5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1946160" y="260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985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，深圳国贸大厦以三天一层楼创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深圳速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。</a:t>
            </a:r>
            <a:r>
              <a:rPr b="1" lang="zh-CN" sz="1800" spc="-1" strike="noStrike">
                <a:solidFill>
                  <a:srgbClr val="0033cc"/>
                </a:solidFill>
                <a:latin typeface="黑体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795" name="Picture 3" descr="70b5eed39a6227c3a9ec9ab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95520" y="1484280"/>
            <a:ext cx="3890880" cy="4957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前 深圳"/>
          <p:cNvPicPr/>
          <p:nvPr/>
        </p:nvPicPr>
        <p:blipFill>
          <a:blip r:embed="rId1"/>
          <a:stretch/>
        </p:blipFill>
        <p:spPr>
          <a:xfrm>
            <a:off x="0" y="2349360"/>
            <a:ext cx="4572000" cy="42879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3" descr="后 深圳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437000"/>
          </a:xfrm>
          <a:prstGeom prst="rect">
            <a:avLst/>
          </a:prstGeom>
          <a:ln w="0">
            <a:noFill/>
          </a:ln>
        </p:spPr>
      </p:pic>
      <p:sp>
        <p:nvSpPr>
          <p:cNvPr id="798" name="WordArt 4"/>
          <p:cNvSpPr txBox="1"/>
          <p:nvPr/>
        </p:nvSpPr>
        <p:spPr>
          <a:xfrm>
            <a:off x="0" y="476280"/>
            <a:ext cx="4438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夜崛起之城：深圳</a:t>
            </a:r>
            <a:endParaRPr b="1" lang="en-US" sz="1800" spc="1" strike="noStrike">
              <a:ln w="19080">
                <a:solidFill>
                  <a:srgbClr val="00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5942160" y="45813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深圳美丽的夜景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4718160" y="5734080"/>
            <a:ext cx="32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贫穷落后的小渔村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"/>
          <p:cNvPicPr/>
          <p:nvPr/>
        </p:nvPicPr>
        <p:blipFill>
          <a:blip r:embed="rId2"/>
          <a:stretch/>
        </p:blipFill>
        <p:spPr>
          <a:xfrm>
            <a:off x="826920" y="474840"/>
            <a:ext cx="7344000" cy="504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02" name="Rectangle 3"/>
          <p:cNvSpPr/>
          <p:nvPr/>
        </p:nvSpPr>
        <p:spPr>
          <a:xfrm>
            <a:off x="2363760" y="5956200"/>
            <a:ext cx="42955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1b"/>
                </a:solidFill>
                <a:latin typeface="Arial"/>
                <a:ea typeface="华文新魏"/>
              </a:rPr>
              <a:t>深圳特区和邓小平为深圳特区题词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3124080" y="5229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邓小平视察深圳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04" name="Picture 3" descr="001372af58b20a7bdc3b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34136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4" descr="xinsrc_002040521164800022557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1341360"/>
            <a:ext cx="2654280" cy="30956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5"/>
          <p:cNvSpPr/>
          <p:nvPr/>
        </p:nvSpPr>
        <p:spPr>
          <a:xfrm>
            <a:off x="971640" y="4508640"/>
            <a:ext cx="7056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5202"/>
                </a:solidFill>
                <a:latin typeface="Arial Narrow"/>
                <a:ea typeface="宋体"/>
              </a:rPr>
              <a:t>1984 </a:t>
            </a:r>
            <a:r>
              <a:rPr b="0" lang="zh-CN" sz="1800" spc="-1" strike="noStrike">
                <a:solidFill>
                  <a:srgbClr val="135202"/>
                </a:solidFill>
                <a:latin typeface="Arial Narrow"/>
                <a:ea typeface="宋体"/>
              </a:rPr>
              <a:t>年                          </a:t>
            </a:r>
            <a:r>
              <a:rPr b="0" lang="en-US" sz="1800" spc="-1" strike="noStrike">
                <a:solidFill>
                  <a:srgbClr val="135202"/>
                </a:solidFill>
                <a:latin typeface="Arial Narrow"/>
                <a:ea typeface="宋体"/>
              </a:rPr>
              <a:t>1992</a:t>
            </a:r>
            <a:r>
              <a:rPr b="0" lang="zh-CN" sz="1800" spc="-1" strike="noStrike">
                <a:solidFill>
                  <a:srgbClr val="135202"/>
                </a:solidFill>
                <a:latin typeface="Arial Narrow"/>
                <a:ea typeface="宋体"/>
              </a:rPr>
              <a:t>年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8000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/>
          <p:cNvSpPr/>
          <p:nvPr/>
        </p:nvSpPr>
        <p:spPr>
          <a:xfrm>
            <a:off x="2193840" y="1663560"/>
            <a:ext cx="889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08" name="Picture 3" descr="dxp-shenzhen"/>
          <p:cNvPicPr/>
          <p:nvPr/>
        </p:nvPicPr>
        <p:blipFill>
          <a:blip r:embed="rId1"/>
          <a:stretch/>
        </p:blipFill>
        <p:spPr>
          <a:xfrm>
            <a:off x="609480" y="228600"/>
            <a:ext cx="7417080" cy="5232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09" name="Rectangle 4"/>
          <p:cNvSpPr/>
          <p:nvPr/>
        </p:nvSpPr>
        <p:spPr>
          <a:xfrm>
            <a:off x="228600" y="57326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位于深圳市中心的大型宣传画《小平同志在深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中国第一个经济特区——深圳"/>
          <p:cNvPicPr/>
          <p:nvPr/>
        </p:nvPicPr>
        <p:blipFill>
          <a:blip r:embed="rId1"/>
          <a:stretch/>
        </p:blipFill>
        <p:spPr>
          <a:xfrm>
            <a:off x="249120" y="765000"/>
            <a:ext cx="5040360" cy="357372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3"/>
          <p:cNvSpPr/>
          <p:nvPr/>
        </p:nvSpPr>
        <p:spPr>
          <a:xfrm>
            <a:off x="2032560" y="472428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迷你简毡笔黑"/>
              </a:rPr>
              <a:t>中国第一个经济特区——深圳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12" name="Picture 4" descr="未命名2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813" name="Group 5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814" name="Picture 6" descr="pic_0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WordArt 7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816" name="Text Box 8"/>
          <p:cNvSpPr/>
          <p:nvPr/>
        </p:nvSpPr>
        <p:spPr>
          <a:xfrm>
            <a:off x="5506920" y="836640"/>
            <a:ext cx="3205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深圳外，还有那些经济特区？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5651640" y="2276640"/>
            <a:ext cx="331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珠海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汕头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厦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海南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（最后增设，最大）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8000"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6"/>
          <p:cNvSpPr/>
          <p:nvPr/>
        </p:nvSpPr>
        <p:spPr>
          <a:xfrm>
            <a:off x="0" y="18900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四个经济特区：深圳、珠海、汕头、厦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19" name="图片 5" descr=""/>
          <p:cNvPicPr/>
          <p:nvPr/>
        </p:nvPicPr>
        <p:blipFill>
          <a:blip r:embed="rId1"/>
          <a:stretch/>
        </p:blipFill>
        <p:spPr>
          <a:xfrm>
            <a:off x="0" y="890640"/>
            <a:ext cx="4645080" cy="28828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8" descr=""/>
          <p:cNvPicPr/>
          <p:nvPr/>
        </p:nvPicPr>
        <p:blipFill>
          <a:blip r:embed="rId2"/>
          <a:stretch/>
        </p:blipFill>
        <p:spPr>
          <a:xfrm>
            <a:off x="4645080" y="3780000"/>
            <a:ext cx="4498920" cy="307800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" descr=""/>
          <p:cNvPicPr/>
          <p:nvPr/>
        </p:nvPicPr>
        <p:blipFill>
          <a:blip r:embed="rId3"/>
          <a:stretch/>
        </p:blipFill>
        <p:spPr>
          <a:xfrm>
            <a:off x="0" y="3773520"/>
            <a:ext cx="4645080" cy="308448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10" descr=""/>
          <p:cNvPicPr/>
          <p:nvPr/>
        </p:nvPicPr>
        <p:blipFill>
          <a:blip r:embed="rId4"/>
          <a:stretch/>
        </p:blipFill>
        <p:spPr>
          <a:xfrm>
            <a:off x="4645080" y="896760"/>
            <a:ext cx="44989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00123fb9bce70a9d63090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54364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3"/>
          <p:cNvSpPr/>
          <p:nvPr/>
        </p:nvSpPr>
        <p:spPr>
          <a:xfrm>
            <a:off x="1042920" y="587700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海南经济特区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八十年代，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华文中宋"/>
              </a:rPr>
              <a:t>我国经济发展存在哪些不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济特区在社会主义现代化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建设中有什么作用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042920" y="2420640"/>
            <a:ext cx="7561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吸收侨资、外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缺少资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引进先进科学技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技术落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学习先进管理经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没有经验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828" name="Picture 5" descr="pic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830" name="Picture 7" descr="未命名2"/>
          <p:cNvPicPr/>
          <p:nvPr/>
        </p:nvPicPr>
        <p:blipFill>
          <a:blip r:embed="rId2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31" name="WordArt 8"/>
          <p:cNvSpPr txBox="1"/>
          <p:nvPr/>
        </p:nvSpPr>
        <p:spPr>
          <a:xfrm>
            <a:off x="1908000" y="4724280"/>
            <a:ext cx="547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对外开放的窗口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3"/>
          <p:cNvSpPr/>
          <p:nvPr/>
        </p:nvSpPr>
        <p:spPr>
          <a:xfrm>
            <a:off x="1655640" y="5676840"/>
            <a:ext cx="63374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蓬勃发展的上海埔东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33" name="图片 1" descr=""/>
          <p:cNvPicPr/>
          <p:nvPr/>
        </p:nvPicPr>
        <p:blipFill>
          <a:blip r:embed="rId1"/>
          <a:stretch/>
        </p:blipFill>
        <p:spPr>
          <a:xfrm>
            <a:off x="1206360" y="836640"/>
            <a:ext cx="6699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未知"/>
          <p:cNvSpPr/>
          <p:nvPr/>
        </p:nvSpPr>
        <p:spPr>
          <a:xfrm>
            <a:off x="1289160" y="2303640"/>
            <a:ext cx="6954840" cy="3141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64e0a"/>
              </a:gs>
              <a:gs pos="50000">
                <a:srgbClr val="ffc319"/>
              </a:gs>
              <a:gs pos="100000">
                <a:srgbClr val="664e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3168720" y="294804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4103640" y="32497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202360" y="36115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270036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宋体"/>
              </a:rPr>
              <a:t>5.02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3708360" y="1773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宋体"/>
              </a:rPr>
              <a:t>6.7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4716360" y="1773360"/>
            <a:ext cx="14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宋体"/>
              </a:rPr>
              <a:t>7.15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1692360" y="35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1980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年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2556000" y="393372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1981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年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438360" y="4500720"/>
            <a:ext cx="24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1982</a:t>
            </a:r>
            <a:r>
              <a:rPr b="1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年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cxnSp>
        <p:nvCxnSpPr>
          <p:cNvPr id="622" name="AutoShape 12"/>
          <p:cNvCxnSpPr>
            <a:stCxn id="613" idx="3"/>
            <a:endCxn id="619" idx="0"/>
          </p:cNvCxnSpPr>
          <p:nvPr/>
        </p:nvCxnSpPr>
        <p:spPr>
          <a:xfrm flipH="1">
            <a:off x="2557080" y="3128760"/>
            <a:ext cx="737280" cy="3718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23" name="AutoShape 13"/>
          <p:cNvCxnSpPr>
            <a:stCxn id="614" idx="3"/>
            <a:endCxn id="620" idx="0"/>
          </p:cNvCxnSpPr>
          <p:nvPr/>
        </p:nvCxnSpPr>
        <p:spPr>
          <a:xfrm flipH="1">
            <a:off x="3614760" y="3538440"/>
            <a:ext cx="660600" cy="394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24" name="AutoShape 14"/>
          <p:cNvCxnSpPr>
            <a:stCxn id="615" idx="3"/>
            <a:endCxn id="621" idx="0"/>
          </p:cNvCxnSpPr>
          <p:nvPr/>
        </p:nvCxnSpPr>
        <p:spPr>
          <a:xfrm flipH="1">
            <a:off x="4639680" y="4014720"/>
            <a:ext cx="772200" cy="4867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625" name="AutoShape 15"/>
          <p:cNvSpPr/>
          <p:nvPr/>
        </p:nvSpPr>
        <p:spPr>
          <a:xfrm>
            <a:off x="5202360" y="23446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6" name="AutoShape 16"/>
          <p:cNvSpPr/>
          <p:nvPr/>
        </p:nvSpPr>
        <p:spPr>
          <a:xfrm>
            <a:off x="4103640" y="234144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7" name="AutoShape 17"/>
          <p:cNvSpPr/>
          <p:nvPr/>
        </p:nvSpPr>
        <p:spPr>
          <a:xfrm>
            <a:off x="3168720" y="234792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凤阳县粮食生产三年三大步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1332000" y="5013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思考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数据说明了什么问题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6443640" y="177336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单位：亿斤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2" descr="108057"/>
          <p:cNvPicPr/>
          <p:nvPr/>
        </p:nvPicPr>
        <p:blipFill>
          <a:blip r:embed="rId1"/>
          <a:stretch/>
        </p:blipFill>
        <p:spPr>
          <a:xfrm>
            <a:off x="1143000" y="152280"/>
            <a:ext cx="7543800" cy="586764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3"/>
          <p:cNvSpPr/>
          <p:nvPr/>
        </p:nvSpPr>
        <p:spPr>
          <a:xfrm>
            <a:off x="-380160" y="1050840"/>
            <a:ext cx="13993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上海浦东金融贸易区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36" name="Picture 4" descr="129048"/>
          <p:cNvPicPr/>
          <p:nvPr/>
        </p:nvPicPr>
        <p:blipFill>
          <a:blip r:embed="rId2"/>
          <a:stretch/>
        </p:blipFill>
        <p:spPr>
          <a:xfrm>
            <a:off x="114444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AutoShape 2"/>
          <p:cNvSpPr/>
          <p:nvPr/>
        </p:nvSpPr>
        <p:spPr>
          <a:xfrm>
            <a:off x="2413080" y="191628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8" name="WordArt 3"/>
          <p:cNvSpPr txBox="1"/>
          <p:nvPr/>
        </p:nvSpPr>
        <p:spPr>
          <a:xfrm>
            <a:off x="469800" y="170028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尝试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9" name="WordArt 4"/>
          <p:cNvSpPr txBox="1"/>
          <p:nvPr/>
        </p:nvSpPr>
        <p:spPr>
          <a:xfrm>
            <a:off x="4643280" y="177336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扩大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0" name="AutoShape 5"/>
          <p:cNvSpPr/>
          <p:nvPr/>
        </p:nvSpPr>
        <p:spPr>
          <a:xfrm>
            <a:off x="1042920" y="2708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1" name="AutoShape 6"/>
          <p:cNvSpPr/>
          <p:nvPr/>
        </p:nvSpPr>
        <p:spPr>
          <a:xfrm rot="5400000">
            <a:off x="5211360" y="99036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03840 h 3886200"/>
              <a:gd name="textAreaBottom" fmla="*/ 3582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306288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线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97344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515196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面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5" name="AutoShape 10"/>
          <p:cNvSpPr/>
          <p:nvPr/>
        </p:nvSpPr>
        <p:spPr>
          <a:xfrm>
            <a:off x="1042920" y="429264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6" name="AutoShape 11"/>
          <p:cNvSpPr/>
          <p:nvPr/>
        </p:nvSpPr>
        <p:spPr>
          <a:xfrm>
            <a:off x="3130560" y="43657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7" name="AutoShape 12"/>
          <p:cNvSpPr/>
          <p:nvPr/>
        </p:nvSpPr>
        <p:spPr>
          <a:xfrm>
            <a:off x="5148360" y="42210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848" name="Group 13"/>
          <p:cNvGrpSpPr/>
          <p:nvPr/>
        </p:nvGrpSpPr>
        <p:grpSpPr>
          <a:xfrm>
            <a:off x="762120" y="2781360"/>
            <a:ext cx="8381880" cy="1510920"/>
            <a:chOff x="762120" y="2781360"/>
            <a:chExt cx="8381880" cy="1510920"/>
          </a:xfrm>
        </p:grpSpPr>
        <p:sp>
          <p:nvSpPr>
            <p:cNvPr id="849" name="Rectangle 14"/>
            <p:cNvSpPr/>
            <p:nvPr/>
          </p:nvSpPr>
          <p:spPr>
            <a:xfrm>
              <a:off x="8135280" y="27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沿江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0" name="Text Box 15"/>
            <p:cNvSpPr/>
            <p:nvPr/>
          </p:nvSpPr>
          <p:spPr>
            <a:xfrm>
              <a:off x="762120" y="3255840"/>
              <a:ext cx="89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经济特区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1" name="Text Box 16"/>
            <p:cNvSpPr/>
            <p:nvPr/>
          </p:nvSpPr>
          <p:spPr>
            <a:xfrm>
              <a:off x="2914920" y="3103200"/>
              <a:ext cx="89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沿海开放城市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2" name="Text Box 17"/>
            <p:cNvSpPr/>
            <p:nvPr/>
          </p:nvSpPr>
          <p:spPr>
            <a:xfrm>
              <a:off x="4837320" y="3331800"/>
              <a:ext cx="12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经济开放区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3" name="AutoShape 18"/>
            <p:cNvSpPr/>
            <p:nvPr/>
          </p:nvSpPr>
          <p:spPr>
            <a:xfrm>
              <a:off x="1838520" y="3484440"/>
              <a:ext cx="770040" cy="380520"/>
            </a:xfrm>
            <a:prstGeom prst="rightArrow">
              <a:avLst>
                <a:gd name="adj1" fmla="val 50000"/>
                <a:gd name="adj2" fmla="val 5057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4" name="AutoShape 19"/>
            <p:cNvSpPr/>
            <p:nvPr/>
          </p:nvSpPr>
          <p:spPr>
            <a:xfrm>
              <a:off x="3915000" y="3484440"/>
              <a:ext cx="768240" cy="380520"/>
            </a:xfrm>
            <a:prstGeom prst="rightArrow">
              <a:avLst>
                <a:gd name="adj1" fmla="val 50000"/>
                <a:gd name="adj2" fmla="val 504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5" name="AutoShape 20"/>
            <p:cNvSpPr/>
            <p:nvPr/>
          </p:nvSpPr>
          <p:spPr>
            <a:xfrm>
              <a:off x="6145200" y="3484440"/>
              <a:ext cx="768600" cy="380520"/>
            </a:xfrm>
            <a:prstGeom prst="rightArrow">
              <a:avLst>
                <a:gd name="adj1" fmla="val 50000"/>
                <a:gd name="adj2" fmla="val 5047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6" name="Text Box 21"/>
            <p:cNvSpPr/>
            <p:nvPr/>
          </p:nvSpPr>
          <p:spPr>
            <a:xfrm>
              <a:off x="7989840" y="3771720"/>
              <a:ext cx="11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沿边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7" name="Rectangle 22"/>
            <p:cNvSpPr/>
            <p:nvPr/>
          </p:nvSpPr>
          <p:spPr>
            <a:xfrm>
              <a:off x="7059240" y="33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内地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8" name="AutoShape 23"/>
            <p:cNvSpPr/>
            <p:nvPr/>
          </p:nvSpPr>
          <p:spPr>
            <a:xfrm>
              <a:off x="7837560" y="3085920"/>
              <a:ext cx="152280" cy="10663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320"/>
                <a:gd name="textAreaBottom" fmla="*/ 103860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9" name="Rectangle 24"/>
            <p:cNvSpPr/>
            <p:nvPr/>
          </p:nvSpPr>
          <p:spPr>
            <a:xfrm>
              <a:off x="7989840" y="3252600"/>
              <a:ext cx="90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省会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0" y="765000"/>
            <a:ext cx="9144000" cy="576000"/>
            <a:chOff x="0" y="765000"/>
            <a:chExt cx="9144000" cy="576000"/>
          </a:xfrm>
        </p:grpSpPr>
        <p:pic>
          <p:nvPicPr>
            <p:cNvPr id="861" name="Picture 26" descr="main01_01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4572000" y="765000"/>
              <a:ext cx="24415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27" descr="解放思想、实事求是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0" y="765000"/>
              <a:ext cx="23623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28" descr="dxp-shenzhen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7010280" y="765000"/>
              <a:ext cx="21337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29" descr="邓小平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2286000" y="765000"/>
              <a:ext cx="236232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WordArt 30"/>
          <p:cNvSpPr txBox="1"/>
          <p:nvPr/>
        </p:nvSpPr>
        <p:spPr>
          <a:xfrm>
            <a:off x="469800" y="5734080"/>
            <a:ext cx="840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全方位、多层次、宽领域的对外开放格局</a:t>
            </a:r>
            <a:endParaRPr b="1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66" name="WordArt 31"/>
          <p:cNvSpPr txBox="1"/>
          <p:nvPr/>
        </p:nvSpPr>
        <p:spPr>
          <a:xfrm>
            <a:off x="395280" y="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开放格局</a:t>
            </a:r>
            <a:endParaRPr b="1" lang="en-US" sz="54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c36r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49120" y="0"/>
            <a:ext cx="8570880" cy="6824520"/>
          </a:xfrm>
          <a:prstGeom prst="rect">
            <a:avLst/>
          </a:prstGeom>
          <a:ln w="0">
            <a:noFill/>
          </a:ln>
        </p:spPr>
      </p:pic>
      <p:grpSp>
        <p:nvGrpSpPr>
          <p:cNvPr id="868" name="Group 3"/>
          <p:cNvGrpSpPr/>
          <p:nvPr/>
        </p:nvGrpSpPr>
        <p:grpSpPr>
          <a:xfrm>
            <a:off x="5029200" y="1968480"/>
            <a:ext cx="2679480" cy="4840200"/>
            <a:chOff x="5029200" y="1968480"/>
            <a:chExt cx="2679480" cy="4840200"/>
          </a:xfrm>
        </p:grpSpPr>
        <p:sp>
          <p:nvSpPr>
            <p:cNvPr id="869" name="未知"/>
            <p:cNvSpPr/>
            <p:nvPr/>
          </p:nvSpPr>
          <p:spPr>
            <a:xfrm>
              <a:off x="5029200" y="5481720"/>
              <a:ext cx="1774440" cy="955440"/>
            </a:xfrm>
            <a:custGeom>
              <a:avLst/>
              <a:gdLst/>
              <a:ahLst/>
              <a:rect l="l" t="t" r="r" b="b"/>
              <a:pathLst>
                <a:path w="1117" h="602">
                  <a:moveTo>
                    <a:pt x="0" y="360"/>
                  </a:moveTo>
                  <a:cubicBezTo>
                    <a:pt x="35" y="366"/>
                    <a:pt x="69" y="378"/>
                    <a:pt x="104" y="383"/>
                  </a:cubicBezTo>
                  <a:cubicBezTo>
                    <a:pt x="165" y="392"/>
                    <a:pt x="288" y="406"/>
                    <a:pt x="288" y="406"/>
                  </a:cubicBezTo>
                  <a:cubicBezTo>
                    <a:pt x="346" y="395"/>
                    <a:pt x="363" y="378"/>
                    <a:pt x="415" y="360"/>
                  </a:cubicBezTo>
                  <a:cubicBezTo>
                    <a:pt x="423" y="349"/>
                    <a:pt x="425" y="330"/>
                    <a:pt x="438" y="326"/>
                  </a:cubicBezTo>
                  <a:cubicBezTo>
                    <a:pt x="457" y="321"/>
                    <a:pt x="476" y="337"/>
                    <a:pt x="495" y="337"/>
                  </a:cubicBezTo>
                  <a:cubicBezTo>
                    <a:pt x="515" y="337"/>
                    <a:pt x="531" y="238"/>
                    <a:pt x="554" y="233"/>
                  </a:cubicBezTo>
                  <a:cubicBezTo>
                    <a:pt x="522" y="132"/>
                    <a:pt x="587" y="209"/>
                    <a:pt x="611" y="61"/>
                  </a:cubicBezTo>
                  <a:cubicBezTo>
                    <a:pt x="617" y="25"/>
                    <a:pt x="703" y="3"/>
                    <a:pt x="703" y="3"/>
                  </a:cubicBezTo>
                  <a:cubicBezTo>
                    <a:pt x="722" y="7"/>
                    <a:pt x="748" y="0"/>
                    <a:pt x="760" y="15"/>
                  </a:cubicBezTo>
                  <a:cubicBezTo>
                    <a:pt x="770" y="27"/>
                    <a:pt x="749" y="45"/>
                    <a:pt x="749" y="61"/>
                  </a:cubicBezTo>
                  <a:cubicBezTo>
                    <a:pt x="749" y="115"/>
                    <a:pt x="756" y="106"/>
                    <a:pt x="795" y="118"/>
                  </a:cubicBezTo>
                  <a:cubicBezTo>
                    <a:pt x="806" y="110"/>
                    <a:pt x="815" y="97"/>
                    <a:pt x="829" y="95"/>
                  </a:cubicBezTo>
                  <a:cubicBezTo>
                    <a:pt x="920" y="84"/>
                    <a:pt x="892" y="164"/>
                    <a:pt x="910" y="222"/>
                  </a:cubicBezTo>
                  <a:cubicBezTo>
                    <a:pt x="1005" y="189"/>
                    <a:pt x="894" y="238"/>
                    <a:pt x="956" y="176"/>
                  </a:cubicBezTo>
                  <a:cubicBezTo>
                    <a:pt x="970" y="162"/>
                    <a:pt x="1047" y="149"/>
                    <a:pt x="1071" y="141"/>
                  </a:cubicBezTo>
                  <a:cubicBezTo>
                    <a:pt x="1075" y="130"/>
                    <a:pt x="1079" y="118"/>
                    <a:pt x="1083" y="107"/>
                  </a:cubicBezTo>
                  <a:cubicBezTo>
                    <a:pt x="1087" y="95"/>
                    <a:pt x="1082" y="72"/>
                    <a:pt x="1094" y="72"/>
                  </a:cubicBezTo>
                  <a:cubicBezTo>
                    <a:pt x="1108" y="72"/>
                    <a:pt x="1109" y="95"/>
                    <a:pt x="1117" y="107"/>
                  </a:cubicBezTo>
                  <a:cubicBezTo>
                    <a:pt x="1108" y="176"/>
                    <a:pt x="1115" y="212"/>
                    <a:pt x="1048" y="233"/>
                  </a:cubicBezTo>
                  <a:cubicBezTo>
                    <a:pt x="1016" y="255"/>
                    <a:pt x="982" y="304"/>
                    <a:pt x="945" y="314"/>
                  </a:cubicBezTo>
                  <a:cubicBezTo>
                    <a:pt x="915" y="322"/>
                    <a:pt x="883" y="322"/>
                    <a:pt x="852" y="326"/>
                  </a:cubicBezTo>
                  <a:cubicBezTo>
                    <a:pt x="802" y="343"/>
                    <a:pt x="754" y="359"/>
                    <a:pt x="703" y="372"/>
                  </a:cubicBezTo>
                  <a:cubicBezTo>
                    <a:pt x="648" y="454"/>
                    <a:pt x="555" y="445"/>
                    <a:pt x="461" y="452"/>
                  </a:cubicBezTo>
                  <a:cubicBezTo>
                    <a:pt x="449" y="456"/>
                    <a:pt x="436" y="456"/>
                    <a:pt x="426" y="464"/>
                  </a:cubicBezTo>
                  <a:cubicBezTo>
                    <a:pt x="383" y="498"/>
                    <a:pt x="406" y="552"/>
                    <a:pt x="380" y="591"/>
                  </a:cubicBezTo>
                  <a:cubicBezTo>
                    <a:pt x="373" y="601"/>
                    <a:pt x="357" y="598"/>
                    <a:pt x="346" y="602"/>
                  </a:cubicBezTo>
                  <a:cubicBezTo>
                    <a:pt x="259" y="575"/>
                    <a:pt x="313" y="575"/>
                    <a:pt x="276" y="510"/>
                  </a:cubicBezTo>
                  <a:cubicBezTo>
                    <a:pt x="269" y="498"/>
                    <a:pt x="253" y="495"/>
                    <a:pt x="242" y="487"/>
                  </a:cubicBezTo>
                  <a:cubicBezTo>
                    <a:pt x="188" y="504"/>
                    <a:pt x="204" y="505"/>
                    <a:pt x="127" y="487"/>
                  </a:cubicBezTo>
                  <a:cubicBezTo>
                    <a:pt x="103" y="482"/>
                    <a:pt x="81" y="472"/>
                    <a:pt x="58" y="464"/>
                  </a:cubicBezTo>
                  <a:cubicBezTo>
                    <a:pt x="46" y="460"/>
                    <a:pt x="23" y="452"/>
                    <a:pt x="23" y="452"/>
                  </a:cubicBezTo>
                  <a:cubicBezTo>
                    <a:pt x="6" y="399"/>
                    <a:pt x="14" y="430"/>
                    <a:pt x="0" y="36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773400" y="3744720"/>
              <a:ext cx="700560" cy="1968840"/>
            </a:xfrm>
            <a:custGeom>
              <a:avLst/>
              <a:gdLst/>
              <a:ahLst/>
              <a:rect l="l" t="t" r="r" b="b"/>
              <a:pathLst>
                <a:path w="441" h="1240">
                  <a:moveTo>
                    <a:pt x="4" y="1185"/>
                  </a:moveTo>
                  <a:cubicBezTo>
                    <a:pt x="8" y="1168"/>
                    <a:pt x="5" y="1148"/>
                    <a:pt x="16" y="1135"/>
                  </a:cubicBezTo>
                  <a:cubicBezTo>
                    <a:pt x="24" y="1125"/>
                    <a:pt x="42" y="1128"/>
                    <a:pt x="54" y="1122"/>
                  </a:cubicBezTo>
                  <a:cubicBezTo>
                    <a:pt x="68" y="1115"/>
                    <a:pt x="79" y="1105"/>
                    <a:pt x="92" y="1097"/>
                  </a:cubicBezTo>
                  <a:cubicBezTo>
                    <a:pt x="113" y="1030"/>
                    <a:pt x="97" y="1070"/>
                    <a:pt x="154" y="984"/>
                  </a:cubicBezTo>
                  <a:cubicBezTo>
                    <a:pt x="164" y="969"/>
                    <a:pt x="175" y="909"/>
                    <a:pt x="179" y="897"/>
                  </a:cubicBezTo>
                  <a:cubicBezTo>
                    <a:pt x="192" y="853"/>
                    <a:pt x="190" y="862"/>
                    <a:pt x="217" y="822"/>
                  </a:cubicBezTo>
                  <a:cubicBezTo>
                    <a:pt x="232" y="774"/>
                    <a:pt x="264" y="750"/>
                    <a:pt x="292" y="709"/>
                  </a:cubicBezTo>
                  <a:cubicBezTo>
                    <a:pt x="304" y="671"/>
                    <a:pt x="317" y="634"/>
                    <a:pt x="329" y="596"/>
                  </a:cubicBezTo>
                  <a:cubicBezTo>
                    <a:pt x="325" y="584"/>
                    <a:pt x="329" y="565"/>
                    <a:pt x="317" y="559"/>
                  </a:cubicBezTo>
                  <a:cubicBezTo>
                    <a:pt x="305" y="553"/>
                    <a:pt x="292" y="571"/>
                    <a:pt x="279" y="571"/>
                  </a:cubicBezTo>
                  <a:cubicBezTo>
                    <a:pt x="241" y="571"/>
                    <a:pt x="252" y="479"/>
                    <a:pt x="215" y="475"/>
                  </a:cubicBezTo>
                  <a:cubicBezTo>
                    <a:pt x="176" y="415"/>
                    <a:pt x="110" y="458"/>
                    <a:pt x="54" y="421"/>
                  </a:cubicBezTo>
                  <a:cubicBezTo>
                    <a:pt x="37" y="369"/>
                    <a:pt x="0" y="298"/>
                    <a:pt x="79" y="271"/>
                  </a:cubicBezTo>
                  <a:cubicBezTo>
                    <a:pt x="103" y="263"/>
                    <a:pt x="129" y="262"/>
                    <a:pt x="154" y="258"/>
                  </a:cubicBezTo>
                  <a:cubicBezTo>
                    <a:pt x="182" y="240"/>
                    <a:pt x="262" y="203"/>
                    <a:pt x="217" y="158"/>
                  </a:cubicBezTo>
                  <a:cubicBezTo>
                    <a:pt x="208" y="149"/>
                    <a:pt x="192" y="149"/>
                    <a:pt x="179" y="145"/>
                  </a:cubicBezTo>
                  <a:cubicBezTo>
                    <a:pt x="175" y="133"/>
                    <a:pt x="167" y="121"/>
                    <a:pt x="167" y="108"/>
                  </a:cubicBezTo>
                  <a:cubicBezTo>
                    <a:pt x="167" y="91"/>
                    <a:pt x="179" y="58"/>
                    <a:pt x="179" y="58"/>
                  </a:cubicBezTo>
                  <a:cubicBezTo>
                    <a:pt x="175" y="45"/>
                    <a:pt x="161" y="32"/>
                    <a:pt x="167" y="20"/>
                  </a:cubicBezTo>
                  <a:cubicBezTo>
                    <a:pt x="173" y="8"/>
                    <a:pt x="193" y="0"/>
                    <a:pt x="204" y="8"/>
                  </a:cubicBezTo>
                  <a:cubicBezTo>
                    <a:pt x="228" y="26"/>
                    <a:pt x="244" y="55"/>
                    <a:pt x="254" y="83"/>
                  </a:cubicBezTo>
                  <a:cubicBezTo>
                    <a:pt x="258" y="95"/>
                    <a:pt x="258" y="111"/>
                    <a:pt x="267" y="120"/>
                  </a:cubicBezTo>
                  <a:cubicBezTo>
                    <a:pt x="288" y="141"/>
                    <a:pt x="342" y="170"/>
                    <a:pt x="342" y="170"/>
                  </a:cubicBezTo>
                  <a:cubicBezTo>
                    <a:pt x="346" y="183"/>
                    <a:pt x="346" y="199"/>
                    <a:pt x="355" y="208"/>
                  </a:cubicBezTo>
                  <a:cubicBezTo>
                    <a:pt x="364" y="217"/>
                    <a:pt x="385" y="209"/>
                    <a:pt x="392" y="220"/>
                  </a:cubicBezTo>
                  <a:cubicBezTo>
                    <a:pt x="407" y="242"/>
                    <a:pt x="417" y="296"/>
                    <a:pt x="417" y="296"/>
                  </a:cubicBezTo>
                  <a:cubicBezTo>
                    <a:pt x="436" y="462"/>
                    <a:pt x="441" y="470"/>
                    <a:pt x="430" y="671"/>
                  </a:cubicBezTo>
                  <a:cubicBezTo>
                    <a:pt x="417" y="667"/>
                    <a:pt x="401" y="650"/>
                    <a:pt x="392" y="659"/>
                  </a:cubicBezTo>
                  <a:cubicBezTo>
                    <a:pt x="362" y="689"/>
                    <a:pt x="373" y="748"/>
                    <a:pt x="355" y="784"/>
                  </a:cubicBezTo>
                  <a:cubicBezTo>
                    <a:pt x="341" y="811"/>
                    <a:pt x="304" y="859"/>
                    <a:pt x="304" y="859"/>
                  </a:cubicBezTo>
                  <a:cubicBezTo>
                    <a:pt x="283" y="926"/>
                    <a:pt x="264" y="993"/>
                    <a:pt x="242" y="1059"/>
                  </a:cubicBezTo>
                  <a:cubicBezTo>
                    <a:pt x="234" y="1083"/>
                    <a:pt x="225" y="1118"/>
                    <a:pt x="204" y="1135"/>
                  </a:cubicBezTo>
                  <a:cubicBezTo>
                    <a:pt x="194" y="1143"/>
                    <a:pt x="179" y="1143"/>
                    <a:pt x="167" y="1147"/>
                  </a:cubicBezTo>
                  <a:cubicBezTo>
                    <a:pt x="138" y="1231"/>
                    <a:pt x="178" y="1148"/>
                    <a:pt x="117" y="1197"/>
                  </a:cubicBezTo>
                  <a:cubicBezTo>
                    <a:pt x="105" y="1207"/>
                    <a:pt x="100" y="1222"/>
                    <a:pt x="92" y="1235"/>
                  </a:cubicBezTo>
                  <a:cubicBezTo>
                    <a:pt x="14" y="1219"/>
                    <a:pt x="41" y="1240"/>
                    <a:pt x="4" y="1185"/>
                  </a:cubicBez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357240" y="1968480"/>
              <a:ext cx="1351440" cy="1809720"/>
            </a:xfrm>
            <a:custGeom>
              <a:avLst/>
              <a:gdLst/>
              <a:ahLst/>
              <a:rect l="l" t="t" r="r" b="b"/>
              <a:pathLst>
                <a:path w="851" h="1140">
                  <a:moveTo>
                    <a:pt x="454" y="1127"/>
                  </a:moveTo>
                  <a:cubicBezTo>
                    <a:pt x="421" y="1123"/>
                    <a:pt x="375" y="1140"/>
                    <a:pt x="354" y="1114"/>
                  </a:cubicBezTo>
                  <a:cubicBezTo>
                    <a:pt x="327" y="1082"/>
                    <a:pt x="346" y="1031"/>
                    <a:pt x="341" y="989"/>
                  </a:cubicBezTo>
                  <a:cubicBezTo>
                    <a:pt x="337" y="956"/>
                    <a:pt x="343" y="890"/>
                    <a:pt x="339" y="857"/>
                  </a:cubicBezTo>
                  <a:cubicBezTo>
                    <a:pt x="272" y="868"/>
                    <a:pt x="205" y="917"/>
                    <a:pt x="141" y="939"/>
                  </a:cubicBezTo>
                  <a:cubicBezTo>
                    <a:pt x="120" y="935"/>
                    <a:pt x="96" y="938"/>
                    <a:pt x="78" y="926"/>
                  </a:cubicBezTo>
                  <a:cubicBezTo>
                    <a:pt x="67" y="919"/>
                    <a:pt x="72" y="901"/>
                    <a:pt x="66" y="889"/>
                  </a:cubicBezTo>
                  <a:cubicBezTo>
                    <a:pt x="47" y="851"/>
                    <a:pt x="120" y="834"/>
                    <a:pt x="97" y="799"/>
                  </a:cubicBezTo>
                  <a:cubicBezTo>
                    <a:pt x="112" y="719"/>
                    <a:pt x="80" y="738"/>
                    <a:pt x="143" y="695"/>
                  </a:cubicBezTo>
                  <a:cubicBezTo>
                    <a:pt x="136" y="666"/>
                    <a:pt x="59" y="606"/>
                    <a:pt x="53" y="576"/>
                  </a:cubicBezTo>
                  <a:cubicBezTo>
                    <a:pt x="32" y="469"/>
                    <a:pt x="66" y="512"/>
                    <a:pt x="15" y="463"/>
                  </a:cubicBezTo>
                  <a:cubicBezTo>
                    <a:pt x="0" y="414"/>
                    <a:pt x="11" y="385"/>
                    <a:pt x="28" y="338"/>
                  </a:cubicBezTo>
                  <a:cubicBezTo>
                    <a:pt x="66" y="342"/>
                    <a:pt x="104" y="341"/>
                    <a:pt x="141" y="350"/>
                  </a:cubicBezTo>
                  <a:cubicBezTo>
                    <a:pt x="155" y="354"/>
                    <a:pt x="163" y="372"/>
                    <a:pt x="178" y="375"/>
                  </a:cubicBezTo>
                  <a:cubicBezTo>
                    <a:pt x="181" y="376"/>
                    <a:pt x="250" y="351"/>
                    <a:pt x="253" y="350"/>
                  </a:cubicBezTo>
                  <a:cubicBezTo>
                    <a:pt x="267" y="310"/>
                    <a:pt x="274" y="271"/>
                    <a:pt x="303" y="238"/>
                  </a:cubicBezTo>
                  <a:cubicBezTo>
                    <a:pt x="319" y="220"/>
                    <a:pt x="354" y="187"/>
                    <a:pt x="354" y="187"/>
                  </a:cubicBezTo>
                  <a:cubicBezTo>
                    <a:pt x="358" y="175"/>
                    <a:pt x="422" y="221"/>
                    <a:pt x="431" y="212"/>
                  </a:cubicBezTo>
                  <a:cubicBezTo>
                    <a:pt x="440" y="203"/>
                    <a:pt x="408" y="183"/>
                    <a:pt x="420" y="177"/>
                  </a:cubicBezTo>
                  <a:cubicBezTo>
                    <a:pt x="511" y="131"/>
                    <a:pt x="408" y="200"/>
                    <a:pt x="477" y="154"/>
                  </a:cubicBezTo>
                  <a:cubicBezTo>
                    <a:pt x="506" y="110"/>
                    <a:pt x="535" y="29"/>
                    <a:pt x="579" y="0"/>
                  </a:cubicBezTo>
                  <a:cubicBezTo>
                    <a:pt x="592" y="8"/>
                    <a:pt x="613" y="10"/>
                    <a:pt x="617" y="25"/>
                  </a:cubicBezTo>
                  <a:cubicBezTo>
                    <a:pt x="636" y="102"/>
                    <a:pt x="610" y="98"/>
                    <a:pt x="566" y="112"/>
                  </a:cubicBezTo>
                  <a:cubicBezTo>
                    <a:pt x="558" y="125"/>
                    <a:pt x="543" y="135"/>
                    <a:pt x="541" y="150"/>
                  </a:cubicBezTo>
                  <a:cubicBezTo>
                    <a:pt x="534" y="195"/>
                    <a:pt x="609" y="203"/>
                    <a:pt x="639" y="212"/>
                  </a:cubicBezTo>
                  <a:cubicBezTo>
                    <a:pt x="677" y="186"/>
                    <a:pt x="657" y="205"/>
                    <a:pt x="679" y="162"/>
                  </a:cubicBezTo>
                  <a:cubicBezTo>
                    <a:pt x="685" y="150"/>
                    <a:pt x="685" y="200"/>
                    <a:pt x="719" y="142"/>
                  </a:cubicBezTo>
                  <a:cubicBezTo>
                    <a:pt x="737" y="130"/>
                    <a:pt x="733" y="116"/>
                    <a:pt x="754" y="112"/>
                  </a:cubicBezTo>
                  <a:cubicBezTo>
                    <a:pt x="851" y="145"/>
                    <a:pt x="830" y="257"/>
                    <a:pt x="742" y="288"/>
                  </a:cubicBezTo>
                  <a:cubicBezTo>
                    <a:pt x="738" y="300"/>
                    <a:pt x="738" y="316"/>
                    <a:pt x="729" y="325"/>
                  </a:cubicBezTo>
                  <a:cubicBezTo>
                    <a:pt x="708" y="346"/>
                    <a:pt x="675" y="353"/>
                    <a:pt x="654" y="375"/>
                  </a:cubicBezTo>
                  <a:cubicBezTo>
                    <a:pt x="642" y="388"/>
                    <a:pt x="629" y="400"/>
                    <a:pt x="617" y="413"/>
                  </a:cubicBezTo>
                  <a:cubicBezTo>
                    <a:pt x="613" y="430"/>
                    <a:pt x="615" y="450"/>
                    <a:pt x="604" y="463"/>
                  </a:cubicBezTo>
                  <a:cubicBezTo>
                    <a:pt x="584" y="486"/>
                    <a:pt x="529" y="513"/>
                    <a:pt x="529" y="513"/>
                  </a:cubicBezTo>
                  <a:cubicBezTo>
                    <a:pt x="512" y="509"/>
                    <a:pt x="488" y="515"/>
                    <a:pt x="479" y="501"/>
                  </a:cubicBezTo>
                  <a:cubicBezTo>
                    <a:pt x="472" y="491"/>
                    <a:pt x="495" y="483"/>
                    <a:pt x="504" y="475"/>
                  </a:cubicBezTo>
                  <a:cubicBezTo>
                    <a:pt x="515" y="466"/>
                    <a:pt x="529" y="458"/>
                    <a:pt x="541" y="450"/>
                  </a:cubicBezTo>
                  <a:cubicBezTo>
                    <a:pt x="560" y="395"/>
                    <a:pt x="572" y="345"/>
                    <a:pt x="554" y="288"/>
                  </a:cubicBezTo>
                  <a:cubicBezTo>
                    <a:pt x="525" y="297"/>
                    <a:pt x="492" y="298"/>
                    <a:pt x="466" y="313"/>
                  </a:cubicBezTo>
                  <a:cubicBezTo>
                    <a:pt x="438" y="329"/>
                    <a:pt x="418" y="357"/>
                    <a:pt x="391" y="375"/>
                  </a:cubicBezTo>
                  <a:cubicBezTo>
                    <a:pt x="374" y="400"/>
                    <a:pt x="366" y="433"/>
                    <a:pt x="341" y="450"/>
                  </a:cubicBezTo>
                  <a:cubicBezTo>
                    <a:pt x="303" y="475"/>
                    <a:pt x="266" y="488"/>
                    <a:pt x="228" y="513"/>
                  </a:cubicBezTo>
                  <a:cubicBezTo>
                    <a:pt x="220" y="539"/>
                    <a:pt x="179" y="615"/>
                    <a:pt x="216" y="638"/>
                  </a:cubicBezTo>
                  <a:cubicBezTo>
                    <a:pt x="241" y="654"/>
                    <a:pt x="274" y="647"/>
                    <a:pt x="303" y="651"/>
                  </a:cubicBezTo>
                  <a:cubicBezTo>
                    <a:pt x="322" y="706"/>
                    <a:pt x="338" y="707"/>
                    <a:pt x="391" y="726"/>
                  </a:cubicBezTo>
                  <a:cubicBezTo>
                    <a:pt x="515" y="694"/>
                    <a:pt x="389" y="741"/>
                    <a:pt x="454" y="676"/>
                  </a:cubicBezTo>
                  <a:cubicBezTo>
                    <a:pt x="462" y="668"/>
                    <a:pt x="538" y="652"/>
                    <a:pt x="541" y="651"/>
                  </a:cubicBezTo>
                  <a:cubicBezTo>
                    <a:pt x="554" y="643"/>
                    <a:pt x="566" y="619"/>
                    <a:pt x="579" y="626"/>
                  </a:cubicBezTo>
                  <a:cubicBezTo>
                    <a:pt x="605" y="641"/>
                    <a:pt x="629" y="701"/>
                    <a:pt x="629" y="701"/>
                  </a:cubicBezTo>
                  <a:cubicBezTo>
                    <a:pt x="599" y="793"/>
                    <a:pt x="649" y="677"/>
                    <a:pt x="554" y="751"/>
                  </a:cubicBezTo>
                  <a:cubicBezTo>
                    <a:pt x="402" y="870"/>
                    <a:pt x="575" y="802"/>
                    <a:pt x="466" y="839"/>
                  </a:cubicBezTo>
                  <a:cubicBezTo>
                    <a:pt x="454" y="889"/>
                    <a:pt x="444" y="921"/>
                    <a:pt x="416" y="964"/>
                  </a:cubicBezTo>
                  <a:cubicBezTo>
                    <a:pt x="425" y="989"/>
                    <a:pt x="429" y="1015"/>
                    <a:pt x="441" y="1039"/>
                  </a:cubicBezTo>
                  <a:cubicBezTo>
                    <a:pt x="447" y="1051"/>
                    <a:pt x="484" y="1095"/>
                    <a:pt x="479" y="1114"/>
                  </a:cubicBezTo>
                  <a:cubicBezTo>
                    <a:pt x="477" y="1123"/>
                    <a:pt x="462" y="1123"/>
                    <a:pt x="454" y="1127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5275440" y="6470640"/>
              <a:ext cx="430200" cy="338040"/>
            </a:xfrm>
            <a:custGeom>
              <a:avLst/>
              <a:gdLst/>
              <a:ahLst/>
              <a:rect l="l" t="t" r="r" b="b"/>
              <a:pathLst>
                <a:path w="271" h="213">
                  <a:moveTo>
                    <a:pt x="195" y="0"/>
                  </a:moveTo>
                  <a:cubicBezTo>
                    <a:pt x="188" y="1"/>
                    <a:pt x="125" y="14"/>
                    <a:pt x="115" y="18"/>
                  </a:cubicBezTo>
                  <a:cubicBezTo>
                    <a:pt x="105" y="22"/>
                    <a:pt x="98" y="31"/>
                    <a:pt x="89" y="36"/>
                  </a:cubicBezTo>
                  <a:cubicBezTo>
                    <a:pt x="81" y="40"/>
                    <a:pt x="71" y="42"/>
                    <a:pt x="62" y="45"/>
                  </a:cubicBezTo>
                  <a:cubicBezTo>
                    <a:pt x="27" y="80"/>
                    <a:pt x="13" y="75"/>
                    <a:pt x="0" y="124"/>
                  </a:cubicBezTo>
                  <a:cubicBezTo>
                    <a:pt x="15" y="198"/>
                    <a:pt x="20" y="196"/>
                    <a:pt x="89" y="213"/>
                  </a:cubicBezTo>
                  <a:cubicBezTo>
                    <a:pt x="115" y="210"/>
                    <a:pt x="143" y="213"/>
                    <a:pt x="168" y="204"/>
                  </a:cubicBezTo>
                  <a:cubicBezTo>
                    <a:pt x="178" y="200"/>
                    <a:pt x="178" y="184"/>
                    <a:pt x="186" y="178"/>
                  </a:cubicBezTo>
                  <a:cubicBezTo>
                    <a:pt x="193" y="172"/>
                    <a:pt x="204" y="172"/>
                    <a:pt x="213" y="169"/>
                  </a:cubicBezTo>
                  <a:cubicBezTo>
                    <a:pt x="219" y="160"/>
                    <a:pt x="223" y="150"/>
                    <a:pt x="230" y="142"/>
                  </a:cubicBezTo>
                  <a:cubicBezTo>
                    <a:pt x="238" y="134"/>
                    <a:pt x="257" y="135"/>
                    <a:pt x="257" y="124"/>
                  </a:cubicBezTo>
                  <a:cubicBezTo>
                    <a:pt x="257" y="103"/>
                    <a:pt x="193" y="168"/>
                    <a:pt x="248" y="116"/>
                  </a:cubicBezTo>
                  <a:cubicBezTo>
                    <a:pt x="222" y="38"/>
                    <a:pt x="244" y="134"/>
                    <a:pt x="266" y="80"/>
                  </a:cubicBezTo>
                  <a:cubicBezTo>
                    <a:pt x="271" y="69"/>
                    <a:pt x="260" y="57"/>
                    <a:pt x="257" y="45"/>
                  </a:cubicBezTo>
                  <a:cubicBezTo>
                    <a:pt x="254" y="36"/>
                    <a:pt x="256" y="24"/>
                    <a:pt x="248" y="18"/>
                  </a:cubicBezTo>
                  <a:cubicBezTo>
                    <a:pt x="233" y="7"/>
                    <a:pt x="213" y="6"/>
                    <a:pt x="195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873" name="Group 8"/>
          <p:cNvGrpSpPr/>
          <p:nvPr/>
        </p:nvGrpSpPr>
        <p:grpSpPr>
          <a:xfrm>
            <a:off x="5435640" y="5445000"/>
            <a:ext cx="1581120" cy="1223640"/>
            <a:chOff x="5435640" y="5445000"/>
            <a:chExt cx="1581120" cy="1223640"/>
          </a:xfrm>
        </p:grpSpPr>
        <p:sp>
          <p:nvSpPr>
            <p:cNvPr id="874" name="Oval 9"/>
            <p:cNvSpPr/>
            <p:nvPr/>
          </p:nvSpPr>
          <p:spPr>
            <a:xfrm>
              <a:off x="5869080" y="6021360"/>
              <a:ext cx="142920" cy="1443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5" name="Oval 10"/>
            <p:cNvSpPr/>
            <p:nvPr/>
          </p:nvSpPr>
          <p:spPr>
            <a:xfrm>
              <a:off x="6227640" y="5876640"/>
              <a:ext cx="142920" cy="1447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6" name="Oval 11"/>
            <p:cNvSpPr/>
            <p:nvPr/>
          </p:nvSpPr>
          <p:spPr>
            <a:xfrm>
              <a:off x="6516720" y="5806800"/>
              <a:ext cx="141120" cy="142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 flipV="1">
              <a:off x="5435640" y="6523920"/>
              <a:ext cx="142920" cy="1443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6875640" y="5445000"/>
              <a:ext cx="141120" cy="142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879" name="Group 14"/>
          <p:cNvGrpSpPr/>
          <p:nvPr/>
        </p:nvGrpSpPr>
        <p:grpSpPr>
          <a:xfrm>
            <a:off x="5219640" y="2421000"/>
            <a:ext cx="2305080" cy="3959280"/>
            <a:chOff x="5219640" y="2421000"/>
            <a:chExt cx="2305080" cy="3959280"/>
          </a:xfrm>
        </p:grpSpPr>
        <p:sp>
          <p:nvSpPr>
            <p:cNvPr id="880" name="Oval 15"/>
            <p:cNvSpPr/>
            <p:nvPr/>
          </p:nvSpPr>
          <p:spPr>
            <a:xfrm>
              <a:off x="6011640" y="5805720"/>
              <a:ext cx="144720" cy="14436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7165800" y="2638440"/>
              <a:ext cx="14292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7165800" y="2924280"/>
              <a:ext cx="14292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6875280" y="2421000"/>
              <a:ext cx="144720" cy="14436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6589800" y="2708280"/>
              <a:ext cx="14256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7020000" y="3213000"/>
              <a:ext cx="144360" cy="1447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948360" y="3500640"/>
              <a:ext cx="144360" cy="14436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307280" y="4076640"/>
              <a:ext cx="144360" cy="1447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8" name="Oval 23"/>
            <p:cNvSpPr/>
            <p:nvPr/>
          </p:nvSpPr>
          <p:spPr>
            <a:xfrm>
              <a:off x="7308720" y="4294080"/>
              <a:ext cx="14292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9" name="Oval 24"/>
            <p:cNvSpPr/>
            <p:nvPr/>
          </p:nvSpPr>
          <p:spPr>
            <a:xfrm>
              <a:off x="7380360" y="4508640"/>
              <a:ext cx="144360" cy="14436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0" name="Oval 25"/>
            <p:cNvSpPr/>
            <p:nvPr/>
          </p:nvSpPr>
          <p:spPr>
            <a:xfrm>
              <a:off x="7308720" y="4797360"/>
              <a:ext cx="142920" cy="1447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7092720" y="5230800"/>
              <a:ext cx="14292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5508720" y="6237360"/>
              <a:ext cx="142560" cy="14292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3" name="Oval 28"/>
            <p:cNvSpPr/>
            <p:nvPr/>
          </p:nvSpPr>
          <p:spPr>
            <a:xfrm>
              <a:off x="5219640" y="6093000"/>
              <a:ext cx="144360" cy="144360"/>
            </a:xfrm>
            <a:prstGeom prst="ellipse">
              <a:avLst/>
            </a:prstGeom>
            <a:solidFill>
              <a:srgbClr val="cc00cc"/>
            </a:solidFill>
            <a:ln w="255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894" name="Text Box 29"/>
          <p:cNvSpPr/>
          <p:nvPr/>
        </p:nvSpPr>
        <p:spPr>
          <a:xfrm>
            <a:off x="8039160" y="3397680"/>
            <a:ext cx="546120" cy="9432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艺黑"/>
              </a:rPr>
              <a:t>五个经济特区：厦门、深圳、珠海、汕头、海南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5" name="Text Box 30"/>
          <p:cNvSpPr/>
          <p:nvPr/>
        </p:nvSpPr>
        <p:spPr>
          <a:xfrm>
            <a:off x="8039160" y="2238840"/>
            <a:ext cx="546120" cy="34347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艺黑"/>
                <a:ea typeface="迷你简艺黑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迷你简艺黑"/>
                <a:ea typeface="迷你简艺黑"/>
              </a:rPr>
              <a:t>个沿海开放城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6" name="Text Box 31"/>
          <p:cNvSpPr/>
          <p:nvPr/>
        </p:nvSpPr>
        <p:spPr>
          <a:xfrm>
            <a:off x="7967520" y="2378880"/>
            <a:ext cx="546120" cy="299592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艺黑"/>
              </a:rPr>
              <a:t>沿海经济开放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7" name="Text Box 32"/>
          <p:cNvSpPr/>
          <p:nvPr/>
        </p:nvSpPr>
        <p:spPr>
          <a:xfrm>
            <a:off x="322200" y="404640"/>
            <a:ext cx="7346880" cy="52056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40186" dir="1096358" blurRad="0" rotWithShape="0">
              <a:srgbClr val="b2b2b2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经济特区</a:t>
            </a:r>
            <a:r>
              <a:rPr b="0" lang="en-US" sz="24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沿海开放城市</a:t>
            </a:r>
            <a:r>
              <a:rPr b="0" lang="en-US" sz="24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沿海开放区</a:t>
            </a:r>
            <a:r>
              <a:rPr b="0" lang="en-US" sz="24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内地</a:t>
            </a:r>
            <a:r>
              <a:rPr b="0" lang="zh-CN" sz="2400" spc="-1" strike="noStrike">
                <a:solidFill>
                  <a:srgbClr val="ffffff"/>
                </a:solidFill>
                <a:latin typeface="迷你简艺黑"/>
                <a:ea typeface="迷你简艺黑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8" name="AutoShape 33"/>
          <p:cNvSpPr/>
          <p:nvPr/>
        </p:nvSpPr>
        <p:spPr>
          <a:xfrm>
            <a:off x="3849840" y="2852640"/>
            <a:ext cx="1942920" cy="1943280"/>
          </a:xfrm>
          <a:prstGeom prst="leftArrow">
            <a:avLst>
              <a:gd name="adj1" fmla="val 50028"/>
              <a:gd name="adj2" fmla="val 2497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9" name="AutoShape 34"/>
          <p:cNvSpPr/>
          <p:nvPr/>
        </p:nvSpPr>
        <p:spPr>
          <a:xfrm>
            <a:off x="395280" y="1052640"/>
            <a:ext cx="5546880" cy="2592360"/>
          </a:xfrm>
          <a:prstGeom prst="cloudCallout">
            <a:avLst>
              <a:gd name="adj1" fmla="val 58273"/>
              <a:gd name="adj2" fmla="val -5201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对外开放格局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—</a:t>
            </a:r>
            <a:r>
              <a:rPr b="1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全方位、多层次、宽领域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"/>
                            </p:stCondLst>
                            <p:childTnLst>
                              <p:par>
                                <p:cTn id="570" dur="indefinite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"/>
                            </p:stCondLst>
                            <p:childTnLst>
                              <p:par>
                                <p:cTn id="589" dur="indefinite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1980-1991沿海经济开放地区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珠江三角洲"/>
          <p:cNvPicPr/>
          <p:nvPr/>
        </p:nvPicPr>
        <p:blipFill>
          <a:blip r:embed="rId1"/>
          <a:stretch/>
        </p:blipFill>
        <p:spPr>
          <a:xfrm>
            <a:off x="304920" y="380880"/>
            <a:ext cx="2646360" cy="499284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3"/>
          <p:cNvSpPr/>
          <p:nvPr/>
        </p:nvSpPr>
        <p:spPr>
          <a:xfrm>
            <a:off x="1137240" y="5734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珠江三角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4230720" y="585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江三角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7171560" y="576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闽南三角地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79280" y="5589720"/>
            <a:ext cx="9144000" cy="360"/>
            <a:chOff x="179280" y="5589720"/>
            <a:chExt cx="9144000" cy="360"/>
          </a:xfrm>
        </p:grpSpPr>
        <p:sp>
          <p:nvSpPr>
            <p:cNvPr id="906" name="Line 6"/>
            <p:cNvSpPr/>
            <p:nvPr/>
          </p:nvSpPr>
          <p:spPr>
            <a:xfrm>
              <a:off x="179280" y="558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179280" y="5589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pic>
        <p:nvPicPr>
          <p:cNvPr id="908" name="Picture 7" descr="闽南三角地带"/>
          <p:cNvPicPr/>
          <p:nvPr/>
        </p:nvPicPr>
        <p:blipFill>
          <a:blip r:embed="rId2"/>
          <a:stretch/>
        </p:blipFill>
        <p:spPr>
          <a:xfrm>
            <a:off x="6405480" y="333360"/>
            <a:ext cx="2738520" cy="51116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8" descr="长江三角洲2"/>
          <p:cNvPicPr/>
          <p:nvPr/>
        </p:nvPicPr>
        <p:blipFill>
          <a:blip r:embed="rId3"/>
          <a:stretch/>
        </p:blipFill>
        <p:spPr>
          <a:xfrm>
            <a:off x="3200400" y="476280"/>
            <a:ext cx="307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AutoShape 2"/>
          <p:cNvSpPr/>
          <p:nvPr/>
        </p:nvSpPr>
        <p:spPr>
          <a:xfrm>
            <a:off x="2413080" y="191628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1" name="WordArt 3"/>
          <p:cNvSpPr txBox="1"/>
          <p:nvPr/>
        </p:nvSpPr>
        <p:spPr>
          <a:xfrm>
            <a:off x="469800" y="170028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尝试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2" name="WordArt 4"/>
          <p:cNvSpPr txBox="1"/>
          <p:nvPr/>
        </p:nvSpPr>
        <p:spPr>
          <a:xfrm>
            <a:off x="4643280" y="177336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扩大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3" name="AutoShape 5"/>
          <p:cNvSpPr/>
          <p:nvPr/>
        </p:nvSpPr>
        <p:spPr>
          <a:xfrm>
            <a:off x="1042920" y="2708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4" name="AutoShape 6"/>
          <p:cNvSpPr/>
          <p:nvPr/>
        </p:nvSpPr>
        <p:spPr>
          <a:xfrm rot="5400000">
            <a:off x="5211360" y="99036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03840 h 3886200"/>
              <a:gd name="textAreaBottom" fmla="*/ 3582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06288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线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6" name="Rectangle 8"/>
          <p:cNvSpPr/>
          <p:nvPr/>
        </p:nvSpPr>
        <p:spPr>
          <a:xfrm>
            <a:off x="97344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7" name="Rectangle 9"/>
          <p:cNvSpPr/>
          <p:nvPr/>
        </p:nvSpPr>
        <p:spPr>
          <a:xfrm>
            <a:off x="515196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面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8" name="AutoShape 10"/>
          <p:cNvSpPr/>
          <p:nvPr/>
        </p:nvSpPr>
        <p:spPr>
          <a:xfrm>
            <a:off x="1042920" y="429264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9" name="AutoShape 11"/>
          <p:cNvSpPr/>
          <p:nvPr/>
        </p:nvSpPr>
        <p:spPr>
          <a:xfrm>
            <a:off x="3130560" y="43657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0" name="AutoShape 12"/>
          <p:cNvSpPr/>
          <p:nvPr/>
        </p:nvSpPr>
        <p:spPr>
          <a:xfrm>
            <a:off x="5148360" y="42210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921" name="Group 13"/>
          <p:cNvGrpSpPr/>
          <p:nvPr/>
        </p:nvGrpSpPr>
        <p:grpSpPr>
          <a:xfrm>
            <a:off x="762120" y="2781360"/>
            <a:ext cx="8381880" cy="1510920"/>
            <a:chOff x="762120" y="2781360"/>
            <a:chExt cx="8381880" cy="1510920"/>
          </a:xfrm>
        </p:grpSpPr>
        <p:sp>
          <p:nvSpPr>
            <p:cNvPr id="922" name="Rectangle 14"/>
            <p:cNvSpPr/>
            <p:nvPr/>
          </p:nvSpPr>
          <p:spPr>
            <a:xfrm>
              <a:off x="8135280" y="27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沿江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3" name="Text Box 15"/>
            <p:cNvSpPr/>
            <p:nvPr/>
          </p:nvSpPr>
          <p:spPr>
            <a:xfrm>
              <a:off x="762120" y="3255840"/>
              <a:ext cx="89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经济特区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4" name="Text Box 16"/>
            <p:cNvSpPr/>
            <p:nvPr/>
          </p:nvSpPr>
          <p:spPr>
            <a:xfrm>
              <a:off x="2914920" y="3103200"/>
              <a:ext cx="89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沿海开放城市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5" name="Text Box 17"/>
            <p:cNvSpPr/>
            <p:nvPr/>
          </p:nvSpPr>
          <p:spPr>
            <a:xfrm>
              <a:off x="4837320" y="3331800"/>
              <a:ext cx="12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经济开放区</a:t>
              </a:r>
              <a:endParaRPr b="1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6" name="AutoShape 18"/>
            <p:cNvSpPr/>
            <p:nvPr/>
          </p:nvSpPr>
          <p:spPr>
            <a:xfrm>
              <a:off x="1838520" y="3484440"/>
              <a:ext cx="770040" cy="380520"/>
            </a:xfrm>
            <a:prstGeom prst="rightArrow">
              <a:avLst>
                <a:gd name="adj1" fmla="val 50000"/>
                <a:gd name="adj2" fmla="val 5057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7" name="AutoShape 19"/>
            <p:cNvSpPr/>
            <p:nvPr/>
          </p:nvSpPr>
          <p:spPr>
            <a:xfrm>
              <a:off x="3915000" y="3484440"/>
              <a:ext cx="768240" cy="380520"/>
            </a:xfrm>
            <a:prstGeom prst="rightArrow">
              <a:avLst>
                <a:gd name="adj1" fmla="val 50000"/>
                <a:gd name="adj2" fmla="val 504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8" name="AutoShape 20"/>
            <p:cNvSpPr/>
            <p:nvPr/>
          </p:nvSpPr>
          <p:spPr>
            <a:xfrm>
              <a:off x="6145200" y="3484440"/>
              <a:ext cx="768600" cy="380520"/>
            </a:xfrm>
            <a:prstGeom prst="rightArrow">
              <a:avLst>
                <a:gd name="adj1" fmla="val 50000"/>
                <a:gd name="adj2" fmla="val 5047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9" name="Text Box 21"/>
            <p:cNvSpPr/>
            <p:nvPr/>
          </p:nvSpPr>
          <p:spPr>
            <a:xfrm>
              <a:off x="7989840" y="3771720"/>
              <a:ext cx="11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沿边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0" name="Rectangle 22"/>
            <p:cNvSpPr/>
            <p:nvPr/>
          </p:nvSpPr>
          <p:spPr>
            <a:xfrm>
              <a:off x="7059240" y="33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内地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1" name="AutoShape 23"/>
            <p:cNvSpPr/>
            <p:nvPr/>
          </p:nvSpPr>
          <p:spPr>
            <a:xfrm>
              <a:off x="7837560" y="3085920"/>
              <a:ext cx="152280" cy="10663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320"/>
                <a:gd name="textAreaBottom" fmla="*/ 103860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2" name="Rectangle 24"/>
            <p:cNvSpPr/>
            <p:nvPr/>
          </p:nvSpPr>
          <p:spPr>
            <a:xfrm>
              <a:off x="7989840" y="3252600"/>
              <a:ext cx="90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Arial Black"/>
                  <a:ea typeface="宋体"/>
                </a:rPr>
                <a:t>省会</a:t>
              </a:r>
              <a:endParaRPr b="1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933" name="Group 25"/>
          <p:cNvGrpSpPr/>
          <p:nvPr/>
        </p:nvGrpSpPr>
        <p:grpSpPr>
          <a:xfrm>
            <a:off x="0" y="765000"/>
            <a:ext cx="9144000" cy="576000"/>
            <a:chOff x="0" y="765000"/>
            <a:chExt cx="9144000" cy="576000"/>
          </a:xfrm>
        </p:grpSpPr>
        <p:pic>
          <p:nvPicPr>
            <p:cNvPr id="934" name="Picture 26" descr="main01_01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4572000" y="765000"/>
              <a:ext cx="24415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27" descr="解放思想、实事求是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0" y="765000"/>
              <a:ext cx="23623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28" descr="dxp-shenzhen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7010280" y="765000"/>
              <a:ext cx="21337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29" descr="邓小平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2286000" y="765000"/>
              <a:ext cx="236232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8" name="WordArt 30"/>
          <p:cNvSpPr txBox="1"/>
          <p:nvPr/>
        </p:nvSpPr>
        <p:spPr>
          <a:xfrm>
            <a:off x="469800" y="5734080"/>
            <a:ext cx="840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全方位、多层次、宽领域的对外开放格局</a:t>
            </a:r>
            <a:endParaRPr b="1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9" name="WordArt 31"/>
          <p:cNvSpPr txBox="1"/>
          <p:nvPr/>
        </p:nvSpPr>
        <p:spPr>
          <a:xfrm>
            <a:off x="395280" y="0"/>
            <a:ext cx="266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开放格局</a:t>
            </a:r>
            <a:endParaRPr b="1" lang="en-US" sz="54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浦东开发区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3" descr="1401440"/>
          <p:cNvPicPr/>
          <p:nvPr/>
        </p:nvPicPr>
        <p:blipFill>
          <a:blip r:embed="rId1"/>
          <a:stretch/>
        </p:blipFill>
        <p:spPr>
          <a:xfrm>
            <a:off x="4140360" y="3429000"/>
            <a:ext cx="4608360" cy="31338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前 浦东"/>
          <p:cNvPicPr/>
          <p:nvPr/>
        </p:nvPicPr>
        <p:blipFill>
          <a:blip r:embed="rId2"/>
          <a:stretch/>
        </p:blipFill>
        <p:spPr>
          <a:xfrm>
            <a:off x="0" y="0"/>
            <a:ext cx="4032360" cy="356400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5"/>
          <p:cNvSpPr/>
          <p:nvPr/>
        </p:nvSpPr>
        <p:spPr>
          <a:xfrm>
            <a:off x="75564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改革开放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1403280" y="414972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改革开放前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2341440" y="3429000"/>
            <a:ext cx="358920" cy="792000"/>
          </a:xfrm>
          <a:prstGeom prst="upArrow">
            <a:avLst>
              <a:gd name="adj1" fmla="val 50000"/>
              <a:gd name="adj2" fmla="val 55145"/>
            </a:avLst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6" name="AutoShape 8"/>
          <p:cNvSpPr/>
          <p:nvPr/>
        </p:nvSpPr>
        <p:spPr>
          <a:xfrm>
            <a:off x="2554200" y="5157720"/>
            <a:ext cx="938160" cy="358920"/>
          </a:xfrm>
          <a:prstGeom prst="rightArrow">
            <a:avLst>
              <a:gd name="adj1" fmla="val 50000"/>
              <a:gd name="adj2" fmla="val 65322"/>
            </a:avLst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7" name="WordArt 9"/>
          <p:cNvSpPr txBox="1"/>
          <p:nvPr/>
        </p:nvSpPr>
        <p:spPr>
          <a:xfrm>
            <a:off x="4211640" y="83664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思考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4859280" y="1557360"/>
            <a:ext cx="38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看到了深圳和上海两个城市改革前后的变化后，你是如何评价改革开放的？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592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从中国的巨大变化和深圳等经济特区所取得的成就充分证明，实行改革开放的总方针是完全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正确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，我们必须坚持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改革开放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这条强国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WordArt 3"/>
          <p:cNvSpPr txBox="1"/>
          <p:nvPr/>
        </p:nvSpPr>
        <p:spPr>
          <a:xfrm>
            <a:off x="826920" y="907920"/>
            <a:ext cx="36738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结论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未命名2"/>
          <p:cNvPicPr/>
          <p:nvPr/>
        </p:nvPicPr>
        <p:blipFill>
          <a:blip r:embed="rId1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 txBox="1"/>
          <p:nvPr/>
        </p:nvSpPr>
        <p:spPr>
          <a:xfrm>
            <a:off x="4698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民吴跃进的故事讲完了，伴随着吴跃进的一生，我们回过头来看看，他从农村的家庭联产承包责任制，到后来的国有企业改革，再到后来的对外开放，他的生活水平在步步攀升！他的一生是千百万中国人民的缩影，所以，我们得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革开放是强国之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要坚持走改革开放的道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954" name="Picture 5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/>
          <p:cNvSpPr/>
          <p:nvPr/>
        </p:nvSpPr>
        <p:spPr>
          <a:xfrm>
            <a:off x="-1163520" y="1916280"/>
            <a:ext cx="2332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291636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迷你简艺黑"/>
              </a:rPr>
              <a:t>农村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>
            <a:off x="3130560" y="1773360"/>
            <a:ext cx="93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迷你简艺黑"/>
              </a:rPr>
              <a:t>城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9" name="AutoShape 5"/>
          <p:cNvSpPr/>
          <p:nvPr/>
        </p:nvSpPr>
        <p:spPr>
          <a:xfrm>
            <a:off x="2989440" y="1052640"/>
            <a:ext cx="215640" cy="93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4284720" y="836640"/>
            <a:ext cx="33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迷你简艺黑"/>
              </a:rPr>
              <a:t>家庭联产承包责任制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284720" y="1773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迷你简艺黑"/>
              </a:rPr>
              <a:t>国有企业改革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62" name="Picture 8" descr="未命名2"/>
          <p:cNvPicPr/>
          <p:nvPr/>
        </p:nvPicPr>
        <p:blipFill>
          <a:blip r:embed="rId1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963" name="Group 9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964" name="Picture 10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WordArt 11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pic>
        <p:nvPicPr>
          <p:cNvPr id="966" name="Picture 12" descr="34"/>
          <p:cNvPicPr/>
          <p:nvPr/>
        </p:nvPicPr>
        <p:blipFill>
          <a:blip r:embed="rId3"/>
          <a:stretch/>
        </p:blipFill>
        <p:spPr>
          <a:xfrm>
            <a:off x="3995640" y="907920"/>
            <a:ext cx="360360" cy="295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3" descr="34"/>
          <p:cNvPicPr/>
          <p:nvPr/>
        </p:nvPicPr>
        <p:blipFill>
          <a:blip r:embed="rId4"/>
          <a:stretch/>
        </p:blipFill>
        <p:spPr>
          <a:xfrm>
            <a:off x="3995640" y="1836720"/>
            <a:ext cx="360360" cy="29520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4"/>
          <p:cNvSpPr/>
          <p:nvPr/>
        </p:nvSpPr>
        <p:spPr>
          <a:xfrm>
            <a:off x="1477800" y="1268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迷你简艺黑"/>
              </a:rPr>
              <a:t>对内改革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69" name="WordArt 15" descr=""/>
          <p:cNvPicPr/>
          <p:nvPr/>
        </p:nvPicPr>
        <p:blipFill>
          <a:blip r:embed="rId5"/>
          <a:stretch/>
        </p:blipFill>
        <p:spPr>
          <a:xfrm>
            <a:off x="239760" y="1690560"/>
            <a:ext cx="620640" cy="234972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6"/>
          <p:cNvSpPr/>
          <p:nvPr/>
        </p:nvSpPr>
        <p:spPr>
          <a:xfrm>
            <a:off x="1187280" y="148428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7164360" y="2997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海南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2" name="Text Box 18">
            <a:hlinkClick r:id="rId6"/>
          </p:cNvPr>
          <p:cNvSpPr/>
          <p:nvPr/>
        </p:nvSpPr>
        <p:spPr>
          <a:xfrm>
            <a:off x="3276720" y="2708280"/>
            <a:ext cx="144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迷你简艺黑"/>
                <a:ea typeface="迷你简艺黑"/>
              </a:rPr>
              <a:t>经济特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3" name="Text Box 19"/>
          <p:cNvSpPr/>
          <p:nvPr/>
        </p:nvSpPr>
        <p:spPr>
          <a:xfrm>
            <a:off x="5148360" y="2349360"/>
            <a:ext cx="122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深圳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4" name="AutoShape 20"/>
          <p:cNvSpPr/>
          <p:nvPr/>
        </p:nvSpPr>
        <p:spPr>
          <a:xfrm>
            <a:off x="3060720" y="2997360"/>
            <a:ext cx="214200" cy="2447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3130560" y="3645000"/>
            <a:ext cx="2235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迷你简艺黑"/>
                <a:ea typeface="迷你简艺黑"/>
              </a:rPr>
              <a:t>沿海开放城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2916360" y="5257800"/>
            <a:ext cx="15048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迷你简艺黑"/>
                <a:ea typeface="迷你简艺黑"/>
              </a:rPr>
              <a:t>内 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3130560" y="4465800"/>
            <a:ext cx="2521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迷你简艺黑"/>
                <a:ea typeface="迷你简艺黑"/>
              </a:rPr>
              <a:t>沿海经济开放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8" name="Text Box 24"/>
          <p:cNvSpPr/>
          <p:nvPr/>
        </p:nvSpPr>
        <p:spPr>
          <a:xfrm>
            <a:off x="6154560" y="2349360"/>
            <a:ext cx="866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珠海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6154560" y="2997360"/>
            <a:ext cx="938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厦门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0" name="Text Box 26"/>
          <p:cNvSpPr/>
          <p:nvPr/>
        </p:nvSpPr>
        <p:spPr>
          <a:xfrm>
            <a:off x="5148360" y="299736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汕头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1" name="Text Box 27"/>
          <p:cNvSpPr/>
          <p:nvPr/>
        </p:nvSpPr>
        <p:spPr>
          <a:xfrm>
            <a:off x="5435640" y="3645000"/>
            <a:ext cx="3562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广州上海等</a:t>
            </a: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14</a:t>
            </a: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个城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2" name="Text Box 28"/>
          <p:cNvSpPr/>
          <p:nvPr/>
        </p:nvSpPr>
        <p:spPr>
          <a:xfrm>
            <a:off x="5506920" y="4149720"/>
            <a:ext cx="2239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长江三角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3" name="Text Box 29"/>
          <p:cNvSpPr/>
          <p:nvPr/>
        </p:nvSpPr>
        <p:spPr>
          <a:xfrm>
            <a:off x="5651640" y="4508640"/>
            <a:ext cx="2017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珠江三角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4" name="Text Box 30"/>
          <p:cNvSpPr/>
          <p:nvPr/>
        </p:nvSpPr>
        <p:spPr>
          <a:xfrm>
            <a:off x="5821200" y="4941720"/>
            <a:ext cx="2662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闽南三角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5" name="AutoShape 31"/>
          <p:cNvSpPr/>
          <p:nvPr/>
        </p:nvSpPr>
        <p:spPr>
          <a:xfrm>
            <a:off x="4932360" y="2565360"/>
            <a:ext cx="146160" cy="719280"/>
          </a:xfrm>
          <a:custGeom>
            <a:avLst/>
            <a:gdLst>
              <a:gd name="textAreaLeft" fmla="*/ 93600 w 146160"/>
              <a:gd name="textAreaRight" fmla="*/ 146520 w 14616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6" name="AutoShape 32"/>
          <p:cNvSpPr/>
          <p:nvPr/>
        </p:nvSpPr>
        <p:spPr>
          <a:xfrm>
            <a:off x="5580000" y="4437000"/>
            <a:ext cx="146160" cy="936720"/>
          </a:xfrm>
          <a:custGeom>
            <a:avLst/>
            <a:gdLst>
              <a:gd name="textAreaLeft" fmla="*/ 93600 w 146160"/>
              <a:gd name="textAreaRight" fmla="*/ 146520 w 1461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4751"/>
                </a:lnTo>
                <a:cubicBezTo>
                  <a:pt x="10800" y="5650"/>
                  <a:pt x="5400" y="6549"/>
                  <a:pt x="0" y="6549"/>
                </a:cubicBezTo>
                <a:cubicBezTo>
                  <a:pt x="5400" y="6549"/>
                  <a:pt x="10800" y="7448"/>
                  <a:pt x="10800" y="8347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7" name="Text Box 33"/>
          <p:cNvSpPr/>
          <p:nvPr/>
        </p:nvSpPr>
        <p:spPr>
          <a:xfrm>
            <a:off x="5651640" y="530208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迷你简艺黑"/>
                <a:ea typeface="迷你简艺黑"/>
              </a:rPr>
              <a:t>环渤海地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8" name="Rectangle 34"/>
          <p:cNvSpPr/>
          <p:nvPr/>
        </p:nvSpPr>
        <p:spPr>
          <a:xfrm>
            <a:off x="1547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迷你简艺黑"/>
                <a:ea typeface="迷你简艺黑"/>
              </a:rPr>
              <a:t>对外开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9" name="Picture 35" descr="gg_cl_009"/>
          <p:cNvPicPr/>
          <p:nvPr/>
        </p:nvPicPr>
        <p:blipFill>
          <a:blip r:embed="rId7"/>
          <a:srcRect l="58319" t="24268" r="0" b="0"/>
          <a:stretch/>
        </p:blipFill>
        <p:spPr>
          <a:xfrm>
            <a:off x="0" y="476280"/>
            <a:ext cx="1835280" cy="2858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36"/>
          <p:cNvSpPr/>
          <p:nvPr/>
        </p:nvSpPr>
        <p:spPr>
          <a:xfrm>
            <a:off x="6589800" y="148428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迷你简艺黑"/>
              </a:rPr>
              <a:t>中共十四大以前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1" name="Text Box 37"/>
          <p:cNvSpPr/>
          <p:nvPr/>
        </p:nvSpPr>
        <p:spPr>
          <a:xfrm>
            <a:off x="6589800" y="198900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迷你简艺黑"/>
              </a:rPr>
              <a:t>中共十四大以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2" name="AutoShape 38"/>
          <p:cNvSpPr/>
          <p:nvPr/>
        </p:nvSpPr>
        <p:spPr>
          <a:xfrm>
            <a:off x="6443640" y="1700280"/>
            <a:ext cx="217440" cy="577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3" name="Text Box 39"/>
          <p:cNvSpPr/>
          <p:nvPr/>
        </p:nvSpPr>
        <p:spPr>
          <a:xfrm>
            <a:off x="177840" y="479736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强国之路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4" name="Rectangle 40"/>
          <p:cNvSpPr/>
          <p:nvPr/>
        </p:nvSpPr>
        <p:spPr>
          <a:xfrm>
            <a:off x="177840" y="486900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5" name="AutoShape 41"/>
          <p:cNvSpPr/>
          <p:nvPr/>
        </p:nvSpPr>
        <p:spPr>
          <a:xfrm>
            <a:off x="0" y="4508640"/>
            <a:ext cx="1906560" cy="11523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539640" y="2708280"/>
            <a:ext cx="8280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这段花鼓词说明农村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华文行楷"/>
              </a:rPr>
              <a:t>改革前夕的农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华文行楷"/>
              </a:rPr>
              <a:t>人民公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华文行楷"/>
              </a:rPr>
              <a:t>体制存在着什么样的弊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？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632" name="Group 3"/>
          <p:cNvGrpSpPr/>
          <p:nvPr/>
        </p:nvGrpSpPr>
        <p:grpSpPr>
          <a:xfrm>
            <a:off x="4859280" y="4292640"/>
            <a:ext cx="3817800" cy="1152360"/>
            <a:chOff x="4859280" y="4292640"/>
            <a:chExt cx="3817800" cy="1152360"/>
          </a:xfrm>
        </p:grpSpPr>
        <p:sp>
          <p:nvSpPr>
            <p:cNvPr id="633" name="Rectangle 4"/>
            <p:cNvSpPr/>
            <p:nvPr/>
          </p:nvSpPr>
          <p:spPr>
            <a:xfrm>
              <a:off x="5724360" y="4292640"/>
              <a:ext cx="2952720" cy="11523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缺少自主权</a:t>
              </a:r>
              <a:endParaRPr b="1" lang="en-US" sz="32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积极性不高</a:t>
              </a:r>
              <a:endParaRPr b="1" lang="en-US" sz="32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34" name="AutoShape 5"/>
            <p:cNvSpPr/>
            <p:nvPr/>
          </p:nvSpPr>
          <p:spPr>
            <a:xfrm>
              <a:off x="4859280" y="4581720"/>
              <a:ext cx="647640" cy="576000"/>
            </a:xfrm>
            <a:prstGeom prst="rightArrow">
              <a:avLst>
                <a:gd name="adj1" fmla="val 50000"/>
                <a:gd name="adj2" fmla="val 28099"/>
              </a:avLst>
            </a:prstGeom>
            <a:solidFill>
              <a:srgbClr val="ff00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635" name="Rectangle 6"/>
          <p:cNvSpPr/>
          <p:nvPr/>
        </p:nvSpPr>
        <p:spPr>
          <a:xfrm>
            <a:off x="324000" y="4292640"/>
            <a:ext cx="4248000" cy="115236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政社合一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集中劳动，吃大锅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3995640" y="404640"/>
            <a:ext cx="4511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  <a:ea typeface="华文楷体"/>
              </a:rPr>
              <a:t>凤阳地多不打粮，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  <a:ea typeface="华文楷体"/>
              </a:rPr>
              <a:t>磙子一住就逃荒，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  <a:ea typeface="华文楷体"/>
              </a:rPr>
              <a:t>只见凤阳女出嫁，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  <a:ea typeface="华文楷体"/>
              </a:rPr>
              <a:t>不见新娘进凤阳</a:t>
            </a:r>
            <a:r>
              <a:rPr b="1" lang="zh-CN" sz="3600" spc="-1" strike="noStrike">
                <a:solidFill>
                  <a:srgbClr val="ffff00"/>
                </a:solidFill>
                <a:latin typeface="Arial Narrow"/>
                <a:ea typeface="宋体"/>
              </a:rPr>
              <a:t>。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7" name="AutoShape 8"/>
          <p:cNvSpPr/>
          <p:nvPr/>
        </p:nvSpPr>
        <p:spPr>
          <a:xfrm flipV="1">
            <a:off x="684360" y="475920"/>
            <a:ext cx="2361960" cy="1905120"/>
          </a:xfrm>
          <a:prstGeom prst="cloudCallout">
            <a:avLst>
              <a:gd name="adj1" fmla="val 77888"/>
              <a:gd name="adj2" fmla="val 8833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118440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  <a:ea typeface="华文行楷"/>
              </a:rPr>
              <a:t>凤阳花鼓词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未命名2"/>
          <p:cNvPicPr/>
          <p:nvPr/>
        </p:nvPicPr>
        <p:blipFill>
          <a:blip r:embed="rId1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3240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世纪七十年代，首先进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田包产到户，自负盈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岗村农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安徽肥西　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安徽凤阳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河北沧州　　　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贵州关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改革开放中，被誉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夜崛起之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海 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深圳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珠海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厦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有企业改革为重点的城市改革全面展开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999" name="Picture 5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001" name="Text Box 7"/>
          <p:cNvSpPr/>
          <p:nvPr/>
        </p:nvSpPr>
        <p:spPr>
          <a:xfrm>
            <a:off x="3060720" y="549360"/>
            <a:ext cx="2374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沙场点兵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3202920" y="1989000"/>
            <a:ext cx="4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B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7740720" y="34290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B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4" name="Rectangle 10"/>
          <p:cNvSpPr/>
          <p:nvPr/>
        </p:nvSpPr>
        <p:spPr>
          <a:xfrm>
            <a:off x="7524720" y="4508640"/>
            <a:ext cx="5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B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未命名2"/>
          <p:cNvPicPr/>
          <p:nvPr/>
        </p:nvPicPr>
        <p:blipFill>
          <a:blip r:embed="rId1"/>
          <a:stretch/>
        </p:blipFill>
        <p:spPr>
          <a:xfrm>
            <a:off x="0" y="5923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 txBox="1"/>
          <p:nvPr/>
        </p:nvSpPr>
        <p:spPr>
          <a:xfrm>
            <a:off x="32400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年曾分田翻身当家作主人，今岁又分田勤劳致富奔小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对联中的两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地改革和农业合作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跃进和人民公社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业合作社和人民公社化运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地改革和家庭联产承包责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外国旅游团到我国广东省旅游观光，要求参观在该省设置的中国最早的经济特区。你不应带他们去下列哪个城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圳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海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汕头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厦门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4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1008" name="Picture 5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WordArt 6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010" name="Text Box 7"/>
          <p:cNvSpPr/>
          <p:nvPr/>
        </p:nvSpPr>
        <p:spPr>
          <a:xfrm>
            <a:off x="7237440" y="112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D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4284720" y="4724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D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4" descr="200993011241464826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5"/>
          <p:cNvSpPr/>
          <p:nvPr/>
        </p:nvSpPr>
        <p:spPr>
          <a:xfrm>
            <a:off x="250920" y="189000"/>
            <a:ext cx="8785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行对内改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在农村是实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庭联产承包责任制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营经营责任制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体经营私有制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品化的市场经济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城市成为经济特区代表、对外开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（   ）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杭州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圳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汉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京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城市经济体制改革的重点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有企业的改革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私营企业的改革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外合资企业的改革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商独资企业的改革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7" name="WordArt 6"/>
          <p:cNvSpPr txBox="1"/>
          <p:nvPr/>
        </p:nvSpPr>
        <p:spPr>
          <a:xfrm>
            <a:off x="324000" y="0"/>
            <a:ext cx="20952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双基汇演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6948360" y="260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76544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6661080" y="443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2"/>
          <p:cNvSpPr/>
          <p:nvPr/>
        </p:nvSpPr>
        <p:spPr>
          <a:xfrm>
            <a:off x="468360" y="62064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改革开放以来，我国逐步形成了经济特区——沿海开放城市——沿海经济开放区——内地的对外开放格局。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l988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年设立的海南省属于这一格局中的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经济特区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沿海开放城市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沿海经济开放区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内地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2" name="WordArt 3"/>
          <p:cNvSpPr txBox="1"/>
          <p:nvPr/>
        </p:nvSpPr>
        <p:spPr>
          <a:xfrm>
            <a:off x="5292720" y="3645000"/>
            <a:ext cx="977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2"/>
          <p:cNvSpPr/>
          <p:nvPr/>
        </p:nvSpPr>
        <p:spPr>
          <a:xfrm>
            <a:off x="179280" y="620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中共十一届三中全会后，中国打开封闭的国门走向世界。下列属于我国对外开放的窗口和扩大开放的窗口是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．深圳、上海浦东   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．珠海、香港   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．汕头、澳门   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．深圳、厦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4" name="WordArt 3"/>
          <p:cNvSpPr txBox="1"/>
          <p:nvPr/>
        </p:nvSpPr>
        <p:spPr>
          <a:xfrm>
            <a:off x="6300720" y="3933720"/>
            <a:ext cx="108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2"/>
          <p:cNvSpPr/>
          <p:nvPr/>
        </p:nvSpPr>
        <p:spPr>
          <a:xfrm>
            <a:off x="179280" y="476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有人在纪念改革开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周年的征文中写道：“在此后的三十年间，从半闭关锁国状态下苏醒的中国快马加鞭追赶世界。如我们追溯新中国融人世界的历史，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198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年打开的第一扇‘窗’则需我们永远铭记。”文中的“第一扇‘窗’”是指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．设立深圳等经济特区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．设立沿海经济开放区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．设立经济技术开发区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．开放沿江和边境城市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6" name="WordArt 3"/>
          <p:cNvSpPr txBox="1"/>
          <p:nvPr/>
        </p:nvSpPr>
        <p:spPr>
          <a:xfrm>
            <a:off x="7093080" y="4653000"/>
            <a:ext cx="977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2"/>
          <p:cNvSpPr/>
          <p:nvPr/>
        </p:nvSpPr>
        <p:spPr>
          <a:xfrm>
            <a:off x="250920" y="40464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12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它曾是最早被迫开放的通商口岸，又是我国首批建立的经济特区，它是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．南京       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．上海        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．深圳        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．厦门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8" name="WordArt 3"/>
          <p:cNvSpPr txBox="1"/>
          <p:nvPr/>
        </p:nvSpPr>
        <p:spPr>
          <a:xfrm>
            <a:off x="5292720" y="3645000"/>
            <a:ext cx="977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108000" y="47628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13.1984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日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55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位厂长、经理联名在报纸上发出“请给我们松绑”的呼吁。“松绑”就是迫切要求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优先发展重工业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	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扩大企业自主权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建立现代企业制度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设立经济特区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0" name="WordArt 3"/>
          <p:cNvSpPr txBox="1"/>
          <p:nvPr/>
        </p:nvSpPr>
        <p:spPr>
          <a:xfrm>
            <a:off x="5292720" y="3645000"/>
            <a:ext cx="977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228600" y="152280"/>
            <a:ext cx="8534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共十一届三中全会是建国以来党的历史上的伟大转折。这种转折主要是指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党的工作重点由以阶级斗争为纲转到经济建设上来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经济体制改革的内容由农村改革转到城市改革上来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经济改革的目标由建立计划经济转到建立市场经济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国家的对外政策由奉行闭关锁国转到实行对外开放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2" name="WordArt 3"/>
          <p:cNvSpPr txBox="1"/>
          <p:nvPr/>
        </p:nvSpPr>
        <p:spPr>
          <a:xfrm>
            <a:off x="6248520" y="3733920"/>
            <a:ext cx="12189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A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hecker dir="horz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179280" y="47628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15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新中国成之后，我国对农村生产关系进行了几次重大调整，其中促进了农业生产发展的有：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土地改革 ② 农业合作化③ 人民公社化 ④ 家庭联产承包责任制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．①②④   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B.①②③   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C.② ③④    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D.①③④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4" name="WordArt 3"/>
          <p:cNvSpPr txBox="1"/>
          <p:nvPr/>
        </p:nvSpPr>
        <p:spPr>
          <a:xfrm>
            <a:off x="5292720" y="3645000"/>
            <a:ext cx="977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未命名2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534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农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改革（突破口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2060640"/>
            <a:ext cx="2916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时       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方       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试行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5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影       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3060720" y="1844640"/>
            <a:ext cx="547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家庭联产承包责任制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徽凤阳小岗村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拉开了农村经济体制改革的大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农业生产得到大发展；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带动乡镇企业的迅速发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643" name="Group 6"/>
          <p:cNvGrpSpPr/>
          <p:nvPr/>
        </p:nvGrpSpPr>
        <p:grpSpPr>
          <a:xfrm>
            <a:off x="0" y="-166680"/>
            <a:ext cx="9144000" cy="450720"/>
            <a:chOff x="0" y="-166680"/>
            <a:chExt cx="9144000" cy="450720"/>
          </a:xfrm>
        </p:grpSpPr>
        <p:pic>
          <p:nvPicPr>
            <p:cNvPr id="644" name="Picture 7" descr="pic_03"/>
            <p:cNvPicPr/>
            <p:nvPr/>
          </p:nvPicPr>
          <p:blipFill>
            <a:blip r:embed="rId2"/>
            <a:stretch/>
          </p:blipFill>
          <p:spPr>
            <a:xfrm>
              <a:off x="0" y="-166680"/>
              <a:ext cx="9144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WordArt 8"/>
            <p:cNvSpPr txBox="1"/>
            <p:nvPr/>
          </p:nvSpPr>
          <p:spPr>
            <a:xfrm>
              <a:off x="179280" y="-122760"/>
              <a:ext cx="150984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46" name="Text Box 9"/>
          <p:cNvSpPr/>
          <p:nvPr/>
        </p:nvSpPr>
        <p:spPr>
          <a:xfrm>
            <a:off x="108000" y="1197000"/>
            <a:ext cx="864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背景（原因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农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人民公社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使农民缺乏生产经营自主权，挫伤了农民生产积极性，农村经济落后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2"/>
          <p:cNvSpPr/>
          <p:nvPr/>
        </p:nvSpPr>
        <p:spPr>
          <a:xfrm>
            <a:off x="0" y="7632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6.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下列关于中共八大和十一届三中全会的比较中，不正确的是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都正确分析了国内的主要矛盾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都制定了以经济建设为中心，发　　展社会生产力的路线方针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都为社会主义建设指明了方向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两次会议的路线、方针、政策都　　在实践中得到坚持。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6" name="WordArt 3"/>
          <p:cNvSpPr txBox="1"/>
          <p:nvPr/>
        </p:nvSpPr>
        <p:spPr>
          <a:xfrm>
            <a:off x="6248520" y="3733920"/>
            <a:ext cx="12189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2"/>
          <p:cNvSpPr/>
          <p:nvPr/>
        </p:nvSpPr>
        <p:spPr>
          <a:xfrm>
            <a:off x="0" y="1522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7.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十一届三中全会以来，我国实行改革开放的根本目的是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、为了同国外进行平等互利的贸易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、 为了更好地利用外国资金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C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、为了发展社会主义经济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D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、为了改变不适应生产力发展的管　理体制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8" name="WordArt 3"/>
          <p:cNvSpPr txBox="1"/>
          <p:nvPr/>
        </p:nvSpPr>
        <p:spPr>
          <a:xfrm>
            <a:off x="7238880" y="26668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533520" y="533520"/>
            <a:ext cx="83055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8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在社会主义现代化建设的新时期，我国迈出的对内实行经济体制改革政策的第一大步是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召开十一届三中全会　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发展民营经济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实行联产承包责任制　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设立经济特区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0" name="WordArt 3"/>
          <p:cNvSpPr txBox="1"/>
          <p:nvPr/>
        </p:nvSpPr>
        <p:spPr>
          <a:xfrm>
            <a:off x="7238880" y="26668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2"/>
          <p:cNvGrpSpPr/>
          <p:nvPr/>
        </p:nvGrpSpPr>
        <p:grpSpPr>
          <a:xfrm>
            <a:off x="4392720" y="838080"/>
            <a:ext cx="4750920" cy="2568600"/>
            <a:chOff x="4392720" y="838080"/>
            <a:chExt cx="4750920" cy="2568600"/>
          </a:xfrm>
        </p:grpSpPr>
        <p:grpSp>
          <p:nvGrpSpPr>
            <p:cNvPr id="1042" name="Group 3"/>
            <p:cNvGrpSpPr/>
            <p:nvPr/>
          </p:nvGrpSpPr>
          <p:grpSpPr>
            <a:xfrm>
              <a:off x="4399200" y="842760"/>
              <a:ext cx="4736520" cy="2558880"/>
              <a:chOff x="4399200" y="842760"/>
              <a:chExt cx="4736520" cy="2558880"/>
            </a:xfrm>
          </p:grpSpPr>
          <p:grpSp>
            <p:nvGrpSpPr>
              <p:cNvPr id="1043" name="Group 4"/>
              <p:cNvGrpSpPr/>
              <p:nvPr/>
            </p:nvGrpSpPr>
            <p:grpSpPr>
              <a:xfrm>
                <a:off x="4399200" y="842760"/>
                <a:ext cx="4736520" cy="639720"/>
                <a:chOff x="4399200" y="842760"/>
                <a:chExt cx="4736520" cy="639720"/>
              </a:xfrm>
            </p:grpSpPr>
            <p:sp>
              <p:nvSpPr>
                <p:cNvPr id="1044" name="Rectangle 5"/>
                <p:cNvSpPr/>
                <p:nvPr/>
              </p:nvSpPr>
              <p:spPr>
                <a:xfrm>
                  <a:off x="4498920" y="842760"/>
                  <a:ext cx="4537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凤阳县粮食产量三大步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45" name="Rectangle 6"/>
                <p:cNvSpPr/>
                <p:nvPr/>
              </p:nvSpPr>
              <p:spPr>
                <a:xfrm>
                  <a:off x="4399200" y="842760"/>
                  <a:ext cx="4736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Group 7"/>
              <p:cNvGrpSpPr/>
              <p:nvPr/>
            </p:nvGrpSpPr>
            <p:grpSpPr>
              <a:xfrm>
                <a:off x="4399200" y="1482480"/>
                <a:ext cx="2549160" cy="639720"/>
                <a:chOff x="4399200" y="1482480"/>
                <a:chExt cx="2549160" cy="639720"/>
              </a:xfrm>
            </p:grpSpPr>
            <p:sp>
              <p:nvSpPr>
                <p:cNvPr id="1047" name="Rectangle 8"/>
                <p:cNvSpPr/>
                <p:nvPr/>
              </p:nvSpPr>
              <p:spPr>
                <a:xfrm>
                  <a:off x="4498920" y="1482480"/>
                  <a:ext cx="234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980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年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48" name="Rectangle 9"/>
                <p:cNvSpPr/>
                <p:nvPr/>
              </p:nvSpPr>
              <p:spPr>
                <a:xfrm>
                  <a:off x="4399200" y="1482480"/>
                  <a:ext cx="2549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Group 10"/>
              <p:cNvGrpSpPr/>
              <p:nvPr/>
            </p:nvGrpSpPr>
            <p:grpSpPr>
              <a:xfrm>
                <a:off x="6948720" y="1482480"/>
                <a:ext cx="2187000" cy="639720"/>
                <a:chOff x="6948720" y="1482480"/>
                <a:chExt cx="2187000" cy="639720"/>
              </a:xfrm>
            </p:grpSpPr>
            <p:sp>
              <p:nvSpPr>
                <p:cNvPr id="1050" name="Rectangle 11"/>
                <p:cNvSpPr/>
                <p:nvPr/>
              </p:nvSpPr>
              <p:spPr>
                <a:xfrm>
                  <a:off x="7048440" y="1482480"/>
                  <a:ext cx="19872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.02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亿公斤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51" name="Rectangle 12"/>
                <p:cNvSpPr/>
                <p:nvPr/>
              </p:nvSpPr>
              <p:spPr>
                <a:xfrm>
                  <a:off x="6948720" y="1482480"/>
                  <a:ext cx="2187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13"/>
              <p:cNvGrpSpPr/>
              <p:nvPr/>
            </p:nvGrpSpPr>
            <p:grpSpPr>
              <a:xfrm>
                <a:off x="4399200" y="2122200"/>
                <a:ext cx="2549160" cy="639720"/>
                <a:chOff x="4399200" y="2122200"/>
                <a:chExt cx="2549160" cy="639720"/>
              </a:xfrm>
            </p:grpSpPr>
            <p:sp>
              <p:nvSpPr>
                <p:cNvPr id="1053" name="Rectangle 14"/>
                <p:cNvSpPr/>
                <p:nvPr/>
              </p:nvSpPr>
              <p:spPr>
                <a:xfrm>
                  <a:off x="4498920" y="2122200"/>
                  <a:ext cx="234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981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年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54" name="Rectangle 15"/>
                <p:cNvSpPr/>
                <p:nvPr/>
              </p:nvSpPr>
              <p:spPr>
                <a:xfrm>
                  <a:off x="4399200" y="2122200"/>
                  <a:ext cx="2549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Group 16"/>
              <p:cNvGrpSpPr/>
              <p:nvPr/>
            </p:nvGrpSpPr>
            <p:grpSpPr>
              <a:xfrm>
                <a:off x="6948720" y="2122200"/>
                <a:ext cx="2187000" cy="639720"/>
                <a:chOff x="6948720" y="2122200"/>
                <a:chExt cx="2187000" cy="639720"/>
              </a:xfrm>
            </p:grpSpPr>
            <p:sp>
              <p:nvSpPr>
                <p:cNvPr id="1056" name="Rectangle 17"/>
                <p:cNvSpPr/>
                <p:nvPr/>
              </p:nvSpPr>
              <p:spPr>
                <a:xfrm>
                  <a:off x="7048440" y="2122200"/>
                  <a:ext cx="19872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6.70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亿公斤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57" name="Rectangle 18"/>
                <p:cNvSpPr/>
                <p:nvPr/>
              </p:nvSpPr>
              <p:spPr>
                <a:xfrm>
                  <a:off x="6948720" y="2122200"/>
                  <a:ext cx="2187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Group 19"/>
              <p:cNvGrpSpPr/>
              <p:nvPr/>
            </p:nvGrpSpPr>
            <p:grpSpPr>
              <a:xfrm>
                <a:off x="4399200" y="2761920"/>
                <a:ext cx="2549160" cy="639720"/>
                <a:chOff x="4399200" y="2761920"/>
                <a:chExt cx="2549160" cy="639720"/>
              </a:xfrm>
            </p:grpSpPr>
            <p:sp>
              <p:nvSpPr>
                <p:cNvPr id="1059" name="Rectangle 20"/>
                <p:cNvSpPr/>
                <p:nvPr/>
              </p:nvSpPr>
              <p:spPr>
                <a:xfrm>
                  <a:off x="4498920" y="2761920"/>
                  <a:ext cx="234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982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年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60" name="Rectangle 21"/>
                <p:cNvSpPr/>
                <p:nvPr/>
              </p:nvSpPr>
              <p:spPr>
                <a:xfrm>
                  <a:off x="4399200" y="2761920"/>
                  <a:ext cx="2549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Group 22"/>
              <p:cNvGrpSpPr/>
              <p:nvPr/>
            </p:nvGrpSpPr>
            <p:grpSpPr>
              <a:xfrm>
                <a:off x="6948720" y="2761920"/>
                <a:ext cx="2187000" cy="639720"/>
                <a:chOff x="6948720" y="2761920"/>
                <a:chExt cx="2187000" cy="639720"/>
              </a:xfrm>
            </p:grpSpPr>
            <p:sp>
              <p:nvSpPr>
                <p:cNvPr id="1062" name="Rectangle 23"/>
                <p:cNvSpPr/>
                <p:nvPr/>
              </p:nvSpPr>
              <p:spPr>
                <a:xfrm>
                  <a:off x="7048440" y="2761920"/>
                  <a:ext cx="19872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7.15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亿公斤</a:t>
                  </a: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063" name="Rectangle 24"/>
                <p:cNvSpPr/>
                <p:nvPr/>
              </p:nvSpPr>
              <p:spPr>
                <a:xfrm>
                  <a:off x="6948720" y="2761920"/>
                  <a:ext cx="2187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4" name="Rectangle 25"/>
            <p:cNvSpPr/>
            <p:nvPr/>
          </p:nvSpPr>
          <p:spPr>
            <a:xfrm>
              <a:off x="4392720" y="838080"/>
              <a:ext cx="4750920" cy="2568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065" name="Text Box 26"/>
          <p:cNvSpPr/>
          <p:nvPr/>
        </p:nvSpPr>
        <p:spPr>
          <a:xfrm>
            <a:off x="304920" y="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19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右表反映的粮食产量变化发生于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6" name="Text Box 27"/>
          <p:cNvSpPr/>
          <p:nvPr/>
        </p:nvSpPr>
        <p:spPr>
          <a:xfrm>
            <a:off x="152280" y="609480"/>
            <a:ext cx="4496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土地改革时期　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三大改造时期　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大跃进时期　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改革开放时期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7" name="Text Box 28"/>
          <p:cNvSpPr/>
          <p:nvPr/>
        </p:nvSpPr>
        <p:spPr>
          <a:xfrm>
            <a:off x="0" y="3809880"/>
            <a:ext cx="914400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上表，出现表中变化的主要原因是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土地改革的进行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农业合作化的开展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家庭联产承包责任制的实施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大跃进的进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8" name="WordArt 29"/>
          <p:cNvSpPr txBox="1"/>
          <p:nvPr/>
        </p:nvSpPr>
        <p:spPr>
          <a:xfrm>
            <a:off x="5943600" y="304920"/>
            <a:ext cx="121932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D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69" name="WordArt 30"/>
          <p:cNvSpPr txBox="1"/>
          <p:nvPr/>
        </p:nvSpPr>
        <p:spPr>
          <a:xfrm>
            <a:off x="7162920" y="4952880"/>
            <a:ext cx="121896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楷体"/>
              </a:rPr>
              <a:t>C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med">
    <p:checker dir="horz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2"/>
          <p:cNvSpPr/>
          <p:nvPr/>
        </p:nvSpPr>
        <p:spPr>
          <a:xfrm>
            <a:off x="380880" y="5335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21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国对外开放的格局是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济特区──沿海开放城市──沿海经济开放区──内地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沿海开放城市──经济特区──沿海经济开放区──内地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沿海经济开放区──经济特区──沿海开放城市──内地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地──经济特区──沿海开放城市──沿海经济开放区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1" name="WordArt 3"/>
          <p:cNvSpPr txBox="1"/>
          <p:nvPr/>
        </p:nvSpPr>
        <p:spPr>
          <a:xfrm>
            <a:off x="6781680" y="2057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228600" y="533520"/>
            <a:ext cx="8534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2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年曾分田翻身当家作主人，今岁又分田勤劳致富奔小康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联中的两次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的是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土地改革和农业合作社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大跃进和人民公社化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农业合作社和人民公社化运动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土地改革和家庭联产承包责任制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3" name="WordArt 3"/>
          <p:cNvSpPr txBox="1"/>
          <p:nvPr/>
        </p:nvSpPr>
        <p:spPr>
          <a:xfrm>
            <a:off x="6781680" y="20574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 Box 2"/>
          <p:cNvSpPr/>
          <p:nvPr/>
        </p:nvSpPr>
        <p:spPr>
          <a:xfrm>
            <a:off x="228600" y="380880"/>
            <a:ext cx="8736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关家庭联产承包责任制，不正确的是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农民获得了生产和经营上的自主权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农民获得了土地的所有权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打破了人民公社制度下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锅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适应目前农村生产力发展水平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5" name="WordArt 3"/>
          <p:cNvSpPr txBox="1"/>
          <p:nvPr/>
        </p:nvSpPr>
        <p:spPr>
          <a:xfrm>
            <a:off x="6858000" y="266688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228600" y="380880"/>
            <a:ext cx="86104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比较新中国成立后的土地改革运动和农村家庭联产承包责任制，二者的共同点有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以土地公有制为基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彻底废除封建地主土地所有制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实行农民土地所有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调动了广大农民的生产积极性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7" name="WordArt 3"/>
          <p:cNvSpPr txBox="1"/>
          <p:nvPr/>
        </p:nvSpPr>
        <p:spPr>
          <a:xfrm>
            <a:off x="6781680" y="20574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468360" y="83664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25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右图是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1998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年为了纪念一次转折性会议召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周年而发行的纪念章，这次会议是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第一届全国人民代表大会  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中共八大  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十一届三中全会        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．中共十二大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79" name="Picture 3" descr="u=706523856,4225273763&amp;fm=0&amp;gp=0[1]"/>
          <p:cNvPicPr/>
          <p:nvPr/>
        </p:nvPicPr>
        <p:blipFill>
          <a:blip r:embed="rId1"/>
          <a:stretch/>
        </p:blipFill>
        <p:spPr>
          <a:xfrm>
            <a:off x="6732720" y="3789360"/>
            <a:ext cx="2158920" cy="2122560"/>
          </a:xfrm>
          <a:prstGeom prst="rect">
            <a:avLst/>
          </a:prstGeom>
          <a:ln w="0">
            <a:noFill/>
          </a:ln>
        </p:spPr>
      </p:pic>
      <p:sp>
        <p:nvSpPr>
          <p:cNvPr id="1080" name="WordArt 4"/>
          <p:cNvSpPr txBox="1"/>
          <p:nvPr/>
        </p:nvSpPr>
        <p:spPr>
          <a:xfrm>
            <a:off x="6172200" y="495288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1B8B-B4BF-43D9-89EF-704A0033D3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5113080" cy="93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家庭联产承包责任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9800" y="2204640"/>
            <a:ext cx="8229600" cy="3700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在土地公有制的基础上，把集体所有的土地长期包给各农户使用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分户经营、自负盈亏，把农民的责、权、利紧密结合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克服了以往分配中的平均主义，纠正了管理过分集中、经营方式单一等缺点，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农民有了生产的自主权，大大提高了生产积极性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2"/>
          <p:cNvSpPr/>
          <p:nvPr/>
        </p:nvSpPr>
        <p:spPr>
          <a:xfrm>
            <a:off x="250920" y="5493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26.200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日，一个必将被历史所铭记的日子——在这一天，中国实现了城乡义务教育全部免除学杂费。这是我国着力保障和改善民生的一项重大举措，是我国教育史上的又一座里程碑。可你知道这一举措是哪部法律的具体体现？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、《中华人民共和国环境保护法》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、《中华人民共和国刑法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、《中华人民共和国义务教育法》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、《中华人民共和国民法通则》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6" name="WordArt 3"/>
          <p:cNvSpPr txBox="1"/>
          <p:nvPr/>
        </p:nvSpPr>
        <p:spPr>
          <a:xfrm>
            <a:off x="6732720" y="515772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2401920" y="3510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4ec48"/>
                </a:solidFill>
                <a:latin typeface="Arial"/>
                <a:ea typeface="华文新魏"/>
              </a:rPr>
              <a:t>安徽凤阳小岗村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650" name="Picture 3" descr="bian"/>
          <p:cNvPicPr/>
          <p:nvPr/>
        </p:nvPicPr>
        <p:blipFill>
          <a:blip r:embed="rId1"/>
          <a:stretch/>
        </p:blipFill>
        <p:spPr>
          <a:xfrm>
            <a:off x="1547640" y="1052640"/>
            <a:ext cx="6708960" cy="2746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xin_5820104150813187700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72080" y="3573360"/>
            <a:ext cx="4033800" cy="25545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anhuanan0010x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280" y="1844640"/>
            <a:ext cx="3985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未命名2"/>
          <p:cNvPicPr/>
          <p:nvPr/>
        </p:nvPicPr>
        <p:blipFill>
          <a:blip r:embed="rId1"/>
          <a:stretch/>
        </p:blipFill>
        <p:spPr>
          <a:xfrm>
            <a:off x="0" y="5965920"/>
            <a:ext cx="9144000" cy="934920"/>
          </a:xfrm>
          <a:prstGeom prst="rect">
            <a:avLst/>
          </a:prstGeom>
          <a:ln w="0">
            <a:noFill/>
          </a:ln>
        </p:spPr>
      </p:pic>
      <p:grpSp>
        <p:nvGrpSpPr>
          <p:cNvPr id="654" name="Group 3"/>
          <p:cNvGrpSpPr/>
          <p:nvPr/>
        </p:nvGrpSpPr>
        <p:grpSpPr>
          <a:xfrm>
            <a:off x="0" y="0"/>
            <a:ext cx="9144000" cy="455760"/>
            <a:chOff x="0" y="0"/>
            <a:chExt cx="9144000" cy="455760"/>
          </a:xfrm>
        </p:grpSpPr>
        <p:pic>
          <p:nvPicPr>
            <p:cNvPr id="655" name="Picture 4" descr="pic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WordArt 5"/>
            <p:cNvSpPr txBox="1"/>
            <p:nvPr/>
          </p:nvSpPr>
          <p:spPr>
            <a:xfrm>
              <a:off x="179280" y="44280"/>
              <a:ext cx="1509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ccffcc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改革开放</a:t>
              </a:r>
              <a:endParaRPr b="1" lang="en-US" sz="1800" spc="1" strike="noStrike">
                <a:ln w="15840">
                  <a:solidFill>
                    <a:srgbClr val="ccffcc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57" name="Rectangle 6"/>
          <p:cNvSpPr/>
          <p:nvPr/>
        </p:nvSpPr>
        <p:spPr>
          <a:xfrm>
            <a:off x="3451320" y="18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小岗村的改革及成就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1423080" y="5157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00"/>
                </a:solidFill>
                <a:latin typeface="Arial"/>
                <a:ea typeface="迷你简毡笔黑"/>
              </a:rPr>
              <a:t>“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大包干</a:t>
            </a:r>
            <a:r>
              <a:rPr b="1" lang="zh-CN" sz="1800" spc="-1" strike="noStrike">
                <a:solidFill>
                  <a:srgbClr val="333300"/>
                </a:solidFill>
                <a:latin typeface="Arial"/>
                <a:ea typeface="迷你简毡笔黑"/>
              </a:rPr>
              <a:t>”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带头人合影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659" name="Picture 8" descr="W020081015369282811084"/>
          <p:cNvPicPr/>
          <p:nvPr/>
        </p:nvPicPr>
        <p:blipFill>
          <a:blip r:embed="rId3"/>
          <a:stretch/>
        </p:blipFill>
        <p:spPr>
          <a:xfrm>
            <a:off x="249120" y="1268280"/>
            <a:ext cx="4035600" cy="3240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这是小岗村18位农民按下红手印的“包产到户”契约"/>
          <p:cNvPicPr/>
          <p:nvPr/>
        </p:nvPicPr>
        <p:blipFill>
          <a:blip r:embed="rId4"/>
          <a:stretch/>
        </p:blipFill>
        <p:spPr>
          <a:xfrm>
            <a:off x="4500720" y="1341360"/>
            <a:ext cx="4235400" cy="32274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10"/>
          <p:cNvSpPr/>
          <p:nvPr/>
        </p:nvSpPr>
        <p:spPr>
          <a:xfrm>
            <a:off x="5529600" y="508464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这是小岗村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18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位农民按下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红手印的</a:t>
            </a:r>
            <a:r>
              <a:rPr b="1" lang="zh-CN" sz="1800" spc="-1" strike="noStrike">
                <a:solidFill>
                  <a:srgbClr val="333300"/>
                </a:solidFill>
                <a:latin typeface="Arial"/>
                <a:ea typeface="迷你简毡笔黑"/>
              </a:rPr>
              <a:t>“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包产到户</a:t>
            </a:r>
            <a:r>
              <a:rPr b="1" lang="zh-CN" sz="1800" spc="-1" strike="noStrike">
                <a:solidFill>
                  <a:srgbClr val="333300"/>
                </a:solidFill>
                <a:latin typeface="Arial"/>
                <a:ea typeface="迷你简毡笔黑"/>
              </a:rPr>
              <a:t>”</a:t>
            </a:r>
            <a:r>
              <a:rPr b="1" lang="zh-CN" sz="1800" spc="-1" strike="noStrike">
                <a:solidFill>
                  <a:srgbClr val="333300"/>
                </a:solidFill>
                <a:latin typeface="迷你简毡笔黑"/>
                <a:ea typeface="迷你简毡笔黑"/>
              </a:rPr>
              <a:t>契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0:59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8Z</dcterms:modified>
  <cp:revision>1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