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1C7-9F36-447F-8621-545DD193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A3F-BD8D-47EF-B71D-FDB9CD87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A92-8F6C-4109-AEE1-1435C6FD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A0D-B04B-4DC9-9306-2DCB25C3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729D-01C0-41DA-97DC-BA164F31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C396-839E-4DB6-B6F5-2666A782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D110-3038-441A-9151-83F81DA2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CCA1-31F5-4DC0-86DB-BC8795A8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4313-28A3-4764-A383-1EBDF8FD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441C-5D92-456F-BF3E-7BEC59BA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7B55-7A6F-49A8-B75D-6BB300E0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434-AA51-4FFA-94BD-93B83F89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A94D-C530-4BF1-AB7B-08A47EA4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AEFA-829B-4D46-A1EE-4C6622C2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971A-C572-4E68-9467-76FF59A1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B0AC-4C0D-46F4-A2EA-95A05134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95BF-6294-4174-9803-6699E5DB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E9C-208C-4A42-8E80-70A6148E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E49-E57E-42BE-A7D6-56496AEB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FF5-DC8E-4101-B713-6FBD0893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6A7-0C03-422A-AC8B-A8C97129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819-66EB-45B6-8071-CEABF07E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623-EB0F-43E8-83B2-60F3DB85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AC1-4129-4E29-A664-FEB13A92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EBB5-67B9-4FE9-851E-C16B69B4A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F448-EED0-474E-8EF3-D545926917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5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68360" y="1628640"/>
            <a:ext cx="3887640" cy="3737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8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498920" y="1628640"/>
            <a:ext cx="4176720" cy="3721320"/>
          </a:xfrm>
          <a:prstGeom prst="rect">
            <a:avLst/>
          </a:prstGeom>
          <a:ln w="0">
            <a:noFill/>
          </a:ln>
        </p:spPr>
      </p:pic>
      <p:sp>
        <p:nvSpPr>
          <p:cNvPr id="84" name="WordArt 9"/>
          <p:cNvSpPr txBox="1"/>
          <p:nvPr/>
        </p:nvSpPr>
        <p:spPr>
          <a:xfrm>
            <a:off x="971640" y="1052640"/>
            <a:ext cx="7057800" cy="31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351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各具特色的民居课件</a:t>
            </a:r>
            <a:r>
              <a:rPr b="1" lang="en-US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模板免费下载</a:t>
            </a:r>
            <a:endParaRPr b="1" lang="en-US" sz="4000" spc="1" strike="noStrike">
              <a:ln w="9360">
                <a:solidFill>
                  <a:srgbClr val="ffff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84360" y="62064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位　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闽西南、粤东北的崇山峻岭中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作　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防备盗匪骚扰和当地人排挤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材　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在土中掺石灰，用糯米饭、鸡蛋清作黏合剂，以竹片、木条作筋骨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结　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大多为三至六层楼，一百至二百多间房屋如橘瓣状排列，布局均匀，宏伟壮观；土楼围成圆形的房屋均按八卦布局排列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文化特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吉祥、幸福、安宁；和睦相处；勤俭持家；平等互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81E8-1476-49E7-8366-F0EB216090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24000" y="260280"/>
            <a:ext cx="8424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读一读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客家民居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部分，思考是围绕哪段话来写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读第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自然段，客家民居“奇”在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作者用了哪些方法对民居的特点进行说明的，有什么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客家民居中，体现了哪些中华传统文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1619280" y="1628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"/>
          <p:cNvPicPr/>
          <p:nvPr/>
        </p:nvPicPr>
        <p:blipFill>
          <a:blip r:embed="rId2"/>
          <a:stretch/>
        </p:blipFill>
        <p:spPr>
          <a:xfrm>
            <a:off x="325440" y="404640"/>
            <a:ext cx="7126200" cy="6048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744680" y="692280"/>
            <a:ext cx="7898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福建客家土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"/>
          <p:cNvPicPr/>
          <p:nvPr/>
        </p:nvPicPr>
        <p:blipFill>
          <a:blip r:embed="rId2"/>
          <a:stretch/>
        </p:blipFill>
        <p:spPr>
          <a:xfrm>
            <a:off x="1258920" y="260280"/>
            <a:ext cx="7634160" cy="6337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54880" y="1052640"/>
            <a:ext cx="7898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蒙古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"/>
          <p:cNvPicPr/>
          <p:nvPr/>
        </p:nvPicPr>
        <p:blipFill>
          <a:blip r:embed="rId2"/>
          <a:stretch/>
        </p:blipFill>
        <p:spPr>
          <a:xfrm>
            <a:off x="611280" y="333360"/>
            <a:ext cx="4248000" cy="3240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2"/>
          <p:cNvPicPr/>
          <p:nvPr/>
        </p:nvPicPr>
        <p:blipFill>
          <a:blip r:embed="rId3"/>
          <a:stretch/>
        </p:blipFill>
        <p:spPr>
          <a:xfrm>
            <a:off x="3564000" y="2523960"/>
            <a:ext cx="5083200" cy="403092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8197"/>
          <p:cNvSpPr/>
          <p:nvPr/>
        </p:nvSpPr>
        <p:spPr>
          <a:xfrm>
            <a:off x="2771640" y="442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3"/>
          <p:cNvPicPr/>
          <p:nvPr/>
        </p:nvPicPr>
        <p:blipFill>
          <a:blip r:embed="rId2"/>
          <a:stretch/>
        </p:blipFill>
        <p:spPr>
          <a:xfrm>
            <a:off x="395280" y="932040"/>
            <a:ext cx="3745080" cy="3360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4"/>
          <p:cNvPicPr/>
          <p:nvPr/>
        </p:nvPicPr>
        <p:blipFill>
          <a:blip r:embed="rId3"/>
          <a:stretch/>
        </p:blipFill>
        <p:spPr>
          <a:xfrm>
            <a:off x="4284720" y="333360"/>
            <a:ext cx="4464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5"/>
          <p:cNvPicPr/>
          <p:nvPr/>
        </p:nvPicPr>
        <p:blipFill>
          <a:blip r:embed="rId2"/>
          <a:stretch/>
        </p:blipFill>
        <p:spPr>
          <a:xfrm>
            <a:off x="684360" y="333360"/>
            <a:ext cx="4319280" cy="424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6"/>
          <p:cNvPicPr/>
          <p:nvPr/>
        </p:nvPicPr>
        <p:blipFill>
          <a:blip r:embed="rId3"/>
          <a:stretch/>
        </p:blipFill>
        <p:spPr>
          <a:xfrm>
            <a:off x="4284720" y="2997360"/>
            <a:ext cx="4464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7"/>
          <p:cNvPicPr/>
          <p:nvPr/>
        </p:nvPicPr>
        <p:blipFill>
          <a:blip r:embed="rId2"/>
          <a:stretch/>
        </p:blipFill>
        <p:spPr>
          <a:xfrm>
            <a:off x="539640" y="765000"/>
            <a:ext cx="4032360" cy="496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8"/>
          <p:cNvPicPr/>
          <p:nvPr/>
        </p:nvPicPr>
        <p:blipFill>
          <a:blip r:embed="rId3"/>
          <a:stretch/>
        </p:blipFill>
        <p:spPr>
          <a:xfrm>
            <a:off x="4859280" y="765000"/>
            <a:ext cx="3960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24000" y="174600"/>
            <a:ext cx="8496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词语认读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闽西南    粤东北　奇葩　骚扰　夯筑　竹篾　布局　均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风雨侵蚀　      安然无恙      和睦相处　勤俭持家　     秩序井然　   遮天盖地　        清风徐来　蜂拥而来　家道兴旺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承前祖德勤和俭、启后子孙读与耕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起竹楼，傍水而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树满寨，花满园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95280" y="476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按表格要求在文中画出相关语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9640" y="2349360"/>
          <a:ext cx="7777080" cy="4064040"/>
        </p:xfrm>
        <a:graphic>
          <a:graphicData uri="http://schemas.openxmlformats.org/drawingml/2006/table">
            <a:tbl>
              <a:tblPr/>
              <a:tblGrid>
                <a:gridCol w="2808360"/>
                <a:gridCol w="4968720"/>
              </a:tblGrid>
              <a:tr h="812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材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化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7"/>
          <p:cNvSpPr/>
          <p:nvPr/>
        </p:nvSpPr>
        <p:spPr>
          <a:xfrm>
            <a:off x="3276720" y="1341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客家民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8197"/>
          <p:cNvSpPr/>
          <p:nvPr/>
        </p:nvSpPr>
        <p:spPr>
          <a:xfrm>
            <a:off x="1908000" y="170172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1:16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38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