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3AE-3D1D-441A-AF27-37D2214C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B27-67CC-4A9B-B21C-BE2E1786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BFDFB-B3EC-4F89-A189-9C8BB2F6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183AC-18E3-44C0-B534-D2ED4F23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B7F88-1AB4-49D6-8854-4ECE241C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CFA42-64DA-4A59-834F-54175CD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6ED51-3D38-4599-9CBC-7BA8F7D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CC363F-11DA-46C4-ACBA-3D7CB024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CBFC89-E3A0-40BD-9176-EB3B4E5E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BF1F5-CFCB-4ED7-8CDD-22A4978A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21EB43-0E3F-4E42-A570-256DE2D2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2A6D2A-4DF5-484A-AB53-D745A10C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749-E881-4F2D-9A97-96E60A3D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81AD5-247B-43FE-AC05-D037421C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E5211-70C8-4157-9BBB-A8A783AC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FE875F-63E3-4C53-B0FE-9F4C194D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6BAA64-A381-4F8E-BF67-FD920803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80695D-A260-4CD1-A304-6222CA2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45668-E106-464A-ABCA-88596864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CFABAE-0F5F-4128-B8FE-31573D4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94DB5A-71FE-43AB-A703-ACE5057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CA11B6-A6FC-48E6-A268-79CE99BB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B19CC3-1434-44C2-AFE6-6E68017A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EA7-5578-4D1D-8CE5-CD1758B2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66C33-F1DE-4457-A65B-5F3CE7FA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65AE21-FC7F-4E4C-B3A0-4E3D10E2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8A0D97-579E-484B-BD9B-4E3F2DC5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40DAED-5CF1-4B5B-975F-DBD01912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2BE9ED-D77A-40D7-9132-595BAE11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291358-FF22-4830-B47C-98F481CE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89D328-D01B-4BA4-91FA-501886D6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7BD95D-0A05-4020-91F9-7155C2D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8FC59F-87A9-4830-8043-97D5C87E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D31AD9-4D02-4BCF-86B2-069AA0E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2BC57-10D0-4D64-8291-B0F549A5A8C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D56EE-FAAE-42CD-838D-B0511E9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43734-D3D9-4CF6-BD96-E0581C43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46E831-4F40-4702-BC73-35A6FB44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417EA3-7B9C-4881-A8A5-47F95BCE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5B0C46-752C-4CA0-8973-19018DD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B58316-FA3D-4EDB-AB82-5EB066A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7EB14D-C8E5-4627-AFCC-F79F55F6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B2F551-4C8F-4521-B5A3-0C0506B2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92A929-4B50-41FA-9FEF-0F0355CD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1D343-7BD2-4039-B2A5-B6D15AB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16A36-9163-4A3A-883F-7ED46F2C920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E99021-1341-4D7E-9250-2CC3AF2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EC8578-1B59-4C40-9109-0576E3F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07A30A-5929-4E5B-9542-F6F8AF6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BDD4C5-BA89-4A8B-8BD6-F5FCB8A1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3E006F-7118-4902-A048-66F747DE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EBDB6F-3372-45BF-A226-361DB15D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CA6309-C620-4C9A-9FA6-30D1AC05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435CF3-0AC5-4C2C-851B-DFDA7BB3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53A91E-F8A1-4D45-A6CF-5B4B69F8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6668F9-62AC-4508-93B4-3074EBEA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FB02D-3E0F-43ED-A07B-4A17653FE1E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9B4F4F-139C-4FEC-893A-E771558D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E28EAD-6B63-4F60-A0D2-570F59DD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38A5BA-DB33-4241-881D-C2F4277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029E64-856E-4134-A69D-4FB1AED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95C8BC-559D-4776-A387-411D433E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54BFD3-7BF3-47D4-8779-C8C8CC06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5FAB30-8433-4BBE-91D9-4FBF2716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30A342-C9F1-4F43-AE5A-F1785783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04AE44-29FE-4A37-BB83-49794042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A2B665-F295-4136-A0C6-8CFFDF6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6565-4ED2-42D2-A9E6-38512F7AB06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F16869-9977-41A4-AAE0-72B296B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19A733-83AA-4878-912B-A4669717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A7C715-3161-444A-81AD-49C74542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D8365F-F54D-4C59-94B3-58353B0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EA97E6-7DCD-4BF1-864E-B066B1D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862A8D-96B4-45AB-AEC3-7F5370DF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8D3006-3E8B-4CC9-9732-A8BDBD6E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63541-B05F-4CC0-BC1C-FDDC0B11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F0410-2BAA-4668-8AF2-A1AE2530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49E380-7068-46D2-B808-F874809E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9C4E9-CBA3-4A7F-8F6E-FD58176DD11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2394ED-C3D9-4255-A918-2A4904C7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180AC4-6302-4774-AA40-6ACC56C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2C69A6-80D7-4763-A5FC-92564010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0FF098-AC14-477D-9C0E-9F04072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1810B7-94DE-47AA-8C05-FCFC6890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34E181-9E29-4A4F-9B98-8BD3E76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B3AA1A-9085-4933-89E3-3FABAA8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5D9721-23B1-44C8-ABB8-A340A76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BD3863-87DA-46E3-AFA1-0FE5822D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FAF842-50EF-43FA-8342-C8C7ABC9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CB5C2-1E9B-4978-98BC-E5065C9E452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4027E4-11CD-4A68-B813-D81D15F6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9204A-75FC-4C49-AC94-29B1CD14C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E42-CBC9-47AE-9F77-CA6F3B0A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60731-9915-4213-AABA-416AD57982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D3ECA-C595-4F53-8A77-E2D2C10FC0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16757-C0A6-4B78-8C47-566BA1600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F18DA-88C9-4934-AB69-C75350BFDF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3D10B-244A-4B32-87B6-AD72B652E1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D69-7EF0-4B17-9AB9-E5C8CFC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E4DCF-B0E7-440D-B060-25ECA112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E3BB1-7784-4AEF-9812-A2C1F0FD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51B7B-F1BF-46BE-9DAC-EFAB644D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A1A-E9F5-47EB-998B-768C14A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AFB44-FF12-4C87-9769-EEBF9B83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DABB4-6741-443A-8994-48026D89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15557-2DC6-4D01-9324-91810CBF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F0603-C7C8-4407-B753-1077074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D7DA4-DCD9-4BE0-8C75-888A434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CFF0D-9FDE-4BED-8A8A-516480FF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2AEDD-9CEA-4520-B595-7C89329B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97ED3-9F16-47B3-A247-EEE93C95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4F561-FF89-4995-8EFB-0C098B4B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9C928-53F2-4657-B26B-F9CDABD3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4A4-96E8-4532-AE83-16CBF799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A3C33-11B6-4EC1-8468-FF07C916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F0173-73CC-4351-ABF3-E21A62B1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5616A-F8DE-4783-95E1-47E4EAC5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64102-B8F8-4A55-AE3A-AD932A33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7BD25-8A8C-40D9-B796-0120436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C2AA2-185B-42AB-AFCE-75B85C2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875BF-62E5-4564-ADF4-2E2AD6D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7C795-24A5-494F-B3FA-369229E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D1AF4-C116-4D03-A440-8877F11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8D74B9-AEFA-44CF-A357-61542E91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790-BDAC-48FB-AE20-BDFF463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DC186-04F5-44A9-849C-01263BD5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BEB1B-7A23-4109-85F3-811F971B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27E38-BC9C-428E-A53D-22CEEC1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B7CB0-F683-4C9D-8277-D9D5FEB5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42B27-07B8-4AEA-9CF6-C61022B2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79DD4-9E77-443B-8033-24AEB662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46E1A-5C68-4C66-9808-3377B5B0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F0C0A-1118-400D-A8F9-A4B7CEC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C0495-6D13-4F97-9DD4-6784927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BC760-1C7C-4B65-ACB2-288DAB6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BCA-43FF-48AC-83F0-110576B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8FDF9-35E1-4E4B-A957-E7005D9E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BC0D1-B9DC-43C9-B9E9-5A7AF943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8148C-0ECF-4A87-B463-03BC70A7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8A4FD-2A8F-42E0-BA30-D81B5A9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842D6-E45D-4C0A-95B7-CD0E0AF2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D5B1F-48A0-466B-BE4F-C6A17193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1D2CF-6ED3-4554-9629-C4BC747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4B2DB-965B-4C1F-89EC-DD2DF22F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452D6-7E2F-4B32-9AE1-55D69911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B93C9-2777-42F4-ADBB-8DE918D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C6A-1FC0-42C3-B0A9-B95B33A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93CF9-E40B-4CF8-9442-E178368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FF34E-8C86-4FE3-A387-0539B5D1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11EAA-B289-4DA7-BF46-5AE188DC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F88CA-B784-478E-974F-7DF395B8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7156E-5C30-483A-970D-AFE50080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BA544-183C-462F-B293-E3800CC0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31E6E6-B9A2-4607-8D9C-7D436173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06E68-1494-49B5-8888-2C684F1F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8A86C-B5CF-4315-837B-754D81A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E3AA7-AB2E-4829-ADE6-656F4C02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1FC-9346-432E-830B-5666171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6A0F4-ED2A-4CAD-916D-59530505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BF8F5-6FFD-4DD0-848F-1DABAB75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99CCE-B1ED-4AB6-92CD-E48D3C9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0C342-B343-4C38-AB7D-7C7EF243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748F5-358B-4E66-8859-0B960D34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C4DD3-5813-4EBA-8A49-E17957C9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8B563-6444-4E55-A02F-14B587A4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FDBA1-42B9-4460-B5B0-E34CEA18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F9049D-16FD-4D8C-B559-2AE69433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7E1BC-4870-4974-884E-AC5DDE6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656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7B9-A457-4248-A4C3-A11E966A8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68440" y="63403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575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2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839-775C-4430-899C-E0ED465EA8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651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2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27AD-C4A3-45BD-9A67-A05F4C9546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727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219-794D-4DCF-84C6-7B9DC1BE2E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803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3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3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D009-A462-44C1-9831-7BC5591F3B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879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A94-E149-4143-81A8-A52FC1E52B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955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3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4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4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F6D3-30BA-4B2D-AA34-0776CE5E6F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43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815A-B288-4B50-8A15-6AF6ABBF32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38D1-7870-43B9-8E4A-D0FF26D097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4381560" y="2360520"/>
            <a:ext cx="4765680" cy="4484520"/>
            <a:chOff x="4381560" y="2360520"/>
            <a:chExt cx="4765680" cy="4484520"/>
          </a:xfrm>
        </p:grpSpPr>
        <p:sp>
          <p:nvSpPr>
            <p:cNvPr id="195" name="Rectangle 3"/>
            <p:cNvSpPr/>
            <p:nvPr/>
          </p:nvSpPr>
          <p:spPr>
            <a:xfrm>
              <a:off x="6978960" y="2695320"/>
              <a:ext cx="278640" cy="143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4"/>
            <p:cNvSpPr/>
            <p:nvPr/>
          </p:nvSpPr>
          <p:spPr>
            <a:xfrm>
              <a:off x="7076520" y="2442240"/>
              <a:ext cx="66600" cy="658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 rot="994800">
              <a:off x="8358120" y="2878200"/>
              <a:ext cx="8280" cy="2918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7885800" y="5712840"/>
              <a:ext cx="93240" cy="13536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 rot="91200">
              <a:off x="8757360" y="2934360"/>
              <a:ext cx="8640" cy="2813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8"/>
            <p:cNvSpPr/>
            <p:nvPr/>
          </p:nvSpPr>
          <p:spPr>
            <a:xfrm rot="20673600">
              <a:off x="8973720" y="2914560"/>
              <a:ext cx="8280" cy="1240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 rot="20459400">
              <a:off x="5866920" y="3330360"/>
              <a:ext cx="8640" cy="28627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0"/>
            <p:cNvSpPr/>
            <p:nvPr/>
          </p:nvSpPr>
          <p:spPr>
            <a:xfrm rot="1114200">
              <a:off x="4894560" y="3337200"/>
              <a:ext cx="8280" cy="2983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 rot="254400">
              <a:off x="5288400" y="3405960"/>
              <a:ext cx="8280" cy="2683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6663600" y="5027400"/>
              <a:ext cx="881280" cy="21960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7731360" y="5829840"/>
              <a:ext cx="1409040" cy="17748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7765560" y="5905800"/>
              <a:ext cx="1374840" cy="34488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7790760" y="5829840"/>
              <a:ext cx="1349640" cy="1267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5322240" y="2943000"/>
              <a:ext cx="144360" cy="2181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5322240" y="3152880"/>
              <a:ext cx="127080" cy="13536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5322240" y="3262680"/>
              <a:ext cx="127080" cy="1522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8733240" y="2470320"/>
              <a:ext cx="144360" cy="21960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8741880" y="2673000"/>
              <a:ext cx="118440" cy="13500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8733240" y="2791080"/>
              <a:ext cx="127080" cy="1519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8673840" y="5736960"/>
              <a:ext cx="93240" cy="13536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5262840" y="2360520"/>
              <a:ext cx="3682800" cy="62496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5145120" y="6086160"/>
              <a:ext cx="118800" cy="13356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6340680" y="6225480"/>
              <a:ext cx="127080" cy="1522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389840" y="6225480"/>
              <a:ext cx="101880" cy="1267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27"/>
            <p:cNvSpPr/>
            <p:nvPr/>
          </p:nvSpPr>
          <p:spPr>
            <a:xfrm>
              <a:off x="4452120" y="6177960"/>
              <a:ext cx="1952280" cy="54756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28"/>
            <p:cNvSpPr/>
            <p:nvPr/>
          </p:nvSpPr>
          <p:spPr>
            <a:xfrm>
              <a:off x="4381560" y="6172200"/>
              <a:ext cx="2124720" cy="40536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29"/>
            <p:cNvSpPr/>
            <p:nvPr/>
          </p:nvSpPr>
          <p:spPr>
            <a:xfrm>
              <a:off x="4447800" y="6208920"/>
              <a:ext cx="2016000" cy="3096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6289920" y="6107400"/>
              <a:ext cx="126720" cy="1350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8665560" y="5846760"/>
              <a:ext cx="101520" cy="1519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32"/>
            <p:cNvSpPr/>
            <p:nvPr/>
          </p:nvSpPr>
          <p:spPr>
            <a:xfrm>
              <a:off x="6990120" y="3269880"/>
              <a:ext cx="244440" cy="35751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3"/>
            <p:cNvSpPr/>
            <p:nvPr/>
          </p:nvSpPr>
          <p:spPr>
            <a:xfrm>
              <a:off x="7061040" y="2948760"/>
              <a:ext cx="107280" cy="337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34"/>
            <p:cNvSpPr/>
            <p:nvPr/>
          </p:nvSpPr>
          <p:spPr>
            <a:xfrm>
              <a:off x="6964560" y="3227760"/>
              <a:ext cx="289800" cy="7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7086240" y="2926080"/>
              <a:ext cx="356760" cy="22190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6892560" y="2774160"/>
              <a:ext cx="448200" cy="19440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18C-507C-495C-88DB-1C80692D79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271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B9FD-83F4-4168-A15C-A55F53E22F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347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004-EAAD-44C7-B416-B24115D72E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423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6253-D742-49AF-BCB2-60C4DC57B4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4572000" y="2570040"/>
            <a:ext cx="4573800" cy="4275000"/>
            <a:chOff x="4572000" y="2570040"/>
            <a:chExt cx="4573800" cy="4275000"/>
          </a:xfrm>
        </p:grpSpPr>
        <p:sp>
          <p:nvSpPr>
            <p:cNvPr id="499" name="Rectangle 3"/>
            <p:cNvSpPr/>
            <p:nvPr/>
          </p:nvSpPr>
          <p:spPr>
            <a:xfrm>
              <a:off x="7065360" y="2889360"/>
              <a:ext cx="267480" cy="136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4"/>
            <p:cNvSpPr/>
            <p:nvPr/>
          </p:nvSpPr>
          <p:spPr>
            <a:xfrm>
              <a:off x="7158960" y="2647800"/>
              <a:ext cx="63720" cy="63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5"/>
            <p:cNvSpPr/>
            <p:nvPr/>
          </p:nvSpPr>
          <p:spPr>
            <a:xfrm rot="994800">
              <a:off x="8389440" y="3063960"/>
              <a:ext cx="7920" cy="2782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7936200" y="576576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7"/>
            <p:cNvSpPr/>
            <p:nvPr/>
          </p:nvSpPr>
          <p:spPr>
            <a:xfrm rot="91200">
              <a:off x="8772480" y="3117240"/>
              <a:ext cx="8280" cy="268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8"/>
            <p:cNvSpPr/>
            <p:nvPr/>
          </p:nvSpPr>
          <p:spPr>
            <a:xfrm rot="20673600">
              <a:off x="8980200" y="3098160"/>
              <a:ext cx="7920" cy="1182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9"/>
            <p:cNvSpPr/>
            <p:nvPr/>
          </p:nvSpPr>
          <p:spPr>
            <a:xfrm rot="20459400">
              <a:off x="5997600" y="3494160"/>
              <a:ext cx="8280" cy="2728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0"/>
            <p:cNvSpPr/>
            <p:nvPr/>
          </p:nvSpPr>
          <p:spPr>
            <a:xfrm rot="1114200">
              <a:off x="5064840" y="3501000"/>
              <a:ext cx="7920" cy="284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1"/>
            <p:cNvSpPr/>
            <p:nvPr/>
          </p:nvSpPr>
          <p:spPr>
            <a:xfrm rot="254400">
              <a:off x="5442480" y="3567240"/>
              <a:ext cx="7920" cy="2558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6762600" y="5112360"/>
              <a:ext cx="846000" cy="20916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7787880" y="5877360"/>
              <a:ext cx="1352520" cy="1692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7820640" y="5949720"/>
              <a:ext cx="1319760" cy="32904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7844760" y="5877360"/>
              <a:ext cx="1295640" cy="12060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5474880" y="3125520"/>
              <a:ext cx="138240" cy="2080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5474880" y="3325320"/>
              <a:ext cx="122040" cy="1288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5474880" y="34300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749440" y="2674440"/>
              <a:ext cx="138240" cy="20916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20"/>
            <p:cNvSpPr/>
            <p:nvPr/>
          </p:nvSpPr>
          <p:spPr>
            <a:xfrm>
              <a:off x="8757720" y="2867760"/>
              <a:ext cx="113760" cy="1285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21"/>
            <p:cNvSpPr/>
            <p:nvPr/>
          </p:nvSpPr>
          <p:spPr>
            <a:xfrm>
              <a:off x="8749440" y="2980440"/>
              <a:ext cx="122040" cy="144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22"/>
            <p:cNvSpPr/>
            <p:nvPr/>
          </p:nvSpPr>
          <p:spPr>
            <a:xfrm>
              <a:off x="8692560" y="5788800"/>
              <a:ext cx="89280" cy="1288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23"/>
            <p:cNvSpPr/>
            <p:nvPr/>
          </p:nvSpPr>
          <p:spPr>
            <a:xfrm>
              <a:off x="5418000" y="2570040"/>
              <a:ext cx="3535200" cy="59580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24"/>
            <p:cNvSpPr/>
            <p:nvPr/>
          </p:nvSpPr>
          <p:spPr>
            <a:xfrm>
              <a:off x="5305320" y="6121800"/>
              <a:ext cx="114120" cy="1274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25"/>
            <p:cNvSpPr/>
            <p:nvPr/>
          </p:nvSpPr>
          <p:spPr>
            <a:xfrm>
              <a:off x="6452640" y="6254280"/>
              <a:ext cx="122040" cy="1450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26"/>
            <p:cNvSpPr/>
            <p:nvPr/>
          </p:nvSpPr>
          <p:spPr>
            <a:xfrm>
              <a:off x="4579920" y="6254280"/>
              <a:ext cx="97920" cy="12060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27"/>
            <p:cNvSpPr/>
            <p:nvPr/>
          </p:nvSpPr>
          <p:spPr>
            <a:xfrm>
              <a:off x="4639680" y="6208920"/>
              <a:ext cx="1874160" cy="5220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Oval 28"/>
            <p:cNvSpPr/>
            <p:nvPr/>
          </p:nvSpPr>
          <p:spPr>
            <a:xfrm>
              <a:off x="4572000" y="6203520"/>
              <a:ext cx="2039760" cy="386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29"/>
            <p:cNvSpPr/>
            <p:nvPr/>
          </p:nvSpPr>
          <p:spPr>
            <a:xfrm>
              <a:off x="4635720" y="6238440"/>
              <a:ext cx="1935360" cy="295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30"/>
            <p:cNvSpPr/>
            <p:nvPr/>
          </p:nvSpPr>
          <p:spPr>
            <a:xfrm>
              <a:off x="6404040" y="6141960"/>
              <a:ext cx="121680" cy="1285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31"/>
            <p:cNvSpPr/>
            <p:nvPr/>
          </p:nvSpPr>
          <p:spPr>
            <a:xfrm>
              <a:off x="8684640" y="5893560"/>
              <a:ext cx="97560" cy="144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32"/>
            <p:cNvSpPr/>
            <p:nvPr/>
          </p:nvSpPr>
          <p:spPr>
            <a:xfrm>
              <a:off x="7076160" y="3436920"/>
              <a:ext cx="234720" cy="3408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33"/>
            <p:cNvSpPr/>
            <p:nvPr/>
          </p:nvSpPr>
          <p:spPr>
            <a:xfrm>
              <a:off x="7144200" y="3130920"/>
              <a:ext cx="102960" cy="32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34"/>
            <p:cNvSpPr/>
            <p:nvPr/>
          </p:nvSpPr>
          <p:spPr>
            <a:xfrm>
              <a:off x="7051680" y="3396600"/>
              <a:ext cx="278280" cy="6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35"/>
            <p:cNvSpPr/>
            <p:nvPr/>
          </p:nvSpPr>
          <p:spPr>
            <a:xfrm>
              <a:off x="7168680" y="3109320"/>
              <a:ext cx="342360" cy="211536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36"/>
            <p:cNvSpPr/>
            <p:nvPr/>
          </p:nvSpPr>
          <p:spPr>
            <a:xfrm>
              <a:off x="6982560" y="2964240"/>
              <a:ext cx="430560" cy="1850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2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品课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2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2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53B4-4561-4D84-B390-E44BEB1B48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bbd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WordArt 10"/>
          <p:cNvSpPr txBox="1"/>
          <p:nvPr/>
        </p:nvSpPr>
        <p:spPr>
          <a:xfrm>
            <a:off x="790560" y="1397160"/>
            <a:ext cx="756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公平是社会稳定的天平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4" descr="2006320915611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0988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00"/>
          <p:cNvPicPr/>
          <p:nvPr/>
        </p:nvPicPr>
        <p:blipFill>
          <a:blip r:embed="rId2"/>
          <a:stretch/>
        </p:blipFill>
        <p:spPr>
          <a:xfrm>
            <a:off x="4716360" y="2924280"/>
            <a:ext cx="41036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5" descr="000"/>
          <p:cNvPicPr/>
          <p:nvPr/>
        </p:nvPicPr>
        <p:blipFill>
          <a:blip r:embed="rId1"/>
          <a:stretch/>
        </p:blipFill>
        <p:spPr>
          <a:xfrm>
            <a:off x="4788000" y="1052640"/>
            <a:ext cx="3809880" cy="28191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6" descr="0000"/>
          <p:cNvPicPr/>
          <p:nvPr/>
        </p:nvPicPr>
        <p:blipFill>
          <a:blip r:embed="rId2"/>
          <a:stretch/>
        </p:blipFill>
        <p:spPr>
          <a:xfrm>
            <a:off x="250920" y="981000"/>
            <a:ext cx="41767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WordArt 3"/>
          <p:cNvSpPr txBox="1"/>
          <p:nvPr/>
        </p:nvSpPr>
        <p:spPr>
          <a:xfrm>
            <a:off x="468360" y="0"/>
            <a:ext cx="3743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材料分析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063" name="Rectangle 6"/>
          <p:cNvSpPr/>
          <p:nvPr/>
        </p:nvSpPr>
        <p:spPr>
          <a:xfrm>
            <a:off x="324000" y="2187360"/>
            <a:ext cx="850896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，东莞大朗展明五金有限公司的刘汉黄因在上班时被机床轧伤，右手掌被截肢，后一直得不到公司的合理补偿，向公司提出赔偿要求时遭到拒绝，由口角发展成打斗，与公司三位领导打斗过程中使用随身携带的弹簧刀，导致两死一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什么导致这一恶性案件的发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合所举材料，谈谈失去公平会造成什么后果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6"/>
          <p:cNvSpPr/>
          <p:nvPr/>
        </p:nvSpPr>
        <p:spPr>
          <a:xfrm>
            <a:off x="430200" y="1916280"/>
            <a:ext cx="8713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们在社会交往中，如果受到不公平对待，产生不公平的感觉，就会感到冤枉、气愤，甚至导致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报复行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这种心理和行为使人与人之间信任感降低，导致彼此关系恶化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合作难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继；会对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经济发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不利影响，甚至会由此带来一系列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社会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影响社会的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长治久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2316600" y="4869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社会的稳定与发展和个人的发展需要公平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9"/>
          <p:cNvSpPr/>
          <p:nvPr/>
        </p:nvSpPr>
        <p:spPr>
          <a:xfrm>
            <a:off x="250920" y="1341360"/>
            <a:ext cx="37447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>
                  <a:alpha val="75294"/>
                </a:srgbClr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失去公平的严重后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"/>
          <p:cNvSpPr/>
          <p:nvPr/>
        </p:nvSpPr>
        <p:spPr>
          <a:xfrm>
            <a:off x="1403280" y="476280"/>
            <a:ext cx="5688000" cy="520560"/>
          </a:xfrm>
          <a:prstGeom prst="rect">
            <a:avLst/>
          </a:prstGeom>
          <a:gradFill rotWithShape="0">
            <a:gsLst>
              <a:gs pos="0">
                <a:srgbClr val="ccccff">
                  <a:alpha val="75294"/>
                </a:srgbClr>
              </a:gs>
              <a:gs pos="50000">
                <a:srgbClr val="ffffcc"/>
              </a:gs>
              <a:gs pos="100000">
                <a:srgbClr val="ccccff">
                  <a:alpha val="7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二、社会的稳定和发展需要公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WordArt 2"/>
          <p:cNvSpPr txBox="1"/>
          <p:nvPr/>
        </p:nvSpPr>
        <p:spPr>
          <a:xfrm>
            <a:off x="250920" y="18900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结：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69" name="Text Box 19"/>
          <p:cNvSpPr/>
          <p:nvPr/>
        </p:nvSpPr>
        <p:spPr>
          <a:xfrm>
            <a:off x="468360" y="1341360"/>
            <a:ext cx="84247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公平对社会稳定与发展的重要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8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社会的发展离不开人的发展，有了公平才能为人的发展提供平等的权利和机会，每个社会成员的生存和发展才有保障；有了公平，我们才可能通过诚实劳动，得到自己应得的东西，满足自己的合理期望，从而充分调动自身的积极性。这样，整个社会才能人人各司其职，各尽所能，各得其所，共同推动社会持续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1" name="WordArt 3"/>
          <p:cNvSpPr txBox="1"/>
          <p:nvPr/>
        </p:nvSpPr>
        <p:spPr>
          <a:xfrm>
            <a:off x="1371600" y="533520"/>
            <a:ext cx="3962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课外探究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  <p:sp>
        <p:nvSpPr>
          <p:cNvPr id="1072" name="Text Box 5"/>
          <p:cNvSpPr/>
          <p:nvPr/>
        </p:nvSpPr>
        <p:spPr>
          <a:xfrm>
            <a:off x="755640" y="3068640"/>
            <a:ext cx="56167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社会存在不公平，在同学们的日常生活中（或和谐校园的建设中）有没有遇到过不公平的现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WordArt 4"/>
          <p:cNvSpPr txBox="1"/>
          <p:nvPr/>
        </p:nvSpPr>
        <p:spPr>
          <a:xfrm>
            <a:off x="755640" y="549360"/>
            <a:ext cx="208764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心灵鸡汤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395280" y="2716920"/>
            <a:ext cx="8424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事事苛求公平。微软创始人比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盖茨在给青少年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条准则中第一条就是说“生活不公平的，要去适应它”。公平是相对的，世界上很多现象无法用公平来衡量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吃虫子，对虫子来说是不公平的；虫子吃树叶，对树来说是不公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我们强求世界公平的活，那么鸟儿就无法吃虫子，虫子就不能吃树叶，那么所有生物链一天都无法生存。我们不必事事都拿着一把公平的尺子去衡量，否则就是自己和自己过不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Picture 6" descr="e113"/>
          <p:cNvPicPr/>
          <p:nvPr/>
        </p:nvPicPr>
        <p:blipFill>
          <a:blip r:embed="rId1"/>
          <a:stretch/>
        </p:blipFill>
        <p:spPr>
          <a:xfrm>
            <a:off x="7524720" y="33336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076" name="文本框 8200"/>
          <p:cNvSpPr/>
          <p:nvPr/>
        </p:nvSpPr>
        <p:spPr>
          <a:xfrm>
            <a:off x="1606680" y="5375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152-9305-4D5B-AF3E-413E54EDCA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WordArt 2"/>
          <p:cNvSpPr txBox="1"/>
          <p:nvPr/>
        </p:nvSpPr>
        <p:spPr>
          <a:xfrm>
            <a:off x="755640" y="549360"/>
            <a:ext cx="208764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心灵鸡汤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395280" y="2644200"/>
            <a:ext cx="8424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法通过自己的奋发努力来求得公平。有些看似不公平的事正是自己不成熟的观念与言行造成的。在生活中无论是工作还是学习都应踏实勤奋工作与学习，都不应有浮躁心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衡量公平的标准。只要我们改变一下这种比较的标准，也能够在心理上消除不公平感。不公平是一种进行比较后的主观感觉，例如我们要评三好学生，如果你没被评上，觉得不公平，可以挽一个角度想，你就会发现这次评选三好的名额有限，许多和自己条件一样甚至强于自己的人也没被评上，也许这样一想，你就心安理得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3" name="Picture 6" descr="e113"/>
          <p:cNvPicPr/>
          <p:nvPr/>
        </p:nvPicPr>
        <p:blipFill>
          <a:blip r:embed="rId1"/>
          <a:stretch/>
        </p:blipFill>
        <p:spPr>
          <a:xfrm>
            <a:off x="7451640" y="26028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6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66880" cy="1476360"/>
          </a:xfrm>
          <a:prstGeom prst="rect">
            <a:avLst/>
          </a:prstGeom>
          <a:ln w="0">
            <a:noFill/>
          </a:ln>
        </p:spPr>
      </p:pic>
      <p:sp>
        <p:nvSpPr>
          <p:cNvPr id="1033" name="Text Box 7"/>
          <p:cNvSpPr/>
          <p:nvPr/>
        </p:nvSpPr>
        <p:spPr>
          <a:xfrm>
            <a:off x="2340000" y="1125360"/>
            <a:ext cx="5111640" cy="642600"/>
          </a:xfrm>
          <a:prstGeom prst="rect">
            <a:avLst/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cc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众说纷纭话公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8"/>
          <p:cNvSpPr/>
          <p:nvPr/>
        </p:nvSpPr>
        <p:spPr>
          <a:xfrm>
            <a:off x="1476360" y="2652840"/>
            <a:ext cx="7343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的时代，不同的个体，面对同样的问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，对公平有着不同的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9"/>
          <p:cNvSpPr/>
          <p:nvPr/>
        </p:nvSpPr>
        <p:spPr>
          <a:xfrm>
            <a:off x="4566600" y="4149720"/>
            <a:ext cx="882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平体现着人们对自由的追求、对权利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尊重、对自身力量的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179280" y="607320"/>
            <a:ext cx="871380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公平与不公平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心理游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母鸡在谷场上扒着，直到扒出几粒麦子，她叫来邻居，说：“假如我们种下这些麦子，我们就有面包吃了。谁来帮我种下它们？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牛说：我不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鸭说：我不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猪说：我不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鹅说：我也不种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“那我种吧。”这只小母鸡自己种下了麦子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眼麦子长成了，小母鸡又问：“谁来帮我收麦子？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鸭说：我不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猪说：这不是我们应该做的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牛说：那会有损我的资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鹅说：不做虽然饿一点，但也不至于饿死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“那我自己做。”小母鸡自己动手收麦子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4"/>
          <p:cNvSpPr/>
          <p:nvPr/>
        </p:nvSpPr>
        <p:spPr>
          <a:xfrm>
            <a:off x="324000" y="549360"/>
            <a:ext cx="842472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终于到了烤面包的时候，“谁帮我烤面包？”小母鸡问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牛说：那得给我加班工资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鸭说：那我还能享受最低生活补偿吗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鹅说：如果让我一个人帮忙，那太不公平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猪说：我太忙，没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仍要做。”小母鸡说。她做好五个面包并拿给她的邻居看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邻居们都要求分享劳动成果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说小母鸡之所以种出麦子，是因为地里找出了种子，这应该归大家所有，再说，土地也是大家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小母鸡说：“不，我不能给你们，这是我自己种的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牛叫道：损公肥私！鸭说：简直象资本家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鹅说：我要求平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猪只管嘀嘀咕咕，其他人忙着上告、要求为此讨个说法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4"/>
          <p:cNvSpPr/>
          <p:nvPr/>
        </p:nvSpPr>
        <p:spPr>
          <a:xfrm>
            <a:off x="250920" y="1313640"/>
            <a:ext cx="8893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长到了，对小母鸡说：你这样做很不公平，你不应太贪婪。小母鸡说：怎么不公平？这是我劳动所得。村长说：“确切地说，那只是理想的自由竞争制度。在谷场的每个人都应该有他该得的一份。在目前制度下，劳动者和不劳动者必须共同分享劳动成果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从此以后他们都过着和平的生活，但小母鸡再也不烤面包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539640" y="3229920"/>
            <a:ext cx="71280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游戏，我们一起来回答下面的问题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村长说的“平均分配制度”公平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什么样的分配制度是公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邻居们的说法公平吗？为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小鸡为什么再也不烤面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ffff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4"/>
          <p:cNvSpPr/>
          <p:nvPr/>
        </p:nvSpPr>
        <p:spPr>
          <a:xfrm>
            <a:off x="539640" y="2635920"/>
            <a:ext cx="75614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们的工作动机不仅受自己所得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绝对报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即实际收入）的影响，而且还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对报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即与他人相比较的相对收入）的影响，人们会自觉或不自觉地把自己付出的劳动与所得报酬同他人相比较，如果觉得不合理，就会产生不公平感，导致心理不平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6"/>
          <p:cNvSpPr/>
          <p:nvPr/>
        </p:nvSpPr>
        <p:spPr>
          <a:xfrm>
            <a:off x="1763640" y="1341360"/>
            <a:ext cx="568800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cc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美国心理学家亚当斯的“公平理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66880" cy="1476360"/>
          </a:xfrm>
          <a:prstGeom prst="rect">
            <a:avLst/>
          </a:prstGeom>
          <a:ln w="0">
            <a:noFill/>
          </a:ln>
        </p:spPr>
      </p:pic>
      <p:sp>
        <p:nvSpPr>
          <p:cNvPr id="1043" name="Text Box 3"/>
          <p:cNvSpPr/>
          <p:nvPr/>
        </p:nvSpPr>
        <p:spPr>
          <a:xfrm>
            <a:off x="2340000" y="1125360"/>
            <a:ext cx="5111640" cy="642600"/>
          </a:xfrm>
          <a:prstGeom prst="rect">
            <a:avLst/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cc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众说纷纭话公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1258920" y="2637000"/>
            <a:ext cx="7343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的时代，不同的个体，面对同样的问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，对公平有着不同的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2558520" y="3933720"/>
            <a:ext cx="4488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平是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产生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平是相对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来说，人们心中的公平是这样的：处理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合情合理，每一个人要承担他应分担的责任，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应得到的利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文本框 8200"/>
          <p:cNvSpPr/>
          <p:nvPr/>
        </p:nvSpPr>
        <p:spPr>
          <a:xfrm>
            <a:off x="2062080" y="6227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Picture 2" descr="25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600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24"/>
          <p:cNvPicPr/>
          <p:nvPr/>
        </p:nvPicPr>
        <p:blipFill>
          <a:blip r:embed="rId2"/>
          <a:stretch/>
        </p:blipFill>
        <p:spPr>
          <a:xfrm>
            <a:off x="4724280" y="3424320"/>
            <a:ext cx="4419720" cy="3605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28"/>
          <p:cNvPicPr/>
          <p:nvPr/>
        </p:nvPicPr>
        <p:blipFill>
          <a:blip r:embed="rId3"/>
          <a:stretch/>
        </p:blipFill>
        <p:spPr>
          <a:xfrm>
            <a:off x="0" y="0"/>
            <a:ext cx="4716360" cy="3421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29"/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411360"/>
          </a:xfrm>
          <a:prstGeom prst="rect">
            <a:avLst/>
          </a:prstGeom>
          <a:ln w="0">
            <a:noFill/>
          </a:ln>
        </p:spPr>
      </p:pic>
      <p:sp>
        <p:nvSpPr>
          <p:cNvPr id="1052" name="WordArt 6"/>
          <p:cNvSpPr txBox="1"/>
          <p:nvPr/>
        </p:nvSpPr>
        <p:spPr>
          <a:xfrm>
            <a:off x="3419640" y="2852640"/>
            <a:ext cx="3047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公平吗？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4" descr="6_hgsB44TpN6bB"/>
          <p:cNvPicPr/>
          <p:nvPr/>
        </p:nvPicPr>
        <p:blipFill>
          <a:blip r:embed="rId1"/>
          <a:stretch/>
        </p:blipFill>
        <p:spPr>
          <a:xfrm>
            <a:off x="0" y="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2920083_619396"/>
          <p:cNvPicPr/>
          <p:nvPr/>
        </p:nvPicPr>
        <p:blipFill>
          <a:blip r:embed="rId2"/>
          <a:stretch/>
        </p:blipFill>
        <p:spPr>
          <a:xfrm>
            <a:off x="0" y="3789360"/>
            <a:ext cx="5076720" cy="3068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6" descr="u=993672177,2631935136&amp;fm=0&amp;gp=0"/>
          <p:cNvPicPr/>
          <p:nvPr/>
        </p:nvPicPr>
        <p:blipFill>
          <a:blip r:embed="rId3"/>
          <a:stretch/>
        </p:blipFill>
        <p:spPr>
          <a:xfrm>
            <a:off x="5219640" y="3789360"/>
            <a:ext cx="3745080" cy="29811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3" descr="1181069002278555074"/>
          <p:cNvPicPr/>
          <p:nvPr/>
        </p:nvPicPr>
        <p:blipFill>
          <a:blip r:embed="rId4"/>
          <a:stretch/>
        </p:blipFill>
        <p:spPr>
          <a:xfrm>
            <a:off x="5076720" y="0"/>
            <a:ext cx="4067280" cy="3716280"/>
          </a:xfrm>
          <a:prstGeom prst="rect">
            <a:avLst/>
          </a:prstGeom>
          <a:ln w="0">
            <a:noFill/>
          </a:ln>
        </p:spPr>
      </p:pic>
      <p:sp>
        <p:nvSpPr>
          <p:cNvPr id="1057" name="WordArt 14"/>
          <p:cNvSpPr txBox="1"/>
          <p:nvPr/>
        </p:nvSpPr>
        <p:spPr>
          <a:xfrm>
            <a:off x="3419640" y="2852640"/>
            <a:ext cx="3047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公平吗？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0:56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37Z</dcterms:modified>
  <cp:revision>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