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3DB0-8354-4EBA-81F1-B356CD2DE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10B1-FADD-43E7-BA8E-4090FE9F803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52D55E-EE1D-4456-9551-99381B03C26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9F5618-AC55-4ABA-B564-0297269F26D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6781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C4EAD1-C4E8-4D54-B634-A14782CA1A6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CF9DF2-58E2-4F9E-A3FB-5C4342984FC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0857C1-5386-432E-A57F-F683DED22E4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84F560-C1A0-4BD4-8553-9745393EFFA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24350B-0E26-4101-9DBE-E813E554C4C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1B6E4E-5C29-4B18-B791-04C4A8353C7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908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962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4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908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962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F06814-17C1-4A41-98B9-76F471E9ADC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204659-C0DC-40DC-9F08-59C6DA015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29CF-B849-4EAE-83DA-D11A678A13B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7CACE7-A3CF-425F-A473-0C42CE45226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469C8D-E5B1-4739-A7A1-9B9A4E4317A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C312CD-7D25-4726-87FC-623D04ED09C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91F86-D19D-4798-BDFF-A5244FF70CC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6781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CE064-9736-4FED-8D75-61D25CCE6B7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F5CE01-5926-4B45-92F0-DA65A5F67B8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BCD040-9143-4E50-8B00-125C4EE771C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305BB-713B-43D4-A549-70744D2A482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ADAF61-BC86-4EE4-B190-7606E674B12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84610F-DB95-49FC-A24B-C741E5E6A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8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62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8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62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9A41-C4D7-4271-A2C6-66900384ED4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908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62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4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908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962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E991D-1794-453D-B79F-284F5408640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CC066-16FD-4524-8D67-C75D139BF55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9983F-9E68-4104-943D-E9A29C98798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8E53E-A7E7-434C-837E-EFAB2791794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21379-0FDD-4CDD-8587-AB73747866E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B6703-D45D-42E4-AF61-E3AC8FCADC9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6781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403A2-821B-4A2F-AD8E-B4D596A42CB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C9559-7262-4337-9C70-558D16488D6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C19BD-6287-4B3B-AB11-E553041042C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7BBC5-65F1-4469-9007-DCBF0E1E6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CE237-D5C7-4B14-A4B5-5784678D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D0582-E57E-481B-A01C-FDC0E8E667F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87942-4884-4682-9B87-63BE9889DA4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3908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62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854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3908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962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A48F5-2B72-424F-AB44-D30FDA110A7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0C1DF6-0799-4B81-823F-2DE144AA472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0641E1-25DC-4A19-8831-BD1ED575B91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FD324C-6801-47CB-B2F6-6531E2B384B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73B76A-1C7A-4DF8-8B06-3EE2255E246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0C5405-3924-4925-9FE5-630AF83B90F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6781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524A5A-0FE3-4821-87FB-00D3CEA6C6B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826A6A-54A4-42A5-9CF3-EAA8AC6B04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277FF-ADCC-409F-834E-6D029C45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1F05AB-B403-4EFD-BEA7-13FD57292CC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0B62C0-4D2A-4DBE-854B-D4DB8736EB9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23CD99-E5E0-44C5-BF49-8305F41C608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457D3D-1BB0-4666-8DD9-2A37F761EBB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908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62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854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908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962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072CE5-58C8-485D-8791-D812DF18EA3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5F6BAD-D040-4224-A950-C4F1D7AB577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629302-2D73-4996-9E56-00B6E051711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099F3-A666-44B4-B499-A2A5342FF49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9C2328-C416-4381-898C-CD880642F01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2E5A2-0616-46D5-9259-81D41F0999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B335F-85B0-4AD0-9929-AD18D9E6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6781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3DD8F8-3E67-4899-ADA4-A7DFBA46707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D083C-06DB-4EF0-B5E1-A1B1AD5B8FB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B1BDCE-1741-4892-A941-FE66231B133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71F5C1-457D-4C90-8108-FB4BE887D6A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264F0D-9AA7-45DC-B51F-B898AE2864F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FFFD3E-30A1-4E3D-9295-72C412CBF9D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3908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962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854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3908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962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1B89B6-7092-4B8B-88C2-90AC782572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4289D-73E7-4456-A6C3-340B3CA1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D1F89-0695-4825-BD15-DE13E27F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6781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CF1D9-C06F-4CCF-A937-E67FC1AC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95C7A-61D7-48B1-8522-2856191A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1CC4-EBA8-46C3-A097-AAE3A99F1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58EF7-8A75-405D-8517-C98188D4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C07CB-9AD4-45DB-BBCB-CA45C2BF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25A81-8E67-43D0-8CD0-90EA2EE4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B5B91-749F-4250-9ADA-671B17E6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908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62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908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62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2E3CE-6C20-4424-ADD1-C2B5E500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95AB91-129B-458B-9EF8-A3BB9FD3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3132DF-A20F-49F7-A376-F545D1F1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261D69-1E30-4E00-93BA-96F5A032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BA2D74-E369-495E-A9DB-01DB0DA3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B231A8-CDCE-4883-83E2-9E1F2928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44CE-CFF9-4570-ADEF-13366F8999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6781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E52BB6-8408-4BA6-9E08-DAAA635E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95271A-243C-439E-9D4F-58DA6619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E10CDA-9AFE-47D8-BCBE-7A47268D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782B37-EF1A-4282-B6FF-06F705AA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D62510-DE54-44CA-B933-A1665942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E8E46A-BF2D-4AEC-8165-C87446B9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908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62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4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908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962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3A4FE5-DED2-4938-A6B1-2365BA9D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1145B0-F8B7-420B-8A9B-1A04AD3FE70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D4690-1D7D-45E0-8A36-92CFD9474B6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8B63A-C1D4-4481-AB72-0C04F419E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5C1F-60D5-46C4-A96F-D45AB803A7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CBAF7-C4F2-42FF-A2D4-9275B79E46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9A56D-1722-46D8-AF38-B93DFBBC15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6781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DA43A-4ACA-4EB0-B8EE-DA0452CA88F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56C8F-DC94-4233-874B-6B7B0E6F30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314112-7AD2-4F7C-9329-88F7402E8E5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91A99-1DA2-49EA-A7FA-0CFB001E623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20825-005F-42F6-BC86-0A340CD137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4C415-9E33-4290-9C2F-9445B9F3AA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908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62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4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908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962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4B763-4221-4617-9735-81EEA592A6E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6E098-DFC8-4B54-9EA5-98A12A1CB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8199-8591-4A5A-BBE9-79EE7AC1F84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C6651-184A-42E2-AA9B-125145DCA24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E0D75-18C6-424E-B74E-5ABB911E130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46F6D-CBB4-434C-BC98-B9C3A784A87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14702-AE8C-422D-A811-783B4C0049C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6781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A76C3-A468-4E3A-A52C-9E185C8601F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EE739-4B54-435A-ABBD-83520C28433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CEF47-4554-4FD9-9964-FE0A9B9F08F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D882F-1E8D-46DF-A53A-1412D9A7C6D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9EC63-6AD6-41F9-8FAE-D351062AE35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A4C32-7F0F-4DA6-9B59-1C96F4A6A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6781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E80C6-8EB7-4C98-9925-EEBD2BACBC9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908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62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4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908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962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91231-1CB0-4E01-ADD9-09BD0D8776E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2AF40D-75AA-40D9-BB2E-2E7A7F251F7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66F4C8-A61C-438F-A4DF-B0ADDD33B4A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E772BC-1958-4617-8FE3-C705B0947C7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59488E-C746-47FF-BD50-15B6B8371BB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DE11AB-DEF7-4677-9B86-8A148A24643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6781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0136B2-4F78-4816-8EE5-9BB22E9CD04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C1EECA-7857-43E7-86A4-FBD8DC2D2FE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D946D1-1A76-475C-A69F-C1BC43CD732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3C2DD2-6525-4D37-9592-F8F8A6BEC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A5FE4-91A0-4843-B4E3-CA55B6C6244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52A3D2-F43A-46ED-9EAA-DC18C5E15C9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2ADD88-E799-43D0-892A-CD076F13C3B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908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62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4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908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962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3F7B4C-4E5C-4D50-B173-02990A2EEE1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BF112C-A8B7-4A24-B839-3C1B8EEA6B1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3A785F-5FE2-466B-9539-7D04AC71F26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D9427A-5793-4362-8EE1-D48AA635589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6A4D8C-079D-4408-8C35-0F938BEDD4C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754F0D-D810-4891-9B9C-E7B4E206DE8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6781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7625AB-D13A-4D3D-AA5F-692AF276FE1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CCFBA0-5B48-4F22-9619-C0ADA6CB0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A3EB-1480-4A11-8F51-1F004389C80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CA0851-D817-490B-905B-4D14153DF1E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E05B57-4CC7-4183-B77E-A4A015EB51C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A32615-A6D0-483E-991D-FE98871B920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C74A9E-6265-4088-AFD6-E76FF8AC6ED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908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962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4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908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962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220960-6E85-40A8-8AFF-319F01C5CAE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26EAA-B0F8-406E-A657-90615A819F9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50C90-838B-4807-A331-E9C05DB2C60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AE791-6FA9-42BF-9034-2AB1F1CD53B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BF610-907F-49AE-90B3-85649ED6256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50C9E-044D-42F4-B56C-30C4C7C62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9995-058A-4C78-ABD1-C97B6F9F9E2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6781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84D9F-408A-4436-B821-9B142C7EE80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00C64-9EB3-425D-A76C-9CF7EC5D32A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4E317-4B49-431B-8489-2AF8FDFADA8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B5454-9215-4F24-8B81-051EB27F4A4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4C38F-E013-4D1A-B54B-A1FE8CB4548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69029-CCB5-44C6-B1A0-5C7A4BE4B0E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908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62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854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908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962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72D05-FB18-4504-91AB-D0B810C82C0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0D5626-8062-4B63-AD1F-480ABA7B3BC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8DCEB7-4AEE-443C-AB9F-7B25BE7DB84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29471D-2FBE-473A-A862-29BD874FF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3"/>
          <p:cNvSpPr/>
          <p:nvPr/>
        </p:nvSpPr>
        <p:spPr>
          <a:xfrm>
            <a:off x="0" y="981000"/>
            <a:ext cx="9144000" cy="5329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48a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57b9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88fd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03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657240" y="64609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B610-D1C5-4C77-94D7-170C34C022D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685800" y="1447920"/>
            <a:ext cx="7924680" cy="360"/>
            <a:chOff x="685800" y="1447920"/>
            <a:chExt cx="7924680" cy="360"/>
          </a:xfrm>
        </p:grpSpPr>
        <p:sp>
          <p:nvSpPr>
            <p:cNvPr id="5" name="Line 65"/>
            <p:cNvSpPr/>
            <p:nvPr/>
          </p:nvSpPr>
          <p:spPr>
            <a:xfrm>
              <a:off x="685800" y="1447920"/>
              <a:ext cx="7924680" cy="0"/>
            </a:xfrm>
            <a:prstGeom prst="line">
              <a:avLst/>
            </a:prstGeom>
            <a:ln w="28440">
              <a:solidFill>
                <a:srgbClr val="1a48a4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6" name=""/>
            <p:cNvSpPr txBox="1"/>
            <p:nvPr/>
          </p:nvSpPr>
          <p:spPr>
            <a:xfrm>
              <a:off x="685800" y="1447920"/>
              <a:ext cx="7924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48a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57b9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88fd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03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14"/>
          </p:nvPr>
        </p:nvSpPr>
        <p:spPr>
          <a:xfrm>
            <a:off x="3657240" y="64609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B50A-BE3E-439E-9D64-283A9E31F9C3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48a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57b9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88fd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03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15"/>
          </p:nvPr>
        </p:nvSpPr>
        <p:spPr>
          <a:xfrm>
            <a:off x="3657240" y="64609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C6CD-E640-4EB8-96C1-497ABF6F542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48a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57b9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88fd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03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16"/>
          </p:nvPr>
        </p:nvSpPr>
        <p:spPr>
          <a:xfrm>
            <a:off x="3657240" y="64609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3DBD-D78B-41B2-B7F1-7C37C397C06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48a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57b9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88fd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03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Num" idx="17"/>
          </p:nvPr>
        </p:nvSpPr>
        <p:spPr>
          <a:xfrm>
            <a:off x="3657240" y="64609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DCDC-C92D-4C32-8786-6A93ECAFFE3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5A21-23A0-4901-9775-E4E0233CBB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3"/>
          <p:cNvSpPr/>
          <p:nvPr/>
        </p:nvSpPr>
        <p:spPr>
          <a:xfrm>
            <a:off x="179280" y="2637000"/>
            <a:ext cx="8785440" cy="1584000"/>
          </a:xfrm>
          <a:prstGeom prst="rect">
            <a:avLst/>
          </a:prstGeom>
          <a:solidFill>
            <a:srgbClr val="ffff99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5" name="AutoShape 42"/>
          <p:cNvSpPr/>
          <p:nvPr/>
        </p:nvSpPr>
        <p:spPr>
          <a:xfrm>
            <a:off x="152280" y="190440"/>
            <a:ext cx="8839440" cy="6400800"/>
          </a:xfrm>
          <a:prstGeom prst="roundRect">
            <a:avLst>
              <a:gd name="adj" fmla="val 5458"/>
            </a:avLst>
          </a:pr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144000" y="2565360"/>
            <a:ext cx="360" cy="1871640"/>
            <a:chOff x="9144000" y="2565360"/>
            <a:chExt cx="360" cy="1871640"/>
          </a:xfrm>
        </p:grpSpPr>
        <p:sp>
          <p:nvSpPr>
            <p:cNvPr id="87" name="Line 56"/>
            <p:cNvSpPr/>
            <p:nvPr/>
          </p:nvSpPr>
          <p:spPr>
            <a:xfrm>
              <a:off x="9144000" y="2565360"/>
              <a:ext cx="0" cy="1871640"/>
            </a:xfrm>
            <a:prstGeom prst="line">
              <a:avLst/>
            </a:prstGeom>
            <a:ln w="9360">
              <a:solidFill>
                <a:srgbClr val="3031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9144000" y="2565360"/>
              <a:ext cx="360" cy="18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0311d"/>
                </a:solidFill>
                <a:latin typeface="Arial"/>
              </a:endParaRPr>
            </a:p>
          </p:txBody>
        </p:sp>
      </p:grpSp>
      <p:sp>
        <p:nvSpPr>
          <p:cNvPr id="89" name="Freeform 68"/>
          <p:cNvSpPr/>
          <p:nvPr/>
        </p:nvSpPr>
        <p:spPr>
          <a:xfrm>
            <a:off x="179280" y="2637000"/>
            <a:ext cx="8785440" cy="215640"/>
          </a:xfrm>
          <a:custGeom>
            <a:avLst/>
            <a:gdLst/>
            <a:ahLst/>
            <a:rect l="l" t="t" r="r" b="b"/>
            <a:pathLst>
              <a:path w="5534" h="136">
                <a:moveTo>
                  <a:pt x="0" y="0"/>
                </a:moveTo>
                <a:cubicBezTo>
                  <a:pt x="185" y="15"/>
                  <a:pt x="370" y="30"/>
                  <a:pt x="635" y="45"/>
                </a:cubicBezTo>
                <a:cubicBezTo>
                  <a:pt x="900" y="60"/>
                  <a:pt x="1225" y="76"/>
                  <a:pt x="1588" y="91"/>
                </a:cubicBezTo>
                <a:cubicBezTo>
                  <a:pt x="1951" y="106"/>
                  <a:pt x="2427" y="136"/>
                  <a:pt x="2812" y="136"/>
                </a:cubicBezTo>
                <a:cubicBezTo>
                  <a:pt x="3197" y="136"/>
                  <a:pt x="3576" y="106"/>
                  <a:pt x="3901" y="91"/>
                </a:cubicBezTo>
                <a:cubicBezTo>
                  <a:pt x="4226" y="76"/>
                  <a:pt x="4491" y="60"/>
                  <a:pt x="4763" y="45"/>
                </a:cubicBezTo>
                <a:cubicBezTo>
                  <a:pt x="5035" y="30"/>
                  <a:pt x="5406" y="7"/>
                  <a:pt x="5534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0" name="Freeform 69"/>
          <p:cNvSpPr/>
          <p:nvPr/>
        </p:nvSpPr>
        <p:spPr>
          <a:xfrm flipV="1">
            <a:off x="179280" y="4075560"/>
            <a:ext cx="8785440" cy="144360"/>
          </a:xfrm>
          <a:custGeom>
            <a:avLst/>
            <a:gdLst/>
            <a:ahLst/>
            <a:rect l="l" t="t" r="r" b="b"/>
            <a:pathLst>
              <a:path w="5534" h="136">
                <a:moveTo>
                  <a:pt x="0" y="0"/>
                </a:moveTo>
                <a:cubicBezTo>
                  <a:pt x="185" y="15"/>
                  <a:pt x="370" y="30"/>
                  <a:pt x="635" y="45"/>
                </a:cubicBezTo>
                <a:cubicBezTo>
                  <a:pt x="900" y="60"/>
                  <a:pt x="1225" y="76"/>
                  <a:pt x="1588" y="91"/>
                </a:cubicBezTo>
                <a:cubicBezTo>
                  <a:pt x="1951" y="106"/>
                  <a:pt x="2427" y="136"/>
                  <a:pt x="2812" y="136"/>
                </a:cubicBezTo>
                <a:cubicBezTo>
                  <a:pt x="3197" y="136"/>
                  <a:pt x="3576" y="106"/>
                  <a:pt x="3901" y="91"/>
                </a:cubicBezTo>
                <a:cubicBezTo>
                  <a:pt x="4226" y="76"/>
                  <a:pt x="4491" y="60"/>
                  <a:pt x="4763" y="45"/>
                </a:cubicBezTo>
                <a:cubicBezTo>
                  <a:pt x="5035" y="30"/>
                  <a:pt x="5406" y="7"/>
                  <a:pt x="5534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48a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57b9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88fd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03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2282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6"/>
          </p:nvPr>
        </p:nvSpPr>
        <p:spPr>
          <a:xfrm>
            <a:off x="3200040" y="66132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7"/>
          </p:nvPr>
        </p:nvSpPr>
        <p:spPr>
          <a:xfrm>
            <a:off x="67813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0C77-7A22-4244-B4DD-677290E6DFC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48a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57b9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88fd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03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8"/>
          </p:nvPr>
        </p:nvSpPr>
        <p:spPr>
          <a:xfrm>
            <a:off x="3657240" y="64609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78EA-D729-4586-BC02-0B450AFED45E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48a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57b9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88fd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03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9"/>
          </p:nvPr>
        </p:nvSpPr>
        <p:spPr>
          <a:xfrm>
            <a:off x="3657240" y="64609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13D2-810B-4A1E-8C6B-1BEF3B7E68D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48a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57b9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88fd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03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0"/>
          </p:nvPr>
        </p:nvSpPr>
        <p:spPr>
          <a:xfrm>
            <a:off x="3657240" y="64609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FFF2-36BC-453C-91B6-A4077B65897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48a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57b9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88fd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03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1"/>
          </p:nvPr>
        </p:nvSpPr>
        <p:spPr>
          <a:xfrm>
            <a:off x="3657240" y="64609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CEC2-D1A7-4329-9DB9-E726549C9E4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48a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57b9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88fd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03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2"/>
          </p:nvPr>
        </p:nvSpPr>
        <p:spPr>
          <a:xfrm>
            <a:off x="3657240" y="64609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F6ED-C90D-4A72-9D2C-62562F893E13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48a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57b9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88fd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03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3"/>
          </p:nvPr>
        </p:nvSpPr>
        <p:spPr>
          <a:xfrm>
            <a:off x="3657240" y="64609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20BD-D4A8-45F5-9C04-22FB8FF2538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WordArt 13"/>
          <p:cNvSpPr txBox="1"/>
          <p:nvPr/>
        </p:nvSpPr>
        <p:spPr>
          <a:xfrm>
            <a:off x="896760" y="2924280"/>
            <a:ext cx="741708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给身边的材料分类课件</a:t>
            </a:r>
            <a:r>
              <a:rPr b="1" i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PPT</a:t>
            </a:r>
            <a:r>
              <a:rPr b="1" i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模板下载</a:t>
            </a:r>
            <a:endParaRPr b="1" i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206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3" name="WordArt 14"/>
          <p:cNvSpPr txBox="1"/>
          <p:nvPr/>
        </p:nvSpPr>
        <p:spPr>
          <a:xfrm>
            <a:off x="920880" y="981000"/>
            <a:ext cx="466704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2060"/>
                </a:solidFill>
                <a:latin typeface="华文新魏"/>
              </a:rPr>
              <a:t>教科版三年级科学上册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2060"/>
              </a:solidFill>
              <a:latin typeface="华文新魏"/>
              <a:ea typeface="华文新魏"/>
            </a:endParaRPr>
          </a:p>
        </p:txBody>
      </p:sp>
      <p:sp>
        <p:nvSpPr>
          <p:cNvPr id="524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0311d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30311d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3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宋体"/>
              </a:rPr>
              <a:t>  </a:t>
            </a:r>
            <a:endParaRPr b="1" lang="en-US" sz="4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1722240" y="30492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下面这些物品利用了纸的什么性质？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51" name="Text Box 18"/>
          <p:cNvSpPr/>
          <p:nvPr/>
        </p:nvSpPr>
        <p:spPr>
          <a:xfrm>
            <a:off x="533520" y="335268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报纸、书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;  </a:t>
            </a: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52" name="Text Box 19"/>
          <p:cNvSpPr/>
          <p:nvPr/>
        </p:nvSpPr>
        <p:spPr>
          <a:xfrm>
            <a:off x="2076480" y="1219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信封：</a:t>
            </a: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53" name="Text Box 20"/>
          <p:cNvSpPr/>
          <p:nvPr/>
        </p:nvSpPr>
        <p:spPr>
          <a:xfrm>
            <a:off x="4714200" y="1295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轻便、可印刷</a:t>
            </a: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54" name="Text Box 21"/>
          <p:cNvSpPr/>
          <p:nvPr/>
        </p:nvSpPr>
        <p:spPr>
          <a:xfrm>
            <a:off x="1847880" y="1981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档案袋</a:t>
            </a: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55" name="Text Box 22"/>
          <p:cNvSpPr/>
          <p:nvPr/>
        </p:nvSpPr>
        <p:spPr>
          <a:xfrm>
            <a:off x="5180400" y="1981080"/>
            <a:ext cx="76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轻便、柔韧、可印刷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56" name="Text Box 23"/>
          <p:cNvSpPr/>
          <p:nvPr/>
        </p:nvSpPr>
        <p:spPr>
          <a:xfrm>
            <a:off x="1994400" y="281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纸巾</a:t>
            </a: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57" name="Text Box 24"/>
          <p:cNvSpPr/>
          <p:nvPr/>
        </p:nvSpPr>
        <p:spPr>
          <a:xfrm>
            <a:off x="3124080" y="2819520"/>
            <a:ext cx="274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柔软、吸水</a:t>
            </a: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58" name="Text Box 25"/>
          <p:cNvSpPr/>
          <p:nvPr/>
        </p:nvSpPr>
        <p:spPr>
          <a:xfrm>
            <a:off x="5247360" y="3733920"/>
            <a:ext cx="36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轻便、可印刷</a:t>
            </a: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59" name="Text Box 26"/>
          <p:cNvSpPr/>
          <p:nvPr/>
        </p:nvSpPr>
        <p:spPr>
          <a:xfrm>
            <a:off x="2424240" y="4567320"/>
            <a:ext cx="41414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纸是东汉蔡伦发明的，是中国的四大发明之一。</a:t>
            </a: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指南针，火药，活字印刷术和造纸术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3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宋体"/>
              </a:rPr>
              <a:t>  </a:t>
            </a:r>
            <a:endParaRPr b="1" lang="en-US" sz="4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2313360" y="533520"/>
            <a:ext cx="438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下面这些物品利用了木头的什么性质？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869760" y="136692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筷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63" name="Text Box 14"/>
          <p:cNvSpPr/>
          <p:nvPr/>
        </p:nvSpPr>
        <p:spPr>
          <a:xfrm>
            <a:off x="846360" y="1996920"/>
            <a:ext cx="52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64" name="Text Box 19"/>
          <p:cNvSpPr/>
          <p:nvPr/>
        </p:nvSpPr>
        <p:spPr>
          <a:xfrm>
            <a:off x="609480" y="289548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桌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65" name="Text Box 20"/>
          <p:cNvSpPr/>
          <p:nvPr/>
        </p:nvSpPr>
        <p:spPr>
          <a:xfrm>
            <a:off x="1025280" y="3657600"/>
            <a:ext cx="15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桥墩房梁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66" name="Text Box 21"/>
          <p:cNvSpPr/>
          <p:nvPr/>
        </p:nvSpPr>
        <p:spPr>
          <a:xfrm>
            <a:off x="4106520" y="1295280"/>
            <a:ext cx="5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坚硬、轻便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67" name="Text Box 22"/>
          <p:cNvSpPr/>
          <p:nvPr/>
        </p:nvSpPr>
        <p:spPr>
          <a:xfrm>
            <a:off x="3534120" y="1981080"/>
            <a:ext cx="12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能浮水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68" name="Text Box 23"/>
          <p:cNvSpPr/>
          <p:nvPr/>
        </p:nvSpPr>
        <p:spPr>
          <a:xfrm>
            <a:off x="5047920" y="2895480"/>
            <a:ext cx="84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易加工、有承重性、较硬、不易传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69" name="Text Box 24"/>
          <p:cNvSpPr/>
          <p:nvPr/>
        </p:nvSpPr>
        <p:spPr>
          <a:xfrm>
            <a:off x="3931200" y="3657600"/>
            <a:ext cx="4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较硬、有承重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70" name="文本框 8199"/>
          <p:cNvSpPr/>
          <p:nvPr/>
        </p:nvSpPr>
        <p:spPr>
          <a:xfrm>
            <a:off x="1812960" y="495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57b97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557b97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169920" y="920880"/>
            <a:ext cx="8839080" cy="1312920"/>
          </a:xfrm>
          <a:prstGeom prst="rect">
            <a:avLst/>
          </a:prstGeom>
          <a:noFill/>
          <a:ln w="9360">
            <a:solidFill>
              <a:srgbClr val="1a48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辨别有毒塑料（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VC.  PS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和无毒塑料（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E..PP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的方法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:1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、能漂在水上的是无毒的，沉水的是有毒的。２，无毒的塑料摸起来较润滑，抖动有声音，遇火易燃，火焰呈黄色，燃烧有粘液滴落。而有毒塑料摸起来表面发粘，抖动时声音不大且低沉，遇火不易燃烧，离火即熄灭。  </a:t>
            </a:r>
            <a:endParaRPr b="1" lang="en-US" sz="4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宋体"/>
              </a:rPr>
              <a:t>  </a:t>
            </a:r>
            <a:endParaRPr b="1" lang="en-US" sz="40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0311d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7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09D2-CDF6-49F0-8B03-AFBE3986B4B5}" type="slidenum">
              <a:rPr b="0" lang="zh-CN" sz="1400" spc="-1" strike="noStrike">
                <a:solidFill>
                  <a:srgbClr val="30311d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WordArt 4"/>
          <p:cNvSpPr txBox="1"/>
          <p:nvPr/>
        </p:nvSpPr>
        <p:spPr>
          <a:xfrm>
            <a:off x="1403280" y="2349360"/>
            <a:ext cx="5040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谢谢！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1030" descr="432_20043148354"/>
          <p:cNvPicPr/>
          <p:nvPr/>
        </p:nvPicPr>
        <p:blipFill>
          <a:blip r:embed="rId1"/>
          <a:stretch/>
        </p:blipFill>
        <p:spPr>
          <a:xfrm>
            <a:off x="0" y="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31" descr="n-china"/>
          <p:cNvPicPr/>
          <p:nvPr/>
        </p:nvPicPr>
        <p:blipFill>
          <a:blip r:embed="rId2"/>
          <a:stretch/>
        </p:blipFill>
        <p:spPr>
          <a:xfrm>
            <a:off x="6553080" y="4572000"/>
            <a:ext cx="2374920" cy="18828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032" descr="20040324104646"/>
          <p:cNvPicPr/>
          <p:nvPr/>
        </p:nvPicPr>
        <p:blipFill>
          <a:blip r:embed="rId3"/>
          <a:stretch/>
        </p:blipFill>
        <p:spPr>
          <a:xfrm>
            <a:off x="2057400" y="0"/>
            <a:ext cx="2706840" cy="19810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33" descr="pro18"/>
          <p:cNvPicPr/>
          <p:nvPr/>
        </p:nvPicPr>
        <p:blipFill>
          <a:blip r:embed="rId4"/>
          <a:stretch/>
        </p:blipFill>
        <p:spPr>
          <a:xfrm>
            <a:off x="0" y="4572000"/>
            <a:ext cx="3317760" cy="19940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034" descr="lq-4"/>
          <p:cNvPicPr/>
          <p:nvPr/>
        </p:nvPicPr>
        <p:blipFill>
          <a:blip r:embed="rId5"/>
          <a:stretch/>
        </p:blipFill>
        <p:spPr>
          <a:xfrm>
            <a:off x="4800600" y="0"/>
            <a:ext cx="2664000" cy="19242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036" descr="桌子"/>
          <p:cNvPicPr/>
          <p:nvPr/>
        </p:nvPicPr>
        <p:blipFill>
          <a:blip r:embed="rId6"/>
          <a:stretch/>
        </p:blipFill>
        <p:spPr>
          <a:xfrm>
            <a:off x="0" y="2133720"/>
            <a:ext cx="3276720" cy="24112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037" descr="橱子"/>
          <p:cNvPicPr/>
          <p:nvPr/>
        </p:nvPicPr>
        <p:blipFill>
          <a:blip r:embed="rId7"/>
          <a:stretch/>
        </p:blipFill>
        <p:spPr>
          <a:xfrm>
            <a:off x="7238880" y="2286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038" descr="箱子"/>
          <p:cNvPicPr/>
          <p:nvPr/>
        </p:nvPicPr>
        <p:blipFill>
          <a:blip r:embed="rId8"/>
          <a:stretch/>
        </p:blipFill>
        <p:spPr>
          <a:xfrm>
            <a:off x="3581280" y="4495680"/>
            <a:ext cx="2667240" cy="21337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039" descr="纸杯"/>
          <p:cNvPicPr/>
          <p:nvPr/>
        </p:nvPicPr>
        <p:blipFill>
          <a:blip r:embed="rId9"/>
          <a:stretch/>
        </p:blipFill>
        <p:spPr>
          <a:xfrm>
            <a:off x="3352680" y="2209680"/>
            <a:ext cx="2819520" cy="18525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040" descr="衣服"/>
          <p:cNvPicPr/>
          <p:nvPr/>
        </p:nvPicPr>
        <p:blipFill>
          <a:blip r:embed="rId10"/>
          <a:stretch/>
        </p:blipFill>
        <p:spPr>
          <a:xfrm>
            <a:off x="6400800" y="19051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3"/>
          <p:cNvSpPr/>
          <p:nvPr/>
        </p:nvSpPr>
        <p:spPr>
          <a:xfrm>
            <a:off x="304920" y="21337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我们使用的材料有的是天然材料，像木头、黏土、棉花、皮革等，这些材料我们可以直接使用，根据它们各自的特性制成相应的物品。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endParaRPr b="1" lang="en-US" sz="40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304920" y="21337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宋体"/>
              </a:rPr>
              <a:t>有的是人工制造的材料，像塑料、砖、陶瓷和橡胶等，人们把自然界里的物质进行加工，使它们具备了我们需要的一些特性，再拿来使用。 </a:t>
            </a:r>
            <a:endParaRPr b="1" lang="en-US" sz="4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3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57b97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557b97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304920" y="609480"/>
            <a:ext cx="8839080" cy="703440"/>
          </a:xfrm>
          <a:prstGeom prst="rect">
            <a:avLst/>
          </a:prstGeom>
          <a:noFill/>
          <a:ln w="9360">
            <a:solidFill>
              <a:srgbClr val="1a48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宋体"/>
              </a:rPr>
              <a:t>、金属的特性：（坚硬）、（有金属光泽）、（有延展性）、（易传热）、（能导电）、（吸水性差）等</a:t>
            </a:r>
            <a:endParaRPr b="1" lang="en-US" sz="4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0" y="3124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宋体"/>
              </a:rPr>
              <a:t>   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宋体"/>
              </a:rPr>
              <a:t>2.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宋体"/>
              </a:rPr>
              <a:t>塑料的特性：有绝缘性、柔韧性、防水、可燃烧、耐腐蚀、能浮在水上、比较轻、不分解、不易传热、可重复利用</a:t>
            </a:r>
            <a:endParaRPr b="1" lang="en-US" sz="4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4447800" y="5486400"/>
            <a:ext cx="842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塑料是一种从原油中提取的人工材料，会造成严重的污染。</a:t>
            </a:r>
            <a:r>
              <a:rPr b="1" lang="zh-CN" sz="1800" spc="-1" strike="noStrike">
                <a:solidFill>
                  <a:srgbClr val="656d77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026"/>
          <p:cNvSpPr/>
          <p:nvPr/>
        </p:nvSpPr>
        <p:spPr>
          <a:xfrm>
            <a:off x="304920" y="609480"/>
            <a:ext cx="8839080" cy="703440"/>
          </a:xfrm>
          <a:prstGeom prst="rect">
            <a:avLst/>
          </a:prstGeom>
          <a:noFill/>
          <a:ln w="9360">
            <a:solidFill>
              <a:srgbClr val="1a48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宋体"/>
              </a:rPr>
              <a:t>1</a:t>
            </a:r>
            <a:r>
              <a:rPr b="1" lang="en-US" sz="4000" spc="-1" strike="noStrike">
                <a:solidFill>
                  <a:srgbClr val="000099"/>
                </a:solidFill>
                <a:latin typeface="宋体"/>
                <a:ea typeface="宋体"/>
              </a:rPr>
              <a:t>.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宋体"/>
              </a:rPr>
              <a:t>金属的特性：（坚硬）、（有金属光泽）、（有延展性）、（易传热）、（能导电）、（吸水性差）等</a:t>
            </a:r>
            <a:endParaRPr b="1" lang="en-US" sz="4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42" name="Rectangle 1027"/>
          <p:cNvSpPr/>
          <p:nvPr/>
        </p:nvSpPr>
        <p:spPr>
          <a:xfrm>
            <a:off x="0" y="3124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宋体"/>
              </a:rPr>
              <a:t>   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宋体"/>
              </a:rPr>
              <a:t>2.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宋体"/>
              </a:rPr>
              <a:t>木头的特性：较硬、有承重性、不易传热、能燃烧、易加工、能浮在水上、不太重</a:t>
            </a:r>
            <a:endParaRPr b="1" lang="en-US" sz="40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304920" y="609480"/>
            <a:ext cx="8839080" cy="703440"/>
          </a:xfrm>
          <a:prstGeom prst="rect">
            <a:avLst/>
          </a:prstGeom>
          <a:noFill/>
          <a:ln w="9360">
            <a:solidFill>
              <a:srgbClr val="1a48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宋体"/>
              </a:rPr>
              <a:t>比较金属条、卡纸条、木条、塑料条的柔韧性：</a:t>
            </a:r>
            <a:endParaRPr b="1" lang="en-US" sz="4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0" y="2362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宋体"/>
              </a:rPr>
              <a:t>准备好相同宽度相同厚度的金属条、卡纸条、木条、塑料条，把它们并列放在水平桌面的边缘，一端用重物压住，另一端伸出桌面的长度相同，并在下面挂相同重量的物体，结果发现塑料条的弯曲程度最大，说明塑料条的柔韧性最强。</a:t>
            </a:r>
            <a:endParaRPr b="1" lang="en-US" sz="40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304920" y="609480"/>
            <a:ext cx="8839080" cy="1922400"/>
          </a:xfrm>
          <a:prstGeom prst="rect">
            <a:avLst/>
          </a:prstGeom>
          <a:noFill/>
          <a:ln w="9360">
            <a:solidFill>
              <a:srgbClr val="1a48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宋体"/>
              </a:rPr>
              <a:t>塑料的特性：有绝缘性、柔韧性、防水、可燃烧、耐腐</a:t>
            </a:r>
            <a:endParaRPr b="1" lang="en-US" sz="40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宋体"/>
              </a:rPr>
              <a:t>蚀、能浮在水上、比较轻、不分解、不易传热、可重复利用</a:t>
            </a:r>
            <a:endParaRPr b="1" lang="en-US" sz="40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宋体"/>
              </a:rPr>
              <a:t>  </a:t>
            </a:r>
            <a:endParaRPr b="1" lang="en-US" sz="40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026"/>
          <p:cNvSpPr/>
          <p:nvPr/>
        </p:nvSpPr>
        <p:spPr>
          <a:xfrm>
            <a:off x="304920" y="609480"/>
            <a:ext cx="8839080" cy="2531880"/>
          </a:xfrm>
          <a:prstGeom prst="rect">
            <a:avLst/>
          </a:prstGeom>
          <a:noFill/>
          <a:ln w="9360">
            <a:solidFill>
              <a:srgbClr val="1a48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砖瓦特点描述：表面比较粗糙、有细小的孔、比较硬、多为黄红色、</a:t>
            </a:r>
            <a:endParaRPr b="1" lang="en-US" sz="40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陶瓷的特点：表面光滑，颜色多样，有光泽，坚硬</a:t>
            </a:r>
            <a:endParaRPr b="1" lang="en-US" sz="4000" spc="-1" strike="noStrike">
              <a:solidFill>
                <a:srgbClr val="30311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48" name="Rectangle 1027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  <a:ea typeface="宋体"/>
              </a:rPr>
              <a:t>  </a:t>
            </a:r>
            <a:endParaRPr b="1" lang="en-US" sz="40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5:55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34Z</dcterms:modified>
  <cp:revision>3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