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chimes.wav" ContentType="audio/x-wav"/>
  <Override PartName="/ppt/media/type.wav" ContentType="audio/x-wav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040-12CA-4122-9643-ADC58A6F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B39-6B82-4279-830F-A27760B5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075-C0EC-4C0A-87B3-15AF1A4C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B45-6137-4D12-A5D7-ECED04F8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0711-2A47-4A32-81FB-B771AB16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6A7-9FE9-49CD-9166-57FFD698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0570-BEB5-4841-8C74-9571F8CC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7AA-5B3A-4547-918A-90442D4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381-89A0-44D0-9017-3B7D2ECE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7525-C552-4E6A-9A17-43E9089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B53-A19B-4245-BCF1-A24F0F8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FA5-F382-4E5F-AADA-033ECA6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8D3-A48E-4AB7-B946-1CA79BE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0F5A-132D-413B-AEE9-FCF41B8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D70D-5454-4FE2-93F4-F3C69334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016-62E5-44FE-B837-F71CE4E8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AE2-CB36-4810-AFC6-D3E340A7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AA76-40AE-4F3C-BF69-7767E6DB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6A20-50FC-44AF-B975-7FAE5263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4677-0945-4DEC-8A73-9015953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45EC-BDEE-4B92-9B04-23AB181D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0925-C928-4AAD-89F8-D1EEF20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CD8-DA7E-4A6D-82A7-F7D9D186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34E5-DD74-4C86-AC1B-D9272F5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3598-ACE8-4EA8-99F3-7EF4DA3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9CCA-F81D-4889-90B4-E52144E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418D-FC79-4ABA-9FC7-86B2F76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3343-6721-49F2-BFCA-DB01282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A5B1-90E2-40C4-825F-F4E9900B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DB57-4E7D-4808-BE2C-8254AE7A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F37-D526-4AFE-A39E-106358C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566-AC05-4854-A88D-91354EE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FF6-CA94-4950-9EA8-E6B5BFC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A5A-384A-452A-BA60-FA2F136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1AB-9286-4201-A088-2925B19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B0C-13F7-459A-A681-93D21FA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284-F4D0-43C1-97F6-02D6EDCED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D07-BB68-41CF-98DD-6BB49F10DF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C82-B296-4DA7-ABD1-92485B20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395280" y="1197000"/>
            <a:ext cx="70153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公输语文课件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62320" y="3500280"/>
            <a:ext cx="401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395360" y="4724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一书现在一般认为是墨子的弟子及其再传弟子记述墨子言行的辑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2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词语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文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8600" y="1752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锦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短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梁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糠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04920" y="31240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049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04920" y="419112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04920" y="48006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吏之攻宋也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8600" y="5715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434340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华丽的车子；破车子；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04920" y="213372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舍弃，丢掉；锦绣衣裳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809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粗布短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572000" y="2590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好饭好菜；粗劣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20968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怎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905120" y="365760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方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336840" y="42116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如同，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0492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；认为；是；以上行为；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5029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虽是这样；替；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楷体简体"/>
              </a:rPr>
              <a:t>重点理解下列句子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049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文轩，邻有敝舆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28600" y="1371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锦绣，邻有短褐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梁肉，邻有糠糟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28600" y="3276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犹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50292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以王吏之攻宋也，为与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04920" y="5791320"/>
            <a:ext cx="51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然，公输盘为我为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049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抛掉自己彩饰的车子，看到邻居有破车子便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2286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放着自己的锦绣衣裳不穿，看见邻居有粗布短袄就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28600" y="2514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抛掉自己的好饭好菜不吃，看见邻居有糟糠这样粗劣的食物便想去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286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为有窃疾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2362320" y="2895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个人一定犯有偷窃的毛病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312408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就好像华丽的车子同破旧的车子相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22860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云梦，犀兕麋鹿满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3733920" y="3733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楚国有云梦泽，犀牛麋鹿到处都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228600" y="4191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，所谓无雉兔鲋鱼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2286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宋国，是大家所说的没有野鸡、兔子、鲫鱼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304920" y="5410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认为您派人攻打宋国，是同这个害偷窃病的人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是这样，但是公输盘给我造好了云梯，我一定要打下宋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8198"/>
          <p:cNvSpPr/>
          <p:nvPr/>
        </p:nvSpPr>
        <p:spPr>
          <a:xfrm>
            <a:off x="4284720" y="1413000"/>
            <a:ext cx="3936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762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拜见了楚王，说：“现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在这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有个人，抛掉自己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华丽的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看到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破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便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去偷；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抛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的锦绣衣裳，看见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粗布短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就想去偷；抛掉自己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饭好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吃，看见邻人有糟糠这样粗劣的食物便想去偷。这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什么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80880" y="4952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这个人一定患了偷窃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毛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5335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楚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土地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方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五千里，宋国的土地，方圆只有五百里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好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华丽的车子和破车子相比。楚国有云梦泽，那里满是犀牛、麋鹿之类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长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汉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里的鱼、鳖、鼋、鼍多得天下无比，宋国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就像人们说的那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是个连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野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兔子、鲫鱼都没有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的地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好饭好菜和糟糠相比。楚国有松、梓、楩、楠、樟这些名贵的木材，宋国却没有什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大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锦绣衣裳和粗布短袄相比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为大王派人攻打宋国，正是和这个害偷窃病的人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一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2286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下列加横线词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8600" y="1752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攻城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机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2860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距子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28600" y="2743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之攻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04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王问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049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宋城上而待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0492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2860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解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343400" y="1219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城墙；木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228600" y="2286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多次；巧妙的战术；同“拒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3341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完；同“御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281952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屈”，折服；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8195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什么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21337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意、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3276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入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1240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即使；我；杀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28600" y="0"/>
            <a:ext cx="33526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04920" y="609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，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召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先生墨子解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衣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地上围个圈儿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城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木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守城的器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公输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多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了攻城的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巧妙战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先生墨子多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抵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了回去。公输盘攻城的办法都用完了，先生墨子守城的办法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绰绰有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04920" y="3505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折服了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还说：“我知道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用什么办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付您了，我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4920" y="44956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也说：“我知道你要用什么办法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对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，我也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914400" y="5562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问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他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这些话的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8088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公输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意思，不过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死我。杀了我，宋国就守不住了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以破城而入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但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学生禽滑厘等三百人，已经拿着我的守城器械，在宋国城墙上等待楚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入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了我，也不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杀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保卫宋国的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0880" y="472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我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不攻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宋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192-096F-4D3C-A028-DBF729C3A7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28600" y="0"/>
            <a:ext cx="2133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你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50920" y="7650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公输》通过墨子（              　）的故事，生动地叙述了墨子为实现自己的（          　）主张，所表现出的（              　）和（                ）的精神，同时也暴露了公输盘和楚王（                  ），从而说明只有把（          ）和（           ）结合起来，才能迫使侵略者收敛其野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0880" y="3657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最终制止了这场战争，他采用（                             ）的办法，从道义上谴责楚攻宋之不义，他善用（        ），层层说理，在说理中运用大量（       ）句，增强了说服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581280" y="685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止楚攻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5029200" y="121932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非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438280" y="1600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艰苦实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076720" y="1628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顽强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684360" y="2492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阴险狡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796000" y="242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684360" y="29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实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2120" y="4191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以子之矛攻子之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715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571500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6"/>
          <p:cNvSpPr/>
          <p:nvPr/>
        </p:nvSpPr>
        <p:spPr>
          <a:xfrm>
            <a:off x="3635280" y="422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</a:t>
            </a: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书现在一般认为是墨子的弟子及其再传弟子记述墨子言行的辑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（约前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名翟，相传为战国时期宋国人，后长期住在鲁国，战国初期的思想家、教育家、政治家，是墨家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秋战国时期，各国统治者为了各自的利益，进行了长期的兼并战争，给当时的人民带来了无穷的灾难。为了阻止楚王伐宋，墨子历尽千辛万苦，不怕牺牲，用自己的智慧使战争发动者理屈词穷，又凭借谋略使他们不敢轻举妄动，最终组织了战争的发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80880" y="990720"/>
            <a:ext cx="62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你想学好本文吗？请跟我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1828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一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字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" y="243828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二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句读，根据意义正确划分句子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节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       坚持多读，不读破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7200" y="35053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三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走近墨子其人其世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57200" y="4191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熟读全文后，初步把握墨子劝阻楚国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攻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宋国的三个步骤，试着全盘分析课文的内容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808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五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学习第一步骤的内容，记忆重点词语的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含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努力让自己能流畅地翻译此部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609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读准字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楚造云梯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行十日十夜而至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5720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                   北方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572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             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" y="3124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余于地而不足于民          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57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犀兕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鹿满之           江汉之鱼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天下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" y="4648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者也                     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80880" y="5334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长松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豫章           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80880" y="571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然臣之弟子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等三百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12408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47712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ǐ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362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943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w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0574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657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h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64771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57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j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1814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5486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572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7621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10666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42670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i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48006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55627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1371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1981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f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0292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d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19051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23623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30481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n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64008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17524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5"/>
          <p:cNvSpPr/>
          <p:nvPr/>
        </p:nvSpPr>
        <p:spPr>
          <a:xfrm>
            <a:off x="67816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6324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990720" y="990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8600" y="685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的词的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720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720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3200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国有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而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Times New Roman"/>
              </a:rPr>
              <a:t>知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5720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既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72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57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908000" y="129528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夫子，先生、老师；对建立了自己学派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的尊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1337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133720" y="2209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悦”，高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1337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在；足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143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聪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268360" y="4114800"/>
            <a:ext cx="212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对人亲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友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4191120" y="41148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忠诚，尽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7913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7162920" y="4191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明白事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633760" y="4941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既然这样；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695680" y="534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2666880" y="573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为什么；引见；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8600" y="68580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语句理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焉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献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义固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起，再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860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所不足而争所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2860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不杀少而杀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30492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已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286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，吾既已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04920" y="5791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见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049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何罪之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43828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您有什么见教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4382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请允许我奉送给您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2438280" y="2133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我坚持合宜的道德情理，坚决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819520" y="2666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墨子站起身来，拜了两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2819520" y="3124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宋国有什么罪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76720" y="3657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杀害自己缺少的民众而争夺自己并不缺少的土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743200" y="40384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自己说是讲道义，懂得不去杀少数人，如今却要去杀众多的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18288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停止制造云梯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58128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行，我已经对楚王说过这件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4382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向楚王引见我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8198"/>
          <p:cNvSpPr/>
          <p:nvPr/>
        </p:nvSpPr>
        <p:spPr>
          <a:xfrm>
            <a:off x="2700360" y="83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28600" y="0"/>
            <a:ext cx="37670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685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给楚国制造云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器械，制成后，要用它去攻打宋国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听到这个消息，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鲁国动身，走了十天十夜到达郢都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会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3352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先生有什么指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04920" y="3200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说：“北方有人欺侮我，我希望借重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力量杀掉他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990720" y="4114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不高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3520" y="4572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请允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奉送给您十金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5105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我是个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讲道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，绝不  能平白无故杀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685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站起身来，拜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两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说：“请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解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件事。我在北方听说您造了云梯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它攻打宋国。宋国有什么罪呢？楚国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土地，缺少的是民众，如今却去牺牲自己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缺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民众而争夺自己并不缺少的土地，这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聪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举；宋国没有罪却去攻打它，这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不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友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行为；你懂得这个道理，却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据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力争，这不能说你对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尽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你去力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却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没有结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不能说你是一个坚强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自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讲道义，懂得不去杀少数人，如今却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众多的人，这不能说你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明白事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20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