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016-1B44-46C6-867F-012520E4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0C8-B32D-48BC-8A38-C4213FA0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AA6-0135-4B18-A8A0-25998EB7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B1E-1694-4EAD-BBE5-ED3A508B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E3ED-FECC-40C9-94DD-2AF70DA2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F12B-E901-496F-88B6-BD111150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713F-85D1-4F9F-9895-C9CD2F6A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4D8D-F72E-4113-ABBD-1947EFC8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2981-29CD-4762-9C9F-8C4B8C4E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06E8-F905-4A7A-A788-91A536C9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7E40-20D8-4BFD-8657-B8A94F85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469-929A-45A3-8C9A-D3619FC9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4040-E23A-49DC-8620-21B5504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1278-DA1C-4EA1-9DE3-A856B3F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9F4D-BB12-4242-972B-54DA43A2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76AF-9B3C-4814-98AF-552C40F5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375-EF02-469D-8C4D-B62C7564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98418-5365-4136-ACD0-A0CA2F2C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54416-5C75-47E3-95E6-7AA56824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B1179-78A6-49BA-88CA-4D21EA76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92BC7-B5E9-4B6C-9127-424E2159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9E4FE-32C6-4B0A-802E-165DF8FC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600-44AC-4CDA-B8CB-5251EE0C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AD32F-1F5B-43EB-9E08-2969F873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1A858-9168-442A-B58A-CF84EFAE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45C34-848A-4E07-AC3A-1CB22C45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62A8B-3821-4D08-AAD4-B2BF8387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CD83C-3514-414E-9D5D-B40A725A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396F1-11C6-449C-A9A7-0EC7CDB5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C14C9-5A25-478C-845D-289288CF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F29-40E8-4D5D-95E3-01D4383A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DD0-9705-4D4B-948B-7BAF6464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65B-8B50-4459-B615-37D3D977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111-EF4B-4197-A083-9470CF8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0F4-8F58-4643-B927-67480C5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694-FEE1-4889-B665-B962CA9C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4A0E-3A45-411E-8B6D-C0FB860B7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D837-5E06-476A-81CE-E6FCF481A9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1D0D-BEF5-4C3C-8723-D0E896CFCE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752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14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  钢铁长城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1"/>
          <a:stretch/>
        </p:blipFill>
        <p:spPr>
          <a:xfrm>
            <a:off x="1665360" y="2193840"/>
            <a:ext cx="5616360" cy="377532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lxinxinglx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5829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268360" y="602136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新型履带式两栖装甲输送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二、中国海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18442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ffff66"/>
                </a:solidFill>
                <a:latin typeface="Tahoma"/>
              </a:rPr>
              <a:t>中国海军现役兵力共</a:t>
            </a: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30</a:t>
            </a:r>
            <a:r>
              <a:rPr b="0" lang="zh-CN" sz="4400" spc="-1" strike="noStrike">
                <a:solidFill>
                  <a:srgbClr val="ffff66"/>
                </a:solidFill>
                <a:latin typeface="Tahoma"/>
              </a:rPr>
              <a:t>万人（其中包括海军航空兵</a:t>
            </a: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2.5</a:t>
            </a:r>
            <a:r>
              <a:rPr b="0" lang="zh-CN" sz="4400" spc="-1" strike="noStrike">
                <a:solidFill>
                  <a:srgbClr val="ffff66"/>
                </a:solidFill>
                <a:latin typeface="Tahoma"/>
              </a:rPr>
              <a:t>万人，海军岸防部队</a:t>
            </a: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2.5</a:t>
            </a:r>
            <a:r>
              <a:rPr b="0" lang="zh-CN" sz="4400" spc="-1" strike="noStrike">
                <a:solidFill>
                  <a:srgbClr val="ffff66"/>
                </a:solidFill>
                <a:latin typeface="Tahoma"/>
              </a:rPr>
              <a:t>万人，海军陆战队</a:t>
            </a: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4</a:t>
            </a:r>
            <a:r>
              <a:rPr b="0" lang="zh-CN" sz="4400" spc="-1" strike="noStrike">
                <a:solidFill>
                  <a:srgbClr val="ffff66"/>
                </a:solidFill>
                <a:latin typeface="Tahoma"/>
              </a:rPr>
              <a:t>万人）</a:t>
            </a:r>
            <a:br>
              <a:rPr sz="44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在新中国成立前夕，中国人民解放军的第一支海军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--------</a:t>
            </a:r>
            <a:r>
              <a:rPr b="1" lang="zh-CN" sz="4000" spc="-1" strike="noStrike" u="sng">
                <a:solidFill>
                  <a:srgbClr val="ffff66"/>
                </a:solidFill>
                <a:uFillTx/>
                <a:latin typeface="Tahoma"/>
              </a:rPr>
              <a:t>华东军区海军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建立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海军的指挥机构是海军司令部、政治部、后勤部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海军作战单位为</a:t>
            </a:r>
            <a:r>
              <a:rPr b="0" lang="zh-CN" sz="4800" spc="-1" strike="noStrike" u="sng">
                <a:solidFill>
                  <a:srgbClr val="ffff66"/>
                </a:solidFill>
                <a:uFillTx/>
                <a:latin typeface="Tahoma"/>
              </a:rPr>
              <a:t>北海舰队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、</a:t>
            </a:r>
            <a:r>
              <a:rPr b="0" lang="zh-CN" sz="4800" spc="-1" strike="noStrike" u="sng">
                <a:solidFill>
                  <a:srgbClr val="ffff66"/>
                </a:solidFill>
                <a:uFillTx/>
                <a:latin typeface="Tahoma"/>
              </a:rPr>
              <a:t>东海舰队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和</a:t>
            </a:r>
            <a:r>
              <a:rPr b="0" lang="zh-CN" sz="4800" spc="-1" strike="noStrike" u="sng">
                <a:solidFill>
                  <a:srgbClr val="ffff66"/>
                </a:solidFill>
                <a:uFillTx/>
                <a:latin typeface="Tahoma"/>
              </a:rPr>
              <a:t>南海舰队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以及海军航空兵和海防部队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148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海军约有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300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余艘主力舰艇（其中潜艇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63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多艘，驱逐舰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20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艘、护卫舰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50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余艘），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550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艘战斗艇（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180-200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艘导弹艇，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100-150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艘鱼雷艇），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150-200</a:t>
            </a:r>
            <a:r>
              <a:rPr b="0" lang="zh-CN" sz="4800" spc="-1" strike="noStrike">
                <a:solidFill>
                  <a:srgbClr val="ffff66"/>
                </a:solidFill>
                <a:latin typeface="Tahoma"/>
              </a:rPr>
              <a:t>艘辅助船。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北海舰队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成立于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960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5700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北海舰队：驻地青岛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驻泊港口：青岛、胶南、旅顺、葫芦岛、威海、成山。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北海舰队目前有三个军级编制的海军基地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旅顺基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青岛基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葫芦岛基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东海舰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141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东海舰队：驻地上海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驻泊港口：上海、吴淞、舟山、定海、杭州。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东海舰队目前有三个军级编制的海军基地：</a:t>
            </a:r>
            <a:br>
              <a:rPr sz="3600"/>
            </a:b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    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上海基地</a:t>
            </a:r>
            <a:br>
              <a:rPr sz="3600"/>
            </a:b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     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舟山基地</a:t>
            </a:r>
            <a:br>
              <a:rPr sz="3600"/>
            </a:b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     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福建基地（辖宁德、厦门水警区）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南海舰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836640"/>
            <a:ext cx="8686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驻地湛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驻泊港口：湛江、汕头、广州、海口、榆林、北海、黄浦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南海舰队目前有三个军级编制的海军基地：</a:t>
            </a:r>
            <a:br>
              <a:rPr sz="3600"/>
            </a:b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湛江基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广州基地</a:t>
            </a:r>
            <a:br>
              <a:rPr sz="3600"/>
            </a:b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榆林基地</a:t>
            </a:r>
            <a:br>
              <a:rPr sz="3600"/>
            </a:b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解放军驻香港特别行政区部队的海军基地的舰艇，由南海舰队派驻，作战时也受南海舰队指挥。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931160" cy="2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导弹驱逐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71280" y="1817280"/>
            <a:ext cx="7777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现代级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(136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舰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,137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舰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)--2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艘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; 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旅海级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(167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舰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)--1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旅沪级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(112,113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舰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)--2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艘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; 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旅大级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--16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旅洋级（最新型，详情不详）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211640" y="260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227640" y="508464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jvb_31"/>
          <p:cNvPicPr/>
          <p:nvPr/>
        </p:nvPicPr>
        <p:blipFill>
          <a:blip r:embed="rId1"/>
          <a:stretch/>
        </p:blipFill>
        <p:spPr>
          <a:xfrm>
            <a:off x="0" y="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2484360" y="6165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136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杭州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号（俄制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一、中国陆军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836640"/>
            <a:ext cx="7632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陆军现役兵力为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230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万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分属 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个军区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编成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个集团军，其中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个快速反应集团军（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军、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13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军、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21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军、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27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军、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38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军、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39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军、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54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军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陆军有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85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个步兵师、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个装甲及机械化师、 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个炮兵师（含若干高炮师）、 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个山地师、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50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个独立工程兵团、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19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个通信团、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～</a:t>
            </a:r>
            <a:r>
              <a:rPr b="1" lang="en-US" sz="4000" spc="-1" strike="noStrike">
                <a:solidFill>
                  <a:srgbClr val="ffff99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个独立特种兵团</a:t>
            </a:r>
            <a:r>
              <a:rPr b="0" lang="zh-CN" sz="4000" spc="-1" strike="noStrike">
                <a:solidFill>
                  <a:srgbClr val="ffff99"/>
                </a:solidFill>
                <a:latin typeface="宋体"/>
              </a:rPr>
              <a:t>。</a:t>
            </a:r>
            <a:r>
              <a:rPr b="0" lang="zh-CN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-4786920"/>
            <a:ext cx="369720" cy="121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h137-2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46944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2556000" y="692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137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福州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号（俄制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2835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67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深圳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舰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——“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中华第一舰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7" descr="h167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3870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971640" y="5445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目前中国自行设计建造的最现代化导弹驱逐舰。该舰长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53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米，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6.5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米，满载排水量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600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吨，吃水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米，最大航速超过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节，续航力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000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海里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/20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节，具有强大的对海攻击和防空、反潜等综合作战能力。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潜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夏级战略导弹核潜艇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--4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艘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汉级攻击核潜艇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--5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艘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基洛级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--4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艘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; 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武汉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级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--1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艘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; 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明级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--5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艘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G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级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--1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艘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h093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8" descr="hxia406"/>
          <p:cNvPicPr/>
          <p:nvPr/>
        </p:nvPicPr>
        <p:blipFill>
          <a:blip r:embed="rId1"/>
          <a:stretch/>
        </p:blipFill>
        <p:spPr>
          <a:xfrm>
            <a:off x="0" y="0"/>
            <a:ext cx="9144000" cy="5183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1476360" y="5661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092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型（夏级）核动力战略导弹潜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900000" y="2997360"/>
            <a:ext cx="26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4788000" y="5300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756360" y="4723920"/>
            <a:ext cx="14065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900720" y="414936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71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091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型（汉级）核动力攻击潜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hhan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5516280"/>
            <a:ext cx="7796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基洛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级（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Kilo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）常规动力攻击潜艇（俄制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hjiluo"/>
          <p:cNvPicPr/>
          <p:nvPr/>
        </p:nvPicPr>
        <p:blipFill>
          <a:blip r:embed="rId1"/>
          <a:stretch/>
        </p:blipFill>
        <p:spPr>
          <a:xfrm>
            <a:off x="0" y="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三、中国空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341360"/>
            <a:ext cx="82296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中国空军现役兵力为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7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万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（包括战略部队和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2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万的防空兵在内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四个空军军司令部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空军第一军（长春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空军第七军（南宁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空军第八军（福州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空军第十军（大同）</a:t>
            </a:r>
            <a:br>
              <a:rPr sz="3600"/>
            </a:b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91600"/>
            <a:ext cx="829152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八个空军指挥所分别为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549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大连指挥所（原空军第三军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上海指挥所（原空军第四军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唐山指挥所（原空军第六军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乌鲁木齐指挥所（原空军第九军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西安指挥所（前空军第十一军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昆明指挥所（前昆明军区空军司令部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武汉指挥所（前武汉军区空军指挥所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拉萨指挥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9268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12" descr="Su30MKK-1"/>
          <p:cNvPicPr/>
          <p:nvPr/>
        </p:nvPicPr>
        <p:blipFill>
          <a:blip r:embed="rId1"/>
          <a:stretch/>
        </p:blipFill>
        <p:spPr>
          <a:xfrm>
            <a:off x="0" y="0"/>
            <a:ext cx="9144000" cy="4727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8826480" y="1915920"/>
            <a:ext cx="641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2340000" y="5084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苏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30MKK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战斗机（俄制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5148360" y="6165720"/>
            <a:ext cx="36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2268360" y="6165720"/>
            <a:ext cx="46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380000" y="5589360"/>
            <a:ext cx="130644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5084640"/>
            <a:ext cx="130644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</a:rPr>
              <a:t>全国七大军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1905120"/>
            <a:ext cx="251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北京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沈阳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济南军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南京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广州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兰州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成都军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25_00030207"/>
          <p:cNvPicPr/>
          <p:nvPr/>
        </p:nvPicPr>
        <p:blipFill>
          <a:blip r:embed="rId1"/>
          <a:stretch/>
        </p:blipFill>
        <p:spPr>
          <a:xfrm>
            <a:off x="4643280" y="1052640"/>
            <a:ext cx="35848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11" descr="s27sk"/>
          <p:cNvPicPr/>
          <p:nvPr/>
        </p:nvPicPr>
        <p:blipFill>
          <a:blip r:embed="rId1"/>
          <a:stretch/>
        </p:blipFill>
        <p:spPr>
          <a:xfrm>
            <a:off x="0" y="0"/>
            <a:ext cx="5796000" cy="33796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2"/>
          <p:cNvSpPr/>
          <p:nvPr/>
        </p:nvSpPr>
        <p:spPr>
          <a:xfrm>
            <a:off x="5796000" y="2492280"/>
            <a:ext cx="273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苏</a:t>
            </a: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-27SK</a:t>
            </a: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战斗机（俄制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13" descr="j11"/>
          <p:cNvPicPr/>
          <p:nvPr/>
        </p:nvPicPr>
        <p:blipFill>
          <a:blip r:embed="rId2"/>
          <a:stretch/>
        </p:blipFill>
        <p:spPr>
          <a:xfrm>
            <a:off x="2916360" y="3462480"/>
            <a:ext cx="62276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5473440"/>
            <a:ext cx="72723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27UBK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教练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战斗机（俄制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s-27UBK"/>
          <p:cNvPicPr/>
          <p:nvPr/>
        </p:nvPicPr>
        <p:blipFill>
          <a:blip r:embed="rId1"/>
          <a:stretch/>
        </p:blipFill>
        <p:spPr>
          <a:xfrm>
            <a:off x="0" y="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948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16000" y="3284640"/>
            <a:ext cx="20988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9" descr="j-10"/>
          <p:cNvPicPr/>
          <p:nvPr/>
        </p:nvPicPr>
        <p:blipFill>
          <a:blip r:embed="rId1"/>
          <a:stretch/>
        </p:blipFill>
        <p:spPr>
          <a:xfrm>
            <a:off x="0" y="0"/>
            <a:ext cx="9144000" cy="5062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2700360" y="5229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歼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-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）战斗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989000"/>
            <a:ext cx="154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7" descr="fei"/>
          <p:cNvPicPr/>
          <p:nvPr/>
        </p:nvPicPr>
        <p:blipFill>
          <a:blip r:embed="rId1"/>
          <a:stretch/>
        </p:blipFill>
        <p:spPr>
          <a:xfrm>
            <a:off x="0" y="0"/>
            <a:ext cx="5221440" cy="3481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fbc1"/>
          <p:cNvPicPr/>
          <p:nvPr/>
        </p:nvPicPr>
        <p:blipFill>
          <a:blip r:embed="rId2"/>
          <a:stretch/>
        </p:blipFill>
        <p:spPr>
          <a:xfrm>
            <a:off x="3816360" y="3505320"/>
            <a:ext cx="5327640" cy="33526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9"/>
          <p:cNvSpPr/>
          <p:nvPr/>
        </p:nvSpPr>
        <p:spPr>
          <a:xfrm>
            <a:off x="5508720" y="2924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歼轰</a:t>
            </a: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7(FBC1</a:t>
            </a: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飞豹</a:t>
            </a: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34920" y="3645000"/>
            <a:ext cx="6049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8ⅡM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-8ⅡM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战斗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8" descr="kj82d"/>
          <p:cNvPicPr/>
          <p:nvPr/>
        </p:nvPicPr>
        <p:blipFill>
          <a:blip r:embed="rId1"/>
          <a:stretch/>
        </p:blipFill>
        <p:spPr>
          <a:xfrm>
            <a:off x="0" y="741240"/>
            <a:ext cx="4211640" cy="2903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j-8ii"/>
          <p:cNvPicPr/>
          <p:nvPr/>
        </p:nvPicPr>
        <p:blipFill>
          <a:blip r:embed="rId2"/>
          <a:stretch/>
        </p:blipFill>
        <p:spPr>
          <a:xfrm>
            <a:off x="4284720" y="692280"/>
            <a:ext cx="4284720" cy="2944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j82m"/>
          <p:cNvPicPr/>
          <p:nvPr/>
        </p:nvPicPr>
        <p:blipFill>
          <a:blip r:embed="rId3"/>
          <a:stretch/>
        </p:blipFill>
        <p:spPr>
          <a:xfrm>
            <a:off x="2340000" y="4221000"/>
            <a:ext cx="4103640" cy="2548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1"/>
          <p:cNvSpPr/>
          <p:nvPr/>
        </p:nvSpPr>
        <p:spPr>
          <a:xfrm>
            <a:off x="25092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歼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-8ⅡD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-8ⅡD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）战斗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4716360" y="26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歼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-8Ⅱ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-8Ⅱ</a:t>
            </a:r>
            <a:r>
              <a:rPr b="0" lang="zh-CN" sz="2400" spc="-1" strike="noStrike">
                <a:solidFill>
                  <a:srgbClr val="ffff66"/>
                </a:solidFill>
                <a:latin typeface="Tahoma"/>
              </a:rPr>
              <a:t>）战斗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8100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歼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7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战斗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8" descr="j72"/>
          <p:cNvPicPr/>
          <p:nvPr/>
        </p:nvPicPr>
        <p:blipFill>
          <a:blip r:embed="rId1"/>
          <a:stretch/>
        </p:blipFill>
        <p:spPr>
          <a:xfrm>
            <a:off x="0" y="147600"/>
            <a:ext cx="4500720" cy="2500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j73"/>
          <p:cNvPicPr/>
          <p:nvPr/>
        </p:nvPicPr>
        <p:blipFill>
          <a:blip r:embed="rId2"/>
          <a:stretch/>
        </p:blipFill>
        <p:spPr>
          <a:xfrm>
            <a:off x="4572000" y="120600"/>
            <a:ext cx="4572000" cy="2443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j7-mg"/>
          <p:cNvPicPr/>
          <p:nvPr/>
        </p:nvPicPr>
        <p:blipFill>
          <a:blip r:embed="rId3"/>
          <a:stretch/>
        </p:blipFill>
        <p:spPr>
          <a:xfrm>
            <a:off x="1332000" y="3284640"/>
            <a:ext cx="61214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4" descr="s300pmu1"/>
          <p:cNvPicPr/>
          <p:nvPr/>
        </p:nvPicPr>
        <p:blipFill>
          <a:blip r:embed="rId1"/>
          <a:stretch/>
        </p:blipFill>
        <p:spPr>
          <a:xfrm>
            <a:off x="539640" y="260280"/>
            <a:ext cx="6012000" cy="3065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hq-7"/>
          <p:cNvPicPr/>
          <p:nvPr/>
        </p:nvPicPr>
        <p:blipFill>
          <a:blip r:embed="rId2"/>
          <a:stretch/>
        </p:blipFill>
        <p:spPr>
          <a:xfrm>
            <a:off x="2484360" y="3438360"/>
            <a:ext cx="5899320" cy="31467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6588000" y="1268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红旗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15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（俄制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-300PMU1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）中高空、中远程地空导弹系统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0" y="458136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红旗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7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Q-7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）低空、超低空、近程地空导弹系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4" descr="khq2b"/>
          <p:cNvPicPr/>
          <p:nvPr/>
        </p:nvPicPr>
        <p:blipFill>
          <a:blip r:embed="rId1"/>
          <a:stretch/>
        </p:blipFill>
        <p:spPr>
          <a:xfrm>
            <a:off x="395280" y="3311640"/>
            <a:ext cx="5292720" cy="354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khq61"/>
          <p:cNvPicPr/>
          <p:nvPr/>
        </p:nvPicPr>
        <p:blipFill>
          <a:blip r:embed="rId2"/>
          <a:stretch/>
        </p:blipFill>
        <p:spPr>
          <a:xfrm>
            <a:off x="3780000" y="0"/>
            <a:ext cx="5040000" cy="32590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0"/>
          <p:cNvSpPr/>
          <p:nvPr/>
        </p:nvSpPr>
        <p:spPr>
          <a:xfrm>
            <a:off x="5867280" y="458136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红旗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2B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Q-2B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）中高空、中近程地空导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755640" y="105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红旗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-61A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Q-61A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）中低空、近程地空导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7" descr="FT2000"/>
          <p:cNvPicPr/>
          <p:nvPr/>
        </p:nvPicPr>
        <p:blipFill>
          <a:blip r:embed="rId1"/>
          <a:stretch/>
        </p:blipFill>
        <p:spPr>
          <a:xfrm>
            <a:off x="0" y="0"/>
            <a:ext cx="9144000" cy="53672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2556000" y="585144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飞腾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2000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T-2000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）反辐射地空导弹系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333360"/>
            <a:ext cx="10764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文本框 8198"/>
          <p:cNvSpPr/>
          <p:nvPr/>
        </p:nvSpPr>
        <p:spPr>
          <a:xfrm>
            <a:off x="1316160" y="5516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Picture 4" descr="tanker-1"/>
          <p:cNvPicPr/>
          <p:nvPr/>
        </p:nvPicPr>
        <p:blipFill>
          <a:blip r:embed="rId1"/>
          <a:stretch/>
        </p:blipFill>
        <p:spPr>
          <a:xfrm>
            <a:off x="900000" y="404640"/>
            <a:ext cx="7272360" cy="52182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1763640" y="5805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空中加油机和歼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8ⅡD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受油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25_00030204"/>
          <p:cNvPicPr/>
          <p:nvPr/>
        </p:nvPicPr>
        <p:blipFill>
          <a:blip r:embed="rId1"/>
          <a:stretch/>
        </p:blipFill>
        <p:spPr>
          <a:xfrm>
            <a:off x="324000" y="355680"/>
            <a:ext cx="4464000" cy="31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25_00030205"/>
          <p:cNvPicPr/>
          <p:nvPr/>
        </p:nvPicPr>
        <p:blipFill>
          <a:blip r:embed="rId2"/>
          <a:stretch/>
        </p:blipFill>
        <p:spPr>
          <a:xfrm>
            <a:off x="3924360" y="3357720"/>
            <a:ext cx="45673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kjyh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43956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"/>
          <p:cNvSpPr/>
          <p:nvPr/>
        </p:nvSpPr>
        <p:spPr>
          <a:xfrm>
            <a:off x="2484360" y="5300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中国第一架预警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空警一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四、中国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第二炮兵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部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也称导弹部队 ，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1957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年开始组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中国第二炮兵总兵力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9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万人</a:t>
            </a:r>
            <a:br>
              <a:rPr sz="4000"/>
            </a:b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  </a:t>
            </a:r>
            <a:r>
              <a:rPr b="0" lang="zh-CN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0" lang="zh-CN" sz="4000" spc="-1" strike="noStrike">
                <a:solidFill>
                  <a:srgbClr val="ffff66"/>
                </a:solidFill>
                <a:latin typeface="Tahoma"/>
              </a:rPr>
              <a:t>编成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7</a:t>
            </a:r>
            <a:r>
              <a:rPr b="0" lang="zh-CN" sz="4000" spc="-1" strike="noStrike">
                <a:solidFill>
                  <a:srgbClr val="ffff66"/>
                </a:solidFill>
                <a:latin typeface="Tahoma"/>
              </a:rPr>
              <a:t>个师　　</a:t>
            </a:r>
            <a:br>
              <a:rPr sz="4000"/>
            </a:b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  </a:t>
            </a:r>
            <a:r>
              <a:rPr b="0" lang="zh-CN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0" lang="zh-CN" sz="4000" spc="-1" strike="noStrike">
                <a:solidFill>
                  <a:srgbClr val="ffff66"/>
                </a:solidFill>
                <a:latin typeface="Tahoma"/>
              </a:rPr>
              <a:t>按导弹类型编为旅、团、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7" descr="df3"/>
          <p:cNvPicPr/>
          <p:nvPr/>
        </p:nvPicPr>
        <p:blipFill>
          <a:blip r:embed="rId1"/>
          <a:stretch/>
        </p:blipFill>
        <p:spPr>
          <a:xfrm>
            <a:off x="539640" y="333360"/>
            <a:ext cx="7632720" cy="48085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8"/>
          <p:cNvSpPr/>
          <p:nvPr/>
        </p:nvSpPr>
        <p:spPr>
          <a:xfrm>
            <a:off x="1979640" y="53737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3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F-3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）中程地地战略导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2411280" y="6074280"/>
            <a:ext cx="30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射程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 1,700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英里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icture 4" descr="df4"/>
          <p:cNvPicPr/>
          <p:nvPr/>
        </p:nvPicPr>
        <p:blipFill>
          <a:blip r:embed="rId1"/>
          <a:stretch/>
        </p:blipFill>
        <p:spPr>
          <a:xfrm>
            <a:off x="755640" y="1268280"/>
            <a:ext cx="7921800" cy="5229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7"/>
          <p:cNvSpPr/>
          <p:nvPr/>
        </p:nvSpPr>
        <p:spPr>
          <a:xfrm>
            <a:off x="1979640" y="620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4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F-4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）远程地地战略导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4" descr="df-5-1"/>
          <p:cNvPicPr/>
          <p:nvPr/>
        </p:nvPicPr>
        <p:blipFill>
          <a:blip r:embed="rId1"/>
          <a:stretch/>
        </p:blipFill>
        <p:spPr>
          <a:xfrm>
            <a:off x="755640" y="0"/>
            <a:ext cx="7664400" cy="54928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"/>
          <p:cNvSpPr/>
          <p:nvPr/>
        </p:nvSpPr>
        <p:spPr>
          <a:xfrm>
            <a:off x="2418480" y="58312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5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F-5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）洲际地地战略导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4" descr="df11-1"/>
          <p:cNvPicPr/>
          <p:nvPr/>
        </p:nvPicPr>
        <p:blipFill>
          <a:blip r:embed="rId1"/>
          <a:stretch/>
        </p:blipFill>
        <p:spPr>
          <a:xfrm>
            <a:off x="900000" y="260280"/>
            <a:ext cx="7201080" cy="5426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1116000" y="587700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1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F-1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-1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）近程地地战术导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5373360"/>
            <a:ext cx="793116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1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F-1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-9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近程地地战术导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df15-2"/>
          <p:cNvPicPr/>
          <p:nvPr/>
        </p:nvPicPr>
        <p:blipFill>
          <a:blip r:embed="rId1"/>
          <a:stretch/>
        </p:blipFill>
        <p:spPr>
          <a:xfrm>
            <a:off x="250920" y="260280"/>
            <a:ext cx="8605800" cy="476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2484360" y="6021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射程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370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英里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4" descr="df21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56228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7"/>
          <p:cNvSpPr/>
          <p:nvPr/>
        </p:nvSpPr>
        <p:spPr>
          <a:xfrm>
            <a:off x="1605960" y="5875920"/>
            <a:ext cx="33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21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F-21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）中程地地战略导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97164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6028200" y="6092280"/>
            <a:ext cx="16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射程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00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公里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东风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-31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F-31</a:t>
            </a:r>
            <a:r>
              <a:rPr b="1" lang="zh-CN" sz="4000" spc="-1" strike="noStrike">
                <a:solidFill>
                  <a:srgbClr val="ffff66"/>
                </a:solidFill>
                <a:latin typeface="Tahoma"/>
              </a:rPr>
              <a:t>）洲际地地战略导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dong"/>
          <p:cNvPicPr/>
          <p:nvPr/>
        </p:nvPicPr>
        <p:blipFill>
          <a:blip r:embed="rId1"/>
          <a:stretch/>
        </p:blipFill>
        <p:spPr>
          <a:xfrm>
            <a:off x="250920" y="900000"/>
            <a:ext cx="867564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Picture 7" descr="dong1"/>
          <p:cNvPicPr/>
          <p:nvPr/>
        </p:nvPicPr>
        <p:blipFill>
          <a:blip r:embed="rId1"/>
          <a:stretch/>
        </p:blipFill>
        <p:spPr>
          <a:xfrm>
            <a:off x="539640" y="333360"/>
            <a:ext cx="8066160" cy="46656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4"/>
          <p:cNvSpPr/>
          <p:nvPr/>
        </p:nvSpPr>
        <p:spPr>
          <a:xfrm>
            <a:off x="1908000" y="5516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型洲际导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8" descr="24_00030209"/>
          <p:cNvPicPr/>
          <p:nvPr/>
        </p:nvPicPr>
        <p:blipFill>
          <a:blip r:embed="rId1"/>
          <a:stretch/>
        </p:blipFill>
        <p:spPr>
          <a:xfrm>
            <a:off x="0" y="404640"/>
            <a:ext cx="4284720" cy="2973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4_00030210"/>
          <p:cNvPicPr/>
          <p:nvPr/>
        </p:nvPicPr>
        <p:blipFill>
          <a:blip r:embed="rId2"/>
          <a:stretch/>
        </p:blipFill>
        <p:spPr>
          <a:xfrm>
            <a:off x="4500720" y="1916280"/>
            <a:ext cx="4321080" cy="2997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24_00030211"/>
          <p:cNvPicPr/>
          <p:nvPr/>
        </p:nvPicPr>
        <p:blipFill>
          <a:blip r:embed="rId3"/>
          <a:stretch/>
        </p:blipFill>
        <p:spPr>
          <a:xfrm>
            <a:off x="0" y="3716280"/>
            <a:ext cx="4356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东风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型洲际导弹特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弹体全长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米 ，直径为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米 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公斤左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射程为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公里。火箭结构为三级固体发动机，可载一枚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50kT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至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Mt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的核弹头或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枚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kT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RV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核弹，范围可达美国西岸和欧洲各地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EP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约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米左右，是一种目前尚无反制方法的先进地对地导弹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56688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研究中的东风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1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型洲际导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拥有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2,0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千米的射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-4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部分技术数据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推进：三级火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推进剂：固体燃料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弹长：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米？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弹径：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米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弹重：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吨？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制导：惯性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首次试射：未知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交付使用：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年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弹头：一枚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万吨级当量热核弹头或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枚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万吨级当量热核弹头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发射方式：井下发射或机动发射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圆周概率误差：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7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8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发射准备时间：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分钟  　　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A812-E1BF-4643-93F9-6D3641E9414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094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lt98s"/>
          <p:cNvPicPr/>
          <p:nvPr/>
        </p:nvPicPr>
        <p:blipFill>
          <a:blip r:embed="rId1"/>
          <a:stretch/>
        </p:blipFill>
        <p:spPr>
          <a:xfrm>
            <a:off x="684360" y="260280"/>
            <a:ext cx="7561080" cy="5297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2124000" y="573408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98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式（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96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式）主战坦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文本框 8198"/>
          <p:cNvSpPr/>
          <p:nvPr/>
        </p:nvSpPr>
        <p:spPr>
          <a:xfrm>
            <a:off x="1374840" y="63752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9" descr="lt88c"/>
          <p:cNvPicPr/>
          <p:nvPr/>
        </p:nvPicPr>
        <p:blipFill>
          <a:blip r:embed="rId1"/>
          <a:stretch/>
        </p:blipFill>
        <p:spPr>
          <a:xfrm>
            <a:off x="468360" y="333360"/>
            <a:ext cx="7848720" cy="5286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2268360" y="57340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8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式主战坦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8" descr="lt63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4822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484360" y="5589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式水陆两栖坦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lwz523apc"/>
          <p:cNvPicPr/>
          <p:nvPr/>
        </p:nvPicPr>
        <p:blipFill>
          <a:blip r:embed="rId1"/>
          <a:stretch/>
        </p:blipFill>
        <p:spPr>
          <a:xfrm>
            <a:off x="0" y="2657520"/>
            <a:ext cx="4643280" cy="3838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wz551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630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5219640" y="3789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92</a:t>
            </a:r>
            <a:r>
              <a:rPr b="1" lang="zh-CN" sz="2000" spc="-1" strike="noStrike">
                <a:solidFill>
                  <a:srgbClr val="ffff66"/>
                </a:solidFill>
                <a:latin typeface="Tahoma"/>
              </a:rPr>
              <a:t>式（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WZ551</a:t>
            </a:r>
            <a:r>
              <a:rPr b="1" lang="zh-CN" sz="2000" spc="-1" strike="noStrike">
                <a:solidFill>
                  <a:srgbClr val="ffff66"/>
                </a:solidFill>
                <a:latin typeface="Tahoma"/>
              </a:rPr>
              <a:t>）轮式步兵战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684360" y="220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WZ523</a:t>
            </a:r>
            <a:r>
              <a:rPr b="1" lang="zh-CN" sz="2400" spc="-1" strike="noStrike">
                <a:solidFill>
                  <a:srgbClr val="ffff66"/>
                </a:solidFill>
                <a:latin typeface="Tahoma"/>
              </a:rPr>
              <a:t>轮式装甲输送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12:56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43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