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jpeg" ContentType="image/jpeg"/>
  <Override PartName="/ppt/media/image26.wmf" ContentType="image/x-wmf"/>
  <Override PartName="/ppt/media/image24.wmf" ContentType="image/x-wmf"/>
  <Override PartName="/ppt/media/image23.jpeg" ContentType="image/jpe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29.gif" ContentType="image/gif"/>
  <Override PartName="/ppt/media/image11.jpeg" ContentType="image/jpeg"/>
  <Override PartName="/ppt/media/image31.gif" ContentType="image/gif"/>
  <Override PartName="/ppt/media/image10.jpeg" ContentType="image/jpeg"/>
  <Override PartName="/ppt/media/image12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6.png" ContentType="image/png"/>
  <Override PartName="/ppt/media/image4.wmf" ContentType="image/x-wmf"/>
  <Override PartName="/ppt/media/image32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BF7-F3F9-49EE-BF07-41E27CF5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391-E6EC-4DDC-B6C8-D3B39313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E95-5C50-4899-BCD3-C9BD98245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627-91E2-4EA2-A56B-369CC7F85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F045-A13F-4836-900B-9319917BA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0788-1E5A-4C46-803F-7EDF7F44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33C8-843A-46AB-B814-298F0A66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43B8-ABE4-4D02-8645-A1C412AD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4FCD-4F20-40FE-BDEE-02716A15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8942-EF62-458F-B620-F06CAA97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9A3F-79DD-4C8F-8CDE-969F2595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8E4-3ED8-42C4-91D2-D8FC83F9F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A2DC-B128-4B8C-BAEE-582E77DC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9499-A3B1-47F2-8575-64390F3B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C412-8A61-44A7-A8E2-628F564E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AE4B7-2771-4E0C-80DB-36E3DE22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59DCB-E3A6-42A5-96E2-F24547850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8A669-EC13-49FB-B8D4-218852C7C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01A4B-06D9-40E0-B9D2-4DBAE92A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FD45C-7CB8-46CB-AE05-5761DBBA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983C-9F47-4EF5-A6A2-BCCA15F8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8F88C-AE0B-4636-A8A0-6F3EB569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941A-89EE-4046-A09E-517525F5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11A46-B6AE-466A-A17C-E4FFD24F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1D90-1F2D-498C-8AFA-BD7FEA1E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5747C-9063-45B7-9851-E1D950B2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B6919-EAB2-4237-B5B1-6B7DC6E3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C8D65-8332-413E-B6DD-309A760B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116C-DB31-46A4-BAC5-E22DA8517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57C80-94B2-415A-905C-76824D5F2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3EC-455E-44A3-9952-65A611F3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D905B-7CC5-436C-B9A0-2B16DA359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CF5-1E89-4B56-9955-7102A789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0A9AF-965D-4060-A13F-692E8FA7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9F308-A2BA-4816-BF03-BD771FC2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27770-8A18-4820-8FB7-DF24E8F8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DE2BC-2DA9-4334-A951-E602973E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4B9E6-008B-433D-B4FC-0F561FD0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139E0-D215-4DEA-AA9C-582EF45A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2387-100B-49FB-8CA8-D784985B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CFAED-84E8-424C-9C9C-5767B966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C395-8230-440C-8CFF-6AE49C58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8E46-A646-40ED-8D74-6286CEDDE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27E1-9586-4790-9FC4-BF7726BD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56B47-EBC6-4CDE-B951-29AAA6CA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1E9B7-E727-4C8F-A668-95623193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70A82-DD20-4699-ACC5-0C81311B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B7817-C663-4028-9C64-75BCF6AC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A2229-82A3-4E08-8F32-D3B3CCE8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8E13F-F86B-4B74-86A1-1793E276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59D07-EEE1-4C1A-9D9E-6B797587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45B89-09AA-48E1-B31E-B5FD21D6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F30E7-2A50-42A7-98ED-647DC14E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C4DE7-7B0E-4BE5-9E3F-15808241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3014-C27F-4489-9F89-8117365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5DD71-50B6-452D-9271-ECD932B9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68814-FBEA-453B-9478-2C337EAA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61B29-BE59-4116-9577-7E329421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A7E95-7D74-45BE-A11B-37593FDA9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079C4-D062-409B-A63E-1C84AC22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75A35-617A-49D8-8BF7-74F3869C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88BC64-C1B7-450C-A085-6162B8A0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211F0-5DD0-438B-9108-77E701E0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BE059-B34E-4B68-9B21-514384C1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F7B7B-4347-4083-B66C-A9F88E63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92B7-E4D2-4F50-A370-39106A93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862F7-3F56-4486-B753-0FC5912A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9599-2FC9-41E4-ACDC-D351042B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4F6C0-DF12-4C18-82CC-FF1DD80B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12BF6-0D74-481B-ACCE-794D2A96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AC753-FB52-4954-A673-B1F2A8F9F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0A4-3DA0-43BB-A8E5-66E17AF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C887-2D24-4BA7-BA88-77095D64A5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949A-54F8-41F3-9810-CEE9CBB43B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775B-668E-46D0-95C3-D9E7F3D3DD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80880" y="304920"/>
            <a:ext cx="7772400" cy="5486040"/>
            <a:chOff x="380880" y="304920"/>
            <a:chExt cx="7772400" cy="5486040"/>
          </a:xfrm>
        </p:grpSpPr>
        <p:sp>
          <p:nvSpPr>
            <p:cNvPr id="124" name="Rectangle 3"/>
            <p:cNvSpPr/>
            <p:nvPr/>
          </p:nvSpPr>
          <p:spPr>
            <a:xfrm>
              <a:off x="380880" y="817200"/>
              <a:ext cx="1003680" cy="497376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380880" y="304920"/>
              <a:ext cx="7772400" cy="63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1330560" y="535680"/>
              <a:ext cx="6822360" cy="48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"/>
            <p:cNvSpPr/>
            <p:nvPr/>
          </p:nvSpPr>
          <p:spPr>
            <a:xfrm>
              <a:off x="1388520" y="588960"/>
              <a:ext cx="6764400" cy="5187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7"/>
            <p:cNvSpPr/>
            <p:nvPr/>
          </p:nvSpPr>
          <p:spPr>
            <a:xfrm>
              <a:off x="1330560" y="541800"/>
              <a:ext cx="61920" cy="524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380880" y="830880"/>
              <a:ext cx="346680" cy="360"/>
              <a:chOff x="380880" y="830880"/>
              <a:chExt cx="346680" cy="360"/>
            </a:xfrm>
          </p:grpSpPr>
          <p:sp>
            <p:nvSpPr>
              <p:cNvPr id="130" name="Line 8"/>
              <p:cNvSpPr/>
              <p:nvPr/>
            </p:nvSpPr>
            <p:spPr>
              <a:xfrm>
                <a:off x="380880" y="830880"/>
                <a:ext cx="346680" cy="0"/>
              </a:xfrm>
              <a:prstGeom prst="line">
                <a:avLst/>
              </a:prstGeom>
              <a:ln w="28440">
                <a:solidFill>
                  <a:srgbClr val="3333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>
                <a:off x="380880" y="830880"/>
                <a:ext cx="34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948600" y="827280"/>
              <a:ext cx="380520" cy="360"/>
              <a:chOff x="948600" y="827280"/>
              <a:chExt cx="380520" cy="360"/>
            </a:xfrm>
          </p:grpSpPr>
          <p:sp>
            <p:nvSpPr>
              <p:cNvPr id="133" name="Line 9"/>
              <p:cNvSpPr/>
              <p:nvPr/>
            </p:nvSpPr>
            <p:spPr>
              <a:xfrm>
                <a:off x="948600" y="827280"/>
                <a:ext cx="380520" cy="0"/>
              </a:xfrm>
              <a:prstGeom prst="line">
                <a:avLst/>
              </a:prstGeom>
              <a:ln w="28440">
                <a:solidFill>
                  <a:srgbClr val="3333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948600" y="827280"/>
                <a:ext cx="380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Rectangle 10"/>
            <p:cNvSpPr/>
            <p:nvPr/>
          </p:nvSpPr>
          <p:spPr>
            <a:xfrm>
              <a:off x="380880" y="304920"/>
              <a:ext cx="36360" cy="54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Rectangle 11"/>
          <p:cNvSpPr/>
          <p:nvPr/>
        </p:nvSpPr>
        <p:spPr>
          <a:xfrm>
            <a:off x="533520" y="6553080"/>
            <a:ext cx="802620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8305920" y="5715000"/>
            <a:ext cx="533160" cy="685800"/>
          </a:xfrm>
          <a:prstGeom prst="sun">
            <a:avLst>
              <a:gd name="adj" fmla="val 25000"/>
            </a:avLst>
          </a:prstGeom>
          <a:solidFill>
            <a:srgbClr val="e09142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2971800" y="58672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29"/>
                </a:solidFill>
                <a:latin typeface="Arial"/>
                <a:ea typeface="华文行楷"/>
              </a:rPr>
              <a:t>自觉磨砺意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71BE-BE96-4C22-825D-FED7DE28199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A179-1773-4F82-87FA-9F5A827C9D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9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1160" y="0"/>
            <a:ext cx="9158400" cy="6924600"/>
            <a:chOff x="-11160" y="0"/>
            <a:chExt cx="9158400" cy="6924600"/>
          </a:xfrm>
        </p:grpSpPr>
        <p:sp>
          <p:nvSpPr>
            <p:cNvPr id="258" name="Rectangle 3"/>
            <p:cNvSpPr/>
            <p:nvPr/>
          </p:nvSpPr>
          <p:spPr>
            <a:xfrm>
              <a:off x="-3240" y="7920"/>
              <a:ext cx="915048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>
              <a:off x="20160" y="0"/>
              <a:ext cx="117720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>
              <a:off x="1121760" y="0"/>
              <a:ext cx="7884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20160" y="2706840"/>
              <a:ext cx="91267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Rectangle 7"/>
            <p:cNvSpPr/>
            <p:nvPr/>
          </p:nvSpPr>
          <p:spPr>
            <a:xfrm rot="5400000">
              <a:off x="5071320" y="-646560"/>
              <a:ext cx="74520" cy="8025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rot="5400000">
              <a:off x="5072040" y="-1347120"/>
              <a:ext cx="74520" cy="802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-11160" y="0"/>
              <a:ext cx="7416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676440" y="3362400"/>
              <a:ext cx="444960" cy="360"/>
              <a:chOff x="676440" y="3362400"/>
              <a:chExt cx="444960" cy="360"/>
            </a:xfrm>
          </p:grpSpPr>
          <p:sp>
            <p:nvSpPr>
              <p:cNvPr id="266" name="Line 10"/>
              <p:cNvSpPr/>
              <p:nvPr/>
            </p:nvSpPr>
            <p:spPr>
              <a:xfrm>
                <a:off x="676440" y="3362400"/>
                <a:ext cx="444960" cy="0"/>
              </a:xfrm>
              <a:prstGeom prst="line">
                <a:avLst/>
              </a:prstGeom>
              <a:ln w="158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676440" y="3362400"/>
                <a:ext cx="44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63000" y="3359160"/>
              <a:ext cx="364320" cy="1440"/>
              <a:chOff x="63000" y="3359160"/>
              <a:chExt cx="364320" cy="1440"/>
            </a:xfrm>
          </p:grpSpPr>
          <p:sp>
            <p:nvSpPr>
              <p:cNvPr id="269" name="Line 11"/>
              <p:cNvSpPr/>
              <p:nvPr/>
            </p:nvSpPr>
            <p:spPr>
              <a:xfrm flipV="1">
                <a:off x="63000" y="3359160"/>
                <a:ext cx="364320" cy="1440"/>
              </a:xfrm>
              <a:prstGeom prst="line">
                <a:avLst/>
              </a:prstGeom>
              <a:ln w="158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 rot="10800000">
                <a:off x="63000" y="3359160"/>
                <a:ext cx="364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未知"/>
            <p:cNvSpPr/>
            <p:nvPr/>
          </p:nvSpPr>
          <p:spPr>
            <a:xfrm>
              <a:off x="424440" y="3357720"/>
              <a:ext cx="102600" cy="136440"/>
            </a:xfrm>
            <a:custGeom>
              <a:avLst/>
              <a:gdLst/>
              <a:ahLst/>
              <a:rect l="l" t="t" r="r" b="b"/>
              <a:pathLst>
                <a:path w="65" h="86">
                  <a:moveTo>
                    <a:pt x="0" y="0"/>
                  </a:moveTo>
                  <a:cubicBezTo>
                    <a:pt x="9" y="4"/>
                    <a:pt x="6" y="10"/>
                    <a:pt x="15" y="12"/>
                  </a:cubicBezTo>
                  <a:cubicBezTo>
                    <a:pt x="18" y="20"/>
                    <a:pt x="19" y="20"/>
                    <a:pt x="27" y="23"/>
                  </a:cubicBezTo>
                  <a:cubicBezTo>
                    <a:pt x="29" y="29"/>
                    <a:pt x="30" y="32"/>
                    <a:pt x="36" y="35"/>
                  </a:cubicBezTo>
                  <a:cubicBezTo>
                    <a:pt x="40" y="40"/>
                    <a:pt x="43" y="40"/>
                    <a:pt x="47" y="45"/>
                  </a:cubicBezTo>
                  <a:cubicBezTo>
                    <a:pt x="49" y="71"/>
                    <a:pt x="49" y="52"/>
                    <a:pt x="56" y="66"/>
                  </a:cubicBezTo>
                  <a:cubicBezTo>
                    <a:pt x="57" y="74"/>
                    <a:pt x="56" y="77"/>
                    <a:pt x="63" y="80"/>
                  </a:cubicBezTo>
                  <a:cubicBezTo>
                    <a:pt x="65" y="85"/>
                    <a:pt x="65" y="83"/>
                    <a:pt x="65" y="86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565200" y="3362400"/>
              <a:ext cx="112320" cy="13320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69" y="0"/>
                  </a:moveTo>
                  <a:cubicBezTo>
                    <a:pt x="65" y="10"/>
                    <a:pt x="71" y="21"/>
                    <a:pt x="61" y="27"/>
                  </a:cubicBezTo>
                  <a:cubicBezTo>
                    <a:pt x="59" y="37"/>
                    <a:pt x="62" y="55"/>
                    <a:pt x="52" y="57"/>
                  </a:cubicBezTo>
                  <a:cubicBezTo>
                    <a:pt x="49" y="62"/>
                    <a:pt x="49" y="67"/>
                    <a:pt x="46" y="72"/>
                  </a:cubicBezTo>
                  <a:cubicBezTo>
                    <a:pt x="38" y="71"/>
                    <a:pt x="39" y="67"/>
                    <a:pt x="33" y="63"/>
                  </a:cubicBezTo>
                  <a:cubicBezTo>
                    <a:pt x="30" y="58"/>
                    <a:pt x="27" y="56"/>
                    <a:pt x="25" y="51"/>
                  </a:cubicBezTo>
                  <a:cubicBezTo>
                    <a:pt x="23" y="38"/>
                    <a:pt x="25" y="38"/>
                    <a:pt x="10" y="39"/>
                  </a:cubicBezTo>
                  <a:cubicBezTo>
                    <a:pt x="8" y="51"/>
                    <a:pt x="18" y="72"/>
                    <a:pt x="4" y="77"/>
                  </a:cubicBezTo>
                  <a:cubicBezTo>
                    <a:pt x="0" y="82"/>
                    <a:pt x="1" y="79"/>
                    <a:pt x="1" y="84"/>
                  </a:cubicBez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dt" idx="16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7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8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2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4ABE-74D9-4100-B5B0-67DD78905045}" type="slidenum">
              <a:rPr b="0" lang="zh-CN" sz="1400" spc="-1" strike="noStrike">
                <a:solidFill>
                  <a:srgbClr val="333329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C:\Users\dongzhi\Desktop\&#38050;&#38081;&#26159;&#36825;&#26679;&#28860;&#25104;&#26368;&#26032;\&#21160;&#30011;&#25104;&#35821;&#25925;&#20107;----&#21351;&#34218;&#23581;&#32966;.flv" TargetMode="External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6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WordArt 3"/>
          <p:cNvSpPr txBox="1"/>
          <p:nvPr/>
        </p:nvSpPr>
        <p:spPr>
          <a:xfrm>
            <a:off x="1233360" y="1339920"/>
            <a:ext cx="6912000" cy="104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55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钢铁是这样炼成的课件</a:t>
            </a:r>
            <a:r>
              <a:rPr b="1" lang="en-US" sz="4000" spc="1" strike="noStrike">
                <a:ln w="255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PPT</a:t>
            </a:r>
            <a:r>
              <a:rPr b="1" lang="zh-CN" sz="4000" spc="1" strike="noStrike">
                <a:ln w="25560">
                  <a:solidFill>
                    <a:srgbClr val="ff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模板下载</a:t>
            </a:r>
            <a:endParaRPr b="1" lang="en-US" sz="4000" spc="1" strike="noStrike">
              <a:ln w="25560">
                <a:solidFill>
                  <a:srgbClr val="ff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900000" y="33289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本课中的“钢铁”指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042920" y="4308480"/>
            <a:ext cx="34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坚强的意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720" y="98100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为了把功课学好，主动放弃了玩游戏机、看武侠小说、打扑克之类的兴趣爱好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为了及时完成某项作业，能够废寝忘食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在受到别人的批评时，不抵触、不气馁，能接受意见反思自身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重要的事情即使不感兴趣也会认真做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3"/>
          <p:cNvSpPr/>
          <p:nvPr/>
        </p:nvSpPr>
        <p:spPr>
          <a:xfrm>
            <a:off x="324000" y="1844640"/>
            <a:ext cx="64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6"/>
          <p:cNvSpPr/>
          <p:nvPr/>
        </p:nvSpPr>
        <p:spPr>
          <a:xfrm>
            <a:off x="900000" y="1557360"/>
            <a:ext cx="216000" cy="417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8720 h 4176720"/>
              <a:gd name="textAreaBottom" fmla="*/ 4068000 h 41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1116000" y="19890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志坚强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1116000" y="4437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志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薄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表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6"/>
          <p:cNvSpPr/>
          <p:nvPr/>
        </p:nvSpPr>
        <p:spPr>
          <a:xfrm>
            <a:off x="3132000" y="155736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8"/>
          <p:cNvSpPr/>
          <p:nvPr/>
        </p:nvSpPr>
        <p:spPr>
          <a:xfrm>
            <a:off x="3564000" y="1413000"/>
            <a:ext cx="547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）有目标能抵制诱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）正视弱点勇于克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）遇到困难想方设法善始善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3637080" y="400536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3564000" y="1484280"/>
            <a:ext cx="75960" cy="1584360"/>
          </a:xfrm>
          <a:custGeom>
            <a:avLst/>
            <a:gdLst>
              <a:gd name="textAreaLeft" fmla="*/ 48600 w 75960"/>
              <a:gd name="textAreaRight" fmla="*/ 76320 w 759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3492360" y="3860640"/>
            <a:ext cx="5832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）无目标易受诱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）回避弱点沮丧自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）遇到困难唉声叹气、半途而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11"/>
          <p:cNvSpPr txBox="1"/>
          <p:nvPr/>
        </p:nvSpPr>
        <p:spPr>
          <a:xfrm rot="93600">
            <a:off x="468000" y="117000"/>
            <a:ext cx="44100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16344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幼圆"/>
              </a:rPr>
              <a:t>小结：意志品质的表现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16344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4"/>
          <p:cNvSpPr/>
          <p:nvPr/>
        </p:nvSpPr>
        <p:spPr>
          <a:xfrm>
            <a:off x="468360" y="126828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阅读教材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P7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齐白石“化石为泥”的故事，思考以下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齐白石的篆刻艺术为什么能达到炉火纯青的境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这给我们什么启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357120" y="30718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357120" y="285840"/>
            <a:ext cx="72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</a:rPr>
              <a:t>二、磨砺意志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C:\Documents and Settings\q\My Documents\My Pictures\政治素材\齐白石\齐白石.jpg"/>
          <p:cNvPicPr/>
          <p:nvPr/>
        </p:nvPicPr>
        <p:blipFill>
          <a:blip r:embed="rId2"/>
          <a:stretch/>
        </p:blipFill>
        <p:spPr>
          <a:xfrm>
            <a:off x="324000" y="4005360"/>
            <a:ext cx="2089080" cy="2666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C:\Documents and Settings\q\My Documents\My Pictures\政治素材\齐白石\u=3976166816,636591954&amp;fm=0&amp;gp=32.jpg"/>
          <p:cNvPicPr/>
          <p:nvPr/>
        </p:nvPicPr>
        <p:blipFill>
          <a:blip r:embed="rId3"/>
          <a:stretch/>
        </p:blipFill>
        <p:spPr>
          <a:xfrm>
            <a:off x="5653080" y="393372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7" descr="C:\Documents and Settings\q\My Documents\My Pictures\政治素材\齐白石\篆刻.jpg"/>
          <p:cNvPicPr/>
          <p:nvPr/>
        </p:nvPicPr>
        <p:blipFill>
          <a:blip r:embed="rId4"/>
          <a:stretch/>
        </p:blipFill>
        <p:spPr>
          <a:xfrm>
            <a:off x="2771640" y="3933720"/>
            <a:ext cx="27054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468360" y="126828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）齐白石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坚持不懈的坚强意志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是他把一担础石刻成泥浆的精神保障。这让他克服了重重困难，最后也使他的篆刻艺术达到炉火纯青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）坚强意志是克服困难的必要条件，是行动的强大动力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一个人在事业上能否成功，关键在于其是否具有坚强的意志。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而坚强的意志，是磨砺出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Object 2" descr=""/>
          <p:cNvPicPr/>
          <p:nvPr/>
        </p:nvPicPr>
        <p:blipFill>
          <a:blip r:embed="rId1"/>
          <a:stretch/>
        </p:blipFill>
        <p:spPr>
          <a:xfrm>
            <a:off x="3809880" y="3581280"/>
            <a:ext cx="1752840" cy="2590920"/>
          </a:xfrm>
          <a:prstGeom prst="rect">
            <a:avLst/>
          </a:prstGeom>
          <a:ln w="0">
            <a:noFill/>
          </a:ln>
        </p:spPr>
      </p:pic>
      <p:pic>
        <p:nvPicPr>
          <p:cNvPr id="359" name="Object 3" descr=""/>
          <p:cNvPicPr/>
          <p:nvPr/>
        </p:nvPicPr>
        <p:blipFill>
          <a:blip r:embed="rId2"/>
          <a:stretch/>
        </p:blipFill>
        <p:spPr>
          <a:xfrm>
            <a:off x="-15840" y="2349360"/>
            <a:ext cx="2651040" cy="3962520"/>
          </a:xfrm>
          <a:prstGeom prst="rect">
            <a:avLst/>
          </a:prstGeom>
          <a:ln w="0">
            <a:noFill/>
          </a:ln>
        </p:spPr>
      </p:pic>
      <p:pic>
        <p:nvPicPr>
          <p:cNvPr id="360" name="Object 4" descr=""/>
          <p:cNvPicPr/>
          <p:nvPr/>
        </p:nvPicPr>
        <p:blipFill>
          <a:blip r:embed="rId3"/>
          <a:stretch/>
        </p:blipFill>
        <p:spPr>
          <a:xfrm>
            <a:off x="4191120" y="685800"/>
            <a:ext cx="761760" cy="2905200"/>
          </a:xfrm>
          <a:prstGeom prst="rect">
            <a:avLst/>
          </a:prstGeom>
          <a:ln w="0">
            <a:noFill/>
          </a:ln>
        </p:spPr>
      </p:pic>
      <p:pic>
        <p:nvPicPr>
          <p:cNvPr id="361" name="Object 5" descr=""/>
          <p:cNvPicPr/>
          <p:nvPr/>
        </p:nvPicPr>
        <p:blipFill>
          <a:blip r:embed="rId4"/>
          <a:stretch/>
        </p:blipFill>
        <p:spPr>
          <a:xfrm>
            <a:off x="3276720" y="380880"/>
            <a:ext cx="3429000" cy="6019920"/>
          </a:xfrm>
          <a:prstGeom prst="rect">
            <a:avLst/>
          </a:prstGeom>
          <a:ln w="0">
            <a:noFill/>
          </a:ln>
        </p:spPr>
      </p:pic>
      <p:pic>
        <p:nvPicPr>
          <p:cNvPr id="362" name="Object 6" descr=""/>
          <p:cNvPicPr/>
          <p:nvPr/>
        </p:nvPicPr>
        <p:blipFill>
          <a:blip r:embed="rId5"/>
          <a:stretch/>
        </p:blipFill>
        <p:spPr>
          <a:xfrm>
            <a:off x="2819520" y="3276720"/>
            <a:ext cx="761760" cy="2904840"/>
          </a:xfrm>
          <a:prstGeom prst="rect">
            <a:avLst/>
          </a:prstGeom>
          <a:ln w="0">
            <a:noFill/>
          </a:ln>
        </p:spPr>
      </p:pic>
      <p:sp>
        <p:nvSpPr>
          <p:cNvPr id="363" name="AutoShape 7"/>
          <p:cNvSpPr/>
          <p:nvPr/>
        </p:nvSpPr>
        <p:spPr>
          <a:xfrm>
            <a:off x="5867280" y="2209680"/>
            <a:ext cx="3276720" cy="1676520"/>
          </a:xfrm>
          <a:prstGeom prst="wedgeEllipseCallout">
            <a:avLst>
              <a:gd name="adj1" fmla="val -54212"/>
              <a:gd name="adj2" fmla="val -1018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唉哟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Object 3" descr=""/>
          <p:cNvPicPr/>
          <p:nvPr/>
        </p:nvPicPr>
        <p:blipFill>
          <a:blip r:embed="rId1"/>
          <a:stretch/>
        </p:blipFill>
        <p:spPr>
          <a:xfrm>
            <a:off x="6948360" y="3141720"/>
            <a:ext cx="819360" cy="2876400"/>
          </a:xfrm>
          <a:prstGeom prst="rect">
            <a:avLst/>
          </a:prstGeom>
          <a:ln w="0">
            <a:noFill/>
          </a:ln>
        </p:spPr>
      </p:pic>
      <p:pic>
        <p:nvPicPr>
          <p:cNvPr id="365" name="Object 4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1752840" cy="2590920"/>
          </a:xfrm>
          <a:prstGeom prst="rect">
            <a:avLst/>
          </a:prstGeom>
          <a:ln w="0">
            <a:noFill/>
          </a:ln>
        </p:spPr>
      </p:pic>
      <p:pic>
        <p:nvPicPr>
          <p:cNvPr id="366" name="Object 6" descr=""/>
          <p:cNvPicPr/>
          <p:nvPr/>
        </p:nvPicPr>
        <p:blipFill>
          <a:blip r:embed="rId3"/>
          <a:stretch/>
        </p:blipFill>
        <p:spPr>
          <a:xfrm>
            <a:off x="3276720" y="1371600"/>
            <a:ext cx="2671560" cy="39625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7"/>
          <p:cNvSpPr/>
          <p:nvPr/>
        </p:nvSpPr>
        <p:spPr>
          <a:xfrm>
            <a:off x="5486400" y="457200"/>
            <a:ext cx="3657600" cy="1447920"/>
          </a:xfrm>
          <a:prstGeom prst="wedgeEllipseCallout">
            <a:avLst>
              <a:gd name="adj1" fmla="val -50087"/>
              <a:gd name="adj2" fmla="val 1023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看我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755640" y="112392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必须树立明确的目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1044720" y="5373720"/>
            <a:ext cx="6983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没有目标的努力，就像在黑暗中远征</a:t>
            </a:r>
            <a:endParaRPr b="0" lang="en-US" sz="28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0" name="Picture 6" descr="漫话锻炼意志"/>
          <p:cNvPicPr/>
          <p:nvPr/>
        </p:nvPicPr>
        <p:blipFill>
          <a:blip r:embed="rId2"/>
          <a:stretch/>
        </p:blipFill>
        <p:spPr>
          <a:xfrm>
            <a:off x="5219640" y="2349360"/>
            <a:ext cx="3616560" cy="27324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9"/>
          <p:cNvSpPr/>
          <p:nvPr/>
        </p:nvSpPr>
        <p:spPr>
          <a:xfrm>
            <a:off x="250920" y="2349360"/>
            <a:ext cx="4824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396720" y="2421000"/>
            <a:ext cx="46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树立明确的目标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是 战胜困难和挫折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前提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；如果没有明确的目标和坚定的信念，就不可能取得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203640" y="333360"/>
            <a:ext cx="18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方法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2124000" y="260280"/>
            <a:ext cx="46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《马和驴子的故事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539640" y="836640"/>
            <a:ext cx="813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唐太宗贞观年间，长安城西的一家磨坊里，有一匹马和一头驴子，它们是好朋友，马在外面拉东西，驴子在屋里推磨。贞观四年，这匹马被玄奘大师选中前往印度取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３年后，这匹马驮着佛经回到长安，又见到驴子，老马谈起这次旅途的曲折经历，那神话般的境界，使驴子听了大为惊异，驴子充满感慨的说：“你有多么丰富的见闻呀！那么遥远的路，我连想都不敢想。老马说，“其实，我们跨过的步子是大体相等的，当我前去取经的时候，你也一步没停止。不同的是，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我同玄奘大师有一个遥远的目标，按照始终如一的方向前进，所以我们打开了一个广阔的世界。而你被蒙住了眼睛，一生就围住磨盘打转，所以永远也走不出这个狭隘的天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在这个故事里，马和驴子的区别是什么？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这给我们什么启示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55640" y="609300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磨砺坚强的意志必须树立明确的目标，并为之不懈奋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漫话锻炼意志"/>
          <p:cNvPicPr/>
          <p:nvPr/>
        </p:nvPicPr>
        <p:blipFill>
          <a:blip r:embed="rId2"/>
          <a:stretch/>
        </p:blipFill>
        <p:spPr>
          <a:xfrm>
            <a:off x="4500720" y="1484280"/>
            <a:ext cx="4495680" cy="341964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4"/>
          <p:cNvSpPr/>
          <p:nvPr/>
        </p:nvSpPr>
        <p:spPr>
          <a:xfrm>
            <a:off x="3632040" y="620640"/>
            <a:ext cx="77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细微之处做起，从小事做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24000" y="5300640"/>
            <a:ext cx="838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从这两幅画中你看到了什么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?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两者的最大区别是什么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7" descr="意志"/>
          <p:cNvPicPr/>
          <p:nvPr/>
        </p:nvPicPr>
        <p:blipFill>
          <a:blip r:embed="rId3"/>
          <a:stretch/>
        </p:blipFill>
        <p:spPr>
          <a:xfrm>
            <a:off x="324000" y="1484280"/>
            <a:ext cx="4111560" cy="342900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8198"/>
          <p:cNvSpPr/>
          <p:nvPr/>
        </p:nvSpPr>
        <p:spPr>
          <a:xfrm>
            <a:off x="766800" y="11494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WordArt 6"/>
          <p:cNvSpPr txBox="1"/>
          <p:nvPr/>
        </p:nvSpPr>
        <p:spPr>
          <a:xfrm>
            <a:off x="1836720" y="404640"/>
            <a:ext cx="5616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新宋体"/>
              </a:rPr>
              <a:t>名人有啥不一样</a:t>
            </a:r>
            <a:endParaRPr b="1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新宋体"/>
              <a:ea typeface="新宋体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39640" y="1650960"/>
          <a:ext cx="8353440" cy="2625840"/>
        </p:xfrm>
        <a:graphic>
          <a:graphicData uri="http://schemas.openxmlformats.org/drawingml/2006/table">
            <a:tbl>
              <a:tblPr/>
              <a:tblGrid>
                <a:gridCol w="1655640"/>
                <a:gridCol w="1703520"/>
                <a:gridCol w="3884760"/>
                <a:gridCol w="1109520"/>
              </a:tblGrid>
              <a:tr h="690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周恩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外交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看镜子练嘴形一个小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每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梅兰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戏曲名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放鸽子练眼神一个小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每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邓亚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世界冠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比队友多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每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姚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篮球明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捡球  练球  端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经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Text Box 30"/>
          <p:cNvSpPr/>
          <p:nvPr/>
        </p:nvSpPr>
        <p:spPr>
          <a:xfrm>
            <a:off x="826920" y="4581360"/>
            <a:ext cx="760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从以上名人的做法我们可以领悟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1"/>
          <p:cNvSpPr/>
          <p:nvPr/>
        </p:nvSpPr>
        <p:spPr>
          <a:xfrm>
            <a:off x="539640" y="522936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部分有成就的人，大多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从细微之处做起，从小事做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来磨练自己的意志，从而成就一番事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WordArt 2"/>
          <p:cNvSpPr txBox="1"/>
          <p:nvPr/>
        </p:nvSpPr>
        <p:spPr>
          <a:xfrm>
            <a:off x="612720" y="549360"/>
            <a:ext cx="3200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复习旧课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-77400" y="2276640"/>
            <a:ext cx="115524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26de"/>
                </a:solidFill>
                <a:latin typeface="Arial"/>
                <a:ea typeface="宋体"/>
              </a:rPr>
              <a:t>让我们选择坚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"/>
          <p:cNvSpPr/>
          <p:nvPr/>
        </p:nvSpPr>
        <p:spPr>
          <a:xfrm>
            <a:off x="1042920" y="2133720"/>
            <a:ext cx="289080" cy="4032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104760 h 4032000"/>
              <a:gd name="textAreaBottom" fmla="*/ 3927240 h 40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163520" y="234936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意志坚强的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6"/>
          <p:cNvSpPr/>
          <p:nvPr/>
        </p:nvSpPr>
        <p:spPr>
          <a:xfrm>
            <a:off x="3995640" y="1413000"/>
            <a:ext cx="76320" cy="2089080"/>
          </a:xfrm>
          <a:custGeom>
            <a:avLst/>
            <a:gdLst>
              <a:gd name="textAreaLeft" fmla="*/ 48960 w 76320"/>
              <a:gd name="textAreaRight" fmla="*/ 76320 w 7632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284720" y="1197000"/>
            <a:ext cx="360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富有主见－自觉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处事果断－果断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坚持不懈－坚韧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善于自制－自制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758960" y="4869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意志坚强的作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9"/>
          <p:cNvSpPr/>
          <p:nvPr/>
        </p:nvSpPr>
        <p:spPr>
          <a:xfrm>
            <a:off x="3924360" y="393372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9760 h 2305080"/>
              <a:gd name="textAreaBottom" fmla="*/ 224532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4213080" y="3860640"/>
            <a:ext cx="3743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坚定正确的人生方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走出失败的阴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形成良好的习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26de"/>
                </a:solidFill>
                <a:latin typeface="Arial"/>
                <a:ea typeface="宋体"/>
              </a:rPr>
              <a:t>成就一番事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178920" y="981000"/>
            <a:ext cx="87138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古人说：“合抱之木，生于毫末；九尺高台，起于垒土；千里之行，始于足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古诗说：“明日复明日，明日何其多，我生待明日，万事成蹉跎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两句话告诉我们什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道理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539640" y="4076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这两句话教育我们做任何事情，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都要从细微之处做起，由小及大，不可能一蹴而就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这样才能磨砺出坚强的意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3"/>
          <p:cNvSpPr/>
          <p:nvPr/>
        </p:nvSpPr>
        <p:spPr>
          <a:xfrm>
            <a:off x="755640" y="1413000"/>
            <a:ext cx="8064360" cy="40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从今天开始，我们可以尝试从身边的小事做起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爱睡懒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有明日复明日的习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没有看书的习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贪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3851280" y="1989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从明天开始坚持按时起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719280" y="263700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今日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今日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作为座名铭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而且说到做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900000" y="53737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强迫自己每天按时复习功课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完成作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WordArt 9"/>
          <p:cNvSpPr txBox="1"/>
          <p:nvPr/>
        </p:nvSpPr>
        <p:spPr>
          <a:xfrm>
            <a:off x="2844720" y="333360"/>
            <a:ext cx="273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症下药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93" name="Text Box 10"/>
          <p:cNvSpPr/>
          <p:nvPr/>
        </p:nvSpPr>
        <p:spPr>
          <a:xfrm>
            <a:off x="826920" y="378936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                                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每天强迫自己看一小时的书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不看完就不罢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4"/>
          <p:cNvSpPr/>
          <p:nvPr/>
        </p:nvSpPr>
        <p:spPr>
          <a:xfrm>
            <a:off x="539640" y="620640"/>
            <a:ext cx="806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磨砺坚强的意志，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善于管理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五一放假三天，各科老师都给学生布置了作业，小明下定决心全力以赴，认真完成所有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可是放假第一天，小明去参加了小学同学聚会，玩的很开心；第二天他的家人要去乡村一日游，实在是不错的主意，不去白不去；最后一天，小明感觉很累，一觉睡到下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99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262626"/>
                </a:solidFill>
                <a:latin typeface="宋体"/>
              </a:rPr>
              <a:t>思考</a:t>
            </a:r>
            <a:r>
              <a:rPr b="0" lang="en-US" sz="2800" spc="-1" strike="noStrike">
                <a:solidFill>
                  <a:srgbClr val="262626"/>
                </a:solidFill>
                <a:latin typeface="宋体"/>
              </a:rPr>
              <a:t>:</a:t>
            </a:r>
            <a:r>
              <a:rPr b="0" lang="zh-CN" sz="2800" spc="-1" strike="noStrike">
                <a:solidFill>
                  <a:srgbClr val="262626"/>
                </a:solidFill>
                <a:latin typeface="宋体"/>
              </a:rPr>
              <a:t>大家猜猜假期结束小明返校时会发生什么状况</a:t>
            </a:r>
            <a:r>
              <a:rPr b="0" lang="en-US" sz="2800" spc="-1" strike="noStrike">
                <a:solidFill>
                  <a:srgbClr val="262626"/>
                </a:solidFill>
                <a:latin typeface="宋体"/>
              </a:rPr>
              <a:t>?</a:t>
            </a:r>
            <a:r>
              <a:rPr b="0" lang="zh-CN" sz="2800" spc="-1" strike="noStrike">
                <a:solidFill>
                  <a:srgbClr val="262626"/>
                </a:solidFill>
                <a:latin typeface="宋体"/>
              </a:rPr>
              <a:t>你认为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主要原因</a:t>
            </a:r>
            <a:r>
              <a:rPr b="0" lang="zh-CN" sz="2800" spc="-1" strike="noStrike">
                <a:solidFill>
                  <a:srgbClr val="262626"/>
                </a:solidFill>
                <a:latin typeface="宋体"/>
              </a:rPr>
              <a:t>是什么</a:t>
            </a:r>
            <a:r>
              <a:rPr b="0" lang="en-US" sz="2800" spc="-1" strike="noStrike">
                <a:solidFill>
                  <a:srgbClr val="262626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900000" y="580536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没有制定一个合理的计划，没有管理好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108000" y="980640"/>
            <a:ext cx="885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案例二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请同学们阅读教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相关链接”中的“富兰克林的故事”，并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从故事中我们能看出富兰克林成功的秘诀是什么？从中我们学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24000" y="3068640"/>
            <a:ext cx="4103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成功的秘诀在于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善于管理自己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。富兰克林为自己制定了一个切实可行的工作计划，并按计划严格执行，长期坚持，磨练出坚强的意志。最后成为了一名伟大的科学家、政治家、文学家和思想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franklin"/>
          <p:cNvPicPr/>
          <p:nvPr/>
        </p:nvPicPr>
        <p:blipFill>
          <a:blip r:embed="rId2"/>
          <a:stretch/>
        </p:blipFill>
        <p:spPr>
          <a:xfrm>
            <a:off x="4572000" y="3068640"/>
            <a:ext cx="42130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3"/>
          <p:cNvSpPr/>
          <p:nvPr/>
        </p:nvSpPr>
        <p:spPr>
          <a:xfrm>
            <a:off x="396720" y="117360"/>
            <a:ext cx="8496360" cy="53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　　　　 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富兰克林的时间表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5---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起床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盥洗，祷告，读书，早餐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这段时间里，他给自己提出一个很有意义的问题：“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我这一天将做一些什么有益的事？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８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---11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工作，切实执行订好的一天工作计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12---13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读书或查账目，吃午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14---17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把未做好的工作迅速完成，仔细检查已做好的工作，有错的地方立即改正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18---21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整理房间，晚餐，音乐，娱乐或聊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在这段时间里，他向自己提出一个能帮助自己反省的问题：“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我今天做了什么有益的事？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22---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次日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4</a:t>
            </a:r>
            <a:r>
              <a:rPr b="1" lang="zh-CN" sz="26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en-US" sz="26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睡眠，好好地睡眠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3"/>
          <p:cNvSpPr/>
          <p:nvPr/>
        </p:nvSpPr>
        <p:spPr>
          <a:xfrm>
            <a:off x="396720" y="62064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</a:t>
            </a:r>
            <a:r>
              <a:rPr b="0" lang="en-US" sz="4000" spc="-1" strike="noStrike">
                <a:solidFill>
                  <a:srgbClr val="0033cc"/>
                </a:solidFill>
                <a:latin typeface="宋体"/>
              </a:rPr>
              <a:t>4</a:t>
            </a:r>
            <a:r>
              <a:rPr b="0" lang="zh-CN" sz="4000" spc="-1" strike="noStrike">
                <a:solidFill>
                  <a:srgbClr val="0033cc"/>
                </a:solidFill>
                <a:latin typeface="宋体"/>
              </a:rPr>
              <a:t>、要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主动在艰苦的环境中锻炼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612720" y="1773360"/>
            <a:ext cx="79930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　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zh-CN" sz="32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卧薪尝胆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”的故事中，越王勾践为什么能打败吴国？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5" descr="erate02.gif (9785 字节)"/>
          <p:cNvPicPr/>
          <p:nvPr/>
        </p:nvPicPr>
        <p:blipFill>
          <a:blip r:embed="rId3"/>
          <a:stretch/>
        </p:blipFill>
        <p:spPr>
          <a:xfrm>
            <a:off x="6948360" y="4653000"/>
            <a:ext cx="1800360" cy="172872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6"/>
          <p:cNvSpPr/>
          <p:nvPr/>
        </p:nvSpPr>
        <p:spPr>
          <a:xfrm>
            <a:off x="1023840" y="4875120"/>
            <a:ext cx="340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468360" y="342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越王勾践最终打败吴国，与他平时的刻苦锻炼是分不开的。在艰苦的环境中锻炼自己有利于磨砺我们的意志，从而使我们迈过失败这道坎，走向成功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252360" y="5373720"/>
            <a:ext cx="84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4000" spc="-1" strike="noStrike">
                <a:solidFill>
                  <a:srgbClr val="0070c0"/>
                </a:solidFill>
                <a:latin typeface="Arial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作为一个飞行员，意志比技术更重要，恶劣的环境正好磨砺意志”。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2" descr="u=2790099181,3469300567&amp;fm=0&amp;gp=0"/>
          <p:cNvPicPr/>
          <p:nvPr/>
        </p:nvPicPr>
        <p:blipFill>
          <a:blip r:embed="rId2"/>
          <a:stretch/>
        </p:blipFill>
        <p:spPr>
          <a:xfrm>
            <a:off x="468360" y="1628640"/>
            <a:ext cx="2998800" cy="352764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13"/>
          <p:cNvSpPr/>
          <p:nvPr/>
        </p:nvSpPr>
        <p:spPr>
          <a:xfrm>
            <a:off x="324000" y="404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阅读教材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思考：是什么促使杨利伟成为“中国飞天第一人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4"/>
          <p:cNvSpPr/>
          <p:nvPr/>
        </p:nvSpPr>
        <p:spPr>
          <a:xfrm>
            <a:off x="3564000" y="2133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主要原因是他平时能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刻苦地坚持训练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恶劣的环境磨砺了他的坚强意志，凭借坚强的意志和娴熟的技术，使他最终走向了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324000" y="1989000"/>
            <a:ext cx="84960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青少年应当尽可能地去寻找艰苦的生活锻炼自己。比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１、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适当干一些体力劳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２、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主动承担 “苦差事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３、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宋体"/>
              </a:rPr>
              <a:t>在安全的情况下进行爬山或探险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４、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参加一些训练耐力的体育活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５、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参加体验艰苦的夏令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６、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承担需要用坚韧不拔的毅力才能完成的社区服务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324000" y="765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觉地、适当地在艰苦的生活环境中锻炼自己，对于一个人的健康成长是十分有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Oval 2"/>
          <p:cNvSpPr/>
          <p:nvPr/>
        </p:nvSpPr>
        <p:spPr>
          <a:xfrm>
            <a:off x="468360" y="1917720"/>
            <a:ext cx="20574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建立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"/>
          <p:cNvSpPr/>
          <p:nvPr/>
        </p:nvSpPr>
        <p:spPr>
          <a:xfrm>
            <a:off x="3708360" y="1989000"/>
            <a:ext cx="20574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标具体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4"/>
          <p:cNvSpPr/>
          <p:nvPr/>
        </p:nvSpPr>
        <p:spPr>
          <a:xfrm>
            <a:off x="6804000" y="1989000"/>
            <a:ext cx="205740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调整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实现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2340000" y="3284640"/>
            <a:ext cx="426708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确定行动方向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如提高英语成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2340000" y="4365720"/>
            <a:ext cx="4267080" cy="93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将目标具体化制定可测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和评价的标准。如：每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记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个单词，阅读一篇范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7"/>
          <p:cNvSpPr/>
          <p:nvPr/>
        </p:nvSpPr>
        <p:spPr>
          <a:xfrm>
            <a:off x="2268360" y="5518080"/>
            <a:ext cx="4267440" cy="1008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用制定的标准评估自己的实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情况。如果是目标定得太高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就要调整目标，再努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8"/>
          <p:cNvSpPr/>
          <p:nvPr/>
        </p:nvSpPr>
        <p:spPr>
          <a:xfrm>
            <a:off x="1836720" y="4724280"/>
            <a:ext cx="380880" cy="1295640"/>
          </a:xfrm>
          <a:custGeom>
            <a:avLst/>
            <a:gdLst>
              <a:gd name="textAreaLeft" fmla="*/ 50760 w 380880"/>
              <a:gd name="textAreaRight" fmla="*/ 330120 w 38088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3443"/>
                <a:lnTo>
                  <a:pt x="14403" y="21168"/>
                </a:lnTo>
                <a:lnTo>
                  <a:pt x="21600" y="17280"/>
                </a:lnTo>
                <a:lnTo>
                  <a:pt x="14403" y="12528"/>
                </a:lnTo>
                <a:lnTo>
                  <a:pt x="14403" y="14688"/>
                </a:lnTo>
                <a:arcTo wR="21600" hR="7560" stAng="8116557" swAng="232600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9"/>
          <p:cNvSpPr/>
          <p:nvPr/>
        </p:nvSpPr>
        <p:spPr>
          <a:xfrm>
            <a:off x="1692360" y="3357720"/>
            <a:ext cx="457200" cy="1295280"/>
          </a:xfrm>
          <a:custGeom>
            <a:avLst/>
            <a:gdLst>
              <a:gd name="textAreaLeft" fmla="*/ 61200 w 457200"/>
              <a:gd name="textAreaRight" fmla="*/ 396000 w 45720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3443"/>
                <a:lnTo>
                  <a:pt x="14403" y="21168"/>
                </a:lnTo>
                <a:lnTo>
                  <a:pt x="21600" y="17280"/>
                </a:lnTo>
                <a:lnTo>
                  <a:pt x="14403" y="12528"/>
                </a:lnTo>
                <a:lnTo>
                  <a:pt x="14403" y="14688"/>
                </a:lnTo>
                <a:arcTo wR="21600" hR="7560" stAng="8116557" swAng="2326008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0" descr="4"/>
          <p:cNvPicPr/>
          <p:nvPr/>
        </p:nvPicPr>
        <p:blipFill>
          <a:blip r:embed="rId1"/>
          <a:stretch/>
        </p:blipFill>
        <p:spPr>
          <a:xfrm>
            <a:off x="7238880" y="47242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4"/>
          <p:cNvPicPr/>
          <p:nvPr/>
        </p:nvPicPr>
        <p:blipFill>
          <a:blip r:embed="rId2"/>
          <a:stretch/>
        </p:blipFill>
        <p:spPr>
          <a:xfrm>
            <a:off x="6732720" y="278136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2" descr="4"/>
          <p:cNvPicPr/>
          <p:nvPr/>
        </p:nvPicPr>
        <p:blipFill>
          <a:blip r:embed="rId3"/>
          <a:stretch/>
        </p:blipFill>
        <p:spPr>
          <a:xfrm>
            <a:off x="0" y="36576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22" name="WordArt 13"/>
          <p:cNvSpPr txBox="1"/>
          <p:nvPr/>
        </p:nvSpPr>
        <p:spPr>
          <a:xfrm>
            <a:off x="380880" y="304920"/>
            <a:ext cx="8229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让我们行动起来，制订一个目标明确的意志锻炼计划</a:t>
            </a:r>
            <a:endParaRPr b="0" lang="en-US" sz="1800" spc="-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3" name="AutoShape 14"/>
          <p:cNvSpPr/>
          <p:nvPr/>
        </p:nvSpPr>
        <p:spPr>
          <a:xfrm>
            <a:off x="2700360" y="220500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AutoShape 15"/>
          <p:cNvSpPr/>
          <p:nvPr/>
        </p:nvSpPr>
        <p:spPr>
          <a:xfrm>
            <a:off x="5796000" y="2276640"/>
            <a:ext cx="976320" cy="485640"/>
          </a:xfrm>
          <a:prstGeom prst="rightArrow">
            <a:avLst>
              <a:gd name="adj1" fmla="val 50000"/>
              <a:gd name="adj2" fmla="val 5023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6"/>
          <p:cNvSpPr/>
          <p:nvPr/>
        </p:nvSpPr>
        <p:spPr>
          <a:xfrm>
            <a:off x="396720" y="119700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教材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P8</a:t>
            </a: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5"/>
          <p:cNvSpPr/>
          <p:nvPr/>
        </p:nvSpPr>
        <p:spPr>
          <a:xfrm>
            <a:off x="612720" y="620640"/>
            <a:ext cx="936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1332000" y="836640"/>
            <a:ext cx="234720" cy="4681440"/>
          </a:xfrm>
          <a:custGeom>
            <a:avLst/>
            <a:gdLst>
              <a:gd name="textAreaLeft" fmla="*/ 150120 w 234720"/>
              <a:gd name="textAreaRight" fmla="*/ 235080 w 234720"/>
              <a:gd name="textAreaTop" fmla="*/ 155520 h 4681440"/>
              <a:gd name="textAreaBottom" fmla="*/ 4525920 h 46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8"/>
                  <a:pt x="10800" y="2296"/>
                </a:cubicBezTo>
                <a:lnTo>
                  <a:pt x="10800" y="8504"/>
                </a:lnTo>
                <a:cubicBezTo>
                  <a:pt x="10800" y="9652"/>
                  <a:pt x="5400" y="10800"/>
                  <a:pt x="0" y="10800"/>
                </a:cubicBezTo>
                <a:cubicBezTo>
                  <a:pt x="5400" y="10800"/>
                  <a:pt x="10800" y="11948"/>
                  <a:pt x="10800" y="13096"/>
                </a:cubicBezTo>
                <a:lnTo>
                  <a:pt x="10800" y="19304"/>
                </a:lnTo>
                <a:cubicBezTo>
                  <a:pt x="10800" y="2045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3"/>
          <p:cNvSpPr/>
          <p:nvPr/>
        </p:nvSpPr>
        <p:spPr>
          <a:xfrm>
            <a:off x="2340000" y="112392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必须树立明确的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2268360" y="2276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从细微之处做起，从小事做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2268360" y="33577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应善于管理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2268360" y="465300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、主动在艰苦的环境中锻炼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2124000" y="549360"/>
            <a:ext cx="691200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奥斯特洛夫斯基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出生于工人家庭。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1919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年参加红军，后在战斗中负重伤退伍，到地方担任共青团领导工作。由于工作劳累过度和旧伤复发，全身瘫痪，双目失明，但他以惊人的毅力和顽强的拼搏在病榻上开始了文艺创作。用了四年时间，写出了长篇小说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钢铁是怎样炼成的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一书。这部激励了无数人的杰作，自问世以来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多年长盛不衰。其塑造的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主人公保尔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·</a:t>
            </a:r>
            <a:r>
              <a:rPr b="0" lang="zh-CN" sz="3000" spc="-1" strike="noStrike">
                <a:solidFill>
                  <a:srgbClr val="ff0000"/>
                </a:solidFill>
                <a:latin typeface="宋体"/>
              </a:rPr>
              <a:t>柯察金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执著于信念而坚韧不拔的崇高人格，超越时空，产生了世界性的影响，震动着数代人的心弦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2"/>
          <a:stretch/>
        </p:blipFill>
        <p:spPr>
          <a:xfrm>
            <a:off x="179280" y="907920"/>
            <a:ext cx="18576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24000" y="1628640"/>
            <a:ext cx="914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钢铁是这样炼成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1187280" y="1844640"/>
            <a:ext cx="100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的意志品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971640" y="1268280"/>
            <a:ext cx="215640" cy="4608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119880 h 4608720"/>
              <a:gd name="textAreaBottom" fmla="*/ 4488840 h 460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1260360" y="4581360"/>
            <a:ext cx="9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磨砺意志学会坚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052720" y="1123920"/>
            <a:ext cx="215640" cy="2666880"/>
          </a:xfrm>
          <a:custGeom>
            <a:avLst/>
            <a:gdLst>
              <a:gd name="textAreaLeft" fmla="*/ 137880 w 215640"/>
              <a:gd name="textAreaRight" fmla="*/ 216000 w 215640"/>
              <a:gd name="textAreaTop" fmla="*/ 69120 h 2666880"/>
              <a:gd name="textAreaBottom" fmla="*/ 2597760 h 266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7"/>
          <p:cNvSpPr/>
          <p:nvPr/>
        </p:nvSpPr>
        <p:spPr>
          <a:xfrm>
            <a:off x="2197080" y="981000"/>
            <a:ext cx="122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志坚强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8"/>
          <p:cNvSpPr/>
          <p:nvPr/>
        </p:nvSpPr>
        <p:spPr>
          <a:xfrm>
            <a:off x="2556000" y="472428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要从细微之处做起，从小事做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9"/>
          <p:cNvSpPr/>
          <p:nvPr/>
        </p:nvSpPr>
        <p:spPr>
          <a:xfrm>
            <a:off x="2195640" y="4149720"/>
            <a:ext cx="234720" cy="2352600"/>
          </a:xfrm>
          <a:custGeom>
            <a:avLst/>
            <a:gdLst>
              <a:gd name="textAreaLeft" fmla="*/ 150120 w 234720"/>
              <a:gd name="textAreaRight" fmla="*/ 235080 w 234720"/>
              <a:gd name="textAreaTop" fmla="*/ 78120 h 2352600"/>
              <a:gd name="textAreaBottom" fmla="*/ 2274480 h 23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48"/>
                  <a:pt x="10800" y="2296"/>
                </a:cubicBezTo>
                <a:lnTo>
                  <a:pt x="10800" y="8504"/>
                </a:lnTo>
                <a:cubicBezTo>
                  <a:pt x="10800" y="9652"/>
                  <a:pt x="5400" y="10800"/>
                  <a:pt x="0" y="10800"/>
                </a:cubicBezTo>
                <a:cubicBezTo>
                  <a:pt x="5400" y="10800"/>
                  <a:pt x="10800" y="11948"/>
                  <a:pt x="10800" y="13096"/>
                </a:cubicBezTo>
                <a:lnTo>
                  <a:pt x="10800" y="19304"/>
                </a:lnTo>
                <a:cubicBezTo>
                  <a:pt x="10800" y="2045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2"/>
          <p:cNvSpPr/>
          <p:nvPr/>
        </p:nvSpPr>
        <p:spPr>
          <a:xfrm>
            <a:off x="2268360" y="2492280"/>
            <a:ext cx="10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意志薄弱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3"/>
          <p:cNvSpPr/>
          <p:nvPr/>
        </p:nvSpPr>
        <p:spPr>
          <a:xfrm>
            <a:off x="2556000" y="400536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必须树立明确的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4"/>
          <p:cNvSpPr/>
          <p:nvPr/>
        </p:nvSpPr>
        <p:spPr>
          <a:xfrm>
            <a:off x="2629080" y="54450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应善于管理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5"/>
          <p:cNvSpPr/>
          <p:nvPr/>
        </p:nvSpPr>
        <p:spPr>
          <a:xfrm>
            <a:off x="2629080" y="6093000"/>
            <a:ext cx="63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要主动在艰苦的环境中锻炼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6"/>
          <p:cNvSpPr/>
          <p:nvPr/>
        </p:nvSpPr>
        <p:spPr>
          <a:xfrm>
            <a:off x="3132000" y="1557360"/>
            <a:ext cx="21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1"/>
          <p:cNvSpPr/>
          <p:nvPr/>
        </p:nvSpPr>
        <p:spPr>
          <a:xfrm>
            <a:off x="3348000" y="2492280"/>
            <a:ext cx="73080" cy="1511280"/>
          </a:xfrm>
          <a:custGeom>
            <a:avLst/>
            <a:gdLst>
              <a:gd name="textAreaLeft" fmla="*/ 46800 w 73080"/>
              <a:gd name="textAreaRight" fmla="*/ 73440 w 7308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2"/>
          <p:cNvSpPr/>
          <p:nvPr/>
        </p:nvSpPr>
        <p:spPr>
          <a:xfrm>
            <a:off x="3348000" y="907920"/>
            <a:ext cx="71640" cy="1484280"/>
          </a:xfrm>
          <a:custGeom>
            <a:avLst/>
            <a:gdLst>
              <a:gd name="textAreaLeft" fmla="*/ 45720 w 71640"/>
              <a:gd name="textAreaRight" fmla="*/ 72000 w 71640"/>
              <a:gd name="textAreaTop" fmla="*/ 38520 h 1484280"/>
              <a:gd name="textAreaBottom" fmla="*/ 1445760 h 148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3564000" y="765000"/>
            <a:ext cx="446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有目标能抵制诱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正视弱点勇于克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遇到困难想方设法善始善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3"/>
          <p:cNvSpPr/>
          <p:nvPr/>
        </p:nvSpPr>
        <p:spPr>
          <a:xfrm>
            <a:off x="3564000" y="2492280"/>
            <a:ext cx="4680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无目标易受诱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回避弱点沮丧自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遇到困难唉声叹气半途而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WordArt 19"/>
          <p:cNvSpPr txBox="1"/>
          <p:nvPr/>
        </p:nvSpPr>
        <p:spPr>
          <a:xfrm>
            <a:off x="108000" y="11736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4"/>
          <p:cNvSpPr/>
          <p:nvPr/>
        </p:nvSpPr>
        <p:spPr>
          <a:xfrm>
            <a:off x="252360" y="1413000"/>
            <a:ext cx="8353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在我们的“意志银行”里储存了一些意志品质，有些是坚强的，有些是懦弱的，下列属于意志坚强的品质的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在克服困难的过程中半途而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容易受到各种不良诱惑的影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正式自己的弱点，但没有勇气去克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今日事今日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755640" y="6021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宋体"/>
              </a:rPr>
              <a:t>选</a:t>
            </a:r>
            <a:r>
              <a:rPr b="0" lang="en-US" sz="3200" spc="-1" strike="noStrike">
                <a:solidFill>
                  <a:srgbClr val="cc0000"/>
                </a:solidFill>
                <a:latin typeface="宋体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4"/>
          <p:cNvSpPr txBox="1"/>
          <p:nvPr/>
        </p:nvSpPr>
        <p:spPr>
          <a:xfrm>
            <a:off x="3060720" y="404640"/>
            <a:ext cx="3048120" cy="8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课堂练习</a:t>
            </a:r>
            <a:endParaRPr b="0" lang="en-US" sz="6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3"/>
          <p:cNvSpPr/>
          <p:nvPr/>
        </p:nvSpPr>
        <p:spPr>
          <a:xfrm>
            <a:off x="539640" y="2565360"/>
            <a:ext cx="728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57200" y="175248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9"/>
          <p:cNvSpPr/>
          <p:nvPr/>
        </p:nvSpPr>
        <p:spPr>
          <a:xfrm>
            <a:off x="571680" y="64296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“有什么比石头更硬？有什么比水更软？坚持不懈、水滴石穿。”这句谚语告诉我们培养和锻炼意志要（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持之以恒、善始善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明确提出锻炼意志的任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培养自我控制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培养各种行为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0"/>
          <p:cNvSpPr/>
          <p:nvPr/>
        </p:nvSpPr>
        <p:spPr>
          <a:xfrm>
            <a:off x="971640" y="55897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选</a:t>
            </a:r>
            <a:r>
              <a:rPr b="0" lang="en-US" sz="3600" spc="-1" strike="noStrike">
                <a:solidFill>
                  <a:srgbClr val="cc0000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4"/>
          <p:cNvSpPr/>
          <p:nvPr/>
        </p:nvSpPr>
        <p:spPr>
          <a:xfrm>
            <a:off x="611280" y="549360"/>
            <a:ext cx="8353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确定磨炼意志的目标，要注意    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目标越高越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不要求目标明确，应该随时变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目标要简单易行，容易实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从自己的实际出发，确实可行，难易适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828720" y="5805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Arial"/>
              </a:rPr>
              <a:t>选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“千里之行，始于足下”是说，培养意志（    ）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要从小事做起，从现在做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要持之以恒，善始善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要有明确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、要主动在艰苦的环境中锻炼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828720" y="602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选</a:t>
            </a:r>
            <a:r>
              <a:rPr b="0" lang="zh-CN" sz="3600" spc="-1" strike="noStrike">
                <a:solidFill>
                  <a:srgbClr val="cc0000"/>
                </a:solidFill>
                <a:latin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122400" y="333360"/>
            <a:ext cx="4706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Arial"/>
                <a:ea typeface="华文新魏"/>
              </a:rPr>
              <a:t>材料分析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324000" y="1341360"/>
            <a:ext cx="842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学习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为坚强喝彩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一课后，老师要求同学们全面评价一下自己的意志是否坚强，初一（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）班的李华列举了自己以下表现：每天能按时到校，不迟到，不旷课；及时完成作业，从不拖欠作业；上课认真听讲，积极思考，但很少举手发言，怕自己答错了让同学们笑话；与同学们讨论问题的时候，总是</a:t>
            </a:r>
            <a:r>
              <a:rPr b="0" lang="zh-CN" sz="2800" spc="-1" strike="noStrike">
                <a:solidFill>
                  <a:srgbClr val="262699"/>
                </a:solidFill>
                <a:latin typeface="Arial"/>
                <a:ea typeface="宋体"/>
              </a:rPr>
              <a:t>怀疑自己的见解，不敢坚持已见；遇到难办的事情常常左右为难，下不了决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Arial"/>
                <a:ea typeface="宋体"/>
              </a:rPr>
              <a:t>请你帮助李华同学分析其以上表现，指出他意志上的优点和不足，给他提几条锻炼意志的好建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468360" y="836640"/>
            <a:ext cx="828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  <a:ea typeface="宋体"/>
              </a:rPr>
              <a:t> 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李华的优点在于：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能够约束自己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表现在：每天能按时到校，不迟到，不旷课；及时完成作业，从不拖欠作业；上课认真听讲，积极思考等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468360" y="234936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李华的不足在于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：有些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缺乏主见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反映在他总是怀疑自己的见解，不敢坚持已见；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做事不太果断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，反映在他遇到难办的事情常常左右为难，下不了决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324000" y="4221000"/>
            <a:ext cx="842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建议他：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磨砺坚强意志，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）必须树立明确的目标；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）要从细微之处做起；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）善于管理自己；（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4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）主动在艰苦的环境中锻炼自己，如上课勇于发言，不怕出错；遇事当机立断，并养成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AC10-0F19-46F9-A1FB-A651CC46BC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WordArt 8"/>
          <p:cNvSpPr txBox="1"/>
          <p:nvPr/>
        </p:nvSpPr>
        <p:spPr>
          <a:xfrm>
            <a:off x="1044720" y="4653000"/>
            <a:ext cx="6705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愿坚强的意志助你成功！</a:t>
            </a:r>
            <a:endParaRPr b="0" lang="en-US" sz="4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472" name="WordArt 9" descr=""/>
          <p:cNvPicPr/>
          <p:nvPr/>
        </p:nvPicPr>
        <p:blipFill>
          <a:blip r:embed="rId2"/>
          <a:stretch/>
        </p:blipFill>
        <p:spPr>
          <a:xfrm>
            <a:off x="819000" y="1187280"/>
            <a:ext cx="7359840" cy="22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钢铁是这样炼成的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提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了解、分析自己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意志品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现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找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磨砺自己的意志品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磨砺坚强的意志品质（或：磨砺意志品质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方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哪些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4"/>
          <p:cNvSpPr/>
          <p:nvPr/>
        </p:nvSpPr>
        <p:spPr>
          <a:xfrm>
            <a:off x="324000" y="765000"/>
            <a:ext cx="823572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一、我的意志品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回顾我们自己的成长历程，我们都在自己的意志银行里储存了一些意志的品质，有些是坚强的，有些是懦弱的。</a:t>
            </a: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  （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）说说自己的意志品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哪些是坚强的？哪些是懦弱的呢？可用具体事实说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矩形 5"/>
          <p:cNvSpPr/>
          <p:nvPr/>
        </p:nvSpPr>
        <p:spPr>
          <a:xfrm>
            <a:off x="5508720" y="5446800"/>
            <a:ext cx="7347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"/>
          <p:cNvSpPr/>
          <p:nvPr/>
        </p:nvSpPr>
        <p:spPr>
          <a:xfrm>
            <a:off x="611280" y="1268280"/>
            <a:ext cx="6337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　　</a:t>
            </a: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★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坚持正确的目标，能抵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各种不良影响。（自觉性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   ★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在遇到危险时，能马上采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坚决的措施和行动（处事果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　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★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坚持把重要的事情做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有始有终。（坚韧性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★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在受到别人批评的时候不气馁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努力改正错误。（自制力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　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WordArt 3"/>
          <p:cNvSpPr txBox="1"/>
          <p:nvPr/>
        </p:nvSpPr>
        <p:spPr>
          <a:xfrm>
            <a:off x="4859280" y="4941720"/>
            <a:ext cx="388800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5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坚强意志的表现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79280" y="260280"/>
            <a:ext cx="19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宋体"/>
                <a:ea typeface="宋体"/>
              </a:rPr>
              <a:t>教材</a:t>
            </a:r>
            <a:r>
              <a:rPr b="0" lang="zh-CN" sz="3600" spc="-1" strike="noStrike">
                <a:solidFill>
                  <a:srgbClr val="ff3399"/>
                </a:solidFill>
                <a:latin typeface="宋体"/>
                <a:ea typeface="宋体"/>
              </a:rPr>
              <a:t>P7</a:t>
            </a:r>
            <a:r>
              <a:rPr b="0" lang="en-US" sz="3600" spc="-1" strike="noStrike">
                <a:solidFill>
                  <a:srgbClr val="ff3399"/>
                </a:solidFill>
                <a:latin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2338560" y="954000"/>
            <a:ext cx="6697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　</a:t>
            </a:r>
            <a:r>
              <a:rPr b="1" lang="zh-CN" sz="1800" spc="-1" strike="noStrike">
                <a:solidFill>
                  <a:srgbClr val="ff0000"/>
                </a:solidFill>
                <a:latin typeface="隶书"/>
                <a:ea typeface="隶书"/>
              </a:rPr>
              <a:t>☆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遇到学习上的困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就失去信心。（自制力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　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☆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在克服困难的过程中半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而废。（坚韧性不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　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☆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不能坚持正确的行动方向，容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受不良影响的诱惑。（自觉性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　　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☆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考试成绩不好时，唉声叹气，一筹莫展。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（自制力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☆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在遇到紧急情况时，手忙脚断，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知如何是好。（处事不果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WordArt 3"/>
          <p:cNvSpPr txBox="1"/>
          <p:nvPr/>
        </p:nvSpPr>
        <p:spPr>
          <a:xfrm>
            <a:off x="395280" y="260280"/>
            <a:ext cx="3240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懦弱的表现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79280" y="1268280"/>
            <a:ext cx="8640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意志品质有两种表现，即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意志坚强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宋体"/>
              </a:rPr>
              <a:t>意志薄弱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意志坚强的人应该继续保持，而意志薄弱的同学在生活中应该努力磨砺意志，多往“意志银行”里面储存一些坚强的意志品质，努力让自己成为意志坚强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612720" y="1844640"/>
            <a:ext cx="81360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学习从来不需要家长、老师督促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制定了学习计划，而且能够坚持执行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学习中遇到问题，不轻易问别人，总是先               自己思考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、不会轻易因身体稍微不舒服而不参加体育活动，如课间操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WordArt 8"/>
          <p:cNvSpPr txBox="1"/>
          <p:nvPr/>
        </p:nvSpPr>
        <p:spPr>
          <a:xfrm>
            <a:off x="539640" y="189000"/>
            <a:ext cx="26640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意志品质小检测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9" name="文本框 8198"/>
          <p:cNvSpPr/>
          <p:nvPr/>
        </p:nvSpPr>
        <p:spPr>
          <a:xfrm>
            <a:off x="1536840" y="1509840"/>
            <a:ext cx="5040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15:33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2:41Z</dcterms:modified>
  <cp:revision>7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