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896-BEDB-4433-8CB0-4397133E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3AB-CC9F-437F-B659-38A75B8D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3B2D9-0B94-4F5C-994D-1EF87B7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239DF-BE75-446B-B43C-1ADF36D9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F9235-2BDE-4D53-B491-A06E1D59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A6E34-A0F2-4882-A0E7-107C535B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A88B2-FE87-4A2F-A71A-20B94F1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7980-1C8B-471C-B514-908771D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31949-2897-4986-BA3A-523F9953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F3DB9-847E-4978-97AF-33EF9E3C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93A7B-67A5-448F-9E02-B2CC53B0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4A503-5ED4-4770-B02A-59860FC6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40E-444A-4D6D-B613-66BDABEB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1A191-60DF-4BB8-96AA-7E2329A4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3BEBA-DA16-4A87-A7D6-2F31987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D22B4-D1EB-449F-AFF0-CFB7217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E81D5-0449-4085-832D-B0716DF4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AB19C-48A2-44B7-853F-EB38B8D7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6C1E7-A1FC-4492-8255-FB9B579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F29B0-A58D-47BD-BBA3-933473C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DA457-3CAB-49E8-AA5B-6AA7F90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35E3E-4241-4E7B-A863-D658F710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8EE57-860C-4CF8-8D5F-6DD1C81C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502-E7EF-4748-B469-05AC1660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7D3D7-3CEC-4FD7-AF78-4869FC38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E81B5-5E32-4025-B54D-D9ABD66C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36300-0197-4400-BF0A-BC582B5E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9DDBE-5303-43FE-BADA-26750B67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A3BF3-1035-423C-8F43-5E166AE0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0B586-A3EC-4FAD-9672-5096B9F7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4D422-0565-4587-ADE1-A6198698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7E7D7-0ACB-4637-A673-C5FA5D60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29E72-F5CB-463A-8CB7-21F15C6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F109E-FD23-4D82-A956-5B94669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8D66-2EA0-4A82-8800-C5724EE9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9269A-9D75-4EC6-9FCC-A9E31816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BB1A5-8EB9-4F43-9BAA-C264DF41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84DF-A1BA-457C-93C8-6D863169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0B157-3B8A-474A-8E66-D328F81C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9D963-2334-4F4F-8F4B-CDD954D7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8841C-FD33-4387-9160-A554C14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3BABB-01FB-4719-8451-0024A54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C86C9-7982-4886-B802-4326FAD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D4777-21D9-44FF-9176-95CC7D70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68827-E48E-426B-9012-71EB223F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1558-45DA-4E0D-B4A6-C3E3CB05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63E0D-5404-4542-93F6-0500511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660A2-80B9-4F60-B4CA-EB783BC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1706E-7088-4407-93FB-00664F86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C6128-8991-4FDE-8EDA-8377B9A5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4EB59-8222-4C1B-B480-8D5E5111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07061-5B92-4FE6-9496-4FF70C62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A3032-222E-41E0-9C03-0D5E64AF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D78F8-9986-4808-82FD-C3FF153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78AC2-5C48-47A0-8A78-68BF7B38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1CBF3-5D4B-4087-9414-E787626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9D27-3CC0-4A6D-9705-7E7CB7A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91C0A-A250-4737-9D90-051F735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023EF-961D-4FB1-843D-42FC2E35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00CAA-3F6D-44E0-88D3-A96094F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FCC87-5670-4511-BC79-C800C02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B40AF-1B99-4F0B-9AB0-400B1F10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CC874-EB8D-4A8C-8981-F9F107B2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80D82-1118-4547-A0BA-68EC14C1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F043-B07B-4DAC-B300-BCF2C42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BBA6-5364-4E08-B27D-14DAA02F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05E3-592C-4BC8-9AD5-DFA796CA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DF6A-1A46-4843-8763-29238C6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0AC-2EA3-4E01-AAB6-CC4922B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5F4-2059-4683-9A57-B58E135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91CB-AED4-43EF-918D-31341FA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6BD2-5957-43D9-BF74-E7381DD1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3E8E-E416-47B3-BFF9-26666AE3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6402-B852-4040-A2B4-D9DB5AA2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8C99-00D6-4BF7-83B2-00E25C06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4B58-44AC-4E14-A63D-58B7446A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EAD3-B834-4FE9-BF62-B3E3D34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82F9-3F8C-4706-8820-4AF22CB3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BFCF-254F-4976-BF57-ADCE0CF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01B-E721-45B1-987A-D3EF1A40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43D9-5DCD-4965-B020-F3EA295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B5D7-DB9D-42A4-99F9-79E3A41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D872-24B1-4F62-B300-E432B31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0B15-1A24-4BA6-9245-E87913D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9A5A-06E9-47DF-8643-903481DD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58C7-34D8-4E76-B023-9C50D81D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0AC2-F055-4379-A2F9-E45DD91B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6090-6875-456C-9726-DBE4F362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C45C-5B36-4138-AF2E-AF7F11B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9DDF-3DD7-49FB-BE84-71476EF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066-B182-4B84-82CC-9110C1DF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6D1F-316A-4AB3-B2C6-4E5D6A63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6C25-4D99-43A6-A27A-0A9EE820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65D3-05A6-4B15-B83E-002437A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69C9-8B3D-4514-95CA-57875A0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43CD-1423-4D21-9A24-76D46314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0FE3-A1FF-478E-8118-4076354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90F8-BFBA-473D-AB4C-9169E8CC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F783-8EB2-4360-BC65-4046BDE4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06E6-A3F5-498F-835A-CED68787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6699-3DDE-415C-972D-9517D3A1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B2B-B895-491C-9F41-4583C0C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0E7F3-428D-471E-B1A1-A88AF1B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C5AA-50A1-4F50-B1D0-47724F89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7B42-3A5A-48B5-A2B5-2DB731AE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E4B0-1D00-4884-A33A-E235D98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FD04-22A5-40F8-BE38-EB40D74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2296-35CB-4144-A2E2-1C87669A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21F02-5BEE-4EA1-8652-3CF57100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934C-4C5B-4355-8B2B-6E91C54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DEB87-7672-4438-88DA-182CDBD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7E7A5-F9B1-4A36-8E13-8491860A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9C6-F6F3-495C-A1C5-A318F01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CFCA4-1255-4463-A624-84602A7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BC48D-156C-4609-9E65-A0B45492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3D3C-FCDA-4669-9318-8C5C5AFB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C743-FE6E-453B-9B31-F15A350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8AAB-6187-4DB6-A081-C16B4402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F6A06-911C-401F-92B0-D169DC9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17404-514B-484D-A4E9-DB837033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7F16-947E-4D4C-8D0C-F6B325A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EE69-5338-44F0-BE9A-0C0BD757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3EE9A-6456-481F-A8D0-6252C11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D7F-1C84-4A46-90E1-15A70BE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9CB9-6071-453D-B9D7-B52208FE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A2645-1542-4095-B7CB-D58BAFBF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D3793-837C-49A9-8CC5-2BED8584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7C9EC-CCE8-4826-88A1-CEF622CC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6B19-6E36-45E1-9B7D-AEE5C01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3A0C-871D-44EF-B5B9-E9BD9861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BBE8-834D-4EBF-B121-B2FDEE5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C999C-89F7-491D-9D97-2462E66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24D09-0628-4473-B398-CE3A38B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65B5-BC8D-40A2-AFC4-9CBFE45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BCF-96EF-40C9-A3AE-26D64245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DCD30-2A6B-4E54-8760-6BE268A6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2B43-7D4B-42E4-9343-E121F9E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F0728-C565-469E-8F43-E2F09F60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B42C-75E3-45C5-AD19-31B0E38C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1311-9F67-4A9B-853A-C28BD61A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466F6-5DD4-4FC9-ACD5-D20108C1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731C-A1E6-475C-83E0-069E75F6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FB054-9661-49B2-829A-D7FB63E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0FC4A-E838-438A-9FE2-4B438F5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C93F8-9F4A-4DF6-B912-8D388BB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B9C-333D-460D-98D4-D02687D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5653-7EFF-4BEB-928F-CD742B6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D09F6-0FF1-41FC-9B9D-88B966D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A77CA-32DC-41AC-B332-8519E9B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02518-C3EA-49B7-9481-28FC7F1E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55CB-C47B-4C6F-8F51-F16D697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1261-BFFB-425A-B550-C452483A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125C-AB9E-4736-9A83-648D1D92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3DEA4-CDD3-4FDA-B070-060C9067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EB50-A236-44AC-AA3A-CBC06AC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F8EB5-4201-4E83-B135-4E3F9471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F35-E91D-459C-909A-61736A6C5B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10B-94B7-4990-B490-FF2B246AEE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20E-93B1-4AA7-BE75-E44599094A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3820-2DA8-4E2F-9EBC-9303DE41DF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A9C-6F56-46E0-8B6C-B6E143A872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33AE-71E3-413A-8E21-9D9BAC743A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47B-2FA9-4EA3-A34B-CEF1D6031B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C9E8-74E0-4684-AF8A-439B8EBA91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10B6-7F7B-4553-9C23-E8E10305D3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F606-66F0-4E23-BBE1-FD0F64D85A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50AF-A5FE-4C7E-8739-CEEC94DAF7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1AB-6E39-4C3E-A718-7C3CADF501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9FF4-ACBB-4220-B153-D63FCB9F22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684360" y="1989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购物场所我知道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95280" y="134136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你记住了几处购物场所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0"/>
          <p:cNvPicPr/>
          <p:nvPr/>
        </p:nvPicPr>
        <p:blipFill>
          <a:blip r:embed="rId2"/>
          <a:stretch/>
        </p:blipFill>
        <p:spPr>
          <a:xfrm>
            <a:off x="6443640" y="5516640"/>
            <a:ext cx="234000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47628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504d"/>
                </a:solidFill>
                <a:latin typeface="Arial"/>
              </a:rPr>
              <a:t>第二关    竞猜智乐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请你选择一个或一类购物场所，把该购物场所的特点叙述出来，由其他同学判断这是哪个或哪类购物场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gif014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0" y="333360"/>
            <a:ext cx="9144000" cy="67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Arial"/>
              </a:rPr>
              <a:t>第三关　快乐赢家大比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请你根据顾客的购物需求，为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客选择合适的购物场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现实生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随着社会的进步和科学技术的发展，人们的购物方式也发生了变化。现在我们不用现金，甚至不用去商店就可以买到东西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8200"/>
          <p:cNvSpPr/>
          <p:nvPr/>
        </p:nvSpPr>
        <p:spPr>
          <a:xfrm>
            <a:off x="122220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5"/>
          <p:cNvSpPr/>
          <p:nvPr/>
        </p:nvSpPr>
        <p:spPr>
          <a:xfrm>
            <a:off x="147636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" descr="57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生活瞭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未来商店会使什么样子的呢？我们来设计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8963-A22B-4E46-BAAE-A6FE92C99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4047082_175349468000_2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44830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1116000" y="314172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50920" y="3141720"/>
            <a:ext cx="8496360" cy="308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象好，气质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热爱本岗位，有责任心，积极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齿伶俐，讲普通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态度亲切，微笑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熟知购物场所特点，为顾客选择适宜的购物场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324000" y="620640"/>
            <a:ext cx="84960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504d"/>
                </a:solidFill>
                <a:latin typeface="Arial"/>
              </a:rPr>
              <a:t>第一关　火眼金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在快速转换的画面中，尽可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多地记住其中的购物场所的名称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4"/>
          <p:cNvPicPr/>
          <p:nvPr/>
        </p:nvPicPr>
        <p:blipFill>
          <a:blip r:embed="rId2"/>
          <a:stretch/>
        </p:blipFill>
        <p:spPr>
          <a:xfrm>
            <a:off x="7531200" y="5934240"/>
            <a:ext cx="1612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8200"/>
          <p:cNvSpPr/>
          <p:nvPr/>
        </p:nvSpPr>
        <p:spPr>
          <a:xfrm>
            <a:off x="2400480" y="5994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SC009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DSC009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4:43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