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projctor.wav" ContentType="audio/x-wav"/>
  <Override PartName="/ppt/media/image22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6.gif" ContentType="image/gif"/>
  <Override PartName="/ppt/media/chimes.wav" ContentType="audio/x-wav"/>
  <Override PartName="/ppt/media/image36.gif" ContentType="image/gif"/>
  <Override PartName="/ppt/media/image15.png" ContentType="image/png"/>
  <Override PartName="/ppt/media/image12.gif" ContentType="image/gif"/>
  <Override PartName="/ppt/media/image30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8.gif" ContentType="image/gif"/>
  <Override PartName="/ppt/media/image33.gif" ContentType="image/gif"/>
  <Override PartName="/ppt/media/image28.gif" ContentType="image/gif"/>
  <Override PartName="/ppt/media/image5.gif" ContentType="image/gif"/>
  <Override PartName="/ppt/media/image37.png" ContentType="image/png"/>
  <Override PartName="/ppt/media/image34.jpeg" ContentType="image/jpeg"/>
  <Override PartName="/ppt/media/image1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gif" ContentType="image/gif"/>
  <Override PartName="/ppt/media/image4.png" ContentType="image/png"/>
  <Override PartName="/ppt/media/image32.jpeg" ContentType="image/jpeg"/>
  <Override PartName="/ppt/media/image24.gif" ContentType="image/gif"/>
  <Override PartName="/ppt/media/image3.png" ContentType="image/png"/>
  <Override PartName="/ppt/media/image2.png" ContentType="image/png"/>
  <Override PartName="/ppt/media/image1.png" ContentType="image/png"/>
  <Override PartName="/ppt/media/image19.gif" ContentType="image/gif"/>
  <Override PartName="/ppt/media/image31.jpeg" ContentType="image/jpeg"/>
  <Override PartName="/ppt/media/image14.gif" ContentType="image/gif"/>
  <Override PartName="/ppt/media/image25.gif" ContentType="image/gif"/>
  <Override PartName="/ppt/media/type.wav" ContentType="audio/x-wav"/>
  <Override PartName="/ppt/media/image17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248-B094-4332-BDD8-2CAFECC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6B0-2219-49D0-B344-1E67C3BA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053B6-5953-438D-9449-5AA6A422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7179E-FFF0-4325-ADB8-874E8DE2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6E63D-0573-4C9D-8F35-FC01100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1447-2FC5-450B-B67A-F77CFFA1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D3E9A-A5B6-4B0A-A750-ED3CB85B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89DC8-86D5-4E1B-9CCB-E616FA0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4EAE6-3C22-4335-86E7-1F799C5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3F881-3DE4-4B41-9CED-69EA909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6A599-5E65-4BE4-ABEA-7311AA36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38D66-4B7D-4F3C-AE24-10BC51A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990-4DDD-439D-BB10-FA7F6421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3DD9C-AAD4-44D0-9E5D-F93E1763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DE7C9-90D1-4989-8564-461B2ADD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D73B8-0B57-4A10-A3E5-2228160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89677-4387-47AB-B03B-A437195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F9EAE-1F75-4489-8213-64CFD5B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D7069-B437-45CB-8078-58FF2B4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8EA09-0347-4B48-85E0-8A96BC3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96400-81A2-4C23-85AE-30313906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26CDC-938D-47A1-BBB7-1D38B6D0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41B3B-EBD3-4FB0-AF9A-47FE6C49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F53-6ED1-4D1C-A1F5-AEE4706A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1938C-4EA5-4DC7-9B5B-001300E3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01C4-E56A-4AE5-8F3D-BDE7C243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BFB1-560D-4F3A-9F64-6EE0BCE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C63B-3398-4065-86EE-4A40D09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DA42-F435-4651-87B2-7555731C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27D-BC92-4F1F-A6AC-C4A1CBE3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A2B-F30D-4A51-8D59-D8E73839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4C1-BD72-42BB-8C3D-93BA98AA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94A-EF4E-4E5F-A1F1-7536481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EAC4-8E2F-49E8-A237-A151C2C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C7A-428F-497F-995E-243F5F0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2DA-D9CE-4308-AFED-D129E42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D94D-2F39-4FC4-8B61-9E7F21E5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559-7F3B-4370-B50A-E25ECDB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2BD5-D304-490C-889E-548D6241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0C31-A119-46E7-9B0F-FE688AB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28A4-5D8F-4A75-A69C-A108A4AB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F79B-9F43-40DA-8E97-347218F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0995-F49C-470A-9B19-A9805FEC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26E-825C-4C2A-8F9D-AB3506F1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842E-7D82-45CE-BF76-78A32471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36A02-7295-4456-ABA4-F6C5A93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2D47-F0C5-47C9-ACFD-F808A66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3A30-86EB-48F6-96A8-7B89AE9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45AD-F08D-4CEA-A9AF-6C052620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AAE2-C093-4760-A528-26E059A6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8ABA-3DC5-4572-B630-79E22E9F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9AEF-6DFE-4812-805A-F546B844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7CF4-2128-4F5E-B612-579EB908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029C4-CE3B-47F3-A4DF-DC04C973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9B3-5BE2-400A-AC73-18346EB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0DA8-D0D9-40B7-B4F4-109DB658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1E30-3B0E-4182-BB73-704EB5E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A882-BF8B-4E2A-899C-FE9A2B5E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54F8-06FF-463A-B5AB-0D6253B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0569-676B-4317-A465-852F860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00FF-797D-4EFE-A825-C968DC2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9961-6EEF-4A8B-9D59-8308EBC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E341-50A9-43FF-A68B-E623FA55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F662-E04D-41A5-84E7-D92A8DF4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5270-619F-417E-A4F5-5C13EFDB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637-F77A-49FA-9BEC-016FED70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B2297-89A7-42D0-A5E2-90BCF59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8D1DE-8EC2-44AF-8A9C-3190A45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1041-9480-41F3-A2B1-6E9A3E8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C6C3-8061-40C7-B2F8-27DFF10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30A7-0F0C-4901-82C1-7E28D29A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40E4-0BC3-4588-8C2E-A9ED926F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B0ADD-7E80-4322-A59F-FDBC818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3399-4929-4479-96AF-9337990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316E-B17B-4CA1-A11B-3B8843D7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5590B-8188-488D-8B77-F7B77F57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F4-2863-4A95-B3CC-3F9D330F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DCDE-907F-4845-AED3-9004BD6A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9DB3-AC05-480C-86FF-CB573C04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28B93-BF78-45B3-8170-A2FE5931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D497-59BE-4AE0-A7BA-692438B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AC27-6848-4DDB-A664-26631C94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A2B1-5328-4C46-8B21-1C53042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F3F0A-EB5C-48E9-B13A-542A984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FE864-0C9D-4861-A25A-F29D77E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96F0C-428F-4DB5-927C-F2BC778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ED2C-A9D4-4265-A254-0D00F9C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577-3BA3-4C83-B8B8-7A26996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137F-D81D-4711-9891-140174ED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50151-4BF7-437A-87FE-F39FEC75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8461-CDB6-454B-941C-A78D1151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763D-9720-4B86-BDAD-47C2DD57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7989-0076-4300-8F24-FF6284F4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8DC3C-F8A6-4D9D-AE21-F34D781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C7E56-64F0-4636-B50E-1174200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C372-F043-4F03-B43F-02C0A23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8726-6DDF-4714-BFAF-E8FA948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7A1B-0EE2-43C7-974E-E6EE7C2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7EC-3360-4629-898E-1F9FAC5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30BD7-59FD-4DAE-9221-2AFFB2D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3503F-F683-424A-8B87-5EA2C12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0DEA4-2B62-467F-8019-F7529709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D7A21-B340-4B27-AF01-F04122EA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439D-EBB3-4B6C-8685-C9ACBC58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0C9D-CC6B-46D4-A38D-D7B6B60F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DE3E-C9F8-4781-B778-B2D105E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EF08-FC93-4853-A681-774E4C5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7B61-5323-4D0D-9696-79A452F6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37B5-C64F-4D4F-A8BE-D075EDEF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79C-997F-4885-B2ED-BDBE20B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F4E90-2CB4-4AE9-B97D-A2C487F7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F774F-CD21-4FF9-B05F-F0D0414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0375-9C78-4993-BFEC-438F3E61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E87C2-D8BC-4B76-AC78-E99E672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F7611-4C1E-48E5-A6D6-9B55F619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BD6F-8948-441E-A25E-7C18EEE2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138D-C8C8-4961-B08D-93506024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FB862-8670-48BB-BF10-6ADE64C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D013B-44AD-410A-B969-EDCEF502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F3CE8-0139-444D-859B-A300CEB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3DD-0F4B-4C1C-B2D2-072F03846C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7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C4CA-2CED-41A0-A28B-17D44AF4E6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CE4-A84B-4514-8250-1698224B39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12" descr=""/>
          <p:cNvPicPr/>
          <p:nvPr/>
        </p:nvPicPr>
        <p:blipFill>
          <a:blip r:embed="rId3"/>
          <a:stretch/>
        </p:blipFill>
        <p:spPr>
          <a:xfrm>
            <a:off x="514440" y="534528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0F0D-335F-4F87-A231-2E3CA263D4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8" name="直接连接符 8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129" name="直接连接符 11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72B2-E9E8-4E55-A368-CA8AD6F664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直接连接符 12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E8F2-4BDC-4AAE-AC1A-7B2F3DBAE19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直接连接符 12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8871-05A0-4F65-AA6B-9B6074B775B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0CE-84A5-40F2-B166-CF09D22B63A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直接连接符 12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E965-582B-4092-AAA2-F7E1409B44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CDD-B258-4056-A8BE-F27C1586174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0.gif"/><Relationship Id="rId4" Type="http://schemas.openxmlformats.org/officeDocument/2006/relationships/image" Target="../media/image9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3.wav" TargetMode="External"/><Relationship Id="rId3" Type="http://schemas.openxmlformats.org/officeDocument/2006/relationships/image" Target="../media/image2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.wav" TargetMode="Externa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hyperlink" Target="file:///tmp/home/.config/libreoffice/4/user/gallery/3.wav" TargetMode="External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.wav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3"/>
          <p:cNvSpPr/>
          <p:nvPr/>
        </p:nvSpPr>
        <p:spPr>
          <a:xfrm>
            <a:off x="3448440" y="88272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十一章  功和机械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4"/>
          <p:cNvSpPr/>
          <p:nvPr/>
        </p:nvSpPr>
        <p:spPr>
          <a:xfrm>
            <a:off x="2440800" y="2133720"/>
            <a:ext cx="40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功物理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4"/>
          <p:cNvSpPr/>
          <p:nvPr/>
        </p:nvSpPr>
        <p:spPr>
          <a:xfrm>
            <a:off x="304920" y="1600200"/>
            <a:ext cx="457200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3"/>
          <p:cNvSpPr/>
          <p:nvPr/>
        </p:nvSpPr>
        <p:spPr>
          <a:xfrm>
            <a:off x="5181480" y="1828800"/>
            <a:ext cx="3810240" cy="10666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380880" y="16318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隶书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人用力推一辆陷在雪地里的汽车但没推动，人对汽车是否做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0160"/>
          <p:cNvPicPr/>
          <p:nvPr/>
        </p:nvPicPr>
        <p:blipFill>
          <a:blip r:embed="rId1"/>
          <a:stretch/>
        </p:blipFill>
        <p:spPr>
          <a:xfrm>
            <a:off x="762120" y="228600"/>
            <a:ext cx="1090440" cy="12193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8"/>
          <p:cNvSpPr/>
          <p:nvPr/>
        </p:nvSpPr>
        <p:spPr>
          <a:xfrm>
            <a:off x="1828800" y="685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2666880" y="533520"/>
            <a:ext cx="4343400" cy="459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物体受到力，但没有移动距离，力对物体没有做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0" descr="gif009"/>
          <p:cNvPicPr/>
          <p:nvPr/>
        </p:nvPicPr>
        <p:blipFill>
          <a:blip r:embed="rId2"/>
          <a:stretch/>
        </p:blipFill>
        <p:spPr>
          <a:xfrm>
            <a:off x="7696080" y="380880"/>
            <a:ext cx="838440" cy="1028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8" descr="11-图片-69"/>
          <p:cNvPicPr/>
          <p:nvPr/>
        </p:nvPicPr>
        <p:blipFill>
          <a:blip r:embed="rId3"/>
          <a:stretch/>
        </p:blipFill>
        <p:spPr>
          <a:xfrm>
            <a:off x="152280" y="3124080"/>
            <a:ext cx="4702320" cy="3581640"/>
          </a:xfrm>
          <a:prstGeom prst="rect">
            <a:avLst/>
          </a:prstGeom>
          <a:ln w="0">
            <a:noFill/>
          </a:ln>
        </p:spPr>
      </p:pic>
      <p:pic>
        <p:nvPicPr>
          <p:cNvPr id="602" name="taishi.MPG" descr=""/>
          <p:cNvPicPr/>
          <p:nvPr/>
        </p:nvPicPr>
        <p:blipFill>
          <a:blip r:embed="rId4"/>
          <a:stretch/>
        </p:blipFill>
        <p:spPr>
          <a:xfrm>
            <a:off x="4876920" y="3124080"/>
            <a:ext cx="4190760" cy="35816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21"/>
          <p:cNvSpPr/>
          <p:nvPr/>
        </p:nvSpPr>
        <p:spPr>
          <a:xfrm>
            <a:off x="5181480" y="1905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人搬一块大石头但没有搬动，人对石头是否做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5"/>
          <p:cNvSpPr/>
          <p:nvPr/>
        </p:nvSpPr>
        <p:spPr>
          <a:xfrm>
            <a:off x="-2286000" y="2362320"/>
            <a:ext cx="14630400" cy="761760"/>
          </a:xfrm>
          <a:prstGeom prst="flowChartInputOutput">
            <a:avLst/>
          </a:prstGeom>
          <a:gradFill rotWithShape="0">
            <a:gsLst>
              <a:gs pos="0">
                <a:srgbClr val="ccffff"/>
              </a:gs>
              <a:gs pos="100000">
                <a:srgbClr val="8aaca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-1676520" y="4800600"/>
            <a:ext cx="990720" cy="53352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304920" y="1523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物体在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光滑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面上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匀速直线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滑行是否有力做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2"/>
          <p:cNvSpPr/>
          <p:nvPr/>
        </p:nvSpPr>
        <p:spPr>
          <a:xfrm>
            <a:off x="1295280" y="304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3"/>
          <p:cNvSpPr/>
          <p:nvPr/>
        </p:nvSpPr>
        <p:spPr>
          <a:xfrm>
            <a:off x="22860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5" descr="0161"/>
          <p:cNvPicPr/>
          <p:nvPr/>
        </p:nvPicPr>
        <p:blipFill>
          <a:blip r:embed="rId2"/>
          <a:stretch/>
        </p:blipFill>
        <p:spPr>
          <a:xfrm>
            <a:off x="228600" y="152280"/>
            <a:ext cx="876240" cy="9144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27"/>
          <p:cNvSpPr/>
          <p:nvPr/>
        </p:nvSpPr>
        <p:spPr>
          <a:xfrm>
            <a:off x="2362320" y="228600"/>
            <a:ext cx="5105160" cy="520560"/>
          </a:xfrm>
          <a:prstGeom prst="rect">
            <a:avLst/>
          </a:prstGeom>
          <a:solidFill>
            <a:srgbClr val="f0a22e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物体不受力，但由于惯性通过一段距离，没有做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0" descr="gif009"/>
          <p:cNvPicPr/>
          <p:nvPr/>
        </p:nvPicPr>
        <p:blipFill>
          <a:blip r:embed="rId3"/>
          <a:stretch/>
        </p:blipFill>
        <p:spPr>
          <a:xfrm>
            <a:off x="8001000" y="228600"/>
            <a:ext cx="642960" cy="685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3" descr="44"/>
          <p:cNvPicPr/>
          <p:nvPr/>
        </p:nvPicPr>
        <p:blipFill>
          <a:blip r:embed="rId4"/>
          <a:stretch/>
        </p:blipFill>
        <p:spPr>
          <a:xfrm>
            <a:off x="7848720" y="1447920"/>
            <a:ext cx="685800" cy="64764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457200" y="3276720"/>
            <a:ext cx="8458200" cy="360"/>
            <a:chOff x="457200" y="3276720"/>
            <a:chExt cx="8458200" cy="360"/>
          </a:xfrm>
        </p:grpSpPr>
        <p:sp>
          <p:nvSpPr>
            <p:cNvPr id="614" name="Line 39"/>
            <p:cNvSpPr/>
            <p:nvPr/>
          </p:nvSpPr>
          <p:spPr>
            <a:xfrm>
              <a:off x="457200" y="3276720"/>
              <a:ext cx="84582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457200" y="3276720"/>
              <a:ext cx="845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Text Box 40"/>
          <p:cNvSpPr/>
          <p:nvPr/>
        </p:nvSpPr>
        <p:spPr>
          <a:xfrm>
            <a:off x="3276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1"/>
          <p:cNvSpPr/>
          <p:nvPr/>
        </p:nvSpPr>
        <p:spPr>
          <a:xfrm>
            <a:off x="457200" y="3733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运动员踢足球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球离开脚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飞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米远的过程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运动员是否对球做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2" descr="0022"/>
          <p:cNvPicPr/>
          <p:nvPr/>
        </p:nvPicPr>
        <p:blipFill>
          <a:blip r:embed="rId5"/>
          <a:stretch/>
        </p:blipFill>
        <p:spPr>
          <a:xfrm>
            <a:off x="0" y="4343400"/>
            <a:ext cx="960120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35 L 1.37083 -0.33889 E">
                                      <p:cBhvr>
                                        <p:cTn id="277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af7"/>
            </a:gs>
            <a:gs pos="50000">
              <a:srgbClr val="f0a22e"/>
            </a:gs>
            <a:gs pos="100000">
              <a:srgbClr val="fedaf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0055"/>
          <p:cNvPicPr/>
          <p:nvPr/>
        </p:nvPicPr>
        <p:blipFill>
          <a:blip r:embed="rId1"/>
          <a:stretch/>
        </p:blipFill>
        <p:spPr>
          <a:xfrm>
            <a:off x="7300800" y="4419720"/>
            <a:ext cx="184320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20" name="Group 7"/>
          <p:cNvGrpSpPr/>
          <p:nvPr/>
        </p:nvGrpSpPr>
        <p:grpSpPr>
          <a:xfrm>
            <a:off x="533520" y="4038480"/>
            <a:ext cx="609480" cy="914400"/>
            <a:chOff x="533520" y="4038480"/>
            <a:chExt cx="609480" cy="914400"/>
          </a:xfrm>
        </p:grpSpPr>
        <p:grpSp>
          <p:nvGrpSpPr>
            <p:cNvPr id="621" name=""/>
            <p:cNvGrpSpPr/>
            <p:nvPr/>
          </p:nvGrpSpPr>
          <p:grpSpPr>
            <a:xfrm>
              <a:off x="990360" y="4038480"/>
              <a:ext cx="360" cy="914400"/>
              <a:chOff x="990360" y="4038480"/>
              <a:chExt cx="360" cy="914400"/>
            </a:xfrm>
          </p:grpSpPr>
          <p:sp>
            <p:nvSpPr>
              <p:cNvPr id="622" name="Line 5"/>
              <p:cNvSpPr/>
              <p:nvPr/>
            </p:nvSpPr>
            <p:spPr>
              <a:xfrm flipV="1">
                <a:off x="990720" y="4038480"/>
                <a:ext cx="0" cy="91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 rot="10800000">
                <a:off x="990360" y="40384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Text Box 6"/>
            <p:cNvSpPr/>
            <p:nvPr/>
          </p:nvSpPr>
          <p:spPr>
            <a:xfrm>
              <a:off x="533520" y="4038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Picture 9" descr="0162"/>
          <p:cNvPicPr/>
          <p:nvPr/>
        </p:nvPicPr>
        <p:blipFill>
          <a:blip r:embed="rId2"/>
          <a:stretch/>
        </p:blipFill>
        <p:spPr>
          <a:xfrm>
            <a:off x="228600" y="0"/>
            <a:ext cx="1069920" cy="12952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0"/>
          <p:cNvSpPr/>
          <p:nvPr/>
        </p:nvSpPr>
        <p:spPr>
          <a:xfrm>
            <a:off x="121932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d1f1f"/>
                </a:solidFill>
                <a:latin typeface="Arial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80880" y="2438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搬着物体在水平地面上行走，人的支持力是否对物体做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15"/>
          <p:cNvGrpSpPr/>
          <p:nvPr/>
        </p:nvGrpSpPr>
        <p:grpSpPr>
          <a:xfrm>
            <a:off x="838080" y="5943600"/>
            <a:ext cx="6934320" cy="459720"/>
            <a:chOff x="838080" y="5943600"/>
            <a:chExt cx="6934320" cy="459720"/>
          </a:xfrm>
        </p:grpSpPr>
        <p:grpSp>
          <p:nvGrpSpPr>
            <p:cNvPr id="629" name=""/>
            <p:cNvGrpSpPr/>
            <p:nvPr/>
          </p:nvGrpSpPr>
          <p:grpSpPr>
            <a:xfrm>
              <a:off x="838080" y="5943600"/>
              <a:ext cx="6934320" cy="360"/>
              <a:chOff x="838080" y="5943600"/>
              <a:chExt cx="6934320" cy="360"/>
            </a:xfrm>
          </p:grpSpPr>
          <p:sp>
            <p:nvSpPr>
              <p:cNvPr id="630" name="Line 13"/>
              <p:cNvSpPr/>
              <p:nvPr/>
            </p:nvSpPr>
            <p:spPr>
              <a:xfrm>
                <a:off x="838080" y="5943600"/>
                <a:ext cx="6934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838080" y="5943600"/>
                <a:ext cx="693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Text Box 14"/>
            <p:cNvSpPr/>
            <p:nvPr/>
          </p:nvSpPr>
          <p:spPr>
            <a:xfrm>
              <a:off x="3505320" y="5943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 Box 16"/>
          <p:cNvSpPr/>
          <p:nvPr/>
        </p:nvSpPr>
        <p:spPr>
          <a:xfrm>
            <a:off x="2057400" y="4572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有力也有移动距离，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力与通过的距离相垂直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因此没有做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7" descr="gif009"/>
          <p:cNvPicPr/>
          <p:nvPr/>
        </p:nvPicPr>
        <p:blipFill>
          <a:blip r:embed="rId3"/>
          <a:stretch/>
        </p:blipFill>
        <p:spPr>
          <a:xfrm>
            <a:off x="7391520" y="1066680"/>
            <a:ext cx="914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7408 0.00047 E">
                                      <p:cBhvr>
                                        <p:cTn id="283" dur="5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5"/>
          <p:cNvSpPr/>
          <p:nvPr/>
        </p:nvSpPr>
        <p:spPr>
          <a:xfrm>
            <a:off x="968400" y="1219320"/>
            <a:ext cx="5105520" cy="581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隶书"/>
                <a:ea typeface="隶书"/>
              </a:rPr>
              <a:t>三种不做功的情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609480" y="2087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有力无距离（物体静止不动）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劳而无功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609480" y="2697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有距离无力（靠惯性运动）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不劳无功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609480" y="33526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3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力和通过的距离方向相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可见：有力才有可能做功，但有力又不一定做功，无力就谈不上做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0a22e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838080" y="4876920"/>
            <a:ext cx="63788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ts val="39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">
            <a:hlinkClick r:id="rId1"/>
          </p:cNvPr>
          <p:cNvSpPr/>
          <p:nvPr/>
        </p:nvSpPr>
        <p:spPr>
          <a:xfrm>
            <a:off x="993600" y="1752480"/>
            <a:ext cx="815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ts val="3912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914400" y="3505320"/>
            <a:ext cx="729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ts val="39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144720" y="2475000"/>
            <a:ext cx="307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0" y="990720"/>
            <a:ext cx="861048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情况中，人有没有对皮箱做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用力提地上的皮箱，但没有提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再一次用力把箱子提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0" y="2971800"/>
            <a:ext cx="82296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用力提着皮箱在原地不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提着箱子在水平路面上走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提着箱子站在水平匀速行使的汽车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提着皮箱在电梯中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799740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800100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3"/>
          <p:cNvSpPr/>
          <p:nvPr/>
        </p:nvSpPr>
        <p:spPr>
          <a:xfrm>
            <a:off x="754380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4"/>
          <p:cNvSpPr/>
          <p:nvPr/>
        </p:nvSpPr>
        <p:spPr>
          <a:xfrm>
            <a:off x="762012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5"/>
          <p:cNvSpPr/>
          <p:nvPr/>
        </p:nvSpPr>
        <p:spPr>
          <a:xfrm>
            <a:off x="7620120" y="1828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"/>
          <p:cNvSpPr/>
          <p:nvPr/>
        </p:nvSpPr>
        <p:spPr>
          <a:xfrm>
            <a:off x="7922160" y="23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WordArt 20"/>
          <p:cNvSpPr txBox="1"/>
          <p:nvPr/>
        </p:nvSpPr>
        <p:spPr>
          <a:xfrm rot="543000">
            <a:off x="835200" y="142920"/>
            <a:ext cx="1904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考考你</a:t>
            </a:r>
            <a:endParaRPr b="1" i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3" name="Picture 22" descr="s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4680" y="152280"/>
            <a:ext cx="1098720" cy="1295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4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6"/>
          <p:cNvSpPr/>
          <p:nvPr/>
        </p:nvSpPr>
        <p:spPr>
          <a:xfrm>
            <a:off x="1066680" y="14479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物理学中规定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功等于力跟物体在力的方向上通过的距离的乘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即：   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</a:rPr>
              <a:t>功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</a:rPr>
              <a:t>力</a:t>
            </a:r>
            <a:r>
              <a:rPr b="1" lang="en-US" sz="2800" spc="-1" strike="noStrike">
                <a:solidFill>
                  <a:srgbClr val="4e3b3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4e3b30"/>
                </a:solidFill>
                <a:latin typeface="Arial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WordArt 7"/>
          <p:cNvSpPr txBox="1"/>
          <p:nvPr/>
        </p:nvSpPr>
        <p:spPr>
          <a:xfrm>
            <a:off x="2590920" y="304920"/>
            <a:ext cx="3200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功的计算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1295280" y="3048120"/>
            <a:ext cx="5562720" cy="947160"/>
          </a:xfrm>
          <a:prstGeom prst="rect">
            <a:avLst/>
          </a:prstGeom>
          <a:solidFill>
            <a:srgbClr val="daf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．功的计算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8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1"/>
          <p:cNvSpPr/>
          <p:nvPr/>
        </p:nvSpPr>
        <p:spPr>
          <a:xfrm>
            <a:off x="1295280" y="4038480"/>
            <a:ext cx="5562720" cy="947160"/>
          </a:xfrm>
          <a:prstGeom prst="rect">
            <a:avLst/>
          </a:prstGeom>
          <a:solidFill>
            <a:srgbClr val="daf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．功的单位：焦耳（</a:t>
            </a: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J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6"/>
          <p:cNvSpPr/>
          <p:nvPr/>
        </p:nvSpPr>
        <p:spPr>
          <a:xfrm>
            <a:off x="1295280" y="3581280"/>
            <a:ext cx="5562720" cy="581400"/>
          </a:xfrm>
          <a:prstGeom prst="rect">
            <a:avLst/>
          </a:prstGeom>
          <a:solidFill>
            <a:srgbClr val="daf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W=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1295280" y="4800600"/>
            <a:ext cx="5562720" cy="581400"/>
          </a:xfrm>
          <a:prstGeom prst="rect">
            <a:avLst/>
          </a:prstGeom>
          <a:solidFill>
            <a:srgbClr val="daf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焦耳（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牛顿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(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11-图片-64"/>
          <p:cNvPicPr/>
          <p:nvPr/>
        </p:nvPicPr>
        <p:blipFill>
          <a:blip r:embed="rId1"/>
          <a:stretch/>
        </p:blipFill>
        <p:spPr>
          <a:xfrm>
            <a:off x="838080" y="-380880"/>
            <a:ext cx="7162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11-图片-65"/>
          <p:cNvPicPr/>
          <p:nvPr/>
        </p:nvPicPr>
        <p:blipFill>
          <a:blip r:embed="rId1"/>
          <a:stretch/>
        </p:blipFill>
        <p:spPr>
          <a:xfrm>
            <a:off x="228600" y="0"/>
            <a:ext cx="4290840" cy="6858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11-图片-66"/>
          <p:cNvPicPr/>
          <p:nvPr/>
        </p:nvPicPr>
        <p:blipFill>
          <a:blip r:embed="rId2"/>
          <a:stretch/>
        </p:blipFill>
        <p:spPr>
          <a:xfrm>
            <a:off x="4348080" y="0"/>
            <a:ext cx="47196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9"/>
          <p:cNvSpPr/>
          <p:nvPr/>
        </p:nvSpPr>
        <p:spPr>
          <a:xfrm>
            <a:off x="685800" y="457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将一个鸡蛋举高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米做功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WordArt 5"/>
          <p:cNvSpPr txBox="1"/>
          <p:nvPr/>
        </p:nvSpPr>
        <p:spPr>
          <a:xfrm>
            <a:off x="457200" y="38088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考考你的估测能力</a:t>
            </a:r>
            <a:endParaRPr b="0" lang="en-US" sz="1800" spc="1" strike="noStrike">
              <a:ln w="9360">
                <a:solidFill>
                  <a:srgbClr val="ff0066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57200" y="14112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一桶净化水从地面扛到肩上做功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7.5J   B.75J    C.750J    D.750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7315200" y="1447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57200" y="2362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物理课本从地上捡到课桌上做功约为（）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.0.2J   B.2J     C.20J   D.20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3152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457200" y="3429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从一楼走到三楼克服自身重力做功约为（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30J   B.300J    C.3000J    D.3000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7698240" y="3324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441360" y="41911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伦敦奥运会上，我国运动员王明娟获得女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级举重金牌，她的抓举成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㎏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她在抓举过程中对杠铃做的功约为  （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90J   B.900J   C.180J   D.180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59436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6" descr="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152280"/>
            <a:ext cx="990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37" descr="0055"/>
          <p:cNvPicPr/>
          <p:nvPr/>
        </p:nvPicPr>
        <p:blipFill>
          <a:blip r:embed="rId1"/>
          <a:stretch/>
        </p:blipFill>
        <p:spPr>
          <a:xfrm>
            <a:off x="5410080" y="5105520"/>
            <a:ext cx="1843200" cy="151920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81"/>
          <p:cNvGrpSpPr/>
          <p:nvPr/>
        </p:nvGrpSpPr>
        <p:grpSpPr>
          <a:xfrm>
            <a:off x="293760" y="2209680"/>
            <a:ext cx="5941440" cy="4417920"/>
            <a:chOff x="293760" y="2209680"/>
            <a:chExt cx="5941440" cy="4417920"/>
          </a:xfrm>
        </p:grpSpPr>
        <p:grpSp>
          <p:nvGrpSpPr>
            <p:cNvPr id="676" name="Group 79"/>
            <p:cNvGrpSpPr/>
            <p:nvPr/>
          </p:nvGrpSpPr>
          <p:grpSpPr>
            <a:xfrm>
              <a:off x="748080" y="2209680"/>
              <a:ext cx="5487120" cy="4417920"/>
              <a:chOff x="748080" y="2209680"/>
              <a:chExt cx="5487120" cy="4417920"/>
            </a:xfrm>
          </p:grpSpPr>
          <p:grpSp>
            <p:nvGrpSpPr>
              <p:cNvPr id="677" name="Group 59"/>
              <p:cNvGrpSpPr/>
              <p:nvPr/>
            </p:nvGrpSpPr>
            <p:grpSpPr>
              <a:xfrm>
                <a:off x="3478680" y="4419000"/>
                <a:ext cx="2756520" cy="2208600"/>
                <a:chOff x="3478680" y="4419000"/>
                <a:chExt cx="2756520" cy="2208600"/>
              </a:xfrm>
            </p:grpSpPr>
            <p:grpSp>
              <p:nvGrpSpPr>
                <p:cNvPr id="678" name="Group 40"/>
                <p:cNvGrpSpPr/>
                <p:nvPr/>
              </p:nvGrpSpPr>
              <p:grpSpPr>
                <a:xfrm>
                  <a:off x="3478680" y="4419000"/>
                  <a:ext cx="454680" cy="368280"/>
                  <a:chOff x="3478680" y="4419000"/>
                  <a:chExt cx="454680" cy="368280"/>
                </a:xfrm>
              </p:grpSpPr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3479040" y="4786920"/>
                    <a:ext cx="454320" cy="360"/>
                    <a:chOff x="3479040" y="4786920"/>
                    <a:chExt cx="454320" cy="360"/>
                  </a:xfrm>
                </p:grpSpPr>
                <p:sp>
                  <p:nvSpPr>
                    <p:cNvPr id="680" name="Line 38"/>
                    <p:cNvSpPr/>
                    <p:nvPr/>
                  </p:nvSpPr>
                  <p:spPr>
                    <a:xfrm>
                      <a:off x="3479040" y="478692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 txBox="1"/>
                    <p:nvPr/>
                  </p:nvSpPr>
                  <p:spPr>
                    <a:xfrm>
                      <a:off x="3479040" y="478692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3478680" y="4419000"/>
                    <a:ext cx="360" cy="367920"/>
                    <a:chOff x="3478680" y="4419000"/>
                    <a:chExt cx="360" cy="367920"/>
                  </a:xfrm>
                </p:grpSpPr>
                <p:sp>
                  <p:nvSpPr>
                    <p:cNvPr id="683" name="Line 39"/>
                    <p:cNvSpPr/>
                    <p:nvPr/>
                  </p:nvSpPr>
                  <p:spPr>
                    <a:xfrm flipV="1">
                      <a:off x="3479040" y="441900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 txBox="1"/>
                    <p:nvPr/>
                  </p:nvSpPr>
                  <p:spPr>
                    <a:xfrm rot="10800000">
                      <a:off x="3478680" y="441900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85" name="Group 41"/>
                <p:cNvGrpSpPr/>
                <p:nvPr/>
              </p:nvGrpSpPr>
              <p:grpSpPr>
                <a:xfrm>
                  <a:off x="3933360" y="4787280"/>
                  <a:ext cx="455040" cy="368280"/>
                  <a:chOff x="3933360" y="4787280"/>
                  <a:chExt cx="455040" cy="368280"/>
                </a:xfrm>
              </p:grpSpPr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3933720" y="5155200"/>
                    <a:ext cx="454680" cy="360"/>
                    <a:chOff x="3933720" y="5155200"/>
                    <a:chExt cx="454680" cy="360"/>
                  </a:xfrm>
                </p:grpSpPr>
                <p:sp>
                  <p:nvSpPr>
                    <p:cNvPr id="687" name="Line 42"/>
                    <p:cNvSpPr/>
                    <p:nvPr/>
                  </p:nvSpPr>
                  <p:spPr>
                    <a:xfrm>
                      <a:off x="3933720" y="515520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 txBox="1"/>
                    <p:nvPr/>
                  </p:nvSpPr>
                  <p:spPr>
                    <a:xfrm>
                      <a:off x="3933720" y="515520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3933360" y="4787280"/>
                    <a:ext cx="360" cy="367920"/>
                    <a:chOff x="3933360" y="4787280"/>
                    <a:chExt cx="360" cy="367920"/>
                  </a:xfrm>
                </p:grpSpPr>
                <p:sp>
                  <p:nvSpPr>
                    <p:cNvPr id="690" name="Line 43"/>
                    <p:cNvSpPr/>
                    <p:nvPr/>
                  </p:nvSpPr>
                  <p:spPr>
                    <a:xfrm flipV="1">
                      <a:off x="3933720" y="478728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 txBox="1"/>
                    <p:nvPr/>
                  </p:nvSpPr>
                  <p:spPr>
                    <a:xfrm rot="10800000">
                      <a:off x="3933360" y="478728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2" name="Group 47"/>
                <p:cNvGrpSpPr/>
                <p:nvPr/>
              </p:nvGrpSpPr>
              <p:grpSpPr>
                <a:xfrm>
                  <a:off x="4388760" y="5155560"/>
                  <a:ext cx="454680" cy="367560"/>
                  <a:chOff x="4388760" y="5155560"/>
                  <a:chExt cx="454680" cy="36756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4389120" y="5522760"/>
                    <a:ext cx="454320" cy="360"/>
                    <a:chOff x="4389120" y="5522760"/>
                    <a:chExt cx="454320" cy="360"/>
                  </a:xfrm>
                </p:grpSpPr>
                <p:sp>
                  <p:nvSpPr>
                    <p:cNvPr id="694" name="Line 48"/>
                    <p:cNvSpPr/>
                    <p:nvPr/>
                  </p:nvSpPr>
                  <p:spPr>
                    <a:xfrm>
                      <a:off x="4389120" y="552276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 txBox="1"/>
                    <p:nvPr/>
                  </p:nvSpPr>
                  <p:spPr>
                    <a:xfrm>
                      <a:off x="4389120" y="552276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6" name=""/>
                  <p:cNvGrpSpPr/>
                  <p:nvPr/>
                </p:nvGrpSpPr>
                <p:grpSpPr>
                  <a:xfrm>
                    <a:off x="4388760" y="5155560"/>
                    <a:ext cx="360" cy="367200"/>
                    <a:chOff x="4388760" y="5155560"/>
                    <a:chExt cx="360" cy="367200"/>
                  </a:xfrm>
                </p:grpSpPr>
                <p:sp>
                  <p:nvSpPr>
                    <p:cNvPr id="697" name="Line 49"/>
                    <p:cNvSpPr/>
                    <p:nvPr/>
                  </p:nvSpPr>
                  <p:spPr>
                    <a:xfrm flipV="1">
                      <a:off x="4389120" y="5155560"/>
                      <a:ext cx="0" cy="367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 txBox="1"/>
                    <p:nvPr/>
                  </p:nvSpPr>
                  <p:spPr>
                    <a:xfrm rot="10800000">
                      <a:off x="4388760" y="5155560"/>
                      <a:ext cx="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99" name="Group 50"/>
                <p:cNvGrpSpPr/>
                <p:nvPr/>
              </p:nvGrpSpPr>
              <p:grpSpPr>
                <a:xfrm>
                  <a:off x="5780160" y="6260040"/>
                  <a:ext cx="455040" cy="367560"/>
                  <a:chOff x="5780160" y="6260040"/>
                  <a:chExt cx="455040" cy="36756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780520" y="6627240"/>
                    <a:ext cx="454680" cy="360"/>
                    <a:chOff x="5780520" y="6627240"/>
                    <a:chExt cx="454680" cy="360"/>
                  </a:xfrm>
                </p:grpSpPr>
                <p:sp>
                  <p:nvSpPr>
                    <p:cNvPr id="701" name="Line 51"/>
                    <p:cNvSpPr/>
                    <p:nvPr/>
                  </p:nvSpPr>
                  <p:spPr>
                    <a:xfrm>
                      <a:off x="5780520" y="662724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 txBox="1"/>
                    <p:nvPr/>
                  </p:nvSpPr>
                  <p:spPr>
                    <a:xfrm>
                      <a:off x="5780520" y="662724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780160" y="6260040"/>
                    <a:ext cx="360" cy="367200"/>
                    <a:chOff x="5780160" y="6260040"/>
                    <a:chExt cx="360" cy="367200"/>
                  </a:xfrm>
                </p:grpSpPr>
                <p:sp>
                  <p:nvSpPr>
                    <p:cNvPr id="704" name="Line 52"/>
                    <p:cNvSpPr/>
                    <p:nvPr/>
                  </p:nvSpPr>
                  <p:spPr>
                    <a:xfrm flipV="1">
                      <a:off x="5780520" y="6260040"/>
                      <a:ext cx="0" cy="367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 txBox="1"/>
                    <p:nvPr/>
                  </p:nvSpPr>
                  <p:spPr>
                    <a:xfrm rot="10800000">
                      <a:off x="5780160" y="6260040"/>
                      <a:ext cx="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6" name="Group 53"/>
                <p:cNvGrpSpPr/>
                <p:nvPr/>
              </p:nvGrpSpPr>
              <p:grpSpPr>
                <a:xfrm>
                  <a:off x="4868280" y="5523480"/>
                  <a:ext cx="455040" cy="368280"/>
                  <a:chOff x="4868280" y="5523480"/>
                  <a:chExt cx="455040" cy="368280"/>
                </a:xfrm>
              </p:grpSpPr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4868640" y="5891400"/>
                    <a:ext cx="454680" cy="360"/>
                    <a:chOff x="4868640" y="5891400"/>
                    <a:chExt cx="454680" cy="360"/>
                  </a:xfrm>
                </p:grpSpPr>
                <p:sp>
                  <p:nvSpPr>
                    <p:cNvPr id="708" name="Line 54"/>
                    <p:cNvSpPr/>
                    <p:nvPr/>
                  </p:nvSpPr>
                  <p:spPr>
                    <a:xfrm>
                      <a:off x="4868640" y="589140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 txBox="1"/>
                    <p:nvPr/>
                  </p:nvSpPr>
                  <p:spPr>
                    <a:xfrm>
                      <a:off x="4868640" y="589140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4868280" y="5523480"/>
                    <a:ext cx="360" cy="367920"/>
                    <a:chOff x="4868280" y="5523480"/>
                    <a:chExt cx="360" cy="367920"/>
                  </a:xfrm>
                </p:grpSpPr>
                <p:sp>
                  <p:nvSpPr>
                    <p:cNvPr id="711" name="Line 55"/>
                    <p:cNvSpPr/>
                    <p:nvPr/>
                  </p:nvSpPr>
                  <p:spPr>
                    <a:xfrm flipV="1">
                      <a:off x="4868640" y="552348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 txBox="1"/>
                    <p:nvPr/>
                  </p:nvSpPr>
                  <p:spPr>
                    <a:xfrm rot="10800000">
                      <a:off x="4868280" y="552348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13" name="Group 56"/>
                <p:cNvGrpSpPr/>
                <p:nvPr/>
              </p:nvGrpSpPr>
              <p:grpSpPr>
                <a:xfrm>
                  <a:off x="5337000" y="5891760"/>
                  <a:ext cx="454680" cy="368280"/>
                  <a:chOff x="5337000" y="5891760"/>
                  <a:chExt cx="454680" cy="368280"/>
                </a:xfrm>
              </p:grpSpPr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337360" y="6259680"/>
                    <a:ext cx="454320" cy="360"/>
                    <a:chOff x="5337360" y="6259680"/>
                    <a:chExt cx="454320" cy="360"/>
                  </a:xfrm>
                </p:grpSpPr>
                <p:sp>
                  <p:nvSpPr>
                    <p:cNvPr id="715" name="Line 57"/>
                    <p:cNvSpPr/>
                    <p:nvPr/>
                  </p:nvSpPr>
                  <p:spPr>
                    <a:xfrm>
                      <a:off x="5337360" y="625968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 txBox="1"/>
                    <p:nvPr/>
                  </p:nvSpPr>
                  <p:spPr>
                    <a:xfrm>
                      <a:off x="5337360" y="625968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5337000" y="5891760"/>
                    <a:ext cx="360" cy="367920"/>
                    <a:chOff x="5337000" y="5891760"/>
                    <a:chExt cx="360" cy="367920"/>
                  </a:xfrm>
                </p:grpSpPr>
                <p:sp>
                  <p:nvSpPr>
                    <p:cNvPr id="718" name="Line 58"/>
                    <p:cNvSpPr/>
                    <p:nvPr/>
                  </p:nvSpPr>
                  <p:spPr>
                    <a:xfrm flipV="1">
                      <a:off x="5337360" y="589176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 txBox="1"/>
                    <p:nvPr/>
                  </p:nvSpPr>
                  <p:spPr>
                    <a:xfrm rot="10800000">
                      <a:off x="5337000" y="589176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20" name="Group 60"/>
              <p:cNvGrpSpPr/>
              <p:nvPr/>
            </p:nvGrpSpPr>
            <p:grpSpPr>
              <a:xfrm>
                <a:off x="748080" y="2209680"/>
                <a:ext cx="2756520" cy="2208600"/>
                <a:chOff x="748080" y="2209680"/>
                <a:chExt cx="2756520" cy="2208600"/>
              </a:xfrm>
            </p:grpSpPr>
            <p:grpSp>
              <p:nvGrpSpPr>
                <p:cNvPr id="721" name="Group 61"/>
                <p:cNvGrpSpPr/>
                <p:nvPr/>
              </p:nvGrpSpPr>
              <p:grpSpPr>
                <a:xfrm>
                  <a:off x="748080" y="2209680"/>
                  <a:ext cx="454680" cy="368280"/>
                  <a:chOff x="748080" y="2209680"/>
                  <a:chExt cx="454680" cy="368280"/>
                </a:xfrm>
              </p:grpSpPr>
              <p:grpSp>
                <p:nvGrpSpPr>
                  <p:cNvPr id="722" name=""/>
                  <p:cNvGrpSpPr/>
                  <p:nvPr/>
                </p:nvGrpSpPr>
                <p:grpSpPr>
                  <a:xfrm>
                    <a:off x="748440" y="2577600"/>
                    <a:ext cx="454320" cy="360"/>
                    <a:chOff x="748440" y="2577600"/>
                    <a:chExt cx="454320" cy="360"/>
                  </a:xfrm>
                </p:grpSpPr>
                <p:sp>
                  <p:nvSpPr>
                    <p:cNvPr id="723" name="Line 62"/>
                    <p:cNvSpPr/>
                    <p:nvPr/>
                  </p:nvSpPr>
                  <p:spPr>
                    <a:xfrm>
                      <a:off x="748440" y="257760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 txBox="1"/>
                    <p:nvPr/>
                  </p:nvSpPr>
                  <p:spPr>
                    <a:xfrm>
                      <a:off x="748440" y="257760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748080" y="2209680"/>
                    <a:ext cx="360" cy="367920"/>
                    <a:chOff x="748080" y="2209680"/>
                    <a:chExt cx="360" cy="367920"/>
                  </a:xfrm>
                </p:grpSpPr>
                <p:sp>
                  <p:nvSpPr>
                    <p:cNvPr id="726" name="Line 63"/>
                    <p:cNvSpPr/>
                    <p:nvPr/>
                  </p:nvSpPr>
                  <p:spPr>
                    <a:xfrm flipV="1">
                      <a:off x="748440" y="220968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 txBox="1"/>
                    <p:nvPr/>
                  </p:nvSpPr>
                  <p:spPr>
                    <a:xfrm rot="10800000">
                      <a:off x="748080" y="220968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8" name="Group 64"/>
                <p:cNvGrpSpPr/>
                <p:nvPr/>
              </p:nvGrpSpPr>
              <p:grpSpPr>
                <a:xfrm>
                  <a:off x="1202760" y="2577960"/>
                  <a:ext cx="455040" cy="368280"/>
                  <a:chOff x="1202760" y="2577960"/>
                  <a:chExt cx="455040" cy="368280"/>
                </a:xfrm>
              </p:grpSpPr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1203120" y="2945880"/>
                    <a:ext cx="454680" cy="360"/>
                    <a:chOff x="1203120" y="2945880"/>
                    <a:chExt cx="454680" cy="360"/>
                  </a:xfrm>
                </p:grpSpPr>
                <p:sp>
                  <p:nvSpPr>
                    <p:cNvPr id="730" name="Line 65"/>
                    <p:cNvSpPr/>
                    <p:nvPr/>
                  </p:nvSpPr>
                  <p:spPr>
                    <a:xfrm>
                      <a:off x="1203120" y="294588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 txBox="1"/>
                    <p:nvPr/>
                  </p:nvSpPr>
                  <p:spPr>
                    <a:xfrm>
                      <a:off x="1203120" y="294588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1202760" y="2577960"/>
                    <a:ext cx="360" cy="367920"/>
                    <a:chOff x="1202760" y="2577960"/>
                    <a:chExt cx="360" cy="367920"/>
                  </a:xfrm>
                </p:grpSpPr>
                <p:sp>
                  <p:nvSpPr>
                    <p:cNvPr id="733" name="Line 66"/>
                    <p:cNvSpPr/>
                    <p:nvPr/>
                  </p:nvSpPr>
                  <p:spPr>
                    <a:xfrm flipV="1">
                      <a:off x="1203120" y="257796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 txBox="1"/>
                    <p:nvPr/>
                  </p:nvSpPr>
                  <p:spPr>
                    <a:xfrm rot="10800000">
                      <a:off x="1202760" y="257796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35" name="Group 67"/>
                <p:cNvGrpSpPr/>
                <p:nvPr/>
              </p:nvGrpSpPr>
              <p:grpSpPr>
                <a:xfrm>
                  <a:off x="1658160" y="2946240"/>
                  <a:ext cx="454680" cy="367560"/>
                  <a:chOff x="1658160" y="2946240"/>
                  <a:chExt cx="454680" cy="367560"/>
                </a:xfrm>
              </p:grpSpPr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1658520" y="3313440"/>
                    <a:ext cx="454320" cy="360"/>
                    <a:chOff x="1658520" y="3313440"/>
                    <a:chExt cx="454320" cy="360"/>
                  </a:xfrm>
                </p:grpSpPr>
                <p:sp>
                  <p:nvSpPr>
                    <p:cNvPr id="737" name="Line 68"/>
                    <p:cNvSpPr/>
                    <p:nvPr/>
                  </p:nvSpPr>
                  <p:spPr>
                    <a:xfrm>
                      <a:off x="1658520" y="331344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 txBox="1"/>
                    <p:nvPr/>
                  </p:nvSpPr>
                  <p:spPr>
                    <a:xfrm>
                      <a:off x="1658520" y="331344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1658160" y="2946240"/>
                    <a:ext cx="360" cy="367200"/>
                    <a:chOff x="1658160" y="2946240"/>
                    <a:chExt cx="360" cy="367200"/>
                  </a:xfrm>
                </p:grpSpPr>
                <p:sp>
                  <p:nvSpPr>
                    <p:cNvPr id="740" name="Line 69"/>
                    <p:cNvSpPr/>
                    <p:nvPr/>
                  </p:nvSpPr>
                  <p:spPr>
                    <a:xfrm flipV="1">
                      <a:off x="1658520" y="2946240"/>
                      <a:ext cx="0" cy="367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 txBox="1"/>
                    <p:nvPr/>
                  </p:nvSpPr>
                  <p:spPr>
                    <a:xfrm rot="10800000">
                      <a:off x="1658160" y="2946240"/>
                      <a:ext cx="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70"/>
                <p:cNvGrpSpPr/>
                <p:nvPr/>
              </p:nvGrpSpPr>
              <p:grpSpPr>
                <a:xfrm>
                  <a:off x="3049560" y="4050720"/>
                  <a:ext cx="455040" cy="367560"/>
                  <a:chOff x="3049560" y="4050720"/>
                  <a:chExt cx="455040" cy="367560"/>
                </a:xfrm>
              </p:grpSpPr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3049920" y="4417920"/>
                    <a:ext cx="454680" cy="360"/>
                    <a:chOff x="3049920" y="4417920"/>
                    <a:chExt cx="454680" cy="360"/>
                  </a:xfrm>
                </p:grpSpPr>
                <p:sp>
                  <p:nvSpPr>
                    <p:cNvPr id="744" name="Line 71"/>
                    <p:cNvSpPr/>
                    <p:nvPr/>
                  </p:nvSpPr>
                  <p:spPr>
                    <a:xfrm>
                      <a:off x="3049920" y="441792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 txBox="1"/>
                    <p:nvPr/>
                  </p:nvSpPr>
                  <p:spPr>
                    <a:xfrm>
                      <a:off x="3049920" y="441792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3049560" y="4050720"/>
                    <a:ext cx="360" cy="367200"/>
                    <a:chOff x="3049560" y="4050720"/>
                    <a:chExt cx="360" cy="367200"/>
                  </a:xfrm>
                </p:grpSpPr>
                <p:sp>
                  <p:nvSpPr>
                    <p:cNvPr id="747" name="Line 72"/>
                    <p:cNvSpPr/>
                    <p:nvPr/>
                  </p:nvSpPr>
                  <p:spPr>
                    <a:xfrm flipV="1">
                      <a:off x="3049920" y="4050720"/>
                      <a:ext cx="0" cy="3672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 txBox="1"/>
                    <p:nvPr/>
                  </p:nvSpPr>
                  <p:spPr>
                    <a:xfrm rot="10800000">
                      <a:off x="3049560" y="4050720"/>
                      <a:ext cx="36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9" name="Group 73"/>
                <p:cNvGrpSpPr/>
                <p:nvPr/>
              </p:nvGrpSpPr>
              <p:grpSpPr>
                <a:xfrm>
                  <a:off x="2137680" y="3314160"/>
                  <a:ext cx="455040" cy="368280"/>
                  <a:chOff x="2137680" y="3314160"/>
                  <a:chExt cx="455040" cy="36828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2138040" y="3682080"/>
                    <a:ext cx="454680" cy="360"/>
                    <a:chOff x="2138040" y="3682080"/>
                    <a:chExt cx="454680" cy="360"/>
                  </a:xfrm>
                </p:grpSpPr>
                <p:sp>
                  <p:nvSpPr>
                    <p:cNvPr id="751" name="Line 74"/>
                    <p:cNvSpPr/>
                    <p:nvPr/>
                  </p:nvSpPr>
                  <p:spPr>
                    <a:xfrm>
                      <a:off x="2138040" y="3682080"/>
                      <a:ext cx="4546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 txBox="1"/>
                    <p:nvPr/>
                  </p:nvSpPr>
                  <p:spPr>
                    <a:xfrm>
                      <a:off x="2138040" y="3682080"/>
                      <a:ext cx="454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2137680" y="3314160"/>
                    <a:ext cx="360" cy="367920"/>
                    <a:chOff x="2137680" y="3314160"/>
                    <a:chExt cx="360" cy="367920"/>
                  </a:xfrm>
                </p:grpSpPr>
                <p:sp>
                  <p:nvSpPr>
                    <p:cNvPr id="754" name="Line 75"/>
                    <p:cNvSpPr/>
                    <p:nvPr/>
                  </p:nvSpPr>
                  <p:spPr>
                    <a:xfrm flipV="1">
                      <a:off x="2138040" y="331416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 txBox="1"/>
                    <p:nvPr/>
                  </p:nvSpPr>
                  <p:spPr>
                    <a:xfrm rot="10800000">
                      <a:off x="2137680" y="331416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6" name="Group 76"/>
                <p:cNvGrpSpPr/>
                <p:nvPr/>
              </p:nvGrpSpPr>
              <p:grpSpPr>
                <a:xfrm>
                  <a:off x="2606400" y="3682440"/>
                  <a:ext cx="454680" cy="368280"/>
                  <a:chOff x="2606400" y="3682440"/>
                  <a:chExt cx="454680" cy="368280"/>
                </a:xfrm>
              </p:grpSpPr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2606760" y="4050360"/>
                    <a:ext cx="454320" cy="360"/>
                    <a:chOff x="2606760" y="4050360"/>
                    <a:chExt cx="454320" cy="360"/>
                  </a:xfrm>
                </p:grpSpPr>
                <p:sp>
                  <p:nvSpPr>
                    <p:cNvPr id="758" name="Line 77"/>
                    <p:cNvSpPr/>
                    <p:nvPr/>
                  </p:nvSpPr>
                  <p:spPr>
                    <a:xfrm>
                      <a:off x="2606760" y="4050360"/>
                      <a:ext cx="4543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 txBox="1"/>
                    <p:nvPr/>
                  </p:nvSpPr>
                  <p:spPr>
                    <a:xfrm>
                      <a:off x="2606760" y="4050360"/>
                      <a:ext cx="454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2606400" y="3682440"/>
                    <a:ext cx="360" cy="367920"/>
                    <a:chOff x="2606400" y="3682440"/>
                    <a:chExt cx="360" cy="367920"/>
                  </a:xfrm>
                </p:grpSpPr>
                <p:sp>
                  <p:nvSpPr>
                    <p:cNvPr id="761" name="Line 78"/>
                    <p:cNvSpPr/>
                    <p:nvPr/>
                  </p:nvSpPr>
                  <p:spPr>
                    <a:xfrm flipV="1">
                      <a:off x="2606760" y="3682440"/>
                      <a:ext cx="0" cy="367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 txBox="1"/>
                    <p:nvPr/>
                  </p:nvSpPr>
                  <p:spPr>
                    <a:xfrm rot="10800000">
                      <a:off x="2606400" y="3682440"/>
                      <a:ext cx="360" cy="367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763" name=""/>
            <p:cNvGrpSpPr/>
            <p:nvPr/>
          </p:nvGrpSpPr>
          <p:grpSpPr>
            <a:xfrm>
              <a:off x="293760" y="2209680"/>
              <a:ext cx="454680" cy="360"/>
              <a:chOff x="293760" y="2209680"/>
              <a:chExt cx="454680" cy="360"/>
            </a:xfrm>
          </p:grpSpPr>
          <p:sp>
            <p:nvSpPr>
              <p:cNvPr id="764" name="Line 80"/>
              <p:cNvSpPr/>
              <p:nvPr/>
            </p:nvSpPr>
            <p:spPr>
              <a:xfrm>
                <a:off x="293760" y="2209680"/>
                <a:ext cx="45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93760" y="2209680"/>
                <a:ext cx="45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WordArt 82"/>
          <p:cNvSpPr txBox="1"/>
          <p:nvPr/>
        </p:nvSpPr>
        <p:spPr>
          <a:xfrm rot="451800">
            <a:off x="456840" y="0"/>
            <a:ext cx="2370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7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显身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7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67" name="Group 86"/>
          <p:cNvGrpSpPr/>
          <p:nvPr/>
        </p:nvGrpSpPr>
        <p:grpSpPr>
          <a:xfrm>
            <a:off x="457200" y="914400"/>
            <a:ext cx="609480" cy="914400"/>
            <a:chOff x="457200" y="914400"/>
            <a:chExt cx="609480" cy="914400"/>
          </a:xfrm>
        </p:grpSpPr>
        <p:grpSp>
          <p:nvGrpSpPr>
            <p:cNvPr id="768" name=""/>
            <p:cNvGrpSpPr/>
            <p:nvPr/>
          </p:nvGrpSpPr>
          <p:grpSpPr>
            <a:xfrm>
              <a:off x="914040" y="914400"/>
              <a:ext cx="360" cy="914400"/>
              <a:chOff x="914040" y="914400"/>
              <a:chExt cx="360" cy="914400"/>
            </a:xfrm>
          </p:grpSpPr>
          <p:sp>
            <p:nvSpPr>
              <p:cNvPr id="769" name="Line 87"/>
              <p:cNvSpPr/>
              <p:nvPr/>
            </p:nvSpPr>
            <p:spPr>
              <a:xfrm flipV="1">
                <a:off x="914400" y="914400"/>
                <a:ext cx="0" cy="91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 rot="10800000">
                <a:off x="914040" y="9144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Text Box 88"/>
            <p:cNvSpPr/>
            <p:nvPr/>
          </p:nvSpPr>
          <p:spPr>
            <a:xfrm>
              <a:off x="457200" y="914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89"/>
          <p:cNvGrpSpPr/>
          <p:nvPr/>
        </p:nvGrpSpPr>
        <p:grpSpPr>
          <a:xfrm>
            <a:off x="478080" y="2501640"/>
            <a:ext cx="5235120" cy="4246560"/>
            <a:chOff x="478080" y="2501640"/>
            <a:chExt cx="5235120" cy="4246560"/>
          </a:xfrm>
        </p:grpSpPr>
        <p:grpSp>
          <p:nvGrpSpPr>
            <p:cNvPr id="773" name=""/>
            <p:cNvGrpSpPr/>
            <p:nvPr/>
          </p:nvGrpSpPr>
          <p:grpSpPr>
            <a:xfrm>
              <a:off x="478080" y="2501640"/>
              <a:ext cx="5235120" cy="4246560"/>
              <a:chOff x="478080" y="2501640"/>
              <a:chExt cx="5235120" cy="4246560"/>
            </a:xfrm>
          </p:grpSpPr>
          <p:sp>
            <p:nvSpPr>
              <p:cNvPr id="774" name="Line 90"/>
              <p:cNvSpPr/>
              <p:nvPr/>
            </p:nvSpPr>
            <p:spPr>
              <a:xfrm>
                <a:off x="478440" y="2501640"/>
                <a:ext cx="5234760" cy="4246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 rot="2343000">
                <a:off x="-274320" y="4624560"/>
                <a:ext cx="6740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Text Box 91"/>
            <p:cNvSpPr/>
            <p:nvPr/>
          </p:nvSpPr>
          <p:spPr>
            <a:xfrm rot="2343000">
              <a:off x="2306880" y="425808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Text Box 93"/>
          <p:cNvSpPr/>
          <p:nvPr/>
        </p:nvSpPr>
        <p:spPr>
          <a:xfrm>
            <a:off x="3505320" y="1522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搬着物体上楼梯时，人对物体有没有做功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867280" y="2362320"/>
            <a:ext cx="360" cy="360"/>
            <a:chOff x="5867280" y="2362320"/>
            <a:chExt cx="360" cy="360"/>
          </a:xfrm>
        </p:grpSpPr>
        <p:sp>
          <p:nvSpPr>
            <p:cNvPr id="779" name="Line 95"/>
            <p:cNvSpPr/>
            <p:nvPr/>
          </p:nvSpPr>
          <p:spPr>
            <a:xfrm>
              <a:off x="5867280" y="2362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5867280" y="2362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99"/>
          <p:cNvGrpSpPr/>
          <p:nvPr/>
        </p:nvGrpSpPr>
        <p:grpSpPr>
          <a:xfrm>
            <a:off x="4038480" y="2666880"/>
            <a:ext cx="5028480" cy="1600200"/>
            <a:chOff x="4038480" y="2666880"/>
            <a:chExt cx="5028480" cy="1600200"/>
          </a:xfrm>
        </p:grpSpPr>
        <p:grpSp>
          <p:nvGrpSpPr>
            <p:cNvPr id="782" name=""/>
            <p:cNvGrpSpPr/>
            <p:nvPr/>
          </p:nvGrpSpPr>
          <p:grpSpPr>
            <a:xfrm>
              <a:off x="6147000" y="4266720"/>
              <a:ext cx="2919960" cy="360"/>
              <a:chOff x="6147000" y="4266720"/>
              <a:chExt cx="2919960" cy="360"/>
            </a:xfrm>
          </p:grpSpPr>
          <p:sp>
            <p:nvSpPr>
              <p:cNvPr id="783" name="Line 94"/>
              <p:cNvSpPr/>
              <p:nvPr/>
            </p:nvSpPr>
            <p:spPr>
              <a:xfrm>
                <a:off x="6147000" y="4266720"/>
                <a:ext cx="29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6147000" y="4266720"/>
                <a:ext cx="2919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98"/>
            <p:cNvGrpSpPr/>
            <p:nvPr/>
          </p:nvGrpSpPr>
          <p:grpSpPr>
            <a:xfrm>
              <a:off x="4038480" y="2666880"/>
              <a:ext cx="2108160" cy="1599480"/>
              <a:chOff x="4038480" y="2666880"/>
              <a:chExt cx="2108160" cy="1599480"/>
            </a:xfrm>
          </p:grpSpPr>
          <p:grpSp>
            <p:nvGrpSpPr>
              <p:cNvPr id="786" name=""/>
              <p:cNvGrpSpPr/>
              <p:nvPr/>
            </p:nvGrpSpPr>
            <p:grpSpPr>
              <a:xfrm>
                <a:off x="6146280" y="2666880"/>
                <a:ext cx="360" cy="1599480"/>
                <a:chOff x="6146280" y="2666880"/>
                <a:chExt cx="360" cy="1599480"/>
              </a:xfrm>
            </p:grpSpPr>
            <p:sp>
              <p:nvSpPr>
                <p:cNvPr id="787" name="Line 96"/>
                <p:cNvSpPr/>
                <p:nvPr/>
              </p:nvSpPr>
              <p:spPr>
                <a:xfrm>
                  <a:off x="6146280" y="2666880"/>
                  <a:ext cx="0" cy="159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 txBox="1"/>
                <p:nvPr/>
              </p:nvSpPr>
              <p:spPr>
                <a:xfrm>
                  <a:off x="6146280" y="2666880"/>
                  <a:ext cx="360" cy="159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4038480" y="2666880"/>
                <a:ext cx="2107800" cy="360"/>
                <a:chOff x="4038480" y="2666880"/>
                <a:chExt cx="2107800" cy="360"/>
              </a:xfrm>
            </p:grpSpPr>
            <p:sp>
              <p:nvSpPr>
                <p:cNvPr id="790" name="Line 97"/>
                <p:cNvSpPr/>
                <p:nvPr/>
              </p:nvSpPr>
              <p:spPr>
                <a:xfrm>
                  <a:off x="4038480" y="2666880"/>
                  <a:ext cx="2107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 txBox="1"/>
                <p:nvPr/>
              </p:nvSpPr>
              <p:spPr>
                <a:xfrm>
                  <a:off x="4038480" y="2666880"/>
                  <a:ext cx="210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792" name="Picture 100" descr="0055"/>
          <p:cNvPicPr/>
          <p:nvPr/>
        </p:nvPicPr>
        <p:blipFill>
          <a:blip r:embed="rId2"/>
          <a:stretch/>
        </p:blipFill>
        <p:spPr>
          <a:xfrm>
            <a:off x="9053640" y="2666880"/>
            <a:ext cx="1842840" cy="1519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1" descr="0055"/>
          <p:cNvPicPr/>
          <p:nvPr/>
        </p:nvPicPr>
        <p:blipFill>
          <a:blip r:embed="rId3"/>
          <a:stretch/>
        </p:blipFill>
        <p:spPr>
          <a:xfrm>
            <a:off x="9067680" y="2671920"/>
            <a:ext cx="1843200" cy="151920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102"/>
          <p:cNvGrpSpPr/>
          <p:nvPr/>
        </p:nvGrpSpPr>
        <p:grpSpPr>
          <a:xfrm>
            <a:off x="5867280" y="2590920"/>
            <a:ext cx="609480" cy="914400"/>
            <a:chOff x="5867280" y="2590920"/>
            <a:chExt cx="609480" cy="914400"/>
          </a:xfrm>
        </p:grpSpPr>
        <p:grpSp>
          <p:nvGrpSpPr>
            <p:cNvPr id="795" name=""/>
            <p:cNvGrpSpPr/>
            <p:nvPr/>
          </p:nvGrpSpPr>
          <p:grpSpPr>
            <a:xfrm>
              <a:off x="6324120" y="2590920"/>
              <a:ext cx="360" cy="914400"/>
              <a:chOff x="6324120" y="2590920"/>
              <a:chExt cx="360" cy="914400"/>
            </a:xfrm>
          </p:grpSpPr>
          <p:sp>
            <p:nvSpPr>
              <p:cNvPr id="796" name="Line 103"/>
              <p:cNvSpPr/>
              <p:nvPr/>
            </p:nvSpPr>
            <p:spPr>
              <a:xfrm flipV="1">
                <a:off x="6324480" y="2590920"/>
                <a:ext cx="0" cy="91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 rot="10800000">
                <a:off x="6324120" y="25909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Text Box 104"/>
            <p:cNvSpPr/>
            <p:nvPr/>
          </p:nvSpPr>
          <p:spPr>
            <a:xfrm>
              <a:off x="5867280" y="2590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05"/>
          <p:cNvGrpSpPr/>
          <p:nvPr/>
        </p:nvGrpSpPr>
        <p:grpSpPr>
          <a:xfrm>
            <a:off x="5791320" y="1143000"/>
            <a:ext cx="609480" cy="914400"/>
            <a:chOff x="5791320" y="1143000"/>
            <a:chExt cx="609480" cy="914400"/>
          </a:xfrm>
        </p:grpSpPr>
        <p:grpSp>
          <p:nvGrpSpPr>
            <p:cNvPr id="800" name=""/>
            <p:cNvGrpSpPr/>
            <p:nvPr/>
          </p:nvGrpSpPr>
          <p:grpSpPr>
            <a:xfrm>
              <a:off x="6248160" y="1143000"/>
              <a:ext cx="360" cy="914400"/>
              <a:chOff x="6248160" y="1143000"/>
              <a:chExt cx="360" cy="914400"/>
            </a:xfrm>
          </p:grpSpPr>
          <p:sp>
            <p:nvSpPr>
              <p:cNvPr id="801" name="Line 106"/>
              <p:cNvSpPr/>
              <p:nvPr/>
            </p:nvSpPr>
            <p:spPr>
              <a:xfrm flipV="1">
                <a:off x="6248520" y="1143000"/>
                <a:ext cx="0" cy="91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 txBox="1"/>
              <p:nvPr/>
            </p:nvSpPr>
            <p:spPr>
              <a:xfrm rot="10800000">
                <a:off x="6248160" y="11430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Text Box 107"/>
            <p:cNvSpPr/>
            <p:nvPr/>
          </p:nvSpPr>
          <p:spPr>
            <a:xfrm>
              <a:off x="579132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117"/>
          <p:cNvGrpSpPr/>
          <p:nvPr/>
        </p:nvGrpSpPr>
        <p:grpSpPr>
          <a:xfrm>
            <a:off x="6248520" y="4419720"/>
            <a:ext cx="2895480" cy="368280"/>
            <a:chOff x="6248520" y="4419720"/>
            <a:chExt cx="2895480" cy="368280"/>
          </a:xfrm>
        </p:grpSpPr>
        <p:grpSp>
          <p:nvGrpSpPr>
            <p:cNvPr id="805" name=""/>
            <p:cNvGrpSpPr/>
            <p:nvPr/>
          </p:nvGrpSpPr>
          <p:grpSpPr>
            <a:xfrm>
              <a:off x="6248520" y="4429800"/>
              <a:ext cx="2895480" cy="360"/>
              <a:chOff x="6248520" y="4429800"/>
              <a:chExt cx="2895480" cy="360"/>
            </a:xfrm>
          </p:grpSpPr>
          <p:sp>
            <p:nvSpPr>
              <p:cNvPr id="806" name="Line 118"/>
              <p:cNvSpPr/>
              <p:nvPr/>
            </p:nvSpPr>
            <p:spPr>
              <a:xfrm>
                <a:off x="6248520" y="4429800"/>
                <a:ext cx="2895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>
                <a:off x="6248520" y="4429800"/>
                <a:ext cx="2895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Text Box 119"/>
            <p:cNvSpPr/>
            <p:nvPr/>
          </p:nvSpPr>
          <p:spPr>
            <a:xfrm>
              <a:off x="7353360" y="441972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120"/>
          <p:cNvGrpSpPr/>
          <p:nvPr/>
        </p:nvGrpSpPr>
        <p:grpSpPr>
          <a:xfrm>
            <a:off x="5499000" y="2054880"/>
            <a:ext cx="369720" cy="1449360"/>
            <a:chOff x="5499000" y="2054880"/>
            <a:chExt cx="369720" cy="1449360"/>
          </a:xfrm>
        </p:grpSpPr>
        <p:grpSp>
          <p:nvGrpSpPr>
            <p:cNvPr id="810" name=""/>
            <p:cNvGrpSpPr/>
            <p:nvPr/>
          </p:nvGrpSpPr>
          <p:grpSpPr>
            <a:xfrm>
              <a:off x="5851440" y="2054880"/>
              <a:ext cx="10800" cy="1449360"/>
              <a:chOff x="5851440" y="2054880"/>
              <a:chExt cx="10800" cy="1449360"/>
            </a:xfrm>
          </p:grpSpPr>
          <p:sp>
            <p:nvSpPr>
              <p:cNvPr id="811" name="Line 121"/>
              <p:cNvSpPr/>
              <p:nvPr/>
            </p:nvSpPr>
            <p:spPr>
              <a:xfrm flipH="1" flipV="1">
                <a:off x="5852160" y="2054880"/>
                <a:ext cx="10080" cy="1449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 txBox="1"/>
              <p:nvPr/>
            </p:nvSpPr>
            <p:spPr>
              <a:xfrm rot="5375400">
                <a:off x="5131800" y="2779200"/>
                <a:ext cx="1449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3" name="Text Box 122"/>
            <p:cNvSpPr/>
            <p:nvPr/>
          </p:nvSpPr>
          <p:spPr>
            <a:xfrm flipV="1" rot="16174800">
              <a:off x="5594040" y="2694240"/>
              <a:ext cx="1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Oval 123">
            <a:hlinkClick r:id="rId4"/>
          </p:cNvPr>
          <p:cNvSpPr/>
          <p:nvPr/>
        </p:nvSpPr>
        <p:spPr>
          <a:xfrm>
            <a:off x="8610480" y="6477120"/>
            <a:ext cx="38124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55 -0.57778 E">
                                      <p:cBhvr>
                                        <p:cTn id="428" dur="5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 0.02361 L -0.34913 0.02338 E">
                                      <p:cBhvr>
                                        <p:cTn id="446" dur="5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0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69 0.02199 L -0.35069 -0.20023 E">
                                      <p:cBhvr>
                                        <p:cTn id="458" dur="5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723960" y="76320"/>
            <a:ext cx="7086600" cy="998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550800" y="104292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活中经常提到功，举例说明生活中功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762120" y="20574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生活中的功有“贡献”、“成效”、“功劳”等丰富的意思，物理学中的功吸收了”成效”的意思，但它还有更为特殊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914400" y="3429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什么是物理学中的功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物理中怎样才算做功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0004"/>
          <p:cNvPicPr/>
          <p:nvPr/>
        </p:nvPicPr>
        <p:blipFill>
          <a:blip r:embed="rId2"/>
          <a:stretch/>
        </p:blipFill>
        <p:spPr>
          <a:xfrm>
            <a:off x="5105520" y="3429000"/>
            <a:ext cx="533160" cy="99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0028"/>
          <p:cNvPicPr/>
          <p:nvPr/>
        </p:nvPicPr>
        <p:blipFill>
          <a:blip r:embed="rId3"/>
          <a:stretch/>
        </p:blipFill>
        <p:spPr>
          <a:xfrm>
            <a:off x="6781680" y="472428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a22e"/>
            </a:gs>
            <a:gs pos="100000">
              <a:srgbClr val="dafc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380880" y="10666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某同学要把重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0N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水桶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缓慢匀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提起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0.5m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高度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他需要做多少功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10"/>
          <p:cNvGrpSpPr/>
          <p:nvPr/>
        </p:nvGrpSpPr>
        <p:grpSpPr>
          <a:xfrm>
            <a:off x="6858000" y="2895480"/>
            <a:ext cx="1371240" cy="2742840"/>
            <a:chOff x="6858000" y="2895480"/>
            <a:chExt cx="1371240" cy="2742840"/>
          </a:xfrm>
        </p:grpSpPr>
        <p:sp>
          <p:nvSpPr>
            <p:cNvPr id="817" name="AutoShape 5"/>
            <p:cNvSpPr/>
            <p:nvPr/>
          </p:nvSpPr>
          <p:spPr>
            <a:xfrm>
              <a:off x="6858000" y="4114440"/>
              <a:ext cx="13712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a8a8a"/>
                </a:gs>
                <a:gs pos="50000">
                  <a:srgbClr val="c0c0c0"/>
                </a:gs>
                <a:gs pos="100000">
                  <a:srgbClr val="8a8a8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"/>
            <p:cNvSpPr/>
            <p:nvPr/>
          </p:nvSpPr>
          <p:spPr>
            <a:xfrm>
              <a:off x="6858000" y="2895480"/>
              <a:ext cx="1371240" cy="121896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576"/>
                  </a:moveTo>
                  <a:cubicBezTo>
                    <a:pt x="108" y="288"/>
                    <a:pt x="216" y="0"/>
                    <a:pt x="336" y="0"/>
                  </a:cubicBezTo>
                  <a:cubicBezTo>
                    <a:pt x="456" y="0"/>
                    <a:pt x="588" y="288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"/>
            <p:cNvSpPr/>
            <p:nvPr/>
          </p:nvSpPr>
          <p:spPr>
            <a:xfrm>
              <a:off x="6858000" y="2997000"/>
              <a:ext cx="1371240" cy="121896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576"/>
                  </a:moveTo>
                  <a:cubicBezTo>
                    <a:pt x="108" y="288"/>
                    <a:pt x="216" y="0"/>
                    <a:pt x="336" y="0"/>
                  </a:cubicBezTo>
                  <a:cubicBezTo>
                    <a:pt x="456" y="0"/>
                    <a:pt x="588" y="288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705720" y="5638680"/>
            <a:ext cx="1752480" cy="360"/>
            <a:chOff x="6705720" y="5638680"/>
            <a:chExt cx="1752480" cy="360"/>
          </a:xfrm>
        </p:grpSpPr>
        <p:sp>
          <p:nvSpPr>
            <p:cNvPr id="821" name="Line 11"/>
            <p:cNvSpPr/>
            <p:nvPr/>
          </p:nvSpPr>
          <p:spPr>
            <a:xfrm>
              <a:off x="6705720" y="56386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 txBox="1"/>
            <p:nvPr/>
          </p:nvSpPr>
          <p:spPr>
            <a:xfrm>
              <a:off x="6705720" y="563868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629400" y="4191120"/>
            <a:ext cx="1905120" cy="360"/>
            <a:chOff x="6629400" y="4191120"/>
            <a:chExt cx="1905120" cy="360"/>
          </a:xfrm>
        </p:grpSpPr>
        <p:sp>
          <p:nvSpPr>
            <p:cNvPr id="824" name="Line 12"/>
            <p:cNvSpPr/>
            <p:nvPr/>
          </p:nvSpPr>
          <p:spPr>
            <a:xfrm>
              <a:off x="6629400" y="41911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 txBox="1"/>
            <p:nvPr/>
          </p:nvSpPr>
          <p:spPr>
            <a:xfrm>
              <a:off x="6629400" y="419112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3"/>
          <p:cNvGrpSpPr/>
          <p:nvPr/>
        </p:nvGrpSpPr>
        <p:grpSpPr>
          <a:xfrm>
            <a:off x="7315200" y="2209680"/>
            <a:ext cx="1523880" cy="3429000"/>
            <a:chOff x="7315200" y="2209680"/>
            <a:chExt cx="1523880" cy="3429000"/>
          </a:xfrm>
        </p:grpSpPr>
        <p:grpSp>
          <p:nvGrpSpPr>
            <p:cNvPr id="827" name="Group 22"/>
            <p:cNvGrpSpPr/>
            <p:nvPr/>
          </p:nvGrpSpPr>
          <p:grpSpPr>
            <a:xfrm>
              <a:off x="8077320" y="4190760"/>
              <a:ext cx="761760" cy="1447920"/>
              <a:chOff x="8077320" y="4190760"/>
              <a:chExt cx="761760" cy="144792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8458200" y="5029200"/>
                <a:ext cx="360" cy="609480"/>
                <a:chOff x="8458200" y="5029200"/>
                <a:chExt cx="360" cy="609480"/>
              </a:xfrm>
            </p:grpSpPr>
            <p:sp>
              <p:nvSpPr>
                <p:cNvPr id="829" name="Line 13"/>
                <p:cNvSpPr/>
                <p:nvPr/>
              </p:nvSpPr>
              <p:spPr>
                <a:xfrm>
                  <a:off x="8458200" y="5029200"/>
                  <a:ext cx="0" cy="6094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 txBox="1"/>
                <p:nvPr/>
              </p:nvSpPr>
              <p:spPr>
                <a:xfrm>
                  <a:off x="8458200" y="502920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8457840" y="4190760"/>
                <a:ext cx="360" cy="533160"/>
                <a:chOff x="8457840" y="4190760"/>
                <a:chExt cx="360" cy="533160"/>
              </a:xfrm>
            </p:grpSpPr>
            <p:sp>
              <p:nvSpPr>
                <p:cNvPr id="832" name="Line 14"/>
                <p:cNvSpPr/>
                <p:nvPr/>
              </p:nvSpPr>
              <p:spPr>
                <a:xfrm flipV="1">
                  <a:off x="8458200" y="4190760"/>
                  <a:ext cx="0" cy="533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 txBox="1"/>
                <p:nvPr/>
              </p:nvSpPr>
              <p:spPr>
                <a:xfrm rot="10800000">
                  <a:off x="8457840" y="4190760"/>
                  <a:ext cx="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Text Box 15"/>
              <p:cNvSpPr/>
              <p:nvPr/>
            </p:nvSpPr>
            <p:spPr>
              <a:xfrm>
                <a:off x="8077320" y="46483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0.5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21"/>
            <p:cNvGrpSpPr/>
            <p:nvPr/>
          </p:nvGrpSpPr>
          <p:grpSpPr>
            <a:xfrm>
              <a:off x="7315200" y="2209680"/>
              <a:ext cx="609480" cy="2364840"/>
              <a:chOff x="7315200" y="2209680"/>
              <a:chExt cx="609480" cy="2364840"/>
            </a:xfrm>
          </p:grpSpPr>
          <p:grpSp>
            <p:nvGrpSpPr>
              <p:cNvPr id="836" name=""/>
              <p:cNvGrpSpPr/>
              <p:nvPr/>
            </p:nvGrpSpPr>
            <p:grpSpPr>
              <a:xfrm>
                <a:off x="7543800" y="3429000"/>
                <a:ext cx="360" cy="838080"/>
                <a:chOff x="7543800" y="3429000"/>
                <a:chExt cx="360" cy="838080"/>
              </a:xfrm>
            </p:grpSpPr>
            <p:sp>
              <p:nvSpPr>
                <p:cNvPr id="837" name="Line 16"/>
                <p:cNvSpPr/>
                <p:nvPr/>
              </p:nvSpPr>
              <p:spPr>
                <a:xfrm>
                  <a:off x="7543800" y="3429000"/>
                  <a:ext cx="0" cy="838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7543800" y="342900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7543440" y="2590200"/>
                <a:ext cx="360" cy="838440"/>
                <a:chOff x="7543440" y="2590200"/>
                <a:chExt cx="360" cy="838440"/>
              </a:xfrm>
            </p:grpSpPr>
            <p:sp>
              <p:nvSpPr>
                <p:cNvPr id="840" name="Line 17"/>
                <p:cNvSpPr/>
                <p:nvPr/>
              </p:nvSpPr>
              <p:spPr>
                <a:xfrm flipV="1">
                  <a:off x="7543800" y="2590200"/>
                  <a:ext cx="0" cy="838440"/>
                </a:xfrm>
                <a:prstGeom prst="line">
                  <a:avLst/>
                </a:prstGeom>
                <a:ln w="38160">
                  <a:solidFill>
                    <a:srgbClr val="ad1f1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 txBox="1"/>
                <p:nvPr/>
              </p:nvSpPr>
              <p:spPr>
                <a:xfrm rot="10800000">
                  <a:off x="7543440" y="2590200"/>
                  <a:ext cx="360" cy="8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Text Box 18"/>
              <p:cNvSpPr/>
              <p:nvPr/>
            </p:nvSpPr>
            <p:spPr>
              <a:xfrm>
                <a:off x="7315200" y="4114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00"/>
                    </a:solidFill>
                    <a:latin typeface="Arial"/>
                  </a:rPr>
                  <a:t>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19"/>
              <p:cNvSpPr/>
              <p:nvPr/>
            </p:nvSpPr>
            <p:spPr>
              <a:xfrm>
                <a:off x="7315200" y="2209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0000"/>
                    </a:solidFill>
                    <a:latin typeface="Arial"/>
                  </a:rPr>
                  <a:t>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AutoShape 24"/>
          <p:cNvSpPr/>
          <p:nvPr/>
        </p:nvSpPr>
        <p:spPr>
          <a:xfrm>
            <a:off x="8077320" y="12193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25"/>
          <p:cNvSpPr/>
          <p:nvPr/>
        </p:nvSpPr>
        <p:spPr>
          <a:xfrm>
            <a:off x="8001000" y="228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7"/>
          <p:cNvSpPr/>
          <p:nvPr/>
        </p:nvSpPr>
        <p:spPr>
          <a:xfrm>
            <a:off x="762120" y="1752480"/>
            <a:ext cx="190476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8"/>
          <p:cNvSpPr/>
          <p:nvPr/>
        </p:nvSpPr>
        <p:spPr>
          <a:xfrm>
            <a:off x="1676520" y="23623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G=60N     h=0.5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29"/>
          <p:cNvSpPr/>
          <p:nvPr/>
        </p:nvSpPr>
        <p:spPr>
          <a:xfrm>
            <a:off x="1371600" y="2986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W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0"/>
          <p:cNvSpPr/>
          <p:nvPr/>
        </p:nvSpPr>
        <p:spPr>
          <a:xfrm>
            <a:off x="1676520" y="3684600"/>
            <a:ext cx="3429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=FS=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=60N×0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　　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=3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1"/>
          <p:cNvSpPr/>
          <p:nvPr/>
        </p:nvSpPr>
        <p:spPr>
          <a:xfrm>
            <a:off x="762120" y="54244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答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他需要做</a:t>
            </a:r>
            <a:r>
              <a:rPr b="1" lang="en-US" sz="2800" spc="-1" strike="noStrike">
                <a:solidFill>
                  <a:srgbClr val="0000cc"/>
                </a:solidFill>
                <a:latin typeface="隶书"/>
                <a:ea typeface="隶书"/>
              </a:rPr>
              <a:t>30J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的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WordArt 39"/>
          <p:cNvSpPr txBox="1"/>
          <p:nvPr/>
        </p:nvSpPr>
        <p:spPr>
          <a:xfrm rot="493200">
            <a:off x="981000" y="37800"/>
            <a:ext cx="243864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学海泛舟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52" name="文本框 8200"/>
          <p:cNvSpPr/>
          <p:nvPr/>
        </p:nvSpPr>
        <p:spPr>
          <a:xfrm>
            <a:off x="1746360" y="2133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 -0.21111 E">
                                      <p:cBhvr>
                                        <p:cTn id="493" dur="3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5"/>
          <p:cNvSpPr/>
          <p:nvPr/>
        </p:nvSpPr>
        <p:spPr>
          <a:xfrm>
            <a:off x="380880" y="380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如图，重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N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物体沿着长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高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m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光滑斜面自顶端滑下，求重力做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6"/>
          <p:cNvSpPr/>
          <p:nvPr/>
        </p:nvSpPr>
        <p:spPr>
          <a:xfrm flipH="1">
            <a:off x="4572000" y="1219320"/>
            <a:ext cx="4054320" cy="1798560"/>
          </a:xfrm>
          <a:prstGeom prst="rtTriangle">
            <a:avLst/>
          </a:prstGeom>
          <a:gradFill rotWithShape="0">
            <a:gsLst>
              <a:gs pos="0">
                <a:srgbClr val="50505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8"/>
          <p:cNvSpPr/>
          <p:nvPr/>
        </p:nvSpPr>
        <p:spPr>
          <a:xfrm rot="20140800">
            <a:off x="8076960" y="837720"/>
            <a:ext cx="436320" cy="50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4191120" y="3048120"/>
            <a:ext cx="4495680" cy="360"/>
            <a:chOff x="4191120" y="3048120"/>
            <a:chExt cx="4495680" cy="360"/>
          </a:xfrm>
        </p:grpSpPr>
        <p:sp>
          <p:nvSpPr>
            <p:cNvPr id="857" name="Line 9"/>
            <p:cNvSpPr/>
            <p:nvPr/>
          </p:nvSpPr>
          <p:spPr>
            <a:xfrm>
              <a:off x="4191120" y="3048120"/>
              <a:ext cx="4495680" cy="0"/>
            </a:xfrm>
            <a:prstGeom prst="line">
              <a:avLst/>
            </a:prstGeom>
            <a:ln w="38160">
              <a:solidFill>
                <a:srgbClr val="fbeec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4191120" y="304812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AutoShape 10"/>
          <p:cNvSpPr/>
          <p:nvPr/>
        </p:nvSpPr>
        <p:spPr>
          <a:xfrm>
            <a:off x="7924680" y="3200400"/>
            <a:ext cx="533520" cy="528480"/>
          </a:xfrm>
          <a:custGeom>
            <a:avLst/>
            <a:gdLst>
              <a:gd name="textAreaLeft" fmla="*/ 34200 w 533520"/>
              <a:gd name="textAreaRight" fmla="*/ 499320 w 533520"/>
              <a:gd name="textAreaTop" fmla="*/ 34200 h 528480"/>
              <a:gd name="textAreaBottom" fmla="*/ 494280 h 528480"/>
            </a:gdLst>
            <a:ahLst/>
            <a:rect l="textAreaLeft" t="textAreaTop" r="textAreaRight" b="textAreaBottom"/>
            <a:pathLst>
              <a:path w="21806" h="21600">
                <a:moveTo>
                  <a:pt x="0" y="0"/>
                </a:moveTo>
                <a:lnTo>
                  <a:pt x="21806" y="0"/>
                </a:lnTo>
                <a:lnTo>
                  <a:pt x="21806" y="21600"/>
                </a:lnTo>
                <a:lnTo>
                  <a:pt x="0" y="21600"/>
                </a:lnTo>
                <a:close/>
              </a:path>
              <a:path fill="lightenLess" w="21806" h="21600">
                <a:moveTo>
                  <a:pt x="0" y="0"/>
                </a:moveTo>
                <a:lnTo>
                  <a:pt x="21806" y="0"/>
                </a:lnTo>
                <a:lnTo>
                  <a:pt x="20406" y="1400"/>
                </a:lnTo>
                <a:lnTo>
                  <a:pt x="1400" y="1400"/>
                </a:lnTo>
                <a:close/>
              </a:path>
              <a:path fill="darken" w="21806" h="21600">
                <a:moveTo>
                  <a:pt x="21806" y="0"/>
                </a:moveTo>
                <a:lnTo>
                  <a:pt x="21806" y="21600"/>
                </a:lnTo>
                <a:lnTo>
                  <a:pt x="20406" y="20200"/>
                </a:lnTo>
                <a:lnTo>
                  <a:pt x="20406" y="1400"/>
                </a:lnTo>
                <a:close/>
              </a:path>
              <a:path fill="darkenLess" w="21806" h="21600">
                <a:moveTo>
                  <a:pt x="21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06" y="20200"/>
                </a:lnTo>
                <a:close/>
              </a:path>
              <a:path fill="lighten" w="21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06" h="21600">
                <a:moveTo>
                  <a:pt x="1090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806" h="21600">
                <a:moveTo>
                  <a:pt x="12008" y="14281"/>
                </a:moveTo>
                <a:lnTo>
                  <a:pt x="12008" y="12323"/>
                </a:lnTo>
                <a:cubicBezTo>
                  <a:pt x="12008" y="11496"/>
                  <a:pt x="12339" y="10800"/>
                  <a:pt x="12940" y="10800"/>
                </a:cubicBezTo>
                <a:cubicBezTo>
                  <a:pt x="14071" y="10800"/>
                  <a:pt x="14968" y="9434"/>
                  <a:pt x="14968" y="7849"/>
                </a:cubicBezTo>
                <a:cubicBezTo>
                  <a:pt x="14968" y="5534"/>
                  <a:pt x="13114" y="3794"/>
                  <a:pt x="10903" y="3794"/>
                </a:cubicBezTo>
                <a:cubicBezTo>
                  <a:pt x="8692" y="3794"/>
                  <a:pt x="7021" y="5534"/>
                  <a:pt x="7021" y="7849"/>
                </a:cubicBezTo>
                <a:lnTo>
                  <a:pt x="8875" y="7849"/>
                </a:lnTo>
                <a:cubicBezTo>
                  <a:pt x="8875" y="6709"/>
                  <a:pt x="9798" y="5821"/>
                  <a:pt x="10903" y="5821"/>
                </a:cubicBezTo>
                <a:cubicBezTo>
                  <a:pt x="12008" y="5821"/>
                  <a:pt x="12940" y="6709"/>
                  <a:pt x="12940" y="7849"/>
                </a:cubicBezTo>
                <a:cubicBezTo>
                  <a:pt x="12940" y="8589"/>
                  <a:pt x="12470" y="9320"/>
                  <a:pt x="12008" y="9320"/>
                </a:cubicBezTo>
                <a:cubicBezTo>
                  <a:pt x="10903" y="9320"/>
                  <a:pt x="9798" y="10800"/>
                  <a:pt x="9798" y="12323"/>
                </a:cubicBezTo>
                <a:lnTo>
                  <a:pt x="9798" y="14281"/>
                </a:lnTo>
                <a:close/>
              </a:path>
            </a:pathLst>
          </a:custGeom>
          <a:solidFill>
            <a:srgbClr val="fb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8717040" y="3048120"/>
            <a:ext cx="426960" cy="1440"/>
            <a:chOff x="8717040" y="3048120"/>
            <a:chExt cx="426960" cy="1440"/>
          </a:xfrm>
        </p:grpSpPr>
        <p:sp>
          <p:nvSpPr>
            <p:cNvPr id="861" name="Line 13"/>
            <p:cNvSpPr/>
            <p:nvPr/>
          </p:nvSpPr>
          <p:spPr>
            <a:xfrm>
              <a:off x="8717040" y="3048120"/>
              <a:ext cx="4269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8717040" y="3048120"/>
              <a:ext cx="426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30"/>
          <p:cNvGrpSpPr/>
          <p:nvPr/>
        </p:nvGrpSpPr>
        <p:grpSpPr>
          <a:xfrm>
            <a:off x="7742160" y="1066680"/>
            <a:ext cx="1584360" cy="2006640"/>
            <a:chOff x="7742160" y="1066680"/>
            <a:chExt cx="1584360" cy="2006640"/>
          </a:xfrm>
        </p:grpSpPr>
        <p:grpSp>
          <p:nvGrpSpPr>
            <p:cNvPr id="864" name="Group 29"/>
            <p:cNvGrpSpPr/>
            <p:nvPr/>
          </p:nvGrpSpPr>
          <p:grpSpPr>
            <a:xfrm>
              <a:off x="8305920" y="1066680"/>
              <a:ext cx="655560" cy="2006640"/>
              <a:chOff x="8305920" y="1066680"/>
              <a:chExt cx="655560" cy="2006640"/>
            </a:xfrm>
          </p:grpSpPr>
          <p:grpSp>
            <p:nvGrpSpPr>
              <p:cNvPr id="865" name=""/>
              <p:cNvGrpSpPr/>
              <p:nvPr/>
            </p:nvGrpSpPr>
            <p:grpSpPr>
              <a:xfrm>
                <a:off x="8534520" y="1219320"/>
                <a:ext cx="426960" cy="1440"/>
                <a:chOff x="8534520" y="1219320"/>
                <a:chExt cx="426960" cy="1440"/>
              </a:xfrm>
            </p:grpSpPr>
            <p:sp>
              <p:nvSpPr>
                <p:cNvPr id="866" name="Line 12"/>
                <p:cNvSpPr/>
                <p:nvPr/>
              </p:nvSpPr>
              <p:spPr>
                <a:xfrm>
                  <a:off x="8534520" y="1219320"/>
                  <a:ext cx="4269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 txBox="1"/>
                <p:nvPr/>
              </p:nvSpPr>
              <p:spPr>
                <a:xfrm>
                  <a:off x="8534520" y="1219320"/>
                  <a:ext cx="4269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8305920" y="1066680"/>
                <a:ext cx="360" cy="1059120"/>
                <a:chOff x="8305920" y="1066680"/>
                <a:chExt cx="360" cy="1059120"/>
              </a:xfrm>
            </p:grpSpPr>
            <p:sp>
              <p:nvSpPr>
                <p:cNvPr id="869" name="Line 11"/>
                <p:cNvSpPr/>
                <p:nvPr/>
              </p:nvSpPr>
              <p:spPr>
                <a:xfrm>
                  <a:off x="8305920" y="1066680"/>
                  <a:ext cx="0" cy="105912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 txBox="1"/>
                <p:nvPr/>
              </p:nvSpPr>
              <p:spPr>
                <a:xfrm>
                  <a:off x="8305920" y="1066680"/>
                  <a:ext cx="360" cy="10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8915040" y="1198440"/>
                <a:ext cx="360" cy="635040"/>
                <a:chOff x="8915040" y="1198440"/>
                <a:chExt cx="360" cy="635040"/>
              </a:xfrm>
            </p:grpSpPr>
            <p:sp>
              <p:nvSpPr>
                <p:cNvPr id="872" name="Line 14"/>
                <p:cNvSpPr/>
                <p:nvPr/>
              </p:nvSpPr>
              <p:spPr>
                <a:xfrm flipV="1">
                  <a:off x="8915400" y="1198440"/>
                  <a:ext cx="0" cy="6350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 txBox="1"/>
                <p:nvPr/>
              </p:nvSpPr>
              <p:spPr>
                <a:xfrm rot="10800000">
                  <a:off x="8915040" y="1198440"/>
                  <a:ext cx="360" cy="63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8915400" y="2438280"/>
                <a:ext cx="360" cy="635040"/>
                <a:chOff x="8915400" y="2438280"/>
                <a:chExt cx="360" cy="635040"/>
              </a:xfrm>
            </p:grpSpPr>
            <p:sp>
              <p:nvSpPr>
                <p:cNvPr id="875" name="Line 15"/>
                <p:cNvSpPr/>
                <p:nvPr/>
              </p:nvSpPr>
              <p:spPr>
                <a:xfrm>
                  <a:off x="8915400" y="2438280"/>
                  <a:ext cx="0" cy="6350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 txBox="1"/>
                <p:nvPr/>
              </p:nvSpPr>
              <p:spPr>
                <a:xfrm>
                  <a:off x="8915400" y="2438280"/>
                  <a:ext cx="360" cy="63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 Box 16"/>
            <p:cNvSpPr/>
            <p:nvPr/>
          </p:nvSpPr>
          <p:spPr>
            <a:xfrm>
              <a:off x="8686800" y="1905120"/>
              <a:ext cx="6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 Box 17"/>
            <p:cNvSpPr/>
            <p:nvPr/>
          </p:nvSpPr>
          <p:spPr>
            <a:xfrm>
              <a:off x="7742160" y="2044800"/>
              <a:ext cx="96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F=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AutoShape 21"/>
          <p:cNvSpPr/>
          <p:nvPr/>
        </p:nvSpPr>
        <p:spPr>
          <a:xfrm>
            <a:off x="6934320" y="3276720"/>
            <a:ext cx="639720" cy="423720"/>
          </a:xfrm>
          <a:custGeom>
            <a:avLst/>
            <a:gdLst>
              <a:gd name="textAreaLeft" fmla="*/ 27360 w 639720"/>
              <a:gd name="textAreaRight" fmla="*/ 612360 w 63972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32602" h="21600">
                <a:moveTo>
                  <a:pt x="0" y="0"/>
                </a:moveTo>
                <a:lnTo>
                  <a:pt x="32602" y="0"/>
                </a:lnTo>
                <a:lnTo>
                  <a:pt x="32602" y="21600"/>
                </a:lnTo>
                <a:lnTo>
                  <a:pt x="0" y="21600"/>
                </a:lnTo>
                <a:close/>
              </a:path>
              <a:path fill="lightenLess" w="32602" h="21600">
                <a:moveTo>
                  <a:pt x="0" y="0"/>
                </a:moveTo>
                <a:lnTo>
                  <a:pt x="32602" y="0"/>
                </a:lnTo>
                <a:lnTo>
                  <a:pt x="31202" y="1400"/>
                </a:lnTo>
                <a:lnTo>
                  <a:pt x="1400" y="1400"/>
                </a:lnTo>
                <a:close/>
              </a:path>
              <a:path fill="darken" w="32602" h="21600">
                <a:moveTo>
                  <a:pt x="32602" y="0"/>
                </a:moveTo>
                <a:lnTo>
                  <a:pt x="32602" y="21600"/>
                </a:lnTo>
                <a:lnTo>
                  <a:pt x="31202" y="20200"/>
                </a:lnTo>
                <a:lnTo>
                  <a:pt x="31202" y="1400"/>
                </a:lnTo>
                <a:close/>
              </a:path>
              <a:path fill="darkenLess" w="32602" h="21600">
                <a:moveTo>
                  <a:pt x="3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02" y="20200"/>
                </a:lnTo>
                <a:close/>
              </a:path>
              <a:path fill="lighten" w="3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02" h="21600">
                <a:moveTo>
                  <a:pt x="9294" y="3794"/>
                </a:moveTo>
                <a:lnTo>
                  <a:pt x="23307" y="10800"/>
                </a:lnTo>
                <a:lnTo>
                  <a:pt x="9294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2"/>
          <p:cNvSpPr/>
          <p:nvPr/>
        </p:nvSpPr>
        <p:spPr>
          <a:xfrm>
            <a:off x="609480" y="1981080"/>
            <a:ext cx="1905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已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3"/>
          <p:cNvSpPr/>
          <p:nvPr/>
        </p:nvSpPr>
        <p:spPr>
          <a:xfrm>
            <a:off x="1523880" y="19810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F=G=10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4"/>
          <p:cNvSpPr/>
          <p:nvPr/>
        </p:nvSpPr>
        <p:spPr>
          <a:xfrm>
            <a:off x="3048120" y="19810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h=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5"/>
          <p:cNvSpPr/>
          <p:nvPr/>
        </p:nvSpPr>
        <p:spPr>
          <a:xfrm>
            <a:off x="1219320" y="2590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W=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6"/>
          <p:cNvSpPr/>
          <p:nvPr/>
        </p:nvSpPr>
        <p:spPr>
          <a:xfrm>
            <a:off x="1752480" y="449568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7"/>
          <p:cNvSpPr/>
          <p:nvPr/>
        </p:nvSpPr>
        <p:spPr>
          <a:xfrm>
            <a:off x="1371600" y="38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W=FS=Gh=10N×1m=1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8"/>
          <p:cNvSpPr/>
          <p:nvPr/>
        </p:nvSpPr>
        <p:spPr>
          <a:xfrm>
            <a:off x="533520" y="45720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答：重力做功为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1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32" descr="200410161901867"/>
          <p:cNvPicPr/>
          <p:nvPr/>
        </p:nvPicPr>
        <p:blipFill>
          <a:blip r:embed="rId2"/>
          <a:stretch/>
        </p:blipFill>
        <p:spPr>
          <a:xfrm>
            <a:off x="6934320" y="426708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87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-0.44045 0.26296 E">
                                      <p:cBhvr>
                                        <p:cTn id="525" dur="3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/>
          <p:cNvSpPr/>
          <p:nvPr/>
        </p:nvSpPr>
        <p:spPr>
          <a:xfrm>
            <a:off x="0" y="248436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"/>
          <p:cNvSpPr/>
          <p:nvPr/>
        </p:nvSpPr>
        <p:spPr>
          <a:xfrm>
            <a:off x="3962520" y="2428920"/>
            <a:ext cx="1447560" cy="914400"/>
          </a:xfrm>
          <a:prstGeom prst="rect">
            <a:avLst/>
          </a:prstGeom>
          <a:solidFill>
            <a:srgbClr val="00ffff"/>
          </a:solidFill>
          <a:ln cap="rnd" w="9360">
            <a:solidFill>
              <a:srgbClr val="f0a22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09480" y="2971800"/>
            <a:ext cx="990720" cy="360"/>
            <a:chOff x="609480" y="2971800"/>
            <a:chExt cx="990720" cy="360"/>
          </a:xfrm>
        </p:grpSpPr>
        <p:sp>
          <p:nvSpPr>
            <p:cNvPr id="891" name="Line 5"/>
            <p:cNvSpPr/>
            <p:nvPr/>
          </p:nvSpPr>
          <p:spPr>
            <a:xfrm>
              <a:off x="609480" y="2971800"/>
              <a:ext cx="99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609480" y="297180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4647960" y="2895480"/>
            <a:ext cx="990720" cy="28800"/>
            <a:chOff x="4647960" y="2895480"/>
            <a:chExt cx="990720" cy="28800"/>
          </a:xfrm>
        </p:grpSpPr>
        <p:sp>
          <p:nvSpPr>
            <p:cNvPr id="894" name="Line 6"/>
            <p:cNvSpPr/>
            <p:nvPr/>
          </p:nvSpPr>
          <p:spPr>
            <a:xfrm flipV="1">
              <a:off x="4648320" y="2895480"/>
              <a:ext cx="990360" cy="28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 rot="10800000">
              <a:off x="4647960" y="2895480"/>
              <a:ext cx="990360" cy="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447920" y="3551400"/>
            <a:ext cx="4038480" cy="360"/>
            <a:chOff x="1447920" y="3551400"/>
            <a:chExt cx="4038480" cy="360"/>
          </a:xfrm>
        </p:grpSpPr>
        <p:sp>
          <p:nvSpPr>
            <p:cNvPr id="897" name="Line 7"/>
            <p:cNvSpPr/>
            <p:nvPr/>
          </p:nvSpPr>
          <p:spPr>
            <a:xfrm>
              <a:off x="1447920" y="3551400"/>
              <a:ext cx="40384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1447920" y="3551400"/>
              <a:ext cx="40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1447920" y="3475080"/>
            <a:ext cx="360" cy="304920"/>
            <a:chOff x="1447920" y="3475080"/>
            <a:chExt cx="360" cy="304920"/>
          </a:xfrm>
        </p:grpSpPr>
        <p:sp>
          <p:nvSpPr>
            <p:cNvPr id="900" name="Line 9"/>
            <p:cNvSpPr/>
            <p:nvPr/>
          </p:nvSpPr>
          <p:spPr>
            <a:xfrm>
              <a:off x="1447920" y="34750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 txBox="1"/>
            <p:nvPr/>
          </p:nvSpPr>
          <p:spPr>
            <a:xfrm>
              <a:off x="1447920" y="3475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5445000" y="3457440"/>
            <a:ext cx="360" cy="304920"/>
            <a:chOff x="5445000" y="3457440"/>
            <a:chExt cx="360" cy="304920"/>
          </a:xfrm>
        </p:grpSpPr>
        <p:sp>
          <p:nvSpPr>
            <p:cNvPr id="903" name="Line 10"/>
            <p:cNvSpPr/>
            <p:nvPr/>
          </p:nvSpPr>
          <p:spPr>
            <a:xfrm>
              <a:off x="5445000" y="345744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5445000" y="34574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Text Box 11"/>
          <p:cNvSpPr/>
          <p:nvPr/>
        </p:nvSpPr>
        <p:spPr>
          <a:xfrm>
            <a:off x="2931840" y="353376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4920" y="3352680"/>
            <a:ext cx="7661160" cy="360"/>
            <a:chOff x="34920" y="3352680"/>
            <a:chExt cx="7661160" cy="360"/>
          </a:xfrm>
        </p:grpSpPr>
        <p:sp>
          <p:nvSpPr>
            <p:cNvPr id="907" name="Line 12"/>
            <p:cNvSpPr/>
            <p:nvPr/>
          </p:nvSpPr>
          <p:spPr>
            <a:xfrm>
              <a:off x="34920" y="3352680"/>
              <a:ext cx="76611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4920" y="3352680"/>
              <a:ext cx="766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Text Box 14"/>
          <p:cNvSpPr/>
          <p:nvPr/>
        </p:nvSpPr>
        <p:spPr>
          <a:xfrm>
            <a:off x="5562720" y="2666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1"/>
          <p:cNvSpPr/>
          <p:nvPr/>
        </p:nvSpPr>
        <p:spPr>
          <a:xfrm>
            <a:off x="228600" y="-47520"/>
            <a:ext cx="85345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明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水平推力在冰上推动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箱子，前进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撤去推力后，箱子又继续前进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做了多少功？如果把这个箱子匀速举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又做了多少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862200" y="3962520"/>
            <a:ext cx="3382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已知：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=50N  s=10m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3"/>
          <p:cNvSpPr/>
          <p:nvPr/>
        </p:nvSpPr>
        <p:spPr>
          <a:xfrm>
            <a:off x="1023840" y="4495680"/>
            <a:ext cx="207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求：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4"/>
          <p:cNvSpPr/>
          <p:nvPr/>
        </p:nvSpPr>
        <p:spPr>
          <a:xfrm>
            <a:off x="914400" y="4952880"/>
            <a:ext cx="5715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Fs=50N</a:t>
            </a:r>
            <a:r>
              <a:rPr b="1" lang="en-US" sz="2800" spc="-1" strike="noStrike">
                <a:solidFill>
                  <a:srgbClr val="000099"/>
                </a:solidFill>
                <a:latin typeface="Webdings"/>
                <a:ea typeface="Webdings"/>
              </a:rPr>
              <a:t>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m=50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5"/>
          <p:cNvSpPr/>
          <p:nvPr/>
        </p:nvSpPr>
        <p:spPr>
          <a:xfrm>
            <a:off x="1528920" y="5486400"/>
            <a:ext cx="50241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h=100N</a:t>
            </a:r>
            <a:r>
              <a:rPr b="1" lang="en-US" sz="2800" spc="-1" strike="noStrike">
                <a:solidFill>
                  <a:srgbClr val="000099"/>
                </a:solidFill>
                <a:latin typeface="Webdings"/>
                <a:ea typeface="Webdings"/>
              </a:rPr>
              <a:t>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.5m=150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6"/>
          <p:cNvSpPr/>
          <p:nvPr/>
        </p:nvSpPr>
        <p:spPr>
          <a:xfrm>
            <a:off x="914400" y="6022800"/>
            <a:ext cx="6934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答：他推箱子做功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500J,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举箱子做功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50J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7"/>
          <p:cNvSpPr/>
          <p:nvPr/>
        </p:nvSpPr>
        <p:spPr>
          <a:xfrm>
            <a:off x="4517640" y="3962520"/>
            <a:ext cx="313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=100N, h=1.5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4"/>
          <p:cNvGrpSpPr/>
          <p:nvPr/>
        </p:nvGrpSpPr>
        <p:grpSpPr>
          <a:xfrm>
            <a:off x="5486400" y="3449520"/>
            <a:ext cx="2210040" cy="514440"/>
            <a:chOff x="5486400" y="3449520"/>
            <a:chExt cx="2210040" cy="514440"/>
          </a:xfrm>
        </p:grpSpPr>
        <p:grpSp>
          <p:nvGrpSpPr>
            <p:cNvPr id="918" name="Group 33"/>
            <p:cNvGrpSpPr/>
            <p:nvPr/>
          </p:nvGrpSpPr>
          <p:grpSpPr>
            <a:xfrm>
              <a:off x="5486400" y="3449520"/>
              <a:ext cx="2210040" cy="228600"/>
              <a:chOff x="5486400" y="3449520"/>
              <a:chExt cx="2210040" cy="2286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5486400" y="3549600"/>
                <a:ext cx="2209680" cy="360"/>
                <a:chOff x="5486400" y="3549600"/>
                <a:chExt cx="2209680" cy="360"/>
              </a:xfrm>
            </p:grpSpPr>
            <p:sp>
              <p:nvSpPr>
                <p:cNvPr id="920" name="Line 30"/>
                <p:cNvSpPr/>
                <p:nvPr/>
              </p:nvSpPr>
              <p:spPr>
                <a:xfrm>
                  <a:off x="5486400" y="3549600"/>
                  <a:ext cx="22096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 txBox="1"/>
                <p:nvPr/>
              </p:nvSpPr>
              <p:spPr>
                <a:xfrm>
                  <a:off x="5486400" y="3549600"/>
                  <a:ext cx="2209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696080" y="3449520"/>
                <a:ext cx="360" cy="228600"/>
                <a:chOff x="7696080" y="3449520"/>
                <a:chExt cx="360" cy="228600"/>
              </a:xfrm>
            </p:grpSpPr>
            <p:sp>
              <p:nvSpPr>
                <p:cNvPr id="923" name="Line 31"/>
                <p:cNvSpPr/>
                <p:nvPr/>
              </p:nvSpPr>
              <p:spPr>
                <a:xfrm>
                  <a:off x="7696080" y="3449520"/>
                  <a:ext cx="0" cy="22860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 txBox="1"/>
                <p:nvPr/>
              </p:nvSpPr>
              <p:spPr>
                <a:xfrm>
                  <a:off x="7696080" y="344952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5" name="Text Box 32"/>
            <p:cNvSpPr/>
            <p:nvPr/>
          </p:nvSpPr>
          <p:spPr>
            <a:xfrm>
              <a:off x="6172200" y="3595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</a:t>
              </a:r>
              <a:r>
                <a:rPr b="1" lang="en-US" sz="1800" spc="-1" strike="noStrike" baseline="30000">
                  <a:solidFill>
                    <a:srgbClr val="ff3300"/>
                  </a:solidFill>
                  <a:latin typeface="Arial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  <p:sndAc>
      <p:stSnd>
        <p:snd r:embed="rId1" name="type.wav"/>
      </p:stSnd>
    </p:sndAc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500"/>
                            </p:stCondLst>
                            <p:childTnLst>
                              <p:par>
                                <p:cTn id="5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65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81A1-B629-4115-A42C-45D9089F7D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a22e"/>
            </a:gs>
            <a:gs pos="100000">
              <a:srgbClr val="9ed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2" descr="1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" descr="64"/>
          <p:cNvPicPr/>
          <p:nvPr/>
        </p:nvPicPr>
        <p:blipFill>
          <a:blip r:embed="rId2"/>
          <a:stretch/>
        </p:blipFill>
        <p:spPr>
          <a:xfrm rot="1866000">
            <a:off x="7467480" y="4038120"/>
            <a:ext cx="1387440" cy="10908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8"/>
          <p:cNvSpPr/>
          <p:nvPr/>
        </p:nvSpPr>
        <p:spPr>
          <a:xfrm>
            <a:off x="685800" y="1066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做功的两个必要因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9"/>
          <p:cNvSpPr/>
          <p:nvPr/>
        </p:nvSpPr>
        <p:spPr>
          <a:xfrm>
            <a:off x="-838080" y="15998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是作用在物体上的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是物体在力的方向上通过的距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1"/>
          <p:cNvSpPr/>
          <p:nvPr/>
        </p:nvSpPr>
        <p:spPr>
          <a:xfrm>
            <a:off x="1049400" y="259092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种不做功的情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2"/>
          <p:cNvSpPr/>
          <p:nvPr/>
        </p:nvSpPr>
        <p:spPr>
          <a:xfrm>
            <a:off x="1219320" y="3046320"/>
            <a:ext cx="53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力无距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劳而无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距离无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劳无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力和通过的距离方向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3"/>
          <p:cNvSpPr/>
          <p:nvPr/>
        </p:nvSpPr>
        <p:spPr>
          <a:xfrm>
            <a:off x="771480" y="441972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功的公式：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=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4"/>
          <p:cNvSpPr/>
          <p:nvPr/>
        </p:nvSpPr>
        <p:spPr>
          <a:xfrm>
            <a:off x="771480" y="4876920"/>
            <a:ext cx="45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功的单位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焦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"/>
          <p:cNvSpPr/>
          <p:nvPr/>
        </p:nvSpPr>
        <p:spPr>
          <a:xfrm>
            <a:off x="1065240" y="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7"/>
          <p:cNvSpPr/>
          <p:nvPr/>
        </p:nvSpPr>
        <p:spPr>
          <a:xfrm>
            <a:off x="838080" y="533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力和物体在力的方向上移动距离的乘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743200" y="2514600"/>
            <a:ext cx="1828800" cy="360"/>
            <a:chOff x="2743200" y="2514600"/>
            <a:chExt cx="1828800" cy="360"/>
          </a:xfrm>
        </p:grpSpPr>
        <p:sp>
          <p:nvSpPr>
            <p:cNvPr id="941" name="Line 19"/>
            <p:cNvSpPr/>
            <p:nvPr/>
          </p:nvSpPr>
          <p:spPr>
            <a:xfrm>
              <a:off x="2743200" y="2514600"/>
              <a:ext cx="1828800" cy="0"/>
            </a:xfrm>
            <a:prstGeom prst="line">
              <a:avLst/>
            </a:prstGeom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2743200" y="25146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WordArt 21"/>
          <p:cNvSpPr txBox="1"/>
          <p:nvPr/>
        </p:nvSpPr>
        <p:spPr>
          <a:xfrm rot="5400000">
            <a:off x="7238880" y="533160"/>
            <a:ext cx="19051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隶书"/>
              </a:rPr>
              <a:t>畅谈收获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隶书"/>
              <a:ea typeface="隶书"/>
            </a:endParaRPr>
          </a:p>
        </p:txBody>
      </p:sp>
    </p:spTree>
  </p:cSld>
  <p:transition>
    <p:split dir="in" orient="horz"/>
    <p:sndAc>
      <p:stSnd>
        <p:snd r:embed="rId5" name="type.wav"/>
      </p:stSnd>
    </p:sndAc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0a22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1"/>
          <p:cNvGrpSpPr/>
          <p:nvPr/>
        </p:nvGrpSpPr>
        <p:grpSpPr>
          <a:xfrm>
            <a:off x="1066680" y="1828800"/>
            <a:ext cx="2666160" cy="1980000"/>
            <a:chOff x="1066680" y="1828800"/>
            <a:chExt cx="2666160" cy="1980000"/>
          </a:xfrm>
        </p:grpSpPr>
        <p:grpSp>
          <p:nvGrpSpPr>
            <p:cNvPr id="430" name="Group 12"/>
            <p:cNvGrpSpPr/>
            <p:nvPr/>
          </p:nvGrpSpPr>
          <p:grpSpPr>
            <a:xfrm>
              <a:off x="1066680" y="1828800"/>
              <a:ext cx="2666160" cy="1980000"/>
              <a:chOff x="1066680" y="1828800"/>
              <a:chExt cx="2666160" cy="1980000"/>
            </a:xfrm>
          </p:grpSpPr>
          <p:grpSp>
            <p:nvGrpSpPr>
              <p:cNvPr id="431" name="Group 13"/>
              <p:cNvGrpSpPr/>
              <p:nvPr/>
            </p:nvGrpSpPr>
            <p:grpSpPr>
              <a:xfrm>
                <a:off x="1066680" y="1828800"/>
                <a:ext cx="2666160" cy="1980000"/>
                <a:chOff x="1066680" y="1828800"/>
                <a:chExt cx="2666160" cy="1980000"/>
              </a:xfrm>
            </p:grpSpPr>
            <p:pic>
              <p:nvPicPr>
                <p:cNvPr id="432" name="Picture 14" descr="002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66360" y="1828800"/>
                  <a:ext cx="2166480" cy="198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15" descr="0007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66680" y="2727000"/>
                  <a:ext cx="999720" cy="89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34" name=""/>
              <p:cNvGrpSpPr/>
              <p:nvPr/>
            </p:nvGrpSpPr>
            <p:grpSpPr>
              <a:xfrm>
                <a:off x="1733040" y="3177000"/>
                <a:ext cx="1583640" cy="360"/>
                <a:chOff x="1733040" y="3177000"/>
                <a:chExt cx="1583640" cy="360"/>
              </a:xfrm>
            </p:grpSpPr>
            <p:sp>
              <p:nvSpPr>
                <p:cNvPr id="435" name="Line 16"/>
                <p:cNvSpPr/>
                <p:nvPr/>
              </p:nvSpPr>
              <p:spPr>
                <a:xfrm>
                  <a:off x="1733040" y="3177000"/>
                  <a:ext cx="1583640" cy="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>
                  <a:off x="1733040" y="3177000"/>
                  <a:ext cx="1583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Text Box 17"/>
            <p:cNvSpPr/>
            <p:nvPr/>
          </p:nvSpPr>
          <p:spPr>
            <a:xfrm>
              <a:off x="3150360" y="2952720"/>
              <a:ext cx="5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0"/>
          <p:cNvGrpSpPr/>
          <p:nvPr/>
        </p:nvGrpSpPr>
        <p:grpSpPr>
          <a:xfrm>
            <a:off x="1828800" y="3733920"/>
            <a:ext cx="5029200" cy="459720"/>
            <a:chOff x="1828800" y="3733920"/>
            <a:chExt cx="5029200" cy="459720"/>
          </a:xfrm>
        </p:grpSpPr>
        <p:grpSp>
          <p:nvGrpSpPr>
            <p:cNvPr id="439" name=""/>
            <p:cNvGrpSpPr/>
            <p:nvPr/>
          </p:nvGrpSpPr>
          <p:grpSpPr>
            <a:xfrm>
              <a:off x="1828800" y="3809880"/>
              <a:ext cx="5029200" cy="360"/>
              <a:chOff x="1828800" y="3809880"/>
              <a:chExt cx="5029200" cy="360"/>
            </a:xfrm>
          </p:grpSpPr>
          <p:sp>
            <p:nvSpPr>
              <p:cNvPr id="440" name="Line 18"/>
              <p:cNvSpPr/>
              <p:nvPr/>
            </p:nvSpPr>
            <p:spPr>
              <a:xfrm>
                <a:off x="1828800" y="3809880"/>
                <a:ext cx="50292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1828800" y="3809880"/>
                <a:ext cx="502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Text Box 19"/>
            <p:cNvSpPr/>
            <p:nvPr/>
          </p:nvSpPr>
          <p:spPr>
            <a:xfrm>
              <a:off x="3827880" y="3733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914400" y="4648320"/>
            <a:ext cx="723888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小孩的拉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使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小狗移动了一段距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Ｓ，小孩对小狗做了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4" descr="44"/>
          <p:cNvPicPr/>
          <p:nvPr/>
        </p:nvPicPr>
        <p:blipFill>
          <a:blip r:embed="rId3"/>
          <a:stretch/>
        </p:blipFill>
        <p:spPr>
          <a:xfrm>
            <a:off x="7543800" y="914400"/>
            <a:ext cx="762120" cy="719280"/>
          </a:xfrm>
          <a:prstGeom prst="rect">
            <a:avLst/>
          </a:prstGeom>
          <a:ln w="0">
            <a:noFill/>
          </a:ln>
        </p:spPr>
      </p:pic>
      <p:sp>
        <p:nvSpPr>
          <p:cNvPr id="445" name="WordArt 25"/>
          <p:cNvSpPr txBox="1"/>
          <p:nvPr/>
        </p:nvSpPr>
        <p:spPr>
          <a:xfrm rot="311400">
            <a:off x="380520" y="380880"/>
            <a:ext cx="2362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28000"/>
                </a:gradFill>
                <a:latin typeface="宋体"/>
              </a:rPr>
              <a:t>实例分析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28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54167 -5.55556E-006 E">
                                      <p:cBhvr>
                                        <p:cTn id="25" dur="5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a22e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ai4"/>
          <p:cNvPicPr/>
          <p:nvPr/>
        </p:nvPicPr>
        <p:blipFill>
          <a:blip r:embed="rId1"/>
          <a:stretch/>
        </p:blipFill>
        <p:spPr>
          <a:xfrm>
            <a:off x="4114800" y="1600200"/>
            <a:ext cx="4203720" cy="5067360"/>
          </a:xfrm>
          <a:prstGeom prst="rect">
            <a:avLst/>
          </a:prstGeom>
          <a:ln w="0">
            <a:noFill/>
          </a:ln>
        </p:spPr>
      </p:pic>
      <p:grpSp>
        <p:nvGrpSpPr>
          <p:cNvPr id="447" name="Group 16"/>
          <p:cNvGrpSpPr/>
          <p:nvPr/>
        </p:nvGrpSpPr>
        <p:grpSpPr>
          <a:xfrm>
            <a:off x="4343400" y="4876920"/>
            <a:ext cx="1142640" cy="1218600"/>
            <a:chOff x="4343400" y="4876920"/>
            <a:chExt cx="1142640" cy="1218600"/>
          </a:xfrm>
        </p:grpSpPr>
        <p:pic>
          <p:nvPicPr>
            <p:cNvPr id="448" name="Picture 10" descr=""/>
            <p:cNvPicPr/>
            <p:nvPr/>
          </p:nvPicPr>
          <p:blipFill>
            <a:blip r:embed="rId2"/>
            <a:stretch/>
          </p:blipFill>
          <p:spPr>
            <a:xfrm>
              <a:off x="4343400" y="4876920"/>
              <a:ext cx="109224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4"/>
            <p:cNvSpPr/>
            <p:nvPr/>
          </p:nvSpPr>
          <p:spPr>
            <a:xfrm>
              <a:off x="5057640" y="487692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3"/>
          <p:cNvGrpSpPr/>
          <p:nvPr/>
        </p:nvGrpSpPr>
        <p:grpSpPr>
          <a:xfrm>
            <a:off x="4800600" y="2362320"/>
            <a:ext cx="457200" cy="3047400"/>
            <a:chOff x="4800600" y="2362320"/>
            <a:chExt cx="457200" cy="3047400"/>
          </a:xfrm>
        </p:grpSpPr>
        <p:grpSp>
          <p:nvGrpSpPr>
            <p:cNvPr id="451" name=""/>
            <p:cNvGrpSpPr/>
            <p:nvPr/>
          </p:nvGrpSpPr>
          <p:grpSpPr>
            <a:xfrm>
              <a:off x="5181840" y="2362320"/>
              <a:ext cx="360" cy="3047400"/>
              <a:chOff x="5181840" y="2362320"/>
              <a:chExt cx="360" cy="3047400"/>
            </a:xfrm>
          </p:grpSpPr>
          <p:sp>
            <p:nvSpPr>
              <p:cNvPr id="452" name="Line 11"/>
              <p:cNvSpPr/>
              <p:nvPr/>
            </p:nvSpPr>
            <p:spPr>
              <a:xfrm>
                <a:off x="5181840" y="2362320"/>
                <a:ext cx="0" cy="304740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5181840" y="2362320"/>
                <a:ext cx="360" cy="304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Text Box 12"/>
            <p:cNvSpPr/>
            <p:nvPr/>
          </p:nvSpPr>
          <p:spPr>
            <a:xfrm>
              <a:off x="4800600" y="3645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7"/>
          <p:cNvSpPr/>
          <p:nvPr/>
        </p:nvSpPr>
        <p:spPr>
          <a:xfrm>
            <a:off x="304920" y="1066680"/>
            <a:ext cx="3276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叉车的举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将货物移动了一段距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Ｓ，叉车对货物做了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1" descr="33"/>
          <p:cNvPicPr/>
          <p:nvPr/>
        </p:nvPicPr>
        <p:blipFill>
          <a:blip r:embed="rId3"/>
          <a:stretch/>
        </p:blipFill>
        <p:spPr>
          <a:xfrm>
            <a:off x="7391520" y="1676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4.45883E-006 L 0.00833 -0.42229 E">
                                      <p:cBhvr>
                                        <p:cTn id="40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gif007"/>
          <p:cNvPicPr/>
          <p:nvPr/>
        </p:nvPicPr>
        <p:blipFill>
          <a:blip r:embed="rId1"/>
          <a:stretch/>
        </p:blipFill>
        <p:spPr>
          <a:xfrm>
            <a:off x="3124080" y="868320"/>
            <a:ext cx="6019920" cy="560880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7"/>
          <p:cNvGrpSpPr/>
          <p:nvPr/>
        </p:nvGrpSpPr>
        <p:grpSpPr>
          <a:xfrm>
            <a:off x="5029200" y="3505320"/>
            <a:ext cx="1295280" cy="1295280"/>
            <a:chOff x="5029200" y="3505320"/>
            <a:chExt cx="1295280" cy="1295280"/>
          </a:xfrm>
        </p:grpSpPr>
        <p:grpSp>
          <p:nvGrpSpPr>
            <p:cNvPr id="459" name=""/>
            <p:cNvGrpSpPr/>
            <p:nvPr/>
          </p:nvGrpSpPr>
          <p:grpSpPr>
            <a:xfrm>
              <a:off x="5029200" y="3505320"/>
              <a:ext cx="1295280" cy="1295280"/>
              <a:chOff x="5029200" y="3505320"/>
              <a:chExt cx="1295280" cy="1295280"/>
            </a:xfrm>
          </p:grpSpPr>
          <p:sp>
            <p:nvSpPr>
              <p:cNvPr id="460" name="Line 5"/>
              <p:cNvSpPr/>
              <p:nvPr/>
            </p:nvSpPr>
            <p:spPr>
              <a:xfrm flipH="1">
                <a:off x="5029200" y="3505320"/>
                <a:ext cx="1295280" cy="12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5029200" y="3505320"/>
                <a:ext cx="129528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 Box 6"/>
            <p:cNvSpPr/>
            <p:nvPr/>
          </p:nvSpPr>
          <p:spPr>
            <a:xfrm>
              <a:off x="5244840" y="39142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8"/>
          <p:cNvSpPr/>
          <p:nvPr/>
        </p:nvSpPr>
        <p:spPr>
          <a:xfrm>
            <a:off x="380880" y="10666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锤子的锤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F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使钉子移动了一段距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Ｓ，锤子对钉子做了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6707160" y="3048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324120" y="2666880"/>
            <a:ext cx="838800" cy="838440"/>
            <a:chOff x="6324120" y="2666880"/>
            <a:chExt cx="838800" cy="838440"/>
          </a:xfrm>
        </p:grpSpPr>
        <p:sp>
          <p:nvSpPr>
            <p:cNvPr id="466" name="Line 10"/>
            <p:cNvSpPr/>
            <p:nvPr/>
          </p:nvSpPr>
          <p:spPr>
            <a:xfrm flipH="1">
              <a:off x="6324120" y="2666880"/>
              <a:ext cx="838440" cy="83844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6324480" y="266688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0a22e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大火箭1"/>
          <p:cNvPicPr/>
          <p:nvPr/>
        </p:nvPicPr>
        <p:blipFill>
          <a:blip r:embed="rId1"/>
          <a:stretch/>
        </p:blipFill>
        <p:spPr>
          <a:xfrm>
            <a:off x="4495680" y="0"/>
            <a:ext cx="32767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6095520" y="228600"/>
            <a:ext cx="360" cy="1828800"/>
            <a:chOff x="6095520" y="228600"/>
            <a:chExt cx="360" cy="1828800"/>
          </a:xfrm>
        </p:grpSpPr>
        <p:sp>
          <p:nvSpPr>
            <p:cNvPr id="470" name="Line 3"/>
            <p:cNvSpPr/>
            <p:nvPr/>
          </p:nvSpPr>
          <p:spPr>
            <a:xfrm flipV="1">
              <a:off x="6095880" y="22860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 rot="10800000">
              <a:off x="6095520" y="22860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629400" y="2133720"/>
            <a:ext cx="360" cy="4267080"/>
            <a:chOff x="6629400" y="2133720"/>
            <a:chExt cx="360" cy="4267080"/>
          </a:xfrm>
        </p:grpSpPr>
        <p:sp>
          <p:nvSpPr>
            <p:cNvPr id="473" name="Line 4"/>
            <p:cNvSpPr/>
            <p:nvPr/>
          </p:nvSpPr>
          <p:spPr>
            <a:xfrm>
              <a:off x="6629400" y="2133720"/>
              <a:ext cx="0" cy="4267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6629400" y="213372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477120" y="2133720"/>
            <a:ext cx="380880" cy="360"/>
            <a:chOff x="6477120" y="2133720"/>
            <a:chExt cx="380880" cy="360"/>
          </a:xfrm>
        </p:grpSpPr>
        <p:sp>
          <p:nvSpPr>
            <p:cNvPr id="476" name="Line 5"/>
            <p:cNvSpPr/>
            <p:nvPr/>
          </p:nvSpPr>
          <p:spPr>
            <a:xfrm>
              <a:off x="6477120" y="21337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6477120" y="21337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6326640" y="38088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6859080" y="350532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huojian.MPG" descr=""/>
          <p:cNvPicPr/>
          <p:nvPr/>
        </p:nvPicPr>
        <p:blipFill>
          <a:blip r:embed="rId2"/>
          <a:stretch/>
        </p:blipFill>
        <p:spPr>
          <a:xfrm>
            <a:off x="228600" y="2397240"/>
            <a:ext cx="4419720" cy="4019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9"/>
          <p:cNvSpPr/>
          <p:nvPr/>
        </p:nvSpPr>
        <p:spPr>
          <a:xfrm>
            <a:off x="533520" y="6858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30492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燃气的推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火箭移动了一段距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燃气对火箭做了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3" name="type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4"/>
          <p:cNvGrpSpPr/>
          <p:nvPr/>
        </p:nvGrpSpPr>
        <p:grpSpPr>
          <a:xfrm>
            <a:off x="380880" y="380880"/>
            <a:ext cx="1333440" cy="872640"/>
            <a:chOff x="380880" y="380880"/>
            <a:chExt cx="1333440" cy="872640"/>
          </a:xfrm>
        </p:grpSpPr>
        <p:grpSp>
          <p:nvGrpSpPr>
            <p:cNvPr id="484" name="Group 5"/>
            <p:cNvGrpSpPr/>
            <p:nvPr/>
          </p:nvGrpSpPr>
          <p:grpSpPr>
            <a:xfrm>
              <a:off x="380880" y="380880"/>
              <a:ext cx="1333440" cy="726840"/>
              <a:chOff x="380880" y="380880"/>
              <a:chExt cx="1333440" cy="726840"/>
            </a:xfrm>
          </p:grpSpPr>
          <p:grpSp>
            <p:nvGrpSpPr>
              <p:cNvPr id="485" name="Group 6"/>
              <p:cNvGrpSpPr/>
              <p:nvPr/>
            </p:nvGrpSpPr>
            <p:grpSpPr>
              <a:xfrm>
                <a:off x="380880" y="380880"/>
                <a:ext cx="1333440" cy="726840"/>
                <a:chOff x="380880" y="380880"/>
                <a:chExt cx="1333440" cy="726840"/>
              </a:xfrm>
            </p:grpSpPr>
            <p:pic>
              <p:nvPicPr>
                <p:cNvPr id="486" name="Picture 7" descr="002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0720" y="380880"/>
                  <a:ext cx="1083600" cy="726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8" descr="0007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880" y="710640"/>
                  <a:ext cx="50004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8" name=""/>
              <p:cNvGrpSpPr/>
              <p:nvPr/>
            </p:nvGrpSpPr>
            <p:grpSpPr>
              <a:xfrm>
                <a:off x="714240" y="875520"/>
                <a:ext cx="792000" cy="360"/>
                <a:chOff x="714240" y="875520"/>
                <a:chExt cx="792000" cy="360"/>
              </a:xfrm>
            </p:grpSpPr>
            <p:sp>
              <p:nvSpPr>
                <p:cNvPr id="489" name="Line 9"/>
                <p:cNvSpPr/>
                <p:nvPr/>
              </p:nvSpPr>
              <p:spPr>
                <a:xfrm>
                  <a:off x="714240" y="875520"/>
                  <a:ext cx="792000" cy="0"/>
                </a:xfrm>
                <a:prstGeom prst="line">
                  <a:avLst/>
                </a:prstGeom>
                <a:ln w="57240">
                  <a:solidFill>
                    <a:srgbClr val="a5644e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714240" y="87552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Text Box 10"/>
            <p:cNvSpPr/>
            <p:nvPr/>
          </p:nvSpPr>
          <p:spPr>
            <a:xfrm>
              <a:off x="1423080" y="793800"/>
              <a:ext cx="2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644e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1"/>
          <p:cNvGrpSpPr/>
          <p:nvPr/>
        </p:nvGrpSpPr>
        <p:grpSpPr>
          <a:xfrm>
            <a:off x="380880" y="304920"/>
            <a:ext cx="1333440" cy="872640"/>
            <a:chOff x="380880" y="304920"/>
            <a:chExt cx="1333440" cy="872640"/>
          </a:xfrm>
        </p:grpSpPr>
        <p:grpSp>
          <p:nvGrpSpPr>
            <p:cNvPr id="493" name="Group 12"/>
            <p:cNvGrpSpPr/>
            <p:nvPr/>
          </p:nvGrpSpPr>
          <p:grpSpPr>
            <a:xfrm>
              <a:off x="380880" y="304920"/>
              <a:ext cx="1333440" cy="726480"/>
              <a:chOff x="380880" y="304920"/>
              <a:chExt cx="1333440" cy="726480"/>
            </a:xfrm>
          </p:grpSpPr>
          <p:grpSp>
            <p:nvGrpSpPr>
              <p:cNvPr id="494" name="Group 13"/>
              <p:cNvGrpSpPr/>
              <p:nvPr/>
            </p:nvGrpSpPr>
            <p:grpSpPr>
              <a:xfrm>
                <a:off x="380880" y="304920"/>
                <a:ext cx="1333440" cy="726480"/>
                <a:chOff x="380880" y="304920"/>
                <a:chExt cx="1333440" cy="726480"/>
              </a:xfrm>
            </p:grpSpPr>
            <p:pic>
              <p:nvPicPr>
                <p:cNvPr id="495" name="Picture 14" descr="002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0720" y="304920"/>
                  <a:ext cx="1083600" cy="72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15" descr="0007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80880" y="634320"/>
                  <a:ext cx="50004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7" name=""/>
              <p:cNvGrpSpPr/>
              <p:nvPr/>
            </p:nvGrpSpPr>
            <p:grpSpPr>
              <a:xfrm>
                <a:off x="714240" y="799560"/>
                <a:ext cx="792000" cy="360"/>
                <a:chOff x="714240" y="799560"/>
                <a:chExt cx="792000" cy="360"/>
              </a:xfrm>
            </p:grpSpPr>
            <p:sp>
              <p:nvSpPr>
                <p:cNvPr id="498" name="Line 16"/>
                <p:cNvSpPr/>
                <p:nvPr/>
              </p:nvSpPr>
              <p:spPr>
                <a:xfrm>
                  <a:off x="714240" y="799560"/>
                  <a:ext cx="792000" cy="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714240" y="799560"/>
                  <a:ext cx="79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Text Box 17"/>
            <p:cNvSpPr/>
            <p:nvPr/>
          </p:nvSpPr>
          <p:spPr>
            <a:xfrm>
              <a:off x="1423080" y="717840"/>
              <a:ext cx="24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644e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8"/>
          <p:cNvGrpSpPr/>
          <p:nvPr/>
        </p:nvGrpSpPr>
        <p:grpSpPr>
          <a:xfrm>
            <a:off x="457200" y="1066680"/>
            <a:ext cx="1828800" cy="459720"/>
            <a:chOff x="457200" y="1066680"/>
            <a:chExt cx="1828800" cy="459720"/>
          </a:xfrm>
        </p:grpSpPr>
        <p:grpSp>
          <p:nvGrpSpPr>
            <p:cNvPr id="502" name=""/>
            <p:cNvGrpSpPr/>
            <p:nvPr/>
          </p:nvGrpSpPr>
          <p:grpSpPr>
            <a:xfrm>
              <a:off x="457200" y="1094400"/>
              <a:ext cx="1828800" cy="360"/>
              <a:chOff x="457200" y="1094400"/>
              <a:chExt cx="1828800" cy="360"/>
            </a:xfrm>
          </p:grpSpPr>
          <p:sp>
            <p:nvSpPr>
              <p:cNvPr id="503" name="Line 19"/>
              <p:cNvSpPr/>
              <p:nvPr/>
            </p:nvSpPr>
            <p:spPr>
              <a:xfrm>
                <a:off x="457200" y="1094400"/>
                <a:ext cx="18288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457200" y="109440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 Box 20"/>
            <p:cNvSpPr/>
            <p:nvPr/>
          </p:nvSpPr>
          <p:spPr>
            <a:xfrm>
              <a:off x="1182960" y="1066680"/>
              <a:ext cx="2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47" descr="ai4"/>
          <p:cNvPicPr/>
          <p:nvPr/>
        </p:nvPicPr>
        <p:blipFill>
          <a:blip r:embed="rId5"/>
          <a:stretch/>
        </p:blipFill>
        <p:spPr>
          <a:xfrm>
            <a:off x="380880" y="1752480"/>
            <a:ext cx="2286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507" name="Group 48"/>
          <p:cNvGrpSpPr/>
          <p:nvPr/>
        </p:nvGrpSpPr>
        <p:grpSpPr>
          <a:xfrm>
            <a:off x="457200" y="3429000"/>
            <a:ext cx="685440" cy="609480"/>
            <a:chOff x="457200" y="3429000"/>
            <a:chExt cx="685440" cy="609480"/>
          </a:xfrm>
        </p:grpSpPr>
        <p:pic>
          <p:nvPicPr>
            <p:cNvPr id="508" name="Picture 49" descr=""/>
            <p:cNvPicPr/>
            <p:nvPr/>
          </p:nvPicPr>
          <p:blipFill>
            <a:blip r:embed="rId6"/>
            <a:stretch/>
          </p:blipFill>
          <p:spPr>
            <a:xfrm>
              <a:off x="457200" y="3429000"/>
              <a:ext cx="655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0"/>
            <p:cNvSpPr/>
            <p:nvPr/>
          </p:nvSpPr>
          <p:spPr>
            <a:xfrm>
              <a:off x="885600" y="3429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644e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51"/>
          <p:cNvGrpSpPr/>
          <p:nvPr/>
        </p:nvGrpSpPr>
        <p:grpSpPr>
          <a:xfrm>
            <a:off x="609480" y="2209680"/>
            <a:ext cx="228600" cy="1447920"/>
            <a:chOff x="609480" y="2209680"/>
            <a:chExt cx="228600" cy="1447920"/>
          </a:xfrm>
        </p:grpSpPr>
        <p:grpSp>
          <p:nvGrpSpPr>
            <p:cNvPr id="511" name=""/>
            <p:cNvGrpSpPr/>
            <p:nvPr/>
          </p:nvGrpSpPr>
          <p:grpSpPr>
            <a:xfrm>
              <a:off x="799920" y="2209680"/>
              <a:ext cx="360" cy="1447920"/>
              <a:chOff x="799920" y="2209680"/>
              <a:chExt cx="360" cy="1447920"/>
            </a:xfrm>
          </p:grpSpPr>
          <p:sp>
            <p:nvSpPr>
              <p:cNvPr id="512" name="Line 52"/>
              <p:cNvSpPr/>
              <p:nvPr/>
            </p:nvSpPr>
            <p:spPr>
              <a:xfrm>
                <a:off x="799920" y="2209680"/>
                <a:ext cx="0" cy="144792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799920" y="220968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Text Box 53"/>
            <p:cNvSpPr/>
            <p:nvPr/>
          </p:nvSpPr>
          <p:spPr>
            <a:xfrm>
              <a:off x="609480" y="28191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54" descr="gif007"/>
          <p:cNvPicPr/>
          <p:nvPr/>
        </p:nvPicPr>
        <p:blipFill>
          <a:blip r:embed="rId7"/>
          <a:stretch/>
        </p:blipFill>
        <p:spPr>
          <a:xfrm>
            <a:off x="304920" y="4343400"/>
            <a:ext cx="22096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55"/>
          <p:cNvGrpSpPr/>
          <p:nvPr/>
        </p:nvGrpSpPr>
        <p:grpSpPr>
          <a:xfrm>
            <a:off x="1066680" y="5334120"/>
            <a:ext cx="457200" cy="599040"/>
            <a:chOff x="1066680" y="5334120"/>
            <a:chExt cx="457200" cy="599040"/>
          </a:xfrm>
        </p:grpSpPr>
        <p:grpSp>
          <p:nvGrpSpPr>
            <p:cNvPr id="517" name=""/>
            <p:cNvGrpSpPr/>
            <p:nvPr/>
          </p:nvGrpSpPr>
          <p:grpSpPr>
            <a:xfrm>
              <a:off x="1066680" y="5334120"/>
              <a:ext cx="457200" cy="448200"/>
              <a:chOff x="1066680" y="5334120"/>
              <a:chExt cx="457200" cy="448200"/>
            </a:xfrm>
          </p:grpSpPr>
          <p:sp>
            <p:nvSpPr>
              <p:cNvPr id="518" name="Line 56"/>
              <p:cNvSpPr/>
              <p:nvPr/>
            </p:nvSpPr>
            <p:spPr>
              <a:xfrm flipH="1">
                <a:off x="1066680" y="5334120"/>
                <a:ext cx="457200" cy="448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1066680" y="5334120"/>
                <a:ext cx="457200" cy="44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57"/>
            <p:cNvSpPr/>
            <p:nvPr/>
          </p:nvSpPr>
          <p:spPr>
            <a:xfrm>
              <a:off x="1108440" y="5473440"/>
              <a:ext cx="2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66" descr="大火箭1"/>
          <p:cNvPicPr/>
          <p:nvPr/>
        </p:nvPicPr>
        <p:blipFill>
          <a:blip r:embed="rId8"/>
          <a:stretch/>
        </p:blipFill>
        <p:spPr>
          <a:xfrm>
            <a:off x="3124080" y="0"/>
            <a:ext cx="32767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522" name=""/>
          <p:cNvGrpSpPr/>
          <p:nvPr/>
        </p:nvGrpSpPr>
        <p:grpSpPr>
          <a:xfrm>
            <a:off x="5257800" y="2133720"/>
            <a:ext cx="360" cy="4267080"/>
            <a:chOff x="5257800" y="2133720"/>
            <a:chExt cx="360" cy="4267080"/>
          </a:xfrm>
        </p:grpSpPr>
        <p:sp>
          <p:nvSpPr>
            <p:cNvPr id="523" name="Line 67"/>
            <p:cNvSpPr/>
            <p:nvPr/>
          </p:nvSpPr>
          <p:spPr>
            <a:xfrm>
              <a:off x="5257800" y="2133720"/>
              <a:ext cx="0" cy="4267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257800" y="213372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105520" y="2133720"/>
            <a:ext cx="380880" cy="360"/>
            <a:chOff x="5105520" y="2133720"/>
            <a:chExt cx="380880" cy="360"/>
          </a:xfrm>
        </p:grpSpPr>
        <p:sp>
          <p:nvSpPr>
            <p:cNvPr id="526" name="Line 68"/>
            <p:cNvSpPr/>
            <p:nvPr/>
          </p:nvSpPr>
          <p:spPr>
            <a:xfrm>
              <a:off x="5105520" y="21337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5105520" y="21337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69"/>
          <p:cNvSpPr/>
          <p:nvPr/>
        </p:nvSpPr>
        <p:spPr>
          <a:xfrm>
            <a:off x="6586920" y="685800"/>
            <a:ext cx="16426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据这几个实例你能总结出做功的必要因素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23920" y="228600"/>
            <a:ext cx="360" cy="1828800"/>
            <a:chOff x="4723920" y="228600"/>
            <a:chExt cx="360" cy="1828800"/>
          </a:xfrm>
        </p:grpSpPr>
        <p:sp>
          <p:nvSpPr>
            <p:cNvPr id="530" name="Line 70"/>
            <p:cNvSpPr/>
            <p:nvPr/>
          </p:nvSpPr>
          <p:spPr>
            <a:xfrm flipV="1">
              <a:off x="4724280" y="22860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 rot="10800000">
              <a:off x="4723920" y="22860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Rectangle 71"/>
          <p:cNvSpPr/>
          <p:nvPr/>
        </p:nvSpPr>
        <p:spPr>
          <a:xfrm>
            <a:off x="4954680" y="231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2"/>
          <p:cNvSpPr/>
          <p:nvPr/>
        </p:nvSpPr>
        <p:spPr>
          <a:xfrm>
            <a:off x="5412240" y="3660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523880" y="4800600"/>
            <a:ext cx="533520" cy="533520"/>
            <a:chOff x="1523880" y="4800600"/>
            <a:chExt cx="533520" cy="533520"/>
          </a:xfrm>
        </p:grpSpPr>
        <p:sp>
          <p:nvSpPr>
            <p:cNvPr id="535" name="Line 74"/>
            <p:cNvSpPr/>
            <p:nvPr/>
          </p:nvSpPr>
          <p:spPr>
            <a:xfrm flipH="1">
              <a:off x="1523880" y="4800600"/>
              <a:ext cx="533520" cy="5335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523880" y="480060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Rectangle 75"/>
          <p:cNvSpPr/>
          <p:nvPr/>
        </p:nvSpPr>
        <p:spPr>
          <a:xfrm>
            <a:off x="1525680" y="4495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58 0.00324 L 0.15417 0.00625 E">
                                      <p:cBhvr>
                                        <p:cTn id="108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32562E-007 L -3.33333E-006 -0.21092 E">
                                      <p:cBhvr>
                                        <p:cTn id="11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457200" y="2438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做功的两个必要因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124080" y="342900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（作用在物体上的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895480" y="42670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（物体在力的方向上移动的距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2057400" y="3429000"/>
            <a:ext cx="304920" cy="1468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8160 h 1468440"/>
              <a:gd name="textAreaBottom" fmla="*/ 1430280 h 146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3429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514600" y="41911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304920" y="38098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必要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09480" y="4419720"/>
            <a:ext cx="1441440" cy="360"/>
            <a:chOff x="609480" y="4419720"/>
            <a:chExt cx="1441440" cy="360"/>
          </a:xfrm>
        </p:grpSpPr>
        <p:sp>
          <p:nvSpPr>
            <p:cNvPr id="546" name="Line 9"/>
            <p:cNvSpPr/>
            <p:nvPr/>
          </p:nvSpPr>
          <p:spPr>
            <a:xfrm>
              <a:off x="609480" y="4419720"/>
              <a:ext cx="1441440" cy="0"/>
            </a:xfrm>
            <a:prstGeom prst="line">
              <a:avLst/>
            </a:prstGeom>
            <a:ln w="69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609480" y="4419720"/>
              <a:ext cx="14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219320" y="4419720"/>
            <a:ext cx="1440" cy="1600200"/>
            <a:chOff x="1219320" y="4419720"/>
            <a:chExt cx="1440" cy="1600200"/>
          </a:xfrm>
        </p:grpSpPr>
        <p:sp>
          <p:nvSpPr>
            <p:cNvPr id="549" name="Line 10"/>
            <p:cNvSpPr/>
            <p:nvPr/>
          </p:nvSpPr>
          <p:spPr>
            <a:xfrm flipH="1">
              <a:off x="1219320" y="4419720"/>
              <a:ext cx="1440" cy="16002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1219320" y="4419720"/>
              <a:ext cx="14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219320" y="6019920"/>
            <a:ext cx="1726920" cy="360"/>
            <a:chOff x="1219320" y="6019920"/>
            <a:chExt cx="1726920" cy="360"/>
          </a:xfrm>
        </p:grpSpPr>
        <p:sp>
          <p:nvSpPr>
            <p:cNvPr id="552" name="Line 11"/>
            <p:cNvSpPr/>
            <p:nvPr/>
          </p:nvSpPr>
          <p:spPr>
            <a:xfrm>
              <a:off x="1219320" y="6019920"/>
              <a:ext cx="1726920" cy="0"/>
            </a:xfrm>
            <a:prstGeom prst="line">
              <a:avLst/>
            </a:prstGeom>
            <a:ln w="5400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1219320" y="6019920"/>
              <a:ext cx="172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12"/>
          <p:cNvSpPr/>
          <p:nvPr/>
        </p:nvSpPr>
        <p:spPr>
          <a:xfrm>
            <a:off x="2971800" y="571500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必须需要，缺一不可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3"/>
          <p:cNvSpPr/>
          <p:nvPr/>
        </p:nvSpPr>
        <p:spPr>
          <a:xfrm>
            <a:off x="4876920" y="4267080"/>
            <a:ext cx="2160360" cy="64944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900000" y="64911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5">
            <a:hlinkClick r:id="rId1"/>
          </p:cNvPr>
          <p:cNvSpPr/>
          <p:nvPr/>
        </p:nvSpPr>
        <p:spPr>
          <a:xfrm>
            <a:off x="8381880" y="152280"/>
            <a:ext cx="609840" cy="762120"/>
          </a:xfrm>
          <a:prstGeom prst="smileyFace">
            <a:avLst>
              <a:gd name="adj" fmla="val 4653"/>
            </a:avLst>
          </a:prstGeom>
          <a:solidFill>
            <a:srgbClr val="feda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6094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Arial"/>
              </a:rPr>
              <a:t>在物理学中，把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力</a:t>
            </a:r>
            <a:r>
              <a:rPr b="1" lang="zh-CN" sz="3600" spc="-1" strike="noStrike">
                <a:solidFill>
                  <a:srgbClr val="4e3b3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物体在力的方向上通过的距离</a:t>
            </a:r>
            <a:r>
              <a:rPr b="1" lang="zh-CN" sz="3600" spc="-1" strike="noStrike">
                <a:solidFill>
                  <a:srgbClr val="4e3b30"/>
                </a:solidFill>
                <a:latin typeface="Arial"/>
              </a:rPr>
              <a:t>的乘积称为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7"/>
          <p:cNvSpPr/>
          <p:nvPr/>
        </p:nvSpPr>
        <p:spPr>
          <a:xfrm>
            <a:off x="644760" y="149400"/>
            <a:ext cx="15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一</a:t>
            </a:r>
            <a:r>
              <a:rPr b="1" lang="en-US" sz="40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cc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4" descr="ai6"/>
          <p:cNvPicPr/>
          <p:nvPr/>
        </p:nvPicPr>
        <p:blipFill>
          <a:blip r:embed="rId1"/>
          <a:stretch/>
        </p:blipFill>
        <p:spPr>
          <a:xfrm>
            <a:off x="5181480" y="682560"/>
            <a:ext cx="3886200" cy="353700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7137000" y="876240"/>
            <a:ext cx="360" cy="495360"/>
            <a:chOff x="7137000" y="876240"/>
            <a:chExt cx="360" cy="495360"/>
          </a:xfrm>
        </p:grpSpPr>
        <p:sp>
          <p:nvSpPr>
            <p:cNvPr id="562" name="Line 5"/>
            <p:cNvSpPr/>
            <p:nvPr/>
          </p:nvSpPr>
          <p:spPr>
            <a:xfrm flipV="1">
              <a:off x="7137360" y="876240"/>
              <a:ext cx="0" cy="49536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 rot="10800000">
              <a:off x="7137000" y="876240"/>
              <a:ext cx="36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334120" y="1676520"/>
            <a:ext cx="685800" cy="360"/>
            <a:chOff x="5334120" y="1676520"/>
            <a:chExt cx="685800" cy="360"/>
          </a:xfrm>
        </p:grpSpPr>
        <p:sp>
          <p:nvSpPr>
            <p:cNvPr id="565" name="Line 6"/>
            <p:cNvSpPr/>
            <p:nvPr/>
          </p:nvSpPr>
          <p:spPr>
            <a:xfrm>
              <a:off x="5334120" y="1676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5334120" y="16765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334120" y="4038480"/>
            <a:ext cx="685800" cy="360"/>
            <a:chOff x="5334120" y="4038480"/>
            <a:chExt cx="685800" cy="360"/>
          </a:xfrm>
        </p:grpSpPr>
        <p:sp>
          <p:nvSpPr>
            <p:cNvPr id="568" name="Line 7"/>
            <p:cNvSpPr/>
            <p:nvPr/>
          </p:nvSpPr>
          <p:spPr>
            <a:xfrm>
              <a:off x="533412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5334120" y="40384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638680" y="3208320"/>
            <a:ext cx="1800" cy="830160"/>
            <a:chOff x="5638680" y="3208320"/>
            <a:chExt cx="1800" cy="830160"/>
          </a:xfrm>
        </p:grpSpPr>
        <p:sp>
          <p:nvSpPr>
            <p:cNvPr id="571" name="Line 8"/>
            <p:cNvSpPr/>
            <p:nvPr/>
          </p:nvSpPr>
          <p:spPr>
            <a:xfrm>
              <a:off x="5638680" y="3208320"/>
              <a:ext cx="1800" cy="83016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5638680" y="3208320"/>
              <a:ext cx="180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638320" y="1676160"/>
            <a:ext cx="360" cy="990360"/>
            <a:chOff x="5638320" y="1676160"/>
            <a:chExt cx="360" cy="990360"/>
          </a:xfrm>
        </p:grpSpPr>
        <p:sp>
          <p:nvSpPr>
            <p:cNvPr id="574" name="Line 9"/>
            <p:cNvSpPr/>
            <p:nvPr/>
          </p:nvSpPr>
          <p:spPr>
            <a:xfrm flipV="1">
              <a:off x="5638680" y="1676160"/>
              <a:ext cx="0" cy="99036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 rot="10800000">
              <a:off x="5638320" y="167616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0"/>
          <p:cNvSpPr/>
          <p:nvPr/>
        </p:nvSpPr>
        <p:spPr>
          <a:xfrm>
            <a:off x="54100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716292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60948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１、运动员用力将杠铃向上举起的过程，举力是否做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8"/>
          <p:cNvSpPr/>
          <p:nvPr/>
        </p:nvSpPr>
        <p:spPr>
          <a:xfrm>
            <a:off x="685800" y="35053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隶书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、汽车的牵引力使汽车水平前进，牵引力是否对汽车做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19"/>
          <p:cNvGrpSpPr/>
          <p:nvPr/>
        </p:nvGrpSpPr>
        <p:grpSpPr>
          <a:xfrm>
            <a:off x="838080" y="4952880"/>
            <a:ext cx="2666880" cy="1295640"/>
            <a:chOff x="838080" y="4952880"/>
            <a:chExt cx="2666880" cy="1295640"/>
          </a:xfrm>
        </p:grpSpPr>
        <p:pic>
          <p:nvPicPr>
            <p:cNvPr id="581" name="Picture 20" descr="TRACTO_7"/>
            <p:cNvPicPr/>
            <p:nvPr/>
          </p:nvPicPr>
          <p:blipFill>
            <a:blip r:embed="rId2"/>
            <a:stretch/>
          </p:blipFill>
          <p:spPr>
            <a:xfrm>
              <a:off x="838080" y="4952880"/>
              <a:ext cx="205164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2" name=""/>
            <p:cNvGrpSpPr/>
            <p:nvPr/>
          </p:nvGrpSpPr>
          <p:grpSpPr>
            <a:xfrm>
              <a:off x="1863720" y="5600520"/>
              <a:ext cx="1504440" cy="360"/>
              <a:chOff x="1863720" y="5600520"/>
              <a:chExt cx="1504440" cy="360"/>
            </a:xfrm>
          </p:grpSpPr>
          <p:sp>
            <p:nvSpPr>
              <p:cNvPr id="583" name="Line 21"/>
              <p:cNvSpPr/>
              <p:nvPr/>
            </p:nvSpPr>
            <p:spPr>
              <a:xfrm>
                <a:off x="1863720" y="5600520"/>
                <a:ext cx="15044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1863720" y="5600520"/>
                <a:ext cx="150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Text Box 22"/>
            <p:cNvSpPr/>
            <p:nvPr/>
          </p:nvSpPr>
          <p:spPr>
            <a:xfrm>
              <a:off x="2958120" y="5307120"/>
              <a:ext cx="5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3"/>
          <p:cNvGrpSpPr/>
          <p:nvPr/>
        </p:nvGrpSpPr>
        <p:grpSpPr>
          <a:xfrm>
            <a:off x="1828800" y="6248520"/>
            <a:ext cx="5105520" cy="459720"/>
            <a:chOff x="1828800" y="6248520"/>
            <a:chExt cx="5105520" cy="459720"/>
          </a:xfrm>
        </p:grpSpPr>
        <p:grpSp>
          <p:nvGrpSpPr>
            <p:cNvPr id="587" name=""/>
            <p:cNvGrpSpPr/>
            <p:nvPr/>
          </p:nvGrpSpPr>
          <p:grpSpPr>
            <a:xfrm>
              <a:off x="1828800" y="6324480"/>
              <a:ext cx="5105520" cy="360"/>
              <a:chOff x="1828800" y="6324480"/>
              <a:chExt cx="5105520" cy="360"/>
            </a:xfrm>
          </p:grpSpPr>
          <p:sp>
            <p:nvSpPr>
              <p:cNvPr id="588" name="Line 24"/>
              <p:cNvSpPr/>
              <p:nvPr/>
            </p:nvSpPr>
            <p:spPr>
              <a:xfrm>
                <a:off x="1828800" y="6324480"/>
                <a:ext cx="51055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1828800" y="6324480"/>
                <a:ext cx="5105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Text Box 25"/>
            <p:cNvSpPr/>
            <p:nvPr/>
          </p:nvSpPr>
          <p:spPr>
            <a:xfrm>
              <a:off x="3829320" y="6248520"/>
              <a:ext cx="8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Picture 27" descr="0159"/>
          <p:cNvPicPr/>
          <p:nvPr/>
        </p:nvPicPr>
        <p:blipFill>
          <a:blip r:embed="rId3"/>
          <a:stretch/>
        </p:blipFill>
        <p:spPr>
          <a:xfrm>
            <a:off x="609480" y="990720"/>
            <a:ext cx="1295640" cy="11872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8"/>
          <p:cNvSpPr/>
          <p:nvPr/>
        </p:nvSpPr>
        <p:spPr>
          <a:xfrm>
            <a:off x="1752480" y="13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29"/>
          <p:cNvSpPr txBox="1"/>
          <p:nvPr/>
        </p:nvSpPr>
        <p:spPr>
          <a:xfrm>
            <a:off x="1219320" y="763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共同探讨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3.33333E-006 L 0.54166 -3.33333E-006 E">
                                      <p:cBhvr>
                                        <p:cTn id="231" dur="3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8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0Z</dcterms:modified>
  <cp:revision>1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