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1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FD0-2B27-47B3-BD86-F5D325F1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3A9-B82C-43C9-BF6B-34C12A88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499-5132-416C-B5E2-18D3C5A9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9A8-9FBD-4709-80A1-E42D31C0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A649-4F32-4244-B18E-D529A7DC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3A61-1810-4391-A631-0C251E1F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5E1C-9BCA-428B-ACC7-487C668B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8EC5-7954-4820-8A70-5FA4E532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70F2-155C-4020-9098-066E96B9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131F-63CE-4DBD-9AA3-BF35333D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CD1D-3D1E-4A06-B118-297F9174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95B-75AD-4ECC-9B87-2456F6BD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42A4-4FA9-4C70-99D3-D1A8ADA8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28A2-4E0C-454B-8E6C-CC6A3C16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9458-E2F1-46D6-A177-8B40C058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6C3B-FEF3-4070-B72A-BA147E98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C550-57F8-4EFB-9F1C-74748684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BB9-2444-4B44-8FD2-76A31699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3AC-331B-48B2-BA47-AC28351F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708-BB08-4064-89BF-E45B99B8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86C-31E7-4BA6-9008-77FA58C6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942-3ED1-4C1B-896C-625F6F65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A48-9F7C-4E30-A03F-EBC86222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227-3A8C-42D9-B92D-3270EFB5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6285-BFE3-46E2-8E14-D916A7D791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3DB0-C03B-42EF-8CD1-9377DAEDF2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news.163.com/photonew/05RQ0001/6081_08.html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28600" y="20574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高原湿地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江源地区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2921760" y="1295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九章  青藏地区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3" descr=""/>
          <p:cNvPicPr/>
          <p:nvPr/>
        </p:nvPicPr>
        <p:blipFill>
          <a:blip r:embed="rId2"/>
          <a:stretch/>
        </p:blipFill>
        <p:spPr>
          <a:xfrm>
            <a:off x="828720" y="3200400"/>
            <a:ext cx="4000320" cy="26798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426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8534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457200" y="685800"/>
            <a:ext cx="510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Arial"/>
                <a:ea typeface="黑体"/>
              </a:rPr>
              <a:t>二、三江源地区的保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-341280" y="0"/>
            <a:ext cx="15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523880" y="57294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护三江源，需要我们一起行动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57200" y="1828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为了保护三江源地区的生态环境，国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设立了三江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然保护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目前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②三江源自然保护区采取退耕还草（林），全面禁猎、禁采砂金、休牧育草，实施天然林和天然牧场保护工程等措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一定程度上遏制了环境持续恶化的趋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8601a18b87d6277f04bb7b9f28381f30e824fce8"/>
          <p:cNvPicPr/>
          <p:nvPr/>
        </p:nvPicPr>
        <p:blipFill>
          <a:blip r:embed="rId2"/>
          <a:stretch/>
        </p:blipFill>
        <p:spPr>
          <a:xfrm>
            <a:off x="2981160" y="3389400"/>
            <a:ext cx="217188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152280" y="1523880"/>
            <a:ext cx="8763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457200" y="685800"/>
            <a:ext cx="510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Arial"/>
                <a:ea typeface="黑体"/>
              </a:rPr>
              <a:t>三、三江源地区的保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52280" y="54547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讨论：三江源如果遭到严重破坏，会对我国长江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河中下游带来哪些影响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90fba69748530ecc029405"/>
          <p:cNvPicPr/>
          <p:nvPr/>
        </p:nvPicPr>
        <p:blipFill>
          <a:blip r:embed="rId2"/>
          <a:stretch/>
        </p:blipFill>
        <p:spPr>
          <a:xfrm>
            <a:off x="152280" y="1523880"/>
            <a:ext cx="5105520" cy="342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草地退化、水土流失"/>
          <p:cNvPicPr/>
          <p:nvPr/>
        </p:nvPicPr>
        <p:blipFill>
          <a:blip r:embed="rId3"/>
          <a:stretch/>
        </p:blipFill>
        <p:spPr>
          <a:xfrm>
            <a:off x="5334120" y="1600200"/>
            <a:ext cx="3557520" cy="2341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4"/>
          <p:cNvSpPr/>
          <p:nvPr/>
        </p:nvSpPr>
        <p:spPr>
          <a:xfrm>
            <a:off x="6912360" y="4003560"/>
            <a:ext cx="5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草地退化、水土流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Arial"/>
                <a:ea typeface="黑体"/>
              </a:rPr>
              <a:t>二、三江源地区的保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27360" y="101124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保护高原湿地的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290400" y="1905120"/>
            <a:ext cx="25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三江源地区冰川不断消退，湖泊、沼泽不断萎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对长江、黄河中游地区带来哪些影响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三江源地区草场退化和水土流失加剧，会对长江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河中游地区带来哪些影响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683360" y="2895480"/>
            <a:ext cx="59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源区水源枯竭，黄河中下游会出现断流，长江中下游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现干旱灾害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064600" y="510552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江源地区草场退化和水土流失加剧，会导致长江、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河中游地区生态环境严重退化，如长江中下游洪涝灾害会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剧，黄河断流时间会增长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点速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三江源地区位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青藏高原东南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青海省南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长江源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黄河源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澜沧江源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总称，故又被称为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华水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江河的最初水源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雪山和冰川的融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湖泊和沼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三江源地区重要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调蓄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三江源地区的意义：三江源地区是世界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海拔最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面积最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高原湿地，也是世界上高海拔地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生物多样性最集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地区，是我国重要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源涵养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三江源地区的环境问题的原因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原因：全球气候变暖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冰川萎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湖泊湿地面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断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缩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甚至干涸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为原因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过垦过牧、乱采滥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速了三江源地区的生态恶化，变现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土流失加剧、草地沙化严重、虫鼠猖獗、野生动物锐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措施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立三江源自然保护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采取退耕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还林还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全面禁猎、禁采砂金、休牧育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实施天然林和天然牧场保护工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点速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三江源地区位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青藏高原东南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青海省南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黄河源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黄河源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澜沧江源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总称，故又被称为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华水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江河的最初水源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雪山和冰川的融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湖泊和沼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三江源地区重要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调蓄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三江源地区的意义：三江源地区是世界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海拔最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面积最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高原湿地，也是世界上高海拔地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生物多样性最集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地区，是我国重要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源涵养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三江源地区的环境问题的原因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原因：全球气候变暖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冰川萎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湖泊湿地面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断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缩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甚至干涸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为原因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过垦过牧、乱采滥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速了三江源地区的生态恶化，变现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土流失加剧、草地沙化严重、虫鼠猖獗、野生动物锐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措施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立三江源自然保护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采取退耕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还林还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全面禁猎、禁采砂金、休牧育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实施天然林和天然牧场保护工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276720" y="914400"/>
            <a:ext cx="21333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5715000" y="91440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33520" y="1219320"/>
            <a:ext cx="21333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391520" y="1219320"/>
            <a:ext cx="12189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3657600" y="1981080"/>
            <a:ext cx="2362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6248520" y="1981080"/>
            <a:ext cx="19047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7391520" y="266688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934320" y="3048120"/>
            <a:ext cx="16761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762120" y="3048120"/>
            <a:ext cx="1066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4343400" y="3352680"/>
            <a:ext cx="1447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1295280" y="4114800"/>
            <a:ext cx="33530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295280" y="4419720"/>
            <a:ext cx="2743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295280" y="4724280"/>
            <a:ext cx="7391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2971800" y="5486400"/>
            <a:ext cx="3200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1523880" y="5791320"/>
            <a:ext cx="43434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6095880" y="5791320"/>
            <a:ext cx="2514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533520" y="6095880"/>
            <a:ext cx="19047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2819520" y="1219320"/>
            <a:ext cx="17524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7848720" y="91440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文本框 8199"/>
          <p:cNvSpPr/>
          <p:nvPr/>
        </p:nvSpPr>
        <p:spPr>
          <a:xfrm>
            <a:off x="1968480" y="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304920" y="161604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被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华水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是我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区，它位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国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省南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50292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三江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0574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青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457200" y="685800"/>
            <a:ext cx="304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Arial"/>
                <a:ea typeface="黑体"/>
              </a:rPr>
              <a:t>评价园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04920" y="289296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列说法中，错误的是：（       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三江源是世界上海拔最高，面积最大的高原湿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三江源大面积的湿地是长江、黄河水源的保证之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三江源水源地的环境破坏不会对长江中、下游造成影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我国已经开始重点保护三江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4594320" y="3267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1EE4-C1FB-4611-B933-37D2A61DD5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笔批改，红笔改错，组长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干旱的宝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D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，暖温带；盆地边缘有丰富的山地降水和冰雪融水；西气东输；塔里木；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夏季气温高，晴天多，日照充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陇海线；维吾尔族；气候干旱。 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（日期：</a:t>
            </a:r>
            <a:r>
              <a:rPr b="1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5.12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八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北地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检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CAD\\AD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些地方水源充足，土地肥沃适合农田与村镇集中。 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（日期：</a:t>
            </a:r>
            <a:r>
              <a:rPr b="1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5.19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藏地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特征与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DB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稞、牦牛、雅鲁藏布江、澜沧江，黄河，拉萨，印度洋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（日期：</a:t>
            </a:r>
            <a:r>
              <a:rPr b="1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5.27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学课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1-9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页，根据自己的理解找出下列问题的答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828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三江源地区的位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三江源地区被誉为“中华水塔”的原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湖泊与河流是如何调蓄河流流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为什么要保护三江源地区（重要性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近年来三江源地区环境问题突出的原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三江源地区环境保护采取的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5"/>
          <p:cNvPicPr/>
          <p:nvPr/>
        </p:nvPicPr>
        <p:blipFill>
          <a:blip r:embed="rId1"/>
          <a:stretch/>
        </p:blipFill>
        <p:spPr>
          <a:xfrm>
            <a:off x="-17640" y="-31680"/>
            <a:ext cx="10350720" cy="11455200"/>
          </a:xfrm>
          <a:prstGeom prst="rect">
            <a:avLst/>
          </a:prstGeom>
          <a:ln w="0">
            <a:noFill/>
          </a:ln>
        </p:spPr>
      </p:pic>
      <p:sp>
        <p:nvSpPr>
          <p:cNvPr id="89" name="Freeform 3"/>
          <p:cNvSpPr/>
          <p:nvPr/>
        </p:nvSpPr>
        <p:spPr>
          <a:xfrm>
            <a:off x="4788000" y="1052640"/>
            <a:ext cx="4537080" cy="2952720"/>
          </a:xfrm>
          <a:custGeom>
            <a:avLst/>
            <a:gdLst/>
            <a:ahLst/>
            <a:rect l="l" t="t" r="r" b="b"/>
            <a:pathLst>
              <a:path w="1246" h="873">
                <a:moveTo>
                  <a:pt x="84" y="309"/>
                </a:moveTo>
                <a:cubicBezTo>
                  <a:pt x="101" y="321"/>
                  <a:pt x="121" y="328"/>
                  <a:pt x="141" y="333"/>
                </a:cubicBezTo>
                <a:cubicBezTo>
                  <a:pt x="180" y="317"/>
                  <a:pt x="149" y="292"/>
                  <a:pt x="135" y="270"/>
                </a:cubicBezTo>
                <a:cubicBezTo>
                  <a:pt x="140" y="237"/>
                  <a:pt x="146" y="246"/>
                  <a:pt x="183" y="240"/>
                </a:cubicBezTo>
                <a:cubicBezTo>
                  <a:pt x="199" y="209"/>
                  <a:pt x="187" y="183"/>
                  <a:pt x="162" y="162"/>
                </a:cubicBezTo>
                <a:cubicBezTo>
                  <a:pt x="152" y="154"/>
                  <a:pt x="151" y="145"/>
                  <a:pt x="138" y="141"/>
                </a:cubicBezTo>
                <a:cubicBezTo>
                  <a:pt x="132" y="130"/>
                  <a:pt x="141" y="94"/>
                  <a:pt x="138" y="84"/>
                </a:cubicBezTo>
                <a:cubicBezTo>
                  <a:pt x="135" y="74"/>
                  <a:pt x="125" y="86"/>
                  <a:pt x="123" y="81"/>
                </a:cubicBezTo>
                <a:cubicBezTo>
                  <a:pt x="122" y="77"/>
                  <a:pt x="118" y="56"/>
                  <a:pt x="126" y="51"/>
                </a:cubicBezTo>
                <a:cubicBezTo>
                  <a:pt x="134" y="46"/>
                  <a:pt x="153" y="52"/>
                  <a:pt x="168" y="51"/>
                </a:cubicBezTo>
                <a:cubicBezTo>
                  <a:pt x="199" y="41"/>
                  <a:pt x="135" y="61"/>
                  <a:pt x="219" y="42"/>
                </a:cubicBezTo>
                <a:cubicBezTo>
                  <a:pt x="247" y="36"/>
                  <a:pt x="269" y="25"/>
                  <a:pt x="297" y="21"/>
                </a:cubicBezTo>
                <a:cubicBezTo>
                  <a:pt x="300" y="20"/>
                  <a:pt x="304" y="20"/>
                  <a:pt x="306" y="18"/>
                </a:cubicBezTo>
                <a:cubicBezTo>
                  <a:pt x="309" y="15"/>
                  <a:pt x="308" y="7"/>
                  <a:pt x="312" y="6"/>
                </a:cubicBezTo>
                <a:cubicBezTo>
                  <a:pt x="315" y="5"/>
                  <a:pt x="355" y="11"/>
                  <a:pt x="360" y="12"/>
                </a:cubicBezTo>
                <a:cubicBezTo>
                  <a:pt x="385" y="25"/>
                  <a:pt x="364" y="0"/>
                  <a:pt x="378" y="24"/>
                </a:cubicBezTo>
                <a:cubicBezTo>
                  <a:pt x="382" y="32"/>
                  <a:pt x="398" y="43"/>
                  <a:pt x="405" y="45"/>
                </a:cubicBezTo>
                <a:cubicBezTo>
                  <a:pt x="411" y="49"/>
                  <a:pt x="414" y="56"/>
                  <a:pt x="420" y="60"/>
                </a:cubicBezTo>
                <a:cubicBezTo>
                  <a:pt x="430" y="65"/>
                  <a:pt x="453" y="57"/>
                  <a:pt x="465" y="60"/>
                </a:cubicBezTo>
                <a:cubicBezTo>
                  <a:pt x="477" y="63"/>
                  <a:pt x="489" y="71"/>
                  <a:pt x="495" y="78"/>
                </a:cubicBezTo>
                <a:cubicBezTo>
                  <a:pt x="510" y="83"/>
                  <a:pt x="497" y="98"/>
                  <a:pt x="501" y="102"/>
                </a:cubicBezTo>
                <a:cubicBezTo>
                  <a:pt x="505" y="106"/>
                  <a:pt x="506" y="101"/>
                  <a:pt x="522" y="105"/>
                </a:cubicBezTo>
                <a:cubicBezTo>
                  <a:pt x="542" y="118"/>
                  <a:pt x="578" y="121"/>
                  <a:pt x="600" y="126"/>
                </a:cubicBezTo>
                <a:cubicBezTo>
                  <a:pt x="614" y="130"/>
                  <a:pt x="627" y="132"/>
                  <a:pt x="642" y="135"/>
                </a:cubicBezTo>
                <a:cubicBezTo>
                  <a:pt x="650" y="137"/>
                  <a:pt x="666" y="141"/>
                  <a:pt x="666" y="141"/>
                </a:cubicBezTo>
                <a:cubicBezTo>
                  <a:pt x="674" y="139"/>
                  <a:pt x="684" y="140"/>
                  <a:pt x="690" y="135"/>
                </a:cubicBezTo>
                <a:cubicBezTo>
                  <a:pt x="704" y="122"/>
                  <a:pt x="680" y="111"/>
                  <a:pt x="714" y="102"/>
                </a:cubicBezTo>
                <a:cubicBezTo>
                  <a:pt x="716" y="89"/>
                  <a:pt x="712" y="74"/>
                  <a:pt x="720" y="63"/>
                </a:cubicBezTo>
                <a:cubicBezTo>
                  <a:pt x="724" y="57"/>
                  <a:pt x="738" y="51"/>
                  <a:pt x="738" y="51"/>
                </a:cubicBezTo>
                <a:cubicBezTo>
                  <a:pt x="766" y="54"/>
                  <a:pt x="772" y="58"/>
                  <a:pt x="795" y="66"/>
                </a:cubicBezTo>
                <a:cubicBezTo>
                  <a:pt x="801" y="72"/>
                  <a:pt x="805" y="82"/>
                  <a:pt x="813" y="84"/>
                </a:cubicBezTo>
                <a:cubicBezTo>
                  <a:pt x="821" y="86"/>
                  <a:pt x="837" y="90"/>
                  <a:pt x="837" y="90"/>
                </a:cubicBezTo>
                <a:cubicBezTo>
                  <a:pt x="844" y="79"/>
                  <a:pt x="842" y="70"/>
                  <a:pt x="855" y="66"/>
                </a:cubicBezTo>
                <a:cubicBezTo>
                  <a:pt x="869" y="71"/>
                  <a:pt x="883" y="73"/>
                  <a:pt x="897" y="75"/>
                </a:cubicBezTo>
                <a:cubicBezTo>
                  <a:pt x="903" y="79"/>
                  <a:pt x="908" y="86"/>
                  <a:pt x="915" y="90"/>
                </a:cubicBezTo>
                <a:cubicBezTo>
                  <a:pt x="921" y="93"/>
                  <a:pt x="928" y="92"/>
                  <a:pt x="933" y="96"/>
                </a:cubicBezTo>
                <a:cubicBezTo>
                  <a:pt x="936" y="98"/>
                  <a:pt x="939" y="100"/>
                  <a:pt x="942" y="102"/>
                </a:cubicBezTo>
                <a:cubicBezTo>
                  <a:pt x="948" y="111"/>
                  <a:pt x="951" y="126"/>
                  <a:pt x="957" y="135"/>
                </a:cubicBezTo>
                <a:cubicBezTo>
                  <a:pt x="959" y="138"/>
                  <a:pt x="961" y="136"/>
                  <a:pt x="963" y="138"/>
                </a:cubicBezTo>
                <a:cubicBezTo>
                  <a:pt x="968" y="143"/>
                  <a:pt x="981" y="150"/>
                  <a:pt x="981" y="150"/>
                </a:cubicBezTo>
                <a:cubicBezTo>
                  <a:pt x="990" y="137"/>
                  <a:pt x="992" y="134"/>
                  <a:pt x="1008" y="138"/>
                </a:cubicBezTo>
                <a:cubicBezTo>
                  <a:pt x="1024" y="149"/>
                  <a:pt x="1043" y="159"/>
                  <a:pt x="1062" y="165"/>
                </a:cubicBezTo>
                <a:cubicBezTo>
                  <a:pt x="1071" y="191"/>
                  <a:pt x="1079" y="201"/>
                  <a:pt x="1104" y="207"/>
                </a:cubicBezTo>
                <a:cubicBezTo>
                  <a:pt x="1118" y="216"/>
                  <a:pt x="1132" y="215"/>
                  <a:pt x="1149" y="219"/>
                </a:cubicBezTo>
                <a:cubicBezTo>
                  <a:pt x="1157" y="221"/>
                  <a:pt x="1170" y="240"/>
                  <a:pt x="1170" y="240"/>
                </a:cubicBezTo>
                <a:cubicBezTo>
                  <a:pt x="1186" y="252"/>
                  <a:pt x="1188" y="245"/>
                  <a:pt x="1194" y="264"/>
                </a:cubicBezTo>
                <a:cubicBezTo>
                  <a:pt x="1202" y="272"/>
                  <a:pt x="1200" y="292"/>
                  <a:pt x="1206" y="297"/>
                </a:cubicBezTo>
                <a:cubicBezTo>
                  <a:pt x="1207" y="303"/>
                  <a:pt x="1202" y="299"/>
                  <a:pt x="1203" y="303"/>
                </a:cubicBezTo>
                <a:cubicBezTo>
                  <a:pt x="1208" y="307"/>
                  <a:pt x="1208" y="313"/>
                  <a:pt x="1212" y="318"/>
                </a:cubicBezTo>
                <a:cubicBezTo>
                  <a:pt x="1216" y="323"/>
                  <a:pt x="1224" y="322"/>
                  <a:pt x="1227" y="333"/>
                </a:cubicBezTo>
                <a:cubicBezTo>
                  <a:pt x="1215" y="351"/>
                  <a:pt x="1224" y="369"/>
                  <a:pt x="1230" y="387"/>
                </a:cubicBezTo>
                <a:cubicBezTo>
                  <a:pt x="1233" y="396"/>
                  <a:pt x="1242" y="414"/>
                  <a:pt x="1242" y="414"/>
                </a:cubicBezTo>
                <a:cubicBezTo>
                  <a:pt x="1241" y="427"/>
                  <a:pt x="1246" y="445"/>
                  <a:pt x="1236" y="453"/>
                </a:cubicBezTo>
                <a:cubicBezTo>
                  <a:pt x="1229" y="458"/>
                  <a:pt x="1212" y="465"/>
                  <a:pt x="1212" y="465"/>
                </a:cubicBezTo>
                <a:cubicBezTo>
                  <a:pt x="1211" y="472"/>
                  <a:pt x="1214" y="481"/>
                  <a:pt x="1209" y="486"/>
                </a:cubicBezTo>
                <a:cubicBezTo>
                  <a:pt x="1203" y="492"/>
                  <a:pt x="1185" y="492"/>
                  <a:pt x="1185" y="492"/>
                </a:cubicBezTo>
                <a:cubicBezTo>
                  <a:pt x="1175" y="536"/>
                  <a:pt x="1177" y="522"/>
                  <a:pt x="1146" y="543"/>
                </a:cubicBezTo>
                <a:cubicBezTo>
                  <a:pt x="1141" y="554"/>
                  <a:pt x="1126" y="567"/>
                  <a:pt x="1140" y="579"/>
                </a:cubicBezTo>
                <a:cubicBezTo>
                  <a:pt x="1147" y="585"/>
                  <a:pt x="1167" y="588"/>
                  <a:pt x="1167" y="588"/>
                </a:cubicBezTo>
                <a:cubicBezTo>
                  <a:pt x="1160" y="602"/>
                  <a:pt x="1153" y="603"/>
                  <a:pt x="1140" y="612"/>
                </a:cubicBezTo>
                <a:cubicBezTo>
                  <a:pt x="1144" y="638"/>
                  <a:pt x="1121" y="614"/>
                  <a:pt x="1140" y="627"/>
                </a:cubicBezTo>
                <a:cubicBezTo>
                  <a:pt x="1147" y="637"/>
                  <a:pt x="1140" y="607"/>
                  <a:pt x="1143" y="618"/>
                </a:cubicBezTo>
                <a:cubicBezTo>
                  <a:pt x="1144" y="622"/>
                  <a:pt x="1149" y="637"/>
                  <a:pt x="1149" y="633"/>
                </a:cubicBezTo>
                <a:cubicBezTo>
                  <a:pt x="1149" y="626"/>
                  <a:pt x="1134" y="618"/>
                  <a:pt x="1146" y="627"/>
                </a:cubicBezTo>
                <a:cubicBezTo>
                  <a:pt x="1133" y="620"/>
                  <a:pt x="1130" y="636"/>
                  <a:pt x="1116" y="633"/>
                </a:cubicBezTo>
                <a:cubicBezTo>
                  <a:pt x="1101" y="630"/>
                  <a:pt x="1088" y="619"/>
                  <a:pt x="1074" y="612"/>
                </a:cubicBezTo>
                <a:cubicBezTo>
                  <a:pt x="1063" y="613"/>
                  <a:pt x="1050" y="608"/>
                  <a:pt x="1041" y="615"/>
                </a:cubicBezTo>
                <a:cubicBezTo>
                  <a:pt x="1036" y="619"/>
                  <a:pt x="1043" y="628"/>
                  <a:pt x="1047" y="633"/>
                </a:cubicBezTo>
                <a:cubicBezTo>
                  <a:pt x="1056" y="647"/>
                  <a:pt x="1063" y="658"/>
                  <a:pt x="1074" y="669"/>
                </a:cubicBezTo>
                <a:cubicBezTo>
                  <a:pt x="1078" y="673"/>
                  <a:pt x="1089" y="675"/>
                  <a:pt x="1089" y="675"/>
                </a:cubicBezTo>
                <a:cubicBezTo>
                  <a:pt x="1099" y="733"/>
                  <a:pt x="1112" y="738"/>
                  <a:pt x="1062" y="744"/>
                </a:cubicBezTo>
                <a:cubicBezTo>
                  <a:pt x="1070" y="789"/>
                  <a:pt x="1043" y="787"/>
                  <a:pt x="1005" y="795"/>
                </a:cubicBezTo>
                <a:cubicBezTo>
                  <a:pt x="987" y="788"/>
                  <a:pt x="985" y="782"/>
                  <a:pt x="966" y="786"/>
                </a:cubicBezTo>
                <a:cubicBezTo>
                  <a:pt x="955" y="769"/>
                  <a:pt x="948" y="753"/>
                  <a:pt x="930" y="744"/>
                </a:cubicBezTo>
                <a:cubicBezTo>
                  <a:pt x="916" y="766"/>
                  <a:pt x="921" y="756"/>
                  <a:pt x="912" y="774"/>
                </a:cubicBezTo>
                <a:cubicBezTo>
                  <a:pt x="896" y="766"/>
                  <a:pt x="892" y="754"/>
                  <a:pt x="882" y="738"/>
                </a:cubicBezTo>
                <a:cubicBezTo>
                  <a:pt x="874" y="726"/>
                  <a:pt x="846" y="717"/>
                  <a:pt x="846" y="717"/>
                </a:cubicBezTo>
                <a:cubicBezTo>
                  <a:pt x="831" y="697"/>
                  <a:pt x="815" y="677"/>
                  <a:pt x="795" y="663"/>
                </a:cubicBezTo>
                <a:cubicBezTo>
                  <a:pt x="791" y="646"/>
                  <a:pt x="791" y="618"/>
                  <a:pt x="774" y="612"/>
                </a:cubicBezTo>
                <a:cubicBezTo>
                  <a:pt x="759" y="614"/>
                  <a:pt x="747" y="617"/>
                  <a:pt x="732" y="621"/>
                </a:cubicBezTo>
                <a:cubicBezTo>
                  <a:pt x="730" y="627"/>
                  <a:pt x="728" y="633"/>
                  <a:pt x="726" y="639"/>
                </a:cubicBezTo>
                <a:cubicBezTo>
                  <a:pt x="725" y="642"/>
                  <a:pt x="723" y="648"/>
                  <a:pt x="723" y="648"/>
                </a:cubicBezTo>
                <a:cubicBezTo>
                  <a:pt x="727" y="666"/>
                  <a:pt x="731" y="684"/>
                  <a:pt x="735" y="702"/>
                </a:cubicBezTo>
                <a:cubicBezTo>
                  <a:pt x="729" y="711"/>
                  <a:pt x="723" y="720"/>
                  <a:pt x="717" y="729"/>
                </a:cubicBezTo>
                <a:cubicBezTo>
                  <a:pt x="715" y="732"/>
                  <a:pt x="711" y="738"/>
                  <a:pt x="711" y="738"/>
                </a:cubicBezTo>
                <a:cubicBezTo>
                  <a:pt x="713" y="750"/>
                  <a:pt x="713" y="763"/>
                  <a:pt x="717" y="774"/>
                </a:cubicBezTo>
                <a:cubicBezTo>
                  <a:pt x="718" y="777"/>
                  <a:pt x="725" y="774"/>
                  <a:pt x="726" y="777"/>
                </a:cubicBezTo>
                <a:cubicBezTo>
                  <a:pt x="730" y="785"/>
                  <a:pt x="711" y="788"/>
                  <a:pt x="702" y="789"/>
                </a:cubicBezTo>
                <a:cubicBezTo>
                  <a:pt x="700" y="802"/>
                  <a:pt x="700" y="816"/>
                  <a:pt x="696" y="828"/>
                </a:cubicBezTo>
                <a:cubicBezTo>
                  <a:pt x="695" y="831"/>
                  <a:pt x="635" y="853"/>
                  <a:pt x="627" y="855"/>
                </a:cubicBezTo>
                <a:cubicBezTo>
                  <a:pt x="615" y="873"/>
                  <a:pt x="612" y="851"/>
                  <a:pt x="597" y="846"/>
                </a:cubicBezTo>
                <a:cubicBezTo>
                  <a:pt x="590" y="857"/>
                  <a:pt x="587" y="866"/>
                  <a:pt x="576" y="873"/>
                </a:cubicBezTo>
                <a:cubicBezTo>
                  <a:pt x="554" y="866"/>
                  <a:pt x="536" y="853"/>
                  <a:pt x="516" y="843"/>
                </a:cubicBezTo>
                <a:cubicBezTo>
                  <a:pt x="507" y="819"/>
                  <a:pt x="501" y="789"/>
                  <a:pt x="477" y="777"/>
                </a:cubicBezTo>
                <a:cubicBezTo>
                  <a:pt x="468" y="763"/>
                  <a:pt x="474" y="770"/>
                  <a:pt x="462" y="768"/>
                </a:cubicBezTo>
                <a:cubicBezTo>
                  <a:pt x="455" y="764"/>
                  <a:pt x="441" y="753"/>
                  <a:pt x="432" y="753"/>
                </a:cubicBezTo>
                <a:cubicBezTo>
                  <a:pt x="423" y="753"/>
                  <a:pt x="421" y="766"/>
                  <a:pt x="405" y="765"/>
                </a:cubicBezTo>
                <a:cubicBezTo>
                  <a:pt x="372" y="772"/>
                  <a:pt x="360" y="754"/>
                  <a:pt x="333" y="747"/>
                </a:cubicBezTo>
                <a:cubicBezTo>
                  <a:pt x="328" y="746"/>
                  <a:pt x="289" y="742"/>
                  <a:pt x="279" y="735"/>
                </a:cubicBezTo>
                <a:cubicBezTo>
                  <a:pt x="261" y="723"/>
                  <a:pt x="245" y="717"/>
                  <a:pt x="225" y="711"/>
                </a:cubicBezTo>
                <a:cubicBezTo>
                  <a:pt x="187" y="688"/>
                  <a:pt x="153" y="670"/>
                  <a:pt x="114" y="654"/>
                </a:cubicBezTo>
                <a:cubicBezTo>
                  <a:pt x="96" y="657"/>
                  <a:pt x="83" y="640"/>
                  <a:pt x="69" y="639"/>
                </a:cubicBezTo>
                <a:cubicBezTo>
                  <a:pt x="51" y="633"/>
                  <a:pt x="30" y="601"/>
                  <a:pt x="18" y="585"/>
                </a:cubicBezTo>
                <a:cubicBezTo>
                  <a:pt x="14" y="579"/>
                  <a:pt x="10" y="573"/>
                  <a:pt x="6" y="567"/>
                </a:cubicBezTo>
                <a:cubicBezTo>
                  <a:pt x="4" y="564"/>
                  <a:pt x="0" y="558"/>
                  <a:pt x="0" y="558"/>
                </a:cubicBezTo>
                <a:cubicBezTo>
                  <a:pt x="3" y="535"/>
                  <a:pt x="2" y="530"/>
                  <a:pt x="15" y="513"/>
                </a:cubicBezTo>
                <a:cubicBezTo>
                  <a:pt x="12" y="499"/>
                  <a:pt x="15" y="487"/>
                  <a:pt x="9" y="474"/>
                </a:cubicBezTo>
                <a:cubicBezTo>
                  <a:pt x="3" y="450"/>
                  <a:pt x="10" y="465"/>
                  <a:pt x="3" y="414"/>
                </a:cubicBezTo>
                <a:cubicBezTo>
                  <a:pt x="7" y="380"/>
                  <a:pt x="16" y="389"/>
                  <a:pt x="33" y="366"/>
                </a:cubicBezTo>
                <a:cubicBezTo>
                  <a:pt x="27" y="354"/>
                  <a:pt x="22" y="342"/>
                  <a:pt x="18" y="330"/>
                </a:cubicBezTo>
                <a:cubicBezTo>
                  <a:pt x="39" y="316"/>
                  <a:pt x="29" y="316"/>
                  <a:pt x="45" y="321"/>
                </a:cubicBezTo>
                <a:cubicBezTo>
                  <a:pt x="49" y="319"/>
                  <a:pt x="69" y="321"/>
                  <a:pt x="72" y="318"/>
                </a:cubicBezTo>
                <a:cubicBezTo>
                  <a:pt x="74" y="316"/>
                  <a:pt x="54" y="325"/>
                  <a:pt x="57" y="324"/>
                </a:cubicBezTo>
                <a:cubicBezTo>
                  <a:pt x="61" y="322"/>
                  <a:pt x="71" y="311"/>
                  <a:pt x="75" y="312"/>
                </a:cubicBezTo>
                <a:cubicBezTo>
                  <a:pt x="88" y="316"/>
                  <a:pt x="123" y="335"/>
                  <a:pt x="84" y="309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7164360" y="476280"/>
            <a:ext cx="2946600" cy="2881440"/>
          </a:xfrm>
          <a:custGeom>
            <a:avLst/>
            <a:gdLst/>
            <a:ahLst/>
            <a:rect l="l" t="t" r="r" b="b"/>
            <a:pathLst>
              <a:path w="1856" h="1815">
                <a:moveTo>
                  <a:pt x="0" y="1494"/>
                </a:moveTo>
                <a:cubicBezTo>
                  <a:pt x="67" y="1501"/>
                  <a:pt x="125" y="1513"/>
                  <a:pt x="192" y="1519"/>
                </a:cubicBezTo>
                <a:cubicBezTo>
                  <a:pt x="210" y="1525"/>
                  <a:pt x="223" y="1542"/>
                  <a:pt x="242" y="1544"/>
                </a:cubicBezTo>
                <a:cubicBezTo>
                  <a:pt x="264" y="1546"/>
                  <a:pt x="295" y="1535"/>
                  <a:pt x="317" y="1528"/>
                </a:cubicBezTo>
                <a:cubicBezTo>
                  <a:pt x="361" y="1498"/>
                  <a:pt x="394" y="1518"/>
                  <a:pt x="434" y="1544"/>
                </a:cubicBezTo>
                <a:cubicBezTo>
                  <a:pt x="454" y="1575"/>
                  <a:pt x="455" y="1605"/>
                  <a:pt x="475" y="1636"/>
                </a:cubicBezTo>
                <a:cubicBezTo>
                  <a:pt x="495" y="1633"/>
                  <a:pt x="515" y="1632"/>
                  <a:pt x="534" y="1628"/>
                </a:cubicBezTo>
                <a:cubicBezTo>
                  <a:pt x="543" y="1626"/>
                  <a:pt x="551" y="1616"/>
                  <a:pt x="559" y="1620"/>
                </a:cubicBezTo>
                <a:cubicBezTo>
                  <a:pt x="570" y="1626"/>
                  <a:pt x="571" y="1642"/>
                  <a:pt x="576" y="1653"/>
                </a:cubicBezTo>
                <a:cubicBezTo>
                  <a:pt x="596" y="1702"/>
                  <a:pt x="593" y="1743"/>
                  <a:pt x="651" y="1761"/>
                </a:cubicBezTo>
                <a:cubicBezTo>
                  <a:pt x="718" y="1758"/>
                  <a:pt x="785" y="1759"/>
                  <a:pt x="851" y="1753"/>
                </a:cubicBezTo>
                <a:cubicBezTo>
                  <a:pt x="874" y="1751"/>
                  <a:pt x="918" y="1736"/>
                  <a:pt x="918" y="1736"/>
                </a:cubicBezTo>
                <a:cubicBezTo>
                  <a:pt x="1009" y="1741"/>
                  <a:pt x="1059" y="1737"/>
                  <a:pt x="1135" y="1761"/>
                </a:cubicBezTo>
                <a:cubicBezTo>
                  <a:pt x="1170" y="1815"/>
                  <a:pt x="1160" y="1815"/>
                  <a:pt x="1227" y="1803"/>
                </a:cubicBezTo>
                <a:cubicBezTo>
                  <a:pt x="1251" y="1765"/>
                  <a:pt x="1243" y="1764"/>
                  <a:pt x="1218" y="1728"/>
                </a:cubicBezTo>
                <a:cubicBezTo>
                  <a:pt x="1198" y="1666"/>
                  <a:pt x="1150" y="1646"/>
                  <a:pt x="1093" y="1628"/>
                </a:cubicBezTo>
                <a:cubicBezTo>
                  <a:pt x="1076" y="1617"/>
                  <a:pt x="1054" y="1612"/>
                  <a:pt x="1043" y="1595"/>
                </a:cubicBezTo>
                <a:cubicBezTo>
                  <a:pt x="1037" y="1586"/>
                  <a:pt x="1035" y="1574"/>
                  <a:pt x="1026" y="1569"/>
                </a:cubicBezTo>
                <a:cubicBezTo>
                  <a:pt x="1016" y="1563"/>
                  <a:pt x="953" y="1551"/>
                  <a:pt x="935" y="1544"/>
                </a:cubicBezTo>
                <a:cubicBezTo>
                  <a:pt x="927" y="1536"/>
                  <a:pt x="920" y="1525"/>
                  <a:pt x="910" y="1519"/>
                </a:cubicBezTo>
                <a:cubicBezTo>
                  <a:pt x="894" y="1511"/>
                  <a:pt x="859" y="1503"/>
                  <a:pt x="859" y="1503"/>
                </a:cubicBezTo>
                <a:cubicBezTo>
                  <a:pt x="840" y="1490"/>
                  <a:pt x="817" y="1485"/>
                  <a:pt x="801" y="1469"/>
                </a:cubicBezTo>
                <a:cubicBezTo>
                  <a:pt x="795" y="1463"/>
                  <a:pt x="798" y="1451"/>
                  <a:pt x="793" y="1444"/>
                </a:cubicBezTo>
                <a:cubicBezTo>
                  <a:pt x="787" y="1436"/>
                  <a:pt x="776" y="1433"/>
                  <a:pt x="768" y="1428"/>
                </a:cubicBezTo>
                <a:cubicBezTo>
                  <a:pt x="749" y="1374"/>
                  <a:pt x="764" y="1332"/>
                  <a:pt x="809" y="1302"/>
                </a:cubicBezTo>
                <a:cubicBezTo>
                  <a:pt x="824" y="1280"/>
                  <a:pt x="853" y="1217"/>
                  <a:pt x="876" y="1202"/>
                </a:cubicBezTo>
                <a:cubicBezTo>
                  <a:pt x="898" y="1188"/>
                  <a:pt x="928" y="1184"/>
                  <a:pt x="951" y="1169"/>
                </a:cubicBezTo>
                <a:cubicBezTo>
                  <a:pt x="1007" y="1172"/>
                  <a:pt x="1063" y="1170"/>
                  <a:pt x="1118" y="1177"/>
                </a:cubicBezTo>
                <a:cubicBezTo>
                  <a:pt x="1128" y="1178"/>
                  <a:pt x="1134" y="1189"/>
                  <a:pt x="1143" y="1194"/>
                </a:cubicBezTo>
                <a:cubicBezTo>
                  <a:pt x="1161" y="1203"/>
                  <a:pt x="1204" y="1209"/>
                  <a:pt x="1218" y="1211"/>
                </a:cubicBezTo>
                <a:cubicBezTo>
                  <a:pt x="1219" y="1211"/>
                  <a:pt x="1335" y="1221"/>
                  <a:pt x="1360" y="1185"/>
                </a:cubicBezTo>
                <a:cubicBezTo>
                  <a:pt x="1371" y="1168"/>
                  <a:pt x="1363" y="1141"/>
                  <a:pt x="1377" y="1127"/>
                </a:cubicBezTo>
                <a:cubicBezTo>
                  <a:pt x="1392" y="1112"/>
                  <a:pt x="1415" y="1110"/>
                  <a:pt x="1435" y="1102"/>
                </a:cubicBezTo>
                <a:cubicBezTo>
                  <a:pt x="1452" y="1095"/>
                  <a:pt x="1486" y="1085"/>
                  <a:pt x="1486" y="1085"/>
                </a:cubicBezTo>
                <a:cubicBezTo>
                  <a:pt x="1504" y="1057"/>
                  <a:pt x="1526" y="1046"/>
                  <a:pt x="1544" y="1019"/>
                </a:cubicBezTo>
                <a:cubicBezTo>
                  <a:pt x="1558" y="973"/>
                  <a:pt x="1539" y="960"/>
                  <a:pt x="1511" y="918"/>
                </a:cubicBezTo>
                <a:cubicBezTo>
                  <a:pt x="1505" y="910"/>
                  <a:pt x="1494" y="893"/>
                  <a:pt x="1494" y="893"/>
                </a:cubicBezTo>
                <a:cubicBezTo>
                  <a:pt x="1470" y="819"/>
                  <a:pt x="1565" y="810"/>
                  <a:pt x="1619" y="793"/>
                </a:cubicBezTo>
                <a:cubicBezTo>
                  <a:pt x="1611" y="790"/>
                  <a:pt x="1594" y="794"/>
                  <a:pt x="1594" y="785"/>
                </a:cubicBezTo>
                <a:cubicBezTo>
                  <a:pt x="1594" y="769"/>
                  <a:pt x="1666" y="731"/>
                  <a:pt x="1678" y="726"/>
                </a:cubicBezTo>
                <a:cubicBezTo>
                  <a:pt x="1694" y="720"/>
                  <a:pt x="1728" y="710"/>
                  <a:pt x="1728" y="710"/>
                </a:cubicBezTo>
                <a:cubicBezTo>
                  <a:pt x="1746" y="682"/>
                  <a:pt x="1768" y="670"/>
                  <a:pt x="1786" y="643"/>
                </a:cubicBezTo>
                <a:cubicBezTo>
                  <a:pt x="1789" y="606"/>
                  <a:pt x="1780" y="563"/>
                  <a:pt x="1803" y="534"/>
                </a:cubicBezTo>
                <a:cubicBezTo>
                  <a:pt x="1818" y="515"/>
                  <a:pt x="1853" y="484"/>
                  <a:pt x="1853" y="484"/>
                </a:cubicBezTo>
                <a:cubicBezTo>
                  <a:pt x="1850" y="409"/>
                  <a:pt x="1851" y="334"/>
                  <a:pt x="1844" y="259"/>
                </a:cubicBezTo>
                <a:cubicBezTo>
                  <a:pt x="1842" y="237"/>
                  <a:pt x="1810" y="154"/>
                  <a:pt x="1803" y="125"/>
                </a:cubicBezTo>
                <a:cubicBezTo>
                  <a:pt x="1814" y="66"/>
                  <a:pt x="1807" y="97"/>
                  <a:pt x="1828" y="33"/>
                </a:cubicBezTo>
                <a:cubicBezTo>
                  <a:pt x="1831" y="24"/>
                  <a:pt x="1847" y="25"/>
                  <a:pt x="1853" y="17"/>
                </a:cubicBezTo>
                <a:cubicBezTo>
                  <a:pt x="1856" y="12"/>
                  <a:pt x="1853" y="6"/>
                  <a:pt x="1853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5580000" y="2997360"/>
            <a:ext cx="4572000" cy="3098520"/>
          </a:xfrm>
          <a:custGeom>
            <a:avLst/>
            <a:gdLst/>
            <a:ahLst/>
            <a:rect l="l" t="t" r="r" b="b"/>
            <a:pathLst>
              <a:path w="2880" h="1952">
                <a:moveTo>
                  <a:pt x="0" y="263"/>
                </a:moveTo>
                <a:cubicBezTo>
                  <a:pt x="6" y="260"/>
                  <a:pt x="56" y="242"/>
                  <a:pt x="50" y="221"/>
                </a:cubicBezTo>
                <a:cubicBezTo>
                  <a:pt x="48" y="213"/>
                  <a:pt x="33" y="216"/>
                  <a:pt x="25" y="213"/>
                </a:cubicBezTo>
                <a:cubicBezTo>
                  <a:pt x="41" y="59"/>
                  <a:pt x="64" y="121"/>
                  <a:pt x="267" y="129"/>
                </a:cubicBezTo>
                <a:cubicBezTo>
                  <a:pt x="359" y="162"/>
                  <a:pt x="291" y="155"/>
                  <a:pt x="459" y="146"/>
                </a:cubicBezTo>
                <a:cubicBezTo>
                  <a:pt x="487" y="137"/>
                  <a:pt x="507" y="122"/>
                  <a:pt x="535" y="113"/>
                </a:cubicBezTo>
                <a:cubicBezTo>
                  <a:pt x="604" y="66"/>
                  <a:pt x="571" y="93"/>
                  <a:pt x="635" y="29"/>
                </a:cubicBezTo>
                <a:cubicBezTo>
                  <a:pt x="643" y="21"/>
                  <a:pt x="660" y="4"/>
                  <a:pt x="660" y="4"/>
                </a:cubicBezTo>
                <a:cubicBezTo>
                  <a:pt x="702" y="7"/>
                  <a:pt x="745" y="0"/>
                  <a:pt x="785" y="13"/>
                </a:cubicBezTo>
                <a:cubicBezTo>
                  <a:pt x="807" y="21"/>
                  <a:pt x="818" y="46"/>
                  <a:pt x="835" y="63"/>
                </a:cubicBezTo>
                <a:cubicBezTo>
                  <a:pt x="843" y="71"/>
                  <a:pt x="860" y="88"/>
                  <a:pt x="860" y="88"/>
                </a:cubicBezTo>
                <a:cubicBezTo>
                  <a:pt x="884" y="164"/>
                  <a:pt x="851" y="143"/>
                  <a:pt x="952" y="154"/>
                </a:cubicBezTo>
                <a:cubicBezTo>
                  <a:pt x="987" y="178"/>
                  <a:pt x="1013" y="201"/>
                  <a:pt x="1052" y="213"/>
                </a:cubicBezTo>
                <a:cubicBezTo>
                  <a:pt x="1116" y="256"/>
                  <a:pt x="1121" y="333"/>
                  <a:pt x="1177" y="380"/>
                </a:cubicBezTo>
                <a:cubicBezTo>
                  <a:pt x="1225" y="421"/>
                  <a:pt x="1319" y="426"/>
                  <a:pt x="1378" y="447"/>
                </a:cubicBezTo>
                <a:cubicBezTo>
                  <a:pt x="1383" y="455"/>
                  <a:pt x="1388" y="464"/>
                  <a:pt x="1394" y="472"/>
                </a:cubicBezTo>
                <a:cubicBezTo>
                  <a:pt x="1401" y="481"/>
                  <a:pt x="1412" y="487"/>
                  <a:pt x="1419" y="497"/>
                </a:cubicBezTo>
                <a:cubicBezTo>
                  <a:pt x="1435" y="521"/>
                  <a:pt x="1430" y="556"/>
                  <a:pt x="1444" y="580"/>
                </a:cubicBezTo>
                <a:cubicBezTo>
                  <a:pt x="1450" y="590"/>
                  <a:pt x="1462" y="596"/>
                  <a:pt x="1469" y="605"/>
                </a:cubicBezTo>
                <a:cubicBezTo>
                  <a:pt x="1481" y="621"/>
                  <a:pt x="1492" y="638"/>
                  <a:pt x="1503" y="655"/>
                </a:cubicBezTo>
                <a:cubicBezTo>
                  <a:pt x="1509" y="663"/>
                  <a:pt x="1520" y="680"/>
                  <a:pt x="1520" y="680"/>
                </a:cubicBezTo>
                <a:cubicBezTo>
                  <a:pt x="1536" y="730"/>
                  <a:pt x="1549" y="771"/>
                  <a:pt x="1578" y="814"/>
                </a:cubicBezTo>
                <a:cubicBezTo>
                  <a:pt x="1581" y="856"/>
                  <a:pt x="1581" y="898"/>
                  <a:pt x="1586" y="939"/>
                </a:cubicBezTo>
                <a:cubicBezTo>
                  <a:pt x="1589" y="969"/>
                  <a:pt x="1607" y="1000"/>
                  <a:pt x="1611" y="1031"/>
                </a:cubicBezTo>
                <a:cubicBezTo>
                  <a:pt x="1619" y="1084"/>
                  <a:pt x="1615" y="1136"/>
                  <a:pt x="1645" y="1181"/>
                </a:cubicBezTo>
                <a:cubicBezTo>
                  <a:pt x="1648" y="1192"/>
                  <a:pt x="1648" y="1205"/>
                  <a:pt x="1653" y="1215"/>
                </a:cubicBezTo>
                <a:cubicBezTo>
                  <a:pt x="1662" y="1233"/>
                  <a:pt x="1687" y="1265"/>
                  <a:pt x="1687" y="1265"/>
                </a:cubicBezTo>
                <a:cubicBezTo>
                  <a:pt x="1717" y="1359"/>
                  <a:pt x="1664" y="1483"/>
                  <a:pt x="1753" y="1540"/>
                </a:cubicBezTo>
                <a:cubicBezTo>
                  <a:pt x="1756" y="1571"/>
                  <a:pt x="1753" y="1603"/>
                  <a:pt x="1762" y="1632"/>
                </a:cubicBezTo>
                <a:cubicBezTo>
                  <a:pt x="1765" y="1642"/>
                  <a:pt x="1780" y="1642"/>
                  <a:pt x="1787" y="1649"/>
                </a:cubicBezTo>
                <a:cubicBezTo>
                  <a:pt x="1794" y="1656"/>
                  <a:pt x="1799" y="1665"/>
                  <a:pt x="1803" y="1674"/>
                </a:cubicBezTo>
                <a:cubicBezTo>
                  <a:pt x="1816" y="1699"/>
                  <a:pt x="1814" y="1745"/>
                  <a:pt x="1828" y="1766"/>
                </a:cubicBezTo>
                <a:cubicBezTo>
                  <a:pt x="1833" y="1773"/>
                  <a:pt x="1845" y="1771"/>
                  <a:pt x="1853" y="1774"/>
                </a:cubicBezTo>
                <a:cubicBezTo>
                  <a:pt x="1879" y="1766"/>
                  <a:pt x="1904" y="1757"/>
                  <a:pt x="1929" y="1749"/>
                </a:cubicBezTo>
                <a:cubicBezTo>
                  <a:pt x="1934" y="1741"/>
                  <a:pt x="1944" y="1734"/>
                  <a:pt x="1945" y="1724"/>
                </a:cubicBezTo>
                <a:cubicBezTo>
                  <a:pt x="1947" y="1707"/>
                  <a:pt x="1937" y="1691"/>
                  <a:pt x="1937" y="1674"/>
                </a:cubicBezTo>
                <a:cubicBezTo>
                  <a:pt x="1937" y="1646"/>
                  <a:pt x="1942" y="1618"/>
                  <a:pt x="1945" y="1590"/>
                </a:cubicBezTo>
                <a:cubicBezTo>
                  <a:pt x="1997" y="1667"/>
                  <a:pt x="1970" y="1611"/>
                  <a:pt x="1987" y="1707"/>
                </a:cubicBezTo>
                <a:cubicBezTo>
                  <a:pt x="1993" y="1744"/>
                  <a:pt x="2017" y="1773"/>
                  <a:pt x="2029" y="1807"/>
                </a:cubicBezTo>
                <a:cubicBezTo>
                  <a:pt x="2019" y="1834"/>
                  <a:pt x="2016" y="1895"/>
                  <a:pt x="2037" y="1916"/>
                </a:cubicBezTo>
                <a:cubicBezTo>
                  <a:pt x="2055" y="1934"/>
                  <a:pt x="2087" y="1928"/>
                  <a:pt x="2112" y="1933"/>
                </a:cubicBezTo>
                <a:cubicBezTo>
                  <a:pt x="2143" y="1930"/>
                  <a:pt x="2176" y="1936"/>
                  <a:pt x="2204" y="1924"/>
                </a:cubicBezTo>
                <a:cubicBezTo>
                  <a:pt x="2214" y="1920"/>
                  <a:pt x="2204" y="1899"/>
                  <a:pt x="2212" y="1891"/>
                </a:cubicBezTo>
                <a:cubicBezTo>
                  <a:pt x="2228" y="1873"/>
                  <a:pt x="2271" y="1849"/>
                  <a:pt x="2271" y="1849"/>
                </a:cubicBezTo>
                <a:cubicBezTo>
                  <a:pt x="2299" y="1807"/>
                  <a:pt x="2282" y="1778"/>
                  <a:pt x="2313" y="1824"/>
                </a:cubicBezTo>
                <a:cubicBezTo>
                  <a:pt x="2325" y="1952"/>
                  <a:pt x="2319" y="1918"/>
                  <a:pt x="2463" y="1908"/>
                </a:cubicBezTo>
                <a:cubicBezTo>
                  <a:pt x="2476" y="1867"/>
                  <a:pt x="2467" y="1850"/>
                  <a:pt x="2505" y="1824"/>
                </a:cubicBezTo>
                <a:cubicBezTo>
                  <a:pt x="2543" y="1767"/>
                  <a:pt x="2557" y="1764"/>
                  <a:pt x="2513" y="1699"/>
                </a:cubicBezTo>
                <a:cubicBezTo>
                  <a:pt x="2498" y="1653"/>
                  <a:pt x="2512" y="1612"/>
                  <a:pt x="2538" y="1574"/>
                </a:cubicBezTo>
                <a:cubicBezTo>
                  <a:pt x="2549" y="1539"/>
                  <a:pt x="2568" y="1503"/>
                  <a:pt x="2588" y="1473"/>
                </a:cubicBezTo>
                <a:cubicBezTo>
                  <a:pt x="2600" y="1437"/>
                  <a:pt x="2612" y="1402"/>
                  <a:pt x="2621" y="1365"/>
                </a:cubicBezTo>
                <a:cubicBezTo>
                  <a:pt x="2624" y="1354"/>
                  <a:pt x="2622" y="1341"/>
                  <a:pt x="2630" y="1332"/>
                </a:cubicBezTo>
                <a:cubicBezTo>
                  <a:pt x="2654" y="1305"/>
                  <a:pt x="2704" y="1284"/>
                  <a:pt x="2738" y="1273"/>
                </a:cubicBezTo>
                <a:cubicBezTo>
                  <a:pt x="2801" y="1232"/>
                  <a:pt x="2800" y="1231"/>
                  <a:pt x="2880" y="123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6659640" y="3611520"/>
            <a:ext cx="2376360" cy="3273480"/>
          </a:xfrm>
          <a:custGeom>
            <a:avLst/>
            <a:gdLst/>
            <a:ahLst/>
            <a:rect l="l" t="t" r="r" b="b"/>
            <a:pathLst>
              <a:path w="1398" h="2062">
                <a:moveTo>
                  <a:pt x="21" y="0"/>
                </a:moveTo>
                <a:cubicBezTo>
                  <a:pt x="16" y="22"/>
                  <a:pt x="0" y="44"/>
                  <a:pt x="4" y="66"/>
                </a:cubicBezTo>
                <a:cubicBezTo>
                  <a:pt x="7" y="84"/>
                  <a:pt x="32" y="101"/>
                  <a:pt x="46" y="108"/>
                </a:cubicBezTo>
                <a:cubicBezTo>
                  <a:pt x="97" y="135"/>
                  <a:pt x="158" y="133"/>
                  <a:pt x="213" y="150"/>
                </a:cubicBezTo>
                <a:cubicBezTo>
                  <a:pt x="258" y="220"/>
                  <a:pt x="198" y="138"/>
                  <a:pt x="255" y="183"/>
                </a:cubicBezTo>
                <a:cubicBezTo>
                  <a:pt x="274" y="198"/>
                  <a:pt x="295" y="242"/>
                  <a:pt x="321" y="250"/>
                </a:cubicBezTo>
                <a:cubicBezTo>
                  <a:pt x="348" y="258"/>
                  <a:pt x="377" y="255"/>
                  <a:pt x="405" y="258"/>
                </a:cubicBezTo>
                <a:cubicBezTo>
                  <a:pt x="413" y="264"/>
                  <a:pt x="423" y="267"/>
                  <a:pt x="430" y="275"/>
                </a:cubicBezTo>
                <a:cubicBezTo>
                  <a:pt x="443" y="290"/>
                  <a:pt x="446" y="314"/>
                  <a:pt x="463" y="325"/>
                </a:cubicBezTo>
                <a:cubicBezTo>
                  <a:pt x="480" y="336"/>
                  <a:pt x="496" y="348"/>
                  <a:pt x="513" y="359"/>
                </a:cubicBezTo>
                <a:cubicBezTo>
                  <a:pt x="521" y="364"/>
                  <a:pt x="530" y="370"/>
                  <a:pt x="538" y="375"/>
                </a:cubicBezTo>
                <a:cubicBezTo>
                  <a:pt x="546" y="381"/>
                  <a:pt x="563" y="392"/>
                  <a:pt x="563" y="392"/>
                </a:cubicBezTo>
                <a:cubicBezTo>
                  <a:pt x="581" y="476"/>
                  <a:pt x="541" y="592"/>
                  <a:pt x="639" y="626"/>
                </a:cubicBezTo>
                <a:cubicBezTo>
                  <a:pt x="676" y="663"/>
                  <a:pt x="660" y="640"/>
                  <a:pt x="680" y="701"/>
                </a:cubicBezTo>
                <a:cubicBezTo>
                  <a:pt x="699" y="729"/>
                  <a:pt x="723" y="744"/>
                  <a:pt x="747" y="768"/>
                </a:cubicBezTo>
                <a:cubicBezTo>
                  <a:pt x="749" y="774"/>
                  <a:pt x="761" y="812"/>
                  <a:pt x="764" y="818"/>
                </a:cubicBezTo>
                <a:cubicBezTo>
                  <a:pt x="774" y="835"/>
                  <a:pt x="797" y="868"/>
                  <a:pt x="797" y="868"/>
                </a:cubicBezTo>
                <a:cubicBezTo>
                  <a:pt x="807" y="898"/>
                  <a:pt x="814" y="947"/>
                  <a:pt x="839" y="968"/>
                </a:cubicBezTo>
                <a:cubicBezTo>
                  <a:pt x="854" y="981"/>
                  <a:pt x="889" y="1001"/>
                  <a:pt x="889" y="1001"/>
                </a:cubicBezTo>
                <a:cubicBezTo>
                  <a:pt x="938" y="1073"/>
                  <a:pt x="906" y="1162"/>
                  <a:pt x="956" y="1235"/>
                </a:cubicBezTo>
                <a:cubicBezTo>
                  <a:pt x="966" y="1266"/>
                  <a:pt x="984" y="1289"/>
                  <a:pt x="997" y="1319"/>
                </a:cubicBezTo>
                <a:cubicBezTo>
                  <a:pt x="1009" y="1348"/>
                  <a:pt x="1015" y="1380"/>
                  <a:pt x="1023" y="1410"/>
                </a:cubicBezTo>
                <a:cubicBezTo>
                  <a:pt x="1033" y="1515"/>
                  <a:pt x="1040" y="1601"/>
                  <a:pt x="1064" y="1703"/>
                </a:cubicBezTo>
                <a:cubicBezTo>
                  <a:pt x="1066" y="1712"/>
                  <a:pt x="1081" y="1708"/>
                  <a:pt x="1089" y="1711"/>
                </a:cubicBezTo>
                <a:cubicBezTo>
                  <a:pt x="1101" y="1716"/>
                  <a:pt x="1112" y="1722"/>
                  <a:pt x="1123" y="1728"/>
                </a:cubicBezTo>
                <a:cubicBezTo>
                  <a:pt x="1155" y="1777"/>
                  <a:pt x="1147" y="1785"/>
                  <a:pt x="1131" y="1836"/>
                </a:cubicBezTo>
                <a:cubicBezTo>
                  <a:pt x="1138" y="1866"/>
                  <a:pt x="1131" y="1902"/>
                  <a:pt x="1148" y="1928"/>
                </a:cubicBezTo>
                <a:cubicBezTo>
                  <a:pt x="1159" y="1945"/>
                  <a:pt x="1181" y="1950"/>
                  <a:pt x="1198" y="1961"/>
                </a:cubicBezTo>
                <a:cubicBezTo>
                  <a:pt x="1215" y="1972"/>
                  <a:pt x="1231" y="1984"/>
                  <a:pt x="1248" y="1995"/>
                </a:cubicBezTo>
                <a:cubicBezTo>
                  <a:pt x="1256" y="2000"/>
                  <a:pt x="1273" y="2011"/>
                  <a:pt x="1273" y="2011"/>
                </a:cubicBezTo>
                <a:cubicBezTo>
                  <a:pt x="1293" y="2041"/>
                  <a:pt x="1307" y="2050"/>
                  <a:pt x="1340" y="2062"/>
                </a:cubicBezTo>
                <a:cubicBezTo>
                  <a:pt x="1348" y="2059"/>
                  <a:pt x="1357" y="2055"/>
                  <a:pt x="1365" y="2053"/>
                </a:cubicBezTo>
                <a:cubicBezTo>
                  <a:pt x="1376" y="2050"/>
                  <a:pt x="1398" y="2045"/>
                  <a:pt x="1398" y="2045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 rot="1141200">
            <a:off x="7619760" y="28195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黄    河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7862400" y="4724280"/>
            <a:ext cx="66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长     江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7385040" y="3860640"/>
            <a:ext cx="423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澜沧江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6084720" y="22510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青         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1258920" y="4076640"/>
            <a:ext cx="5113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4724280" y="2514600"/>
            <a:ext cx="4419720" cy="160020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04920" y="22860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Arial"/>
                <a:ea typeface="黑体"/>
              </a:rPr>
              <a:t>一、三江源地区的位置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1066680" y="6338880"/>
            <a:ext cx="8534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江：长江、黄河、澜沧江（境外称为湄公河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28600" y="1600200"/>
            <a:ext cx="5486400" cy="244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5562720" y="1905120"/>
            <a:ext cx="3809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长江总水量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河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澜沧江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均来源于三江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28600" y="4191120"/>
            <a:ext cx="61722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这里的年降水量为多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从干湿状况来看属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地区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为什么这里成了那么多江河发源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  还提供大量的河水补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5053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半干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35440" y="8380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华水塔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2"/>
          <p:cNvGrpSpPr/>
          <p:nvPr/>
        </p:nvGrpSpPr>
        <p:grpSpPr>
          <a:xfrm>
            <a:off x="5943600" y="3962520"/>
            <a:ext cx="3200400" cy="2539800"/>
            <a:chOff x="5943600" y="3962520"/>
            <a:chExt cx="3200400" cy="2539800"/>
          </a:xfrm>
        </p:grpSpPr>
        <p:pic>
          <p:nvPicPr>
            <p:cNvPr id="108" name="Picture 8" descr="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5943600" y="3962520"/>
              <a:ext cx="3200400" cy="25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Oval 11"/>
            <p:cNvSpPr/>
            <p:nvPr/>
          </p:nvSpPr>
          <p:spPr>
            <a:xfrm>
              <a:off x="7315200" y="5181480"/>
              <a:ext cx="228600" cy="151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6583268"/>
          <p:cNvPicPr/>
          <p:nvPr/>
        </p:nvPicPr>
        <p:blipFill>
          <a:blip r:embed="rId1"/>
          <a:stretch/>
        </p:blipFill>
        <p:spPr>
          <a:xfrm>
            <a:off x="0" y="160020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0" y="4267080"/>
            <a:ext cx="3124080" cy="2094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6"/>
          <p:cNvSpPr/>
          <p:nvPr/>
        </p:nvSpPr>
        <p:spPr>
          <a:xfrm>
            <a:off x="-341280" y="0"/>
            <a:ext cx="15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1" descr="三江源地区的沼泽"/>
          <p:cNvPicPr/>
          <p:nvPr/>
        </p:nvPicPr>
        <p:blipFill>
          <a:blip r:embed="rId4"/>
          <a:stretch/>
        </p:blipFill>
        <p:spPr>
          <a:xfrm>
            <a:off x="4648320" y="838080"/>
            <a:ext cx="3962160" cy="2895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6"/>
          <p:cNvSpPr txBox="1"/>
          <p:nvPr/>
        </p:nvSpPr>
        <p:spPr>
          <a:xfrm>
            <a:off x="3505320" y="4114800"/>
            <a:ext cx="5105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雪山和冰川融水是江河的最初水源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6" descr="459626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9"/>
          <p:cNvSpPr txBox="1"/>
          <p:nvPr/>
        </p:nvSpPr>
        <p:spPr>
          <a:xfrm>
            <a:off x="762120" y="53352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湖泊与沼泽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U_4109~1"/>
          <p:cNvPicPr/>
          <p:nvPr/>
        </p:nvPicPr>
        <p:blipFill>
          <a:blip r:embed="rId1"/>
          <a:stretch/>
        </p:blipFill>
        <p:spPr>
          <a:xfrm>
            <a:off x="6000840" y="2171880"/>
            <a:ext cx="3143160" cy="209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U_5233~1"/>
          <p:cNvPicPr/>
          <p:nvPr/>
        </p:nvPicPr>
        <p:blipFill>
          <a:blip r:embed="rId2"/>
          <a:stretch/>
        </p:blipFill>
        <p:spPr>
          <a:xfrm>
            <a:off x="5791320" y="4629240"/>
            <a:ext cx="3333600" cy="2228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3"/>
          <a:stretch/>
        </p:blipFill>
        <p:spPr>
          <a:xfrm>
            <a:off x="2209680" y="2209680"/>
            <a:ext cx="3791160" cy="1231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4"/>
          <a:stretch/>
        </p:blipFill>
        <p:spPr>
          <a:xfrm>
            <a:off x="2438280" y="4648320"/>
            <a:ext cx="3353040" cy="109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U_9303~1"/>
          <p:cNvPicPr/>
          <p:nvPr/>
        </p:nvPicPr>
        <p:blipFill>
          <a:blip r:embed="rId5"/>
          <a:stretch/>
        </p:blipFill>
        <p:spPr>
          <a:xfrm>
            <a:off x="152280" y="152280"/>
            <a:ext cx="2198880" cy="3314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_2743~1"/>
          <p:cNvPicPr/>
          <p:nvPr/>
        </p:nvPicPr>
        <p:blipFill>
          <a:blip r:embed="rId6"/>
          <a:stretch/>
        </p:blipFill>
        <p:spPr>
          <a:xfrm>
            <a:off x="0" y="2895480"/>
            <a:ext cx="2438280" cy="28195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8"/>
          <p:cNvSpPr txBox="1"/>
          <p:nvPr/>
        </p:nvSpPr>
        <p:spPr>
          <a:xfrm>
            <a:off x="2743200" y="1523880"/>
            <a:ext cx="5562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雨季来临和冰雪融水丰盈时——消减洪峰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6" name="WordArt 19"/>
          <p:cNvSpPr txBox="1"/>
          <p:nvPr/>
        </p:nvSpPr>
        <p:spPr>
          <a:xfrm>
            <a:off x="228600" y="6095880"/>
            <a:ext cx="5562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冬春季节——湖泊将储存水补给河流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350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8763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04920" y="304920"/>
            <a:ext cx="586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Arial"/>
                <a:ea typeface="黑体"/>
              </a:rPr>
              <a:t>二、三江源地区的环境问题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43"/>
          <p:cNvGrpSpPr/>
          <p:nvPr/>
        </p:nvGrpSpPr>
        <p:grpSpPr>
          <a:xfrm>
            <a:off x="457200" y="1676520"/>
            <a:ext cx="2666880" cy="2256120"/>
            <a:chOff x="457200" y="1676520"/>
            <a:chExt cx="2666880" cy="2256120"/>
          </a:xfrm>
        </p:grpSpPr>
        <p:pic>
          <p:nvPicPr>
            <p:cNvPr id="132" name="Picture 27" descr="pic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57200" y="1676520"/>
              <a:ext cx="266688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35"/>
            <p:cNvSpPr/>
            <p:nvPr/>
          </p:nvSpPr>
          <p:spPr>
            <a:xfrm>
              <a:off x="990360" y="353376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冰川消融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23"/>
          <p:cNvGrpSpPr/>
          <p:nvPr/>
        </p:nvGrpSpPr>
        <p:grpSpPr>
          <a:xfrm>
            <a:off x="6095880" y="4191120"/>
            <a:ext cx="2743200" cy="2211840"/>
            <a:chOff x="6095880" y="4191120"/>
            <a:chExt cx="2743200" cy="2211840"/>
          </a:xfrm>
        </p:grpSpPr>
        <p:pic>
          <p:nvPicPr>
            <p:cNvPr id="135" name="Picture 22" descr=""/>
            <p:cNvPicPr/>
            <p:nvPr/>
          </p:nvPicPr>
          <p:blipFill>
            <a:blip r:embed="rId4"/>
            <a:stretch/>
          </p:blipFill>
          <p:spPr>
            <a:xfrm>
              <a:off x="6095880" y="4191120"/>
              <a:ext cx="2743200" cy="17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36"/>
            <p:cNvSpPr/>
            <p:nvPr/>
          </p:nvSpPr>
          <p:spPr>
            <a:xfrm>
              <a:off x="6651360" y="6004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虫鼠猖獗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1"/>
          <p:cNvGrpSpPr/>
          <p:nvPr/>
        </p:nvGrpSpPr>
        <p:grpSpPr>
          <a:xfrm>
            <a:off x="3276720" y="1676520"/>
            <a:ext cx="2666880" cy="2287800"/>
            <a:chOff x="3276720" y="1676520"/>
            <a:chExt cx="2666880" cy="2287800"/>
          </a:xfrm>
        </p:grpSpPr>
        <p:pic>
          <p:nvPicPr>
            <p:cNvPr id="138" name="Picture 31" descr="16_2"/>
            <p:cNvPicPr/>
            <p:nvPr/>
          </p:nvPicPr>
          <p:blipFill>
            <a:blip r:embed="rId5"/>
            <a:stretch/>
          </p:blipFill>
          <p:spPr>
            <a:xfrm>
              <a:off x="3276720" y="1676520"/>
              <a:ext cx="266688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37"/>
            <p:cNvSpPr/>
            <p:nvPr/>
          </p:nvSpPr>
          <p:spPr>
            <a:xfrm>
              <a:off x="4038840" y="35654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过度放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6"/>
          <p:cNvGrpSpPr/>
          <p:nvPr/>
        </p:nvGrpSpPr>
        <p:grpSpPr>
          <a:xfrm>
            <a:off x="6095880" y="1676520"/>
            <a:ext cx="2648160" cy="2288520"/>
            <a:chOff x="6095880" y="1676520"/>
            <a:chExt cx="2648160" cy="2288520"/>
          </a:xfrm>
        </p:grpSpPr>
        <p:pic>
          <p:nvPicPr>
            <p:cNvPr id="141" name="Picture 24" descr="U_3997~1"/>
            <p:cNvPicPr/>
            <p:nvPr/>
          </p:nvPicPr>
          <p:blipFill>
            <a:blip r:embed="rId6"/>
            <a:stretch/>
          </p:blipFill>
          <p:spPr>
            <a:xfrm>
              <a:off x="6095880" y="1676520"/>
              <a:ext cx="264816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25"/>
            <p:cNvSpPr/>
            <p:nvPr/>
          </p:nvSpPr>
          <p:spPr>
            <a:xfrm>
              <a:off x="6878160" y="3505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土流失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9"/>
          <p:cNvGrpSpPr/>
          <p:nvPr/>
        </p:nvGrpSpPr>
        <p:grpSpPr>
          <a:xfrm>
            <a:off x="457200" y="4175280"/>
            <a:ext cx="2666880" cy="2227680"/>
            <a:chOff x="457200" y="4175280"/>
            <a:chExt cx="2666880" cy="2227680"/>
          </a:xfrm>
        </p:grpSpPr>
        <p:grpSp>
          <p:nvGrpSpPr>
            <p:cNvPr id="144" name="Group 40"/>
            <p:cNvGrpSpPr/>
            <p:nvPr/>
          </p:nvGrpSpPr>
          <p:grpSpPr>
            <a:xfrm>
              <a:off x="457200" y="4175280"/>
              <a:ext cx="2666880" cy="2227680"/>
              <a:chOff x="457200" y="4175280"/>
              <a:chExt cx="2666880" cy="2227680"/>
            </a:xfrm>
          </p:grpSpPr>
          <p:pic>
            <p:nvPicPr>
              <p:cNvPr id="145" name="Picture 21" descr="W020070820449800703917"/>
              <p:cNvPicPr/>
              <p:nvPr/>
            </p:nvPicPr>
            <p:blipFill>
              <a:blip r:embed="rId7"/>
              <a:stretch/>
            </p:blipFill>
            <p:spPr>
              <a:xfrm>
                <a:off x="457200" y="4175280"/>
                <a:ext cx="2666880" cy="177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34"/>
              <p:cNvSpPr/>
              <p:nvPr/>
            </p:nvSpPr>
            <p:spPr>
              <a:xfrm>
                <a:off x="1219320" y="600408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草地沙化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7" name="Picture 28" descr="U_3365~1"/>
            <p:cNvPicPr/>
            <p:nvPr/>
          </p:nvPicPr>
          <p:blipFill>
            <a:blip r:embed="rId8"/>
            <a:stretch/>
          </p:blipFill>
          <p:spPr>
            <a:xfrm>
              <a:off x="457200" y="4175280"/>
              <a:ext cx="266688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32"/>
          <p:cNvGrpSpPr/>
          <p:nvPr/>
        </p:nvGrpSpPr>
        <p:grpSpPr>
          <a:xfrm>
            <a:off x="3276720" y="4191120"/>
            <a:ext cx="2666880" cy="2691360"/>
            <a:chOff x="3276720" y="4191120"/>
            <a:chExt cx="2666880" cy="2691360"/>
          </a:xfrm>
        </p:grpSpPr>
        <p:grpSp>
          <p:nvGrpSpPr>
            <p:cNvPr id="149" name="Group 38"/>
            <p:cNvGrpSpPr/>
            <p:nvPr/>
          </p:nvGrpSpPr>
          <p:grpSpPr>
            <a:xfrm>
              <a:off x="3276720" y="4191120"/>
              <a:ext cx="2666880" cy="2691360"/>
              <a:chOff x="3276720" y="4191120"/>
              <a:chExt cx="2666880" cy="2691360"/>
            </a:xfrm>
          </p:grpSpPr>
          <p:pic>
            <p:nvPicPr>
              <p:cNvPr id="150" name="Picture 17" descr="u=2896076970,802520386&amp;fm=23&amp;gp=0"/>
              <p:cNvPicPr/>
              <p:nvPr/>
            </p:nvPicPr>
            <p:blipFill>
              <a:blip r:embed="rId9"/>
              <a:stretch/>
            </p:blipFill>
            <p:spPr>
              <a:xfrm>
                <a:off x="3276720" y="4191120"/>
                <a:ext cx="2666880" cy="17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32"/>
              <p:cNvSpPr/>
              <p:nvPr/>
            </p:nvSpPr>
            <p:spPr>
              <a:xfrm>
                <a:off x="4038480" y="6019920"/>
                <a:ext cx="129564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生物多样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性锐减    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2" name="Picture 31" descr="U_2521~1"/>
            <p:cNvPicPr/>
            <p:nvPr/>
          </p:nvPicPr>
          <p:blipFill>
            <a:blip r:embed="rId10"/>
            <a:stretch/>
          </p:blipFill>
          <p:spPr>
            <a:xfrm>
              <a:off x="3276720" y="4191120"/>
              <a:ext cx="26668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8:13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35Z</dcterms:modified>
  <cp:revision>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