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6.jpeg" ContentType="image/jpeg"/>
  <Override PartName="/ppt/media/image2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9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7.png" ContentType="image/png"/>
  <Override PartName="/ppt/media/image3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5BCC-87EB-4E14-937C-414258142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5082-7158-4F87-B94C-066F00647B5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84D84-07A2-4752-AC10-86728FE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0D3768-1F13-4CED-BE4A-87F5A1A5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AD6BF-20A9-4D51-9F38-2D940B4D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A6B3C-C0FF-448C-BD40-57176F19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20594-55E5-41C5-81E2-877D5D28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681DC-21E0-4540-85B0-5AF7F711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978EC-B77D-4B7C-8631-37DC6E72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BB708-2025-49BD-B285-89F303C4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45FA6-51BB-486D-9938-DBCFFCEC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28D7C-74CA-4658-BE7E-A010922E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220C-42C0-4165-A760-91A21F32D2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EDC6E-71FC-4640-9FBC-232B965E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2EE7F-5660-4A93-AD3B-136A08D4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EE81E-5FD5-40A4-93CF-186281A3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87F583-A681-4D2A-A2A8-732F0F86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69438-D526-4E0F-9F7B-F5CFF551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9B5D0-88B5-4D86-9027-29573FD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BF6AC-EE79-4E13-8F67-37F2ED5F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1DB1C-024F-4C49-B40F-6746102F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C6759-2B21-49FB-996B-5132D5E6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51E57-A605-41EA-B58E-CA87B7CD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65B9-0278-4127-B3D0-B446E7D488E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F7565-033B-4B6C-AEC3-1D9142CF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F36297-3A85-498F-A3D1-C028CF73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0000E0-BDA0-4BC7-AB42-6EC91BCD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3C44A5-F3BF-442E-B1D8-C1796E2C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2890F7-CB57-4249-A0B0-0B65D3A7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3AB158-F0F0-4EEC-B471-69DE9A31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E59920-4D53-4DB9-B2B9-8EEAE3F7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A9C9F0-B706-4561-BA4A-75EE1025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E5AF1F-1BB6-4D39-A087-B8EC91E2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8665A8-EFE9-48A6-A184-4D9A92F2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78F4B-DE56-4411-8A56-1F771E65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EFF012-BC5E-4A7C-95D5-09436B91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85FE51-3AA4-42D2-B697-DCB7B9B6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42A1A6-7D43-4220-B086-650CFDA9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66C37-C7A6-4FE1-9BB9-122195D1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24BED-9EE3-4F1B-BA09-86DD12A8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3DB7A-2603-43AC-912A-A7C52F76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6DFD6-21C7-452B-9903-0F5261EB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94C92-2204-468C-BAC6-5403582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1DD1B-78F0-40AA-BEB3-86C7015B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7EA15-467B-419A-B033-20FB38EC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736A5-9441-4A6C-BF7E-56D9C97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D2B53-570F-4700-AFAF-83975DEC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DBC57-8DBD-4E6C-83A1-23F02E0B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45CA9-7427-4CF2-BD1E-B544F83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2FAED-D4E9-4604-AFC7-6938AD25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09019-2DBC-4DBE-B790-AD38C83D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FBB0FE-05FD-41B8-A052-6BD34827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F47C79-5AE9-466F-932C-D35AEC3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BD63AD-1C57-4417-B891-B12EF788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709BF1-10B5-4346-A956-DFD13D22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1F4E5F-DFF0-420A-A445-88CCF592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AF502-D6F3-4F58-A347-9167DEB1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4CCBD4-58CC-456B-AF99-581212EB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C18576-4F43-4676-8F3C-7A20F913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1FCB8A-092E-441F-88CA-38EB8305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0EF54E-F624-460D-B0BE-3759071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CE95DA-21C0-4899-8574-13E0A293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E553D5-BE95-4EEC-A987-359DE439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363586-2A0C-4E95-BF8B-E996B4DD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42A1A6-1B1D-48D8-84F7-2CC9B462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1CAA25-DB79-4873-B569-55DF8E19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B58EBC-DA27-4122-92FE-0389FFBB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C922B-8D8A-49E1-83F4-58ECF797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FBBCC9-5E5B-4896-A95E-F77F2D26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241ED74-AF94-4D69-B19A-BB22C4CE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09FC7D-4899-4C48-B934-45FF4BDA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48A328-192C-43EC-A6E4-F15F2E01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451EFC-3064-497E-8928-441B133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FCDE70-AE8C-4514-9C43-03A3F42A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C0BC2A-2F4F-4D46-91AF-FC0047AF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6EAB39-222B-47D8-A158-DFE56096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02A2CF-393D-426C-BB94-A4426743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EE3D9-A580-48C1-A655-DC5F77FD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EB666-D87E-4292-9E54-382AFF1A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75524-2A95-44AE-85BC-A595C4E6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7B1D-21FD-45EF-BA94-2667D4C8A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1E226-6C84-42F4-9839-66978CFA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41052-39E3-4B68-ABE1-A673AC28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9E97F-95CD-4094-9B20-32134E02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969A2-D36D-416E-AC54-A1308953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86D8F-BD6D-42D6-AE4B-CBDB3CFF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C7380-9B3C-40B6-AAFC-86CBFA62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FE571A-5FAF-4FE1-86E9-B722E4C9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4E8FE-BCF3-45AD-85C2-208E8B6A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80BC8-709B-4452-A6E4-53755076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401B3-09F2-4923-B68D-ECED1DEC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1FB8-5231-4DC8-8954-67A3E84DF3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F04E85-6F64-46A0-883C-C1F70010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7EC3F-ACAE-42BF-B1EA-F543CAB9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58E5F-2E12-4701-BC40-EF31228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8DD49-FAEB-487C-AA08-4646F474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870476-A5F0-4A79-8E53-B1D9626F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3EA4C-6EAB-4EFC-A6A8-66DEEDE5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0BF9B9-6411-4F52-AEF4-5E5D1045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6E05D-8714-40C6-B52F-9A4CADCC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B81DE-5A28-4660-A787-BEF4A13E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C76BE-7266-4505-B56C-82D03ABF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BC0D-028C-48E8-B26B-CB87A1F293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A5B22-99F9-4628-8757-78A18A1F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1BC25A-042A-45AA-B9FB-4E4165D8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18F50-CB3B-4FA0-BFDB-937C493B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2859E-B6A4-445A-B901-10D5C675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ADE14-FDDD-4873-91CF-8C79448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6220A-64D1-4D9C-96A7-5C799AFB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14A6C7-DAE3-4AB4-A7FB-2915D4FA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531AF4-3835-400F-8392-08F8F56A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861AF-9BC8-44BD-92F7-8A665426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C2EB42-8CB7-44A4-B1CC-C60F476C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3C9F-9118-4681-9733-785C456972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435629-C6DD-45A3-84E8-285300F2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55EE09-EB01-4B55-876A-F1589444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AB06FB-E4C9-4102-B159-8C763FAD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190785-3E9E-4AE8-A1B3-95606C9F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6EE696-3877-481B-866C-27E8337D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3D3AFE-11F9-460F-AC71-B66EC4BD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0584C-9836-43DA-A6E7-A24BB4E9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658D95-CFFD-437B-949B-DC515451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D6144F-3B25-4758-B15F-9772AA20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2427E5-D904-42EB-8536-BFA7B102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A7E6-75D9-48EE-BA7B-3FF665E007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F3AF58-C09B-41E7-9365-158879BF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4CA93E-4FD4-4B12-B19F-EFE99A3A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E93BFC-649E-4E32-B89A-867F203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A7E07F-B94D-4A12-A10C-37C2C38D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DB75CB-9695-4C81-BA01-D2EEE2BC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F4F641-C47F-44AA-9ED8-877802DE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EFC78-B91B-4CA4-8A01-A5438D77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FAE822-3B89-4F6C-922D-5C93C1C4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8542B6-5579-45E8-990F-1CD9D6CA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93D7B7-7D3F-4788-977E-CD11F61B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3FCE-7764-4D3A-86A3-0B3D21A528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696B34-241F-42CA-AA31-4DC52380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86D1D9-46F3-422B-A4F8-F2E75880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09E2BE-DBBC-4859-AF27-89524220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221D9E-A46D-49B9-8612-A1609393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21B75C-9B00-4FED-B205-FB49A163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8CCFC3-CEE7-4D7B-8FDC-0317DFA2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83DF27-849D-4553-B330-A39834DB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3B6C75-0EEA-4052-B541-E7730AE7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122FBA-27EA-4BEE-8211-158F6813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5779F8-DD33-4B82-A95B-124DEC06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BA37-67B0-4DDB-9ED0-207ED6D594C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C54022-4F69-40B3-AA03-03BC2D4F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39CED0-6F74-4656-9C63-D58B612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856E4C-9D68-4825-9B13-A547C8FB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C1768E-8A36-4411-8382-D2C26EEA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2C6F1A-82B5-4DFC-B484-6DC127D1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3841A4-96F7-4F0B-92C3-1EE88DDB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690AA3-B390-4CFA-8C95-9A246B93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401593-7355-418B-A56B-08233B19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F24D13-4F29-4E53-A13F-716FE576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59DAC9-5DD0-4F75-BB94-D2CD350D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ED84-C0BC-4967-B4C0-A0EF2A7D9B4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45C9B4-7B3E-48BF-B72C-7ACBC0AF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7F5BD2-E229-4C6D-91B5-3BC9C48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5D91EB-618D-4675-A036-B2240EB8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11F5D6-6F30-4B59-A5C7-40FF59B7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017B06-54C2-43F8-BACC-A5F9E1DB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692F07-4141-4836-A4D8-3E4A9437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E4CAE5-09B2-4670-B5FF-D8B4A963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527B1-2431-422E-BF94-9A58493B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2D7F2-56D2-44FB-A049-ADA0427C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B1C5E-C8FB-4C20-83D1-B0A993CA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D:\ppt素材\b_124491298334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21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D334-156C-4836-96CE-1013564357D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18B8-29AE-4762-B18D-139800F1A0DB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5FF8-56B3-45B6-97A7-7E3B060E65C1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B662-6657-4FBF-940F-8244768613CB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2972-2155-45D8-BF58-BA32BF4BF86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A441-7B13-48E8-82E0-32D58EEFFD2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FFB1-B4F6-45AE-BBFB-7B9CE9B158B2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117F-B7D9-4311-9A7D-744E184E78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D9C9-7EA2-4413-A9F5-EF911DECF951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49A6-838A-43E6-A4C5-BBC9C571D8E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5BC5-F347-412C-9284-B6B8FDCBAA4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AAC8-1C8F-4624-853C-78A5D8E7418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82B2-94E5-4FD6-AF42-E10075F7D83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7CE5-C326-4AB7-8D36-B342986ADBFA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1" descr=""/>
          <p:cNvPicPr/>
          <p:nvPr/>
        </p:nvPicPr>
        <p:blipFill>
          <a:blip r:embed="rId1"/>
          <a:stretch/>
        </p:blipFill>
        <p:spPr>
          <a:xfrm>
            <a:off x="1227240" y="2289240"/>
            <a:ext cx="6337080" cy="39355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4"/>
          <p:cNvSpPr/>
          <p:nvPr/>
        </p:nvSpPr>
        <p:spPr>
          <a:xfrm>
            <a:off x="1658160" y="941400"/>
            <a:ext cx="46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a3a3a"/>
                </a:solidFill>
                <a:latin typeface="宋体"/>
                <a:ea typeface="宋体"/>
              </a:rPr>
              <a:t>各族儿女手拉手课件</a:t>
            </a:r>
            <a:r>
              <a:rPr b="1" i="1" lang="en-US" sz="4000" spc="-1" strike="noStrike">
                <a:solidFill>
                  <a:srgbClr val="3a3a3a"/>
                </a:solidFill>
                <a:latin typeface="宋体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3a3a3a"/>
                </a:solidFill>
                <a:latin typeface="宋体"/>
                <a:ea typeface="宋体"/>
              </a:rPr>
              <a:t>下载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" descr="20061016955175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pic>
        <p:nvPicPr>
          <p:cNvPr id="606" name="Picture 5" descr="eff7b22bb1bbcb04d52af1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6"/>
          <p:cNvSpPr/>
          <p:nvPr/>
        </p:nvSpPr>
        <p:spPr>
          <a:xfrm>
            <a:off x="2244960" y="390600"/>
            <a:ext cx="1534320" cy="642600"/>
          </a:xfrm>
          <a:prstGeom prst="rect">
            <a:avLst/>
          </a:prstGeom>
          <a:solidFill>
            <a:srgbClr val="ffff00"/>
          </a:solidFill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傣 族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5" descr="20090324114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6"/>
          <p:cNvSpPr/>
          <p:nvPr/>
        </p:nvSpPr>
        <p:spPr>
          <a:xfrm>
            <a:off x="1295280" y="174600"/>
            <a:ext cx="1895760" cy="642600"/>
          </a:xfrm>
          <a:prstGeom prst="rect">
            <a:avLst/>
          </a:prstGeom>
          <a:solidFill>
            <a:srgbClr val="77ae26"/>
          </a:solidFill>
          <a:ln w="25560">
            <a:solidFill>
              <a:srgbClr val="567f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Arial"/>
              </a:rPr>
              <a:t>蒙古族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C:\Users\wangyx\AppData\Local\Microsoft\Windows\Temporary Internet Files\Content.IE5\KXOUI0VH\MC900066098[1].gif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ff"/>
                </a:solidFill>
                <a:latin typeface="Arial"/>
              </a:rPr>
              <a:t>     “</a:t>
            </a:r>
            <a:r>
              <a:rPr b="1" lang="zh-CN" sz="9600" spc="-1" strike="noStrike">
                <a:solidFill>
                  <a:srgbClr val="ffccff"/>
                </a:solidFill>
                <a:latin typeface="Arial"/>
              </a:rPr>
              <a:t>那达慕”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0" y="191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    </a:t>
            </a: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那达慕是中国蒙古族人民具有鲜明民族特色的传统活动，也是蒙古族人民喜爱的一种传统体育活动形式。锡林郭勒盟的那达慕最具代表性。</a:t>
            </a:r>
            <a:endParaRPr b="1" lang="en-US" sz="4000" spc="-1" strike="noStrike">
              <a:solidFill>
                <a:srgbClr val="26515f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2f2f2"/>
                </a:solidFill>
                <a:latin typeface="Verdana"/>
              </a:rPr>
              <a:t>"</a:t>
            </a: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那达慕</a:t>
            </a:r>
            <a:r>
              <a:rPr b="1" lang="en-US" sz="4000" spc="-1" strike="noStrike">
                <a:solidFill>
                  <a:srgbClr val="f2f2f2"/>
                </a:solidFill>
                <a:latin typeface="Verdana"/>
              </a:rPr>
              <a:t>"</a:t>
            </a: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是蒙古语的译音，意为</a:t>
            </a:r>
            <a:r>
              <a:rPr b="1" lang="en-US" sz="4000" spc="-1" strike="noStrike">
                <a:solidFill>
                  <a:srgbClr val="f2f2f2"/>
                </a:solidFill>
                <a:latin typeface="Verdana"/>
              </a:rPr>
              <a:t>"</a:t>
            </a: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娱乐、游戏</a:t>
            </a:r>
            <a:r>
              <a:rPr b="1" lang="en-US" sz="4000" spc="-1" strike="noStrike">
                <a:solidFill>
                  <a:srgbClr val="f2f2f2"/>
                </a:solidFill>
                <a:latin typeface="Verdana"/>
              </a:rPr>
              <a:t>"</a:t>
            </a:r>
            <a:r>
              <a:rPr b="1" lang="zh-CN" sz="4000" spc="-1" strike="noStrike">
                <a:solidFill>
                  <a:srgbClr val="f2f2f2"/>
                </a:solidFill>
                <a:latin typeface="Verdana"/>
              </a:rPr>
              <a:t>，以表示丰收的喜悦之情。每年农历六月初四（多在草绿花红、羊肥马壮的阳历七、八月）开始的那达慕，是草原上一年一度的传统盛会。 </a:t>
            </a:r>
            <a:endParaRPr b="1" lang="en-US" sz="4000" spc="-1" strike="noStrike">
              <a:solidFill>
                <a:srgbClr val="26515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6515f"/>
              </a:solidFill>
              <a:latin typeface="Verdana"/>
            </a:endParaRPr>
          </a:p>
        </p:txBody>
      </p:sp>
      <p:pic>
        <p:nvPicPr>
          <p:cNvPr id="613" name="图片 3" descr=""/>
          <p:cNvPicPr/>
          <p:nvPr/>
        </p:nvPicPr>
        <p:blipFill>
          <a:blip r:embed="rId2"/>
          <a:stretch/>
        </p:blipFill>
        <p:spPr>
          <a:xfrm>
            <a:off x="826920" y="0"/>
            <a:ext cx="1908360" cy="1927080"/>
          </a:xfrm>
          <a:prstGeom prst="rect">
            <a:avLst/>
          </a:prstGeom>
          <a:ln w="0">
            <a:noFill/>
          </a:ln>
        </p:spPr>
      </p:pic>
    </p:spTree>
  </p:cSld>
  <p:transition advTm="4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200801251627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Text Box 7" descr=""/>
          <p:cNvPicPr/>
          <p:nvPr/>
        </p:nvPicPr>
        <p:blipFill>
          <a:blip r:embed="rId2"/>
          <a:stretch/>
        </p:blipFill>
        <p:spPr>
          <a:xfrm>
            <a:off x="90360" y="316080"/>
            <a:ext cx="2195640" cy="148104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8199"/>
          <p:cNvSpPr/>
          <p:nvPr/>
        </p:nvSpPr>
        <p:spPr>
          <a:xfrm>
            <a:off x="2762280" y="54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http://hiphotos.baidu.com/545744011/pic/item/df0fc0b00b44fb398ad4b2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cff"/>
                </a:solidFill>
                <a:latin typeface="Arial"/>
              </a:rPr>
              <a:t>雪顿节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26515f"/>
                </a:solidFill>
                <a:latin typeface="Verdana"/>
              </a:rPr>
              <a:t>          </a:t>
            </a:r>
            <a:r>
              <a:rPr b="1" lang="zh-CN" sz="3800" spc="-1" strike="noStrike">
                <a:solidFill>
                  <a:srgbClr val="26515f"/>
                </a:solidFill>
                <a:latin typeface="Verdana"/>
              </a:rPr>
              <a:t>雪顿节是每年藏历六月底七月初，是西藏传统的节日。在藏语中，“雪”是酸奶子的意思，“顿”是“吃”、“宴”的意思，雪顿节按藏语解释就是吃酸奶子的节日，因此又叫“酸奶节”。因为雪顿节期间有隆重热烈的藏戏演出和规模盛大的晒佛仪式，所以有人也称之为“藏戏节”、“晒佛节”。</a:t>
            </a:r>
            <a:endParaRPr b="1" lang="en-US" sz="3800" spc="-1" strike="noStrike">
              <a:solidFill>
                <a:srgbClr val="26515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pic>
        <p:nvPicPr>
          <p:cNvPr id="620" name="Picture 7" descr=""/>
          <p:cNvPicPr/>
          <p:nvPr/>
        </p:nvPicPr>
        <p:blipFill>
          <a:blip r:embed="rId2"/>
          <a:stretch/>
        </p:blipFill>
        <p:spPr>
          <a:xfrm>
            <a:off x="395280" y="0"/>
            <a:ext cx="1979640" cy="162576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WordArt 3"/>
          <p:cNvSpPr txBox="1"/>
          <p:nvPr/>
        </p:nvSpPr>
        <p:spPr>
          <a:xfrm>
            <a:off x="684360" y="1773360"/>
            <a:ext cx="7488000" cy="26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 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3" name="AutoShape 4"/>
          <p:cNvSpPr/>
          <p:nvPr/>
        </p:nvSpPr>
        <p:spPr>
          <a:xfrm>
            <a:off x="8604360" y="6381720"/>
            <a:ext cx="360360" cy="333360"/>
          </a:xfrm>
          <a:custGeom>
            <a:avLst/>
            <a:gdLst>
              <a:gd name="textAreaLeft" fmla="*/ 21600 w 360360"/>
              <a:gd name="textAreaRight" fmla="*/ 338760 w 360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7493"/>
                </a:moveTo>
                <a:lnTo>
                  <a:pt x="8175" y="7493"/>
                </a:lnTo>
                <a:lnTo>
                  <a:pt x="8175" y="12828"/>
                </a:lnTo>
                <a:cubicBezTo>
                  <a:pt x="8175" y="13751"/>
                  <a:pt x="8976" y="14482"/>
                  <a:pt x="10011" y="14482"/>
                </a:cubicBezTo>
                <a:lnTo>
                  <a:pt x="11674" y="14482"/>
                </a:lnTo>
                <a:cubicBezTo>
                  <a:pt x="12710" y="14482"/>
                  <a:pt x="13510" y="13751"/>
                  <a:pt x="13510" y="12828"/>
                </a:cubicBezTo>
                <a:lnTo>
                  <a:pt x="13510" y="7493"/>
                </a:lnTo>
                <a:lnTo>
                  <a:pt x="11674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8" y="7493"/>
                </a:lnTo>
                <a:lnTo>
                  <a:pt x="17018" y="12828"/>
                </a:lnTo>
                <a:cubicBezTo>
                  <a:pt x="17018" y="15596"/>
                  <a:pt x="14442" y="18155"/>
                  <a:pt x="11674" y="18155"/>
                </a:cubicBezTo>
                <a:lnTo>
                  <a:pt x="10011" y="18155"/>
                </a:lnTo>
                <a:cubicBezTo>
                  <a:pt x="7244" y="18155"/>
                  <a:pt x="4667" y="15596"/>
                  <a:pt x="4667" y="12828"/>
                </a:cubicBezTo>
                <a:close/>
              </a:path>
            </a:pathLst>
          </a:custGeom>
          <a:solidFill>
            <a:srgbClr val="438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4" name="TextBox 4"/>
          <p:cNvSpPr/>
          <p:nvPr/>
        </p:nvSpPr>
        <p:spPr>
          <a:xfrm>
            <a:off x="214200" y="835200"/>
            <a:ext cx="892980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回族人忌食猪肉、狗肉、马肉、驴肉和螺肉；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忌讳别人在自己家里吸烟、喝酒；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禁止在人前袒胸露臂；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忌讳在背后诽谤和议论他人短处。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图片 1" descr="u=3480304599,3552846901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TextBox 2"/>
          <p:cNvSpPr/>
          <p:nvPr/>
        </p:nvSpPr>
        <p:spPr>
          <a:xfrm>
            <a:off x="395280" y="765000"/>
            <a:ext cx="76438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进入傣家竹楼，要把鞋脱在门外，而且在屋内走路要轻；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不能进主人内室，不能坐门槛；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不准用衣服当枕头或做枕头；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晒衣服时，上衣要晒在高处，裤子和裙子要晒在低处。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图片 3" descr="u=2254444510,134531500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"/>
          <p:cNvSpPr/>
          <p:nvPr/>
        </p:nvSpPr>
        <p:spPr>
          <a:xfrm>
            <a:off x="6739200" y="428760"/>
            <a:ext cx="14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傣族竹楼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图片 1" descr="u=9488321,265021520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4334040" cy="685800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" descr="u=203257847,240499401&amp;fm=23&amp;gp=0.jpg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TextBox 4"/>
          <p:cNvSpPr/>
          <p:nvPr/>
        </p:nvSpPr>
        <p:spPr>
          <a:xfrm>
            <a:off x="2563560" y="500040"/>
            <a:ext cx="138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蒙古包</a:t>
            </a:r>
            <a:endParaRPr b="1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755640" y="333360"/>
            <a:ext cx="2160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9" name="图片 6" descr="u=1554587943,3946123810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4214880" cy="685800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7" descr="u=1150586898,3548833301&amp;fm=23&amp;gp=0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TextBox 9"/>
          <p:cNvSpPr/>
          <p:nvPr/>
        </p:nvSpPr>
        <p:spPr>
          <a:xfrm>
            <a:off x="338940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d4d4d"/>
                </a:solidFill>
                <a:latin typeface="Arial"/>
              </a:rPr>
              <a:t>壮族</a:t>
            </a:r>
            <a:endParaRPr b="1" lang="en-US" sz="6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图片 1" descr="u=2894709063,3090071049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858000"/>
          </a:xfrm>
          <a:prstGeom prst="rect">
            <a:avLst/>
          </a:prstGeom>
          <a:ln w="0">
            <a:noFill/>
          </a:ln>
        </p:spPr>
      </p:pic>
      <p:pic>
        <p:nvPicPr>
          <p:cNvPr id="633" name="图片 2" descr="u=3290177235,475831776&amp;fm=23&amp;gp=0.jpg"/>
          <p:cNvPicPr/>
          <p:nvPr/>
        </p:nvPicPr>
        <p:blipFill>
          <a:blip r:embed="rId2"/>
          <a:stretch/>
        </p:blipFill>
        <p:spPr>
          <a:xfrm>
            <a:off x="4086360" y="0"/>
            <a:ext cx="505764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TextBox 3"/>
          <p:cNvSpPr/>
          <p:nvPr/>
        </p:nvSpPr>
        <p:spPr>
          <a:xfrm>
            <a:off x="1286640" y="428760"/>
            <a:ext cx="11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孔雀舞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1" descr="u=2199555991,161174431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4000680" cy="685800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2" descr="u=174599957,464791685&amp;fm=23&amp;gp=0.jpg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TextBox 3"/>
          <p:cNvSpPr/>
          <p:nvPr/>
        </p:nvSpPr>
        <p:spPr>
          <a:xfrm>
            <a:off x="643680" y="857160"/>
            <a:ext cx="11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蒙古舞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TextBox 4"/>
          <p:cNvSpPr/>
          <p:nvPr/>
        </p:nvSpPr>
        <p:spPr>
          <a:xfrm>
            <a:off x="4881600" y="357120"/>
            <a:ext cx="14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维吾尔族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2" descr="u=696527980,2457980489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640" name="图片 3" descr="u=1136517191,4185813867&amp;fm=21&amp;gp=0.jpg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4" descr="u=3162309451,607624438&amp;fm=23&amp;gp=0.jpg"/>
          <p:cNvPicPr/>
          <p:nvPr/>
        </p:nvPicPr>
        <p:blipFill>
          <a:blip r:embed="rId3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图片 1" descr="u=1764757606,1275699553&amp;fm=90&amp;gp=0.jpg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2" descr="u=2624696338,4145164224&amp;fm=21&amp;gp=0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1" descr="u=1154335279,2536405290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TextBox 2"/>
          <p:cNvSpPr/>
          <p:nvPr/>
        </p:nvSpPr>
        <p:spPr>
          <a:xfrm>
            <a:off x="2746440" y="476280"/>
            <a:ext cx="36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d4d4d"/>
                </a:solidFill>
                <a:latin typeface="Arial"/>
              </a:rPr>
              <a:t>祖国江山的保卫者 </a:t>
            </a:r>
            <a:endParaRPr b="1" lang="en-US" sz="5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6" name="文本框 8199"/>
          <p:cNvSpPr/>
          <p:nvPr/>
        </p:nvSpPr>
        <p:spPr>
          <a:xfrm>
            <a:off x="919080" y="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图片 1" descr="u=146594719,1704335353&amp;fm=21&amp;gp=0.jpg"/>
          <p:cNvPicPr/>
          <p:nvPr/>
        </p:nvPicPr>
        <p:blipFill>
          <a:blip r:embed="rId1"/>
          <a:stretch/>
        </p:blipFill>
        <p:spPr>
          <a:xfrm>
            <a:off x="0" y="0"/>
            <a:ext cx="3071880" cy="1928880"/>
          </a:xfrm>
          <a:prstGeom prst="rect">
            <a:avLst/>
          </a:prstGeom>
          <a:ln w="0">
            <a:noFill/>
          </a:ln>
        </p:spPr>
      </p:pic>
      <p:pic>
        <p:nvPicPr>
          <p:cNvPr id="648" name="图片 2" descr="u=1674019812,3283662697&amp;fm=21&amp;gp=0.jpg"/>
          <p:cNvPicPr/>
          <p:nvPr/>
        </p:nvPicPr>
        <p:blipFill>
          <a:blip r:embed="rId2"/>
          <a:stretch/>
        </p:blipFill>
        <p:spPr>
          <a:xfrm>
            <a:off x="3071880" y="0"/>
            <a:ext cx="3571920" cy="328608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3" descr="u=3673002071,1053218192&amp;fm=23&amp;gp=0.jpg"/>
          <p:cNvPicPr/>
          <p:nvPr/>
        </p:nvPicPr>
        <p:blipFill>
          <a:blip r:embed="rId3"/>
          <a:stretch/>
        </p:blipFill>
        <p:spPr>
          <a:xfrm>
            <a:off x="6500880" y="0"/>
            <a:ext cx="2643120" cy="335772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4" descr="u=1612128684,3035387795&amp;fm=21&amp;gp=0.jpg"/>
          <p:cNvPicPr/>
          <p:nvPr/>
        </p:nvPicPr>
        <p:blipFill>
          <a:blip r:embed="rId4"/>
          <a:stretch/>
        </p:blipFill>
        <p:spPr>
          <a:xfrm>
            <a:off x="3143160" y="3286080"/>
            <a:ext cx="6000840" cy="357192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u=3495832667,1438292896&amp;fm=23&amp;gp=0.jpg"/>
          <p:cNvPicPr/>
          <p:nvPr/>
        </p:nvPicPr>
        <p:blipFill>
          <a:blip r:embed="rId5"/>
          <a:stretch/>
        </p:blipFill>
        <p:spPr>
          <a:xfrm>
            <a:off x="0" y="1928880"/>
            <a:ext cx="3286080" cy="492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1" descr="u=457540755,4052160541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2" descr="u=4264472814,3085918882&amp;fm=21&amp;gp=0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654" name="图片 3" descr="u=3064415475,2586016495&amp;fm=21&amp;gp=0.jpg"/>
          <p:cNvPicPr/>
          <p:nvPr/>
        </p:nvPicPr>
        <p:blipFill>
          <a:blip r:embed="rId3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4" descr="u=3758614813,4278470239&amp;fm=23&amp;gp=0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822C-7BFB-41F7-89FA-4042A66E9AAF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图片 1" descr="u=3271418849,840647075&amp;fm=21&amp;gp=0.jpg"/>
          <p:cNvPicPr/>
          <p:nvPr/>
        </p:nvPicPr>
        <p:blipFill>
          <a:blip r:embed="rId1"/>
          <a:stretch/>
        </p:blipFill>
        <p:spPr>
          <a:xfrm>
            <a:off x="5214960" y="3286080"/>
            <a:ext cx="3929040" cy="3571920"/>
          </a:xfrm>
          <a:prstGeom prst="rect">
            <a:avLst/>
          </a:prstGeom>
          <a:ln w="0">
            <a:noFill/>
          </a:ln>
        </p:spPr>
      </p:pic>
      <p:pic>
        <p:nvPicPr>
          <p:cNvPr id="661" name="图片 2" descr="u=222935496,4005439232&amp;fm=23&amp;gp=0.jpg"/>
          <p:cNvPicPr/>
          <p:nvPr/>
        </p:nvPicPr>
        <p:blipFill>
          <a:blip r:embed="rId2"/>
          <a:stretch/>
        </p:blipFill>
        <p:spPr>
          <a:xfrm>
            <a:off x="0" y="0"/>
            <a:ext cx="2714760" cy="3333600"/>
          </a:xfrm>
          <a:prstGeom prst="rect">
            <a:avLst/>
          </a:prstGeom>
          <a:ln w="0">
            <a:noFill/>
          </a:ln>
        </p:spPr>
      </p:pic>
      <p:pic>
        <p:nvPicPr>
          <p:cNvPr id="662" name="图片 3" descr="u=3048282216,146745167&amp;fm=23&amp;gp=0.jpg"/>
          <p:cNvPicPr/>
          <p:nvPr/>
        </p:nvPicPr>
        <p:blipFill>
          <a:blip r:embed="rId3"/>
          <a:stretch/>
        </p:blipFill>
        <p:spPr>
          <a:xfrm>
            <a:off x="0" y="3286080"/>
            <a:ext cx="5214960" cy="3571920"/>
          </a:xfrm>
          <a:prstGeom prst="rect">
            <a:avLst/>
          </a:prstGeom>
          <a:ln w="0">
            <a:noFill/>
          </a:ln>
        </p:spPr>
      </p:pic>
      <p:pic>
        <p:nvPicPr>
          <p:cNvPr id="663" name="图片 4" descr="u=1602987981,225545163&amp;fm=23&amp;gp=0.jpg"/>
          <p:cNvPicPr/>
          <p:nvPr/>
        </p:nvPicPr>
        <p:blipFill>
          <a:blip r:embed="rId4"/>
          <a:stretch/>
        </p:blipFill>
        <p:spPr>
          <a:xfrm>
            <a:off x="2714760" y="0"/>
            <a:ext cx="6429240" cy="328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7" descr="xinsrc_512020204191325718835105"/>
          <p:cNvPicPr/>
          <p:nvPr/>
        </p:nvPicPr>
        <p:blipFill>
          <a:blip r:embed="rId1"/>
          <a:stretch/>
        </p:blipFill>
        <p:spPr>
          <a:xfrm>
            <a:off x="0" y="642960"/>
            <a:ext cx="4716360" cy="4869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2008112217341541"/>
          <p:cNvPicPr/>
          <p:nvPr/>
        </p:nvPicPr>
        <p:blipFill>
          <a:blip r:embed="rId2"/>
          <a:stretch/>
        </p:blipFill>
        <p:spPr>
          <a:xfrm>
            <a:off x="5003640" y="1628640"/>
            <a:ext cx="3930840" cy="50310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10"/>
          <p:cNvSpPr/>
          <p:nvPr/>
        </p:nvSpPr>
        <p:spPr>
          <a:xfrm>
            <a:off x="5219640" y="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85" name="矩形 7" descr=""/>
          <p:cNvPicPr/>
          <p:nvPr/>
        </p:nvPicPr>
        <p:blipFill>
          <a:blip r:embed="rId3"/>
          <a:stretch/>
        </p:blipFill>
        <p:spPr>
          <a:xfrm>
            <a:off x="4429080" y="357120"/>
            <a:ext cx="4071960" cy="92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vip-minzu-00087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38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20081022110734"/>
          <p:cNvPicPr/>
          <p:nvPr/>
        </p:nvPicPr>
        <p:blipFill>
          <a:blip r:embed="rId2"/>
          <a:stretch/>
        </p:blipFill>
        <p:spPr>
          <a:xfrm>
            <a:off x="0" y="333360"/>
            <a:ext cx="3995640" cy="6524640"/>
          </a:xfrm>
          <a:prstGeom prst="rect">
            <a:avLst/>
          </a:prstGeom>
          <a:ln w="0">
            <a:noFill/>
          </a:ln>
        </p:spPr>
      </p:pic>
      <p:pic>
        <p:nvPicPr>
          <p:cNvPr id="588" name="矩形 8" descr=""/>
          <p:cNvPicPr/>
          <p:nvPr/>
        </p:nvPicPr>
        <p:blipFill>
          <a:blip r:embed="rId3"/>
          <a:stretch/>
        </p:blipFill>
        <p:spPr>
          <a:xfrm>
            <a:off x="3838680" y="1771560"/>
            <a:ext cx="1330200" cy="525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3" descr="傣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4"/>
          <p:cNvSpPr/>
          <p:nvPr/>
        </p:nvSpPr>
        <p:spPr>
          <a:xfrm>
            <a:off x="3668040" y="304920"/>
            <a:ext cx="124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d4d4d"/>
                </a:solidFill>
                <a:latin typeface="Arial"/>
              </a:rPr>
              <a:t>傣族</a:t>
            </a:r>
            <a:endParaRPr b="1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advTm="3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矩形 5"/>
          <p:cNvSpPr/>
          <p:nvPr/>
        </p:nvSpPr>
        <p:spPr>
          <a:xfrm>
            <a:off x="5076720" y="35733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92" name="Picture 5" descr="20090722135141"/>
          <p:cNvPicPr/>
          <p:nvPr/>
        </p:nvPicPr>
        <p:blipFill>
          <a:blip r:embed="rId1"/>
          <a:stretch/>
        </p:blipFill>
        <p:spPr>
          <a:xfrm>
            <a:off x="0" y="0"/>
            <a:ext cx="3780000" cy="53006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7" descr="20090722140657(1)"/>
          <p:cNvPicPr/>
          <p:nvPr/>
        </p:nvPicPr>
        <p:blipFill>
          <a:blip r:embed="rId2"/>
          <a:stretch/>
        </p:blipFill>
        <p:spPr>
          <a:xfrm>
            <a:off x="4932360" y="981000"/>
            <a:ext cx="4211640" cy="5877000"/>
          </a:xfrm>
          <a:prstGeom prst="rect">
            <a:avLst/>
          </a:prstGeom>
          <a:ln w="0">
            <a:noFill/>
          </a:ln>
        </p:spPr>
      </p:pic>
      <p:pic>
        <p:nvPicPr>
          <p:cNvPr id="594" name="矩形 8" descr=""/>
          <p:cNvPicPr/>
          <p:nvPr/>
        </p:nvPicPr>
        <p:blipFill>
          <a:blip r:embed="rId3"/>
          <a:stretch/>
        </p:blipFill>
        <p:spPr>
          <a:xfrm>
            <a:off x="447840" y="5234040"/>
            <a:ext cx="3267000" cy="16416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4"/>
          <p:cNvSpPr/>
          <p:nvPr/>
        </p:nvSpPr>
        <p:spPr>
          <a:xfrm>
            <a:off x="826920" y="981000"/>
            <a:ext cx="3313440" cy="1008360"/>
          </a:xfrm>
          <a:prstGeom prst="rect">
            <a:avLst/>
          </a:prstGeom>
          <a:gradFill rotWithShape="0">
            <a:gsLst>
              <a:gs pos="0">
                <a:srgbClr val="2065a5"/>
              </a:gs>
              <a:gs pos="100000">
                <a:srgbClr val="2a87d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楷体_GB2312"/>
              </a:rPr>
              <a:t>维吾尔族</a:t>
            </a:r>
            <a:endParaRPr b="1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96" name="Picture 7" descr="FC83C53246800EFF776CB1914D6CC3B9"/>
          <p:cNvPicPr/>
          <p:nvPr/>
        </p:nvPicPr>
        <p:blipFill>
          <a:blip r:embed="rId1"/>
          <a:stretch/>
        </p:blipFill>
        <p:spPr>
          <a:xfrm>
            <a:off x="395280" y="2852640"/>
            <a:ext cx="5048280" cy="37148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0805103042531"/>
          <p:cNvPicPr/>
          <p:nvPr/>
        </p:nvPicPr>
        <p:blipFill>
          <a:blip r:embed="rId2"/>
          <a:stretch/>
        </p:blipFill>
        <p:spPr>
          <a:xfrm>
            <a:off x="5508720" y="620640"/>
            <a:ext cx="3348000" cy="4791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3249-t03"/>
          <p:cNvPicPr/>
          <p:nvPr/>
        </p:nvPicPr>
        <p:blipFill>
          <a:blip r:embed="rId1"/>
          <a:stretch/>
        </p:blipFill>
        <p:spPr>
          <a:xfrm>
            <a:off x="4643280" y="1484280"/>
            <a:ext cx="3830760" cy="51134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4857840" y="214200"/>
            <a:ext cx="3213000" cy="1922760"/>
          </a:xfrm>
          <a:prstGeom prst="rect">
            <a:avLst/>
          </a:prstGeom>
          <a:gradFill rotWithShape="0">
            <a:gsLst>
              <a:gs pos="0">
                <a:srgbClr val="508107"/>
              </a:gs>
              <a:gs pos="100000">
                <a:srgbClr val="6cae0b"/>
              </a:gs>
            </a:gsLst>
            <a:lin ang="16200000"/>
          </a:gradFill>
          <a:ln w="9360">
            <a:solidFill>
              <a:srgbClr val="699c1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楷体_GB2312"/>
              </a:rPr>
              <a:t>满   族</a:t>
            </a:r>
            <a:endParaRPr b="1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0" name="图片 4" descr="u=1178515136,1473966589&amp;fm=23&amp;gp=0.jpg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38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中国是一个统一的多民族国家，共有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56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个民族。其中汉族人口最多，约占总人口的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92%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；其余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55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个民族人口约占总人口的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8%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，因其人口较少，习惯上统称少数民族。在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55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个少数民族中，人口超过或接近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万的，有壮族、满族、回族、彝族、苗族、维吾尔族、土家族、藏族、蒙古族等，其中壮族人口超过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1500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万，是少数民族中人口最多的民族。人口在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万以下的门巴族、鄂伦春族、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独龙族、塔塔尔族、赫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哲族、高山族、珞巴族，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是少数民族中人口较少的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4d4d4d"/>
                </a:solidFill>
                <a:latin typeface="Arial"/>
              </a:rPr>
              <a:t>个民族。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2" name="Picture 11" descr="20066178532926238"/>
          <p:cNvPicPr/>
          <p:nvPr/>
        </p:nvPicPr>
        <p:blipFill>
          <a:blip r:embed="rId1"/>
          <a:stretch/>
        </p:blipFill>
        <p:spPr>
          <a:xfrm>
            <a:off x="4427640" y="3645000"/>
            <a:ext cx="4464000" cy="302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2:47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39Z</dcterms:modified>
  <cp:revision>26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