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13.wmf" ContentType="image/x-wmf"/>
  <Override PartName="/ppt/media/image12.wmf" ContentType="image/x-wmf"/>
  <Override PartName="/ppt/media/image8.png" ContentType="image/png"/>
  <Override PartName="/ppt/media/image5.gif" ContentType="image/gif"/>
  <Override PartName="/ppt/media/image18.jpeg" ContentType="image/jpeg"/>
  <Override PartName="/ppt/media/image17.jpeg" ContentType="image/jpeg"/>
  <Override PartName="/ppt/media/image9.png" ContentType="image/png"/>
  <Override PartName="/ppt/media/image16.png" ContentType="image/pn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4.wmf" ContentType="image/x-wmf"/>
  <Override PartName="/ppt/media/image6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20C3-FDD9-4380-8454-2522B0617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1643-B3A7-4D64-85DF-3912A406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DBC2-9E16-4186-AB35-2E988AE39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6C14-148E-4B0B-AEBE-9EBF8C4FC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0EF5-25B3-46C5-BFB6-C226E7FA4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1D02-F9D1-4AAA-A29F-93281961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44EF-927C-41F2-AEE8-BC221F6E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FF66-6CE0-4FE5-B671-99362426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9CC2-83C1-494D-88F7-B63877FE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D15A-F5E7-44C2-B315-D6779CFF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3328-F8E7-4889-9EBE-B031CB4C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C230-E09E-4CC8-AA71-3E4EA20A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C45C-2807-4564-9468-EBFB3FAB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92CC-BCE0-4E5C-BBC2-3C9FCC1A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B960-41B4-43AC-B8B7-B0C325DF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1BC9-5C1D-4957-8DFC-1C040ED46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19D6-BFB0-4C14-B940-9E43A8D39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3CBB-B93F-41E2-B809-2008CD58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8661-9469-407C-ADA7-71645FB2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1E96-A1E1-4508-8A97-DF800FD5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C54B-BAC4-4A22-BDC4-FAFAFF97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B633-3534-4333-BC82-0632754B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3294-BA50-4BD0-9616-A2430DEC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7C80-9A40-46ED-80C3-910A0C2F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27B8-FDA6-4F0D-90AE-B85739561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630C-EE92-4B04-92C7-221FB7E1437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wmf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jpeg"/><Relationship Id="rId3" Type="http://schemas.openxmlformats.org/officeDocument/2006/relationships/image" Target="../media/image11.pn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360a807b-57c1-40ea-95a2-e62bd6ecf3e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3"/>
          <p:cNvSpPr txBox="1"/>
          <p:nvPr/>
        </p:nvSpPr>
        <p:spPr>
          <a:xfrm>
            <a:off x="1523880" y="1066680"/>
            <a:ext cx="6400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第三单元 我和规则交朋友</a:t>
            </a:r>
            <a:endParaRPr b="1" lang="en-US" sz="1800" spc="-1" strike="noStrike">
              <a:ln w="0">
                <a:noFill/>
              </a:ln>
              <a:solidFill>
                <a:srgbClr val="ff99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4" name="WordArt 4"/>
          <p:cNvSpPr txBox="1"/>
          <p:nvPr/>
        </p:nvSpPr>
        <p:spPr>
          <a:xfrm>
            <a:off x="1371600" y="2819520"/>
            <a:ext cx="6705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第二课 规则有什么用</a:t>
            </a:r>
            <a:r>
              <a:rPr b="1" lang="en-US" sz="4000" spc="-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PP</a:t>
            </a:r>
            <a:r>
              <a:rPr b="1" lang="zh-CN" sz="4000" spc="-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课件下载</a:t>
            </a:r>
            <a:endParaRPr b="1" lang="en-US" sz="4000" spc="-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个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教学楼使用规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遵守校规校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爱护公共财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楼道、走廊和休息场所保持安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要追跑打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楼里排队靠右行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保持楼里的清洁卫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2"/>
          <a:stretch/>
        </p:blipFill>
        <p:spPr>
          <a:xfrm>
            <a:off x="6553080" y="3886200"/>
            <a:ext cx="1395360" cy="1803240"/>
          </a:xfrm>
          <a:prstGeom prst="rect">
            <a:avLst/>
          </a:prstGeom>
          <a:ln w="0">
            <a:noFill/>
          </a:ln>
        </p:spPr>
      </p:pic>
      <p:sp>
        <p:nvSpPr>
          <p:cNvPr id="132" name="文本框 8200"/>
          <p:cNvSpPr/>
          <p:nvPr/>
        </p:nvSpPr>
        <p:spPr>
          <a:xfrm>
            <a:off x="2038320" y="12654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个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午餐规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32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领取午餐时排队等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要浪费粮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离开餐桌时将桌面收拾干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要奔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要把食物带出餐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5715000" y="3200400"/>
            <a:ext cx="2814480" cy="297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个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的承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认真听从老师的教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友好地对待每一名同学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得羞辱、取笑和歧视其他同学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会遵守公共秩序和与他人分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尊重其他人的财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2"/>
          <a:stretch/>
        </p:blipFill>
        <p:spPr>
          <a:xfrm>
            <a:off x="5715000" y="4343400"/>
            <a:ext cx="3030480" cy="216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1" descr="个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规则的作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143000" y="2362320"/>
          <a:ext cx="7316640" cy="3047760"/>
        </p:xfrm>
        <a:graphic>
          <a:graphicData uri="http://schemas.openxmlformats.org/drawingml/2006/table">
            <a:tbl>
              <a:tblPr/>
              <a:tblGrid>
                <a:gridCol w="2471760"/>
                <a:gridCol w="4844880"/>
              </a:tblGrid>
              <a:tr h="618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规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作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严禁翻越围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是为了保证活动的安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乱倒垃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是为了保持我们学校和教室的环境卫生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上课不迟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是为了保证学习井然有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4" name="Picture 20" descr="卡通熊"/>
          <p:cNvPicPr/>
          <p:nvPr/>
        </p:nvPicPr>
        <p:blipFill>
          <a:blip r:embed="rId2"/>
          <a:srcRect l="41476" t="-3236" r="0" b="0"/>
          <a:stretch/>
        </p:blipFill>
        <p:spPr>
          <a:xfrm>
            <a:off x="7093080" y="549360"/>
            <a:ext cx="1461960" cy="15271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22"/>
          <p:cNvSpPr/>
          <p:nvPr/>
        </p:nvSpPr>
        <p:spPr>
          <a:xfrm>
            <a:off x="2172240" y="5912640"/>
            <a:ext cx="530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能结合具体的事例说说学校规则还有哪些作用吗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3" descr="gif007"/>
          <p:cNvPicPr/>
          <p:nvPr/>
        </p:nvPicPr>
        <p:blipFill>
          <a:blip r:embed="rId3"/>
          <a:stretch/>
        </p:blipFill>
        <p:spPr>
          <a:xfrm>
            <a:off x="100080" y="5562720"/>
            <a:ext cx="433440" cy="59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E908-3568-43FB-976F-413A06B689A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7" descr="个v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WordArt 4"/>
          <p:cNvSpPr txBox="1"/>
          <p:nvPr/>
        </p:nvSpPr>
        <p:spPr>
          <a:xfrm>
            <a:off x="2895480" y="1066680"/>
            <a:ext cx="3581640" cy="9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黑体"/>
              </a:rPr>
              <a:t>课堂小结</a:t>
            </a:r>
            <a:endParaRPr b="1" lang="en-US" sz="18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3883680" y="2666880"/>
            <a:ext cx="1192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规则很重要，我们要遵守。规则代表了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多数人的利益。不仅在学校，在任何地方，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则都是人们正常学习、工作、生活的保证！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9" descr="个v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609480" y="114264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校里能不能没有规则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如没有规则，会出现什么情况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5"/>
          <p:cNvSpPr txBox="1"/>
          <p:nvPr/>
        </p:nvSpPr>
        <p:spPr>
          <a:xfrm>
            <a:off x="762120" y="380880"/>
            <a:ext cx="4190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活动一 假如没有规则</a:t>
            </a:r>
            <a:endParaRPr b="1" lang="en-US" sz="18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2286000" y="5791320"/>
            <a:ext cx="54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上下楼不靠右行，会怎样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gif007"/>
          <p:cNvPicPr/>
          <p:nvPr/>
        </p:nvPicPr>
        <p:blipFill>
          <a:blip r:embed="rId3"/>
          <a:stretch/>
        </p:blipFill>
        <p:spPr>
          <a:xfrm>
            <a:off x="457200" y="990720"/>
            <a:ext cx="433440" cy="590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2362320" y="2057400"/>
            <a:ext cx="45720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8"/>
          <p:cNvSpPr/>
          <p:nvPr/>
        </p:nvSpPr>
        <p:spPr>
          <a:xfrm>
            <a:off x="4343400" y="266688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个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629040" y="27468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规则有什么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457200"/>
            <a:ext cx="6019920" cy="585144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下楼不靠右行，会怎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上下楼不靠右行，会怎样？"/>
          <p:cNvPicPr/>
          <p:nvPr/>
        </p:nvPicPr>
        <p:blipFill>
          <a:blip r:embed="rId2"/>
          <a:stretch/>
        </p:blipFill>
        <p:spPr>
          <a:xfrm>
            <a:off x="1219320" y="304920"/>
            <a:ext cx="4343400" cy="599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个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838080" y="3031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楼梯是上下楼的必经之路，必须按各自方向上下楼。如果大家都想怎么走就怎么走，上楼和下楼的人就会撞到一起，如果没有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靠右行走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规则，大家的安全就得不到保障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5"/>
          <p:cNvSpPr txBox="1"/>
          <p:nvPr/>
        </p:nvSpPr>
        <p:spPr>
          <a:xfrm>
            <a:off x="762120" y="380880"/>
            <a:ext cx="4190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活动一 假如没有规则</a:t>
            </a:r>
            <a:endParaRPr b="1" lang="en-US" sz="18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8" descr="个v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685800" y="2895480"/>
            <a:ext cx="7620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规则就在我们身边。如果忽视它，我们将无法快乐地学习、生活，严重的话甚至会威胁到我们的生命安全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609480" y="1483920"/>
            <a:ext cx="79250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如果没有规则，生活中还会出现什么情况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gif007"/>
          <p:cNvPicPr/>
          <p:nvPr/>
        </p:nvPicPr>
        <p:blipFill>
          <a:blip r:embed="rId3"/>
          <a:stretch/>
        </p:blipFill>
        <p:spPr>
          <a:xfrm>
            <a:off x="838080" y="1219320"/>
            <a:ext cx="433440" cy="59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个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1372320" y="1751760"/>
            <a:ext cx="387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你们能给知道的规则分分类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3842280" y="5637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规则的分类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5"/>
          <p:cNvSpPr txBox="1"/>
          <p:nvPr/>
        </p:nvSpPr>
        <p:spPr>
          <a:xfrm>
            <a:off x="1295280" y="152280"/>
            <a:ext cx="4038840" cy="8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活动二 给规则分分类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08" name="Picture 9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2514600" y="2514600"/>
            <a:ext cx="4114800" cy="2967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gif007"/>
          <p:cNvPicPr/>
          <p:nvPr/>
        </p:nvPicPr>
        <p:blipFill>
          <a:blip r:embed="rId3"/>
          <a:stretch/>
        </p:blipFill>
        <p:spPr>
          <a:xfrm>
            <a:off x="762120" y="1371600"/>
            <a:ext cx="433440" cy="59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7" descr="个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9140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规则的分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219320" y="2438280"/>
          <a:ext cx="7162560" cy="3743280"/>
        </p:xfrm>
        <a:graphic>
          <a:graphicData uri="http://schemas.openxmlformats.org/drawingml/2006/table">
            <a:tbl>
              <a:tblPr/>
              <a:tblGrid>
                <a:gridCol w="4114440"/>
                <a:gridCol w="3048120"/>
              </a:tblGrid>
              <a:tr h="619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规则内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分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上课不迟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课间不在教室里追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放学排路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独立完成作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Text Box 34"/>
          <p:cNvSpPr/>
          <p:nvPr/>
        </p:nvSpPr>
        <p:spPr>
          <a:xfrm>
            <a:off x="5334120" y="31240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课堂规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5"/>
          <p:cNvSpPr/>
          <p:nvPr/>
        </p:nvSpPr>
        <p:spPr>
          <a:xfrm>
            <a:off x="5767200" y="37339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课间活动规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6"/>
          <p:cNvSpPr/>
          <p:nvPr/>
        </p:nvSpPr>
        <p:spPr>
          <a:xfrm>
            <a:off x="5623200" y="4343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放学规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7"/>
          <p:cNvSpPr/>
          <p:nvPr/>
        </p:nvSpPr>
        <p:spPr>
          <a:xfrm>
            <a:off x="5623200" y="4952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习规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8"/>
          <p:cNvSpPr/>
          <p:nvPr/>
        </p:nvSpPr>
        <p:spPr>
          <a:xfrm>
            <a:off x="5412240" y="556272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个v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3"/>
          <p:cNvSpPr/>
          <p:nvPr/>
        </p:nvSpPr>
        <p:spPr>
          <a:xfrm>
            <a:off x="2109960" y="130896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校制定这么多的规则，究竟有什么作用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5"/>
          <p:cNvSpPr txBox="1"/>
          <p:nvPr/>
        </p:nvSpPr>
        <p:spPr>
          <a:xfrm>
            <a:off x="304920" y="136440"/>
            <a:ext cx="3971880" cy="70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活动三 规则作用大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2971800" y="57150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学校制定的规则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2286000" y="2438280"/>
            <a:ext cx="5029200" cy="312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gif007"/>
          <p:cNvPicPr/>
          <p:nvPr/>
        </p:nvPicPr>
        <p:blipFill>
          <a:blip r:embed="rId4"/>
          <a:stretch/>
        </p:blipFill>
        <p:spPr>
          <a:xfrm>
            <a:off x="457200" y="1066680"/>
            <a:ext cx="433440" cy="59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个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课堂规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32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尊重师长，热心帮助其他同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认真听从老师的教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做小动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专心听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游戏时注意安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问之前先举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他同学发言时要保持安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将与学习无关的东西带进教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6095880" y="2895480"/>
            <a:ext cx="1627200" cy="1781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6T04:17:0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1:15Z</dcterms:modified>
  <cp:revision>7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