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5.jpeg" ContentType="image/jpeg"/>
  <Override PartName="/ppt/media/image9.gif" ContentType="image/gif"/>
  <Override PartName="/ppt/media/type.wav" ContentType="audio/x-wav"/>
  <Override PartName="/ppt/media/image10.jpeg" ContentType="image/jpeg"/>
  <Override PartName="/ppt/media/image8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cashreg.wav" ContentType="audio/x-wav"/>
  <Override PartName="/ppt/media/image6.jpeg" ContentType="image/jpeg"/>
  <Override PartName="/ppt/media/clap.wav" ContentType="audio/x-wav"/>
  <Override PartName="/ppt/media/chimes.wav" ContentType="audio/x-wav"/>
  <Override PartName="/ppt/media/camera.wav" ContentType="audio/x-wav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CCA-531B-429B-8D6F-22C6BA3D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4FA-F8AD-4123-9B57-670D2A8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BE8-1733-4233-AE80-D7BA5983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851-A869-4534-9461-0B878949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7DB3-1FC6-4556-A3F0-A5BF8BE0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C552-0B44-408D-9ABB-1EE3149B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43C1-39FA-4F1F-A809-68B891B8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10EC-CFE0-4F89-9563-1C75EB09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5F3C-F5D3-4559-8901-F72E8601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DC44-D102-4924-BA07-EB635E9C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AA68-7877-4642-92AA-D760AE9A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D55-0EE9-43E7-95F0-A5494088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3A57-5F56-4B01-BDDF-CF1423D3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154E-0E22-47C1-8D16-4AE5C20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8090-F404-4638-B8DF-A57CDC6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62B1-D98D-48B5-B9D4-D1C7E4B8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5501-5749-45B3-93A5-F8D77452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14C-1792-446D-AC0C-D3CDECB1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AF2-9B18-4CEE-B570-36FB5FFA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AE3-A9CF-43F8-AE5C-905216B1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0EF-CEA0-46D2-B742-423373DE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E30-9872-441B-A0BD-5BD42E55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0D2-04EC-4B5A-B674-5160DB19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5D0-FDE2-4116-AB65-14972CDC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4631-D5AF-4B33-B059-2C2F0A494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BEDA-265B-41B7-B4A7-18E19F6C7A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2"/>
          <p:cNvSpPr/>
          <p:nvPr/>
        </p:nvSpPr>
        <p:spPr>
          <a:xfrm>
            <a:off x="826920" y="5567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900000" y="1844640"/>
            <a:ext cx="748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关雎语文课件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ng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5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onfu"/>
          <p:cNvPicPr/>
          <p:nvPr/>
        </p:nvPicPr>
        <p:blipFill>
          <a:blip r:embed="rId3"/>
          <a:stretch/>
        </p:blipFill>
        <p:spPr>
          <a:xfrm>
            <a:off x="250920" y="4213080"/>
            <a:ext cx="1915920" cy="2060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2359080" y="5319720"/>
            <a:ext cx="52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800000"/>
                </a:solidFill>
                <a:latin typeface="Arial"/>
              </a:rPr>
              <a:t>聆 听 三 千 年 华 夏 先 民 吟 唱</a:t>
            </a:r>
            <a:br>
              <a:rPr sz="2800"/>
            </a:br>
            <a:r>
              <a:rPr b="1" i="1" lang="zh-CN" sz="2800" spc="-1" strike="noStrike">
                <a:solidFill>
                  <a:srgbClr val="800000"/>
                </a:solidFill>
                <a:latin typeface="Arial"/>
              </a:rPr>
              <a:t>感 受 公 元 前 东 方 文 明 辉 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shijing"/>
          <p:cNvPicPr/>
          <p:nvPr/>
        </p:nvPicPr>
        <p:blipFill>
          <a:blip r:embed="rId4"/>
          <a:stretch/>
        </p:blipFill>
        <p:spPr>
          <a:xfrm>
            <a:off x="7699320" y="3619440"/>
            <a:ext cx="1284480" cy="26622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"/>
                            </p:stCondLst>
                            <p:childTnLst>
                              <p:par>
                                <p:cTn id="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33720" y="2286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体会本诗的艺术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52280" y="114300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Times New Roman"/>
                <a:ea typeface="隶书"/>
              </a:rPr>
              <a:t>一、比、兴表现手法的运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52280" y="274320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Times New Roman"/>
                <a:ea typeface="隶书"/>
              </a:rPr>
              <a:t>二、纯朴、自然不作任何雕饰的描写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04920" y="480060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三、反复以及双声叠韵的运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523880" y="457200"/>
            <a:ext cx="38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归纳小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295280" y="17524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43000" y="2057400"/>
            <a:ext cx="7620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一、了解作品所运用的反复和赋、比、兴等艺术手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二、体会本诗朴实、大胆的描写及抒情主人公的艺术形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8198"/>
          <p:cNvSpPr/>
          <p:nvPr/>
        </p:nvSpPr>
        <p:spPr>
          <a:xfrm>
            <a:off x="2195640" y="1628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2286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比较阅读：体会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静女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在表现手法上与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关雎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的相同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295280" y="990720"/>
            <a:ext cx="731520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MingLiU"/>
              </a:rPr>
              <a:t>静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静女其姝，俟我于城隅；爱而不见，搔首踟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静女其鸾，贻我但彤管；彤管有炜，说泽女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牧归荑，洵美且异；匪女之为美，美人之贻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姝：美丽                             俟：等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：隐藏                              鸾：美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彤管：红色的洞箫             有炜：红色而有光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女：同“汝”                          荑：草木初生的嫩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洵：真是                               异：出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匪：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371600" y="3049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拓展思维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20574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运用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《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关雎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》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写实的手法刻画一下你对某个异性最纯朴的喜爱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39AA-EC26-4CA3-B769-77F5C0CC2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905120" y="2286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拓展思维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3520" y="23623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何正确看待和处理对异性的喜爱之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2514600"/>
            <a:ext cx="91440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国最早的诗歌总集，收集了从西周到春秋中期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诗歌，反映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间的社会生活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为“风”（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风，大多为民间歌谣）、“雅”（又分“大雅”、“小雅”，多为贵族创作的宫廷乐曲歌词）、“颂”（宗庙祭祀乐歌）三大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创了我国现实主义的文学创作道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52480" y="2286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诗经简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85800"/>
            <a:ext cx="914400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简介  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四言诗为主，普遍采用“赋”、“比”、“兴”的艺术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赋”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陈述铺叙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”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就是比喻，对人或事物加以形象的比喻，使其特征更加鲜明突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”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借助其他事物作为诗歌的发端，以引起所要歌唱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2120" y="30492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教学目标</a:t>
            </a:r>
            <a:r>
              <a:rPr b="1" i="1" lang="en-US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85800" y="1752480"/>
            <a:ext cx="80773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.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了解四言诗的朗读特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2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能初步分析诗中男主人公形象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3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能了解作品所运用的反复和赋、比、兴等艺术手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2286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朗读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920" y="220968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之不得，寤寐思服。悠哉悠哉。辗转反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差荇菜，左右毛之。窈窕淑女。钟鼓乐之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00400" y="304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809880" y="1371600"/>
            <a:ext cx="170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关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0" y="2286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诵读提示：四言诗的诵读，一般读成“二、二”节拍，即读二字后稍作延长或停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"/>
                            </p:stCondLst>
                            <p:childTnLst>
                              <p:par>
                                <p:cTn id="5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"/>
                            </p:stCondLst>
                            <p:childTnLst>
                              <p:par>
                                <p:cTn id="6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"/>
                            </p:stCondLst>
                            <p:childTnLst>
                              <p:par>
                                <p:cTn id="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1828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黑体"/>
              </a:rPr>
              <a:t>雎鸠关关在歌唱，在那河中小岛上。善良美丽的少女，小伙子　理想的对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黑体"/>
              </a:rPr>
              <a:t>　　长长短短鲜荇菜，顺流两边去采收。善良美丽的少女，朝朝暮 　暮想追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黑体"/>
              </a:rPr>
              <a:t>　　　 　追求没能如心愿，日夜心头在挂牵。长夜漫漫不到头，翻来复 　去难成眠。 　　　　　　                             　                   长长短短鲜荇菜，两手左右去采摘。善良美丽的少女，弹琴鼓 　瑟表宠爱。　　　　　　　 　　　　　　　                 长长短短鲜荇菜，两边仔细来挑选，善良美丽的少女，钟声换　来她笑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981080" y="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翻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8198"/>
          <p:cNvSpPr/>
          <p:nvPr/>
        </p:nvSpPr>
        <p:spPr>
          <a:xfrm>
            <a:off x="1476360" y="14842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838080" y="9907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整体感知本诗的主要内容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2362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 Unicode MS"/>
                <a:ea typeface="黑体"/>
              </a:rPr>
              <a:t>这是一首爱情恋歌，描写一位痴情小伙子对心上人朝思暮想的 执着追求。</a:t>
            </a:r>
            <a:r>
              <a:rPr b="0" i="1" lang="zh-CN" sz="4000" spc="-1" strike="noStrike">
                <a:solidFill>
                  <a:srgbClr val="ffff00"/>
                </a:solidFill>
                <a:latin typeface="Arial Unicode MS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00200" y="22860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合作、探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7200" y="114300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一、理清作者思路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对姑娘一见钟（第一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91320" y="2514600"/>
            <a:ext cx="304560" cy="360"/>
            <a:chOff x="5791320" y="2514600"/>
            <a:chExt cx="304560" cy="360"/>
          </a:xfrm>
        </p:grpSpPr>
        <p:sp>
          <p:nvSpPr>
            <p:cNvPr id="109" name="Line 7"/>
            <p:cNvSpPr/>
            <p:nvPr/>
          </p:nvSpPr>
          <p:spPr>
            <a:xfrm>
              <a:off x="579132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791320" y="25146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9"/>
          <p:cNvSpPr/>
          <p:nvPr/>
        </p:nvSpPr>
        <p:spPr>
          <a:xfrm>
            <a:off x="6019920" y="21337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对姑娘的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124080" y="3352680"/>
            <a:ext cx="381240" cy="360"/>
            <a:chOff x="3124080" y="3352680"/>
            <a:chExt cx="381240" cy="360"/>
          </a:xfrm>
        </p:grpSpPr>
        <p:sp>
          <p:nvSpPr>
            <p:cNvPr id="113" name="Line 35"/>
            <p:cNvSpPr/>
            <p:nvPr/>
          </p:nvSpPr>
          <p:spPr>
            <a:xfrm>
              <a:off x="31240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3124080" y="335268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 Box 36"/>
          <p:cNvSpPr/>
          <p:nvPr/>
        </p:nvSpPr>
        <p:spPr>
          <a:xfrm>
            <a:off x="3581280" y="29718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在梦中与所爱的姑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228600" y="29718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念（第二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304920" y="403056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结合（第三、四、五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合作、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二、感知主人公的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0880" y="2133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情真意切、敢于真实大胆地表露自己的感情、向往美好的爱情生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08:02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44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