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A9E-960B-4ECB-8373-A956B428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876-0DE7-448B-B90C-515F83A7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AD9-A024-47DA-BD2B-BD13F22F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754-1A3F-44B2-9299-DE1AFB3F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B612-2C62-4E3A-91A8-D2D3B88B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BC71-4C4A-49C1-8CBF-8897CA8F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CF4B-2CAC-474A-939D-F3F4A057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545C-FD0F-41A6-B8A6-204C1344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3F25-C200-484D-99DF-04A6CF5B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E58E-3154-4308-ABB3-1B8E2988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21FF-2FEE-4FC7-B602-A30F6F35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FA0-10EC-4BD6-844B-927BE1B6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D604-4BBF-47D7-A78D-60812453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CA79-EFE9-4FA1-B29A-3B75F2C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0695-920B-4E14-8C62-85647C3E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8E71-92F3-48C7-A63A-6D3BF6A8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379A-33AB-4F8D-B811-5BB01948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D91-662E-4038-87A7-23651D20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549-E2F2-45FB-AD4B-82268B0C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691-3232-4B15-AE4E-1C73DD97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735-8C60-4B51-8F2B-BDB3C546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0EE-4A00-41DF-B9E0-6E170766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C90-D9E6-4B14-8B3F-59B36363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1C4-EA30-4828-B91F-1F2881DF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D85C-87E1-4DA9-8580-A2ED8AFF6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A3AA-903F-4589-8772-6623191784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hyperlink" Target="278,16,&#24187;&#28783;&#29255; 16" TargetMode="External"/><Relationship Id="rId3" Type="http://schemas.openxmlformats.org/officeDocument/2006/relationships/hyperlink" Target="270,17,&#24187;&#28783;&#29255; 17" TargetMode="Externa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1187280" y="1268280"/>
            <a:ext cx="6769440" cy="7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206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规则在哪里课件</a:t>
            </a:r>
            <a:r>
              <a:rPr b="1" lang="en-US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206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206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solidFill>
                <a:srgbClr val="00206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9" name="Picture 4" descr="0feb68fdc79574a0b801a01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5"/>
            <p:cNvSpPr/>
            <p:nvPr/>
          </p:nvSpPr>
          <p:spPr>
            <a:xfrm>
              <a:off x="863640" y="1052640"/>
              <a:ext cx="6307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0" lang="zh-CN" sz="6000" spc="-1" strike="noStrike">
                  <a:solidFill>
                    <a:srgbClr val="cc00cc"/>
                  </a:solidFill>
                  <a:latin typeface="Arial"/>
                  <a:ea typeface="楷体_GB2312"/>
                </a:rPr>
                <a:t>你们在生活中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cc00cc"/>
                  </a:solidFill>
                  <a:latin typeface="Arial"/>
                  <a:ea typeface="楷体_GB2312"/>
                </a:rPr>
                <a:t>还发现哪些规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cc00cc"/>
                  </a:solidFill>
                  <a:latin typeface="Arial"/>
                  <a:ea typeface="楷体_GB2312"/>
                </a:rPr>
                <a:t>则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3f011b7ef1a9b92b29388a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476360" y="2852640"/>
            <a:ext cx="71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33ff"/>
                </a:solidFill>
                <a:latin typeface="Arial"/>
              </a:rPr>
              <a:t>生活中处处有规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8200"/>
          <p:cNvSpPr/>
          <p:nvPr/>
        </p:nvSpPr>
        <p:spPr>
          <a:xfrm>
            <a:off x="2824200" y="25178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121001a508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250920" y="3500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课的时候，张伟争着举手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言，得到老师的同意了，他站起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回答。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8360" y="260280"/>
            <a:ext cx="22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练习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08472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84360" y="90792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明过马路时没有走人行横道。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7164360" y="9079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"/>
              </a:rPr>
              <a:t>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24000" y="1413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红在排队买电影票的时候看见了很多人，她不想排在后面，向前面的朋友小花挤挤眼睛，想排到她的面前去，小花摆摆手，说“不行”。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859280" y="27082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071320" y="43657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2009518062787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228680" y="1268280"/>
            <a:ext cx="45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电影院没有规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378520" y="404640"/>
            <a:ext cx="9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楷体_GB2312"/>
              </a:rPr>
              <a:t>请同学们设想一下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228680" y="2060640"/>
            <a:ext cx="4587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医院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没有规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50920" y="2852640"/>
            <a:ext cx="6335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马路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规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908000" y="36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·····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20095131794088244"/>
          <p:cNvPicPr/>
          <p:nvPr/>
        </p:nvPicPr>
        <p:blipFill>
          <a:blip r:embed="rId4"/>
          <a:stretch/>
        </p:blipFill>
        <p:spPr>
          <a:xfrm>
            <a:off x="250920" y="4508640"/>
            <a:ext cx="655308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2176560" y="5667480"/>
            <a:ext cx="498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bbec67b46612abed37d3ca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900000" y="260280"/>
            <a:ext cx="7201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哪里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哪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那温暖的家庭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里有孝敬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里有关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中华礼仪美德忘不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嘀哩哩嘀哩嘀哩哩嘀哩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嘀哩哩嘀哩哩嘀哩嘀哩哩嘀哩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嘀哩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那温暖的家庭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中华礼仪美德忘不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67B3-DC6F-4DFF-A6D2-45462E0B22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bbec67b46612abed37d3ca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84360" y="260280"/>
            <a:ext cx="7848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哪里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哪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那文明的校园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尊敬师长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谦让有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明礼貌常伴你我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嘀哩哩嘀哩嘀哩哩嘀哩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嘀哩哩嘀哩哩嘀哩嘀哩哩嘀哩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嘀哩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那文明校园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明礼貌常伴你我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0feb68fdc79574a0b801a011"/>
          <p:cNvPicPr/>
          <p:nvPr/>
        </p:nvPicPr>
        <p:blipFill>
          <a:blip r:embed="rId1"/>
          <a:stretch/>
        </p:blipFill>
        <p:spPr>
          <a:xfrm>
            <a:off x="0" y="0"/>
            <a:ext cx="9144000" cy="6541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68360" y="90792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0" lang="zh-CN" sz="6000" spc="-1" strike="noStrike">
                <a:solidFill>
                  <a:srgbClr val="9900cc"/>
                </a:solidFill>
                <a:latin typeface="Arial"/>
                <a:ea typeface="楷体_GB2312"/>
              </a:rPr>
              <a:t>游戏中有什么规则</a:t>
            </a:r>
            <a:r>
              <a:rPr b="0" lang="zh-CN" sz="6000" spc="-1" strike="noStrike">
                <a:solidFill>
                  <a:srgbClr val="9900cc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②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没有这些规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行不行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0feb68fdc79574a0b801a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826920" y="69228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84360" y="476280"/>
            <a:ext cx="7561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你们在做游戏时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  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没有遵守规则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④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如果不按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  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则做会怎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  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样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8200"/>
          <p:cNvSpPr/>
          <p:nvPr/>
        </p:nvSpPr>
        <p:spPr>
          <a:xfrm>
            <a:off x="2492280" y="23907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SDC113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SDC113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snapshot200910171955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0feb68fdc79574a0b801a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554480" y="765000"/>
            <a:ext cx="449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cc00cc"/>
                </a:solidFill>
                <a:latin typeface="Arial"/>
              </a:rPr>
              <a:t>说说图片上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cc"/>
                </a:solidFill>
                <a:latin typeface="Arial"/>
              </a:rPr>
              <a:t>人们都遵守了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cc"/>
                </a:solidFill>
                <a:latin typeface="Arial"/>
              </a:rPr>
              <a:t>些规则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4:41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14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