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9FE-6886-47FC-8B5A-13328716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36A-586B-41B5-A501-D9DE0DF3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89C-D48B-4FD1-80E8-6BDA0C88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EC7-3038-4385-807F-9675553F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3C25-28F5-48A4-9D4C-354FE9DC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3996-F32A-4BF2-A509-F60ABFE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A2A5-8D7D-408D-9422-6405CCF3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B2EB-4C80-401E-ADC1-53A7D9E0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D02F-408F-409D-9DEF-3AAD3D2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9AB4-D6B8-43DE-820C-7EB8AD2F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7B56-079A-4C87-890F-4791891C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E85-C203-486E-BCBD-29D1C8CE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7256-3DC4-4729-A1FE-8E258B6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2B3A-420E-4B22-A565-AF6A853C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9705-2A0B-4C9E-AA93-7DD6E329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7751-1804-4343-96BA-1678D3DD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FCCD-45E5-4B04-9402-41C44847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4D03-2640-445A-8565-01DC6412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86B4-ED48-4C48-9855-A0135A13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B3CC-7E89-40B6-8B10-7F73E827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46B2-B9D2-46A5-A142-F389286D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4665-75D7-47EF-817F-BA5A778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05A-D47C-4D61-B2AD-774C1735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9C8D-DD00-4CED-A0F4-ACB4FD76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6C5B-55EF-4B09-BF39-ABA20E4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1197-C9E1-4D49-BBBB-1100804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3674-959D-4045-89D4-8F293C9F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C55FE-B2E8-4EAD-8A54-0C504719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C038-1C90-4FFD-B3C4-9B7D0EF5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2064-C735-47FA-BFE8-2642CA03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E6599-7805-4097-95FA-5F004F8F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4F94A-B6FC-4D91-8D6C-6FBE4738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0F84D-E8A5-48C7-81A0-6DB4A4BC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3ED-E5BE-4129-8CCE-04350CFE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8752F-EBAD-4730-AD69-29C9DECF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BBA1D-34B6-4E50-81B8-301899D6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CB7A2-7B14-4AF8-8DD4-5E22740B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7A3AB-6570-43E6-9C5C-A1E67824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D0E5D-6BF2-46C3-B2C3-29A5BEA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DEF66-10B2-4624-869B-28EF92F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21CDB-7A11-4685-AECC-50398032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DA300-C7D8-46DB-A5D3-48D51F02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26D7E-8025-4053-9A23-577284DA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6F2-08D3-4317-92BA-70948E5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F92-E69E-4ECF-ADC7-935D5FE0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D88-4B3E-4814-97EC-761D2A5B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39E-864F-4CD3-A9E3-DD5C17F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B93-8F2F-4707-B73B-3D8E58BC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2EF-CF92-4DAF-8ABE-5AE54A2FFF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B086-938D-46F7-8F38-5AF9EA12C7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420C-B049-499D-A92F-9E7139D62D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1220-19C9-4023-BBEB-B67442B5D39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3"/>
          <p:cNvSpPr txBox="1"/>
          <p:nvPr/>
        </p:nvSpPr>
        <p:spPr>
          <a:xfrm>
            <a:off x="900000" y="2492280"/>
            <a:ext cx="727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呵护我们的身体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801720" y="84132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Times New Roman"/>
                <a:ea typeface="隶书"/>
              </a:rPr>
              <a:t>四年级  思品与社会  第一单元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06"/>
          <p:cNvPicPr/>
          <p:nvPr/>
        </p:nvPicPr>
        <p:blipFill>
          <a:blip r:embed="rId2"/>
          <a:stretch/>
        </p:blipFill>
        <p:spPr>
          <a:xfrm>
            <a:off x="5029200" y="4114800"/>
            <a:ext cx="2514600" cy="23162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1523880" y="1905120"/>
            <a:ext cx="62485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小组讨论：当你高兴和不高兴的时候，身体会出现什么不同的状况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6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030"/>
          <p:cNvGrpSpPr/>
          <p:nvPr/>
        </p:nvGrpSpPr>
        <p:grpSpPr>
          <a:xfrm>
            <a:off x="1447920" y="2209680"/>
            <a:ext cx="5897520" cy="3948120"/>
            <a:chOff x="1447920" y="2209680"/>
            <a:chExt cx="5897520" cy="3948120"/>
          </a:xfrm>
        </p:grpSpPr>
        <p:pic>
          <p:nvPicPr>
            <p:cNvPr id="204" name="Picture 1028" descr="teacher00"/>
            <p:cNvPicPr/>
            <p:nvPr/>
          </p:nvPicPr>
          <p:blipFill>
            <a:blip r:embed="rId2"/>
            <a:stretch/>
          </p:blipFill>
          <p:spPr>
            <a:xfrm>
              <a:off x="4267440" y="3276720"/>
              <a:ext cx="30780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1029"/>
            <p:cNvSpPr/>
            <p:nvPr/>
          </p:nvSpPr>
          <p:spPr>
            <a:xfrm>
              <a:off x="1447920" y="2209680"/>
              <a:ext cx="4114800" cy="1905120"/>
            </a:xfrm>
            <a:prstGeom prst="cloudCallout">
              <a:avLst>
                <a:gd name="adj1" fmla="val 42976"/>
                <a:gd name="adj2" fmla="val 812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举例说说，什么样的心态对身体有好处？为什么？ 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0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12"/>
          <p:cNvGrpSpPr/>
          <p:nvPr/>
        </p:nvGrpSpPr>
        <p:grpSpPr>
          <a:xfrm>
            <a:off x="1219320" y="1905120"/>
            <a:ext cx="6246720" cy="4495680"/>
            <a:chOff x="1219320" y="1905120"/>
            <a:chExt cx="6246720" cy="4495680"/>
          </a:xfrm>
        </p:grpSpPr>
        <p:pic>
          <p:nvPicPr>
            <p:cNvPr id="209" name="Picture 13" descr="小孩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284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AutoShape 14"/>
            <p:cNvSpPr/>
            <p:nvPr/>
          </p:nvSpPr>
          <p:spPr>
            <a:xfrm>
              <a:off x="1219320" y="1905120"/>
              <a:ext cx="4343400" cy="2133360"/>
            </a:xfrm>
            <a:prstGeom prst="cloudCallout">
              <a:avLst>
                <a:gd name="adj1" fmla="val 39509"/>
                <a:gd name="adj2" fmla="val 76263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要保持身体健康，就要始终拥有一个好的心情。你记住了吗？ 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7"/>
          <p:cNvGrpSpPr/>
          <p:nvPr/>
        </p:nvGrpSpPr>
        <p:grpSpPr>
          <a:xfrm>
            <a:off x="1447920" y="2209680"/>
            <a:ext cx="5897520" cy="3948120"/>
            <a:chOff x="1447920" y="2209680"/>
            <a:chExt cx="5897520" cy="3948120"/>
          </a:xfrm>
        </p:grpSpPr>
        <p:pic>
          <p:nvPicPr>
            <p:cNvPr id="213" name="Picture 8" descr="teacher00"/>
            <p:cNvPicPr/>
            <p:nvPr/>
          </p:nvPicPr>
          <p:blipFill>
            <a:blip r:embed="rId2"/>
            <a:stretch/>
          </p:blipFill>
          <p:spPr>
            <a:xfrm>
              <a:off x="4267440" y="3276720"/>
              <a:ext cx="30780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AutoShape 9"/>
            <p:cNvSpPr/>
            <p:nvPr/>
          </p:nvSpPr>
          <p:spPr>
            <a:xfrm>
              <a:off x="1447920" y="2209680"/>
              <a:ext cx="4114800" cy="1905120"/>
            </a:xfrm>
            <a:prstGeom prst="cloudCallout">
              <a:avLst>
                <a:gd name="adj1" fmla="val 42976"/>
                <a:gd name="adj2" fmla="val 812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当你不高兴的时候是用什么方法调节自己的情绪的？ 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15" name="Text Box 10"/>
          <p:cNvSpPr/>
          <p:nvPr/>
        </p:nvSpPr>
        <p:spPr>
          <a:xfrm>
            <a:off x="2248200" y="1828800"/>
            <a:ext cx="423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把你认为比较有效的几种方法存入你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快乐大本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转盘中，并涂上你最喜欢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五种颜色。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6" name="Group 20"/>
          <p:cNvGrpSpPr/>
          <p:nvPr/>
        </p:nvGrpSpPr>
        <p:grpSpPr>
          <a:xfrm>
            <a:off x="2819520" y="2895480"/>
            <a:ext cx="3429000" cy="3429000"/>
            <a:chOff x="2819520" y="2895480"/>
            <a:chExt cx="3429000" cy="3429000"/>
          </a:xfrm>
        </p:grpSpPr>
        <p:sp>
          <p:nvSpPr>
            <p:cNvPr id="217" name="Oval 11"/>
            <p:cNvSpPr/>
            <p:nvPr/>
          </p:nvSpPr>
          <p:spPr>
            <a:xfrm>
              <a:off x="2819520" y="2895480"/>
              <a:ext cx="3429000" cy="3429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8" name="Oval 12"/>
            <p:cNvSpPr/>
            <p:nvPr/>
          </p:nvSpPr>
          <p:spPr>
            <a:xfrm>
              <a:off x="3733920" y="3809880"/>
              <a:ext cx="1600200" cy="1600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5181120" y="3504960"/>
              <a:ext cx="686160" cy="685800"/>
              <a:chOff x="5181120" y="3504960"/>
              <a:chExt cx="686160" cy="685800"/>
            </a:xfrm>
          </p:grpSpPr>
          <p:sp>
            <p:nvSpPr>
              <p:cNvPr id="220" name="Line 13"/>
              <p:cNvSpPr/>
              <p:nvPr/>
            </p:nvSpPr>
            <p:spPr>
              <a:xfrm flipV="1">
                <a:off x="5181480" y="3504960"/>
                <a:ext cx="685800" cy="685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 rot="10800000">
                <a:off x="5181120" y="3504960"/>
                <a:ext cx="68580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257800" y="5029200"/>
              <a:ext cx="762120" cy="441360"/>
              <a:chOff x="5257800" y="5029200"/>
              <a:chExt cx="762120" cy="441360"/>
            </a:xfrm>
          </p:grpSpPr>
          <p:sp>
            <p:nvSpPr>
              <p:cNvPr id="223" name="Line 14"/>
              <p:cNvSpPr/>
              <p:nvPr/>
            </p:nvSpPr>
            <p:spPr>
              <a:xfrm>
                <a:off x="5257800" y="5029200"/>
                <a:ext cx="762120" cy="441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5257800" y="5029200"/>
                <a:ext cx="762120" cy="44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572000" y="5410080"/>
              <a:ext cx="360" cy="914400"/>
              <a:chOff x="4572000" y="5410080"/>
              <a:chExt cx="360" cy="914400"/>
            </a:xfrm>
          </p:grpSpPr>
          <p:sp>
            <p:nvSpPr>
              <p:cNvPr id="226" name="Line 15"/>
              <p:cNvSpPr/>
              <p:nvPr/>
            </p:nvSpPr>
            <p:spPr>
              <a:xfrm>
                <a:off x="4572000" y="5410080"/>
                <a:ext cx="0" cy="9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4572000" y="541008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048120" y="4952880"/>
              <a:ext cx="761760" cy="439920"/>
              <a:chOff x="3048120" y="4952880"/>
              <a:chExt cx="761760" cy="439920"/>
            </a:xfrm>
          </p:grpSpPr>
          <p:sp>
            <p:nvSpPr>
              <p:cNvPr id="229" name="Line 16"/>
              <p:cNvSpPr/>
              <p:nvPr/>
            </p:nvSpPr>
            <p:spPr>
              <a:xfrm flipH="1">
                <a:off x="3048120" y="4952880"/>
                <a:ext cx="761760" cy="439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3048120" y="4952880"/>
                <a:ext cx="761760" cy="43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48120" y="3751200"/>
              <a:ext cx="761760" cy="439920"/>
              <a:chOff x="3048120" y="3751200"/>
              <a:chExt cx="761760" cy="439920"/>
            </a:xfrm>
          </p:grpSpPr>
          <p:sp>
            <p:nvSpPr>
              <p:cNvPr id="232" name="Line 17"/>
              <p:cNvSpPr/>
              <p:nvPr/>
            </p:nvSpPr>
            <p:spPr>
              <a:xfrm flipH="1" flipV="1">
                <a:off x="3048120" y="3751200"/>
                <a:ext cx="761760" cy="439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 rot="10800000">
                <a:off x="3048120" y="3751200"/>
                <a:ext cx="761760" cy="43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495320" y="2895480"/>
              <a:ext cx="360" cy="914400"/>
              <a:chOff x="4495320" y="2895480"/>
              <a:chExt cx="360" cy="914400"/>
            </a:xfrm>
          </p:grpSpPr>
          <p:sp>
            <p:nvSpPr>
              <p:cNvPr id="235" name="Line 18"/>
              <p:cNvSpPr/>
              <p:nvPr/>
            </p:nvSpPr>
            <p:spPr>
              <a:xfrm flipV="1">
                <a:off x="4495680" y="2895480"/>
                <a:ext cx="0" cy="9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 rot="10800000">
                <a:off x="4495320" y="289548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237" name="Text Box 19"/>
            <p:cNvSpPr/>
            <p:nvPr/>
          </p:nvSpPr>
          <p:spPr>
            <a:xfrm>
              <a:off x="4164840" y="4206960"/>
              <a:ext cx="77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快乐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大本营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F31A-DC97-496A-924A-A0BDA81729E4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2337840" y="5394240"/>
            <a:ext cx="453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上体育课时，被同学绊了一下，摔倒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了，你生气地要打他。  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2337840" y="2254320"/>
            <a:ext cx="453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人弄坏了你的文具，你气得把他的文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具盒摔到地上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2337840" y="3276720"/>
            <a:ext cx="453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当你得到自己喜欢的礼物时，高兴得在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床上又蹦又跳，一不小心把头咳破了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306160" y="4343400"/>
            <a:ext cx="453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爸爸在你看的正着迷的时候，把电视关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了，你生气的冲着爸爸大喊大叫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095840" y="1706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演一演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01"/>
          <p:cNvPicPr/>
          <p:nvPr/>
        </p:nvPicPr>
        <p:blipFill>
          <a:blip r:embed="rId2"/>
          <a:stretch/>
        </p:blipFill>
        <p:spPr>
          <a:xfrm>
            <a:off x="2057400" y="1779480"/>
            <a:ext cx="5638680" cy="46576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9"/>
          <p:cNvSpPr/>
          <p:nvPr/>
        </p:nvSpPr>
        <p:spPr>
          <a:xfrm>
            <a:off x="762120" y="1828800"/>
            <a:ext cx="1904760" cy="1333440"/>
          </a:xfrm>
          <a:prstGeom prst="wedgeRoundRectCallout">
            <a:avLst>
              <a:gd name="adj1" fmla="val 52083"/>
              <a:gd name="adj2" fmla="val 57856"/>
              <a:gd name="adj3" fmla="val 16667"/>
            </a:avLst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你得了癌症，已经是晚期了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02"/>
          <p:cNvPicPr/>
          <p:nvPr/>
        </p:nvPicPr>
        <p:blipFill>
          <a:blip r:embed="rId2"/>
          <a:stretch/>
        </p:blipFill>
        <p:spPr>
          <a:xfrm>
            <a:off x="1219320" y="1905120"/>
            <a:ext cx="5943600" cy="41749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4"/>
          <p:cNvSpPr/>
          <p:nvPr/>
        </p:nvSpPr>
        <p:spPr>
          <a:xfrm>
            <a:off x="6324480" y="1752480"/>
            <a:ext cx="1828800" cy="1121040"/>
          </a:xfrm>
          <a:prstGeom prst="wedgeRoundRectCallout">
            <a:avLst>
              <a:gd name="adj1" fmla="val -75435"/>
              <a:gd name="adj2" fmla="val 62041"/>
              <a:gd name="adj3" fmla="val 16667"/>
            </a:avLst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我一点也吃不下去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4"/>
          <p:cNvSpPr/>
          <p:nvPr/>
        </p:nvSpPr>
        <p:spPr>
          <a:xfrm>
            <a:off x="5940360" y="21304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5" name="Picture 2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03"/>
          <p:cNvPicPr/>
          <p:nvPr/>
        </p:nvPicPr>
        <p:blipFill>
          <a:blip r:embed="rId2"/>
          <a:stretch/>
        </p:blipFill>
        <p:spPr>
          <a:xfrm>
            <a:off x="2743200" y="1523880"/>
            <a:ext cx="4168800" cy="541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04"/>
          <p:cNvPicPr/>
          <p:nvPr/>
        </p:nvPicPr>
        <p:blipFill>
          <a:blip r:embed="rId2"/>
          <a:stretch/>
        </p:blipFill>
        <p:spPr>
          <a:xfrm>
            <a:off x="1752480" y="2209680"/>
            <a:ext cx="6324840" cy="39672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380880" y="1828800"/>
            <a:ext cx="2362320" cy="1333440"/>
          </a:xfrm>
          <a:prstGeom prst="wedgeRoundRectCallout">
            <a:avLst>
              <a:gd name="adj1" fmla="val 54097"/>
              <a:gd name="adj2" fmla="val 74523"/>
              <a:gd name="adj3" fmla="val 16667"/>
            </a:avLst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他得的不是癌症，只是一般的囊肿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" name="文本框 8200"/>
          <p:cNvSpPr/>
          <p:nvPr/>
        </p:nvSpPr>
        <p:spPr>
          <a:xfrm>
            <a:off x="1420920" y="639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05"/>
          <p:cNvPicPr/>
          <p:nvPr/>
        </p:nvPicPr>
        <p:blipFill>
          <a:blip r:embed="rId2"/>
          <a:stretch/>
        </p:blipFill>
        <p:spPr>
          <a:xfrm>
            <a:off x="2590920" y="1676520"/>
            <a:ext cx="4440240" cy="50292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609480" y="1905120"/>
            <a:ext cx="2210040" cy="990360"/>
          </a:xfrm>
          <a:prstGeom prst="wedgeRoundRectCallout">
            <a:avLst>
              <a:gd name="adj1" fmla="val 68532"/>
              <a:gd name="adj2" fmla="val 95671"/>
              <a:gd name="adj3" fmla="val 16667"/>
            </a:avLst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啊！我感觉好多了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9"/>
          <p:cNvGrpSpPr/>
          <p:nvPr/>
        </p:nvGrpSpPr>
        <p:grpSpPr>
          <a:xfrm>
            <a:off x="1219320" y="1905120"/>
            <a:ext cx="6246720" cy="4495680"/>
            <a:chOff x="1219320" y="1905120"/>
            <a:chExt cx="6246720" cy="4495680"/>
          </a:xfrm>
        </p:grpSpPr>
        <p:pic>
          <p:nvPicPr>
            <p:cNvPr id="186" name="Picture 17" descr="小孩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284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AutoShape 18"/>
            <p:cNvSpPr/>
            <p:nvPr/>
          </p:nvSpPr>
          <p:spPr>
            <a:xfrm>
              <a:off x="1219320" y="1905120"/>
              <a:ext cx="4343400" cy="2133360"/>
            </a:xfrm>
            <a:prstGeom prst="cloudCallout">
              <a:avLst>
                <a:gd name="adj1" fmla="val 39509"/>
                <a:gd name="adj2" fmla="val 76263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想一想：为什么医生的一句话，会使这个病人发生那么大的变化。 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026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027"/>
          <p:cNvGrpSpPr/>
          <p:nvPr/>
        </p:nvGrpSpPr>
        <p:grpSpPr>
          <a:xfrm>
            <a:off x="838080" y="1919160"/>
            <a:ext cx="7116840" cy="3871800"/>
            <a:chOff x="838080" y="1919160"/>
            <a:chExt cx="7116840" cy="3871800"/>
          </a:xfrm>
        </p:grpSpPr>
        <p:pic>
          <p:nvPicPr>
            <p:cNvPr id="190" name="Picture 1028" descr="teacher00"/>
            <p:cNvPicPr/>
            <p:nvPr/>
          </p:nvPicPr>
          <p:blipFill>
            <a:blip r:embed="rId2"/>
            <a:stretch/>
          </p:blipFill>
          <p:spPr>
            <a:xfrm>
              <a:off x="4876560" y="2909520"/>
              <a:ext cx="307836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AutoShape 1029"/>
            <p:cNvSpPr/>
            <p:nvPr/>
          </p:nvSpPr>
          <p:spPr>
            <a:xfrm>
              <a:off x="838080" y="1919160"/>
              <a:ext cx="4648320" cy="2514600"/>
            </a:xfrm>
            <a:prstGeom prst="cloudCallout">
              <a:avLst>
                <a:gd name="adj1" fmla="val 62740"/>
                <a:gd name="adj2" fmla="val 41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如实记录你一周之内的情绪变化情况，写明原因后画上最能反映你情绪的脸谱。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1384200" y="1766880"/>
            <a:ext cx="676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一：因为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我（      ）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二：因为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我（      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三：因为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我（      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四：因为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我（      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五：因为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我（      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六：因为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我（      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日：因为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我（      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94" name="Group 17"/>
          <p:cNvGrpSpPr/>
          <p:nvPr/>
        </p:nvGrpSpPr>
        <p:grpSpPr>
          <a:xfrm>
            <a:off x="1752480" y="5410080"/>
            <a:ext cx="5639040" cy="914400"/>
            <a:chOff x="1752480" y="5410080"/>
            <a:chExt cx="5639040" cy="914400"/>
          </a:xfrm>
        </p:grpSpPr>
        <p:pic>
          <p:nvPicPr>
            <p:cNvPr id="195" name="Picture 13" descr="4"/>
            <p:cNvPicPr/>
            <p:nvPr/>
          </p:nvPicPr>
          <p:blipFill>
            <a:blip r:embed="rId2"/>
            <a:stretch/>
          </p:blipFill>
          <p:spPr>
            <a:xfrm>
              <a:off x="1752480" y="5410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4" descr="2"/>
            <p:cNvPicPr/>
            <p:nvPr/>
          </p:nvPicPr>
          <p:blipFill>
            <a:blip r:embed="rId3"/>
            <a:stretch/>
          </p:blipFill>
          <p:spPr>
            <a:xfrm>
              <a:off x="3321000" y="5410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5" descr="3"/>
            <p:cNvPicPr/>
            <p:nvPr/>
          </p:nvPicPr>
          <p:blipFill>
            <a:blip r:embed="rId4"/>
            <a:stretch/>
          </p:blipFill>
          <p:spPr>
            <a:xfrm>
              <a:off x="4876920" y="5410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6" descr="1"/>
            <p:cNvPicPr/>
            <p:nvPr/>
          </p:nvPicPr>
          <p:blipFill>
            <a:blip r:embed="rId5"/>
            <a:stretch/>
          </p:blipFill>
          <p:spPr>
            <a:xfrm>
              <a:off x="6477120" y="5410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4:17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58Z</dcterms:modified>
  <cp:revision>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9a07000000000001024120</vt:lpwstr>
  </property>
</Properties>
</file>