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9.jpeg" ContentType="image/jpeg"/>
  <Override PartName="/ppt/media/image7.png" ContentType="image/png"/>
  <Override PartName="/ppt/media/image34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32.wmf" ContentType="image/x-wmf"/>
  <Override PartName="/ppt/media/image29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37.gif" ContentType="image/gif"/>
  <Override PartName="/ppt/media/image8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556-863F-498F-843B-777CA475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AA5-DB39-4F27-AD59-7B2383A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72C-578C-4A2A-A93E-5F2025A4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277-23DA-44C2-8D8B-59393E97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63F7-1BEC-44ED-9584-BC0ED16B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073C-C5EC-415D-B6B4-5C78A482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E265-7C4D-4D7D-96A3-B68B5B98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2A80-7BD1-4118-9570-A37F846D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41B8-2463-45FB-840D-F2484363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6A62-D7C7-42BA-AA3B-3398D3E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5442-6CA7-4379-A998-8336995B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6F1-50DA-4A25-A3D5-4016818F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07B4-0B35-4413-A0FE-705E1607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905-7B92-4519-A736-2A507C9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B825-FBC4-4D5C-97BA-3606A3EF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BC7B-D694-41E1-8E71-1A6747C7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7069-94C1-4257-80D1-145169E4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614-BF14-4624-BBE2-CC1030D3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17C-EB1A-4033-A7FE-FDF687F5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C2C-A6B8-4790-A3AD-8FCBAE21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FE9-B8FA-465B-B5AD-F91120C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EB7-CC75-404F-A3E4-7CEF65D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DA3-8BD4-415C-8C9A-0DD9DA14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A53-00AE-4AFE-A216-5F234FF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91EA-97C2-450C-8800-70D9FCB94D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C9EF-843F-417E-A8B2-1C65B6F762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未标题-2"/>
          <p:cNvPicPr/>
          <p:nvPr/>
        </p:nvPicPr>
        <p:blipFill>
          <a:blip r:embed="rId2"/>
          <a:stretch/>
        </p:blipFill>
        <p:spPr>
          <a:xfrm>
            <a:off x="1403280" y="596880"/>
            <a:ext cx="6337440" cy="396072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1612440" y="604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海纳百川有容乃大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张英的家人和邻居为什么会转变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宽容为什么会有如此大的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我们知道，人与人之间肉体的差异不是很大，而精神境界却千差万别，境界低的人，只顾自己的利益，只满足眼前的本能欲望；境界高的人，能跳出一己之利，看到他人的利益，理解他人的感受，而淡化名利，有了宽容的美德，会使自己在一定程度上摆脱私欲的困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324000" y="220500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唯宽可以容人，唯厚可以载物。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宽容指的是宽大有气量，原谅和不计较他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宽容是美德的重要内容。我们的生活需要宽容，我们需要学会“宽以待人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13"/>
          <p:cNvSpPr txBox="1"/>
          <p:nvPr/>
        </p:nvSpPr>
        <p:spPr>
          <a:xfrm>
            <a:off x="539640" y="457200"/>
            <a:ext cx="3791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1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、宽容的含义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康海报体W12(P)"/>
              <a:ea typeface="华康海报体W12(P)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" descr="BAS00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 rot="5400000">
            <a:off x="-1630080" y="3579480"/>
            <a:ext cx="504180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c4b596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我说我说我说说说</a:t>
            </a:r>
            <a:endParaRPr b="1" lang="en-US" sz="3200" spc="1" strike="noStrike">
              <a:ln w="12600">
                <a:solidFill>
                  <a:srgbClr val="c4b596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124000" y="40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说一说与宽容有关的成语或词语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424600" y="4476600"/>
            <a:ext cx="195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恕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518280" y="19969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宏大量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6902640" y="19573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以待人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996160" y="31813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厚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7874280" y="31813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容忍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490560" y="3213000"/>
            <a:ext cx="61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大为怀、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书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1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乐和小娱”事例，请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格不同的两个人为什么能成为要好的好朋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按照一般常理，性格相同的人交往，容易产生心理上的宽容，容易找到共性，比较投缘，也容易成为好朋友；但一般人不懂得，性格不同的人交往，可以产生心理互补，同样可以成为好朋友。实际上这两种情形都需要，后一种情形尤其要求需要真诚地接纳对方，需要有宽容的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24000" y="508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树林里找不出两片完全相同的树叶，人世间找不出完全相同的两张面孔。人与人之间存在各种各样的差异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50920" y="168480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有一次，德国哲学家莱布尼茨被请进宫廷讲学。当他讲到“凡物莫相不异”（“天地间从来没有彼此完全相同的东西”）时，许多人将信将疑，于是有人发动宫女们纷纷走进后花园去寻找两片完全相同的树叶，以此来驳倒哲学家的论断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但是宫女们累弯了腰，始终也没能找到两片大小、颜色、厚薄、形态等完全相同的树叶。人们不得不在哲学家面前折服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1副本"/>
          <p:cNvPicPr/>
          <p:nvPr/>
        </p:nvPicPr>
        <p:blipFill>
          <a:blip r:embed="rId1"/>
          <a:stretch/>
        </p:blipFill>
        <p:spPr>
          <a:xfrm>
            <a:off x="611280" y="4005360"/>
            <a:ext cx="1647720" cy="117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2副本"/>
          <p:cNvPicPr/>
          <p:nvPr/>
        </p:nvPicPr>
        <p:blipFill>
          <a:blip r:embed="rId2"/>
          <a:stretch/>
        </p:blipFill>
        <p:spPr>
          <a:xfrm>
            <a:off x="2700360" y="4005360"/>
            <a:ext cx="1647720" cy="117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3副本"/>
          <p:cNvPicPr/>
          <p:nvPr/>
        </p:nvPicPr>
        <p:blipFill>
          <a:blip r:embed="rId3"/>
          <a:stretch/>
        </p:blipFill>
        <p:spPr>
          <a:xfrm>
            <a:off x="4738680" y="3916440"/>
            <a:ext cx="1849320" cy="131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4副本"/>
          <p:cNvPicPr/>
          <p:nvPr/>
        </p:nvPicPr>
        <p:blipFill>
          <a:blip r:embed="rId4"/>
          <a:stretch/>
        </p:blipFill>
        <p:spPr>
          <a:xfrm>
            <a:off x="6899400" y="3916440"/>
            <a:ext cx="1849320" cy="13129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7"/>
          <p:cNvSpPr txBox="1"/>
          <p:nvPr/>
        </p:nvSpPr>
        <p:spPr>
          <a:xfrm>
            <a:off x="1706400" y="96840"/>
            <a:ext cx="531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没有两片完全相同的树叶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468360" y="4653000"/>
            <a:ext cx="813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我们不能因为存在矛盾就拒绝合作、回避交往。需要相互宽容，需要尊重彼此的个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“和而不同”，求同存异，是我们宽容合作的基础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366"/>
          <p:cNvPicPr/>
          <p:nvPr/>
        </p:nvPicPr>
        <p:blipFill>
          <a:blip r:embed="rId1"/>
          <a:stretch/>
        </p:blipFill>
        <p:spPr>
          <a:xfrm>
            <a:off x="0" y="196920"/>
            <a:ext cx="2556000" cy="639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2"/>
          <p:cNvSpPr/>
          <p:nvPr/>
        </p:nvSpPr>
        <p:spPr>
          <a:xfrm>
            <a:off x="2376360" y="18900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人与人之间存在哪些差异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324000" y="1125360"/>
            <a:ext cx="8424720" cy="3383280"/>
            <a:chOff x="324000" y="1125360"/>
            <a:chExt cx="8424720" cy="3383280"/>
          </a:xfrm>
        </p:grpSpPr>
        <p:sp>
          <p:nvSpPr>
            <p:cNvPr id="145" name="Rectangle 10"/>
            <p:cNvSpPr/>
            <p:nvPr/>
          </p:nvSpPr>
          <p:spPr>
            <a:xfrm>
              <a:off x="324000" y="1125360"/>
              <a:ext cx="842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每个人的生活方式、思维方式、行为习惯、个性特点、品德修养等存在差异，人与人之间出现矛盾非常正常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14" descr="0007.jpg"/>
            <p:cNvPicPr/>
            <p:nvPr/>
          </p:nvPicPr>
          <p:blipFill>
            <a:blip r:embed="rId2"/>
            <a:stretch/>
          </p:blipFill>
          <p:spPr>
            <a:xfrm>
              <a:off x="654120" y="2800440"/>
              <a:ext cx="237636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6" descr="0019.jpg"/>
            <p:cNvPicPr/>
            <p:nvPr/>
          </p:nvPicPr>
          <p:blipFill>
            <a:blip r:embed="rId3"/>
            <a:stretch/>
          </p:blipFill>
          <p:spPr>
            <a:xfrm>
              <a:off x="3246480" y="2800440"/>
              <a:ext cx="2376360" cy="16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8" descr="0043.jpg"/>
            <p:cNvPicPr/>
            <p:nvPr/>
          </p:nvPicPr>
          <p:blipFill>
            <a:blip r:embed="rId4"/>
            <a:stretch/>
          </p:blipFill>
          <p:spPr>
            <a:xfrm>
              <a:off x="5767560" y="2800440"/>
              <a:ext cx="2404800" cy="1708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人人都会犯错误，需要宽容对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下列情形你将如何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你不小心伤害到他人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他真心向你道歉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AS003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1908000" y="9079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无意中伤害别人，如不小心踩了别人的脚、溅了别人一身泥，也可能由于一时糊涂做出伤害别人感情、损害别人利益的事。这时我们应该怎么做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979640" y="393372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有时，我们也可能受到别人无意之中的伤害，可能别人也说了“对不起”，这时我们又应该怎么做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979640" y="2708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─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体谅、尊重他人的感受，真诚地赔礼道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908000" y="5457960"/>
            <a:ext cx="71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──要真诚地接纳、理解、原谅，不要得理不让人，更不可冤冤相报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95280" y="115920"/>
            <a:ext cx="35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教你一招：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彩回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辨析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竞争就是“你死我活”，合作就是“一团和气”，两者是水火不容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种看法对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图片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395280" y="34326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相传三国时期，诸葛亮死后，蜀国由蒋琬主持朝政。有个叫杨敏的官吏，背后指责蒋琬：“办事糊涂，比不上诸葛亮。”有人把此话传给蒋琬，要求治杨的罪。可蒋琬说：“我确实比不上前任，他说得没有错。”后来杨敏因事入狱，有人猜想他竟敢得罪蒋大人，这次活不成了。但蒋琬不计前嫌，秉公处理，免除了杨敏的重罪。蒋琬为人正直，气量宽宏，人们称赞他“宰相肚里能撑船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33680" y="312840"/>
            <a:ext cx="53863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宰相肚里能撑船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图片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468360" y="3432600"/>
            <a:ext cx="83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唐朝时，狄仁杰到京都任职。武则天对他说：“你在汝南郡任职，治理得很出色。但是有许多人在背地里诽谤你，你想知道那些人是谁吗？”狄仁杰说：“如果陛下认为我有过错，应当改正，并当面明白地告诉我，那是我的幸运。我本不知道哪些同僚诽谤我。既然不知道，那么大家仍能相处得很好，因而我不想知道他们的名字。”武则天听后，很赞赏他非同一般的宽宏气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2124000" y="547560"/>
            <a:ext cx="4824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狄仁杰宽容诽谤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908000" y="1916280"/>
            <a:ext cx="604872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二、宽容他人  悦纳自己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260280"/>
            <a:ext cx="9144000" cy="1443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书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1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3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培和小亮”事例，请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培为什么要向小亮道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亮处理问题的方式对你有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亮在自己受到冤枉时仍能替小培着想，这是一种理解人、非常有大度的心怀的表现；当后来事情搞清后，小亮同学也没有“得理不让人”，这种美德，很值得赞美，值得我们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2700360" y="47628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禅师与小和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老和尚"/>
          <p:cNvPicPr/>
          <p:nvPr/>
        </p:nvPicPr>
        <p:blipFill>
          <a:blip r:embed="rId2"/>
          <a:srcRect l="26240" t="2338" r="13040" b="3130"/>
          <a:stretch/>
        </p:blipFill>
        <p:spPr>
          <a:xfrm>
            <a:off x="0" y="0"/>
            <a:ext cx="177012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小和尚"/>
          <p:cNvPicPr/>
          <p:nvPr/>
        </p:nvPicPr>
        <p:blipFill>
          <a:blip r:embed="rId3"/>
          <a:srcRect l="35110" t="12819" r="18251" b="9929"/>
          <a:stretch/>
        </p:blipFill>
        <p:spPr>
          <a:xfrm>
            <a:off x="7253280" y="4508640"/>
            <a:ext cx="1890720" cy="2349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541440" y="32266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</a:rPr>
              <a:t>相传古代有位老禅师，一日晚在禅院里散步，突见墙角边有一张椅子，他一看便知有位出家人违犯寺规越墙出去溜达了。老禅师也不声张，走到墙边，移开椅子，就地而蹲。少顷，果真有一小和尚翻墙，黑暗中踩着老禅师的背脊跳进了院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8200"/>
          <p:cNvSpPr/>
          <p:nvPr/>
        </p:nvSpPr>
        <p:spPr>
          <a:xfrm>
            <a:off x="1233360" y="12445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539640" y="1187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当他双脚着地时，才发觉刚才踏的不是椅子，而是自己的师傅。小和尚顿时惊慌失措，张口结舌。但出乎小和尚意料的是，师傅并没有厉声责备他，只是以平静的语调说：“夜深天凉，快去多穿一件衣服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40356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听到老禅师此话后，在这种宽容的无声的教育中，徒弟认识到了自己的错误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2698920" y="189000"/>
            <a:ext cx="41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禅师与小和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小和尚2"/>
          <p:cNvPicPr/>
          <p:nvPr/>
        </p:nvPicPr>
        <p:blipFill>
          <a:blip r:embed="rId2"/>
          <a:srcRect l="24806" t="38224" r="18501" b="0"/>
          <a:stretch/>
        </p:blipFill>
        <p:spPr>
          <a:xfrm>
            <a:off x="5904000" y="3860640"/>
            <a:ext cx="3240000" cy="2648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小和尚3"/>
          <p:cNvPicPr/>
          <p:nvPr/>
        </p:nvPicPr>
        <p:blipFill>
          <a:blip r:embed="rId3"/>
          <a:stretch/>
        </p:blipFill>
        <p:spPr>
          <a:xfrm>
            <a:off x="0" y="0"/>
            <a:ext cx="878040" cy="189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何理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宽容是一种美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宽容是一种境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95280" y="29242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宽容，是一种美德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我们为人宽容，就能解人之难，补人之过，扬人之长，谅人之短；我们为人宽容，就能赢得友谊，获得更多的朋友。宽容是高尚的，但要做到宽容，却不是一件容易的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95280" y="49356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宽容是一种境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。一个人真诚地宽容别人的过失，他的境界就上升了一个层次；一个人学会了宽容，他就掌握了一种自我提高的有效方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3" descr="未标题-1"/>
          <p:cNvPicPr/>
          <p:nvPr/>
        </p:nvPicPr>
        <p:blipFill>
          <a:blip r:embed="rId2"/>
          <a:srcRect l="0" t="20813" r="0" b="7223"/>
          <a:stretch/>
        </p:blipFill>
        <p:spPr>
          <a:xfrm>
            <a:off x="0" y="0"/>
            <a:ext cx="9144000" cy="189864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324000" y="1843200"/>
            <a:ext cx="626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说一说：宽容对我们的意义？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7" descr="4467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3599640" y="134280"/>
            <a:ext cx="20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际宽容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950760"/>
          <a:ext cx="8785080" cy="478476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478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月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黑体"/>
                        </a:rPr>
                        <a:t>日是国际宽容日（联合国教科文组织确立）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945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年诞生的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联合国宪章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》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序言中说：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力行容恕，彼此以善邻之道，和睦相处。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”</a:t>
                      </a:r>
                      <a:br>
                        <a:rPr sz="2800"/>
                      </a:b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995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年，联合国成立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50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周年时，联合国教科文组织总干事费德里科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·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马约尔以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宽容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———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全球安全不可或缺的要求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”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为题撰文，指出宽容是一种道德情操、政治义务，是维护人权和民主的责任所在。那年还形成了每年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月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日为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国际宽容日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”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的提案，开展了一系列提倡宽容的活动。</a:t>
                      </a:r>
                      <a:br>
                        <a:rPr sz="2800"/>
                      </a:b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995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年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1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月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16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日，教科文组织成员国曾通过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容忍原则宣言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》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《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容忍年后续行动计划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》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黑体"/>
                        </a:rPr>
                        <a:t>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考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合作与竞争的关系是相互依存的，你中有我，我中有你。二者不是水火不容的关系。竞争并不是你死我活，竞争的目的是超越自我，提高工作效率，达到共同进步，所以我们要学会在竞争中合作，合作的成果归大家，可以实现资源共享。合作也不是一团和气，只有在合作中竞争，才能你追我赶，共同进步，才能使合作有意义，有价值。所以我们应该正确处理好竞争和合作的关系，即在竞争中合作，在合作中竞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懂得宽容与不宽容的利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75564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个懂得宽容的人，会体察他人的内心世界，诚心帮助他人，心胸开阔、与人为善，因而受人尊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755640" y="252252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个不善宽容的人，会经常陷于烦恼之中，心胸狭窄、处处设防，对人怀有敌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4398092"/>
          <p:cNvPicPr/>
          <p:nvPr/>
        </p:nvPicPr>
        <p:blipFill>
          <a:blip r:embed="rId2"/>
          <a:stretch/>
        </p:blipFill>
        <p:spPr>
          <a:xfrm>
            <a:off x="216000" y="333360"/>
            <a:ext cx="1212840" cy="179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20068585643149"/>
          <p:cNvPicPr/>
          <p:nvPr/>
        </p:nvPicPr>
        <p:blipFill>
          <a:blip r:embed="rId3"/>
          <a:stretch/>
        </p:blipFill>
        <p:spPr>
          <a:xfrm>
            <a:off x="1403280" y="333360"/>
            <a:ext cx="1408320" cy="18446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916360" y="65412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如何来正确认识不善宽容的人和懂得宽容的人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258920" y="1341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活经验告诉我们，善于宽容，利人利己，因为宽容能使对方从中吸取教训，重新审视自己的行为；宽容能使自己远离烦恼、仇视，体验到宽容带来的心灵的安宁、满足。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宽容的意义之三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108000" y="201744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小强吃饭很挑食，每当菜不合胃口时，就把筷子一摔，把碗一推，脾气大发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这么难吃，不吃了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当妈妈要批评他时，奶奶总是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孩子还小，长大了自然就不会了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050920" y="260280"/>
            <a:ext cx="40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宽容？纵容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52360" y="458316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你对小强挑食并大发脾气有何想法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奶奶阻止妈妈批评小强的做法可取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7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251460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468360" y="3104640"/>
            <a:ext cx="8280360" cy="97740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宽容并不意味着是非不分，爱憎不明；也不是曲直不辨、麻木不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宽容，是有原则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不是盲目的。宽容要讲究策略。当我们受到别人无意伤害时，要善于宽容别人的过错，切不可冤冤相报，以牙还牙；在可能的情况下，还要以我们的宽容感化人，使其改过。对待家人、同学、朋友，不能斤斤计较，而要宽厚待人、与人为善。当然，我们决不迁就“坏人”、“恶人”，在原则问题上不能让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5"/>
          <p:cNvSpPr txBox="1"/>
          <p:nvPr/>
        </p:nvSpPr>
        <p:spPr>
          <a:xfrm>
            <a:off x="1619280" y="169920"/>
            <a:ext cx="538632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辨是非、明事理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68360" y="59562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以上内容，作出判断，完成表格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0920" y="765000"/>
          <a:ext cx="8713800" cy="5759280"/>
        </p:xfrm>
        <a:graphic>
          <a:graphicData uri="http://schemas.openxmlformats.org/drawingml/2006/table">
            <a:tbl>
              <a:tblPr/>
              <a:tblGrid>
                <a:gridCol w="2905200"/>
                <a:gridCol w="1055520"/>
                <a:gridCol w="4753080"/>
              </a:tblGrid>
              <a:tr h="113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32"/>
          <p:cNvSpPr/>
          <p:nvPr/>
        </p:nvSpPr>
        <p:spPr>
          <a:xfrm>
            <a:off x="992880" y="977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>
            <a:off x="322200" y="1916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宽容意味着事事都要做出忍让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322200" y="313992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宽容意味着事事都要迁就别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322200" y="4292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宽容是懦弱的表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732960" y="558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宽容等于纵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3503160" y="2152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4284720" y="1881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容是有原则的，不是盲目的，在原则问题，如违反法律的问题上，我们不能够退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4282920" y="31827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容是有原则的，不是盲目的，对“坏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“恶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就不能迁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0"/>
          <p:cNvSpPr/>
          <p:nvPr/>
        </p:nvSpPr>
        <p:spPr>
          <a:xfrm>
            <a:off x="4282920" y="4365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容是一种美德、一种境界，能宽容他人的人是最有勇气的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4284720" y="54864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容是有原则的，纵容是没有原则的，两者不是一回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2"/>
          <p:cNvSpPr/>
          <p:nvPr/>
        </p:nvSpPr>
        <p:spPr>
          <a:xfrm>
            <a:off x="3369240" y="10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3"/>
          <p:cNvSpPr/>
          <p:nvPr/>
        </p:nvSpPr>
        <p:spPr>
          <a:xfrm>
            <a:off x="5601240" y="10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3503160" y="3324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5"/>
          <p:cNvSpPr/>
          <p:nvPr/>
        </p:nvSpPr>
        <p:spPr>
          <a:xfrm>
            <a:off x="3503160" y="447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3503160" y="559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49"/>
          <p:cNvSpPr txBox="1"/>
          <p:nvPr/>
        </p:nvSpPr>
        <p:spPr>
          <a:xfrm>
            <a:off x="1836720" y="11592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辨是非、明事理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0920" y="692280"/>
          <a:ext cx="8713800" cy="5832360"/>
        </p:xfrm>
        <a:graphic>
          <a:graphicData uri="http://schemas.openxmlformats.org/drawingml/2006/table">
            <a:tbl>
              <a:tblPr/>
              <a:tblGrid>
                <a:gridCol w="2905200"/>
                <a:gridCol w="1055520"/>
                <a:gridCol w="4753080"/>
              </a:tblGrid>
              <a:tr h="11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Rectangle 30"/>
          <p:cNvSpPr/>
          <p:nvPr/>
        </p:nvSpPr>
        <p:spPr>
          <a:xfrm>
            <a:off x="322200" y="17668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要宽容就没有原则，讲原则就无法宽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1"/>
          <p:cNvSpPr/>
          <p:nvPr/>
        </p:nvSpPr>
        <p:spPr>
          <a:xfrm>
            <a:off x="322200" y="3355920"/>
            <a:ext cx="22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对缺乏宽容心的人是无法讲宽容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2"/>
          <p:cNvSpPr/>
          <p:nvPr/>
        </p:nvSpPr>
        <p:spPr>
          <a:xfrm>
            <a:off x="322200" y="508464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宽容对方无意的伤害，不宽容对方有意的伤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3"/>
          <p:cNvSpPr/>
          <p:nvPr/>
        </p:nvSpPr>
        <p:spPr>
          <a:xfrm>
            <a:off x="4282920" y="1809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坚守原则，不违背原则的基础上，我们宽厚待人，与人为善，就是宽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>
            <a:off x="4282920" y="331632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容他人的过错，宽容别人对自己的伤害，是宽容的表现，宽容往往能够感化当事人，使缺乏宽容心的人学会宽容。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5"/>
          <p:cNvSpPr/>
          <p:nvPr/>
        </p:nvSpPr>
        <p:spPr>
          <a:xfrm>
            <a:off x="4356000" y="527040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只有违背原则的问题，才不能够宽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6"/>
          <p:cNvSpPr/>
          <p:nvPr/>
        </p:nvSpPr>
        <p:spPr>
          <a:xfrm>
            <a:off x="343188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7"/>
          <p:cNvSpPr/>
          <p:nvPr/>
        </p:nvSpPr>
        <p:spPr>
          <a:xfrm>
            <a:off x="3431880" y="3639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3431880" y="537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1137240" y="803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1"/>
          <p:cNvSpPr/>
          <p:nvPr/>
        </p:nvSpPr>
        <p:spPr>
          <a:xfrm>
            <a:off x="3369240" y="803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2"/>
          <p:cNvSpPr/>
          <p:nvPr/>
        </p:nvSpPr>
        <p:spPr>
          <a:xfrm>
            <a:off x="5601240" y="849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评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80"/>
          <p:cNvSpPr txBox="1"/>
          <p:nvPr/>
        </p:nvSpPr>
        <p:spPr>
          <a:xfrm>
            <a:off x="1836720" y="115920"/>
            <a:ext cx="511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辨是非、明事理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8" descr="未标题-1"/>
          <p:cNvPicPr/>
          <p:nvPr/>
        </p:nvPicPr>
        <p:blipFill>
          <a:blip r:embed="rId2"/>
          <a:stretch/>
        </p:blipFill>
        <p:spPr>
          <a:xfrm>
            <a:off x="6411960" y="3645000"/>
            <a:ext cx="2624040" cy="3024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4"/>
          <p:cNvSpPr/>
          <p:nvPr/>
        </p:nvSpPr>
        <p:spPr>
          <a:xfrm>
            <a:off x="324000" y="1268280"/>
            <a:ext cx="806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　    宽容自己就是接纳自己，实事求是地面对真实的自我，既不要挑剔和苛求自己，也不自惭形秽；既不妄自菲薄，全盘否定自己，也不要妄自尊大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（含义）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755640" y="2667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要不要宽容自己呢，为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324000" y="3933720"/>
            <a:ext cx="655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宽容自己就意味着承认“人无完人”，容许自己犯错误，给自己留下改过迁善的机会，同时也给自己留下信心和希望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（意义）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要学会宽容自己，更要不断完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注意：我们不能原谅自己不该犯的错误，不能满足现实的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8200"/>
          <p:cNvSpPr/>
          <p:nvPr/>
        </p:nvSpPr>
        <p:spPr>
          <a:xfrm>
            <a:off x="1281240" y="885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BAS003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2"/>
          <p:cNvSpPr/>
          <p:nvPr/>
        </p:nvSpPr>
        <p:spPr>
          <a:xfrm>
            <a:off x="1150920" y="1773360"/>
            <a:ext cx="75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土地宽容了种子，拥有了收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大海宽容了江河，拥有了浩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天空宽容了彩霞，拥有了美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行楷"/>
              </a:rPr>
              <a:t>人生宽容了遗憾，拥有了未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13"/>
          <p:cNvSpPr txBox="1"/>
          <p:nvPr/>
        </p:nvSpPr>
        <p:spPr>
          <a:xfrm>
            <a:off x="2951280" y="765000"/>
            <a:ext cx="3311280" cy="77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老师寄语</a:t>
            </a:r>
            <a:endParaRPr b="1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244" name="Picture 15" descr="sailing2"/>
          <p:cNvPicPr/>
          <p:nvPr/>
        </p:nvPicPr>
        <p:blipFill>
          <a:blip r:embed="rId2"/>
          <a:stretch/>
        </p:blipFill>
        <p:spPr>
          <a:xfrm>
            <a:off x="6550200" y="4724280"/>
            <a:ext cx="2593800" cy="194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的同学为了追逐某种利益，违背公平竞争的原则，采取不正当的手段去压倒别人。你如何看待这种行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5"/>
          <p:cNvSpPr txBox="1"/>
          <p:nvPr/>
        </p:nvSpPr>
        <p:spPr>
          <a:xfrm>
            <a:off x="2771640" y="115920"/>
            <a:ext cx="345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诗朗读──宽容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24000" y="258696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宽容是大海，能容下江河，也能容下小溪；能容下竞游的百舸，也能容下一叶扁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宽容是高山，能容下鲜花，也能容下荆棘；能容下参天的大树，也能容下一棵小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宽容是丝丝春雨，能融化坚固的冰层，敲醒沉睡的爱心；宽容是萧萧秋风，能吹散自卑的阴云，唤回迷失的良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宽容是涵养，是理解，是关怀体谅；宽容是给予，是奉献，是新月一弯，是彩霞一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    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学会宽容，你会友好待人，积极面对人生；宽以待人，你就多了一扇窗，拥有了一分温馨，同时净化了自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402-F958-447E-8E56-C8879C10A3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179280" y="1040040"/>
            <a:ext cx="892980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不会宽容人的人，是不配受到别人的宽容的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贝尔奈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度尽劫波兄弟在，相逢一笑泯恩仇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鲁迅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忍耐是痛苦的，但它的结果是甜蜜的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（法）卢梭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没有宽宏大量的心肠，便算不上真正的英雄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（俄）普希金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不会宽容别人的人，是不配受别人宽容的，但谁能说自己是不需要宽容的呢？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屠格涅夫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有时宽容引起的道德震动比惩罚更强烈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（原苏联）苏霍姆林斯基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唯宽可以容人，唯厚可以载物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薜渲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人心不是靠武力征服，而是靠爱和宽容大度征服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斯宾诺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一个伟大的人有两颗心：一颗心流血，一颗心宽容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纪伯伦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不责人小过，不发人阴私，不念人旧恶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三者可以养德，也可以远害。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洪应明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深以刻薄为戒，每事当从忠厚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薜渲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宽容意味着尊重别人的任何信念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爱因斯坦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宽恕而不忘却，就如同把斧头埋在土里而把斧柄留在外面一样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（美国）巴斯克里 </a:t>
            </a:r>
            <a:br>
              <a:rPr sz="2200"/>
            </a:b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宽宏精神是一切事物中最伟大的。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200" spc="-1" strike="noStrike">
                <a:solidFill>
                  <a:srgbClr val="0000cc"/>
                </a:solidFill>
                <a:latin typeface="黑体"/>
              </a:rPr>
              <a:t>欧文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862360" y="111960"/>
            <a:ext cx="29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与宽容有关的诗句或名言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种行为是错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这种行为的产生是因为不知道该如何参与竞争，如何在公平的原则下参与竞争。首先，竞争是有规则的，这一规则对所有参与竞争的人都是统一的，公平的。而这一规则就是道德与法律，违背公平竞争原则，采用不正当手段去压倒别人的行为就是违背道德和法律规定的行为，因而是错误的。其实，这种行为的产生是因为没有正确的竞争态度，把取得胜利当成证明优异的唯一标准和获得自尊的唯一源泉，把别人的成就看做是一种威胁和挑战，形成了不健康的嫉妒心理。所以这种行为也是不利于我们健康成长的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认识现代生活需要宽容的必要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何将“宽以待人”这一原则落实到我们的实际学习生活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pic_163000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66560" y="112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海之所以可以容纳千百条河流，是因为它有宽广的胸怀，因而显得非常伟大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708200" y="115920"/>
            <a:ext cx="463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海纳百川，有容乃大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556000" y="3645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上最宽阔的是海洋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9"/>
          <p:cNvGrpSpPr/>
          <p:nvPr/>
        </p:nvGrpSpPr>
        <p:grpSpPr>
          <a:xfrm>
            <a:off x="457200" y="3568680"/>
            <a:ext cx="1666800" cy="3030840"/>
            <a:chOff x="457200" y="3568680"/>
            <a:chExt cx="1666800" cy="3030840"/>
          </a:xfrm>
        </p:grpSpPr>
        <p:pic>
          <p:nvPicPr>
            <p:cNvPr id="100" name="Picture 14" descr="20060924213436418"/>
            <p:cNvPicPr/>
            <p:nvPr/>
          </p:nvPicPr>
          <p:blipFill>
            <a:blip r:embed="rId2"/>
            <a:stretch/>
          </p:blipFill>
          <p:spPr>
            <a:xfrm>
              <a:off x="457200" y="3568680"/>
              <a:ext cx="166680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16"/>
            <p:cNvSpPr/>
            <p:nvPr/>
          </p:nvSpPr>
          <p:spPr>
            <a:xfrm>
              <a:off x="755640" y="6018120"/>
              <a:ext cx="13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雨果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7"/>
          <p:cNvSpPr/>
          <p:nvPr/>
        </p:nvSpPr>
        <p:spPr>
          <a:xfrm>
            <a:off x="3572280" y="44560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海洋更宽阔的是天空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727800" y="52354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比天空更宽阔的是人的胸怀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4456800" y="2781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句话教育人们要心胸宽广，要学会宽容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5"/>
          <p:cNvSpPr/>
          <p:nvPr/>
        </p:nvSpPr>
        <p:spPr>
          <a:xfrm>
            <a:off x="7236000" y="0"/>
            <a:ext cx="151272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大肚能容 容天下难容之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468360" y="0"/>
            <a:ext cx="1512720" cy="6858000"/>
          </a:xfrm>
          <a:prstGeom prst="verticalScrol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慈颜常笑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笑天下可笑之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1835280" y="4743360"/>
            <a:ext cx="5257800" cy="1927440"/>
            <a:chOff x="1835280" y="4743360"/>
            <a:chExt cx="5257800" cy="1927440"/>
          </a:xfrm>
        </p:grpSpPr>
        <p:pic>
          <p:nvPicPr>
            <p:cNvPr id="108" name="Picture 9" descr="366"/>
            <p:cNvPicPr/>
            <p:nvPr/>
          </p:nvPicPr>
          <p:blipFill>
            <a:blip r:embed="rId1"/>
            <a:stretch/>
          </p:blipFill>
          <p:spPr>
            <a:xfrm>
              <a:off x="1835280" y="4743360"/>
              <a:ext cx="28080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0"/>
            <p:cNvSpPr/>
            <p:nvPr/>
          </p:nvSpPr>
          <p:spPr>
            <a:xfrm>
              <a:off x="2124000" y="5357880"/>
              <a:ext cx="4969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　　这幅对联给我们什么启示呢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1" descr="fu"/>
          <p:cNvPicPr/>
          <p:nvPr/>
        </p:nvPicPr>
        <p:blipFill>
          <a:blip r:embed="rId2"/>
          <a:stretch/>
        </p:blipFill>
        <p:spPr>
          <a:xfrm>
            <a:off x="9004320" y="6713640"/>
            <a:ext cx="139680" cy="14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xiaofuo"/>
          <p:cNvPicPr/>
          <p:nvPr/>
        </p:nvPicPr>
        <p:blipFill>
          <a:blip r:embed="rId3"/>
          <a:stretch/>
        </p:blipFill>
        <p:spPr>
          <a:xfrm>
            <a:off x="2413080" y="-1440"/>
            <a:ext cx="3898800" cy="465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12720" y="31921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有这样一个故事，清朝康熙年间有位大学土，名叫张英。一天，张英收到家信，说家人为了争三尺宽的宅基地，与邻居发生纠纷，要他利用职权疏通关系，打赢这场官司，张英阅信后，坦然一笑，挥笔写下了一封回信，并附诗一首：“十里修书只为墙，让他三尺又何妨？长城万里今犹在，不见当年秦始皇。”家人接信后，让出了三尺宅基地，邻居见了，也主动相让，结果形成了“六尺巷”。这个化干戈为玉帛的故事流传至今，成为美谈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700360" y="189000"/>
            <a:ext cx="35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黑体"/>
              </a:rPr>
              <a:t>三尺地和六尺巷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4:39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17Z</dcterms:modified>
  <cp:revision>3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