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7.jpeg" ContentType="image/jpeg"/>
  <Override PartName="/ppt/media/image12.jpeg" ContentType="image/jpeg"/>
  <Override PartName="/ppt/media/image3.jpeg" ContentType="image/jpeg"/>
  <Override PartName="/ppt/media/image4.gif" ContentType="image/gif"/>
  <Override PartName="/ppt/media/image6.jpeg" ContentType="image/jpeg"/>
  <Override PartName="/ppt/media/image11.jpeg" ContentType="image/jpeg"/>
  <Override PartName="/ppt/media/image5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34B3-A7A9-4C53-8AB0-2723D809F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50C7-5F24-4C35-A299-0006358F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920C-4B1B-49E0-90F4-77E6A1EC9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5863-6C63-477D-9FBA-537350560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407FE-FCD0-48BA-A875-2401CEA9B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A7DDB-4B93-4EA7-A464-7480B422F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FC93B-D07F-4F79-B385-F7A604A62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0B63D-69C7-4FC5-AC02-894C1714F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03760-2967-4323-B29E-19A3DDB4F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D193D-CDF8-43A1-B22C-E0EF4634E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03572-FF83-4F8C-ABB6-C39EDC57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6282-566D-4563-8BBF-C491AE972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E75F5-3E20-40FC-8A05-6FB7466D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7C010-0D22-4B1A-AB6F-E22C15DA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D75DF-3D78-4ACC-BA9A-6D964D085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630F5-5781-4536-86B7-B128CE6DC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F8F50-EF3D-4198-AA1C-B0962D574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5B0D-3270-40FC-9BCF-9A7494DBB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AB9B-4FC4-45D0-8348-51724EB73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A2B5-74EF-4B21-8C0A-0078473FD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CCE5-9250-4E18-99A9-A3AD36F8F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13B7-66B1-4F8F-8026-5F1553F9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3FDD-7011-4CB6-B8B3-2FBC9F20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B48A-DAE1-422D-8704-F8CEBAF8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6720" y="-14400"/>
            <a:ext cx="1162080" cy="208296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1D130-531F-4925-B17A-400CF250A86C}" type="datetime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5254A-D1E3-45F5-A56E-C69DCA8A3C7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2760" y="20160"/>
            <a:ext cx="1165320" cy="20988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1720"/>
            <a:ext cx="2427840" cy="2247840"/>
            <a:chOff x="7171200" y="-8172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1720"/>
              <a:ext cx="2427840" cy="2247840"/>
              <a:chOff x="7171200" y="-8172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1720"/>
                <a:ext cx="2427840" cy="2247840"/>
                <a:chOff x="7171200" y="-8172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78240" y="112320"/>
                  <a:ext cx="243000" cy="19836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108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09040" y="286560"/>
                  <a:ext cx="8024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412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6360" y="142236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4720" y="127800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08840" y="333360"/>
                  <a:ext cx="287280" cy="23328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2680" y="222480"/>
                  <a:ext cx="28404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" name=""/>
            <p:cNvGrpSpPr/>
            <p:nvPr/>
          </p:nvGrpSpPr>
          <p:grpSpPr>
            <a:xfrm>
              <a:off x="7731000" y="133200"/>
              <a:ext cx="66960" cy="152640"/>
              <a:chOff x="7731000" y="133200"/>
              <a:chExt cx="66960" cy="152640"/>
            </a:xfrm>
          </p:grpSpPr>
          <p:sp>
            <p:nvSpPr>
              <p:cNvPr id="51" name="Line 52"/>
              <p:cNvSpPr/>
              <p:nvPr/>
            </p:nvSpPr>
            <p:spPr>
              <a:xfrm>
                <a:off x="7731000" y="133200"/>
                <a:ext cx="6696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 txBox="1"/>
              <p:nvPr/>
            </p:nvSpPr>
            <p:spPr>
              <a:xfrm>
                <a:off x="7731000" y="133200"/>
                <a:ext cx="66960" cy="15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3EE52-EF69-48B9-836F-5DF29C1E81E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300,4,&#22303;&#19968;&#26679;&#30340;&#32500;&#21566;&#23572;" TargetMode="External"/><Relationship Id="rId2" Type="http://schemas.openxmlformats.org/officeDocument/2006/relationships/hyperlink" Target="301,5,&#33457;&#19968;&#26679;&#30340;&#32500;&#21566;&#23572;" TargetMode="External"/><Relationship Id="rId3" Type="http://schemas.openxmlformats.org/officeDocument/2006/relationships/hyperlink" Target="302,6,&#35868;&#19968;&#26679;&#30340;&#32500;&#21566;&#23572;" TargetMode="External"/><Relationship Id="rId4" Type="http://schemas.openxmlformats.org/officeDocument/2006/relationships/hyperlink" Target="303,7,&#27468;&#19968;&#26679;&#30340;&#32500;&#21566;&#23572;" TargetMode="External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9"/>
          <p:cNvSpPr/>
          <p:nvPr/>
        </p:nvSpPr>
        <p:spPr>
          <a:xfrm>
            <a:off x="3492360" y="6969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页脚占位符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20055271128537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10920" y="1125360"/>
            <a:ext cx="8181720" cy="1470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和田的维吾尔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课件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页脚占位符 4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5640" y="-243360"/>
            <a:ext cx="6664320" cy="151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Comic Sans MS"/>
                <a:ea typeface="华文隶书"/>
              </a:rPr>
              <a:t>歌一样的维吾尔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68360" y="1413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唱歌跳舞不受人员、场地和时间的限制；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他们想跳就跳，想唱就唱 ；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聚餐的目的不在于吃，而在于载歌载舞。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AutoShape 4"/>
          <p:cNvSpPr/>
          <p:nvPr/>
        </p:nvSpPr>
        <p:spPr>
          <a:xfrm>
            <a:off x="1332000" y="6381720"/>
            <a:ext cx="720720" cy="476280"/>
          </a:xfrm>
          <a:custGeom>
            <a:avLst/>
            <a:gdLst>
              <a:gd name="textAreaLeft" fmla="*/ 30600 w 720720"/>
              <a:gd name="textAreaRight" fmla="*/ 690120 w 7207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2677" h="21600">
                <a:moveTo>
                  <a:pt x="0" y="0"/>
                </a:moveTo>
                <a:lnTo>
                  <a:pt x="32677" y="0"/>
                </a:lnTo>
                <a:lnTo>
                  <a:pt x="32677" y="21600"/>
                </a:lnTo>
                <a:lnTo>
                  <a:pt x="0" y="21600"/>
                </a:lnTo>
                <a:close/>
              </a:path>
              <a:path fill="lightenLess" w="32677" h="21600">
                <a:moveTo>
                  <a:pt x="0" y="0"/>
                </a:moveTo>
                <a:lnTo>
                  <a:pt x="32677" y="0"/>
                </a:lnTo>
                <a:lnTo>
                  <a:pt x="31277" y="1400"/>
                </a:lnTo>
                <a:lnTo>
                  <a:pt x="1400" y="1400"/>
                </a:lnTo>
                <a:close/>
              </a:path>
              <a:path fill="darken" w="32677" h="21600">
                <a:moveTo>
                  <a:pt x="32677" y="0"/>
                </a:moveTo>
                <a:lnTo>
                  <a:pt x="32677" y="21600"/>
                </a:lnTo>
                <a:lnTo>
                  <a:pt x="31277" y="20200"/>
                </a:lnTo>
                <a:lnTo>
                  <a:pt x="31277" y="1400"/>
                </a:lnTo>
                <a:close/>
              </a:path>
              <a:path fill="darkenLess" w="32677" h="21600">
                <a:moveTo>
                  <a:pt x="32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77" y="20200"/>
                </a:lnTo>
                <a:close/>
              </a:path>
              <a:path fill="lighten" w="32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677" h="21600">
                <a:moveTo>
                  <a:pt x="9332" y="10800"/>
                </a:moveTo>
                <a:lnTo>
                  <a:pt x="23345" y="3794"/>
                </a:lnTo>
                <a:lnTo>
                  <a:pt x="23345" y="17806"/>
                </a:lnTo>
                <a:close/>
              </a:path>
            </a:pathLst>
          </a:cu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5" descr="图片1"/>
          <p:cNvPicPr/>
          <p:nvPr/>
        </p:nvPicPr>
        <p:blipFill>
          <a:blip r:embed="rId1"/>
          <a:stretch/>
        </p:blipFill>
        <p:spPr>
          <a:xfrm>
            <a:off x="6372360" y="4508640"/>
            <a:ext cx="2771640" cy="2349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DSC00509"/>
          <p:cNvPicPr/>
          <p:nvPr/>
        </p:nvPicPr>
        <p:blipFill>
          <a:blip r:embed="rId2"/>
          <a:stretch/>
        </p:blipFill>
        <p:spPr>
          <a:xfrm>
            <a:off x="2771640" y="4508640"/>
            <a:ext cx="3600720" cy="2349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4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4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4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4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4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4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页脚占位符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179280" y="239328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华文新魏"/>
                <a:ea typeface="华文新魏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生活在豁达乐观、载歌载舞之中的和田维吾尔人，纵使生活再苦，感觉也是甜的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1862111"/>
          <p:cNvPicPr/>
          <p:nvPr/>
        </p:nvPicPr>
        <p:blipFill>
          <a:blip r:embed="rId1"/>
          <a:stretch/>
        </p:blipFill>
        <p:spPr>
          <a:xfrm>
            <a:off x="4572000" y="3716280"/>
            <a:ext cx="3672000" cy="2592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6"/>
          <p:cNvSpPr/>
          <p:nvPr/>
        </p:nvSpPr>
        <p:spPr>
          <a:xfrm>
            <a:off x="468360" y="333360"/>
            <a:ext cx="345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omic Sans MS"/>
                <a:ea typeface="隶书"/>
              </a:rPr>
              <a:t>谈一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8197"/>
          <p:cNvSpPr/>
          <p:nvPr/>
        </p:nvSpPr>
        <p:spPr>
          <a:xfrm>
            <a:off x="1476360" y="321300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b200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页脚占位符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1030" descr="005e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084720" y="5078520"/>
            <a:ext cx="3059280" cy="177948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91" name="Picture 1031" descr="图片1"/>
          <p:cNvPicPr/>
          <p:nvPr/>
        </p:nvPicPr>
        <p:blipFill>
          <a:blip r:embed="rId2"/>
          <a:stretch/>
        </p:blipFill>
        <p:spPr>
          <a:xfrm>
            <a:off x="7415280" y="5557680"/>
            <a:ext cx="1728720" cy="1300320"/>
          </a:xfrm>
          <a:prstGeom prst="rect">
            <a:avLst/>
          </a:prstGeom>
          <a:ln w="0">
            <a:noFill/>
          </a:ln>
        </p:spPr>
      </p:pic>
      <p:grpSp>
        <p:nvGrpSpPr>
          <p:cNvPr id="192" name=""/>
          <p:cNvGrpSpPr/>
          <p:nvPr/>
        </p:nvGrpSpPr>
        <p:grpSpPr>
          <a:xfrm>
            <a:off x="7451640" y="4941720"/>
            <a:ext cx="73080" cy="360"/>
            <a:chOff x="7451640" y="4941720"/>
            <a:chExt cx="73080" cy="360"/>
          </a:xfrm>
        </p:grpSpPr>
        <p:sp>
          <p:nvSpPr>
            <p:cNvPr id="193" name="Line 1036"/>
            <p:cNvSpPr/>
            <p:nvPr/>
          </p:nvSpPr>
          <p:spPr>
            <a:xfrm>
              <a:off x="7451640" y="4941720"/>
              <a:ext cx="730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 txBox="1"/>
            <p:nvPr/>
          </p:nvSpPr>
          <p:spPr>
            <a:xfrm>
              <a:off x="7451640" y="4941720"/>
              <a:ext cx="73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Text Box 1041"/>
          <p:cNvSpPr/>
          <p:nvPr/>
        </p:nvSpPr>
        <p:spPr>
          <a:xfrm>
            <a:off x="900000" y="134136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开朗豁达，乐观豪迈，热爱土地，热爱生活，这使他们能够战胜一切生活的磨难。这是一个让人喜爱和尊敬的民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042"/>
          <p:cNvSpPr/>
          <p:nvPr/>
        </p:nvSpPr>
        <p:spPr>
          <a:xfrm>
            <a:off x="3780000" y="476280"/>
            <a:ext cx="208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Comic Sans MS"/>
              </a:rPr>
              <a:t>总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043"/>
          <p:cNvSpPr/>
          <p:nvPr/>
        </p:nvSpPr>
        <p:spPr>
          <a:xfrm>
            <a:off x="826920" y="285264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生活在沙漠中的和田维吾尔人，物质条件虽然很差，但是他们有豁达、乐观、善良、友好的品性；能歌善舞的特点使他们热爱生活，善于在生活中发现美、创造美、享受美。所以无论生活有多苦，他们仍感觉是甜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575D4-8A3C-4D6D-ABC0-C26A2191F47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页脚占位符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684360" y="189000"/>
            <a:ext cx="7272360" cy="24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703dff"/>
                </a:solidFill>
                <a:latin typeface="华文新魏"/>
                <a:ea typeface="华文新魏"/>
              </a:rPr>
              <a:t>作业</a:t>
            </a:r>
            <a:r>
              <a:rPr b="0" lang="en-US" sz="4000" spc="-1" strike="noStrike">
                <a:solidFill>
                  <a:srgbClr val="703dff"/>
                </a:solidFill>
                <a:latin typeface="华文新魏"/>
                <a:ea typeface="华文新魏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华文新魏"/>
                <a:ea typeface="华文新魏"/>
              </a:rPr>
              <a:t>1</a:t>
            </a:r>
            <a:r>
              <a:rPr b="0" lang="zh-CN" sz="4000" spc="-1" strike="noStrike">
                <a:solidFill>
                  <a:srgbClr val="703dff"/>
                </a:solidFill>
                <a:latin typeface="华文新魏"/>
                <a:ea typeface="华文新魏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给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数字杂说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一课，加上小标题，使文章条理清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2</a:t>
            </a:r>
            <a:r>
              <a:rPr b="0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、</a:t>
            </a:r>
            <a:r>
              <a:rPr b="0" lang="zh-CN" sz="4000" spc="-1" strike="noStrike">
                <a:solidFill>
                  <a:srgbClr val="703d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请利用查阅资料（可通过书籍或网络），至少解开维吾尔族的一个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7" descr="29"/>
          <p:cNvPicPr/>
          <p:nvPr/>
        </p:nvPicPr>
        <p:blipFill>
          <a:blip r:embed="rId1"/>
          <a:stretch/>
        </p:blipFill>
        <p:spPr>
          <a:xfrm>
            <a:off x="4859280" y="4005360"/>
            <a:ext cx="4032360" cy="26985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页脚占位符 4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26"/>
          <p:cNvSpPr/>
          <p:nvPr/>
        </p:nvSpPr>
        <p:spPr>
          <a:xfrm>
            <a:off x="395280" y="126828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细黑"/>
                <a:ea typeface="华文细黑"/>
              </a:rPr>
              <a:t>请用</a:t>
            </a:r>
            <a:r>
              <a:rPr b="1" lang="en-US" sz="3600" spc="-1" strike="noStrike">
                <a:solidFill>
                  <a:srgbClr val="000000"/>
                </a:solidFill>
                <a:latin typeface="华文细黑"/>
                <a:ea typeface="华文细黑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个字概括维吾尔风情特点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27"/>
          <p:cNvSpPr/>
          <p:nvPr/>
        </p:nvSpPr>
        <p:spPr>
          <a:xfrm>
            <a:off x="2050920" y="2727360"/>
            <a:ext cx="7923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b200"/>
                </a:solidFill>
                <a:uFillTx/>
                <a:latin typeface="Arial"/>
                <a:ea typeface="华文彩云"/>
                <a:hlinkClick r:id="rId1"/>
              </a:rPr>
              <a:t>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028"/>
          <p:cNvSpPr/>
          <p:nvPr/>
        </p:nvSpPr>
        <p:spPr>
          <a:xfrm>
            <a:off x="3492360" y="2727360"/>
            <a:ext cx="7192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b200"/>
                </a:solidFill>
                <a:uFillTx/>
                <a:latin typeface="Arial"/>
                <a:ea typeface="华文彩云"/>
                <a:hlinkClick r:id="rId2"/>
              </a:rPr>
              <a:t>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29"/>
          <p:cNvSpPr/>
          <p:nvPr/>
        </p:nvSpPr>
        <p:spPr>
          <a:xfrm>
            <a:off x="4932360" y="2727360"/>
            <a:ext cx="7192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b200"/>
                </a:solidFill>
                <a:uFillTx/>
                <a:latin typeface="Arial"/>
                <a:ea typeface="华文彩云"/>
                <a:hlinkClick r:id="rId3"/>
              </a:rPr>
              <a:t>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30"/>
          <p:cNvSpPr/>
          <p:nvPr/>
        </p:nvSpPr>
        <p:spPr>
          <a:xfrm>
            <a:off x="6372360" y="2727360"/>
            <a:ext cx="7207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b200"/>
                </a:solidFill>
                <a:uFillTx/>
                <a:latin typeface="Arial"/>
                <a:ea typeface="华文彩云"/>
                <a:hlinkClick r:id="rId4"/>
              </a:rPr>
              <a:t>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031" descr="x1pM0jCSUoiRhDjW1F47OhzpL4POgaKUudtRlAiQfxC4wL2OO8GfN4I88TCqmOJHO3lgaynW6INCt9Gct7xz3WKUYmsJuLRYPN_BAqd66RXF_nniDFsmHAsGznEumYbeyw1C8DBC4AWVLY"/>
          <p:cNvPicPr/>
          <p:nvPr/>
        </p:nvPicPr>
        <p:blipFill>
          <a:blip r:embed="rId5"/>
          <a:stretch/>
        </p:blipFill>
        <p:spPr>
          <a:xfrm>
            <a:off x="7236000" y="5084640"/>
            <a:ext cx="1368360" cy="11368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页脚占位符 4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26560" y="3071520"/>
            <a:ext cx="769644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某生写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珍惜生命中的四分之一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中，把生命分为“四分之一的绿色”、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四分之一的紫色”、“四分之一的灰色”、“四分之一的空白”，他们拼成了令人耳目一新的感觉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Rectangle 1030"/>
          <p:cNvSpPr/>
          <p:nvPr/>
        </p:nvSpPr>
        <p:spPr>
          <a:xfrm>
            <a:off x="1116000" y="1413000"/>
            <a:ext cx="6948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某生写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《“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胖子”变奏曲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时，拟设了“喜”、“怒”、“哀”、“乐”四个方面的小标题连缀，为文增色不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31"/>
          <p:cNvSpPr/>
          <p:nvPr/>
        </p:nvSpPr>
        <p:spPr>
          <a:xfrm>
            <a:off x="395280" y="26028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页脚占位符 4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4360" y="1557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某生的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班级演义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中，设置了“第一回选盟主”、“第二回唇舌之战”、“第三回笔墨之争”、“第四回男女联盟”四个小标题，以时间为顺序写出了男女生之间有趣的故事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AutoShape 1028"/>
          <p:cNvSpPr/>
          <p:nvPr/>
        </p:nvSpPr>
        <p:spPr>
          <a:xfrm>
            <a:off x="7956720" y="6381720"/>
            <a:ext cx="792000" cy="476280"/>
          </a:xfrm>
          <a:custGeom>
            <a:avLst/>
            <a:gdLst>
              <a:gd name="textAreaLeft" fmla="*/ 30600 w 792000"/>
              <a:gd name="textAreaRight" fmla="*/ 761400 w 792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5908" h="21600">
                <a:moveTo>
                  <a:pt x="0" y="0"/>
                </a:moveTo>
                <a:lnTo>
                  <a:pt x="35908" y="0"/>
                </a:lnTo>
                <a:lnTo>
                  <a:pt x="35908" y="21600"/>
                </a:lnTo>
                <a:lnTo>
                  <a:pt x="0" y="21600"/>
                </a:lnTo>
                <a:close/>
              </a:path>
              <a:path fill="lightenLess" w="35908" h="21600">
                <a:moveTo>
                  <a:pt x="0" y="0"/>
                </a:moveTo>
                <a:lnTo>
                  <a:pt x="35908" y="0"/>
                </a:lnTo>
                <a:lnTo>
                  <a:pt x="34508" y="1400"/>
                </a:lnTo>
                <a:lnTo>
                  <a:pt x="1400" y="1400"/>
                </a:lnTo>
                <a:close/>
              </a:path>
              <a:path fill="darken" w="35908" h="21600">
                <a:moveTo>
                  <a:pt x="35908" y="0"/>
                </a:moveTo>
                <a:lnTo>
                  <a:pt x="35908" y="21600"/>
                </a:lnTo>
                <a:lnTo>
                  <a:pt x="34508" y="20200"/>
                </a:lnTo>
                <a:lnTo>
                  <a:pt x="34508" y="1400"/>
                </a:lnTo>
                <a:close/>
              </a:path>
              <a:path fill="darkenLess" w="35908" h="21600">
                <a:moveTo>
                  <a:pt x="35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08" y="20200"/>
                </a:lnTo>
                <a:close/>
              </a:path>
              <a:path fill="lighten" w="35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08" h="21600">
                <a:moveTo>
                  <a:pt x="10947" y="10800"/>
                </a:moveTo>
                <a:lnTo>
                  <a:pt x="24960" y="3794"/>
                </a:lnTo>
                <a:lnTo>
                  <a:pt x="2496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032"/>
          <p:cNvSpPr/>
          <p:nvPr/>
        </p:nvSpPr>
        <p:spPr>
          <a:xfrm>
            <a:off x="468360" y="40464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页脚占位符 4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033"/>
          <p:cNvSpPr/>
          <p:nvPr/>
        </p:nvSpPr>
        <p:spPr>
          <a:xfrm>
            <a:off x="1619280" y="5300640"/>
            <a:ext cx="1368360" cy="433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  <a:ea typeface="华文行楷"/>
              </a:rPr>
              <a:t>行文中的小标题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68360" y="206064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便于将材料分门别类地组织，多方面多角度展示材料、表达主题，使行文条理清楚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能吸引读者，对主要内容有一个概括性的了解，更快速更准确地理解文章内容和写作意图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 Box 1030"/>
          <p:cNvSpPr/>
          <p:nvPr/>
        </p:nvSpPr>
        <p:spPr>
          <a:xfrm>
            <a:off x="1619280" y="5229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ff"/>
                </a:solidFill>
                <a:uFillTx/>
                <a:latin typeface="Comic Sans MS"/>
              </a:rPr>
              <a:t>小提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031"/>
          <p:cNvSpPr/>
          <p:nvPr/>
        </p:nvSpPr>
        <p:spPr>
          <a:xfrm>
            <a:off x="2556000" y="530064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omic Sans MS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Comic Sans MS"/>
              </a:rPr>
              <a:t>小标题一般用在篇幅较长、内容复杂的文章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032"/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10800"/>
                </a:moveTo>
                <a:lnTo>
                  <a:pt x="29067" y="3794"/>
                </a:lnTo>
                <a:lnTo>
                  <a:pt x="2906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页脚占位符 4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552600"/>
            <a:ext cx="687060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omic Sans MS"/>
              </a:rPr>
              <a:t>阅读课文，小组讨论：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为什么是土一样的维吾尔？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从“土一样的维吾尔”中你可以看出维吾尔民族怎样的特点？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AutoShape 1028"/>
          <p:cNvSpPr/>
          <p:nvPr/>
        </p:nvSpPr>
        <p:spPr>
          <a:xfrm>
            <a:off x="8028000" y="6165720"/>
            <a:ext cx="576360" cy="35892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4673" h="21600">
                <a:moveTo>
                  <a:pt x="0" y="0"/>
                </a:moveTo>
                <a:lnTo>
                  <a:pt x="34673" y="0"/>
                </a:lnTo>
                <a:lnTo>
                  <a:pt x="34673" y="21600"/>
                </a:lnTo>
                <a:lnTo>
                  <a:pt x="0" y="21600"/>
                </a:lnTo>
                <a:close/>
              </a:path>
              <a:path fill="lightenLess" w="34673" h="21600">
                <a:moveTo>
                  <a:pt x="0" y="0"/>
                </a:moveTo>
                <a:lnTo>
                  <a:pt x="34673" y="0"/>
                </a:lnTo>
                <a:lnTo>
                  <a:pt x="33273" y="1400"/>
                </a:lnTo>
                <a:lnTo>
                  <a:pt x="1400" y="1400"/>
                </a:lnTo>
                <a:close/>
              </a:path>
              <a:path fill="darken" w="34673" h="21600">
                <a:moveTo>
                  <a:pt x="34673" y="0"/>
                </a:moveTo>
                <a:lnTo>
                  <a:pt x="34673" y="21600"/>
                </a:lnTo>
                <a:lnTo>
                  <a:pt x="33273" y="20200"/>
                </a:lnTo>
                <a:lnTo>
                  <a:pt x="33273" y="1400"/>
                </a:lnTo>
                <a:close/>
              </a:path>
              <a:path fill="darkenLess" w="34673" h="21600">
                <a:moveTo>
                  <a:pt x="3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273" y="20200"/>
                </a:lnTo>
                <a:close/>
              </a:path>
              <a:path fill="lighten" w="3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673" h="21600">
                <a:moveTo>
                  <a:pt x="10330" y="10800"/>
                </a:moveTo>
                <a:lnTo>
                  <a:pt x="24343" y="3794"/>
                </a:lnTo>
                <a:lnTo>
                  <a:pt x="2434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8197"/>
          <p:cNvSpPr/>
          <p:nvPr/>
        </p:nvSpPr>
        <p:spPr>
          <a:xfrm>
            <a:off x="682560" y="465300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b200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8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3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页脚占位符 4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Comic Sans MS"/>
                <a:ea typeface="华文隶书"/>
              </a:rPr>
              <a:t>土一样的维吾尔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24000" y="1773360"/>
            <a:ext cx="8820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当沙尘暴铺天盖地地袭来时，一个汉子迎风引吭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沙尘漫天飞扬，人们长年摘不下“防尘装”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他们喜食土馕坑、沙土灰里烧制的食物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他们把衣服直接摊铺在沙漠上晾晒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5" descr="5"/>
          <p:cNvPicPr/>
          <p:nvPr/>
        </p:nvPicPr>
        <p:blipFill>
          <a:blip r:embed="rId1"/>
          <a:stretch/>
        </p:blipFill>
        <p:spPr>
          <a:xfrm>
            <a:off x="6084720" y="4746600"/>
            <a:ext cx="3059280" cy="211140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1029"/>
          <p:cNvSpPr/>
          <p:nvPr/>
        </p:nvSpPr>
        <p:spPr>
          <a:xfrm>
            <a:off x="5364000" y="6453360"/>
            <a:ext cx="720720" cy="404640"/>
          </a:xfrm>
          <a:custGeom>
            <a:avLst/>
            <a:gdLst>
              <a:gd name="textAreaLeft" fmla="*/ 25920 w 720720"/>
              <a:gd name="textAreaRight" fmla="*/ 694800 w 720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8458" h="21600">
                <a:moveTo>
                  <a:pt x="0" y="0"/>
                </a:moveTo>
                <a:lnTo>
                  <a:pt x="38458" y="0"/>
                </a:lnTo>
                <a:lnTo>
                  <a:pt x="38458" y="21600"/>
                </a:lnTo>
                <a:lnTo>
                  <a:pt x="0" y="21600"/>
                </a:lnTo>
                <a:close/>
              </a:path>
              <a:path fill="lightenLess" w="38458" h="21600">
                <a:moveTo>
                  <a:pt x="0" y="0"/>
                </a:moveTo>
                <a:lnTo>
                  <a:pt x="38458" y="0"/>
                </a:lnTo>
                <a:lnTo>
                  <a:pt x="37058" y="1400"/>
                </a:lnTo>
                <a:lnTo>
                  <a:pt x="1400" y="1400"/>
                </a:lnTo>
                <a:close/>
              </a:path>
              <a:path fill="darken" w="38458" h="21600">
                <a:moveTo>
                  <a:pt x="38458" y="0"/>
                </a:moveTo>
                <a:lnTo>
                  <a:pt x="38458" y="21600"/>
                </a:lnTo>
                <a:lnTo>
                  <a:pt x="37058" y="20200"/>
                </a:lnTo>
                <a:lnTo>
                  <a:pt x="37058" y="1400"/>
                </a:lnTo>
                <a:close/>
              </a:path>
              <a:path fill="darkenLess" w="38458" h="21600">
                <a:moveTo>
                  <a:pt x="384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58" y="20200"/>
                </a:lnTo>
                <a:close/>
              </a:path>
              <a:path fill="lighten" w="384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58" h="21600">
                <a:moveTo>
                  <a:pt x="12222" y="10800"/>
                </a:moveTo>
                <a:lnTo>
                  <a:pt x="26235" y="3794"/>
                </a:lnTo>
                <a:lnTo>
                  <a:pt x="26235" y="17806"/>
                </a:lnTo>
                <a:close/>
              </a:path>
            </a:pathLst>
          </a:cu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4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4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4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4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4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4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4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4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页脚占位符 4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Comic Sans MS"/>
                <a:ea typeface="华文隶书"/>
              </a:rPr>
              <a:t>花一样的维吾尔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916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总说：和田维吾尔人尤为爱美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分述：他们爱花的天性和他们在许多物品上营造出的鲜花般的幽香和情调；维吾尔姑娘有花一样的容貌和花一般的名字；维吾尔姑娘的名字中还有激励自信的意味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478800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10800"/>
                </a:moveTo>
                <a:lnTo>
                  <a:pt x="25751" y="3794"/>
                </a:lnTo>
                <a:lnTo>
                  <a:pt x="25751" y="17806"/>
                </a:lnTo>
                <a:close/>
              </a:path>
            </a:pathLst>
          </a:cu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6" descr="4b11cb554461aafbb705c"/>
          <p:cNvPicPr/>
          <p:nvPr/>
        </p:nvPicPr>
        <p:blipFill>
          <a:blip r:embed="rId1"/>
          <a:stretch/>
        </p:blipFill>
        <p:spPr>
          <a:xfrm>
            <a:off x="0" y="0"/>
            <a:ext cx="4419720" cy="781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地毯"/>
          <p:cNvPicPr/>
          <p:nvPr/>
        </p:nvPicPr>
        <p:blipFill>
          <a:blip r:embed="rId2"/>
          <a:stretch/>
        </p:blipFill>
        <p:spPr>
          <a:xfrm>
            <a:off x="5508720" y="4838760"/>
            <a:ext cx="3635280" cy="20192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4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4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4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4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页脚占位符 4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Comic Sans MS"/>
                <a:ea typeface="华文隶书"/>
              </a:rPr>
              <a:t>谜一样的维吾尔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68000" y="1267920"/>
            <a:ext cx="70563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生活并不富，却很好客；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维吾尔族人的睫毛长，维吾尔姑娘跳舞时“摆脖子”；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维吾尔族人单手提壶洗手洗脸；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他们少有戴近视眼镜的，少有单眼皮的，用“奥斯曼”草染过的头发浓黑发亮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8280360" y="6499080"/>
            <a:ext cx="863640" cy="35892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51944" h="21600">
                <a:moveTo>
                  <a:pt x="0" y="0"/>
                </a:moveTo>
                <a:lnTo>
                  <a:pt x="51944" y="0"/>
                </a:lnTo>
                <a:lnTo>
                  <a:pt x="51944" y="21600"/>
                </a:lnTo>
                <a:lnTo>
                  <a:pt x="0" y="21600"/>
                </a:lnTo>
                <a:close/>
              </a:path>
              <a:path fill="lightenLess" w="51944" h="21600">
                <a:moveTo>
                  <a:pt x="0" y="0"/>
                </a:moveTo>
                <a:lnTo>
                  <a:pt x="51944" y="0"/>
                </a:lnTo>
                <a:lnTo>
                  <a:pt x="50544" y="1400"/>
                </a:lnTo>
                <a:lnTo>
                  <a:pt x="1400" y="1400"/>
                </a:lnTo>
                <a:close/>
              </a:path>
              <a:path fill="darken" w="51944" h="21600">
                <a:moveTo>
                  <a:pt x="51944" y="0"/>
                </a:moveTo>
                <a:lnTo>
                  <a:pt x="51944" y="21600"/>
                </a:lnTo>
                <a:lnTo>
                  <a:pt x="50544" y="20200"/>
                </a:lnTo>
                <a:lnTo>
                  <a:pt x="50544" y="1400"/>
                </a:lnTo>
                <a:close/>
              </a:path>
              <a:path fill="darkenLess" w="51944" h="21600">
                <a:moveTo>
                  <a:pt x="51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544" y="20200"/>
                </a:lnTo>
                <a:close/>
              </a:path>
              <a:path fill="lighten" w="51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944" h="21600">
                <a:moveTo>
                  <a:pt x="18965" y="10800"/>
                </a:moveTo>
                <a:lnTo>
                  <a:pt x="32978" y="3794"/>
                </a:lnTo>
                <a:lnTo>
                  <a:pt x="32978" y="17806"/>
                </a:lnTo>
                <a:close/>
              </a:path>
            </a:pathLst>
          </a:cu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17"/>
          <p:cNvPicPr/>
          <p:nvPr/>
        </p:nvPicPr>
        <p:blipFill>
          <a:blip r:embed="rId1"/>
          <a:stretch/>
        </p:blipFill>
        <p:spPr>
          <a:xfrm>
            <a:off x="7410600" y="2421000"/>
            <a:ext cx="1733400" cy="2276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4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4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4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4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4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4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4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4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12:10:1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7:03Z</dcterms:modified>
  <cp:revision>5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