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05D-6C31-40D5-BAD1-CBCC9F33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B27-D7C3-4CF1-A380-D4976427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388-F6DB-4E53-881C-151F7114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273-44A4-48E1-BA5B-DEA1AA6C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9D55-501D-4C92-B729-04375695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2CC1-44B4-49F2-AB94-CF33E8AE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4FC1-DDB0-495E-9855-64BCD215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9F17-E9EC-4410-B0F9-14223C22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0109-52C2-4FA3-96AC-02BCCA2D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7F36-6FE8-4122-BC0A-E60E45EA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39D0-771C-4E9F-8ACF-7A179AB1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342-8CA8-4D22-AE18-FE323517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B0E5-C9F1-4563-810A-3904FE55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70A9-7CD7-4450-9C89-BFB4E7DA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DA1D-0126-4B99-A910-7F6C5161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D14E-CB76-495D-80A8-D804CD15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A64E-D4D0-4604-AE9A-7B855721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684-CF95-4B98-B7C1-1A1C7A1B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836-7233-44B5-84F3-5AC7B4C6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74D-2ABB-4276-8B59-2B71C7B1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126-AC0A-44A7-84E8-80C9A792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641-C9B5-46CA-8CF8-4B01FDDF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891-4FFC-42C5-9161-1164A91D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564-4D18-469F-AEEE-13AE6227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6D9B-3FAD-41D2-A12D-01E1CB0BB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E5CA-2484-4098-A2E8-CBA5961EFF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hiyunnan.com/htm/minzu/zang.htm" TargetMode="External"/><Relationship Id="rId2" Type="http://schemas.openxmlformats.org/officeDocument/2006/relationships/hyperlink" Target="http://www.hiyunnan.com/htm/minzu/zang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iyunnan.com/htm/minzu/zang.htm" TargetMode="External"/><Relationship Id="rId2" Type="http://schemas.openxmlformats.org/officeDocument/2006/relationships/hyperlink" Target="http://www.hiyunnan.com/htm/minzu/zang.ht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l2sy.cn/xssq/pic/0409/pic/ligudai.htm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yunnan.com/htm/minzu/zang.htm" TargetMode="External"/><Relationship Id="rId2" Type="http://schemas.openxmlformats.org/officeDocument/2006/relationships/hyperlink" Target="http://www.hiyunnan.com/htm/minzu/zang.htm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7391160" cy="3468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79280" y="129384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 和同为一家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松赞干布"/>
          <p:cNvPicPr/>
          <p:nvPr/>
        </p:nvPicPr>
        <p:blipFill>
          <a:blip r:embed="rId1"/>
          <a:stretch/>
        </p:blipFill>
        <p:spPr>
          <a:xfrm>
            <a:off x="3564000" y="1413000"/>
            <a:ext cx="518472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0" y="198900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吐蕃人是今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族的祖先，有的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为主，也有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为主的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有很大的发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6"/>
          <p:cNvSpPr txBox="1"/>
          <p:nvPr/>
        </p:nvSpPr>
        <p:spPr>
          <a:xfrm>
            <a:off x="0" y="765000"/>
            <a:ext cx="2905200" cy="12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你知道吗？</a:t>
            </a:r>
            <a:endParaRPr b="1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0" name="文本框 8199"/>
          <p:cNvSpPr/>
          <p:nvPr/>
        </p:nvSpPr>
        <p:spPr>
          <a:xfrm>
            <a:off x="1700280" y="5538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文成公主入吐蕃"/>
          <p:cNvPicPr/>
          <p:nvPr/>
        </p:nvPicPr>
        <p:blipFill>
          <a:blip r:embed="rId1"/>
          <a:stretch/>
        </p:blipFill>
        <p:spPr>
          <a:xfrm>
            <a:off x="0" y="2830680"/>
            <a:ext cx="7164360" cy="4027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95280" y="126828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文成公主入吐蕃，密切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____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增进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______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文成公主"/>
          <p:cNvPicPr/>
          <p:nvPr/>
        </p:nvPicPr>
        <p:blipFill>
          <a:blip r:embed="rId2"/>
          <a:srcRect l="1738" t="4734" r="9891" b="8642"/>
          <a:stretch/>
        </p:blipFill>
        <p:spPr>
          <a:xfrm>
            <a:off x="4859280" y="0"/>
            <a:ext cx="4284720" cy="273672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3"/>
          <p:cNvSpPr txBox="1"/>
          <p:nvPr/>
        </p:nvSpPr>
        <p:spPr>
          <a:xfrm>
            <a:off x="0" y="0"/>
            <a:ext cx="29052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我能填：</a:t>
            </a:r>
            <a:endParaRPr b="1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6701040" y="580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布达拉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dazhaosi_01"/>
          <p:cNvPicPr/>
          <p:nvPr/>
        </p:nvPicPr>
        <p:blipFill>
          <a:blip r:embed="rId1"/>
          <a:stretch/>
        </p:blipFill>
        <p:spPr>
          <a:xfrm>
            <a:off x="0" y="585720"/>
            <a:ext cx="4356000" cy="3251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"/>
          <p:cNvSpPr/>
          <p:nvPr/>
        </p:nvSpPr>
        <p:spPr>
          <a:xfrm>
            <a:off x="1110240" y="4221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昭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20060807161735607"/>
          <p:cNvPicPr/>
          <p:nvPr/>
        </p:nvPicPr>
        <p:blipFill>
          <a:blip r:embed="rId2"/>
          <a:stretch/>
        </p:blipFill>
        <p:spPr>
          <a:xfrm>
            <a:off x="4356000" y="2349360"/>
            <a:ext cx="4386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68680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24</a:t>
            </a: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页动脑筋：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如果你随文成公主入藏，你能帮她做些什么有益于吐蕃的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上书"/>
          <p:cNvPicPr/>
          <p:nvPr/>
        </p:nvPicPr>
        <p:blipFill>
          <a:blip r:embed="rId1"/>
          <a:stretch/>
        </p:blipFill>
        <p:spPr>
          <a:xfrm>
            <a:off x="3743280" y="1628640"/>
            <a:ext cx="5400720" cy="4104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0" y="836640"/>
            <a:ext cx="399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思考：为什么吐蕃赞普要自称外甥，说是先皇帝的舅宿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692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仿宋"/>
              </a:rPr>
              <a:t>二、回纥的勃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826920" y="162864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纥是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维吾尔族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祖先，游牧于色楞格河流域，崇尚勇敢，民风淳朴。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中期，回纥建立汗国，唐玄宗封其为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怀仁可汗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后来改名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回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逐渐迁至今甘肃、新疆等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唐朝疆域图三"/>
          <p:cNvPicPr/>
          <p:nvPr/>
        </p:nvPicPr>
        <p:blipFill>
          <a:blip r:embed="rId1"/>
          <a:stretch/>
        </p:blipFill>
        <p:spPr>
          <a:xfrm>
            <a:off x="1258920" y="1341360"/>
            <a:ext cx="5724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0" y="692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仿宋"/>
              </a:rPr>
              <a:t>三、</a:t>
            </a:r>
            <a:r>
              <a:rPr b="1" lang="zh-CN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仿宋"/>
              </a:rPr>
              <a:t>车书本一家</a:t>
            </a:r>
            <a:r>
              <a:rPr b="1" lang="zh-CN" sz="44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826920" y="2349360"/>
            <a:ext cx="7705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粟末靺鞨建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渤海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政权，唐玄宗封其首领为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渤海郡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东海盛国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黑水都护府"/>
          <p:cNvPicPr/>
          <p:nvPr/>
        </p:nvPicPr>
        <p:blipFill>
          <a:blip r:embed="rId1"/>
          <a:stretch/>
        </p:blipFill>
        <p:spPr>
          <a:xfrm>
            <a:off x="900000" y="1052640"/>
            <a:ext cx="3505320" cy="4680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4932360" y="1268280"/>
            <a:ext cx="42116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疆里虽重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车书本一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盛勋归旧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佳句在中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渤海王子归国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温庭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0" y="148428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仿宋"/>
              </a:rPr>
              <a:t>四、苍山洱海间的南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11280" y="2637000"/>
            <a:ext cx="7956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诏统一六诏 （六诏是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彝族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白族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祖先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玄宗封其首领为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云南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682320" y="62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白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1621440" y="5627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彝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解唐与吐蕃等民族交往史实，知道“和同为一家”的含义并能说出自己的体会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认识祖国的历史是各民族共同缔造的，通过对唐代开明政策的了解，树立尊重别人，平等待人，共同进步的意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 rot="5400000">
            <a:off x="-492120" y="1581120"/>
            <a:ext cx="2940120" cy="876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4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巩固和提高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835280" y="765000"/>
          <a:ext cx="7308720" cy="4505400"/>
        </p:xfrm>
        <a:graphic>
          <a:graphicData uri="http://schemas.openxmlformats.org/drawingml/2006/table">
            <a:tbl>
              <a:tblPr/>
              <a:tblGrid>
                <a:gridCol w="1494000"/>
                <a:gridCol w="1334880"/>
                <a:gridCol w="4479840"/>
              </a:tblGrid>
              <a:tr h="10339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民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何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祖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少数民族与唐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关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吐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回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靺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南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71"/>
          <p:cNvSpPr/>
          <p:nvPr/>
        </p:nvSpPr>
        <p:spPr>
          <a:xfrm>
            <a:off x="3389760" y="186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藏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2"/>
          <p:cNvSpPr/>
          <p:nvPr/>
        </p:nvSpPr>
        <p:spPr>
          <a:xfrm>
            <a:off x="3419640" y="2852640"/>
            <a:ext cx="79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维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尔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3"/>
          <p:cNvSpPr/>
          <p:nvPr/>
        </p:nvSpPr>
        <p:spPr>
          <a:xfrm>
            <a:off x="3349080" y="3860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满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4"/>
          <p:cNvSpPr/>
          <p:nvPr/>
        </p:nvSpPr>
        <p:spPr>
          <a:xfrm>
            <a:off x="3203640" y="4437000"/>
            <a:ext cx="89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彝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白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6"/>
          <p:cNvSpPr/>
          <p:nvPr/>
        </p:nvSpPr>
        <p:spPr>
          <a:xfrm>
            <a:off x="4500720" y="1916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和同为一家：松赞干布与文成公主通婚，尺带珠丹与金城公主通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9"/>
          <p:cNvSpPr/>
          <p:nvPr/>
        </p:nvSpPr>
        <p:spPr>
          <a:xfrm>
            <a:off x="4716360" y="263700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唐玄宗封其首领骨力裴罗为怀仁可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1"/>
          <p:cNvSpPr/>
          <p:nvPr/>
        </p:nvSpPr>
        <p:spPr>
          <a:xfrm>
            <a:off x="4643280" y="3573360"/>
            <a:ext cx="360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唐玄宗封其首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祚荣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为渤海郡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3"/>
          <p:cNvSpPr/>
          <p:nvPr/>
        </p:nvSpPr>
        <p:spPr>
          <a:xfrm>
            <a:off x="4643280" y="4437000"/>
            <a:ext cx="3527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唐玄宗封其首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皮罗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为 云南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8199"/>
          <p:cNvSpPr/>
          <p:nvPr/>
        </p:nvSpPr>
        <p:spPr>
          <a:xfrm>
            <a:off x="1957320" y="5686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24000" y="69228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唐朝皇帝赢得各民族的拥戴并被北方各族尊称为“天可汗”的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唐高祖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唐太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武则天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唐玄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2708280"/>
            <a:ext cx="9144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唐朝时，长安、洛阳等大城市出现“回鹘衣装回鹘马”的景象，说明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汉族人被回鹘人同化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汉回两族间经济、文化交流很密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量回鹘人来到中原生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当时汉族人穿少数民族服饰成为一种时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0" y="90756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车书本一家”反映了唐朝与下列哪个政权的关系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突厥政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革未革曷政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回纥政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吐蕃政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下列事件发生在唐太宗时期的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授大祚荣为渤海郡王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把文成公主嫁给松赞干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封骨力裴罗为怀仁可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封皮罗阁为云南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D3DF-04AF-41DC-963F-3774569C36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907560"/>
            <a:ext cx="8686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唐玄宗曾册封过哪些首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颉利可汗、骨力裴罗、大祚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骨力裴罗、大祚荣、皮罗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祚荣、皮罗阁、松赞干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骨力裴罗、皮罗阁、尺带珠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唐玄宗封大祚荣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云南王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渤海郡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怀仁可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颉利可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崇圣寺三塔"/>
          <p:cNvPicPr/>
          <p:nvPr/>
        </p:nvPicPr>
        <p:blipFill>
          <a:blip r:embed="rId1"/>
          <a:stretch/>
        </p:blipFill>
        <p:spPr>
          <a:xfrm>
            <a:off x="0" y="0"/>
            <a:ext cx="2449440" cy="278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步达拉宫"/>
          <p:cNvPicPr/>
          <p:nvPr/>
        </p:nvPicPr>
        <p:blipFill>
          <a:blip r:embed="rId2"/>
          <a:srcRect l="6839" t="4557" r="7448" b="14587"/>
          <a:stretch/>
        </p:blipFill>
        <p:spPr>
          <a:xfrm>
            <a:off x="2411280" y="0"/>
            <a:ext cx="3816360" cy="2781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泼水节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2708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0" y="29973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56</a:t>
            </a:r>
            <a:r>
              <a:rPr b="1" i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个民族</a:t>
            </a:r>
            <a:r>
              <a:rPr b="1" i="1" lang="en-US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,56</a:t>
            </a:r>
            <a:r>
              <a:rPr b="1" i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支花</a:t>
            </a:r>
            <a:r>
              <a:rPr b="1" i="1" lang="en-US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,56</a:t>
            </a:r>
            <a:r>
              <a:rPr b="1" i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个兄弟民族是一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monggu"/>
          <p:cNvPicPr/>
          <p:nvPr/>
        </p:nvPicPr>
        <p:blipFill>
          <a:blip r:embed="rId4"/>
          <a:stretch/>
        </p:blipFill>
        <p:spPr>
          <a:xfrm>
            <a:off x="0" y="3933720"/>
            <a:ext cx="4067280" cy="292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Img213688295"/>
          <p:cNvPicPr/>
          <p:nvPr/>
        </p:nvPicPr>
        <p:blipFill>
          <a:blip r:embed="rId5"/>
          <a:stretch/>
        </p:blipFill>
        <p:spPr>
          <a:xfrm>
            <a:off x="4067280" y="3933720"/>
            <a:ext cx="5076720" cy="2924280"/>
          </a:xfrm>
          <a:prstGeom prst="rect">
            <a:avLst/>
          </a:prstGeom>
          <a:ln w="0">
            <a:noFill/>
          </a:ln>
        </p:spPr>
      </p:pic>
      <p:pic>
        <p:nvPicPr>
          <p:cNvPr id="93" name="爱我中华.MP3" descr=""/>
          <p:cNvPicPr/>
          <p:nvPr/>
        </p:nvPicPr>
        <p:blipFill>
          <a:blip r:embed="rId6"/>
          <a:stretch/>
        </p:blipFill>
        <p:spPr>
          <a:xfrm>
            <a:off x="611280" y="357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988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 rot="20648400">
            <a:off x="539640" y="1125360"/>
            <a:ext cx="263052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你知道吗？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195640" y="20606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历史上中原地区的许多统治者与边疆地区少数民族矛盾重重。但在唐初，却有一位皇帝赢得了各民族的拥戴。各族首领尊他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可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这位皇帝是谁？他为什么能获得各民族的尊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200736153828563"/>
          <p:cNvPicPr/>
          <p:nvPr/>
        </p:nvPicPr>
        <p:blipFill>
          <a:blip r:embed="rId1"/>
          <a:stretch/>
        </p:blipFill>
        <p:spPr>
          <a:xfrm>
            <a:off x="395280" y="333360"/>
            <a:ext cx="8209080" cy="5594400"/>
          </a:xfrm>
          <a:prstGeom prst="rect">
            <a:avLst/>
          </a:prstGeom>
          <a:ln w="0">
            <a:noFill/>
          </a:ln>
        </p:spPr>
      </p:pic>
      <p:sp>
        <p:nvSpPr>
          <p:cNvPr id="97" name="WordArt 6"/>
          <p:cNvSpPr txBox="1"/>
          <p:nvPr/>
        </p:nvSpPr>
        <p:spPr>
          <a:xfrm>
            <a:off x="1258920" y="6093000"/>
            <a:ext cx="64008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唐朝后期疆域和边疆各族的分布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4211640" y="1125360"/>
            <a:ext cx="936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回鹘</a:t>
            </a:r>
            <a:endParaRPr b="0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9" name="WordArt 9"/>
          <p:cNvSpPr txBox="1"/>
          <p:nvPr/>
        </p:nvSpPr>
        <p:spPr>
          <a:xfrm>
            <a:off x="2843280" y="2852640"/>
            <a:ext cx="93672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吐蕃</a:t>
            </a:r>
            <a:endParaRPr b="0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6732720" y="692280"/>
            <a:ext cx="79200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靺鞨</a:t>
            </a:r>
            <a:endParaRPr b="0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1" name="WordArt 11"/>
          <p:cNvSpPr txBox="1"/>
          <p:nvPr/>
        </p:nvSpPr>
        <p:spPr>
          <a:xfrm>
            <a:off x="4356000" y="4797360"/>
            <a:ext cx="79236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南诏</a:t>
            </a:r>
            <a:endParaRPr b="0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050920" y="220500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唐太宗说：“自古皆贵中华，贱夷狄，朕独爱之如一。”他的话是什么意思？体现了什么样的民族政策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唐太宗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781280" cy="3533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111"/>
          <p:cNvPicPr/>
          <p:nvPr/>
        </p:nvPicPr>
        <p:blipFill>
          <a:blip r:embed="rId3"/>
          <a:stretch/>
        </p:blipFill>
        <p:spPr>
          <a:xfrm>
            <a:off x="7236000" y="4365720"/>
            <a:ext cx="169524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1332000" y="2205000"/>
            <a:ext cx="5761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太宗和武则天，在今新疆地区先后设立了管辖西域的最高行政和军事机构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安西都护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北庭都护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11280" y="119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华文细黑"/>
              </a:rPr>
              <a:t>唐朝加强对新疆地区的管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124000" y="3789360"/>
            <a:ext cx="568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唐朝疆域图一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692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仿宋"/>
              </a:rPr>
              <a:t>一、松赞干布和文成公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0" y="170028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吐蕃的兴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0" y="285264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松赞干布统一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青藏高原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都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逻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3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zangzu"/>
          <p:cNvPicPr/>
          <p:nvPr/>
        </p:nvPicPr>
        <p:blipFill>
          <a:blip r:embed="rId3"/>
          <a:stretch/>
        </p:blipFill>
        <p:spPr>
          <a:xfrm>
            <a:off x="6804000" y="765000"/>
            <a:ext cx="1517760" cy="2376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5"/>
          <p:cNvSpPr/>
          <p:nvPr/>
        </p:nvSpPr>
        <p:spPr>
          <a:xfrm>
            <a:off x="0" y="407664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文成公主入藏（唐太宗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0" y="5013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金城公主入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1:51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01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