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8.wmf" ContentType="image/x-wmf"/>
  <Override PartName="/ppt/media/image36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7.png" ContentType="image/png"/>
  <Override PartName="/ppt/media/image4.png" ContentType="image/pn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1.png" ContentType="image/png"/>
  <Override PartName="/ppt/media/image33.png" ContentType="image/png"/>
  <Override PartName="/ppt/media/image40.png" ContentType="image/png"/>
  <Override PartName="/ppt/media/image11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gif" ContentType="image/gif"/>
  <Override PartName="/ppt/media/image51.png" ContentType="image/png"/>
  <Override PartName="/ppt/media/image50.jpeg" ContentType="image/jpeg"/>
  <Override PartName="/ppt/media/image10.gif" ContentType="image/gif"/>
  <Override PartName="/ppt/media/image9.jpeg" ContentType="image/jpeg"/>
  <Override PartName="/ppt/media/image48.png" ContentType="image/png"/>
  <Override PartName="/ppt/media/image32.jpeg" ContentType="image/jpeg"/>
  <Override PartName="/ppt/media/image5.jpeg" ContentType="image/jpeg"/>
  <Override PartName="/ppt/media/image38.jpeg" ContentType="image/jpeg"/>
  <Override PartName="/ppt/media/image49.jpeg" ContentType="image/jpeg"/>
  <Override PartName="/ppt/media/image12.png" ContentType="image/png"/>
  <Override PartName="/ppt/media/image20.jpeg" ContentType="image/jpeg"/>
  <Override PartName="/ppt/media/image44.gif" ContentType="image/gif"/>
  <Override PartName="/ppt/media/image34.jpeg" ContentType="image/jpeg"/>
  <Override PartName="/ppt/media/image7.png" ContentType="image/png"/>
  <Override PartName="/ppt/media/image47.png" ContentType="image/png"/>
  <Override PartName="/ppt/media/image1.jpeg" ContentType="image/jpeg"/>
  <Override PartName="/ppt/media/image35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822-E8B3-4C66-84E7-A0E7E338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FC4-DF5F-49C2-B322-5C5AAD56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97E-FBAB-4C55-94A3-B5B3069C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8E5-0A9B-4D7C-B3BC-82468B01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A63E-FA3C-492C-B51E-D8D8765A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54CD-82D1-4CC3-BBB2-70EB5AC5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9E32-DEDA-4B14-96F1-27756F06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202D-AF22-457B-A921-8FBB85B5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DC85-CFB5-4EE1-891A-8CD49C8F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180B-4A72-4CBE-B09A-FB5BCC30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0417-DF47-4318-AEF0-1D57E3BB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984-8BAB-453A-9BB5-F9445D0F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567A-91EE-48D6-BCA6-8B37AEB1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571B-615C-4B0A-AB17-71EDA69D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0F21-6EE9-4600-B706-4223DCBE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9F5E-5D7A-4B0D-9E44-E7057E3D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FD19-E6FC-4B91-A92E-71D08011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D690-D3D6-4758-AF6B-D1ED3F92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012B-D97F-4D2E-AF25-9998CC1D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9EF8-9185-4F92-9893-A2D06327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427E-47BE-4A62-92D7-F8411441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C84D-0C90-45B1-83DC-315537CA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FB2-ECA0-4A7B-8752-D5641DCA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77895-1424-418A-A54C-C603EE41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2195E-C5D2-46D7-9FD5-554D322F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E01A-FCC4-4B3C-BD09-80CE6836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6F4D4-1BEA-40E3-B6EB-EFCDE507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A43D-3712-41FE-B88E-99B86934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21B9-D5FD-4C24-908D-FC3E7FEF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B1B9-AF77-4020-B69E-03B28C76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29DA2-BC43-42F6-B247-C5DE0057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03A9-B42D-47F5-BA5D-CBAF2982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BF08-454F-4662-A4ED-35B5967A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E01-6643-4E5A-81DE-723F4D1B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A569A-AB55-47F9-AA61-E250EA37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5CAA4-3A17-4DEE-96BE-81B70A52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1D716-0D67-4EC1-A43C-5615770A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76A9-FA38-4587-9A46-74D731C9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82A1F-F65E-45D4-B299-17FC6419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4A814-6271-4CCB-B152-512B8501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17870-D6EA-41C2-9E0E-BD22070B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D650B-336E-4C7D-B682-C0D0C174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4272D-11E1-4435-B41E-28186368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6C36D-6EF7-401D-AFE3-08051ED5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5C7-4EBF-4BCC-95D5-47F00EA3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08839-2DC4-4AB4-A630-62DA35FE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D7927-9968-4473-8C21-3E8EFA12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169A9-7F6F-48A0-A1BB-15AA463D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7026-DB04-4022-80AD-7828A55F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429C0-1156-4B49-89B1-69949A4F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DC2A1-47CA-4DD4-B864-4AA9989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635B-2B25-4454-B5BE-1EEC87B6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3662E-50FE-4BC1-9623-70E7ED1C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D4870-DBEA-4340-902E-10FD54A3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23018-1FA8-4349-B8DB-3DC2C010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CF8-8289-4EF4-9EE2-F9D12BB5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89373-2D3D-4166-B888-603B0E1F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44F-7FE2-4613-9478-6535D006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6AA-2A77-4843-8D72-E55334F5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DB3-8E90-4E52-99E9-452AD763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e2c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D4E9-970E-4BAA-B8F8-D63B8F7EE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1B71-154D-43A4-9991-F338D12254A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F885-06E1-4C6C-AED8-7019330F1E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71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72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79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80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81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82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83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384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85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86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87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88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90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91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92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93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94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95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96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97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98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399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00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01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02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03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04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05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06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07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08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09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10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11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12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13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14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15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16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17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18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19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20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21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22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23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24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25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26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27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28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29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30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31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32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33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34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35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36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37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38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39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40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41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42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43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44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45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46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47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48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49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50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51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52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53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54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55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56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57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58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59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60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61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62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63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64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65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66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67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68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69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70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71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72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73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74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75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76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77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78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79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80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81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82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83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84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85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87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88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89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90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91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92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93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94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95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96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97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98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499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00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01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02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03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04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05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06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07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08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09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10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11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12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13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14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15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16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17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18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19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20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21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22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23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24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25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26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27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28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29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530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31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32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33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34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35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36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37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38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39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40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41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42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543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C286-BE34-4070-BF0F-A328A77AC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00BF-9568-4E33-B1CC-B6517C36029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1" descr="53516837321999321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矩形 1" descr=""/>
          <p:cNvPicPr/>
          <p:nvPr/>
        </p:nvPicPr>
        <p:blipFill>
          <a:blip r:embed="rId2"/>
          <a:stretch/>
        </p:blipFill>
        <p:spPr>
          <a:xfrm>
            <a:off x="266760" y="1989000"/>
            <a:ext cx="8772480" cy="700200"/>
          </a:xfrm>
          <a:prstGeom prst="rect">
            <a:avLst/>
          </a:prstGeom>
          <a:ln w="0">
            <a:noFill/>
          </a:ln>
        </p:spPr>
      </p:pic>
      <p:sp>
        <p:nvSpPr>
          <p:cNvPr id="628" name="矩形 2"/>
          <p:cNvSpPr/>
          <p:nvPr/>
        </p:nvSpPr>
        <p:spPr>
          <a:xfrm>
            <a:off x="3554280" y="90648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章 人体的呼吸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6"/>
          <p:cNvSpPr/>
          <p:nvPr/>
        </p:nvSpPr>
        <p:spPr>
          <a:xfrm>
            <a:off x="0" y="12096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呼吸道除了保证气流的通畅外，还有哪些作用？这些作用是如何实现的？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06" name="Text Box 7"/>
          <p:cNvSpPr/>
          <p:nvPr/>
        </p:nvSpPr>
        <p:spPr>
          <a:xfrm>
            <a:off x="0" y="566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e2c5"/>
                </a:solidFill>
                <a:latin typeface="Times New Roman"/>
                <a:ea typeface="隶书"/>
              </a:rPr>
              <a:t>呼吸道的作用</a:t>
            </a:r>
            <a:endParaRPr b="1" lang="en-US" sz="40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0" y="-100080"/>
            <a:ext cx="752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i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合作探究、解决问题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09" name="Picture 2" descr="纤毛的作用"/>
          <p:cNvPicPr/>
          <p:nvPr/>
        </p:nvPicPr>
        <p:blipFill>
          <a:blip r:embed="rId1"/>
          <a:stretch/>
        </p:blipFill>
        <p:spPr>
          <a:xfrm>
            <a:off x="0" y="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710" name="TextBox 6"/>
          <p:cNvSpPr/>
          <p:nvPr/>
        </p:nvSpPr>
        <p:spPr>
          <a:xfrm>
            <a:off x="0" y="45813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鼻毛和鼻腔内的黏液能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阻挡和粘住吸入的灰尘和细菌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鼻腔内的黏液还能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杀灭一些细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能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湿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的空气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4"/>
          <p:cNvSpPr/>
          <p:nvPr/>
        </p:nvSpPr>
        <p:spPr>
          <a:xfrm>
            <a:off x="990720" y="19810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143000" y="17524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04920" y="1066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2)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呼吸道除了保证气流的通畅外，还有哪些作用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这些作用是如何实现的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152280" y="2438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呼吸道还能对吸入的气体进行处理，使到达肺部的气体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温暖、湿润、清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。鼻腔能预热冷空气，鼻毛和黏液能阻挡和粘住吸入的灰尘和细菌，黏液还能杀灭一些细菌并能湿润吸入的空气。气管的内壁上也有大量的纤毛和腺细胞分泌的黏液，黏液能使吸入的空气变得湿润，黏液中还含有能够抵抗细菌和病毒的物质，另外，黏液还能黏附吸入的空气中的灰尘、细菌等，通过纤毛的摆动将其排出体外。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250920" y="18900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呼吸道的作用</a:t>
            </a:r>
            <a:endParaRPr b="1" lang="en-US" sz="40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562974350dcf4eb5a61e12e8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3"/>
          <p:cNvSpPr/>
          <p:nvPr/>
        </p:nvSpPr>
        <p:spPr>
          <a:xfrm>
            <a:off x="2209680" y="609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</a:t>
            </a:r>
            <a:endParaRPr b="1" lang="en-US" sz="4000" spc="-1" strike="noStrike">
              <a:solidFill>
                <a:srgbClr val="ffe2c5"/>
              </a:solidFill>
              <a:latin typeface="Times New Roman"/>
            </a:endParaRPr>
          </a:p>
        </p:txBody>
      </p:sp>
      <p:grpSp>
        <p:nvGrpSpPr>
          <p:cNvPr id="718" name="Group 4"/>
          <p:cNvGrpSpPr/>
          <p:nvPr/>
        </p:nvGrpSpPr>
        <p:grpSpPr>
          <a:xfrm>
            <a:off x="900000" y="1413000"/>
            <a:ext cx="7779960" cy="3600360"/>
            <a:chOff x="900000" y="1413000"/>
            <a:chExt cx="7779960" cy="3600360"/>
          </a:xfrm>
        </p:grpSpPr>
        <p:pic>
          <p:nvPicPr>
            <p:cNvPr id="719" name="Picture 5" descr=""/>
            <p:cNvPicPr/>
            <p:nvPr/>
          </p:nvPicPr>
          <p:blipFill>
            <a:blip r:embed="rId2"/>
            <a:stretch/>
          </p:blipFill>
          <p:spPr>
            <a:xfrm>
              <a:off x="6184440" y="1413000"/>
              <a:ext cx="249552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6"/>
            <p:cNvSpPr/>
            <p:nvPr/>
          </p:nvSpPr>
          <p:spPr>
            <a:xfrm>
              <a:off x="900000" y="2516040"/>
              <a:ext cx="5076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sp>
        <p:nvSpPr>
          <p:cNvPr id="721" name="Rectangle 7"/>
          <p:cNvSpPr/>
          <p:nvPr/>
        </p:nvSpPr>
        <p:spPr>
          <a:xfrm>
            <a:off x="395280" y="23493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了呼吸道对空气的处理，人体就能完全避免空气中有害物质的危害吗？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0" y="112536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e2c5"/>
                </a:solidFill>
                <a:latin typeface="Times New Roman"/>
                <a:ea typeface="隶书"/>
              </a:rPr>
              <a:t>呼吸道的作用</a:t>
            </a:r>
            <a:endParaRPr b="1" lang="en-US" sz="40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0" y="189000"/>
            <a:ext cx="752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合作探究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沙尘暴1"/>
          <p:cNvPicPr/>
          <p:nvPr/>
        </p:nvPicPr>
        <p:blipFill>
          <a:blip r:embed="rId1"/>
          <a:stretch/>
        </p:blipFill>
        <p:spPr>
          <a:xfrm>
            <a:off x="539640" y="126828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187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隶书"/>
              </a:rPr>
              <a:t>沙尘暴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395280" y="5013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当发生沙尘暴时，人们往往要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戴口罩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以减少尘埃的吸入。在一些存在剧毒气体的环境中，人们甚至要佩带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防毒面具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pic>
        <p:nvPicPr>
          <p:cNvPr id="727" name="Picture 5" descr="fangdu"/>
          <p:cNvPicPr/>
          <p:nvPr/>
        </p:nvPicPr>
        <p:blipFill>
          <a:blip r:embed="rId2"/>
          <a:stretch/>
        </p:blipFill>
        <p:spPr>
          <a:xfrm>
            <a:off x="5580000" y="981000"/>
            <a:ext cx="3232080" cy="4032360"/>
          </a:xfrm>
          <a:prstGeom prst="rect">
            <a:avLst/>
          </a:prstGeom>
          <a:ln w="0">
            <a:noFill/>
          </a:ln>
        </p:spPr>
      </p:pic>
      <p:sp>
        <p:nvSpPr>
          <p:cNvPr id="728" name="文本框 8196"/>
          <p:cNvSpPr/>
          <p:nvPr/>
        </p:nvSpPr>
        <p:spPr>
          <a:xfrm>
            <a:off x="2027160" y="4874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ffe2c5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e2c5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fdbfaeef14ddb42afcfa3c1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" descr="“开胸验肺”农民工张海超被确诊患尘肺病"/>
          <p:cNvPicPr/>
          <p:nvPr/>
        </p:nvPicPr>
        <p:blipFill>
          <a:blip r:embed="rId2"/>
          <a:stretch/>
        </p:blipFill>
        <p:spPr>
          <a:xfrm>
            <a:off x="4788000" y="3141720"/>
            <a:ext cx="4356000" cy="3311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026" descr="book1200"/>
          <p:cNvPicPr/>
          <p:nvPr/>
        </p:nvPicPr>
        <p:blipFill>
          <a:blip r:embed="rId3"/>
          <a:stretch/>
        </p:blipFill>
        <p:spPr>
          <a:xfrm>
            <a:off x="0" y="333360"/>
            <a:ext cx="3851280" cy="568800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492000" y="4581000"/>
            <a:ext cx="68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哮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33" name="Picture 1031" descr="家属探病防护严密"/>
          <p:cNvPicPr/>
          <p:nvPr/>
        </p:nvPicPr>
        <p:blipFill>
          <a:blip r:embed="rId4"/>
          <a:stretch/>
        </p:blipFill>
        <p:spPr>
          <a:xfrm>
            <a:off x="4788000" y="-100080"/>
            <a:ext cx="4356000" cy="3256200"/>
          </a:xfrm>
          <a:prstGeom prst="rect">
            <a:avLst/>
          </a:prstGeom>
          <a:ln w="0">
            <a:noFill/>
          </a:ln>
        </p:spPr>
      </p:pic>
      <p:sp>
        <p:nvSpPr>
          <p:cNvPr id="734" name="Rectangle 1027"/>
          <p:cNvSpPr/>
          <p:nvPr/>
        </p:nvSpPr>
        <p:spPr>
          <a:xfrm>
            <a:off x="8458200" y="2060640"/>
            <a:ext cx="68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肺炎</a:t>
            </a:r>
            <a:endParaRPr b="1" lang="en-US" sz="4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35" name="Rectangle 1027"/>
          <p:cNvSpPr/>
          <p:nvPr/>
        </p:nvSpPr>
        <p:spPr>
          <a:xfrm>
            <a:off x="8317080" y="5715000"/>
            <a:ext cx="68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尘肺</a:t>
            </a:r>
            <a:endParaRPr b="1" lang="en-US" sz="4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-385920" y="1892160"/>
            <a:ext cx="85726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37" name="Rectangle 10"/>
          <p:cNvSpPr/>
          <p:nvPr/>
        </p:nvSpPr>
        <p:spPr>
          <a:xfrm>
            <a:off x="-385920" y="1892160"/>
            <a:ext cx="5759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88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2" descr="3b07c380d19626eb9023d90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40" name="Group 4"/>
          <p:cNvGrpSpPr/>
          <p:nvPr/>
        </p:nvGrpSpPr>
        <p:grpSpPr>
          <a:xfrm>
            <a:off x="900000" y="990720"/>
            <a:ext cx="3541680" cy="4338000"/>
            <a:chOff x="900000" y="990720"/>
            <a:chExt cx="3541680" cy="4338000"/>
          </a:xfrm>
        </p:grpSpPr>
        <p:pic>
          <p:nvPicPr>
            <p:cNvPr id="741" name="Picture 5" descr="健康者的肺"/>
            <p:cNvPicPr/>
            <p:nvPr/>
          </p:nvPicPr>
          <p:blipFill>
            <a:blip r:embed="rId2"/>
            <a:stretch/>
          </p:blipFill>
          <p:spPr>
            <a:xfrm>
              <a:off x="900000" y="990720"/>
              <a:ext cx="35416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 Box 6"/>
            <p:cNvSpPr/>
            <p:nvPr/>
          </p:nvSpPr>
          <p:spPr>
            <a:xfrm>
              <a:off x="1835280" y="4869000"/>
              <a:ext cx="1752480" cy="459720"/>
            </a:xfrm>
            <a:prstGeom prst="rect">
              <a:avLst/>
            </a:prstGeom>
            <a:noFill/>
            <a:ln cap="sq"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99"/>
                  </a:solidFill>
                  <a:latin typeface="Times New Roman"/>
                  <a:ea typeface="宋体"/>
                </a:rPr>
                <a:t>健康者的肺</a:t>
              </a: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743" name="Group 7"/>
          <p:cNvGrpSpPr/>
          <p:nvPr/>
        </p:nvGrpSpPr>
        <p:grpSpPr>
          <a:xfrm>
            <a:off x="5005440" y="990720"/>
            <a:ext cx="3357360" cy="4363200"/>
            <a:chOff x="5005440" y="990720"/>
            <a:chExt cx="3357360" cy="4363200"/>
          </a:xfrm>
        </p:grpSpPr>
        <p:pic>
          <p:nvPicPr>
            <p:cNvPr id="744" name="Picture 8" descr="吸烟者的肺"/>
            <p:cNvPicPr/>
            <p:nvPr/>
          </p:nvPicPr>
          <p:blipFill>
            <a:blip r:embed="rId3"/>
            <a:stretch/>
          </p:blipFill>
          <p:spPr>
            <a:xfrm>
              <a:off x="5005440" y="990720"/>
              <a:ext cx="33573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 Box 9"/>
            <p:cNvSpPr/>
            <p:nvPr/>
          </p:nvSpPr>
          <p:spPr>
            <a:xfrm>
              <a:off x="5867280" y="4894200"/>
              <a:ext cx="1752840" cy="459720"/>
            </a:xfrm>
            <a:prstGeom prst="rect">
              <a:avLst/>
            </a:prstGeom>
            <a:noFill/>
            <a:ln cap="sq" w="223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99"/>
                  </a:solidFill>
                  <a:latin typeface="Times New Roman"/>
                  <a:ea typeface="宋体"/>
                </a:rPr>
                <a:t>吸烟者的肺</a:t>
              </a: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sp>
        <p:nvSpPr>
          <p:cNvPr id="746" name="WordArt 10"/>
          <p:cNvSpPr txBox="1"/>
          <p:nvPr/>
        </p:nvSpPr>
        <p:spPr>
          <a:xfrm>
            <a:off x="755640" y="5661000"/>
            <a:ext cx="7620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中宋"/>
              </a:rPr>
              <a:t>可见：呼吸道对空气的处理能力是有限的</a:t>
            </a:r>
            <a:endParaRPr b="1" lang="en-US" sz="2400" spc="1" strike="noStrike">
              <a:ln cap="sq"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562974350dcf4eb5a61e12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" descr="http://pic.52photoshop.cn/FN196.JPG"/>
          <p:cNvPicPr/>
          <p:nvPr/>
        </p:nvPicPr>
        <p:blipFill>
          <a:blip r:embed="rId2"/>
          <a:stretch/>
        </p:blipFill>
        <p:spPr>
          <a:xfrm>
            <a:off x="457200" y="4800600"/>
            <a:ext cx="8153280" cy="13525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" descr="http://www.downsc.com/vector_pic/shiliang_iecool/1/2/s_img/182.jpg"/>
          <p:cNvPicPr/>
          <p:nvPr/>
        </p:nvPicPr>
        <p:blipFill>
          <a:blip r:embed="rId3"/>
          <a:stretch/>
        </p:blipFill>
        <p:spPr>
          <a:xfrm>
            <a:off x="304920" y="2209680"/>
            <a:ext cx="1523880" cy="2563920"/>
          </a:xfrm>
          <a:prstGeom prst="rect">
            <a:avLst/>
          </a:prstGeom>
          <a:ln w="0">
            <a:noFill/>
          </a:ln>
        </p:spPr>
      </p:pic>
      <p:sp>
        <p:nvSpPr>
          <p:cNvPr id="750" name="云形标注 2"/>
          <p:cNvSpPr/>
          <p:nvPr/>
        </p:nvSpPr>
        <p:spPr>
          <a:xfrm>
            <a:off x="1752480" y="380880"/>
            <a:ext cx="7086600" cy="3124440"/>
          </a:xfrm>
          <a:prstGeom prst="cloudCallout">
            <a:avLst>
              <a:gd name="adj1" fmla="val -50648"/>
              <a:gd name="adj2" fmla="val 35652"/>
            </a:avLst>
          </a:prstGeom>
          <a:solidFill>
            <a:srgbClr val="66ffcc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imes New Roman"/>
                <a:ea typeface="楷体_GB2312"/>
              </a:rPr>
              <a:t>呼吸道对空气的处理能力是有限的，因此，保持环境中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空气新鲜、清洁</a:t>
            </a:r>
            <a:r>
              <a:rPr b="1" lang="zh-CN" sz="3200" spc="-1" strike="noStrike">
                <a:solidFill>
                  <a:srgbClr val="7030a0"/>
                </a:solidFill>
                <a:latin typeface="Times New Roman"/>
                <a:ea typeface="楷体_GB2312"/>
              </a:rPr>
              <a:t>是非常重要的。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pic>
        <p:nvPicPr>
          <p:cNvPr id="751" name="矩形 3" descr=""/>
          <p:cNvPicPr/>
          <p:nvPr/>
        </p:nvPicPr>
        <p:blipFill>
          <a:blip r:embed="rId4"/>
          <a:stretch/>
        </p:blipFill>
        <p:spPr>
          <a:xfrm>
            <a:off x="1211400" y="4954680"/>
            <a:ext cx="6750000" cy="1119240"/>
          </a:xfrm>
          <a:prstGeom prst="rect">
            <a:avLst/>
          </a:prstGeom>
          <a:ln w="0">
            <a:noFill/>
          </a:ln>
        </p:spPr>
      </p:pic>
      <p:sp>
        <p:nvSpPr>
          <p:cNvPr id="752" name="AutoShape 7"/>
          <p:cNvSpPr/>
          <p:nvPr/>
        </p:nvSpPr>
        <p:spPr>
          <a:xfrm>
            <a:off x="7812000" y="6381720"/>
            <a:ext cx="505080" cy="287280"/>
          </a:xfrm>
          <a:prstGeom prst="leftArrow">
            <a:avLst>
              <a:gd name="adj1" fmla="val 50000"/>
              <a:gd name="adj2" fmla="val 43929"/>
            </a:avLst>
          </a:pr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11" descr="562974350dcf4eb5a61e12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8"/>
          <p:cNvSpPr/>
          <p:nvPr/>
        </p:nvSpPr>
        <p:spPr>
          <a:xfrm>
            <a:off x="0" y="120960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0" y="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e2c5"/>
                </a:solidFill>
                <a:latin typeface="Times New Roman"/>
                <a:ea typeface="隶书"/>
              </a:rPr>
              <a:t>呼吸道的作用</a:t>
            </a:r>
            <a:endParaRPr b="1" lang="en-US" sz="4000" spc="-1" strike="noStrike">
              <a:solidFill>
                <a:srgbClr val="ffe2c5"/>
              </a:solidFill>
              <a:latin typeface="Times New Roman"/>
            </a:endParaRPr>
          </a:p>
        </p:txBody>
      </p:sp>
      <p:pic>
        <p:nvPicPr>
          <p:cNvPr id="756" name="Picture 7" descr="4"/>
          <p:cNvPicPr/>
          <p:nvPr/>
        </p:nvPicPr>
        <p:blipFill>
          <a:blip r:embed="rId2"/>
          <a:stretch/>
        </p:blipFill>
        <p:spPr>
          <a:xfrm>
            <a:off x="684360" y="1700280"/>
            <a:ext cx="2876400" cy="324000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8"/>
          <p:cNvSpPr/>
          <p:nvPr/>
        </p:nvSpPr>
        <p:spPr>
          <a:xfrm>
            <a:off x="4643280" y="1700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纤毛向咽喉方向不停地摆动，把外来的尘粒、细菌等和黏液一起送到咽部，通过咳嗽排出体外，这就是痰。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58" name="Text Box 10"/>
          <p:cNvSpPr/>
          <p:nvPr/>
        </p:nvSpPr>
        <p:spPr>
          <a:xfrm>
            <a:off x="1403280" y="5013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气管壁纵切</a:t>
            </a: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59" name="Rectangle 13"/>
          <p:cNvSpPr/>
          <p:nvPr/>
        </p:nvSpPr>
        <p:spPr>
          <a:xfrm>
            <a:off x="0" y="765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4)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痰是怎样产生的，为什么 不要随地吐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  <p:pic>
        <p:nvPicPr>
          <p:cNvPr id="760" name="Picture 4" descr="纤毛免疫"/>
          <p:cNvPicPr/>
          <p:nvPr/>
        </p:nvPicPr>
        <p:blipFill>
          <a:blip r:embed="rId3"/>
          <a:stretch/>
        </p:blipFill>
        <p:spPr>
          <a:xfrm>
            <a:off x="250920" y="1557360"/>
            <a:ext cx="381636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1"/>
          <p:cNvSpPr/>
          <p:nvPr/>
        </p:nvSpPr>
        <p:spPr>
          <a:xfrm>
            <a:off x="609480" y="380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为什么不要随地吐痰？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pic>
        <p:nvPicPr>
          <p:cNvPr id="762" name="Picture 4" descr="http://2003.dl.gov.cn/fd/images/1.jpg"/>
          <p:cNvPicPr/>
          <p:nvPr/>
        </p:nvPicPr>
        <p:blipFill>
          <a:blip r:embed="rId1"/>
          <a:stretch/>
        </p:blipFill>
        <p:spPr>
          <a:xfrm>
            <a:off x="228600" y="1981080"/>
            <a:ext cx="4354560" cy="33530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http://www.bjkp.gov.cn/bjkpzc/tszr/zwdg/yjtzg/images/2008/12/24/C041680A42E742DD883B88799C02B547.jpg"/>
          <p:cNvPicPr/>
          <p:nvPr/>
        </p:nvPicPr>
        <p:blipFill>
          <a:blip r:embed="rId2"/>
          <a:stretch/>
        </p:blipFill>
        <p:spPr>
          <a:xfrm>
            <a:off x="3733920" y="16002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6"/>
          <p:cNvSpPr/>
          <p:nvPr/>
        </p:nvSpPr>
        <p:spPr>
          <a:xfrm>
            <a:off x="0" y="54849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痰中含有大量的病菌等病原体，呼吸系统的传染病，如流行性感冒、肺结核、肺炎、麻疹、百日咳等的病原体，都可以通过痰液进行传播。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df9e3fd1e14493049a502744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766" name="WordArt 3"/>
          <p:cNvSpPr txBox="1"/>
          <p:nvPr/>
        </p:nvSpPr>
        <p:spPr>
          <a:xfrm>
            <a:off x="1187280" y="907920"/>
            <a:ext cx="5977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3300"/>
                </a:solidFill>
                <a:latin typeface="楷体_GB2312"/>
              </a:rPr>
              <a:t>为了你、我的健康 </a:t>
            </a:r>
            <a:endParaRPr b="1" lang="en-US" sz="2400" spc="-1" strike="noStrike">
              <a:ln w="0">
                <a:noFill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sp>
        <p:nvSpPr>
          <p:cNvPr id="767" name="WordArt 4"/>
          <p:cNvSpPr txBox="1"/>
          <p:nvPr/>
        </p:nvSpPr>
        <p:spPr>
          <a:xfrm>
            <a:off x="1187280" y="3213000"/>
            <a:ext cx="698508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请养成良好的卫生习惯</a:t>
            </a:r>
            <a:endParaRPr b="1" lang="en-US" sz="48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6" descr="24c61147f7a8880586947346"/>
          <p:cNvPicPr/>
          <p:nvPr/>
        </p:nvPicPr>
        <p:blipFill>
          <a:blip r:embed="rId1"/>
          <a:stretch/>
        </p:blipFill>
        <p:spPr>
          <a:xfrm>
            <a:off x="-181080" y="-674640"/>
            <a:ext cx="9506160" cy="867564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方正舒体"/>
              </a:rPr>
              <a:t>教学目标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78920" y="2205000"/>
            <a:ext cx="8713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描述人体呼吸系统的组成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7a77"/>
              </a:buClr>
              <a:buSzPct val="85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了解呼吸道的作用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;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7a77"/>
              </a:buClr>
              <a:buSzPct val="85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认识到呼吸道对空气的处理能力是有限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900000" y="1844640"/>
            <a:ext cx="3227400" cy="3456000"/>
            <a:chOff x="900000" y="1844640"/>
            <a:chExt cx="3227400" cy="3456000"/>
          </a:xfrm>
        </p:grpSpPr>
        <p:pic>
          <p:nvPicPr>
            <p:cNvPr id="769" name="Picture 3" descr="xin_0910021410443593083713"/>
            <p:cNvPicPr/>
            <p:nvPr/>
          </p:nvPicPr>
          <p:blipFill>
            <a:blip r:embed="rId1"/>
            <a:stretch/>
          </p:blipFill>
          <p:spPr>
            <a:xfrm>
              <a:off x="1476360" y="1844640"/>
              <a:ext cx="265104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Text Box 4"/>
            <p:cNvSpPr/>
            <p:nvPr/>
          </p:nvSpPr>
          <p:spPr>
            <a:xfrm>
              <a:off x="900000" y="2779920"/>
              <a:ext cx="360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隶书"/>
                </a:rPr>
                <a:t>北欧人</a:t>
              </a:r>
              <a:endParaRPr b="1" lang="en-US" sz="28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771" name="Group 5"/>
          <p:cNvGrpSpPr/>
          <p:nvPr/>
        </p:nvGrpSpPr>
        <p:grpSpPr>
          <a:xfrm>
            <a:off x="4500720" y="1844640"/>
            <a:ext cx="3384360" cy="3052080"/>
            <a:chOff x="4500720" y="1844640"/>
            <a:chExt cx="3384360" cy="3052080"/>
          </a:xfrm>
        </p:grpSpPr>
        <p:pic>
          <p:nvPicPr>
            <p:cNvPr id="772" name="Picture 6" descr="U397P1T1D8384020F21DT20051123220400"/>
            <p:cNvPicPr/>
            <p:nvPr/>
          </p:nvPicPr>
          <p:blipFill>
            <a:blip r:embed="rId2"/>
            <a:stretch/>
          </p:blipFill>
          <p:spPr>
            <a:xfrm>
              <a:off x="4500720" y="1844640"/>
              <a:ext cx="3384360" cy="25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Text Box 7"/>
            <p:cNvSpPr/>
            <p:nvPr/>
          </p:nvSpPr>
          <p:spPr>
            <a:xfrm>
              <a:off x="5867280" y="44370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Arial"/>
                  <a:ea typeface="隶书"/>
                </a:rPr>
                <a:t>非洲人</a:t>
              </a: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5).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北欧的人和在赤道附近的人相比，鼻子的形状可能有什么特点？为什么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324000" y="5445000"/>
            <a:ext cx="828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北欧人鼻子较大，鼻腔较长，有利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预热寒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空气。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76" name="Text Box 17"/>
          <p:cNvSpPr/>
          <p:nvPr/>
        </p:nvSpPr>
        <p:spPr>
          <a:xfrm>
            <a:off x="0" y="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e2c5"/>
                </a:solidFill>
                <a:latin typeface="Times New Roman"/>
                <a:ea typeface="隶书"/>
              </a:rPr>
              <a:t>呼吸道的作用</a:t>
            </a:r>
            <a:endParaRPr b="1" lang="en-US" sz="40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8" descr="3b07c380d19626eb9023d90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3"/>
          <p:cNvSpPr/>
          <p:nvPr/>
        </p:nvSpPr>
        <p:spPr>
          <a:xfrm>
            <a:off x="468360" y="2637000"/>
            <a:ext cx="86756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证呼吸道内的气体通畅；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呼吸道使到达肺部的气体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温暖、湿润、清洁。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0" y="782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e2c5"/>
                </a:solidFill>
                <a:latin typeface="Times New Roman"/>
                <a:ea typeface="隶书"/>
              </a:rPr>
              <a:t>呼吸道的作用</a:t>
            </a:r>
            <a:endParaRPr b="1" lang="en-US" sz="40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0" y="0"/>
            <a:ext cx="752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合作探究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-18108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华文行楷"/>
              </a:rPr>
              <a:t>小组讨论总结呼吸道的作用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971640" y="3213000"/>
            <a:ext cx="77724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为什么用鼻呼吸比用嘴呼吸好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3" name="Picture 2" descr="http://www.downsc.com/vector_pic/shiliang_iecool/1/2/s_img/561.jpg"/>
          <p:cNvPicPr/>
          <p:nvPr/>
        </p:nvPicPr>
        <p:blipFill>
          <a:blip r:embed="rId1"/>
          <a:stretch/>
        </p:blipFill>
        <p:spPr>
          <a:xfrm>
            <a:off x="684360" y="907920"/>
            <a:ext cx="1904760" cy="1890720"/>
          </a:xfrm>
          <a:prstGeom prst="rect">
            <a:avLst/>
          </a:prstGeom>
          <a:ln w="0">
            <a:noFill/>
          </a:ln>
        </p:spPr>
      </p:pic>
      <p:sp>
        <p:nvSpPr>
          <p:cNvPr id="784" name="Rectangle 5"/>
          <p:cNvSpPr/>
          <p:nvPr/>
        </p:nvSpPr>
        <p:spPr>
          <a:xfrm>
            <a:off x="684360" y="42915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用鼻呼吸，可以减少不清洁空气对呼吸道和肺的刺激，有利于人体健康。 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0" y="18900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联系实际、拓展延伸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Box 2"/>
          <p:cNvSpPr/>
          <p:nvPr/>
        </p:nvSpPr>
        <p:spPr>
          <a:xfrm>
            <a:off x="533520" y="528624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有没有吃饭或喝水时被呛到的经历？为什么吃饭时大声说笑容易呛着？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2700360" y="1954080"/>
            <a:ext cx="3800520" cy="3419640"/>
          </a:xfrm>
          <a:prstGeom prst="rect">
            <a:avLst/>
          </a:prstGeom>
          <a:ln w="0">
            <a:noFill/>
          </a:ln>
        </p:spPr>
      </p:pic>
      <p:sp>
        <p:nvSpPr>
          <p:cNvPr id="788" name="云形标注 4"/>
          <p:cNvSpPr/>
          <p:nvPr/>
        </p:nvSpPr>
        <p:spPr>
          <a:xfrm>
            <a:off x="324000" y="1417680"/>
            <a:ext cx="2743200" cy="1219320"/>
          </a:xfrm>
          <a:prstGeom prst="cloudCallout">
            <a:avLst>
              <a:gd name="adj1" fmla="val 61000"/>
              <a:gd name="adj2" fmla="val 91805"/>
            </a:avLst>
          </a:prstGeom>
          <a:solidFill>
            <a:srgbClr val="a6f4f8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……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89" name="云形标注 5"/>
          <p:cNvSpPr/>
          <p:nvPr/>
        </p:nvSpPr>
        <p:spPr>
          <a:xfrm>
            <a:off x="5486400" y="1054080"/>
            <a:ext cx="3657600" cy="1295280"/>
          </a:xfrm>
          <a:prstGeom prst="cloudCallout">
            <a:avLst>
              <a:gd name="adj1" fmla="val -56078"/>
              <a:gd name="adj2" fmla="val 72671"/>
            </a:avLst>
          </a:prstGeom>
          <a:solidFill>
            <a:srgbClr val="a6f4f8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吃饭时大说大笑会呛着！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90" name="Rectangle 6"/>
          <p:cNvSpPr/>
          <p:nvPr/>
        </p:nvSpPr>
        <p:spPr>
          <a:xfrm>
            <a:off x="0" y="18900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联系实际、拓展延伸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5" descr="562d5f4e62f6fb35b2de050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楷体_GB2312"/>
              </a:rPr>
              <a:t>吞咽与呼吸的关系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3" name="Picture 3" descr="吞咽1"/>
          <p:cNvPicPr/>
          <p:nvPr/>
        </p:nvPicPr>
        <p:blipFill>
          <a:blip r:embed="rId2"/>
          <a:stretch/>
        </p:blipFill>
        <p:spPr>
          <a:xfrm>
            <a:off x="301680" y="2127240"/>
            <a:ext cx="4192560" cy="3906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吞咽2"/>
          <p:cNvPicPr/>
          <p:nvPr/>
        </p:nvPicPr>
        <p:blipFill>
          <a:blip r:embed="rId3"/>
          <a:stretch/>
        </p:blipFill>
        <p:spPr>
          <a:xfrm>
            <a:off x="4716360" y="1773360"/>
            <a:ext cx="411480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4" descr="3b07c380d19626eb9023d900"/>
          <p:cNvPicPr/>
          <p:nvPr/>
        </p:nvPicPr>
        <p:blipFill>
          <a:blip r:embed="rId1"/>
          <a:stretch/>
        </p:blipFill>
        <p:spPr>
          <a:xfrm>
            <a:off x="179280" y="-457200"/>
            <a:ext cx="9124920" cy="73152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2" descr="2005728154620402"/>
          <p:cNvPicPr/>
          <p:nvPr/>
        </p:nvPicPr>
        <p:blipFill>
          <a:blip r:embed="rId2"/>
          <a:stretch/>
        </p:blipFill>
        <p:spPr>
          <a:xfrm>
            <a:off x="826920" y="476280"/>
            <a:ext cx="4030920" cy="583092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5"/>
          <p:cNvSpPr/>
          <p:nvPr/>
        </p:nvSpPr>
        <p:spPr>
          <a:xfrm>
            <a:off x="5364000" y="3010320"/>
            <a:ext cx="3780000" cy="541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816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2c5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人们吸入的空气和吃进的食物都要经过咽，然后，空气经喉进入气管，食物进入食道。呼吸时，会厌软骨抬起，空气畅通无阻；吞咽时，会厌软骨盖住喉口，以免食物进入气管。边吃饭边说笑，吞咽时会厌软骨来不及盖下，食物进入气管，引起剧烈咳嗽。 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4" descr="a85b16fab47c87b99f5146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 txBox="1"/>
          <p:nvPr/>
        </p:nvSpPr>
        <p:spPr>
          <a:xfrm>
            <a:off x="312480" y="2133720"/>
            <a:ext cx="791676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  <a:ea typeface="方正舒体"/>
              </a:rPr>
              <a:t>声音从何而来？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0" name="Picture 3" descr="23"/>
          <p:cNvPicPr/>
          <p:nvPr/>
        </p:nvPicPr>
        <p:blipFill>
          <a:blip r:embed="rId2"/>
          <a:stretch/>
        </p:blipFill>
        <p:spPr>
          <a:xfrm>
            <a:off x="5364000" y="3573360"/>
            <a:ext cx="188928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hou1"/>
          <p:cNvPicPr/>
          <p:nvPr/>
        </p:nvPicPr>
        <p:blipFill>
          <a:blip r:embed="rId1"/>
          <a:stretch/>
        </p:blipFill>
        <p:spPr>
          <a:xfrm>
            <a:off x="900000" y="692280"/>
            <a:ext cx="3673440" cy="33811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hou2"/>
          <p:cNvPicPr/>
          <p:nvPr/>
        </p:nvPicPr>
        <p:blipFill>
          <a:blip r:embed="rId2"/>
          <a:stretch/>
        </p:blipFill>
        <p:spPr>
          <a:xfrm>
            <a:off x="5003640" y="692280"/>
            <a:ext cx="3672000" cy="333216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4"/>
          <p:cNvSpPr/>
          <p:nvPr/>
        </p:nvSpPr>
        <p:spPr>
          <a:xfrm>
            <a:off x="2035080" y="4149720"/>
            <a:ext cx="21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声带拉紧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6156360" y="409716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声带张开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685800" y="495288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宋体"/>
              </a:rPr>
              <a:t>分析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：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宋体"/>
              </a:rPr>
              <a:t>声音是如何产生的？青春期应该如何保护嗓子？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06" name="AutoShape 7"/>
          <p:cNvSpPr/>
          <p:nvPr/>
        </p:nvSpPr>
        <p:spPr>
          <a:xfrm>
            <a:off x="3809880" y="304920"/>
            <a:ext cx="5334120" cy="3124080"/>
          </a:xfrm>
          <a:prstGeom prst="wedgeRoundRectCallout">
            <a:avLst>
              <a:gd name="adj1" fmla="val -35328"/>
              <a:gd name="adj2" fmla="val 51675"/>
              <a:gd name="adj3" fmla="val 16667"/>
            </a:avLst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声音是由喉部的声带发出的。呼吸时，两条声带是分开的，当两条声带拉紧、中间的空隙缩小时，从肺部呼出的气流振动了声带，就发出了声音。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系统归纳、总结完善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8" name="Text Box 13"/>
          <p:cNvSpPr/>
          <p:nvPr/>
        </p:nvSpPr>
        <p:spPr>
          <a:xfrm>
            <a:off x="457200" y="9907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一、呼吸系统的组成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09" name="Text Box 14"/>
          <p:cNvSpPr/>
          <p:nvPr/>
        </p:nvSpPr>
        <p:spPr>
          <a:xfrm>
            <a:off x="304920" y="160020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由呼吸道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鼻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咽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喉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气管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支气管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和肺组成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10" name="Text Box 15"/>
          <p:cNvSpPr/>
          <p:nvPr/>
        </p:nvSpPr>
        <p:spPr>
          <a:xfrm>
            <a:off x="380880" y="23623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二、呼吸道的作用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11" name="Text Box 16"/>
          <p:cNvSpPr/>
          <p:nvPr/>
        </p:nvSpPr>
        <p:spPr>
          <a:xfrm>
            <a:off x="0" y="28195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是气体进出的通道，还能对吸入的气体进行处理，使到达肺部的气体温暖、湿润、清洁。喉还有发声的作用。呼吸道对空气的处理能力是有限的。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12" name="Text Box 17"/>
          <p:cNvSpPr/>
          <p:nvPr/>
        </p:nvSpPr>
        <p:spPr>
          <a:xfrm>
            <a:off x="2332800" y="48006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三、呼吸和吞咽的关系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13" name="Text Box 18"/>
          <p:cNvSpPr/>
          <p:nvPr/>
        </p:nvSpPr>
        <p:spPr>
          <a:xfrm>
            <a:off x="1285200" y="54100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呼吸和吞咽不能同时进行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http://www.downsc.com/vector_pic/shiliang_iecool/1/2/s_img/577.jpg"/>
          <p:cNvPicPr/>
          <p:nvPr/>
        </p:nvPicPr>
        <p:blipFill>
          <a:blip r:embed="rId1"/>
          <a:stretch/>
        </p:blipFill>
        <p:spPr>
          <a:xfrm>
            <a:off x="685800" y="5029200"/>
            <a:ext cx="1238400" cy="1447920"/>
          </a:xfrm>
          <a:prstGeom prst="rect">
            <a:avLst/>
          </a:prstGeom>
          <a:ln w="0">
            <a:noFill/>
          </a:ln>
        </p:spPr>
      </p:pic>
      <p:sp>
        <p:nvSpPr>
          <p:cNvPr id="815" name="TextBox 3"/>
          <p:cNvSpPr/>
          <p:nvPr/>
        </p:nvSpPr>
        <p:spPr>
          <a:xfrm>
            <a:off x="380880" y="1752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在对溺水者进行人工呼吸以前，为什么要先清除他口、鼻内的污物？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16" name="TextBox 4"/>
          <p:cNvSpPr/>
          <p:nvPr/>
        </p:nvSpPr>
        <p:spPr>
          <a:xfrm>
            <a:off x="1828800" y="3124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进行人工呼吸之前，清除溺水者口、鼻内的污物，目的是使溺水者的鼻、咽、喉部通畅，以利于空气进出肺部。否则，空气容易进入胃内，回气时可能带动胃内食物反出，出现呼吸道堵塞，造成窒息。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17" name="WordArt 5"/>
          <p:cNvSpPr txBox="1"/>
          <p:nvPr/>
        </p:nvSpPr>
        <p:spPr>
          <a:xfrm>
            <a:off x="3276720" y="549360"/>
            <a:ext cx="2735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007a77"/>
                  </a:solidFill>
                  <a:round/>
                </a:ln>
                <a:solidFill>
                  <a:srgbClr val="007a77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学以致用</a:t>
            </a:r>
            <a:endParaRPr b="1" lang="en-US" sz="2400" spc="1" strike="noStrike">
              <a:ln cap="sq" w="12600">
                <a:solidFill>
                  <a:srgbClr val="007a77"/>
                </a:solidFill>
                <a:round/>
              </a:ln>
              <a:solidFill>
                <a:srgbClr val="007a77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343400" y="7621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为什么婴儿总是啼哭着来到人间？</a:t>
            </a:r>
            <a:endParaRPr b="1" lang="en-US" sz="40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0" y="3886200"/>
            <a:ext cx="871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刚出生的婴儿啼哭标志着呼吸作用的开始，说明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人的生活需要吸入空气。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pic>
        <p:nvPicPr>
          <p:cNvPr id="635" name="Picture 4" descr="婴儿哭"/>
          <p:cNvPicPr/>
          <p:nvPr/>
        </p:nvPicPr>
        <p:blipFill>
          <a:blip r:embed="rId1"/>
          <a:stretch/>
        </p:blipFill>
        <p:spPr>
          <a:xfrm>
            <a:off x="0" y="0"/>
            <a:ext cx="42670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3"/>
          <p:cNvSpPr/>
          <p:nvPr/>
        </p:nvSpPr>
        <p:spPr>
          <a:xfrm>
            <a:off x="380880" y="1752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由细菌、病毒引起的急性支气管炎、肺炎是怎样传播的？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pic>
        <p:nvPicPr>
          <p:cNvPr id="819" name="Picture 2" descr="http://www.downsc.com/vector_pic/shiliang_iecool/1/2/s_img/241.jpg"/>
          <p:cNvPicPr/>
          <p:nvPr/>
        </p:nvPicPr>
        <p:blipFill>
          <a:blip r:embed="rId1"/>
          <a:stretch/>
        </p:blipFill>
        <p:spPr>
          <a:xfrm>
            <a:off x="6934320" y="4419720"/>
            <a:ext cx="1447560" cy="1949400"/>
          </a:xfrm>
          <a:prstGeom prst="rect">
            <a:avLst/>
          </a:prstGeom>
          <a:ln w="0">
            <a:noFill/>
          </a:ln>
        </p:spPr>
      </p:pic>
      <p:sp>
        <p:nvSpPr>
          <p:cNvPr id="820" name="TextBox 5"/>
          <p:cNvSpPr/>
          <p:nvPr/>
        </p:nvSpPr>
        <p:spPr>
          <a:xfrm>
            <a:off x="457200" y="3200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急性支气管炎和肺炎主要是通过呼吸、飞沫传播的。这些致病微生物达到患者发病部位的“旅程”是：外界空气→鼻→咽→喉→气管、支气管（肺炎则是到达肺）。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21" name="WordArt 5"/>
          <p:cNvSpPr txBox="1"/>
          <p:nvPr/>
        </p:nvSpPr>
        <p:spPr>
          <a:xfrm>
            <a:off x="3276720" y="620640"/>
            <a:ext cx="2735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007a77"/>
                  </a:solidFill>
                  <a:round/>
                </a:ln>
                <a:solidFill>
                  <a:srgbClr val="007a77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学以致用</a:t>
            </a:r>
            <a:endParaRPr b="1" lang="en-US" sz="2400" spc="1" strike="noStrike">
              <a:ln cap="sq" w="12600">
                <a:solidFill>
                  <a:srgbClr val="007a77"/>
                </a:solidFill>
                <a:round/>
              </a:ln>
              <a:solidFill>
                <a:srgbClr val="007a77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2" name="文本框 8196"/>
          <p:cNvSpPr/>
          <p:nvPr/>
        </p:nvSpPr>
        <p:spPr>
          <a:xfrm>
            <a:off x="768240" y="28656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1" lang="zh-CN" sz="1600" spc="-1" strike="noStrike">
                <a:solidFill>
                  <a:srgbClr val="ffe2c5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e2c5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 txBox="1"/>
          <p:nvPr/>
        </p:nvSpPr>
        <p:spPr>
          <a:xfrm>
            <a:off x="144360" y="1125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体呼吸系统的组成按顺序排列应当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支气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气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气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支气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口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气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支气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气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支气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例各项试图论述用鼻呼吸的优点，但有一项不正确，应该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鼻粘膜内的嗅细胞可以感受气味的刺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鼻粘膜具有丰富的毛细血管，能温暖吸入的冷空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鼻毛能阻挡吸人的空气里的尘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鼻粘膜分泌粘液可以清洁湿润吸人的气体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4" name="心形 4"/>
          <p:cNvSpPr/>
          <p:nvPr/>
        </p:nvSpPr>
        <p:spPr>
          <a:xfrm>
            <a:off x="127080" y="2997360"/>
            <a:ext cx="685800" cy="609480"/>
          </a:xfrm>
          <a:custGeom>
            <a:avLst/>
            <a:gdLst/>
            <a:ahLst/>
            <a:rect l="l" t="t" r="r" b="b"/>
            <a:pathLst>
              <a:path w="685800" h="609600">
                <a:moveTo>
                  <a:pt x="342900" y="152400"/>
                </a:moveTo>
                <a:cubicBezTo>
                  <a:pt x="485775" y="-203200"/>
                  <a:pt x="1042987" y="152400"/>
                  <a:pt x="342900" y="609600"/>
                </a:cubicBezTo>
                <a:cubicBezTo>
                  <a:pt x="-357187" y="152400"/>
                  <a:pt x="200025" y="-203200"/>
                  <a:pt x="342900" y="152400"/>
                </a:cubicBezTo>
                <a:close/>
              </a:path>
            </a:pathLst>
          </a:cu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25" name="心形 4"/>
          <p:cNvSpPr/>
          <p:nvPr/>
        </p:nvSpPr>
        <p:spPr>
          <a:xfrm>
            <a:off x="14400" y="4437000"/>
            <a:ext cx="685800" cy="609840"/>
          </a:xfrm>
          <a:custGeom>
            <a:avLst/>
            <a:gdLst/>
            <a:ahLst/>
            <a:rect l="l" t="t" r="r" b="b"/>
            <a:pathLst>
              <a:path w="685800" h="609600">
                <a:moveTo>
                  <a:pt x="342900" y="152400"/>
                </a:moveTo>
                <a:cubicBezTo>
                  <a:pt x="485775" y="-203200"/>
                  <a:pt x="1042987" y="152400"/>
                  <a:pt x="342900" y="609600"/>
                </a:cubicBezTo>
                <a:cubicBezTo>
                  <a:pt x="-357187" y="152400"/>
                  <a:pt x="200025" y="-203200"/>
                  <a:pt x="342900" y="152400"/>
                </a:cubicBezTo>
                <a:close/>
              </a:path>
            </a:pathLst>
          </a:cu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1476360" y="33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5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、巩固练习、学以致用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pic>
        <p:nvPicPr>
          <p:cNvPr id="827" name="Picture 4" descr="http://www.webshu.net/Soft/UploadSoftPic/200809/2008091021572996.gif"/>
          <p:cNvPicPr/>
          <p:nvPr/>
        </p:nvPicPr>
        <p:blipFill>
          <a:blip r:embed="rId1"/>
          <a:stretch/>
        </p:blipFill>
        <p:spPr>
          <a:xfrm>
            <a:off x="0" y="0"/>
            <a:ext cx="1428840" cy="12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e2c5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D1FF-315D-4957-AAFE-4D5983ACC9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矩形 1"/>
          <p:cNvSpPr/>
          <p:nvPr/>
        </p:nvSpPr>
        <p:spPr>
          <a:xfrm>
            <a:off x="324000" y="579600"/>
            <a:ext cx="830556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边说笑边吃东西，食物容易误入气管，其原因是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会厌软骨没能盖住喉的入口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气流冲击，喉腔扩大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气流冲击，声门裂开大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环状软骨扩大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吞咽食物和呼吸空气都必须经过的器官是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口腔  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鼻腔  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咽  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喉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痰生成的部位是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鼻腔黏膜  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喉腔侧壁 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食道黏膜  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气管和支气管黏膜 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33" name="心形 4"/>
          <p:cNvSpPr/>
          <p:nvPr/>
        </p:nvSpPr>
        <p:spPr>
          <a:xfrm>
            <a:off x="179280" y="1030320"/>
            <a:ext cx="685800" cy="609480"/>
          </a:xfrm>
          <a:custGeom>
            <a:avLst/>
            <a:gdLst/>
            <a:ahLst/>
            <a:rect l="l" t="t" r="r" b="b"/>
            <a:pathLst>
              <a:path w="685800" h="609600">
                <a:moveTo>
                  <a:pt x="342900" y="152400"/>
                </a:moveTo>
                <a:cubicBezTo>
                  <a:pt x="485775" y="-203200"/>
                  <a:pt x="1042987" y="152400"/>
                  <a:pt x="342900" y="609600"/>
                </a:cubicBezTo>
                <a:cubicBezTo>
                  <a:pt x="-357187" y="152400"/>
                  <a:pt x="200025" y="-203200"/>
                  <a:pt x="342900" y="152400"/>
                </a:cubicBezTo>
                <a:close/>
              </a:path>
            </a:pathLst>
          </a:cu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34" name="心形 5"/>
          <p:cNvSpPr/>
          <p:nvPr/>
        </p:nvSpPr>
        <p:spPr>
          <a:xfrm>
            <a:off x="3786120" y="3395520"/>
            <a:ext cx="685800" cy="609840"/>
          </a:xfrm>
          <a:custGeom>
            <a:avLst/>
            <a:gdLst/>
            <a:ahLst/>
            <a:rect l="l" t="t" r="r" b="b"/>
            <a:pathLst>
              <a:path w="685800" h="609600">
                <a:moveTo>
                  <a:pt x="342900" y="152400"/>
                </a:moveTo>
                <a:cubicBezTo>
                  <a:pt x="485775" y="-203200"/>
                  <a:pt x="1042987" y="152400"/>
                  <a:pt x="342900" y="609600"/>
                </a:cubicBezTo>
                <a:cubicBezTo>
                  <a:pt x="-357187" y="152400"/>
                  <a:pt x="200025" y="-203200"/>
                  <a:pt x="342900" y="152400"/>
                </a:cubicBezTo>
                <a:close/>
              </a:path>
            </a:pathLst>
          </a:cu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835" name="心形 7"/>
          <p:cNvSpPr/>
          <p:nvPr/>
        </p:nvSpPr>
        <p:spPr>
          <a:xfrm>
            <a:off x="2662200" y="4797360"/>
            <a:ext cx="685800" cy="609840"/>
          </a:xfrm>
          <a:custGeom>
            <a:avLst/>
            <a:gdLst/>
            <a:ahLst/>
            <a:rect l="l" t="t" r="r" b="b"/>
            <a:pathLst>
              <a:path w="685800" h="609600">
                <a:moveTo>
                  <a:pt x="342900" y="152400"/>
                </a:moveTo>
                <a:cubicBezTo>
                  <a:pt x="485775" y="-203200"/>
                  <a:pt x="1042987" y="152400"/>
                  <a:pt x="342900" y="609600"/>
                </a:cubicBezTo>
                <a:cubicBezTo>
                  <a:pt x="-357187" y="152400"/>
                  <a:pt x="200025" y="-203200"/>
                  <a:pt x="342900" y="152400"/>
                </a:cubicBezTo>
                <a:close/>
              </a:path>
            </a:pathLst>
          </a:cu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5080" cy="590400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826920" y="1728720"/>
            <a:ext cx="168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宋体"/>
              </a:rPr>
              <a:t>会厌</a:t>
            </a:r>
            <a:endParaRPr b="1" lang="en-US" sz="4800" spc="-1" strike="noStrike">
              <a:solidFill>
                <a:srgbClr val="ffe2c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宋体"/>
              </a:rPr>
              <a:t>软骨</a:t>
            </a:r>
            <a:endParaRPr b="1" lang="en-US" sz="4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879120" y="4017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宋体"/>
              </a:rPr>
              <a:t>肺</a:t>
            </a:r>
            <a:endParaRPr b="1" lang="en-US" sz="4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4551120" y="5805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宋体"/>
              </a:rPr>
              <a:t>膈</a:t>
            </a:r>
            <a:endParaRPr b="1" lang="en-US" sz="4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6789240" y="1600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鼻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68655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咽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6865560" y="2514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喉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6620040" y="30481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气管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44" name="Text Box 10"/>
          <p:cNvSpPr/>
          <p:nvPr/>
        </p:nvSpPr>
        <p:spPr>
          <a:xfrm>
            <a:off x="6440400" y="3657600"/>
            <a:ext cx="19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支气管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45" name="AutoShape 11"/>
          <p:cNvSpPr/>
          <p:nvPr/>
        </p:nvSpPr>
        <p:spPr>
          <a:xfrm>
            <a:off x="8028000" y="1827360"/>
            <a:ext cx="216000" cy="2592360"/>
          </a:xfrm>
          <a:custGeom>
            <a:avLst/>
            <a:gdLst>
              <a:gd name="textAreaLeft" fmla="*/ 0 w 216000"/>
              <a:gd name="textAreaRight" fmla="*/ 7812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46" name="Text Box 12"/>
          <p:cNvSpPr/>
          <p:nvPr/>
        </p:nvSpPr>
        <p:spPr>
          <a:xfrm>
            <a:off x="8153280" y="1979640"/>
            <a:ext cx="73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宋体"/>
              </a:rPr>
              <a:t>呼吸道</a:t>
            </a:r>
            <a:endParaRPr b="1" lang="en-US" sz="48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47" name="Text Box 13"/>
          <p:cNvSpPr/>
          <p:nvPr/>
        </p:nvSpPr>
        <p:spPr>
          <a:xfrm>
            <a:off x="0" y="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呼吸系统的组成</a:t>
            </a:r>
            <a:endParaRPr b="1" lang="en-US" sz="4400" spc="-1" strike="noStrike">
              <a:solidFill>
                <a:srgbClr val="ffe2c5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477120" y="2133720"/>
            <a:ext cx="1218960" cy="360"/>
            <a:chOff x="6477120" y="2133720"/>
            <a:chExt cx="1218960" cy="360"/>
          </a:xfrm>
        </p:grpSpPr>
        <p:sp>
          <p:nvSpPr>
            <p:cNvPr id="649" name="Line 14"/>
            <p:cNvSpPr/>
            <p:nvPr/>
          </p:nvSpPr>
          <p:spPr>
            <a:xfrm>
              <a:off x="6477120" y="2133720"/>
              <a:ext cx="121896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6477120" y="213372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477120" y="2590920"/>
            <a:ext cx="1218960" cy="360"/>
            <a:chOff x="6477120" y="2590920"/>
            <a:chExt cx="1218960" cy="360"/>
          </a:xfrm>
        </p:grpSpPr>
        <p:sp>
          <p:nvSpPr>
            <p:cNvPr id="652" name="Line 15"/>
            <p:cNvSpPr/>
            <p:nvPr/>
          </p:nvSpPr>
          <p:spPr>
            <a:xfrm>
              <a:off x="6477120" y="2590920"/>
              <a:ext cx="121896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6477120" y="259092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477120" y="3124080"/>
            <a:ext cx="1218960" cy="360"/>
            <a:chOff x="6477120" y="3124080"/>
            <a:chExt cx="1218960" cy="360"/>
          </a:xfrm>
        </p:grpSpPr>
        <p:sp>
          <p:nvSpPr>
            <p:cNvPr id="655" name="Line 16"/>
            <p:cNvSpPr/>
            <p:nvPr/>
          </p:nvSpPr>
          <p:spPr>
            <a:xfrm>
              <a:off x="6477120" y="3124080"/>
              <a:ext cx="121896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6477120" y="312408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477120" y="3733920"/>
            <a:ext cx="1218960" cy="360"/>
            <a:chOff x="6477120" y="3733920"/>
            <a:chExt cx="1218960" cy="360"/>
          </a:xfrm>
        </p:grpSpPr>
        <p:sp>
          <p:nvSpPr>
            <p:cNvPr id="658" name="Line 17"/>
            <p:cNvSpPr/>
            <p:nvPr/>
          </p:nvSpPr>
          <p:spPr>
            <a:xfrm>
              <a:off x="6477120" y="3733920"/>
              <a:ext cx="121896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59" name=""/>
            <p:cNvSpPr txBox="1"/>
            <p:nvPr/>
          </p:nvSpPr>
          <p:spPr>
            <a:xfrm>
              <a:off x="6477120" y="373392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6477120" y="4343400"/>
            <a:ext cx="1218960" cy="360"/>
            <a:chOff x="6477120" y="4343400"/>
            <a:chExt cx="1218960" cy="360"/>
          </a:xfrm>
        </p:grpSpPr>
        <p:sp>
          <p:nvSpPr>
            <p:cNvPr id="661" name="Line 18"/>
            <p:cNvSpPr/>
            <p:nvPr/>
          </p:nvSpPr>
          <p:spPr>
            <a:xfrm>
              <a:off x="6477120" y="4343400"/>
              <a:ext cx="1218960" cy="0"/>
            </a:xfrm>
            <a:prstGeom prst="line">
              <a:avLst/>
            </a:prstGeom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  <p:sp>
          <p:nvSpPr>
            <p:cNvPr id="662" name=""/>
            <p:cNvSpPr txBox="1"/>
            <p:nvPr/>
          </p:nvSpPr>
          <p:spPr>
            <a:xfrm>
              <a:off x="6477120" y="434340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sp>
        <p:nvSpPr>
          <p:cNvPr id="663" name="Text Box 19"/>
          <p:cNvSpPr/>
          <p:nvPr/>
        </p:nvSpPr>
        <p:spPr>
          <a:xfrm>
            <a:off x="6334920" y="1773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①</a:t>
            </a: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6333840" y="2230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②</a:t>
            </a: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65" name="Text Box 21"/>
          <p:cNvSpPr/>
          <p:nvPr/>
        </p:nvSpPr>
        <p:spPr>
          <a:xfrm>
            <a:off x="6274440" y="37339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⑤</a:t>
            </a: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66" name="Text Box 22"/>
          <p:cNvSpPr/>
          <p:nvPr/>
        </p:nvSpPr>
        <p:spPr>
          <a:xfrm>
            <a:off x="6274440" y="25131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③</a:t>
            </a: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67" name="Text Box 23"/>
          <p:cNvSpPr/>
          <p:nvPr/>
        </p:nvSpPr>
        <p:spPr>
          <a:xfrm>
            <a:off x="6274440" y="31989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④</a:t>
            </a: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5" descr="562d5f4e62f6fb35b2de0500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2"/>
          <p:cNvSpPr/>
          <p:nvPr/>
        </p:nvSpPr>
        <p:spPr>
          <a:xfrm>
            <a:off x="684360" y="3284640"/>
            <a:ext cx="142560" cy="2520720"/>
          </a:xfrm>
          <a:custGeom>
            <a:avLst/>
            <a:gdLst>
              <a:gd name="textAreaLeft" fmla="*/ 91080 w 142560"/>
              <a:gd name="textAreaRight" fmla="*/ 142920 w 14256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826920" y="306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呼吸道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958320" y="5181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肺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72" name="AutoShape 5"/>
          <p:cNvSpPr/>
          <p:nvPr/>
        </p:nvSpPr>
        <p:spPr>
          <a:xfrm>
            <a:off x="2484360" y="1884240"/>
            <a:ext cx="304920" cy="3200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2803680" y="1793880"/>
            <a:ext cx="15523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000"/>
                </a:solidFill>
                <a:latin typeface="Times New Roman"/>
                <a:ea typeface="楷体_GB2312"/>
              </a:rPr>
              <a:t>鼻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咽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000"/>
                </a:solidFill>
                <a:latin typeface="Times New Roman"/>
                <a:ea typeface="楷体_GB2312"/>
              </a:rPr>
              <a:t>喉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000"/>
                </a:solidFill>
                <a:latin typeface="Times New Roman"/>
                <a:ea typeface="楷体_GB2312"/>
              </a:rPr>
              <a:t>气管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000"/>
                </a:solidFill>
                <a:latin typeface="Times New Roman"/>
                <a:ea typeface="楷体_GB2312"/>
              </a:rPr>
              <a:t>支气管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4356000" y="321300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（气体进出肺的通道）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1298520" y="5211720"/>
            <a:ext cx="75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（主要器官，是进行气体交换的场所）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76" name="AutoShape 9"/>
          <p:cNvSpPr/>
          <p:nvPr/>
        </p:nvSpPr>
        <p:spPr>
          <a:xfrm>
            <a:off x="4122720" y="1881360"/>
            <a:ext cx="304920" cy="3276360"/>
          </a:xfrm>
          <a:custGeom>
            <a:avLst/>
            <a:gdLst>
              <a:gd name="textAreaLeft" fmla="*/ 0 w 304920"/>
              <a:gd name="textAreaRight" fmla="*/ 110160 w 304920"/>
              <a:gd name="textAreaTop" fmla="*/ 84960 h 3276360"/>
              <a:gd name="textAreaBottom" fmla="*/ 31914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250920" y="765000"/>
            <a:ext cx="56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e2c5"/>
                </a:solidFill>
                <a:latin typeface="Times New Roman"/>
                <a:ea typeface="隶书"/>
              </a:rPr>
              <a:t>一、呼吸系统的组成</a:t>
            </a:r>
            <a:endParaRPr b="1" lang="en-US" sz="40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78" name="Rectangle 11"/>
          <p:cNvSpPr/>
          <p:nvPr/>
        </p:nvSpPr>
        <p:spPr>
          <a:xfrm>
            <a:off x="468360" y="609228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咽既属于呼吸系统又属于消化系统。</a:t>
            </a:r>
            <a:endParaRPr b="1" lang="en-US" sz="28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8" descr="878adecaf57a207af31fe7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2"/>
          <a:stretch/>
        </p:blipFill>
        <p:spPr>
          <a:xfrm>
            <a:off x="-181080" y="2708280"/>
            <a:ext cx="3340080" cy="3746520"/>
          </a:xfrm>
          <a:prstGeom prst="rect">
            <a:avLst/>
          </a:prstGeom>
          <a:ln w="0">
            <a:noFill/>
          </a:ln>
        </p:spPr>
      </p:pic>
      <p:sp>
        <p:nvSpPr>
          <p:cNvPr id="681" name="AutoShape 5"/>
          <p:cNvSpPr/>
          <p:nvPr/>
        </p:nvSpPr>
        <p:spPr>
          <a:xfrm>
            <a:off x="3132000" y="333360"/>
            <a:ext cx="5329440" cy="4653000"/>
          </a:xfrm>
          <a:prstGeom prst="cloudCallout">
            <a:avLst>
              <a:gd name="adj1" fmla="val -62870"/>
              <a:gd name="adj2" fmla="val 28643"/>
            </a:avLst>
          </a:prstGeom>
          <a:solidFill>
            <a:srgbClr val="ffff00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呼吸道是气体进出肺的通道，那么呼吸道仅仅是一个通道吗？还有没有其他作用？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82" name="WordArt 6"/>
          <p:cNvSpPr txBox="1"/>
          <p:nvPr/>
        </p:nvSpPr>
        <p:spPr>
          <a:xfrm>
            <a:off x="1295280" y="1219320"/>
            <a:ext cx="8384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3" name="WordArt 7"/>
          <p:cNvSpPr txBox="1"/>
          <p:nvPr/>
        </p:nvSpPr>
        <p:spPr>
          <a:xfrm>
            <a:off x="1676520" y="1905120"/>
            <a:ext cx="914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4" name="WordArt 8"/>
          <p:cNvSpPr txBox="1"/>
          <p:nvPr/>
        </p:nvSpPr>
        <p:spPr>
          <a:xfrm>
            <a:off x="609480" y="1981080"/>
            <a:ext cx="609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二、呼吸道的作用</a:t>
            </a:r>
            <a:br>
              <a:rPr sz="3200"/>
            </a:b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 阅读第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4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页资料分析，结合讨论题展开思考，进行分组讨论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1)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呼吸道有什么结构能保证气流通畅？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2)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呼吸道除了保证气流的通畅外，还有哪些作用？这些是如何实现的？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94920" y="302220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3)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有了呼吸道对空气的处理，人体就能完全避免空气中有害物质的危害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4)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痰是怎样产生的，为什么不能随地吐痰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5)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北欧的冬天非常寒冷，在那里生活的人和在赤道附近生活的人相比，鼻子的形状可能有什么特点？为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15" descr="3b07c380d19626eb9023d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2"/>
          <p:cNvSpPr/>
          <p:nvPr/>
        </p:nvSpPr>
        <p:spPr>
          <a:xfrm>
            <a:off x="468360" y="58024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900"/>
                </a:solidFill>
                <a:latin typeface="Times New Roman"/>
                <a:ea typeface="黑体"/>
              </a:rPr>
              <a:t>骨或软骨作支架，保证气流通畅。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179280" y="1195560"/>
            <a:ext cx="80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60000"/>
                </a:solidFill>
                <a:latin typeface="楷体_GB2312"/>
                <a:ea typeface="楷体_GB2312"/>
              </a:rPr>
              <a:t>呼吸道有什么结构能保证气流通畅？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pic>
        <p:nvPicPr>
          <p:cNvPr id="690" name="Picture 4" descr="气管局部"/>
          <p:cNvPicPr/>
          <p:nvPr/>
        </p:nvPicPr>
        <p:blipFill>
          <a:blip r:embed="rId2"/>
          <a:stretch/>
        </p:blipFill>
        <p:spPr>
          <a:xfrm>
            <a:off x="611280" y="2168640"/>
            <a:ext cx="1989000" cy="281772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5"/>
          <p:cNvGrpSpPr/>
          <p:nvPr/>
        </p:nvGrpSpPr>
        <p:grpSpPr>
          <a:xfrm>
            <a:off x="5854680" y="1816200"/>
            <a:ext cx="2346480" cy="3700440"/>
            <a:chOff x="5854680" y="1816200"/>
            <a:chExt cx="2346480" cy="3700440"/>
          </a:xfrm>
        </p:grpSpPr>
        <p:pic>
          <p:nvPicPr>
            <p:cNvPr id="692" name="Picture 6" descr="喉1"/>
            <p:cNvPicPr/>
            <p:nvPr/>
          </p:nvPicPr>
          <p:blipFill>
            <a:blip r:embed="rId3"/>
            <a:stretch/>
          </p:blipFill>
          <p:spPr>
            <a:xfrm>
              <a:off x="5854680" y="1816200"/>
              <a:ext cx="234648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Rectangle 7"/>
            <p:cNvSpPr/>
            <p:nvPr/>
          </p:nvSpPr>
          <p:spPr>
            <a:xfrm>
              <a:off x="7524720" y="4868640"/>
              <a:ext cx="6476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Arial"/>
                  <a:ea typeface="宋体"/>
                </a:rPr>
                <a:t>喉</a:t>
              </a:r>
              <a:endParaRPr b="1" lang="en-US" sz="36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grpSp>
        <p:nvGrpSpPr>
          <p:cNvPr id="694" name="Group 8"/>
          <p:cNvGrpSpPr/>
          <p:nvPr/>
        </p:nvGrpSpPr>
        <p:grpSpPr>
          <a:xfrm>
            <a:off x="2629080" y="2068560"/>
            <a:ext cx="2971800" cy="3364920"/>
            <a:chOff x="2629080" y="2068560"/>
            <a:chExt cx="2971800" cy="3364920"/>
          </a:xfrm>
        </p:grpSpPr>
        <p:pic>
          <p:nvPicPr>
            <p:cNvPr id="695" name="Picture 9" descr=""/>
            <p:cNvPicPr/>
            <p:nvPr/>
          </p:nvPicPr>
          <p:blipFill>
            <a:blip r:embed="rId4"/>
            <a:stretch/>
          </p:blipFill>
          <p:spPr>
            <a:xfrm>
              <a:off x="2629080" y="2068560"/>
              <a:ext cx="297180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 Box 10"/>
            <p:cNvSpPr/>
            <p:nvPr/>
          </p:nvSpPr>
          <p:spPr>
            <a:xfrm>
              <a:off x="3415680" y="4790880"/>
              <a:ext cx="190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“</a:t>
              </a: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”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状软骨</a:t>
              </a:r>
              <a:endParaRPr b="1" lang="en-US" sz="3600" spc="-1" strike="noStrike">
                <a:solidFill>
                  <a:srgbClr val="ffe2c5"/>
                </a:solidFill>
                <a:latin typeface="Times New Roman"/>
              </a:endParaRPr>
            </a:p>
          </p:txBody>
        </p:sp>
      </p:grpSp>
      <p:sp>
        <p:nvSpPr>
          <p:cNvPr id="697" name="Text Box 11"/>
          <p:cNvSpPr/>
          <p:nvPr/>
        </p:nvSpPr>
        <p:spPr>
          <a:xfrm>
            <a:off x="0" y="566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呼吸道的作用</a:t>
            </a:r>
            <a:endParaRPr b="1" lang="en-US" sz="40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698" name="Rectangle 16"/>
          <p:cNvSpPr/>
          <p:nvPr/>
        </p:nvSpPr>
        <p:spPr>
          <a:xfrm>
            <a:off x="0" y="0"/>
            <a:ext cx="752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合作探究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0" y="12096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9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3900"/>
                </a:solidFill>
                <a:latin typeface="华文行楷"/>
                <a:ea typeface="华文行楷"/>
              </a:rPr>
              <a:t>呼吸道除了保证气流的通畅外，还有哪些作用？这些作用是如何实现的？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5199840" y="5667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（示）鼻腔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01" name="TextBox 6"/>
          <p:cNvSpPr/>
          <p:nvPr/>
        </p:nvSpPr>
        <p:spPr>
          <a:xfrm>
            <a:off x="250920" y="2924280"/>
            <a:ext cx="40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鼻腔分布着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毛细血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温暖的血液流经鼻腔时，散发出许多热量，可以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温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吸入的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空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1" lang="en-US" sz="32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0" y="566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Times New Roman"/>
                <a:ea typeface="隶书"/>
              </a:rPr>
              <a:t>呼吸道的作用</a:t>
            </a:r>
            <a:endParaRPr b="1" lang="en-US" sz="4000" spc="-1" strike="noStrike">
              <a:solidFill>
                <a:srgbClr val="ffe2c5"/>
              </a:solidFill>
              <a:latin typeface="Times New Roman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0" y="0"/>
            <a:ext cx="50036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合作探究</a:t>
            </a:r>
            <a:endParaRPr b="1" lang="en-US" sz="3600" spc="-1" strike="noStrike">
              <a:solidFill>
                <a:srgbClr val="ffe2c5"/>
              </a:solidFill>
              <a:latin typeface="Times New Roman"/>
            </a:endParaRPr>
          </a:p>
        </p:txBody>
      </p:sp>
      <p:pic>
        <p:nvPicPr>
          <p:cNvPr id="704" name="Picture 13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568680" cy="32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6T03:38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59Z</dcterms:modified>
  <cp:revision>4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