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10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9CE0-81F4-41A0-BF21-EEDCCB115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95AF-894E-4081-8FBE-B7540F97B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060A-4995-4E3A-A536-9EFF21AEA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DF10-793A-4D71-B31F-48C8275D8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828AC-2F24-4AA1-9385-F9A48FAC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2D688-9755-46A7-90C4-09C8F52F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67A5E-DC8B-4EF2-96F5-4C8E8774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714B1-EC65-40BC-864A-7E6F0207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EE245-189B-4B7A-9967-FC381072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56720" y="316080"/>
            <a:ext cx="7920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28875-AA44-4861-BDCA-6D29622F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A6CA2-4885-40FC-8A84-A39F3BA9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A391-A0C4-4D71-9510-D5B003E34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63C5D-B336-4628-B86C-5C93E8C2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06597-A41C-4863-89B3-5AB4C1CC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1BEEB-C222-4666-8979-A26482F9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CC5B4-019C-432A-AD9A-226F47CC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7571E-AD00-490B-BC3C-A673B2F1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A5706-7B46-4A55-B4D7-00EAC41E5C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EC8D5-EC47-430F-8A9B-CA80256E6C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4AA45-35A2-4D64-A8A6-CB6A03C714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CB085-4A70-4573-8E74-5285152950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FDB7C-4A74-4CE7-AFEA-05583B9B95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55EA-BCF4-4871-B5F4-5E328E663D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56720" y="316080"/>
            <a:ext cx="7920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5DE33-78F5-4DEA-BDD0-F3D1C57808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4FBA6-66DE-4C28-9710-42A98C9D54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B0D96-4861-49F9-8AB2-A90273F98F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20863-03B4-454B-9619-C7395B2FAF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FD68C-F187-4174-90BF-3A25D3723B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027DD-CB44-4C86-AABA-45F0CEF909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05F0E-1293-4B4A-BAC4-0C032C159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6790-38BB-44E4-A17F-322A8DA4C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FD5A-2710-4E97-9320-02A817076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56720" y="316080"/>
            <a:ext cx="7920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1574-2024-43EB-818C-653AD6336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2E18-08B0-414A-9396-B37008A22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DF49-FBDD-4067-9001-7500EEE8E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145D-3E71-4902-AF12-738546CF7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E317CB0-A993-4012-8E20-30C23B3CED1A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791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30F7-609E-4CAD-AD45-B23A06B7F7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791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BA3C-92ED-45D3-A356-E269936A71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hyperlink" Target="http://www.dabaoku.com/gif/169/imagepage/image1.htm" TargetMode="External"/><Relationship Id="rId5" Type="http://schemas.openxmlformats.org/officeDocument/2006/relationships/image" Target="../media/image37.gif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527040" y="1111320"/>
            <a:ext cx="7959600" cy="6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539016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弘扬和培育民族精神</a:t>
            </a:r>
            <a:r>
              <a:rPr b="1" lang="en-US" sz="4000" spc="-1" strike="noStrike">
                <a:ln w="0">
                  <a:noFill/>
                </a:ln>
                <a:solidFill>
                  <a:srgbClr val="539016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539016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-1" strike="noStrike">
              <a:ln w="0">
                <a:noFill/>
              </a:ln>
              <a:solidFill>
                <a:srgbClr val="539016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20560" y="46688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中华民族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097080" y="4567320"/>
            <a:ext cx="201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爱国主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核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36840" y="5162400"/>
            <a:ext cx="649440" cy="360"/>
            <a:chOff x="2436840" y="5162400"/>
            <a:chExt cx="649440" cy="360"/>
          </a:xfrm>
        </p:grpSpPr>
        <p:sp>
          <p:nvSpPr>
            <p:cNvPr id="150" name="Line 4"/>
            <p:cNvSpPr/>
            <p:nvPr/>
          </p:nvSpPr>
          <p:spPr>
            <a:xfrm>
              <a:off x="2436840" y="5162400"/>
              <a:ext cx="649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436840" y="5162400"/>
              <a:ext cx="64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5"/>
          <p:cNvSpPr/>
          <p:nvPr/>
        </p:nvSpPr>
        <p:spPr>
          <a:xfrm>
            <a:off x="4924440" y="4086360"/>
            <a:ext cx="287280" cy="2303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438880" y="3749760"/>
            <a:ext cx="2235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团结统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爱好和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勤劳勇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强不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623880" y="387360"/>
            <a:ext cx="875520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中华民族的伟大民族精神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6000" spc="-1" strike="noStrike">
                <a:solidFill>
                  <a:srgbClr val="6fc01e"/>
                </a:solidFill>
                <a:latin typeface="Arial"/>
              </a:rPr>
              <a:t>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以爱国主义为核心的团结统一、爱好和平、勤劳勇敢、自强不息的伟大民族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8200"/>
          <p:cNvSpPr/>
          <p:nvPr/>
        </p:nvSpPr>
        <p:spPr>
          <a:xfrm>
            <a:off x="1889280" y="3124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26420a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620640"/>
          <a:ext cx="9144000" cy="5826240"/>
        </p:xfrm>
        <a:graphic>
          <a:graphicData uri="http://schemas.openxmlformats.org/drawingml/2006/table">
            <a:tbl>
              <a:tblPr/>
              <a:tblGrid>
                <a:gridCol w="1476360"/>
                <a:gridCol w="4032360"/>
                <a:gridCol w="3635280"/>
              </a:tblGrid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民族精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名言警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历史典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团结统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爱好和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勤劳勇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自强不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28"/>
          <p:cNvSpPr/>
          <p:nvPr/>
        </p:nvSpPr>
        <p:spPr>
          <a:xfrm>
            <a:off x="1547640" y="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填表感受中华民族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1976400" y="1346040"/>
            <a:ext cx="265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于一”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尚统一”、“一天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1538280" y="2135160"/>
            <a:ext cx="39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为贵”、“与人为善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海之内，皆兄弟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时不如地利，地利不如人和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敬业乐群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1552680" y="3483000"/>
            <a:ext cx="383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鞠躬尽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死而后已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艰难困苦，玉汝于成” 、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入虎穴，不得虎子”、“宝剑锋从磨砺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梅花香自苦寒来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1523880" y="4881600"/>
            <a:ext cx="406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生于忧患而死于安乐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行健，君子以自强不息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老骥伏枥，志在千里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古男儿当自强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5762520" y="1363680"/>
            <a:ext cx="240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郑成功收复台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戚继光抗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4"/>
          <p:cNvSpPr/>
          <p:nvPr/>
        </p:nvSpPr>
        <p:spPr>
          <a:xfrm>
            <a:off x="8732880" y="-12600"/>
            <a:ext cx="183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5"/>
          <p:cNvSpPr/>
          <p:nvPr/>
        </p:nvSpPr>
        <p:spPr>
          <a:xfrm>
            <a:off x="5514840" y="2192400"/>
            <a:ext cx="344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昭君出塞、玄奘西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成公主入藏、鉴真东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张骞出使西域、郑和下西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6"/>
          <p:cNvSpPr/>
          <p:nvPr/>
        </p:nvSpPr>
        <p:spPr>
          <a:xfrm>
            <a:off x="5689440" y="3541680"/>
            <a:ext cx="277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愚公移山、精卫填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禹治水、夸父追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5675400" y="4824360"/>
            <a:ext cx="3468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司马迁忍辱著《史记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屈原放逐而著《离骚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卧薪尝胆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左丘失明，厥有《国语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孙子膑脚，兵法修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50920" y="1700280"/>
            <a:ext cx="8569080" cy="235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华民族精神，在中国共产党领导下，新民主主义革命时期形成的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井冈山精神、长征精神、延安精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，都体现了共产党人身上革命的民族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新中国所形成的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大庆精神、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两弹一星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精神、抗洪精神、载人航天精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17600" y="7239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华民族精神在新时代的体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555480" y="1030320"/>
            <a:ext cx="5867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新民主主义革命时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1905120" y="266760"/>
            <a:ext cx="5105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民族精神的体现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838080" y="1676520"/>
            <a:ext cx="7924680" cy="2438280"/>
            <a:chOff x="838080" y="1676520"/>
            <a:chExt cx="7924680" cy="2438280"/>
          </a:xfrm>
        </p:grpSpPr>
        <p:sp>
          <p:nvSpPr>
            <p:cNvPr id="172" name="AutoShape 5"/>
            <p:cNvSpPr/>
            <p:nvPr/>
          </p:nvSpPr>
          <p:spPr>
            <a:xfrm>
              <a:off x="838080" y="1676520"/>
              <a:ext cx="838080" cy="2438280"/>
            </a:xfrm>
            <a:prstGeom prst="verticalScroll">
              <a:avLst>
                <a:gd name="adj" fmla="val 12500"/>
              </a:avLst>
            </a:prstGeom>
            <a:solidFill>
              <a:srgbClr val="6fc0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1066680" y="1751040"/>
              <a:ext cx="45720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井冈山精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"/>
            <p:cNvSpPr/>
            <p:nvPr/>
          </p:nvSpPr>
          <p:spPr>
            <a:xfrm>
              <a:off x="2057400" y="1828800"/>
              <a:ext cx="6476760" cy="22100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2117520" y="1905120"/>
              <a:ext cx="664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主要内涵是：坚定的革命信念，自力更生，英勇奋战，百折不挠，艰苦奋斗。其中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坚定的革命信念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是这一精神的主题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9" descr="200461215516454"/>
          <p:cNvPicPr/>
          <p:nvPr/>
        </p:nvPicPr>
        <p:blipFill>
          <a:blip r:embed="rId2"/>
          <a:stretch/>
        </p:blipFill>
        <p:spPr>
          <a:xfrm>
            <a:off x="1676520" y="4191120"/>
            <a:ext cx="6172200" cy="24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324000" y="1488960"/>
            <a:ext cx="887400" cy="2438640"/>
          </a:xfrm>
          <a:prstGeom prst="verticalScroll">
            <a:avLst>
              <a:gd name="adj" fmla="val 12500"/>
            </a:avLst>
          </a:prstGeom>
          <a:solidFill>
            <a:srgbClr val="6fc01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65200" y="1793880"/>
            <a:ext cx="4842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长征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1452600" y="1413000"/>
            <a:ext cx="7176960" cy="2743200"/>
            <a:chOff x="1452600" y="1413000"/>
            <a:chExt cx="7176960" cy="2743200"/>
          </a:xfrm>
        </p:grpSpPr>
        <p:sp>
          <p:nvSpPr>
            <p:cNvPr id="180" name="AutoShape 5"/>
            <p:cNvSpPr/>
            <p:nvPr/>
          </p:nvSpPr>
          <p:spPr>
            <a:xfrm>
              <a:off x="1452600" y="1413000"/>
              <a:ext cx="7176960" cy="27432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1695600" y="2556720"/>
              <a:ext cx="66927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主要内涵是：乐于吃苦，不惧艰难的革命乐观主义；勇于战斗，无坚不摧的革命英雄主义；重于求实，独立自主的创新胆略；善于团结，顾全大局的集体主义。其主题是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“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不怕苦，二不怕死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”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；其最显著的特点就是革命英雄主义精神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7" descr="p000010005"/>
          <p:cNvPicPr/>
          <p:nvPr/>
        </p:nvPicPr>
        <p:blipFill>
          <a:blip r:embed="rId2"/>
          <a:stretch/>
        </p:blipFill>
        <p:spPr>
          <a:xfrm>
            <a:off x="838080" y="4419720"/>
            <a:ext cx="3505320" cy="238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1"/>
          <p:cNvPicPr/>
          <p:nvPr/>
        </p:nvPicPr>
        <p:blipFill>
          <a:blip r:embed="rId3"/>
          <a:stretch/>
        </p:blipFill>
        <p:spPr>
          <a:xfrm>
            <a:off x="4876920" y="4376880"/>
            <a:ext cx="3429000" cy="2404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banner"/>
          <p:cNvPicPr/>
          <p:nvPr/>
        </p:nvPicPr>
        <p:blipFill>
          <a:blip r:embed="rId4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0" y="0"/>
            <a:ext cx="9143280" cy="1565280"/>
            <a:chOff x="0" y="0"/>
            <a:chExt cx="9143280" cy="1565280"/>
          </a:xfrm>
        </p:grpSpPr>
        <p:pic>
          <p:nvPicPr>
            <p:cNvPr id="186" name="Picture 3" descr="top2"/>
            <p:cNvPicPr/>
            <p:nvPr/>
          </p:nvPicPr>
          <p:blipFill>
            <a:blip r:embed="rId1"/>
            <a:stretch/>
          </p:blipFill>
          <p:spPr>
            <a:xfrm>
              <a:off x="2138400" y="0"/>
              <a:ext cx="428904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4" descr="top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5604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5" descr="top3"/>
            <p:cNvPicPr/>
            <p:nvPr/>
          </p:nvPicPr>
          <p:blipFill>
            <a:blip r:embed="rId3"/>
            <a:stretch/>
          </p:blipFill>
          <p:spPr>
            <a:xfrm>
              <a:off x="1425240" y="1079640"/>
              <a:ext cx="77180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6" descr="l_logo"/>
            <p:cNvPicPr/>
            <p:nvPr/>
          </p:nvPicPr>
          <p:blipFill>
            <a:blip r:embed="rId4"/>
            <a:stretch/>
          </p:blipFill>
          <p:spPr>
            <a:xfrm>
              <a:off x="0" y="1079640"/>
              <a:ext cx="1449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7" descr="top4"/>
            <p:cNvPicPr/>
            <p:nvPr/>
          </p:nvPicPr>
          <p:blipFill>
            <a:blip r:embed="rId5"/>
            <a:stretch/>
          </p:blipFill>
          <p:spPr>
            <a:xfrm>
              <a:off x="6413760" y="0"/>
              <a:ext cx="2721960" cy="10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1" name="Picture 8" descr="F2004062511155700000"/>
          <p:cNvPicPr/>
          <p:nvPr/>
        </p:nvPicPr>
        <p:blipFill>
          <a:blip r:embed="rId6"/>
          <a:stretch/>
        </p:blipFill>
        <p:spPr>
          <a:xfrm>
            <a:off x="0" y="1585800"/>
            <a:ext cx="2952720" cy="2203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F2004062510374200000"/>
          <p:cNvPicPr/>
          <p:nvPr/>
        </p:nvPicPr>
        <p:blipFill>
          <a:blip r:embed="rId7"/>
          <a:stretch/>
        </p:blipFill>
        <p:spPr>
          <a:xfrm>
            <a:off x="6300720" y="155736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0"/>
          <p:cNvSpPr/>
          <p:nvPr/>
        </p:nvSpPr>
        <p:spPr>
          <a:xfrm>
            <a:off x="6732720" y="3897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王家坪八路军司令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179280" y="378792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安标志：宝塔山延河大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F2004062510331300000"/>
          <p:cNvPicPr/>
          <p:nvPr/>
        </p:nvPicPr>
        <p:blipFill>
          <a:blip r:embed="rId8"/>
          <a:stretch/>
        </p:blipFill>
        <p:spPr>
          <a:xfrm>
            <a:off x="3132000" y="155736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3708360" y="37148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毛泽东在延安的旧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4" descr="F2004062619001900000"/>
          <p:cNvPicPr/>
          <p:nvPr/>
        </p:nvPicPr>
        <p:blipFill>
          <a:blip r:embed="rId9"/>
          <a:stretch/>
        </p:blipFill>
        <p:spPr>
          <a:xfrm>
            <a:off x="147600" y="4740120"/>
            <a:ext cx="2695680" cy="1952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F2004062619063300000"/>
          <p:cNvPicPr/>
          <p:nvPr/>
        </p:nvPicPr>
        <p:blipFill>
          <a:blip r:embed="rId10"/>
          <a:stretch/>
        </p:blipFill>
        <p:spPr>
          <a:xfrm>
            <a:off x="2987640" y="4724280"/>
            <a:ext cx="3240000" cy="1968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" descr="F2004062619021900000"/>
          <p:cNvPicPr/>
          <p:nvPr/>
        </p:nvPicPr>
        <p:blipFill>
          <a:blip r:embed="rId11"/>
          <a:stretch/>
        </p:blipFill>
        <p:spPr>
          <a:xfrm>
            <a:off x="6300720" y="4730760"/>
            <a:ext cx="269568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52280" y="762120"/>
            <a:ext cx="4635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新中国成立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905120" y="0"/>
            <a:ext cx="5105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民族精神的体现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685800" y="1523880"/>
            <a:ext cx="8077320" cy="2743200"/>
            <a:chOff x="685800" y="1523880"/>
            <a:chExt cx="8077320" cy="2743200"/>
          </a:xfrm>
        </p:grpSpPr>
        <p:sp>
          <p:nvSpPr>
            <p:cNvPr id="203" name="AutoShape 5"/>
            <p:cNvSpPr/>
            <p:nvPr/>
          </p:nvSpPr>
          <p:spPr>
            <a:xfrm>
              <a:off x="1752480" y="1523880"/>
              <a:ext cx="7010640" cy="27432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6"/>
            <p:cNvSpPr/>
            <p:nvPr/>
          </p:nvSpPr>
          <p:spPr>
            <a:xfrm>
              <a:off x="685800" y="1752480"/>
              <a:ext cx="838080" cy="2286000"/>
            </a:xfrm>
            <a:prstGeom prst="verticalScroll">
              <a:avLst>
                <a:gd name="adj" fmla="val 12500"/>
              </a:avLst>
            </a:prstGeom>
            <a:solidFill>
              <a:srgbClr val="6fc0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2057400" y="2650680"/>
              <a:ext cx="6580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主要内涵是：为国争光、为民族争气的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爱国主义精神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，独立自主、自力更生的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艰苦创业的精神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，讲求科学、求实精神，胸怀全局、为国分忧的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奉献精神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914400" y="2025360"/>
              <a:ext cx="533520" cy="17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大  庆  精  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9" descr="20051251137226"/>
          <p:cNvPicPr/>
          <p:nvPr/>
        </p:nvPicPr>
        <p:blipFill>
          <a:blip r:embed="rId2"/>
          <a:stretch/>
        </p:blipFill>
        <p:spPr>
          <a:xfrm>
            <a:off x="5181480" y="4295880"/>
            <a:ext cx="3276720" cy="2485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C7F3B9292335A5C7E3B6AE379572C4D7"/>
          <p:cNvPicPr/>
          <p:nvPr/>
        </p:nvPicPr>
        <p:blipFill>
          <a:blip r:embed="rId3"/>
          <a:stretch/>
        </p:blipFill>
        <p:spPr>
          <a:xfrm>
            <a:off x="1295280" y="4343400"/>
            <a:ext cx="3353040" cy="23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685800" y="1676520"/>
            <a:ext cx="8153280" cy="1981080"/>
            <a:chOff x="685800" y="1676520"/>
            <a:chExt cx="8153280" cy="1981080"/>
          </a:xfrm>
        </p:grpSpPr>
        <p:sp>
          <p:nvSpPr>
            <p:cNvPr id="210" name="AutoShape 3"/>
            <p:cNvSpPr/>
            <p:nvPr/>
          </p:nvSpPr>
          <p:spPr>
            <a:xfrm>
              <a:off x="1828800" y="1752840"/>
              <a:ext cx="7010280" cy="182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4"/>
            <p:cNvSpPr/>
            <p:nvPr/>
          </p:nvSpPr>
          <p:spPr>
            <a:xfrm>
              <a:off x="685800" y="1676520"/>
              <a:ext cx="838080" cy="1981080"/>
            </a:xfrm>
            <a:prstGeom prst="verticalScroll">
              <a:avLst>
                <a:gd name="adj" fmla="val 12500"/>
              </a:avLst>
            </a:prstGeom>
            <a:solidFill>
              <a:srgbClr val="6fc0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5"/>
            <p:cNvSpPr/>
            <p:nvPr/>
          </p:nvSpPr>
          <p:spPr>
            <a:xfrm>
              <a:off x="933480" y="1828800"/>
              <a:ext cx="514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两弹一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2057400" y="2392200"/>
              <a:ext cx="6389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主要内涵是：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黑体"/>
                </a:rPr>
                <a:t>“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热爱祖国、无私奉献、自力更生、艰苦奋斗、大力协同、勇于登攀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黑体"/>
                </a:rPr>
                <a:t>”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的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黑体"/>
                </a:rPr>
                <a:t>“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两弹一星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黑体"/>
                </a:rPr>
                <a:t>”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精神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7"/>
          <p:cNvGrpSpPr/>
          <p:nvPr/>
        </p:nvGrpSpPr>
        <p:grpSpPr>
          <a:xfrm>
            <a:off x="181080" y="3997440"/>
            <a:ext cx="8783640" cy="2673360"/>
            <a:chOff x="181080" y="3997440"/>
            <a:chExt cx="8783640" cy="2673360"/>
          </a:xfrm>
        </p:grpSpPr>
        <p:pic>
          <p:nvPicPr>
            <p:cNvPr id="215" name="Picture 8" descr="2006881040219"/>
            <p:cNvPicPr/>
            <p:nvPr/>
          </p:nvPicPr>
          <p:blipFill>
            <a:blip r:embed="rId2"/>
            <a:stretch/>
          </p:blipFill>
          <p:spPr>
            <a:xfrm>
              <a:off x="2197080" y="4073400"/>
              <a:ext cx="2157480" cy="25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9" descr="20050511061259926"/>
            <p:cNvPicPr/>
            <p:nvPr/>
          </p:nvPicPr>
          <p:blipFill>
            <a:blip r:embed="rId3"/>
            <a:stretch/>
          </p:blipFill>
          <p:spPr>
            <a:xfrm>
              <a:off x="181080" y="4073400"/>
              <a:ext cx="2036880" cy="259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0" descr="u=354344202,2623535126&amp;gp=0"/>
            <p:cNvPicPr/>
            <p:nvPr/>
          </p:nvPicPr>
          <p:blipFill>
            <a:blip r:embed="rId4"/>
            <a:stretch/>
          </p:blipFill>
          <p:spPr>
            <a:xfrm>
              <a:off x="4383360" y="4289040"/>
              <a:ext cx="2298600" cy="17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11"/>
            <p:cNvSpPr/>
            <p:nvPr/>
          </p:nvSpPr>
          <p:spPr>
            <a:xfrm>
              <a:off x="992880" y="5152680"/>
              <a:ext cx="11552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原子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2"/>
            <p:cNvSpPr/>
            <p:nvPr/>
          </p:nvSpPr>
          <p:spPr>
            <a:xfrm>
              <a:off x="4665600" y="60894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人造卫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13" descr="270087"/>
            <p:cNvPicPr/>
            <p:nvPr/>
          </p:nvPicPr>
          <p:blipFill>
            <a:blip r:embed="rId5"/>
            <a:stretch/>
          </p:blipFill>
          <p:spPr>
            <a:xfrm>
              <a:off x="6732720" y="4073400"/>
              <a:ext cx="2232000" cy="244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14"/>
            <p:cNvSpPr/>
            <p:nvPr/>
          </p:nvSpPr>
          <p:spPr>
            <a:xfrm>
              <a:off x="2124360" y="3997440"/>
              <a:ext cx="122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导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WordArt 15"/>
          <p:cNvSpPr txBox="1"/>
          <p:nvPr/>
        </p:nvSpPr>
        <p:spPr>
          <a:xfrm>
            <a:off x="1905120" y="0"/>
            <a:ext cx="5105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民族精神的体现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52280" y="762120"/>
            <a:ext cx="4635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新中国成立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685800" y="1676520"/>
            <a:ext cx="8153280" cy="1981080"/>
            <a:chOff x="685800" y="1676520"/>
            <a:chExt cx="8153280" cy="1981080"/>
          </a:xfrm>
        </p:grpSpPr>
        <p:sp>
          <p:nvSpPr>
            <p:cNvPr id="225" name="AutoShape 3"/>
            <p:cNvSpPr/>
            <p:nvPr/>
          </p:nvSpPr>
          <p:spPr>
            <a:xfrm>
              <a:off x="1828800" y="1752840"/>
              <a:ext cx="7010280" cy="182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"/>
            <p:cNvSpPr/>
            <p:nvPr/>
          </p:nvSpPr>
          <p:spPr>
            <a:xfrm>
              <a:off x="685800" y="1676520"/>
              <a:ext cx="838080" cy="1981080"/>
            </a:xfrm>
            <a:prstGeom prst="verticalScroll">
              <a:avLst>
                <a:gd name="adj" fmla="val 12500"/>
              </a:avLst>
            </a:prstGeom>
            <a:solidFill>
              <a:srgbClr val="6fc0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914400" y="1905120"/>
              <a:ext cx="45072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抗洪精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1981080" y="2210400"/>
              <a:ext cx="669456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主要内涵是：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  <a:ea typeface="黑体"/>
                </a:rPr>
                <a:t> “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万众一心、众志成城，不怕困难、顽强拼搏，坚韧不拔、敢于胜利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黑体"/>
                </a:rPr>
                <a:t>”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的伟大抗洪精神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7" descr="1"/>
          <p:cNvPicPr/>
          <p:nvPr/>
        </p:nvPicPr>
        <p:blipFill>
          <a:blip r:embed="rId2"/>
          <a:stretch/>
        </p:blipFill>
        <p:spPr>
          <a:xfrm>
            <a:off x="380880" y="3894120"/>
            <a:ext cx="4191120" cy="2887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15_88375"/>
          <p:cNvPicPr/>
          <p:nvPr/>
        </p:nvPicPr>
        <p:blipFill>
          <a:blip r:embed="rId3"/>
          <a:stretch/>
        </p:blipFill>
        <p:spPr>
          <a:xfrm>
            <a:off x="4681440" y="3886200"/>
            <a:ext cx="4267440" cy="2895480"/>
          </a:xfrm>
          <a:prstGeom prst="rect">
            <a:avLst/>
          </a:prstGeom>
          <a:ln w="0">
            <a:noFill/>
          </a:ln>
        </p:spPr>
      </p:pic>
      <p:sp>
        <p:nvSpPr>
          <p:cNvPr id="231" name="WordArt 9"/>
          <p:cNvSpPr txBox="1"/>
          <p:nvPr/>
        </p:nvSpPr>
        <p:spPr>
          <a:xfrm>
            <a:off x="1905120" y="0"/>
            <a:ext cx="5105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民族精神的体现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52280" y="762120"/>
            <a:ext cx="4635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新中国成立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685800" y="1523880"/>
            <a:ext cx="8153280" cy="1981080"/>
            <a:chOff x="685800" y="1523880"/>
            <a:chExt cx="8153280" cy="1981080"/>
          </a:xfrm>
        </p:grpSpPr>
        <p:sp>
          <p:nvSpPr>
            <p:cNvPr id="234" name="AutoShape 3"/>
            <p:cNvSpPr/>
            <p:nvPr/>
          </p:nvSpPr>
          <p:spPr>
            <a:xfrm>
              <a:off x="1828800" y="1523880"/>
              <a:ext cx="7010280" cy="182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4"/>
            <p:cNvSpPr/>
            <p:nvPr/>
          </p:nvSpPr>
          <p:spPr>
            <a:xfrm>
              <a:off x="685800" y="1523880"/>
              <a:ext cx="838080" cy="1981080"/>
            </a:xfrm>
            <a:prstGeom prst="verticalScroll">
              <a:avLst>
                <a:gd name="adj" fmla="val 12500"/>
              </a:avLst>
            </a:prstGeom>
            <a:solidFill>
              <a:srgbClr val="6fc0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5"/>
            <p:cNvSpPr/>
            <p:nvPr/>
          </p:nvSpPr>
          <p:spPr>
            <a:xfrm>
              <a:off x="914400" y="1600200"/>
              <a:ext cx="380880" cy="17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载人航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"/>
            <p:cNvSpPr/>
            <p:nvPr/>
          </p:nvSpPr>
          <p:spPr>
            <a:xfrm>
              <a:off x="2057400" y="2163240"/>
              <a:ext cx="6553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主要内涵是：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  <a:ea typeface="黑体"/>
                </a:rPr>
                <a:t> “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特别能吃苦、特别能战斗、特别能攻关、特别能奉献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黑体"/>
                </a:rPr>
                <a:t>”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的载人航天精神。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掌握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7" descr="神舟一号"/>
          <p:cNvPicPr/>
          <p:nvPr/>
        </p:nvPicPr>
        <p:blipFill>
          <a:blip r:embed="rId2"/>
          <a:stretch/>
        </p:blipFill>
        <p:spPr>
          <a:xfrm>
            <a:off x="380880" y="3610080"/>
            <a:ext cx="2590920" cy="1568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神舟二号"/>
          <p:cNvPicPr/>
          <p:nvPr/>
        </p:nvPicPr>
        <p:blipFill>
          <a:blip r:embed="rId3"/>
          <a:stretch/>
        </p:blipFill>
        <p:spPr>
          <a:xfrm>
            <a:off x="3200400" y="3611520"/>
            <a:ext cx="2590920" cy="1522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神舟三号"/>
          <p:cNvPicPr/>
          <p:nvPr/>
        </p:nvPicPr>
        <p:blipFill>
          <a:blip r:embed="rId4"/>
          <a:stretch/>
        </p:blipFill>
        <p:spPr>
          <a:xfrm>
            <a:off x="6172200" y="3581280"/>
            <a:ext cx="2590920" cy="1476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神舟四号"/>
          <p:cNvPicPr/>
          <p:nvPr/>
        </p:nvPicPr>
        <p:blipFill>
          <a:blip r:embed="rId5"/>
          <a:stretch/>
        </p:blipFill>
        <p:spPr>
          <a:xfrm>
            <a:off x="380880" y="5281560"/>
            <a:ext cx="2590920" cy="1449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神舟五号"/>
          <p:cNvPicPr/>
          <p:nvPr/>
        </p:nvPicPr>
        <p:blipFill>
          <a:blip r:embed="rId6"/>
          <a:stretch/>
        </p:blipFill>
        <p:spPr>
          <a:xfrm>
            <a:off x="3200400" y="5270400"/>
            <a:ext cx="2666880" cy="1497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神舟六号"/>
          <p:cNvPicPr/>
          <p:nvPr/>
        </p:nvPicPr>
        <p:blipFill>
          <a:blip r:embed="rId7"/>
          <a:stretch/>
        </p:blipFill>
        <p:spPr>
          <a:xfrm>
            <a:off x="6172200" y="5240160"/>
            <a:ext cx="2590920" cy="1494000"/>
          </a:xfrm>
          <a:prstGeom prst="rect">
            <a:avLst/>
          </a:prstGeom>
          <a:ln w="0">
            <a:noFill/>
          </a:ln>
        </p:spPr>
      </p:pic>
      <p:sp>
        <p:nvSpPr>
          <p:cNvPr id="244" name="WordArt 13"/>
          <p:cNvSpPr txBox="1"/>
          <p:nvPr/>
        </p:nvSpPr>
        <p:spPr>
          <a:xfrm>
            <a:off x="1905120" y="0"/>
            <a:ext cx="5105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民族精神的体现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152280" y="762120"/>
            <a:ext cx="4635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新中国成立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f7913"/>
                </a:solidFill>
                <a:latin typeface="Arial"/>
              </a:rPr>
              <a:t>提问一</a:t>
            </a: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中华文化的特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953800" y="119700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华文明绵延不绝的重要原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768400" y="2106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中华文化的主要内容包括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992160" y="1943280"/>
            <a:ext cx="640080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民族精神我传承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247" name="Picture 3" descr="12"/>
          <p:cNvPicPr/>
          <p:nvPr/>
        </p:nvPicPr>
        <p:blipFill>
          <a:blip r:embed="rId3"/>
          <a:stretch/>
        </p:blipFill>
        <p:spPr>
          <a:xfrm>
            <a:off x="304920" y="4648320"/>
            <a:ext cx="8459640" cy="1869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gif001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36000" y="0"/>
            <a:ext cx="1657080" cy="1413000"/>
          </a:xfrm>
          <a:prstGeom prst="rect">
            <a:avLst/>
          </a:prstGeom>
          <a:ln w="0">
            <a:noFill/>
          </a:ln>
        </p:spPr>
      </p:pic>
      <p:sp>
        <p:nvSpPr>
          <p:cNvPr id="249" name="文本框 8200"/>
          <p:cNvSpPr/>
          <p:nvPr/>
        </p:nvSpPr>
        <p:spPr>
          <a:xfrm>
            <a:off x="2062080" y="1413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26420a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92160" y="155520"/>
            <a:ext cx="914400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民族文化是民族的根，民族精神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民族的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80880" y="2617920"/>
            <a:ext cx="7872480" cy="13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6fc01e"/>
                </a:solidFill>
                <a:uFillTx/>
                <a:latin typeface="Arial"/>
              </a:rPr>
              <a:t>在新的历史条件下，培育民族精神，最重要的是要结合时代和社会发展要求，不断为之增添富有生命力的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965160" y="6714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青少年应怎样弘扬民族精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广播"/>
          <p:cNvPicPr/>
          <p:nvPr/>
        </p:nvPicPr>
        <p:blipFill>
          <a:blip r:embed="rId1"/>
          <a:stretch/>
        </p:blipFill>
        <p:spPr>
          <a:xfrm>
            <a:off x="7812000" y="5157720"/>
            <a:ext cx="1081080" cy="14842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1187280" y="393372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682560" y="1952640"/>
            <a:ext cx="7547040" cy="37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要立足于建设中国特色社会主义伟大实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楷体_GB2312"/>
              </a:rPr>
              <a:t>二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要继承和发扬中华民族的优良传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楷体_GB2312"/>
              </a:rPr>
              <a:t>三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要正确面对外来思想文化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楷体_GB2312"/>
              </a:rPr>
              <a:t>四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青少年是国家和民族的希望和未来，让我们一起努力，成为民族精神的传播者、弘扬者和建设者，共同谱写民族精神的新篇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7F15-A5CC-4B4B-9878-004FB5D556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f7913"/>
                </a:solidFill>
                <a:latin typeface="Arial"/>
              </a:rPr>
              <a:t>小结（本节需要你记住的内容）</a:t>
            </a:r>
            <a:endParaRPr b="1" lang="en-US" sz="36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为什么要大力弘扬民族精神？（重要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中华民族的伟大民族精神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新的历史条件下，培育民族精神，最重要的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青少年应怎样弘扬民族精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5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了解）新民主主义革命时期、新中国成立后形成的民族精神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f7913"/>
                </a:solidFill>
                <a:latin typeface="Arial"/>
              </a:rPr>
              <a:t>提问二</a:t>
            </a: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中华文化的特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中华传统文化的深刻影响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449360" y="1171440"/>
            <a:ext cx="65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中华文化的主要内容包括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f7913"/>
                </a:solidFill>
                <a:latin typeface="Arial"/>
              </a:rPr>
              <a:t>提问三</a:t>
            </a: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中华传统文化的深刻影响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815560" y="190512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华文明绵延不绝的重要原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863800" y="11606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中华文化的主要内容包括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6720" y="316080"/>
            <a:ext cx="792036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f7913"/>
                </a:solidFill>
                <a:latin typeface="Arial"/>
              </a:rPr>
              <a:t>提问四</a:t>
            </a:r>
            <a:endParaRPr b="1" lang="en-US" sz="24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中华文化的特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815560" y="203040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华文明绵延不绝的重要原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873160" y="11574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中华文化的主要内容包括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5"/>
          <p:cNvSpPr/>
          <p:nvPr/>
        </p:nvSpPr>
        <p:spPr>
          <a:xfrm>
            <a:off x="6454800" y="3332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488880" y="1349280"/>
            <a:ext cx="8207280" cy="5473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06360" y="5978520"/>
            <a:ext cx="88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你如何理解“这就是中国的脊梁”这句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493560" y="260280"/>
            <a:ext cx="745488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民族精神  生生不息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00000" y="19890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中国的脊梁”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就是指体现民族精神和气节、为了国家和民族的利益而不惜奉献自己一切的人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为什么要大力弘扬民族精神？（重要性）</a:t>
            </a:r>
            <a:endParaRPr b="1" lang="en-US" sz="4800" spc="-1" strike="noStrike">
              <a:solidFill>
                <a:srgbClr val="4f7913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47640" y="31237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民族要生存和发展，就要有一种昂扬向上的民族精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民族只有具有高尚的民族品格，坚定的民族志向，远大的民族理想，才能有巨大的凝聚力，才能成就伟业，才能自立于世界民族之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345200" y="23623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d60093"/>
                </a:solidFill>
                <a:uFillTx/>
                <a:latin typeface="Arial"/>
                <a:ea typeface="华文新魏"/>
              </a:rPr>
              <a:t>民族精神是民族文化的精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1332000" y="277920"/>
            <a:ext cx="9144000" cy="64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我用残损的手掌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摸索这广大的土地：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这一角已变成灰烬，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那一角只是血和泥；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这一片湖该是我的家乡，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（春天，堤上繁花如锦障，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嫩柳枝折断有奇异的芬芳，）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我触到荇藻和水的微凉；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这长白山的雪峰冷到彻骨，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这黄河的水夹泥沙在指间滑出；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江南的水田，你当年新生的禾草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是那么细，那么软……现在只有蓬蒿；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岭南的荔枝花寂寞地憔悴，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尽那边，我蘸着南海没有渔船的苦水……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无形的手掌掠过无限的江山，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手指沾了血和灰，手掌沾了阴暗，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只有那辽远的一角依然完整， 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温暖，明朗，坚固而蓬勃生春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…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…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3814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戴望舒《我用残损的手掌》.mp3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0"/>
                            </p:stCondLst>
                            <p:childTnLst>
                              <p:par>
                                <p:cTn id="56" dur="indefinite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80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80000"/>
                            </p:stCondLst>
                            <p:childTnLst>
                              <p:par>
                                <p:cTn id="62" dur="indefinite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80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80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60000"/>
                            </p:stCondLst>
                            <p:childTnLst>
                              <p:par>
                                <p:cTn id="68" dur="indefinite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80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80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evt="end">
                                        <p:tn val="68"/>
                                      </p:cond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28735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00:40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59Z</dcterms:modified>
  <cp:revision>7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