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73.png" ContentType="image/png"/>
  <Override PartName="/ppt/media/image54.jpeg" ContentType="image/jpeg"/>
  <Override PartName="/ppt/media/image53.jpeg" ContentType="image/jpeg"/>
  <Override PartName="/ppt/media/image51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57.jpeg" ContentType="image/jpeg"/>
  <Override PartName="/ppt/media/image43.png" ContentType="image/png"/>
  <Override PartName="/ppt/media/image36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11.png" ContentType="image/png"/>
  <Override PartName="/ppt/media/image1.jpeg" ContentType="image/jpeg"/>
  <Override PartName="/ppt/media/image35.jpeg" ContentType="image/jpeg"/>
  <Override PartName="/ppt/media/image9.png" ContentType="image/png"/>
  <Override PartName="/ppt/media/image15.jpeg" ContentType="image/jpeg"/>
  <Override PartName="/ppt/media/image55.wmf" ContentType="image/x-wmf"/>
  <Override PartName="/ppt/media/image18.jpeg" ContentType="image/jpeg"/>
  <Override PartName="/ppt/media/image20.jpeg" ContentType="image/jpeg"/>
  <Override PartName="/ppt/media/image22.jpeg" ContentType="image/jpeg"/>
  <Override PartName="/ppt/media/image81.jpeg" ContentType="image/jpeg"/>
  <Override PartName="/ppt/media/image72.gif" ContentType="image/gif"/>
  <Override PartName="/ppt/media/image24.jpeg" ContentType="image/jpeg"/>
  <Override PartName="/ppt/media/image76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74.jpeg" ContentType="image/jpeg"/>
  <Override PartName="/ppt/media/image69.jpeg" ContentType="image/jpeg"/>
  <Override PartName="/ppt/media/image16.jpeg" ContentType="image/jpeg"/>
  <Override PartName="/ppt/media/image71.gif" ContentType="image/gif"/>
  <Override PartName="/ppt/media/image61.jpeg" ContentType="image/jpeg"/>
  <Override PartName="/ppt/media/image49.png" ContentType="image/png"/>
  <Override PartName="/ppt/media/image67.jpeg" ContentType="image/jpeg"/>
  <Override PartName="/ppt/media/image66.jpeg" ContentType="image/jpeg"/>
  <Override PartName="/ppt/media/image64.jpeg" ContentType="image/jpeg"/>
  <Override PartName="/ppt/media/image70.png" ContentType="image/png"/>
  <Override PartName="/ppt/media/image28.png" ContentType="image/png"/>
  <Override PartName="/ppt/media/image38.jpeg" ContentType="image/jpeg"/>
  <Override PartName="/ppt/media/image63.jpeg" ContentType="image/jpeg"/>
  <Override PartName="/ppt/media/image6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0.jpeg" ContentType="image/jpeg"/>
  <Override PartName="/ppt/media/image77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26.jpeg" ContentType="image/jpeg"/>
  <Override PartName="/ppt/media/image42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13B-E181-4F37-904F-DA7F3DFC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306-A2F4-4A37-BF60-C889FA15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027-C98E-4D51-846E-F914BA18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262-F737-41D0-AB53-775BA6F5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FE84-DAA7-44BA-BC37-9E86F344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A32-6DD6-4E2C-971D-1275F3FE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45C4-E0CC-4679-87E1-EC866504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F49E-6161-4280-ABB2-2094E160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E95-A61E-42AD-9911-2F71C708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0D27-991E-42B8-82ED-8718D655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CCC-2E04-448B-8FE1-1F54BA6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289-6E2F-4900-9165-AD62EA2C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6CFF-A04B-40A0-8B89-6AF1394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3021-8216-41E4-8FE7-D57C7E7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965-B5C0-42B9-98F1-D613DF9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A458-9243-4B28-8979-E15E9F97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AD2F-3321-4F22-994E-1D22B096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D5E-F247-4EE6-B364-55DDB485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563-B671-4593-95EB-4FF7EF72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CD9-DB9D-42E1-ABAC-77779D1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A8E-27AE-404B-AF84-B7D6D1EE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A75-7759-4B29-80FF-0965E56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A19-B690-47EC-9EF3-BC114F4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AC8-41E4-478C-A1D5-FB09B317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B59D-320D-4456-A0C8-3397AEB1D5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680-A88C-4329-8141-F3E15E6787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5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5.png"/><Relationship Id="rId10" Type="http://schemas.openxmlformats.org/officeDocument/2006/relationships/image" Target="../media/image66.jpeg"/><Relationship Id="rId11" Type="http://schemas.openxmlformats.org/officeDocument/2006/relationships/image" Target="../media/image67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8" descr="BJ3009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8k"/>
          <p:cNvPicPr/>
          <p:nvPr/>
        </p:nvPicPr>
        <p:blipFill>
          <a:blip r:embed="rId2"/>
          <a:stretch/>
        </p:blipFill>
        <p:spPr>
          <a:xfrm>
            <a:off x="3570120" y="380880"/>
            <a:ext cx="2057400" cy="14526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6"/>
          <p:cNvSpPr txBox="1"/>
          <p:nvPr/>
        </p:nvSpPr>
        <p:spPr>
          <a:xfrm>
            <a:off x="1066680" y="228600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合作竞争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图片1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33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1066680" y="228600"/>
            <a:ext cx="496908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合作中竞争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04920" y="342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竞争是一种有效的合作方式。对我们来说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要善于找准自己的优势，扬长避短，敢与他人竞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27"/>
          <p:cNvPicPr/>
          <p:nvPr/>
        </p:nvPicPr>
        <p:blipFill>
          <a:blip r:embed="rId2"/>
          <a:stretch/>
        </p:blipFill>
        <p:spPr>
          <a:xfrm>
            <a:off x="0" y="0"/>
            <a:ext cx="80496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31"/>
          <p:cNvPicPr/>
          <p:nvPr/>
        </p:nvPicPr>
        <p:blipFill>
          <a:blip r:embed="rId3"/>
          <a:stretch/>
        </p:blipFill>
        <p:spPr>
          <a:xfrm>
            <a:off x="7284960" y="0"/>
            <a:ext cx="1859040" cy="1989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"/>
          <p:cNvSpPr/>
          <p:nvPr/>
        </p:nvSpPr>
        <p:spPr>
          <a:xfrm>
            <a:off x="533520" y="214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合作中竞争，要尊重竞争对手，向竞争对手学习。合作的过程是互帮互学、互相提高的过程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取长补短、携手共进，是我们在合作中竞争的目标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1" descr="200491213734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533520" y="152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们班，每个同学都有自己的长处，与同学相比，我的优势和劣势在哪里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228600" y="1371600"/>
            <a:ext cx="8763120" cy="2971800"/>
            <a:chOff x="228600" y="1371600"/>
            <a:chExt cx="8763120" cy="2971800"/>
          </a:xfrm>
        </p:grpSpPr>
        <p:sp>
          <p:nvSpPr>
            <p:cNvPr id="177" name="AutoShape 11"/>
            <p:cNvSpPr/>
            <p:nvPr/>
          </p:nvSpPr>
          <p:spPr>
            <a:xfrm>
              <a:off x="228600" y="1371600"/>
              <a:ext cx="8763120" cy="2971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304920" y="163044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            </a:t>
              </a: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与              同学相比，我的优势是                      我的不足是                   ，我如何与他（她）竞争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90920" y="2133720"/>
              <a:ext cx="1600200" cy="360"/>
              <a:chOff x="2590920" y="2133720"/>
              <a:chExt cx="1600200" cy="360"/>
            </a:xfrm>
          </p:grpSpPr>
          <p:sp>
            <p:nvSpPr>
              <p:cNvPr id="180" name="Line 6"/>
              <p:cNvSpPr/>
              <p:nvPr/>
            </p:nvSpPr>
            <p:spPr>
              <a:xfrm>
                <a:off x="2590920" y="2133720"/>
                <a:ext cx="1600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590920" y="213372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990720" y="2743200"/>
              <a:ext cx="2590560" cy="360"/>
              <a:chOff x="990720" y="2743200"/>
              <a:chExt cx="2590560" cy="360"/>
            </a:xfrm>
          </p:grpSpPr>
          <p:sp>
            <p:nvSpPr>
              <p:cNvPr id="183" name="Line 7"/>
              <p:cNvSpPr/>
              <p:nvPr/>
            </p:nvSpPr>
            <p:spPr>
              <a:xfrm>
                <a:off x="990720" y="2743200"/>
                <a:ext cx="2590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990720" y="27432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019920" y="2743200"/>
              <a:ext cx="2286000" cy="360"/>
              <a:chOff x="6019920" y="2743200"/>
              <a:chExt cx="2286000" cy="360"/>
            </a:xfrm>
          </p:grpSpPr>
          <p:sp>
            <p:nvSpPr>
              <p:cNvPr id="186" name="Line 8"/>
              <p:cNvSpPr/>
              <p:nvPr/>
            </p:nvSpPr>
            <p:spPr>
              <a:xfrm>
                <a:off x="6019920" y="2743200"/>
                <a:ext cx="228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6019920" y="2743200"/>
                <a:ext cx="228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334120" y="3429000"/>
              <a:ext cx="2590560" cy="360"/>
              <a:chOff x="5334120" y="3429000"/>
              <a:chExt cx="2590560" cy="360"/>
            </a:xfrm>
          </p:grpSpPr>
          <p:sp>
            <p:nvSpPr>
              <p:cNvPr id="189" name="Line 9"/>
              <p:cNvSpPr/>
              <p:nvPr/>
            </p:nvSpPr>
            <p:spPr>
              <a:xfrm>
                <a:off x="5334120" y="3429000"/>
                <a:ext cx="2590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5334120" y="34290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57200" y="4038480"/>
              <a:ext cx="7772400" cy="360"/>
              <a:chOff x="457200" y="4038480"/>
              <a:chExt cx="7772400" cy="360"/>
            </a:xfrm>
          </p:grpSpPr>
          <p:sp>
            <p:nvSpPr>
              <p:cNvPr id="192" name="Line 10"/>
              <p:cNvSpPr/>
              <p:nvPr/>
            </p:nvSpPr>
            <p:spPr>
              <a:xfrm>
                <a:off x="457200" y="4038480"/>
                <a:ext cx="777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457200" y="403848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4" name="Picture 14" descr="DSCN0216"/>
          <p:cNvPicPr/>
          <p:nvPr/>
        </p:nvPicPr>
        <p:blipFill>
          <a:blip r:embed="rId2"/>
          <a:stretch/>
        </p:blipFill>
        <p:spPr>
          <a:xfrm>
            <a:off x="457200" y="4724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tiyujie4"/>
          <p:cNvPicPr/>
          <p:nvPr/>
        </p:nvPicPr>
        <p:blipFill>
          <a:blip r:embed="rId3"/>
          <a:stretch/>
        </p:blipFill>
        <p:spPr>
          <a:xfrm>
            <a:off x="5943600" y="47242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ydh2"/>
          <p:cNvPicPr/>
          <p:nvPr/>
        </p:nvPicPr>
        <p:blipFill>
          <a:blip r:embed="rId4"/>
          <a:stretch/>
        </p:blipFill>
        <p:spPr>
          <a:xfrm>
            <a:off x="3200400" y="4724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1219320" y="609480"/>
            <a:ext cx="7315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帝向一个人许诺说：“我可以满足你的三个愿望，但有一个条件，你在得到你所要的东西的时候，你的竞争对手将得到你所要的东西的两倍。”于是这人开始提出自己的愿望，第一个和第二个愿望都是一大笔财产，第三个却是“将我打个半死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895480" y="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笑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个愿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295280" y="5334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明了人们的竞争意识强烈。但这种竞争好不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600200" y="1676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合作中竞争，倡导一种全新的竞争理念：竞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不意味“你死我活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竞争的目的在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超越自我，共同进步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不以成败论英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STD00129"/>
          <p:cNvPicPr/>
          <p:nvPr/>
        </p:nvPicPr>
        <p:blipFill>
          <a:blip r:embed="rId1"/>
          <a:stretch/>
        </p:blipFill>
        <p:spPr>
          <a:xfrm>
            <a:off x="0" y="2895480"/>
            <a:ext cx="3398760" cy="35053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9"/>
          <p:cNvSpPr/>
          <p:nvPr/>
        </p:nvSpPr>
        <p:spPr>
          <a:xfrm>
            <a:off x="1574640" y="74520"/>
            <a:ext cx="6121440" cy="1297080"/>
          </a:xfrm>
          <a:custGeom>
            <a:avLst/>
            <a:gdLst>
              <a:gd name="textAreaLeft" fmla="*/ 1530360 w 6121440"/>
              <a:gd name="textAreaRight" fmla="*/ 4591080 w 6121440"/>
              <a:gd name="textAreaTop" fmla="*/ 324360 h 1297080"/>
              <a:gd name="textAreaBottom" fmla="*/ 12589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竞争新理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think[1]"/>
          <p:cNvPicPr/>
          <p:nvPr/>
        </p:nvPicPr>
        <p:blipFill>
          <a:blip r:embed="rId2"/>
          <a:stretch/>
        </p:blipFill>
        <p:spPr>
          <a:xfrm>
            <a:off x="0" y="0"/>
            <a:ext cx="1600200" cy="10684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3"/>
          <p:cNvSpPr/>
          <p:nvPr/>
        </p:nvSpPr>
        <p:spPr>
          <a:xfrm>
            <a:off x="3581280" y="39625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成功与失败是相对的。面对竞争的成功，应再接再厉、更进一步；面对竞争的失败，应总结经验、奋起直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304920" y="15228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2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、在竞争中合作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康海报体W12(P)"/>
              <a:ea typeface="华康海报体W12(P)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7200" y="1488960"/>
            <a:ext cx="8305920" cy="1409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美国加利福尼亚大学的学者做了这样一个实验：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只猴子分别关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间空房子里，每间两只，房子里分别放着一定数量的食物，但放的位置高度不一样。第一间房子的食物就放在地上，第二间房子的食物分别从易到难悬挂在不同高度的适当位置上，第三间房子的食物悬挂在房顶。数日后，他们发现第一间房子的猴子一死一伤，伤的缺了耳朵断了腿，奄奄一息。第三间房子的猴子也死了。只有第二间房子的猴子活的好好的。 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事例强调的是什么？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　 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914400"/>
            <a:ext cx="9144000" cy="5382000"/>
            <a:chOff x="0" y="914400"/>
            <a:chExt cx="9144000" cy="5382000"/>
          </a:xfrm>
        </p:grpSpPr>
        <p:pic>
          <p:nvPicPr>
            <p:cNvPr id="208" name="Picture 5" descr="图文：田径亚青赛 李翠获女子10000米竞走冠军"/>
            <p:cNvPicPr/>
            <p:nvPr/>
          </p:nvPicPr>
          <p:blipFill>
            <a:blip r:embed="rId1"/>
            <a:stretch/>
          </p:blipFill>
          <p:spPr>
            <a:xfrm>
              <a:off x="2362320" y="1904760"/>
              <a:ext cx="20685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87425"/>
            <p:cNvPicPr/>
            <p:nvPr/>
          </p:nvPicPr>
          <p:blipFill>
            <a:blip r:embed="rId2"/>
            <a:stretch/>
          </p:blipFill>
          <p:spPr>
            <a:xfrm>
              <a:off x="304920" y="914400"/>
              <a:ext cx="203184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7" descr="004"/>
            <p:cNvPicPr/>
            <p:nvPr/>
          </p:nvPicPr>
          <p:blipFill>
            <a:blip r:embed="rId3"/>
            <a:stretch/>
          </p:blipFill>
          <p:spPr>
            <a:xfrm>
              <a:off x="5791320" y="3276360"/>
              <a:ext cx="297180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8" descr="20048287765"/>
            <p:cNvPicPr/>
            <p:nvPr/>
          </p:nvPicPr>
          <p:blipFill>
            <a:blip r:embed="rId4"/>
            <a:stretch/>
          </p:blipFill>
          <p:spPr>
            <a:xfrm>
              <a:off x="4724280" y="914400"/>
              <a:ext cx="335304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9"/>
            <p:cNvSpPr/>
            <p:nvPr/>
          </p:nvSpPr>
          <p:spPr>
            <a:xfrm>
              <a:off x="0" y="57150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他们在比赛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竞争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中要加强合作吗，如何合作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?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10"/>
          <p:cNvSpPr/>
          <p:nvPr/>
        </p:nvSpPr>
        <p:spPr>
          <a:xfrm>
            <a:off x="2362320" y="1062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队友参加国际比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380880" y="4524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当危险降临时，石匠必须作出选择。石匠的选择，在这里只有两种，即降与不降。他将地基降低了一些，和木匠做的相吻合了，于是救了木匠的一家，当然也救了自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80880" y="1295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皇帝要修理一座宫殿，请了一个木匠和一个石匠。为了要得到皇帝的奖励，他们都想要做的最好。但木匠的徒弟做事不认真，被师傅狠狠地批评了一顿，徒弟心里不平衡，想报复木匠，于是把木匠的尺子磨短了一厘米。于是，木匠做出的木制物品都比原来计划的要短一厘米，于是他们面临着被砍头的命运。石匠看到之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32520" y="22788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双赢的智慧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10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2438280" cy="111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龟兔赛跑"/>
          <p:cNvPicPr/>
          <p:nvPr/>
        </p:nvPicPr>
        <p:blipFill>
          <a:blip r:embed="rId1"/>
          <a:stretch/>
        </p:blipFill>
        <p:spPr>
          <a:xfrm>
            <a:off x="76320" y="49320"/>
            <a:ext cx="3909960" cy="4751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4038480" y="60480"/>
            <a:ext cx="50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兔子因骄傲在第一次赛跑中失利之后，进行了深刻的反思，并决心和乌龟作第二次较量，乌龟接受了兔子的挑战，结果这次兔子轻松的战胜了乌龟。乌龟很不服气，它主张再赛一次，并由自己安排制定比赛路线和规则，兔子同意了。当兔子遥遥领先乌龟而洋洋自得时，一条长长的河流挡在了面前，这下兔子犯难了，坐在河边发愁，结果乌龟慢慢的赶上来，再慢慢的游过河而赢得了比赛。   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14400" y="60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龟兔赛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4876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几番大战后，龟兔各有胜负，它们也厌倦了这种对抗，最终达成协议，再赛最后一次，于是人们看到了陆地上兔子背着乌龟跑，水中乌龟背着兔子游，最后同时到达终点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914400" y="10666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某人死后被上帝领去参观。在地狱里，他看见所有的人都围着一口锅，锅里的食物丰盛诱人，但由于唯一可以用来进食的工具是一把特别长的勺子，必须依靠他人才能享受美味，因此，所有人都挤在锅边却饿得头昏眼花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而在天堂里，他看见了同样的设施但却是不同的场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这里的每个人都主动给别人喂食，同时也获得别人给他的帮助。他们个个红光满面，神采飞扬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　 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95440" y="228600"/>
            <a:ext cx="74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故事欣赏：地狱与天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0880" y="89856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国有一大教堂发生火灾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徒在短短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序地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出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逃生，没有混乱、挤压，在求生一刹那的竞争中他们选择了合作，在合作中求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80880" y="4495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埃及首都开罗南部的一座剧院深夜在演出时发生火灾，惊恐的观众争相夺路而逃，造成至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死亡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受伤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当时剧院大约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观众正在观看演出，突然发生的火灾引起了观众的惊恐，大批观众争相夺路而逃，涌向剧院狭小的出口。混乱之中，不少人被推倒在地，慌不择路的观众纷纷从他们身上践踏而过，将他们踩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74320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合作与求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8199"/>
          <p:cNvSpPr/>
          <p:nvPr/>
        </p:nvSpPr>
        <p:spPr>
          <a:xfrm>
            <a:off x="2016000" y="676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6"/>
          <p:cNvGrpSpPr/>
          <p:nvPr/>
        </p:nvGrpSpPr>
        <p:grpSpPr>
          <a:xfrm>
            <a:off x="1600200" y="685800"/>
            <a:ext cx="1752480" cy="1643040"/>
            <a:chOff x="1600200" y="685800"/>
            <a:chExt cx="1752480" cy="1643040"/>
          </a:xfrm>
        </p:grpSpPr>
        <p:pic>
          <p:nvPicPr>
            <p:cNvPr id="87" name="Picture 27" descr="20050312105933_63071"/>
            <p:cNvPicPr/>
            <p:nvPr/>
          </p:nvPicPr>
          <p:blipFill>
            <a:blip r:embed="rId1"/>
            <a:srcRect l="0" t="0" r="0" b="51024"/>
            <a:stretch/>
          </p:blipFill>
          <p:spPr>
            <a:xfrm>
              <a:off x="1600200" y="685800"/>
              <a:ext cx="17524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8" descr="20050312105933_63071"/>
            <p:cNvPicPr/>
            <p:nvPr/>
          </p:nvPicPr>
          <p:blipFill>
            <a:blip r:embed="rId2"/>
            <a:srcRect l="0" t="77554" r="0" b="0"/>
            <a:stretch/>
          </p:blipFill>
          <p:spPr>
            <a:xfrm>
              <a:off x="1600200" y="1828800"/>
              <a:ext cx="1752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Rectangle 4"/>
          <p:cNvSpPr/>
          <p:nvPr/>
        </p:nvSpPr>
        <p:spPr>
          <a:xfrm>
            <a:off x="304920" y="3048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设立在北京的微软公司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国总部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和汉王科技公司只有一墙之隔。它们在软件领域，都有自己的核心技术；它们的人机智能交互技术产品，在同一个市场中竞争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两家公司在竞争的同时又有合作，微软的产品中有汉王的技术，汉王也在竞争与合作中得到发展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icrosoft"/>
          <p:cNvPicPr/>
          <p:nvPr/>
        </p:nvPicPr>
        <p:blipFill>
          <a:blip r:embed="rId3"/>
          <a:stretch/>
        </p:blipFill>
        <p:spPr>
          <a:xfrm>
            <a:off x="0" y="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op-2"/>
          <p:cNvPicPr/>
          <p:nvPr/>
        </p:nvPicPr>
        <p:blipFill>
          <a:blip r:embed="rId4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2006-1-10_8490162333"/>
          <p:cNvPicPr/>
          <p:nvPr/>
        </p:nvPicPr>
        <p:blipFill>
          <a:blip r:embed="rId5"/>
          <a:stretch/>
        </p:blipFill>
        <p:spPr>
          <a:xfrm>
            <a:off x="0" y="638280"/>
            <a:ext cx="1590840" cy="16761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3"/>
          <p:cNvGrpSpPr/>
          <p:nvPr/>
        </p:nvGrpSpPr>
        <p:grpSpPr>
          <a:xfrm>
            <a:off x="3429000" y="685800"/>
            <a:ext cx="5715000" cy="1600200"/>
            <a:chOff x="3429000" y="685800"/>
            <a:chExt cx="5715000" cy="1600200"/>
          </a:xfrm>
        </p:grpSpPr>
        <p:pic>
          <p:nvPicPr>
            <p:cNvPr id="94" name="Picture 10" descr="u=3175027093,1437259013&amp;gp=0"/>
            <p:cNvPicPr/>
            <p:nvPr/>
          </p:nvPicPr>
          <p:blipFill>
            <a:blip r:embed="rId6"/>
            <a:stretch/>
          </p:blipFill>
          <p:spPr>
            <a:xfrm>
              <a:off x="3429000" y="76212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2" descr="u=1831646407,1918080487&amp;gp=0"/>
            <p:cNvPicPr/>
            <p:nvPr/>
          </p:nvPicPr>
          <p:blipFill>
            <a:blip r:embed="rId7"/>
            <a:stretch/>
          </p:blipFill>
          <p:spPr>
            <a:xfrm>
              <a:off x="5715000" y="685800"/>
              <a:ext cx="14968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8" descr="20060528_191748_82087"/>
            <p:cNvPicPr/>
            <p:nvPr/>
          </p:nvPicPr>
          <p:blipFill>
            <a:blip r:embed="rId8"/>
            <a:stretch/>
          </p:blipFill>
          <p:spPr>
            <a:xfrm>
              <a:off x="7086600" y="1058760"/>
              <a:ext cx="2057400" cy="99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25" descr="20050827093720_81089"/>
          <p:cNvPicPr/>
          <p:nvPr/>
        </p:nvPicPr>
        <p:blipFill>
          <a:blip r:embed="rId9"/>
          <a:stretch/>
        </p:blipFill>
        <p:spPr>
          <a:xfrm>
            <a:off x="1676520" y="1150920"/>
            <a:ext cx="457200" cy="44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20050827093720_81089"/>
          <p:cNvPicPr/>
          <p:nvPr/>
        </p:nvPicPr>
        <p:blipFill>
          <a:blip r:embed="rId10"/>
          <a:stretch/>
        </p:blipFill>
        <p:spPr>
          <a:xfrm>
            <a:off x="2895480" y="1379520"/>
            <a:ext cx="457200" cy="44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indextop"/>
          <p:cNvPicPr/>
          <p:nvPr/>
        </p:nvPicPr>
        <p:blipFill>
          <a:blip r:embed="rId11"/>
          <a:srcRect l="0" t="-3835" r="0" b="0"/>
          <a:stretch/>
        </p:blipFill>
        <p:spPr>
          <a:xfrm>
            <a:off x="228600" y="6192720"/>
            <a:ext cx="2057400" cy="66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2" descr="kin01"/>
          <p:cNvPicPr/>
          <p:nvPr/>
        </p:nvPicPr>
        <p:blipFill>
          <a:blip r:embed="rId12"/>
          <a:stretch/>
        </p:blipFill>
        <p:spPr>
          <a:xfrm>
            <a:off x="4284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kin02"/>
          <p:cNvPicPr/>
          <p:nvPr/>
        </p:nvPicPr>
        <p:blipFill>
          <a:blip r:embed="rId13"/>
          <a:stretch/>
        </p:blipFill>
        <p:spPr>
          <a:xfrm>
            <a:off x="13381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kin03"/>
          <p:cNvPicPr/>
          <p:nvPr/>
        </p:nvPicPr>
        <p:blipFill>
          <a:blip r:embed="rId14"/>
          <a:stretch/>
        </p:blipFill>
        <p:spPr>
          <a:xfrm>
            <a:off x="263376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8" descr="kin04"/>
          <p:cNvPicPr/>
          <p:nvPr/>
        </p:nvPicPr>
        <p:blipFill>
          <a:blip r:embed="rId15"/>
          <a:stretch/>
        </p:blipFill>
        <p:spPr>
          <a:xfrm>
            <a:off x="392904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kin05"/>
          <p:cNvPicPr/>
          <p:nvPr/>
        </p:nvPicPr>
        <p:blipFill>
          <a:blip r:embed="rId16"/>
          <a:stretch/>
        </p:blipFill>
        <p:spPr>
          <a:xfrm>
            <a:off x="52243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2" descr="kin06"/>
          <p:cNvPicPr/>
          <p:nvPr/>
        </p:nvPicPr>
        <p:blipFill>
          <a:blip r:embed="rId17"/>
          <a:stretch/>
        </p:blipFill>
        <p:spPr>
          <a:xfrm>
            <a:off x="651996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kin07"/>
          <p:cNvPicPr/>
          <p:nvPr/>
        </p:nvPicPr>
        <p:blipFill>
          <a:blip r:embed="rId18"/>
          <a:stretch/>
        </p:blipFill>
        <p:spPr>
          <a:xfrm>
            <a:off x="781524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6" descr="kin08"/>
          <p:cNvPicPr/>
          <p:nvPr/>
        </p:nvPicPr>
        <p:blipFill>
          <a:blip r:embed="rId19"/>
          <a:stretch/>
        </p:blipFill>
        <p:spPr>
          <a:xfrm>
            <a:off x="2438280" y="5410080"/>
            <a:ext cx="990720" cy="66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8" descr="kin10"/>
          <p:cNvPicPr/>
          <p:nvPr/>
        </p:nvPicPr>
        <p:blipFill>
          <a:blip r:embed="rId20"/>
          <a:stretch/>
        </p:blipFill>
        <p:spPr>
          <a:xfrm>
            <a:off x="3581280" y="5664240"/>
            <a:ext cx="990720" cy="66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0" descr="kin11"/>
          <p:cNvPicPr/>
          <p:nvPr/>
        </p:nvPicPr>
        <p:blipFill>
          <a:blip r:embed="rId21"/>
          <a:stretch/>
        </p:blipFill>
        <p:spPr>
          <a:xfrm>
            <a:off x="4724280" y="5867280"/>
            <a:ext cx="990720" cy="66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2" descr="kin12"/>
          <p:cNvPicPr/>
          <p:nvPr/>
        </p:nvPicPr>
        <p:blipFill>
          <a:blip r:embed="rId22"/>
          <a:stretch/>
        </p:blipFill>
        <p:spPr>
          <a:xfrm>
            <a:off x="5867280" y="6248520"/>
            <a:ext cx="99072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Img147460511"/>
          <p:cNvPicPr/>
          <p:nvPr/>
        </p:nvPicPr>
        <p:blipFill>
          <a:blip r:embed="rId1"/>
          <a:stretch/>
        </p:blipFill>
        <p:spPr>
          <a:xfrm>
            <a:off x="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g147460517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Img147460510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Img147460518"/>
          <p:cNvPicPr/>
          <p:nvPr/>
        </p:nvPicPr>
        <p:blipFill>
          <a:blip r:embed="rId4"/>
          <a:stretch/>
        </p:blipFill>
        <p:spPr>
          <a:xfrm>
            <a:off x="4648320" y="365760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415539"/>
          <p:cNvPicPr/>
          <p:nvPr/>
        </p:nvPicPr>
        <p:blipFill>
          <a:blip r:embed="rId1"/>
          <a:stretch/>
        </p:blipFill>
        <p:spPr>
          <a:xfrm>
            <a:off x="0" y="3295800"/>
            <a:ext cx="4686480" cy="3562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xin_1209020705204532913836"/>
          <p:cNvPicPr/>
          <p:nvPr/>
        </p:nvPicPr>
        <p:blipFill>
          <a:blip r:embed="rId2"/>
          <a:stretch/>
        </p:blipFill>
        <p:spPr>
          <a:xfrm>
            <a:off x="0" y="0"/>
            <a:ext cx="4762440" cy="455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415538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1126047077_7BaW6h"/>
          <p:cNvPicPr/>
          <p:nvPr/>
        </p:nvPicPr>
        <p:blipFill>
          <a:blip r:embed="rId4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4"/>
          <p:cNvGrpSpPr/>
          <p:nvPr/>
        </p:nvGrpSpPr>
        <p:grpSpPr>
          <a:xfrm>
            <a:off x="0" y="-360"/>
            <a:ext cx="9144000" cy="6858000"/>
            <a:chOff x="0" y="-360"/>
            <a:chExt cx="9144000" cy="6858000"/>
          </a:xfrm>
        </p:grpSpPr>
        <p:pic>
          <p:nvPicPr>
            <p:cNvPr id="237" name="Picture 5" descr="1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1"/>
            <p:cNvPicPr/>
            <p:nvPr/>
          </p:nvPicPr>
          <p:blipFill>
            <a:blip r:embed="rId2"/>
            <a:stretch/>
          </p:blipFill>
          <p:spPr>
            <a:xfrm flipH="1" rot="10800000">
              <a:off x="3276720" y="-360"/>
              <a:ext cx="327636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" descr="1"/>
            <p:cNvPicPr/>
            <p:nvPr/>
          </p:nvPicPr>
          <p:blipFill>
            <a:blip r:embed="rId3"/>
            <a:stretch/>
          </p:blipFill>
          <p:spPr>
            <a:xfrm flipH="1" rot="10800000">
              <a:off x="5867280" y="-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8" descr="1"/>
            <p:cNvPicPr/>
            <p:nvPr/>
          </p:nvPicPr>
          <p:blipFill>
            <a:blip r:embed="rId4"/>
            <a:stretch/>
          </p:blipFill>
          <p:spPr>
            <a:xfrm flipH="1" rot="10800000">
              <a:off x="0" y="2437920"/>
              <a:ext cx="327672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" descr="1"/>
            <p:cNvPicPr/>
            <p:nvPr/>
          </p:nvPicPr>
          <p:blipFill>
            <a:blip r:embed="rId5"/>
            <a:stretch/>
          </p:blipFill>
          <p:spPr>
            <a:xfrm flipH="1" rot="10800000">
              <a:off x="3276720" y="2437920"/>
              <a:ext cx="327636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0" descr="1"/>
            <p:cNvPicPr/>
            <p:nvPr/>
          </p:nvPicPr>
          <p:blipFill>
            <a:blip r:embed="rId6"/>
            <a:stretch/>
          </p:blipFill>
          <p:spPr>
            <a:xfrm flipH="1" rot="10800000">
              <a:off x="5867280" y="2437920"/>
              <a:ext cx="327672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1" descr="1"/>
            <p:cNvPicPr/>
            <p:nvPr/>
          </p:nvPicPr>
          <p:blipFill>
            <a:blip r:embed="rId7"/>
            <a:stretch/>
          </p:blipFill>
          <p:spPr>
            <a:xfrm flipH="1" rot="10800000">
              <a:off x="0" y="4419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2" descr="1"/>
            <p:cNvPicPr/>
            <p:nvPr/>
          </p:nvPicPr>
          <p:blipFill>
            <a:blip r:embed="rId8"/>
            <a:stretch/>
          </p:blipFill>
          <p:spPr>
            <a:xfrm flipH="1" rot="10800000">
              <a:off x="3200400" y="4419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1"/>
            <p:cNvPicPr/>
            <p:nvPr/>
          </p:nvPicPr>
          <p:blipFill>
            <a:blip r:embed="rId9"/>
            <a:stretch/>
          </p:blipFill>
          <p:spPr>
            <a:xfrm flipH="1" rot="10800000">
              <a:off x="5867280" y="4419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5" descr="xin_501103201505812124573"/>
          <p:cNvPicPr/>
          <p:nvPr/>
        </p:nvPicPr>
        <p:blipFill>
          <a:blip r:embed="rId10"/>
          <a:stretch/>
        </p:blipFill>
        <p:spPr>
          <a:xfrm>
            <a:off x="0" y="0"/>
            <a:ext cx="4562640" cy="4419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6"/>
          <p:cNvSpPr/>
          <p:nvPr/>
        </p:nvSpPr>
        <p:spPr>
          <a:xfrm>
            <a:off x="228600" y="5151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      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名学生（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男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女）在送往医院抢救途中死亡，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39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名学生因受惊吓及受伤被送往医院治疗观察，其中伤势较重的学生有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人。据多名目击学生称，事发时，该校初一年级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个班学生下晚自习，有学生下至二楼与一楼拐弯处被后面学生挤倒，后面的学生见状惊恐万状、蜂拥下楼欲逃，导致学生挤在狭窄的楼梯拐弯处互相挤踏。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7" descr="xin_51110320150512514964"/>
          <p:cNvPicPr/>
          <p:nvPr/>
        </p:nvPicPr>
        <p:blipFill>
          <a:blip r:embed="rId11"/>
          <a:stretch/>
        </p:blipFill>
        <p:spPr>
          <a:xfrm>
            <a:off x="4572000" y="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4572000" y="3079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06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日晚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左右，江西省九江市都昌县土塘镇中学发生学生拥挤踩踏伤亡事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图片4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304920" y="1527120"/>
            <a:ext cx="601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    “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在竞争中合作”应体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双赢”的原则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，竞争对手不能相互排斥，造成两败俱伤，而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互促进、共同提高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，这才是竞争中合作的真谛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2133720" y="304920"/>
            <a:ext cx="4968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竞争中合作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A-2-7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75564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在竞争、合作中我们应学会处理好与他人的关系</a:t>
            </a:r>
            <a:r>
              <a:rPr b="1" lang="en-US" sz="6000" spc="-1" strike="noStrike">
                <a:solidFill>
                  <a:srgbClr val="ff0000"/>
                </a:solidFill>
                <a:latin typeface="幼圆"/>
                <a:ea typeface="幼圆"/>
              </a:rPr>
              <a:t>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746280" y="933480"/>
            <a:ext cx="4968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竞争中合作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304920" y="13874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会欣赏他人，发现别人的长处，虚心向别人学习，这样才能在竞争中超过别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只有这样才能接纳别人，才会获得别人的好感，找到合作伙伴，在合作中成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09480" y="10476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在竞争与合作中，怎样处理好自己与他人的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04920" y="3657600"/>
            <a:ext cx="601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学会理解和谅解别人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对于竞争或者合作过程中的分歧和误会，不能心存怨恨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要站在对方的位置上考虑，想想别人的难处，缩小分歧，消除误会，以诚相待，帮助他人，求得共同发展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228600" y="828720"/>
            <a:ext cx="86868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前，有一位长者听到五个手指在议论：</a:t>
            </a:r>
            <a:br>
              <a:rPr sz="28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大拇指说：我最粗，干什么事都离不开我。别的四个手指都没用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食指说：大拇指太粗，中指太长，无名指太细，小拇指太短，他们都不行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中指说：我的个子最高，只要我一个人就能做很多事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无名指说：真讨厌，大家都不给我一个名字，我真不愿意和他们在一起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小拇指说：他们长得那么长、那么粗，有什么用？我是小而灵，我的作用最大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长者听了他们的对话，语重心长地对他们说：你们都说自己最有用，那么我就请你们来比一比，看看到底谁的作用大。于是这位长者拿出两只碗，其中一只里面放了一些小豆子，要求五只手指分别把这些小豆子拿到另一只碗里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895480" y="44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的本领最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手势"/>
          <p:cNvPicPr/>
          <p:nvPr/>
        </p:nvPicPr>
        <p:blipFill>
          <a:blip r:embed="rId1"/>
          <a:stretch/>
        </p:blipFill>
        <p:spPr>
          <a:xfrm>
            <a:off x="8229600" y="0"/>
            <a:ext cx="833400" cy="12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yjfzw0019"/>
          <p:cNvPicPr/>
          <p:nvPr/>
        </p:nvPicPr>
        <p:blipFill>
          <a:blip r:embed="rId1"/>
          <a:stretch/>
        </p:blipFill>
        <p:spPr>
          <a:xfrm>
            <a:off x="0" y="0"/>
            <a:ext cx="4716360" cy="189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971640" y="2781360"/>
            <a:ext cx="59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09480" y="202716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日本人流行一句话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一个中国人可以干得过一个日本人，但三个中国人却干不过三个日本人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中国也流传着一句话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一个和尚抬水喝，两个和尚担水喝，三个和尚没水喝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8088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请说说你对这两句话的理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9"/>
          <p:cNvGrpSpPr/>
          <p:nvPr/>
        </p:nvGrpSpPr>
        <p:grpSpPr>
          <a:xfrm>
            <a:off x="6243840" y="243360"/>
            <a:ext cx="2104560" cy="1694520"/>
            <a:chOff x="6243840" y="243360"/>
            <a:chExt cx="2104560" cy="1694520"/>
          </a:xfrm>
        </p:grpSpPr>
        <p:pic>
          <p:nvPicPr>
            <p:cNvPr id="267" name="Picture 10" descr="Q_013"/>
            <p:cNvPicPr/>
            <p:nvPr/>
          </p:nvPicPr>
          <p:blipFill>
            <a:blip r:embed="rId2"/>
            <a:stretch/>
          </p:blipFill>
          <p:spPr>
            <a:xfrm>
              <a:off x="6629400" y="804600"/>
              <a:ext cx="144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WordArt 11"/>
            <p:cNvSpPr txBox="1"/>
            <p:nvPr/>
          </p:nvSpPr>
          <p:spPr>
            <a:xfrm rot="20875200">
              <a:off x="6362640" y="423720"/>
              <a:ext cx="1866960" cy="1333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5789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12600">
                    <a:solidFill>
                      <a:srgbClr val="ffff00"/>
                    </a:solidFill>
                    <a:round/>
                  </a:ln>
                  <a:solidFill>
                    <a:srgbClr val="0000ff"/>
                  </a:solidFill>
                  <a:latin typeface="方正舒体"/>
                </a:rPr>
                <a:t>请你思考</a:t>
              </a:r>
              <a:endParaRPr b="1" lang="en-US" sz="32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latin typeface="方正舒体"/>
                <a:ea typeface="方正舒体"/>
              </a:endParaRPr>
            </a:p>
          </p:txBody>
        </p:sp>
      </p:grpSp>
      <p:sp>
        <p:nvSpPr>
          <p:cNvPr id="269" name="Rectangle 12"/>
          <p:cNvSpPr/>
          <p:nvPr/>
        </p:nvSpPr>
        <p:spPr>
          <a:xfrm>
            <a:off x="1143000" y="5562720"/>
            <a:ext cx="709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作的效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共生效应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1066680" y="12193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800" spc="-1" strike="noStrike">
                <a:solidFill>
                  <a:srgbClr val="0000cc"/>
                </a:solidFill>
                <a:latin typeface="黑体"/>
              </a:rPr>
              <a:t>团队精神是团队内部形成的上下一致、相互支持、密切合作、无私奉献的群体精神。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图片1８"/>
          <p:cNvPicPr/>
          <p:nvPr/>
        </p:nvPicPr>
        <p:blipFill>
          <a:blip r:embed="rId1"/>
          <a:stretch/>
        </p:blipFill>
        <p:spPr>
          <a:xfrm>
            <a:off x="0" y="1066680"/>
            <a:ext cx="971640" cy="4203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 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竞争中合作”需要形成团队精神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143000" y="367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团队精神的核心是集体主义，是合作共享、乐于奉献，是个人的利益服从团队的利益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中国获男子10米气步枪团体金牌 胜利微笑"/>
          <p:cNvPicPr/>
          <p:nvPr/>
        </p:nvPicPr>
        <p:blipFill>
          <a:blip r:embed="rId1"/>
          <a:stretch/>
        </p:blipFill>
        <p:spPr>
          <a:xfrm>
            <a:off x="304920" y="1171440"/>
            <a:ext cx="2819160" cy="1955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228600" y="3127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国获男子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气步枪团体金牌 胜利微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876920" y="3127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国队获女子气步枪团体赛金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体操男团中国摘金 第九次问鼎亚运会冠军"/>
          <p:cNvPicPr/>
          <p:nvPr/>
        </p:nvPicPr>
        <p:blipFill>
          <a:blip r:embed="rId2"/>
          <a:stretch/>
        </p:blipFill>
        <p:spPr>
          <a:xfrm>
            <a:off x="1962000" y="4076640"/>
            <a:ext cx="2533680" cy="1955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1752480" y="59594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体操男团中国摘金 第九次问鼎亚运会冠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女子4100混合接力赛中国摘金"/>
          <p:cNvPicPr/>
          <p:nvPr/>
        </p:nvPicPr>
        <p:blipFill>
          <a:blip r:embed="rId3"/>
          <a:stretch/>
        </p:blipFill>
        <p:spPr>
          <a:xfrm>
            <a:off x="5943600" y="4105440"/>
            <a:ext cx="2743200" cy="19144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1"/>
          <p:cNvSpPr/>
          <p:nvPr/>
        </p:nvSpPr>
        <p:spPr>
          <a:xfrm>
            <a:off x="6324480" y="595944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女子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*1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混合接力赛中国摘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1_6-12-44-312_2002100218832"/>
          <p:cNvPicPr/>
          <p:nvPr/>
        </p:nvPicPr>
        <p:blipFill>
          <a:blip r:embed="rId4"/>
          <a:stretch/>
        </p:blipFill>
        <p:spPr>
          <a:xfrm>
            <a:off x="4343400" y="1143000"/>
            <a:ext cx="2971800" cy="1984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4"/>
          <p:cNvSpPr/>
          <p:nvPr/>
        </p:nvSpPr>
        <p:spPr>
          <a:xfrm>
            <a:off x="685800" y="76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人的成功不是最终的成功，团队的成功才是最终的成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52280" y="2514600"/>
            <a:ext cx="883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日联想正式宣布完成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.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亿美元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收购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BM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球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业务。合并后的新联想将以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亿美元的年销售额一跃成为全球第三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制造商。但国内很多公司认为联想是小老鼠吞老虎，对其没什么好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050502110009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_1102515556"/>
          <p:cNvPicPr/>
          <p:nvPr/>
        </p:nvPicPr>
        <p:blipFill>
          <a:blip r:embed="rId2"/>
          <a:stretch/>
        </p:blipFill>
        <p:spPr>
          <a:xfrm>
            <a:off x="1447920" y="838080"/>
            <a:ext cx="14364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03"/>
          <p:cNvPicPr/>
          <p:nvPr/>
        </p:nvPicPr>
        <p:blipFill>
          <a:blip r:embed="rId3"/>
          <a:stretch/>
        </p:blipFill>
        <p:spPr>
          <a:xfrm>
            <a:off x="0" y="838080"/>
            <a:ext cx="143676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050501164921mg"/>
          <p:cNvPicPr/>
          <p:nvPr/>
        </p:nvPicPr>
        <p:blipFill>
          <a:blip r:embed="rId4"/>
          <a:stretch/>
        </p:blipFill>
        <p:spPr>
          <a:xfrm>
            <a:off x="5486400" y="838080"/>
            <a:ext cx="3657600" cy="156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联想正式宣布完成收购IBM全球PC业务"/>
          <p:cNvPicPr/>
          <p:nvPr/>
        </p:nvPicPr>
        <p:blipFill>
          <a:blip r:embed="rId5"/>
          <a:stretch/>
        </p:blipFill>
        <p:spPr>
          <a:xfrm>
            <a:off x="2895480" y="838080"/>
            <a:ext cx="136044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U67P2T78D4656F3305DT20041208094503"/>
          <p:cNvPicPr/>
          <p:nvPr/>
        </p:nvPicPr>
        <p:blipFill>
          <a:blip r:embed="rId6"/>
          <a:stretch/>
        </p:blipFill>
        <p:spPr>
          <a:xfrm>
            <a:off x="4267080" y="838080"/>
            <a:ext cx="1217880" cy="1600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8"/>
          <p:cNvSpPr/>
          <p:nvPr/>
        </p:nvSpPr>
        <p:spPr>
          <a:xfrm>
            <a:off x="22860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事实上，联想利用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BM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品牌，不仅成为了奥运会的合作伙伴，而且顺利地使联想品牌走入了国际市场。于此同时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BM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也利用联想的销售网络扩大了中国市场，分享了这块大蛋糕。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公司从竞争对手到合作伙伴，既竞争又合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81952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logo_olympic"/>
          <p:cNvPicPr/>
          <p:nvPr/>
        </p:nvPicPr>
        <p:blipFill>
          <a:blip r:embed="rId7"/>
          <a:stretch/>
        </p:blipFill>
        <p:spPr>
          <a:xfrm>
            <a:off x="6934320" y="1752480"/>
            <a:ext cx="22096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2"/>
          <p:cNvSpPr/>
          <p:nvPr/>
        </p:nvSpPr>
        <p:spPr>
          <a:xfrm>
            <a:off x="83059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美国总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914400" y="1219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在充满竞争的现代社会，在锤炼竞争本领的同时，更需要形成一种“在竞争中合作”的精神，在与他人竞争中学会欣赏、学会合作、学会共享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048120" y="2286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结 束 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XIAOJ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609480" y="1600200"/>
            <a:ext cx="74678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竞争与合作的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在竞争中合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内涵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意义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如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在合作中竞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何： “双赢”的原则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处理好与他人的关系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形成团队精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8-6神五发射过程"/>
          <p:cNvPicPr/>
          <p:nvPr/>
        </p:nvPicPr>
        <p:blipFill>
          <a:blip r:embed="rId1"/>
          <a:stretch/>
        </p:blipFill>
        <p:spPr>
          <a:xfrm>
            <a:off x="0" y="870120"/>
            <a:ext cx="5334120" cy="415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5410080" y="214596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位科学家曾经提出解决问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共生效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某一问题的解决如果只是靠各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打独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 在相互隔离的状态下，即使每个人竭尽全力，也未必能提出有价值的见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76320" y="5029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如果许多人聚合在一起，就某一问题各抒己见、相互交锋，就可能经过思维的碰撞，产生意想不到的效果，即产生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＞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的效果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855880" y="57240"/>
            <a:ext cx="36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作的效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生效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CC18-8ACD-4228-AE01-AD25E04786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8-8"/>
          <p:cNvPicPr/>
          <p:nvPr/>
        </p:nvPicPr>
        <p:blipFill>
          <a:blip r:embed="rId1"/>
          <a:stretch/>
        </p:blipFill>
        <p:spPr>
          <a:xfrm>
            <a:off x="0" y="0"/>
            <a:ext cx="4648320" cy="34336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0"/>
          <p:cNvSpPr/>
          <p:nvPr/>
        </p:nvSpPr>
        <p:spPr>
          <a:xfrm>
            <a:off x="4419720" y="275472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某省的少先队代表大会上，省少先队理事会主席、副主席的选举竞争非常激烈。各地推荐的候选人都只想当选不想落选，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O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候选人中只能有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当选。当投票结果公布后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落选的女队员哇哇大哭起来。一些当上理事会副主席的队员，居然也一脸的不快，脸上分明写着：我为什么不是主席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辅导员老师深切地感到，少先队理事会的当务之急是让学生学会合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1"/>
          <p:cNvSpPr/>
          <p:nvPr/>
        </p:nvSpPr>
        <p:spPr>
          <a:xfrm>
            <a:off x="304920" y="365760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怎样看待这件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处理好主角与配角的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04920" y="1447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  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合作与竞争，不是水火不容的关系，而是相互依存，你中有我，我中有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Img221775151"/>
          <p:cNvPicPr/>
          <p:nvPr/>
        </p:nvPicPr>
        <p:blipFill>
          <a:blip r:embed="rId1"/>
          <a:stretch/>
        </p:blipFill>
        <p:spPr>
          <a:xfrm>
            <a:off x="514440" y="5051520"/>
            <a:ext cx="2609640" cy="163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112018195"/>
          <p:cNvPicPr/>
          <p:nvPr/>
        </p:nvPicPr>
        <p:blipFill>
          <a:blip r:embed="rId2"/>
          <a:stretch/>
        </p:blipFill>
        <p:spPr>
          <a:xfrm>
            <a:off x="3409920" y="5029200"/>
            <a:ext cx="2457360" cy="165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200310109808"/>
          <p:cNvPicPr/>
          <p:nvPr/>
        </p:nvPicPr>
        <p:blipFill>
          <a:blip r:embed="rId3"/>
          <a:stretch/>
        </p:blipFill>
        <p:spPr>
          <a:xfrm>
            <a:off x="6095880" y="5040360"/>
            <a:ext cx="2305080" cy="1646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2362320" y="349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作与竞争的关系是怎样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152280" y="76320"/>
            <a:ext cx="2895480" cy="1066680"/>
            <a:chOff x="152280" y="76320"/>
            <a:chExt cx="2895480" cy="1066680"/>
          </a:xfrm>
        </p:grpSpPr>
        <p:sp>
          <p:nvSpPr>
            <p:cNvPr id="128" name="AutoShape 16"/>
            <p:cNvSpPr/>
            <p:nvPr/>
          </p:nvSpPr>
          <p:spPr>
            <a:xfrm flipH="1">
              <a:off x="152280" y="76320"/>
              <a:ext cx="2286000" cy="10666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761760" y="2286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请问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2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没有合作的竞争，是孤单的竞争，孤单的竞争是无力的，因为没有参照系。同样，合作也离不开竞争，没有竞争的合作只是一潭死水。合作是为了更好地竞争，合作越好，力量越强，成功的可能性就越大。竞争与合作是统一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285840" y="4119480"/>
            <a:ext cx="8531280" cy="1442880"/>
            <a:chOff x="285840" y="4119480"/>
            <a:chExt cx="8531280" cy="1442880"/>
          </a:xfrm>
        </p:grpSpPr>
        <p:sp>
          <p:nvSpPr>
            <p:cNvPr id="132" name="AutoShape 24"/>
            <p:cNvSpPr/>
            <p:nvPr/>
          </p:nvSpPr>
          <p:spPr>
            <a:xfrm>
              <a:off x="285840" y="4119480"/>
              <a:ext cx="8531280" cy="1442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380880" y="421956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所以，我们要学会“在合作中竞争”，“在竞争中合作”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85800" y="3959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  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方面，团体的通力合作鼓励各个成员间相互竞争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另一方面，成员间相互竞争促进团体竞争力的提高。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9"/>
          <p:cNvPicPr/>
          <p:nvPr/>
        </p:nvPicPr>
        <p:blipFill>
          <a:blip r:embed="rId1"/>
          <a:stretch/>
        </p:blipFill>
        <p:spPr>
          <a:xfrm>
            <a:off x="7972560" y="5041800"/>
            <a:ext cx="1095120" cy="17398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5"/>
          <p:cNvSpPr txBox="1"/>
          <p:nvPr/>
        </p:nvSpPr>
        <p:spPr>
          <a:xfrm>
            <a:off x="304920" y="15228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1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、在合作中竞争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康海报体W12(P)"/>
              <a:ea typeface="华康海报体W12(P)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864600" y="13190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合作中竞争的内涵有两个方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629400" y="2286000"/>
            <a:ext cx="2209680" cy="5814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高团体竞争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457200" y="2333520"/>
            <a:ext cx="2895480" cy="581400"/>
            <a:chOff x="457200" y="2333520"/>
            <a:chExt cx="2895480" cy="581400"/>
          </a:xfrm>
        </p:grpSpPr>
        <p:sp>
          <p:nvSpPr>
            <p:cNvPr id="140" name="Rectangle 17"/>
            <p:cNvSpPr/>
            <p:nvPr/>
          </p:nvSpPr>
          <p:spPr>
            <a:xfrm>
              <a:off x="457200" y="2333520"/>
              <a:ext cx="1752480" cy="5814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团体能力合作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286000" y="2819520"/>
              <a:ext cx="1066680" cy="360"/>
              <a:chOff x="2286000" y="2819520"/>
              <a:chExt cx="1066680" cy="360"/>
            </a:xfrm>
          </p:grpSpPr>
          <p:sp>
            <p:nvSpPr>
              <p:cNvPr id="142" name="Line 20"/>
              <p:cNvSpPr/>
              <p:nvPr/>
            </p:nvSpPr>
            <p:spPr>
              <a:xfrm>
                <a:off x="2286000" y="281952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2286000" y="28195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23"/>
          <p:cNvGrpSpPr/>
          <p:nvPr/>
        </p:nvGrpSpPr>
        <p:grpSpPr>
          <a:xfrm>
            <a:off x="3352680" y="2286000"/>
            <a:ext cx="3200400" cy="581400"/>
            <a:chOff x="3352680" y="2286000"/>
            <a:chExt cx="3200400" cy="581400"/>
          </a:xfrm>
        </p:grpSpPr>
        <p:sp>
          <p:nvSpPr>
            <p:cNvPr id="145" name="Rectangle 18"/>
            <p:cNvSpPr/>
            <p:nvPr/>
          </p:nvSpPr>
          <p:spPr>
            <a:xfrm>
              <a:off x="3352680" y="2286000"/>
              <a:ext cx="2057400" cy="5814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成员间相互竞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486400" y="2819520"/>
              <a:ext cx="1066680" cy="360"/>
              <a:chOff x="5486400" y="2819520"/>
              <a:chExt cx="1066680" cy="360"/>
            </a:xfrm>
          </p:grpSpPr>
          <p:sp>
            <p:nvSpPr>
              <p:cNvPr id="147" name="Line 21"/>
              <p:cNvSpPr/>
              <p:nvPr/>
            </p:nvSpPr>
            <p:spPr>
              <a:xfrm>
                <a:off x="5486400" y="281952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5486400" y="28195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shouyebeijing副本"/>
          <p:cNvPicPr/>
          <p:nvPr/>
        </p:nvPicPr>
        <p:blipFill>
          <a:blip r:embed="rId1"/>
          <a:stretch/>
        </p:blipFill>
        <p:spPr>
          <a:xfrm>
            <a:off x="0" y="152280"/>
            <a:ext cx="4724280" cy="2740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20061025084305623"/>
          <p:cNvPicPr/>
          <p:nvPr/>
        </p:nvPicPr>
        <p:blipFill>
          <a:blip r:embed="rId2"/>
          <a:stretch/>
        </p:blipFill>
        <p:spPr>
          <a:xfrm>
            <a:off x="228600" y="3165480"/>
            <a:ext cx="4213080" cy="3159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0"/>
          <p:cNvSpPr/>
          <p:nvPr/>
        </p:nvSpPr>
        <p:spPr>
          <a:xfrm>
            <a:off x="457200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整个学校要在合作中加强竞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648320" y="495288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整个班级要在合作中加强竞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3" descr="1307112_514303"/>
          <p:cNvPicPr/>
          <p:nvPr/>
        </p:nvPicPr>
        <p:blipFill>
          <a:blip r:embed="rId3"/>
          <a:stretch/>
        </p:blipFill>
        <p:spPr>
          <a:xfrm>
            <a:off x="4800600" y="166680"/>
            <a:ext cx="4167360" cy="28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7" descr="4489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3505320" y="9907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学会在合作中竞争，才能达到充分地合作和合理地竞争。竞争与合作的和谐交融，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我们的集体更强大，使我们每个人更快地进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图文：羽毛球女双中国包金揽银 高崚/黄穂夺冠"/>
          <p:cNvPicPr/>
          <p:nvPr/>
        </p:nvPicPr>
        <p:blipFill>
          <a:blip r:embed="rId2"/>
          <a:stretch/>
        </p:blipFill>
        <p:spPr>
          <a:xfrm>
            <a:off x="4319640" y="4343400"/>
            <a:ext cx="179532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图文：羽毛球女双中国包金揽银 杨维张洁雯亚军"/>
          <p:cNvPicPr/>
          <p:nvPr/>
        </p:nvPicPr>
        <p:blipFill>
          <a:blip r:embed="rId3"/>
          <a:stretch/>
        </p:blipFill>
        <p:spPr>
          <a:xfrm>
            <a:off x="6757920" y="4343400"/>
            <a:ext cx="1573200" cy="23623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6"/>
          <p:cNvSpPr txBox="1"/>
          <p:nvPr/>
        </p:nvSpPr>
        <p:spPr>
          <a:xfrm>
            <a:off x="228600" y="95400"/>
            <a:ext cx="580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在合作中竞争的意义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: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图片1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3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457200" y="31834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在合作中竞争，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尊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竞争对手，向竞争对手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学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。合作的过程是互帮互学、互相提高的过程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取长补短、携手共进，是我们在合作中竞争的目标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914400" y="609480"/>
            <a:ext cx="49687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合作中竞争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2" name="Picture 12" descr="27"/>
          <p:cNvPicPr/>
          <p:nvPr/>
        </p:nvPicPr>
        <p:blipFill>
          <a:blip r:embed="rId2"/>
          <a:stretch/>
        </p:blipFill>
        <p:spPr>
          <a:xfrm>
            <a:off x="0" y="0"/>
            <a:ext cx="80496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31"/>
          <p:cNvPicPr/>
          <p:nvPr/>
        </p:nvPicPr>
        <p:blipFill>
          <a:blip r:embed="rId3"/>
          <a:stretch/>
        </p:blipFill>
        <p:spPr>
          <a:xfrm>
            <a:off x="7284960" y="0"/>
            <a:ext cx="1859040" cy="198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图片2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04920" y="260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合作中竞争，要尊重竞争对手，向竞争对手学习，只有这样才能在竞争中超过别人。在我们班，以下各个方面最值得我们学习的同学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90720" y="1432080"/>
            <a:ext cx="7696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才思敏捷，上课发言最积极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笑口常开，最乐观豁达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能歌善舞，最有文艺细胞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口若悬河，最雄辩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心灵手巧，动手能力最强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博闻强记，知识最渊博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艰苦朴素，最有毅力、最能吃苦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善于交往，朋友最多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学有所长，成绩最优秀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关心同学，最有爱心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身体强壮，最健美的人是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199"/>
          <p:cNvSpPr/>
          <p:nvPr/>
        </p:nvSpPr>
        <p:spPr>
          <a:xfrm>
            <a:off x="3100320" y="1112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45Z</dcterms:modified>
  <cp:revision>2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