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BBB-E453-4186-B320-CB8C0485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716-8DB6-49B1-8972-4AF2177E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4EF-EC12-4A23-8825-E8576234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AF6-0D65-4FAF-B600-235396D7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1902-BB91-4306-BF95-D4385C88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AEB1-07F5-4578-BD57-0C9B750C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1F97-53BB-455E-B095-12C8D289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7A07-8A6D-4585-BCB8-6A844D24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20CD-B62E-4C43-BADF-8C0418F4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0A66-5EE0-489D-9FB3-6B4AD9A1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F6E3-0A03-42AD-B073-F3650DD2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8F6-C764-4CFE-9095-0E17D085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4F3C-496F-4107-9A85-E37B1B3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7AFE-6AE6-4750-8518-B9FCD452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3B79-3CF6-4614-BED7-D757A4D9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2030-43F8-4000-8A12-B5A601B9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A77A-5221-403D-BC7B-03CD4B47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958-FD59-4DAA-BB0B-8A6CD271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A24-B2F6-4DE8-AF9D-0FC18FFA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F6A-996E-4351-B5D6-ED54CA86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A28-9455-42BB-9A59-5B5B2CDB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55E-5DC3-4842-A1C4-250A31CD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F82-C73C-4349-B045-CCF135FA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86E-6306-4BFB-908A-CAD8BCF0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3333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ECCE-F7EF-49AC-9B80-7971B1591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7336-A990-4394-83D4-2B32E3AE82D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1573-A441-4DCC-AB65-BC5DE8C027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56306398_5877ec4cc8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650960"/>
            <a:ext cx="81723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华文细黑"/>
                <a:ea typeface="华文细黑"/>
              </a:rPr>
              <a:t>谷歌企业介绍</a:t>
            </a:r>
            <a:r>
              <a:rPr b="0" lang="en-US" sz="4000" spc="-1" strike="noStrike">
                <a:solidFill>
                  <a:srgbClr val="e3ebf1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e3ebf1"/>
                </a:solidFill>
                <a:latin typeface="华文细黑"/>
                <a:ea typeface="华文细黑"/>
              </a:rPr>
              <a:t>模板打包下载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是各大媒体追逐的对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3640608603_0100647cf1_o"/>
          <p:cNvPicPr/>
          <p:nvPr/>
        </p:nvPicPr>
        <p:blipFill>
          <a:blip r:embed="rId1"/>
          <a:srcRect l="5474" t="0" r="6180" b="0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与亲手参与颁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33717451_504f444d83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大力开拓创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3550421799_5c945b2c0d_b"/>
          <p:cNvPicPr/>
          <p:nvPr/>
        </p:nvPicPr>
        <p:blipFill>
          <a:blip r:embed="rId1"/>
          <a:srcRect l="0" t="0" r="11001" b="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写书激励了千万年轻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文本框 8194"/>
          <p:cNvSpPr/>
          <p:nvPr/>
        </p:nvSpPr>
        <p:spPr>
          <a:xfrm>
            <a:off x="923760" y="1857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092536167_17507883cf_b"/>
          <p:cNvPicPr/>
          <p:nvPr/>
        </p:nvPicPr>
        <p:blipFill>
          <a:blip r:embed="rId1"/>
          <a:srcRect l="0" t="0" r="11167" b="0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面对千万学子演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3330211358_56aaa2b1f9_o"/>
          <p:cNvPicPr/>
          <p:nvPr/>
        </p:nvPicPr>
        <p:blipFill>
          <a:blip r:embed="rId1"/>
          <a:srcRect l="0" t="0" r="11560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是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Google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中国区总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尝试员工的躺椅舒适与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33699077_8b041c1b41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在后台给其他人表演魔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3565381772_6d202f085e_o"/>
          <p:cNvPicPr/>
          <p:nvPr/>
        </p:nvPicPr>
        <p:blipFill>
          <a:blip r:embed="rId1"/>
          <a:srcRect l="6021" t="355" r="7088" b="497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是睿智和时尚的结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3565518218_b47b0f0ef8_o"/>
          <p:cNvPicPr/>
          <p:nvPr/>
        </p:nvPicPr>
        <p:blipFill>
          <a:blip r:embed="rId1"/>
          <a:srcRect l="556" t="540" r="867" b="3111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3565390574_5082113864_o (1)"/>
          <p:cNvPicPr/>
          <p:nvPr/>
        </p:nvPicPr>
        <p:blipFill>
          <a:blip r:embed="rId2"/>
          <a:srcRect l="330" t="436" r="999" b="3086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现在</a:t>
            </a: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2009984314"/>
          <p:cNvPicPr/>
          <p:nvPr/>
        </p:nvPicPr>
        <p:blipFill>
          <a:blip r:embed="rId1"/>
          <a:stretch/>
        </p:blipFill>
        <p:spPr>
          <a:xfrm>
            <a:off x="0" y="0"/>
            <a:ext cx="44928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6305040" y="31114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是一位投资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文本框 8194"/>
          <p:cNvSpPr/>
          <p:nvPr/>
        </p:nvSpPr>
        <p:spPr>
          <a:xfrm>
            <a:off x="4638600" y="942840"/>
            <a:ext cx="4194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09600" y="1542960"/>
            <a:ext cx="688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我想，我会一直保持激情直到我死的那天，人生追逐的就是自己的理想，自己的兴趣，自己的快乐，过自己想过的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15880" y="709560"/>
            <a:ext cx="8100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5f5f5f"/>
                </a:solidFill>
                <a:latin typeface="Times New Roman"/>
              </a:rPr>
              <a:t>“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959600" y="3684600"/>
            <a:ext cx="8100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5f5f5f"/>
                </a:solidFill>
                <a:latin typeface="Times New Roman"/>
              </a:rPr>
              <a:t>”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让我们记住说这句话的人的名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7" name="Picture 4" descr="104723168_51f8a9961d_o"/>
          <p:cNvPicPr/>
          <p:nvPr/>
        </p:nvPicPr>
        <p:blipFill>
          <a:blip r:embed="rId1"/>
          <a:srcRect l="0" t="0" r="0" b="19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9247-B84A-47ED-BA59-7DAEC7B5EBBC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395440" y="0"/>
            <a:ext cx="6748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2007126142453"/>
          <p:cNvPicPr/>
          <p:nvPr/>
        </p:nvPicPr>
        <p:blipFill>
          <a:blip r:embed="rId1"/>
          <a:srcRect l="2157" t="1485" r="2157" b="2458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338456952_a7e54f993d_o"/>
          <p:cNvPicPr/>
          <p:nvPr/>
        </p:nvPicPr>
        <p:blipFill>
          <a:blip r:embed="rId2"/>
          <a:srcRect l="8436" t="28659" r="6403" b="26753"/>
          <a:stretch/>
        </p:blipFill>
        <p:spPr>
          <a:xfrm>
            <a:off x="4834080" y="5610240"/>
            <a:ext cx="40557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在这间房间埋头苦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923906060_b859cfc344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与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Google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总裁并肩而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27560366_39db3424f8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2921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他，曾与世界级大师一起回答问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3845198777_89b76d59a1_b"/>
          <p:cNvPicPr/>
          <p:nvPr/>
        </p:nvPicPr>
        <p:blipFill>
          <a:blip r:embed="rId1"/>
          <a:srcRect l="3624" t="0" r="7541" b="0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8194"/>
          <p:cNvSpPr/>
          <p:nvPr/>
        </p:nvSpPr>
        <p:spPr>
          <a:xfrm>
            <a:off x="1285920" y="4287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3:04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4:32Z</dcterms:modified>
  <cp:revision>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