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C3D2-2B7A-4089-8940-3C77EB662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6248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6025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6B58-644A-4BC6-981B-FD3F44604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6248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6025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0D05-132B-4D54-AA5F-F0E568513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6248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6025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D48B-5523-44A0-AE73-C25D81793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9614B-224D-4427-A803-B939E3731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6248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6025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93E03-4E6D-42CE-85AA-F0D014F7F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6248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6025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01234-2E12-4597-B21D-C9F37DB7E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6248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6025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5B53E-CE89-4B71-BBD0-A61B9925E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6248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6025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56C41-9BEE-48FD-935F-3E4E74C54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14040" y="151920"/>
            <a:ext cx="6248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048CF-C1B7-48B8-91A7-855B5848C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6248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6025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7BDA2-8837-4760-9D91-B57B1DD47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6248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6025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34DC-354D-4068-B20F-A88E08A9E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6248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6025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A54F3-7985-4574-BEA1-C0171D9E6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6248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6025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BC52A-FF98-48DD-927D-1CD84772C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6248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6025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C6FC4-B3BC-49F1-82CD-5273399B0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6248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6025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0667F-14A4-4DE3-9220-0A556925F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6248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6025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20707-F7FE-4567-A657-255439438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6C156-C9A7-425C-BD3C-71D92BE2D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6248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6025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1613E-3C94-4AAA-88B2-E6D146720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6248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6025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0DBA6-B354-415D-AEDA-66B537F40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6248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6025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21BDD-EF67-4969-A411-FAEBEF7E7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6248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6025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167A0-8DFD-4501-993A-84C9CE95F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6248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6025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F055-4D83-486F-8CD2-0CD157691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914040" y="151920"/>
            <a:ext cx="6248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139EB-1251-4E82-BC19-C051720BF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6248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6025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13619-C7A3-4AAC-868C-D0EF57D37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6248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6025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14E2B-75F2-4B33-BC7E-7D0BF6C10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6248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6025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45CF0-3386-41C9-A720-89BEE4375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6248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6025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78DE4-ABCB-42A5-AB15-1049B23B1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6248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6025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77A88-C9A4-43B4-8148-102FD628B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6248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6025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3CB7E-C98E-43BC-A7D3-057D0E782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6248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6025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4F4F-34B3-4EB5-85BE-FFBC895BC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6248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6025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CDAE-1C6C-4A1A-9767-1D57A67F9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040" y="151920"/>
            <a:ext cx="6248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CA43-E2C5-4080-8970-561BC9870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6248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6025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2212-EC44-4B9F-B9D2-AFA028600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6248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6025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4E30-C402-4918-85A7-CA177D6BA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6248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6025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92DA-B3BE-4FA0-BF30-E8C78D036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62485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6025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6025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4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4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4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4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4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891D5-955E-4D81-903B-6FB58B167F53}" type="slidenum">
              <a:rPr b="0" lang="en-US" sz="1400" spc="-1" strike="noStrike">
                <a:solidFill>
                  <a:srgbClr val="ebd189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4CBC8-481D-4FD8-9E38-1AD043FBC226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8FEAA-17AA-4E1F-A4C6-6168A47B3BB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62485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6025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6025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4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4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4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4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4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9B3DD-5E6A-478A-9F01-D3D5D85433B2}" type="slidenum">
              <a:rPr b="0" lang="en-US" sz="1400" spc="-1" strike="noStrike">
                <a:solidFill>
                  <a:srgbClr val="ebd189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761760"/>
            <a:ext cx="773892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54"/>
                </a:solidFill>
                <a:latin typeface="Impact"/>
              </a:rPr>
              <a:t>国外毕业论文</a:t>
            </a:r>
            <a:r>
              <a:rPr b="0" lang="en-GB" sz="4000" spc="-1" strike="noStrike">
                <a:solidFill>
                  <a:srgbClr val="000054"/>
                </a:solidFill>
                <a:latin typeface="Impact"/>
              </a:rPr>
              <a:t>PPT</a:t>
            </a:r>
            <a:r>
              <a:rPr b="0" lang="en-GB" sz="4000" spc="-1" strike="noStrike">
                <a:solidFill>
                  <a:srgbClr val="000054"/>
                </a:solidFill>
                <a:latin typeface="Impact"/>
              </a:rPr>
              <a:t>模板</a:t>
            </a:r>
            <a:r>
              <a:rPr b="0" lang="zh-CN" sz="4000" spc="-1" strike="noStrike">
                <a:solidFill>
                  <a:srgbClr val="000054"/>
                </a:solidFill>
                <a:latin typeface="Impact"/>
              </a:rPr>
              <a:t>在线下载</a:t>
            </a:r>
            <a:endParaRPr b="0" lang="en-US" sz="4000" spc="-1" strike="noStrike">
              <a:solidFill>
                <a:srgbClr val="06025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ebd189"/>
                </a:solidFill>
                <a:latin typeface="Arial Black"/>
              </a:rPr>
              <a:t>Sustitle Here</a:t>
            </a:r>
            <a:endParaRPr b="0" lang="en-US" sz="24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12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7AA8E-C5DB-427C-B483-1371246B3742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62485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6025c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132" name="文本框 8200"/>
          <p:cNvSpPr/>
          <p:nvPr/>
        </p:nvSpPr>
        <p:spPr>
          <a:xfrm>
            <a:off x="1676520" y="228600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b97c01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6T20:48:25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1:41Z</dcterms:modified>
  <cp:revision>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