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8A2-35AF-4F8A-9B64-46A4A07D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2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864-9251-4219-A55B-1A383F3A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7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9B5-7026-4C2E-BCD6-D9E31612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808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2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11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808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EBB-59DB-459F-9703-7BCC8E64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452E-2B5B-45CF-AA4E-126F225D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A935-D91F-432C-A8E3-E04E3DB4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32B4-1C00-4F6E-B4F0-A205800A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ED22-CF5F-4115-BD70-5817F429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7396-BF1F-44FB-948A-41119EF4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74320"/>
            <a:ext cx="815328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82CA-352B-4522-9F78-823D841C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0841-147B-42D2-9774-64F827DD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997-EB73-427D-AC9A-688E3903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7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03CA-3A91-46C9-A0E5-2FB153FD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2B4E-1C81-4552-8E7A-09E7D9B8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2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5B38-BDFA-45BF-8714-17F01424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7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1F50-BAD7-4CE6-A73F-8CAF6597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11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8808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2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11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8808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8839-FD7E-4E6E-8F2E-7F4DF646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8033-736C-4AF5-9A04-BFD354DA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3BB7-CF89-4E63-8BEE-748936C6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8C5B-5BDA-4D8A-B957-8818B3E2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B7F61-B215-4CF9-8E82-9B662DFD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2B3A2-A277-4F4D-9D3B-1D1F4265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103-F54E-45F5-BEC0-AC4EB76D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74320"/>
            <a:ext cx="815328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35C5-75CD-42E6-A30D-5F97ECB4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B97A-37B7-46B3-8BA7-E232B8E4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7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10C0-AC2F-494F-90E9-58D5DF20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A52D-0FBE-4145-98DA-27239D30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142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C213-F93E-4B92-990A-CE8CA6B8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7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681A-9E3C-4363-A24E-10C5937A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11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8808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142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011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8808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08C4-1143-4049-8A2C-0089685E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7B1-44AB-49EB-97D0-DF8B8AAB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73F-F489-43D5-BE38-86055BF3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74320"/>
            <a:ext cx="815328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E23-705B-47E1-B53D-E9BF057C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20E-F85C-4B1F-B926-FFD82A04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7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404-E62B-4A48-843B-A9017825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7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2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C94-CB3E-41A8-9A20-6E8D5863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1" marL="447840" indent="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2" marL="89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3" marL="1343880" indent="-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4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5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6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4514-D646-448B-A4F1-E743CE02D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5642-2FA5-4754-9CBE-8BDA6ACA691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FCB9-63F6-4739-80DE-CA02616AD9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1" marL="447840" indent="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2" marL="89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3" marL="1343880" indent="-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4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5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  <a:p>
            <a:pPr lvl="6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585C-02DD-4005-BCDD-97139E21E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SLASH</a:t>
            </a: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30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UBTOPIC GOES HERE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940040" y="14479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国外科幻图片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SLASH</a:t>
            </a: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UBTOPICS GO HERE</a:t>
            </a:r>
            <a:endParaRPr b="0" lang="en-US" sz="3200" spc="-1" strike="noStrike">
              <a:solidFill>
                <a:srgbClr val="99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130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665E-67FB-43D2-AD0F-68518312BE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PRINT PAGE</a:t>
            </a:r>
            <a:endParaRPr b="0" lang="en-US" sz="4400" spc="-1" strike="noStrike">
              <a:solidFill>
                <a:srgbClr val="99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6:05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4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