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2D9-1C85-45E7-AEB6-C4B0D061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D88-B91D-49D4-8FA9-A7E3EABF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A02-2F87-4F40-958B-686D1003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526-4331-4851-AF48-D00B0F07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9F7F-4FD9-4FD2-A609-217BC600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66AB-B7B9-422B-858C-2677DD0A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D0A8-1F3E-4A70-9140-7FC08384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58E2-2E84-4E9D-88EC-16D06E15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34F1-9CEF-476E-BC95-E7DE7A5C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36BB-7813-43F7-99B7-85A14617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2599-ACCA-4E3A-B889-32A265E3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E16-4472-4D8E-9975-F1520242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E853-7742-442B-AC13-7FF47F7F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A676-CB89-46BF-AD4D-6A1F124F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CD57-DA03-41B4-B82E-D5A62EA4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6821-252D-4F64-A25A-413AAAAF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9242-188E-4A45-AC42-546747EF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AFBA-216E-4B58-8C32-2AD56071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0323-9E28-4E42-944E-3B3E976D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5814-527E-46BA-B119-C5971D82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51F8-95D2-41FB-9EE5-3F665D90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14BD-CFA7-49E0-B071-0738729E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7F6-49C8-4E52-AA45-EA6E5343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59F7D-637E-4D3D-90F6-F58DD26A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18D2-E2B0-43D8-BA89-E1171D89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CA8A-BB8B-4B8F-9CD9-4754AC53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31631-B8C5-44A4-8AA2-88EEA150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4B2F-9232-41B9-99A3-5E864BDC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DFCB-8590-4501-AE2B-245AFB91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C3B3-ECE5-480B-ACBA-5B0098BF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421-B5E6-47E4-8EFE-F3E6C4C0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07D-820C-4AFD-882E-2E20AE5F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CD1-F478-40F1-BC7C-3813697E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0D1-57C8-4BAC-AE47-1FEB5507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3A4-2D05-4F62-B352-39D84B8D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91C-4C95-49BC-A9F9-F0F9EF69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7D23-A563-4145-8B4C-5CFC87B7C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E00B-E3DC-49BE-88A9-0B7A72DC867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FBC4-322C-49E1-A366-1225C10A90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CCC9-983B-4346-9A8E-8C48204BB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051" descr="Z:\newtek\_backgrounds_1.02\Tim\_powerpoint templates\mad_scientist\vessel.jpg"/>
          <p:cNvPicPr/>
          <p:nvPr/>
        </p:nvPicPr>
        <p:blipFill>
          <a:blip r:embed="rId1"/>
          <a:stretch/>
        </p:blipFill>
        <p:spPr>
          <a:xfrm>
            <a:off x="298440" y="3772080"/>
            <a:ext cx="474516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66294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d7e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mi Head 426"/>
              </a:rPr>
              <a:t>A Mad Scientist’s Chemistry Presentation</a:t>
            </a: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6320" y="27432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d7e"/>
                </a:solidFill>
                <a:latin typeface="Arial Black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2056"/>
          <p:cNvSpPr/>
          <p:nvPr/>
        </p:nvSpPr>
        <p:spPr>
          <a:xfrm>
            <a:off x="7086600" y="4800600"/>
            <a:ext cx="1676520" cy="16765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图片 2058" descr="Z:\newtek\_backgrounds_1.02\Tim\_powerpoint templates\mad_scientist\mad science anims\mad_scientist_swirling_beaker_example.gif"/>
          <p:cNvPicPr/>
          <p:nvPr/>
        </p:nvPicPr>
        <p:blipFill>
          <a:blip r:embed="rId2"/>
          <a:stretch/>
        </p:blipFill>
        <p:spPr>
          <a:xfrm>
            <a:off x="7467480" y="5029200"/>
            <a:ext cx="857520" cy="125748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2711520" y="315900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国外卡通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椭圆 4102"/>
          <p:cNvSpPr/>
          <p:nvPr/>
        </p:nvSpPr>
        <p:spPr>
          <a:xfrm>
            <a:off x="19080" y="533520"/>
            <a:ext cx="1828800" cy="18288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101" descr="Z:\newtek\_backgrounds_1.02\Tim\_powerpoint templates\mad_scientist\mad science anims\mad_scientist_shaking_test_tube_example.gif"/>
          <p:cNvPicPr/>
          <p:nvPr/>
        </p:nvPicPr>
        <p:blipFill>
          <a:blip r:embed="rId1"/>
          <a:stretch/>
        </p:blipFill>
        <p:spPr>
          <a:xfrm>
            <a:off x="457200" y="76212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4105" descr="Z:\newtek\_backgrounds_1.02\Tim\_powerpoint templates\mad_scientist\molecule.png"/>
          <p:cNvPicPr/>
          <p:nvPr/>
        </p:nvPicPr>
        <p:blipFill>
          <a:blip r:embed="rId2"/>
          <a:stretch/>
        </p:blipFill>
        <p:spPr>
          <a:xfrm>
            <a:off x="6553080" y="5362560"/>
            <a:ext cx="2438640" cy="13716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8200"/>
          <p:cNvSpPr/>
          <p:nvPr/>
        </p:nvSpPr>
        <p:spPr>
          <a:xfrm>
            <a:off x="1917720" y="6039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5123" descr="Z:\newtek\_backgrounds_1.02\Tim\_powerpoint templates\mad_scientist\molecule.png"/>
          <p:cNvPicPr/>
          <p:nvPr/>
        </p:nvPicPr>
        <p:blipFill>
          <a:blip r:embed="rId1"/>
          <a:stretch/>
        </p:blipFill>
        <p:spPr>
          <a:xfrm>
            <a:off x="2819520" y="4267080"/>
            <a:ext cx="3276360" cy="1843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0676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d7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mi Head 426"/>
              </a:rPr>
              <a:t>Transitional Page</a:t>
            </a:r>
            <a:endParaRPr b="0" lang="en-US" sz="48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057040" y="56386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139" name="椭圆 5124"/>
          <p:cNvSpPr/>
          <p:nvPr/>
        </p:nvSpPr>
        <p:spPr>
          <a:xfrm>
            <a:off x="3657600" y="1828800"/>
            <a:ext cx="1600200" cy="1600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图片 5125" descr="Z:\newtek\_backgrounds_1.02\Tim\_powerpoint templates\mad_scientist\mad science anims\mad_scientist_head_inquisitive_example.gif"/>
          <p:cNvPicPr/>
          <p:nvPr/>
        </p:nvPicPr>
        <p:blipFill>
          <a:blip r:embed="rId2"/>
          <a:stretch/>
        </p:blipFill>
        <p:spPr>
          <a:xfrm>
            <a:off x="3962520" y="2133720"/>
            <a:ext cx="1028520" cy="971280"/>
          </a:xfrm>
          <a:prstGeom prst="rect">
            <a:avLst/>
          </a:prstGeom>
          <a:ln w="0">
            <a:noFill/>
          </a:ln>
        </p:spPr>
      </p:pic>
      <p:sp>
        <p:nvSpPr>
          <p:cNvPr id="141" name="矩形标注 5126"/>
          <p:cNvSpPr/>
          <p:nvPr/>
        </p:nvSpPr>
        <p:spPr>
          <a:xfrm>
            <a:off x="5200560" y="685800"/>
            <a:ext cx="3124440" cy="1527120"/>
          </a:xfrm>
          <a:prstGeom prst="wedgeRectCallout">
            <a:avLst>
              <a:gd name="adj1" fmla="val -53810"/>
              <a:gd name="adj2" fmla="val 747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文本框 5128"/>
          <p:cNvSpPr/>
          <p:nvPr/>
        </p:nvSpPr>
        <p:spPr>
          <a:xfrm>
            <a:off x="5257800" y="685800"/>
            <a:ext cx="295272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several expressions and can provide additional comments for your presentation, search the Premium Gold Site for more animations of m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d Scient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CB6F-CCFF-4738-92C7-76A448E9B5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6147" descr="Z:\newtek\_backgrounds_1.02\Tim\_powerpoint templates\mad_scientist\mad science anims\mad_scientist_thinking_equation_example.gif"/>
          <p:cNvPicPr/>
          <p:nvPr/>
        </p:nvPicPr>
        <p:blipFill>
          <a:blip r:embed="rId2"/>
          <a:stretch/>
        </p:blipFill>
        <p:spPr>
          <a:xfrm>
            <a:off x="304920" y="838080"/>
            <a:ext cx="1143000" cy="12002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6151" descr="Z:\newtek\_backgrounds_1.02\Tim\_powerpoint templates\mad_scientist\molecule.png"/>
          <p:cNvPicPr/>
          <p:nvPr/>
        </p:nvPicPr>
        <p:blipFill>
          <a:blip r:embed="rId3"/>
          <a:stretch/>
        </p:blipFill>
        <p:spPr>
          <a:xfrm>
            <a:off x="6553080" y="5362560"/>
            <a:ext cx="2438640" cy="137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15:19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19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