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9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F5B4-22A0-4330-93BE-5E24304A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F20A-0157-49BE-875F-00370410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D637-AE85-4B4C-9E6C-B8107003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6FA1-049F-498A-880F-E7B66C2F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3278-41DA-4385-AE1E-056A6236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4FE8-2250-4DFD-BFDA-3DF2FEBA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A032-30DA-4BDD-89F3-8D59A8A2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76CE-BA91-4A66-8D49-E213A6E5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A20D-0F3F-422C-AD01-74F695A2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E13A-3F99-4CE9-8593-B084BFEA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94DE9-1D4B-41E1-B348-E686718C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5EF5-A744-4C10-B8EF-3EBFBC5A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2195-0D85-4357-B1DB-C35EB882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B2DD-497C-4B10-95A4-6436EF69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0069-0446-4841-9AC2-A0795AF4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F539-0F6F-4C58-B98F-BAED347F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1932-1366-4A77-8EB4-BEEEDA71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40168-5D86-44CC-AC50-4E46711B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0DC28-1294-4BF9-A3A3-E774B63B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E3A0A-0B7D-4A13-AE1A-081A82CC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EA4CA-CE34-435A-85C8-3BAF3AE8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574FB-49AB-4495-9F49-BD15CFE6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77C-672E-43E0-923A-4C4FC548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A8F00-56E2-4AF0-BF8C-F34CA38A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C8DB7-1251-4FA0-A0BF-4D897EF1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7D2E6-70A0-41FD-93D0-166FD073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F174E-ADD0-47C6-8AD7-7B633793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AEA70-5E7D-407E-B1F1-A9D83752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E7D6B-A5C7-4B96-A674-ACAB299D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1140A-38B2-4C4A-A5DF-18B73325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D4E7-825D-4472-A459-2DB2DCCB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ADF1-E503-4BBB-99FB-63FBEA04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70F-25B4-4C6A-A261-BF324175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D3D-34A2-4782-B7F8-9471C543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553D-0476-4B32-8365-24886384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314A-DFB8-4E5A-AE8C-7DC7AC61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Eurostile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F8C0-C28A-4037-8B79-52D21272BEC5}" type="slidenum">
              <a:rPr b="0" lang="en-US" sz="1400" spc="-1" strike="noStrike">
                <a:solidFill>
                  <a:srgbClr val="ffffff"/>
                </a:solidFill>
                <a:latin typeface="Eurostile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5F6E-ADF6-4BBB-B86C-53F87761C39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FA6C-2F7C-4148-A692-82F8FE30B9C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Eurostile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CA1A-1834-4E31-BAB1-78F3BFFD7555}" type="slidenum">
              <a:rPr b="0" lang="en-US" sz="1400" spc="-1" strike="noStrike">
                <a:solidFill>
                  <a:srgbClr val="ffffff"/>
                </a:solidFill>
                <a:latin typeface="Eurostile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5.gif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urostile"/>
              </a:rPr>
              <a:t>ROUTE 6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438280" y="137160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urostile"/>
              </a:rPr>
              <a:t>Add subtitle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3511440" y="7747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国外卡通小车幻灯片免费下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4103" descr="Z:\newtek\_backgrounds_1.02\Greg\PP Template 08\road_anim.gif"/>
          <p:cNvPicPr/>
          <p:nvPr/>
        </p:nvPicPr>
        <p:blipFill>
          <a:blip r:embed="rId2"/>
          <a:stretch/>
        </p:blipFill>
        <p:spPr>
          <a:xfrm flipH="1" rot="10800000">
            <a:off x="0" y="5752440"/>
            <a:ext cx="9144000" cy="114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UTE 6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nts of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图片 4101" descr="Z:\newtek\_backgrounds_1.02\Greg\PP Template 08\auto_anim.gif"/>
          <p:cNvPicPr/>
          <p:nvPr/>
        </p:nvPicPr>
        <p:blipFill>
          <a:blip r:embed="rId3"/>
          <a:stretch/>
        </p:blipFill>
        <p:spPr>
          <a:xfrm>
            <a:off x="0" y="4897440"/>
            <a:ext cx="24382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0920" y="6091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TABLE P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666520" y="198108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of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文本框 8200"/>
          <p:cNvSpPr/>
          <p:nvPr/>
        </p:nvSpPr>
        <p:spPr>
          <a:xfrm>
            <a:off x="2637000" y="59054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ITION P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AC24-1D87-4954-948F-9D9DED56F1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8198" descr="Z:\newtek\_backgrounds_1.02\Greg\Route 66\route66_title.jpg"/>
          <p:cNvPicPr/>
          <p:nvPr/>
        </p:nvPicPr>
        <p:blipFill>
          <a:blip r:embed="rId1"/>
          <a:stretch/>
        </p:blipFill>
        <p:spPr>
          <a:xfrm>
            <a:off x="0" y="0"/>
            <a:ext cx="3276720" cy="2620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53337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MENTS P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组合 8196"/>
          <p:cNvGrpSpPr/>
          <p:nvPr/>
        </p:nvGrpSpPr>
        <p:grpSpPr>
          <a:xfrm>
            <a:off x="3276720" y="0"/>
            <a:ext cx="3200400" cy="2590920"/>
            <a:chOff x="3276720" y="0"/>
            <a:chExt cx="3200400" cy="2590920"/>
          </a:xfrm>
        </p:grpSpPr>
        <p:pic>
          <p:nvPicPr>
            <p:cNvPr id="142" name="图片 8194" descr="Z:\newtek\_backgrounds_1.02\Greg\Route 66\route66_slide.jpg"/>
            <p:cNvPicPr/>
            <p:nvPr/>
          </p:nvPicPr>
          <p:blipFill>
            <a:blip r:embed="rId2"/>
            <a:stretch/>
          </p:blipFill>
          <p:spPr>
            <a:xfrm>
              <a:off x="3276720" y="0"/>
              <a:ext cx="320040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图片 8195" descr="Z:\newtek\_backgrounds_1.02\Greg\Route 66\road_anim.gif"/>
            <p:cNvPicPr/>
            <p:nvPr/>
          </p:nvPicPr>
          <p:blipFill>
            <a:blip r:embed="rId3"/>
            <a:stretch/>
          </p:blipFill>
          <p:spPr>
            <a:xfrm>
              <a:off x="3276720" y="2169360"/>
              <a:ext cx="3200400" cy="4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" name="图片 8197" descr="Z:\newtek\_backgrounds_1.02\Greg\Route 66\route66_print.jpg"/>
          <p:cNvPicPr/>
          <p:nvPr/>
        </p:nvPicPr>
        <p:blipFill>
          <a:blip r:embed="rId4"/>
          <a:stretch/>
        </p:blipFill>
        <p:spPr>
          <a:xfrm>
            <a:off x="3276720" y="2590920"/>
            <a:ext cx="3276360" cy="262080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8199" descr="Z:\newtek\_backgrounds_1.02\Greg\Route 66\route66_trans.jpg"/>
          <p:cNvPicPr/>
          <p:nvPr/>
        </p:nvPicPr>
        <p:blipFill>
          <a:blip r:embed="rId5"/>
          <a:stretch/>
        </p:blipFill>
        <p:spPr>
          <a:xfrm>
            <a:off x="0" y="2590920"/>
            <a:ext cx="3276720" cy="26208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8200" descr="Z:\newtek\_backgrounds_1.02\Greg\Route 66\auto_anim.gif"/>
          <p:cNvPicPr/>
          <p:nvPr/>
        </p:nvPicPr>
        <p:blipFill>
          <a:blip r:embed="rId6"/>
          <a:stretch/>
        </p:blipFill>
        <p:spPr>
          <a:xfrm>
            <a:off x="6477120" y="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8201" descr="Z:\newtek\_backgrounds_1.02\Greg\Route 66\route66_sign.png"/>
          <p:cNvPicPr/>
          <p:nvPr/>
        </p:nvPicPr>
        <p:blipFill>
          <a:blip r:embed="rId7"/>
          <a:stretch/>
        </p:blipFill>
        <p:spPr>
          <a:xfrm>
            <a:off x="6553080" y="2590920"/>
            <a:ext cx="2590920" cy="2563560"/>
          </a:xfrm>
          <a:prstGeom prst="rect">
            <a:avLst/>
          </a:prstGeom>
          <a:ln w="0">
            <a:noFill/>
          </a:ln>
        </p:spPr>
      </p:pic>
      <p:sp>
        <p:nvSpPr>
          <p:cNvPr id="148" name="文本框 8202"/>
          <p:cNvSpPr/>
          <p:nvPr/>
        </p:nvSpPr>
        <p:spPr>
          <a:xfrm>
            <a:off x="380880" y="60199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urostile"/>
                <a:ea typeface="Times New Roman"/>
              </a:rPr>
              <a:t>Delete this page when template is fin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2:4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22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