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83C-E856-41BD-95A0-3E8703D8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91D-B684-4A82-A9A8-5134802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B23-763C-46D6-8627-486ED312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DC1-B3F7-438A-B835-471F08AE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D72-001A-49B5-8A9B-AD96C0EA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83A-5C61-4FD7-82B5-84221B2C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112-FBD2-47D8-8CC4-252D244F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2CF0-5CEC-44C9-AFC9-667EFF4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B868-181B-4DB0-BD4E-6207865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C7B-53F4-40BA-8398-5561A20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FB7E-EAC0-43FA-8380-FBB71DB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9BA-E617-4C8C-A371-5E6497EC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6B84-1ACA-4784-8BE7-B553D2D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4A4E-471F-4C30-B55F-36957C04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CCAE-ADCD-4A95-AE34-01240AC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06FB-22F0-4138-A613-1083314C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2627-EFAA-48DD-A1E6-635049BE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C257-73C1-44CE-B48E-A3E5D952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E65E-631A-4F9E-88A9-9F3C97F5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B615-4FF5-4EE5-80FE-397A27BA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BD26-A095-4C31-AE8B-F07F749C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CA53-A07A-4681-BF02-373E4725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0D8-9AB3-4084-B1EE-BF8BA2A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76ED-DD94-4A4E-B2A4-C2A4DFB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1406-BD06-471B-BE0D-0C4CEAC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B805-7E87-4C48-878A-87DCB1C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DC93-5BB2-40E6-ACF4-59B00D3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C80F-BB27-442A-8260-03F9AF7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A550-2E0F-4766-A48B-C2C3E7F6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9E6A-5561-4198-969A-98FB2831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73E-302A-43CA-9DDF-A0296ABE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A87-99CD-4EFD-9A6C-ACE7986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E35-5ACE-4AFB-9886-D945FBF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CCF-CF69-49F2-B227-ECC0D803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B56-D02F-4E15-96C6-2DF75344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9ED-CB2C-4189-AC3A-A63F299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005C-9A28-44C5-9C12-9837D32FA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68A-15A7-4B66-9F45-826C9F04C5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64E0-3D93-4205-9AF3-706F8ECFEA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6BE-CAB9-4500-9A87-700021938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ery Violi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1422360" y="648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980800" y="1989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卡通小提琴幻灯片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200"/>
          <p:cNvSpPr/>
          <p:nvPr/>
        </p:nvSpPr>
        <p:spPr>
          <a:xfrm>
            <a:off x="2050920" y="3473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B705-71E0-4E0F-AFCF-73627106C3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2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