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A9F-BD61-44D7-A28B-C9B677D0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727-A12F-4D46-B575-CE85579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741-62F1-49FC-8078-7C1B86A1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87F-A060-47DC-8E2A-1C7994AB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80C-D5AF-4EF3-B4AF-EEC6A4CD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BCBC-CCBA-4BC6-909F-6DF8E1D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C33-2FBC-4F36-A2F9-F991670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72A-5967-4658-B1F8-FD5FE36E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B83-2A59-4972-9425-66D78A3F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218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0A6C-72AB-4E95-9F54-40E47CC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1DB5-202B-4294-A85A-2692A8E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A43-1F00-4F9E-B81D-3D985386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72CA-A749-43A7-ADEE-68137F8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5E2D-4815-4068-A7BD-01DC647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6A3D-03E2-4AFC-A9DF-D1F53EBE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7C5A-09AD-4B1B-A700-C4113714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7FC-B031-48DF-8EE2-525FC68C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4808-E2DD-44A4-AA88-E4D4BE38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62F1-53A6-4E53-8F53-82E101B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DB99-BDFB-481B-BD61-FD51E10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E6FF-74C2-429B-808F-F5575CC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1781-8E16-46A3-9C20-AAE723D3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1D7-10BC-4840-B69E-7E64A5E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218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B6D9-F288-4C82-8FC2-11B454D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E078-62B8-456C-990C-E98FDC0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9C97-2186-4096-A1EA-6A5ED08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727C-4CE6-489D-81C2-5459AD7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E22E-58AD-4BB2-997A-F0EC0ED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F13A-2BEF-4F58-B2DF-03AE61DB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6328-E9AF-4A4C-9197-A45ABFF3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5CF-07D8-4928-A7CD-153F86B3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2AF-DB04-4499-BEB9-5E462C1C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218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001-F099-4966-8C00-4A16DC1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DD-65C6-4564-8003-F2E6226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35D-B484-414E-9B02-783C4F8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84F-1538-4540-A7AA-39A87B8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c2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4d7da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dddddd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a7922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ddddd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ddddd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4E6E-647C-40A7-B1C7-D30C0C214A49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B08-9DE5-42AB-8439-827E429981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7EC8-5239-4293-AD0D-47204B1A38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c2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4d7da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dddddd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a7922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ddddd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ddddd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ddddd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238F-1026-4915-B3C2-33048F0635CD}" type="slidenum">
              <a:rPr b="0" lang="ko-KR" sz="1400" spc="-1" strike="noStrike">
                <a:solidFill>
                  <a:srgbClr val="ddddd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915920"/>
            <a:ext cx="8153280" cy="1944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ec294"/>
                </a:solidFill>
                <a:latin typeface="Arial"/>
              </a:rPr>
              <a:t>国外蓝黑色主题</a:t>
            </a:r>
            <a:r>
              <a:rPr b="0" lang="zh-CN" sz="4000" spc="-1" strike="noStrike">
                <a:solidFill>
                  <a:srgbClr val="cec294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cec294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24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ddd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dddd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c294"/>
                </a:solidFill>
                <a:latin typeface="Arial"/>
                <a:ea typeface="굴림"/>
              </a:rPr>
              <a:t>Related Documents</a:t>
            </a:r>
            <a:endParaRPr b="0" lang="en-US" sz="40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  <a:ea typeface="굴림"/>
              </a:rPr>
              <a:t>Competitor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  <a:ea typeface="굴림"/>
              </a:rPr>
              <a:t>Strength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Your strengths relative to competitor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  <a:ea typeface="굴림"/>
              </a:rPr>
              <a:t>Weakness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굴림"/>
              </a:rPr>
              <a:t>Your weaknesses relative to competito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1835280" y="292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8a05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ddddd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c294"/>
                </a:solidFill>
                <a:latin typeface="Arial"/>
                <a:ea typeface="굴림"/>
              </a:rPr>
              <a:t>Chart Documents</a:t>
            </a:r>
            <a:endParaRPr b="0" lang="en-US" sz="4000" spc="-1" strike="noStrike">
              <a:solidFill>
                <a:srgbClr val="cec294"/>
              </a:solidFill>
              <a:latin typeface="Arial"/>
            </a:endParaRPr>
          </a:p>
        </p:txBody>
      </p:sp>
      <p:pic>
        <p:nvPicPr>
          <p:cNvPr id="131" name="内容占位符 36867" descr=""/>
          <p:cNvPicPr/>
          <p:nvPr/>
        </p:nvPicPr>
        <p:blipFill>
          <a:blip r:embed="rId1"/>
          <a:stretch/>
        </p:blipFill>
        <p:spPr>
          <a:xfrm>
            <a:off x="685800" y="163836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132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ddd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8B13-AB75-4E0B-9F12-7CCFFED3C31E}" type="slidenum">
              <a:rPr b="0" lang="zh-CN" sz="1400" spc="-1" strike="noStrike">
                <a:solidFill>
                  <a:srgbClr val="ddddd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c294"/>
                </a:solidFill>
                <a:latin typeface="Arial"/>
                <a:ea typeface="굴림"/>
              </a:rPr>
              <a:t>Schedule</a:t>
            </a:r>
            <a:endParaRPr b="0" lang="en-US" sz="4000" spc="-1" strike="noStrike">
              <a:solidFill>
                <a:srgbClr val="cec294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9227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  <a:ea typeface="굴림"/>
              </a:rPr>
              <a:t>Review high-level schedule milestones he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139" name="组合 38915"/>
          <p:cNvGrpSpPr/>
          <p:nvPr/>
        </p:nvGrpSpPr>
        <p:grpSpPr>
          <a:xfrm>
            <a:off x="1131480" y="4929120"/>
            <a:ext cx="6932520" cy="865800"/>
            <a:chOff x="1131480" y="4929120"/>
            <a:chExt cx="6932520" cy="865800"/>
          </a:xfrm>
        </p:grpSpPr>
        <p:sp>
          <p:nvSpPr>
            <p:cNvPr id="140" name="右箭头 38916"/>
            <p:cNvSpPr/>
            <p:nvPr/>
          </p:nvSpPr>
          <p:spPr>
            <a:xfrm>
              <a:off x="1211400" y="4929120"/>
              <a:ext cx="6852600" cy="763560"/>
            </a:xfrm>
            <a:prstGeom prst="rightArrow">
              <a:avLst>
                <a:gd name="adj1" fmla="val 36602"/>
                <a:gd name="adj2" fmla="val 36812"/>
              </a:avLst>
            </a:prstGeom>
            <a:gradFill rotWithShape="0">
              <a:gsLst>
                <a:gs pos="0">
                  <a:srgbClr val="8a5253"/>
                </a:gs>
                <a:gs pos="100000">
                  <a:srgbClr val="a79227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53313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1" name="文本框 38917"/>
            <p:cNvSpPr/>
            <p:nvPr/>
          </p:nvSpPr>
          <p:spPr>
            <a:xfrm>
              <a:off x="1131480" y="5487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Jan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2" name="文本框 38918"/>
            <p:cNvSpPr/>
            <p:nvPr/>
          </p:nvSpPr>
          <p:spPr>
            <a:xfrm>
              <a:off x="1695240" y="54878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Feb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3" name="文本框 38919"/>
            <p:cNvSpPr/>
            <p:nvPr/>
          </p:nvSpPr>
          <p:spPr>
            <a:xfrm>
              <a:off x="2295000" y="54878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Mar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4" name="文本框 38920"/>
            <p:cNvSpPr/>
            <p:nvPr/>
          </p:nvSpPr>
          <p:spPr>
            <a:xfrm>
              <a:off x="2933280" y="5487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Apr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5" name="文本框 38921"/>
            <p:cNvSpPr/>
            <p:nvPr/>
          </p:nvSpPr>
          <p:spPr>
            <a:xfrm>
              <a:off x="3543840" y="54878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May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6" name="文本框 38922"/>
            <p:cNvSpPr/>
            <p:nvPr/>
          </p:nvSpPr>
          <p:spPr>
            <a:xfrm>
              <a:off x="4218840" y="54878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Jun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7" name="文本框 38923"/>
            <p:cNvSpPr/>
            <p:nvPr/>
          </p:nvSpPr>
          <p:spPr>
            <a:xfrm>
              <a:off x="4794480" y="54878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July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8" name="文本框 38924"/>
            <p:cNvSpPr/>
            <p:nvPr/>
          </p:nvSpPr>
          <p:spPr>
            <a:xfrm>
              <a:off x="5433120" y="54878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Sep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49" name="文本框 38925"/>
            <p:cNvSpPr/>
            <p:nvPr/>
          </p:nvSpPr>
          <p:spPr>
            <a:xfrm>
              <a:off x="6031800" y="5487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Oct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50" name="文本框 38926"/>
            <p:cNvSpPr/>
            <p:nvPr/>
          </p:nvSpPr>
          <p:spPr>
            <a:xfrm>
              <a:off x="6620760" y="548784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Nov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151" name="文本框 38927"/>
            <p:cNvSpPr/>
            <p:nvPr/>
          </p:nvSpPr>
          <p:spPr>
            <a:xfrm>
              <a:off x="7270560" y="54878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Arial"/>
                  <a:ea typeface="굴림"/>
                </a:rPr>
                <a:t>Dec</a:t>
              </a:r>
              <a:endParaRPr b="0" lang="en-US" sz="14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152" name="流程图: 过程 38928"/>
          <p:cNvSpPr/>
          <p:nvPr/>
        </p:nvSpPr>
        <p:spPr>
          <a:xfrm>
            <a:off x="1293840" y="3492360"/>
            <a:ext cx="2610000" cy="239760"/>
          </a:xfrm>
          <a:prstGeom prst="flowChartProcess">
            <a:avLst/>
          </a:prstGeom>
          <a:solidFill>
            <a:srgbClr val="8a5253"/>
          </a:solidFill>
          <a:ln w="0">
            <a:noFill/>
          </a:ln>
          <a:effectLst>
            <a:outerShdw dist="17819" dir="2700000" blurRad="0" rotWithShape="0">
              <a:srgbClr val="5331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  <a:ea typeface="굴림"/>
              </a:rPr>
              <a:t>Phase 1</a:t>
            </a:r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流程图: 过程 38929"/>
          <p:cNvSpPr/>
          <p:nvPr/>
        </p:nvSpPr>
        <p:spPr>
          <a:xfrm>
            <a:off x="3903840" y="3971880"/>
            <a:ext cx="2039760" cy="239760"/>
          </a:xfrm>
          <a:prstGeom prst="flowChartProcess">
            <a:avLst/>
          </a:prstGeom>
          <a:solidFill>
            <a:srgbClr val="a79227"/>
          </a:solidFill>
          <a:ln w="0">
            <a:noFill/>
          </a:ln>
          <a:effectLst>
            <a:outerShdw dist="17819" dir="2700000" blurRad="0" rotWithShape="0">
              <a:srgbClr val="6458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  <a:ea typeface="굴림"/>
              </a:rPr>
              <a:t>Phase 2</a:t>
            </a:r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4" name="流程图: 过程 38930"/>
          <p:cNvSpPr/>
          <p:nvPr/>
        </p:nvSpPr>
        <p:spPr>
          <a:xfrm>
            <a:off x="5943600" y="4449600"/>
            <a:ext cx="1793880" cy="239760"/>
          </a:xfrm>
          <a:prstGeom prst="flowChartProcess">
            <a:avLst/>
          </a:prstGeom>
          <a:solidFill>
            <a:srgbClr val="4d7da1"/>
          </a:solidFill>
          <a:ln w="0">
            <a:noFill/>
          </a:ln>
          <a:effectLst>
            <a:outerShdw dist="17819" dir="2700000" blurRad="0" rotWithShape="0">
              <a:srgbClr val="2e4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  <a:ea typeface="굴림"/>
              </a:rPr>
              <a:t>Phase 3</a:t>
            </a:r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33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